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A56F-5F9F-41E6-8C70-9462B0CE2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DC6A-4893-4440-877F-912AF193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4868-4EEE-4298-9098-2212E1B6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085E-297C-4446-B2F7-3CC163965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A13A-1BAA-4E91-AA12-DC5E38E62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6037-376C-47A5-86E3-6B560665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0BF3-E09E-41B8-B70C-5AB180A1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0758-91D9-40EA-A6E3-AD97DBBA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E0EE-4A63-45F0-BBF3-77714400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87C5-8B7C-4DE5-A06B-8F00AE7E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B495-1ECD-4835-BAD7-71297213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4DA2-D354-4891-8D59-377CC719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80D7-3D4E-49C8-88F8-B9FB591B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CF53-EB7F-49BD-AC5C-80CD4A18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642F-16AC-42DC-8E18-A2ABC4D0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1307-95BB-4CF9-B1C3-B9894F827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1FD4-0C84-42EB-9854-A357FDC44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AC73-B7EE-4A0D-AD12-C5522E64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7C0D-AA5F-487E-8E9E-D8060428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C7FA-A695-4709-9E04-660AD2B4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EF34-E433-4D7D-9F20-21780FEA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E637-BD06-4C15-9DF2-8574D3C4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AD00-C3D7-4DCD-A0AA-50B3458F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E876-EC9A-43A1-8648-A38F9270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ED6D90-50E0-4A68-B1EF-C82AED1FED0E}" type="slidenum">
              <a:rPr b="0" lang="ru-RU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C3C6C3D-FE15-4D35-A8A1-77DD93A46351}" type="slidenum">
              <a:rPr b="0" lang="ru-RU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hyperlink" Target="http://limur.com.ua/images/img/drevnie-karti-mira18.jpg" TargetMode="External"/><Relationship Id="rId8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34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000640" cy="24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3">
                    <a:lumMod val="50000"/>
                  </a:schemeClr>
                </a:solidFill>
                <a:latin typeface="Monotype Corsiva"/>
              </a:rPr>
              <a:t>Основные периоды формирования политической карты мира.</a:t>
            </a: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Рисунок 5" descr="world2.jpg"/>
          <p:cNvPicPr/>
          <p:nvPr/>
        </p:nvPicPr>
        <p:blipFill>
          <a:blip r:embed="rId2"/>
          <a:stretch/>
        </p:blipFill>
        <p:spPr>
          <a:xfrm>
            <a:off x="1214280" y="2357280"/>
            <a:ext cx="671472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32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3" descr="1278743335_1905.jpg"/>
          <p:cNvPicPr/>
          <p:nvPr/>
        </p:nvPicPr>
        <p:blipFill>
          <a:blip r:embed="rId2"/>
          <a:stretch/>
        </p:blipFill>
        <p:spPr>
          <a:xfrm>
            <a:off x="3643200" y="1571760"/>
            <a:ext cx="5357520" cy="426312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4"/>
          <p:cNvSpPr/>
          <p:nvPr/>
        </p:nvSpPr>
        <p:spPr>
          <a:xfrm>
            <a:off x="142920" y="1571760"/>
            <a:ext cx="350028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шь в начале V века до н.э. Гекатей Милетский составил первую правдоподобную карту земель, известных грекам. На ней схематически были изображены четыре средиземноморских полуострова (Апеннинский, Пиренейский, Балканский и Малая Азия) , - но лишь полвека спустя достопочтенный "отец истории" Геродот создал свой картографический шедевр, дав при этом подробнейшее описание земель, которые сумел "лично посетить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1. Древний период (до V века н. э.)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33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142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2. Эпоха античности.</a:t>
            </a: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Рисунок 3" descr="1278743293_karta-po-ptolomeyu.jpg"/>
          <p:cNvPicPr/>
          <p:nvPr/>
        </p:nvPicPr>
        <p:blipFill>
          <a:blip r:embed="rId2"/>
          <a:stretch/>
        </p:blipFill>
        <p:spPr>
          <a:xfrm>
            <a:off x="3286080" y="2643120"/>
            <a:ext cx="5714640" cy="401904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4"/>
          <p:cNvSpPr/>
          <p:nvPr/>
        </p:nvSpPr>
        <p:spPr>
          <a:xfrm>
            <a:off x="0" y="857160"/>
            <a:ext cx="90007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эпоху античности особое распространение получили специальные географические сочинения - "перипл" или "лоции". По сути они представляли собой навигационные справочники, должные помогать купцам и путешественникам. Здесь всегда можно было найти все места расположения удобных бухт, гаваней, а также описания гор и рек. Удивительной особенностью этих путеводителей было и то, что помимо чисто физических сведений о земле, в лоциях были даны и краткие справки о народа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0" y="2500200"/>
            <a:ext cx="3285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селяющих "места путешествия", о традициях и обычаях местных обита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19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7120" y="-142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3.1492 год открытие Америки</a:t>
            </a: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Содержимое 3" descr="drevnie-karti-mira9.jpg"/>
          <p:cNvPicPr/>
          <p:nvPr/>
        </p:nvPicPr>
        <p:blipFill>
          <a:blip r:embed="rId2"/>
          <a:stretch/>
        </p:blipFill>
        <p:spPr>
          <a:xfrm>
            <a:off x="5214960" y="785880"/>
            <a:ext cx="3642840" cy="303804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4"/>
          <p:cNvSpPr/>
          <p:nvPr/>
        </p:nvSpPr>
        <p:spPr>
          <a:xfrm>
            <a:off x="142920" y="1214280"/>
            <a:ext cx="457164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оме всего прочего, карты приобрели и "вычурность" изображений. Раньше, конечно, для нанесения "объектов" на карту тоже привлекались специально вышколенные художники, - но в средневековье это явление приобрело уже поистине грандиозный масшта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 того, как свершилось непоправимое великое открытие новой части света Америки, карты приобрели образ, близкий к современному. На всей территории планеты оставалось лишь считанное количество "белых пятен"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5" descr="drevnie-karti-mira10.jpg"/>
          <p:cNvPicPr/>
          <p:nvPr/>
        </p:nvPicPr>
        <p:blipFill>
          <a:blip r:embed="rId3"/>
          <a:stretch/>
        </p:blipFill>
        <p:spPr>
          <a:xfrm>
            <a:off x="5214960" y="3929040"/>
            <a:ext cx="3714480" cy="27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34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142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XVII век</a:t>
            </a: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642960"/>
            <a:ext cx="457164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громной популярностью в начале XVII века пользовались подробнейшие карты Меркатора ( образец 1609 года).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Рисунок 7" descr="drevnie-karti-mira12.jpg"/>
          <p:cNvPicPr/>
          <p:nvPr/>
        </p:nvPicPr>
        <p:blipFill>
          <a:blip r:embed="rId2"/>
          <a:stretch/>
        </p:blipFill>
        <p:spPr>
          <a:xfrm>
            <a:off x="214200" y="1571760"/>
            <a:ext cx="3798000" cy="29286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8" descr="drevnie-karti-mira11.jpg"/>
          <p:cNvPicPr/>
          <p:nvPr/>
        </p:nvPicPr>
        <p:blipFill>
          <a:blip r:embed="rId3"/>
          <a:stretch/>
        </p:blipFill>
        <p:spPr>
          <a:xfrm>
            <a:off x="214200" y="4572000"/>
            <a:ext cx="3928680" cy="219204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9"/>
          <p:cNvSpPr/>
          <p:nvPr/>
        </p:nvSpPr>
        <p:spPr>
          <a:xfrm>
            <a:off x="4572000" y="1000080"/>
            <a:ext cx="457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прочем, интересна и не менее популярна карта Хаджи Ахмеда (155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10" descr="drevnie-karti-mira13.jpg"/>
          <p:cNvPicPr/>
          <p:nvPr/>
        </p:nvPicPr>
        <p:blipFill>
          <a:blip r:embed="rId4"/>
          <a:stretch/>
        </p:blipFill>
        <p:spPr>
          <a:xfrm>
            <a:off x="4429080" y="1714320"/>
            <a:ext cx="4468680" cy="44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31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-2142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Среднее века</a:t>
            </a: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5840" y="642960"/>
            <a:ext cx="8572320" cy="99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зможность наносить куда больше элементов, возможность передать каждый изгиб земной тверди, да ещё и подкреплённая точными знаниями - вот что дало такой "высокий старт" созданию подробнейших и удивительных карт в средние века. Давайте посмотрим на примерах:</a:t>
            </a: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1650240" y="6143760"/>
            <a:ext cx="1371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рта Пир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5" descr="drevnie-karti-mira14.jpg"/>
          <p:cNvPicPr/>
          <p:nvPr/>
        </p:nvPicPr>
        <p:blipFill>
          <a:blip r:embed="rId2"/>
          <a:stretch/>
        </p:blipFill>
        <p:spPr>
          <a:xfrm>
            <a:off x="642960" y="1714320"/>
            <a:ext cx="3805920" cy="428580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6"/>
          <p:cNvSpPr/>
          <p:nvPr/>
        </p:nvSpPr>
        <p:spPr>
          <a:xfrm>
            <a:off x="5442480" y="6072120"/>
            <a:ext cx="2892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рта Палестины (1650 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7" descr="drevnie-karti-mira15.jpg"/>
          <p:cNvPicPr/>
          <p:nvPr/>
        </p:nvPicPr>
        <p:blipFill>
          <a:blip r:embed="rId3"/>
          <a:stretch/>
        </p:blipFill>
        <p:spPr>
          <a:xfrm>
            <a:off x="4572000" y="1714320"/>
            <a:ext cx="4285800" cy="42955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8" descr="drevnie-karti-mira16.jpg"/>
          <p:cNvPicPr/>
          <p:nvPr/>
        </p:nvPicPr>
        <p:blipFill>
          <a:blip r:embed="rId4"/>
          <a:stretch/>
        </p:blipFill>
        <p:spPr>
          <a:xfrm>
            <a:off x="142920" y="1714320"/>
            <a:ext cx="4508640" cy="364284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9" descr="drevnie-karti-mira17.jpg"/>
          <p:cNvPicPr/>
          <p:nvPr/>
        </p:nvPicPr>
        <p:blipFill>
          <a:blip r:embed="rId5"/>
          <a:stretch/>
        </p:blipFill>
        <p:spPr>
          <a:xfrm>
            <a:off x="4714920" y="1714320"/>
            <a:ext cx="4282200" cy="335736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10"/>
          <p:cNvSpPr/>
          <p:nvPr/>
        </p:nvSpPr>
        <p:spPr>
          <a:xfrm>
            <a:off x="6080040" y="5214960"/>
            <a:ext cx="1609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рта Вене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1"/>
          <p:cNvSpPr/>
          <p:nvPr/>
        </p:nvSpPr>
        <p:spPr>
          <a:xfrm>
            <a:off x="1436040" y="5572080"/>
            <a:ext cx="1517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рта Ямай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12" descr="drevnie-karti-mira18.jpg"/>
          <p:cNvPicPr/>
          <p:nvPr/>
        </p:nvPicPr>
        <p:blipFill>
          <a:blip r:embed="rId6"/>
          <a:stretch/>
        </p:blipFill>
        <p:spPr>
          <a:xfrm>
            <a:off x="1785960" y="1571760"/>
            <a:ext cx="4928760" cy="38642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"/>
          <p:cNvSpPr/>
          <p:nvPr/>
        </p:nvSpPr>
        <p:spPr>
          <a:xfrm>
            <a:off x="-339120" y="-318960"/>
            <a:ext cx="9821880" cy="63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е менее удивительная и даже более любопытная карта самого Бориса Годунова (16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  <a:hlinkClick r:id="rId7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5"/>
          <p:cNvSpPr/>
          <p:nvPr/>
        </p:nvSpPr>
        <p:spPr>
          <a:xfrm>
            <a:off x="1857240" y="5500800"/>
            <a:ext cx="4571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не менее удивительная и даже более любопытная карта самого Бориса Годунова (16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4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7" presetSubtype="4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7" presetSubtype="4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7" presetSubtype="4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0"/>
                            </p:stCondLst>
                            <p:childTnLst>
                              <p:par>
                                <p:cTn id="127" nodeType="afterEffect" fill="hold" presetClass="exit" presetID="2" presetSubtype="4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2" presetSubtype="4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2" presetSubtype="4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2" presetSubtype="4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44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5000"/>
                            </p:stCondLst>
                            <p:childTnLst>
                              <p:par>
                                <p:cTn id="161" nodeType="afterEffect" fill="hold" presetClass="exit" presetID="2" presetSubtype="4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2" presetSubtype="4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2" presetSubtype="4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2" presetSubtype="4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9500"/>
                            </p:stCondLst>
                            <p:childTnLst>
                              <p:par>
                                <p:cTn id="178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25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-2142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Наше время</a:t>
            </a: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28760" y="714240"/>
            <a:ext cx="8229240" cy="128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настоящее время на политической карте находится 230 стран. При таком огромном количестве возникает необходимость в их дифференциации, которую можно провести на основании различных показателей.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Рисунок 3" descr="000002.jpg"/>
          <p:cNvPicPr/>
          <p:nvPr/>
        </p:nvPicPr>
        <p:blipFill>
          <a:blip r:embed="rId2"/>
          <a:stretch/>
        </p:blipFill>
        <p:spPr>
          <a:xfrm>
            <a:off x="857160" y="1771920"/>
            <a:ext cx="6786360" cy="49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16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я информация была взята в интернете на сайтах: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 5ka.ru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 limur.com.ua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25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00480" y="5315040"/>
            <a:ext cx="4043160" cy="154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д презентацией работала: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еница 10 ПТ класса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шельевского лицея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га Виктория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Verve</Template>
  <TotalTime>151</TotalTime>
  <Application>LibreOffice/7.4.7.2$Linux_X86_64 LibreOffice_project/40$Build-2</Application>
  <AppVersion>15.0000</AppVersion>
  <Words>429</Words>
  <Paragraphs>3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нька</cp:lastModifiedBy>
  <dcterms:modified xsi:type="dcterms:W3CDTF">2010-09-25T10:57:58Z</dcterms:modified>
  <cp:revision>36</cp:revision>
  <dc:subject/>
  <dc:title>Политическая карта ми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9</vt:r8>
  </property>
</Properties>
</file>