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AD8-4457-48B6-9770-2CB92296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F10-9D64-4B62-B9CB-1E11D796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CD8-82CF-4E62-A7A7-52593496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B73-90A6-468E-8B49-C8EE9763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3227-EEEC-42BB-AEF1-29AB7F67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30E2-FA5F-404B-AD35-75CDA2A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3BF0-1A1E-4919-A7B5-83A04535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ECF8-DB94-42CE-B779-C1C0B60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C44D-255E-4A7F-98F8-7DA7CC04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F51-EB18-4E9C-A5BF-1CCD4B87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1487-8ADC-4819-8A2C-21E49DC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2AA-0685-49A8-9AFF-F96A6D3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F3F-4D0B-4A42-897D-2A01630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2F4D-7E68-46ED-82DF-F4B0317B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04E0-52DC-485F-A856-9D29658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7D1-391A-4C87-BACB-EBD0FE2D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7072-05B7-45EA-8F89-E465ED92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4F0-0415-4C06-8161-38C351C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58F-8254-4CFE-8A8B-C4627770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244-588B-4B8C-A570-EFBFF0BB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2AC-DA66-4CE6-94C9-86A5D254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101-71B4-4A1F-97DF-ED84F1E1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8CE-6797-4802-B56C-CB3062F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872-7977-442A-973A-9F6463E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BE82FA-B33A-46E2-8A29-C71A0FC85435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DF6F96-5E1E-4A99-B6E2-10B5E38121C5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hyperlink" Target="http://limur.com.ua/images/img/drevnie-karti-mira18.jpg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0006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3">
                    <a:lumMod val="50000"/>
                  </a:schemeClr>
                </a:solidFill>
                <a:latin typeface="Monotype Corsiva"/>
              </a:rPr>
              <a:t>Основные периоды формирования политической карты мира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5" descr="world2.jpg"/>
          <p:cNvPicPr/>
          <p:nvPr/>
        </p:nvPicPr>
        <p:blipFill>
          <a:blip r:embed="rId2"/>
          <a:stretch/>
        </p:blipFill>
        <p:spPr>
          <a:xfrm>
            <a:off x="1214280" y="2357280"/>
            <a:ext cx="67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2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1278743335_1905.jpg"/>
          <p:cNvPicPr/>
          <p:nvPr/>
        </p:nvPicPr>
        <p:blipFill>
          <a:blip r:embed="rId2"/>
          <a:stretch/>
        </p:blipFill>
        <p:spPr>
          <a:xfrm>
            <a:off x="3643200" y="1571760"/>
            <a:ext cx="5357520" cy="4263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2920" y="1571760"/>
            <a:ext cx="35002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шь в начале V века до н.э. Гекатей Милетский составил первую правдоподобную карту земель, известных грекам. На ней схематически были изображены четыре средиземноморских полуострова (Апеннинский, Пиренейский, Балканский и Малая Азия) , - но лишь полвека спустя достопочтенный "отец истории" Геродот создал свой картографический шедевр, дав при этом подробнейшее описание земель, которые сумел "лично посети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. Древний период (до V века н. э.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. Эпоха античности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1278743293_karta-po-ptolomeyu.jpg"/>
          <p:cNvPicPr/>
          <p:nvPr/>
        </p:nvPicPr>
        <p:blipFill>
          <a:blip r:embed="rId2"/>
          <a:stretch/>
        </p:blipFill>
        <p:spPr>
          <a:xfrm>
            <a:off x="3286080" y="2643120"/>
            <a:ext cx="5714640" cy="4019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857160"/>
            <a:ext cx="900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поху античности особое распространение получили специальные географические сочинения - "перипл" или "лоции". По сути они представляли собой навигационные справочники, должные помогать купцам и путешественникам. Здесь всегда можно было найти все места расположения удобных бухт, гаваней, а также описания гор и рек. Удивительной особенностью этих путеводителей было и то, что помимо чисто физических сведений о земле, в лоциях были даны и краткие справки о наро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0" y="2500200"/>
            <a:ext cx="3285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яющих "места путешествия", о традициях и обычаях местных обит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3.1492 год открытие Америк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3" descr="drevnie-karti-mira9.jpg"/>
          <p:cNvPicPr/>
          <p:nvPr/>
        </p:nvPicPr>
        <p:blipFill>
          <a:blip r:embed="rId2"/>
          <a:stretch/>
        </p:blipFill>
        <p:spPr>
          <a:xfrm>
            <a:off x="5214960" y="785880"/>
            <a:ext cx="3642840" cy="3038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42920" y="1214280"/>
            <a:ext cx="45716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всего прочего, карты приобрели и "вычурность" изображений. Раньше, конечно, для нанесения "объектов" на карту тоже привлекались специально вышколенные художники, - но в средневековье это явление приобрело уже поистине грандиозный масш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того, как свершилось непоправимое великое открытие новой части света Америки, карты приобрели образ, близкий к современному. На всей территории планеты оставалось лишь считанное количество "белых пятен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5" descr="drevnie-karti-mira10.jpg"/>
          <p:cNvPicPr/>
          <p:nvPr/>
        </p:nvPicPr>
        <p:blipFill>
          <a:blip r:embed="rId3"/>
          <a:stretch/>
        </p:blipFill>
        <p:spPr>
          <a:xfrm>
            <a:off x="5214960" y="3929040"/>
            <a:ext cx="37144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XVII век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45716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омной популярностью в начале XVII века пользовались подробнейшие карты Меркатора ( образец 1609 года)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7" descr="drevnie-karti-mira12.jpg"/>
          <p:cNvPicPr/>
          <p:nvPr/>
        </p:nvPicPr>
        <p:blipFill>
          <a:blip r:embed="rId2"/>
          <a:stretch/>
        </p:blipFill>
        <p:spPr>
          <a:xfrm>
            <a:off x="214200" y="1571760"/>
            <a:ext cx="3798000" cy="2928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drevnie-karti-mira11.jpg"/>
          <p:cNvPicPr/>
          <p:nvPr/>
        </p:nvPicPr>
        <p:blipFill>
          <a:blip r:embed="rId3"/>
          <a:stretch/>
        </p:blipFill>
        <p:spPr>
          <a:xfrm>
            <a:off x="214200" y="4572000"/>
            <a:ext cx="3928680" cy="2192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4572000" y="100008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рочем, интересна и не менее популярна карта Хаджи Ахмеда (155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drevnie-karti-mira13.jpg"/>
          <p:cNvPicPr/>
          <p:nvPr/>
        </p:nvPicPr>
        <p:blipFill>
          <a:blip r:embed="rId4"/>
          <a:stretch/>
        </p:blipFill>
        <p:spPr>
          <a:xfrm>
            <a:off x="4429080" y="1714320"/>
            <a:ext cx="4468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1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еднее ве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840" y="642960"/>
            <a:ext cx="857232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можность наносить куда больше элементов, возможность передать каждый изгиб земной тверди, да ещё и подкреплённая точными знаниями - вот что дало такой "высокий старт" созданию подробнейших и удивительных карт в средние века. Давайте посмотрим на примерах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650240" y="6143760"/>
            <a:ext cx="137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и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drevnie-karti-mira14.jpg"/>
          <p:cNvPicPr/>
          <p:nvPr/>
        </p:nvPicPr>
        <p:blipFill>
          <a:blip r:embed="rId2"/>
          <a:stretch/>
        </p:blipFill>
        <p:spPr>
          <a:xfrm>
            <a:off x="642960" y="1714320"/>
            <a:ext cx="3805920" cy="4285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5442480" y="6072120"/>
            <a:ext cx="289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алестины (165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drevnie-karti-mira15.jpg"/>
          <p:cNvPicPr/>
          <p:nvPr/>
        </p:nvPicPr>
        <p:blipFill>
          <a:blip r:embed="rId3"/>
          <a:stretch/>
        </p:blipFill>
        <p:spPr>
          <a:xfrm>
            <a:off x="4572000" y="1714320"/>
            <a:ext cx="4285800" cy="4295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drevnie-karti-mira16.jpg"/>
          <p:cNvPicPr/>
          <p:nvPr/>
        </p:nvPicPr>
        <p:blipFill>
          <a:blip r:embed="rId4"/>
          <a:stretch/>
        </p:blipFill>
        <p:spPr>
          <a:xfrm>
            <a:off x="142920" y="1714320"/>
            <a:ext cx="4508640" cy="3642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drevnie-karti-mira17.jpg"/>
          <p:cNvPicPr/>
          <p:nvPr/>
        </p:nvPicPr>
        <p:blipFill>
          <a:blip r:embed="rId5"/>
          <a:stretch/>
        </p:blipFill>
        <p:spPr>
          <a:xfrm>
            <a:off x="4714920" y="1714320"/>
            <a:ext cx="4282200" cy="33573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6080040" y="5214960"/>
            <a:ext cx="160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Вен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1436040" y="5572080"/>
            <a:ext cx="151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Яма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2" descr="drevnie-karti-mira18.jpg"/>
          <p:cNvPicPr/>
          <p:nvPr/>
        </p:nvPicPr>
        <p:blipFill>
          <a:blip r:embed="rId6"/>
          <a:stretch/>
        </p:blipFill>
        <p:spPr>
          <a:xfrm>
            <a:off x="1785960" y="1571760"/>
            <a:ext cx="4928760" cy="3864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-339120" y="-318960"/>
            <a:ext cx="982188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hlinkClick r:id="rId7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1857240" y="550080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аше время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82292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на политической карте находится 230 стран. При таком огромном количестве возникает необходимость в их дифференциации, которую можно провести на основании различных показателей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000002.jpg"/>
          <p:cNvPicPr/>
          <p:nvPr/>
        </p:nvPicPr>
        <p:blipFill>
          <a:blip r:embed="rId2"/>
          <a:stretch/>
        </p:blipFill>
        <p:spPr>
          <a:xfrm>
            <a:off x="857160" y="1771920"/>
            <a:ext cx="6786360" cy="49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информация была взята в интернете на сайтах: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5ka.ru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limur.com.ua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0480" y="5315040"/>
            <a:ext cx="4043160" cy="15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презентацией работала: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ца 10 ПТ класса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шельевского лице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га Виктори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151</TotalTime>
  <Application>LibreOffice/7.4.7.2$Linux_X86_64 LibreOffice_project/40$Build-2</Application>
  <AppVersion>15.0000</AppVersion>
  <Words>429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ька</cp:lastModifiedBy>
  <dcterms:modified xsi:type="dcterms:W3CDTF">2010-09-25T10:57:58Z</dcterms:modified>
  <cp:revision>36</cp:revision>
  <dc:subject/>
  <dc:title>Политическая карта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