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A71-93E0-4D7C-AC7D-634C7DCB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FB2-4041-4CAC-9A92-95B0EFD8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93F-7512-43E2-AD9C-AAA35261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879-988E-4C72-A46D-5955C761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D0A8-3241-47A0-A643-925481DC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4D43-478C-45F5-8D44-85CAEA7A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4F18-79EC-4917-BAB9-BC73759C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D12E-19EF-4273-88FC-193FE983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C223-0581-4568-930C-0FF3A120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77F8-E4AC-48C7-BE56-DC63699E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11A4-3CD5-4E67-8C94-657637B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D8F-7511-4C5B-BE7F-18C2629F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A166-3F57-4964-8769-0B729CBA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9A1A-5B6E-478C-931F-416CDD39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BA6C-225C-4BDC-945B-23194E75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86CD-19C5-440C-88F7-8BD4E8FE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FE93-99E3-43C7-8017-4CDB4172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BED-90E7-4735-84C9-02BFB75C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53C-65B8-41B7-8AEE-74973B7C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8BF-5D74-4B96-B149-3E75D416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59D-A43B-405F-A893-03EEFBF7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A13-47F3-4784-88DC-1BE20331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F0E-7DF2-4771-8D56-58FB491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E8E-F101-4741-A6AD-B8CD8396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79E34F-28DD-45E8-B53A-E0CB59642EC0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EE123E-C06F-4B9C-8E3C-F4BB1AB791ED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hyperlink" Target="http://limur.com.ua/images/img/drevnie-karti-mira18.jpg" TargetMode="External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00064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3">
                    <a:lumMod val="50000"/>
                  </a:schemeClr>
                </a:solidFill>
                <a:latin typeface="Monotype Corsiva"/>
              </a:rPr>
              <a:t>Основные периоды формирования политической карты мира.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5" descr="world2.jpg"/>
          <p:cNvPicPr/>
          <p:nvPr/>
        </p:nvPicPr>
        <p:blipFill>
          <a:blip r:embed="rId2"/>
          <a:stretch/>
        </p:blipFill>
        <p:spPr>
          <a:xfrm>
            <a:off x="1214280" y="2357280"/>
            <a:ext cx="67147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2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1278743335_1905.jpg"/>
          <p:cNvPicPr/>
          <p:nvPr/>
        </p:nvPicPr>
        <p:blipFill>
          <a:blip r:embed="rId2"/>
          <a:stretch/>
        </p:blipFill>
        <p:spPr>
          <a:xfrm>
            <a:off x="3643200" y="1571760"/>
            <a:ext cx="5357520" cy="42631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142920" y="1571760"/>
            <a:ext cx="350028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шь в начале V века до н.э. Гекатей Милетский составил первую правдоподобную карту земель, известных грекам. На ней схематически были изображены четыре средиземноморских полуострова (Апеннинский, Пиренейский, Балканский и Малая Азия) , - но лишь полвека спустя достопочтенный "отец истории" Геродот создал свой картографический шедевр, дав при этом подробнейшее описание земель, которые сумел "лично посетить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. Древний период (до V века н. э.)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2. Эпоха античности.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3" descr="1278743293_karta-po-ptolomeyu.jpg"/>
          <p:cNvPicPr/>
          <p:nvPr/>
        </p:nvPicPr>
        <p:blipFill>
          <a:blip r:embed="rId2"/>
          <a:stretch/>
        </p:blipFill>
        <p:spPr>
          <a:xfrm>
            <a:off x="3286080" y="2643120"/>
            <a:ext cx="5714640" cy="40190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0" y="857160"/>
            <a:ext cx="9000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поху античности особое распространение получили специальные географические сочинения - "перипл" или "лоции". По сути они представляли собой навигационные справочники, должные помогать купцам и путешественникам. Здесь всегда можно было найти все места расположения удобных бухт, гаваней, а также описания гор и рек. Удивительной особенностью этих путеводителей было и то, что помимо чисто физических сведений о земле, в лоциях были даны и краткие справки о народ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0" y="2500200"/>
            <a:ext cx="3285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еляющих "места путешествия", о традициях и обычаях местных обит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1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3.1492 год открытие Америки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Содержимое 3" descr="drevnie-karti-mira9.jpg"/>
          <p:cNvPicPr/>
          <p:nvPr/>
        </p:nvPicPr>
        <p:blipFill>
          <a:blip r:embed="rId2"/>
          <a:stretch/>
        </p:blipFill>
        <p:spPr>
          <a:xfrm>
            <a:off x="5214960" y="785880"/>
            <a:ext cx="3642840" cy="30380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42920" y="1214280"/>
            <a:ext cx="457164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оме всего прочего, карты приобрели и "вычурность" изображений. Раньше, конечно, для нанесения "объектов" на карту тоже привлекались специально вышколенные художники, - но в средневековье это явление приобрело уже поистине грандиозный масшта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того, как свершилось непоправимое великое открытие новой части света Америки, карты приобрели образ, близкий к современному. На всей территории планеты оставалось лишь считанное количество "белых пятен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5" descr="drevnie-karti-mira10.jpg"/>
          <p:cNvPicPr/>
          <p:nvPr/>
        </p:nvPicPr>
        <p:blipFill>
          <a:blip r:embed="rId3"/>
          <a:stretch/>
        </p:blipFill>
        <p:spPr>
          <a:xfrm>
            <a:off x="5214960" y="3929040"/>
            <a:ext cx="3714480" cy="27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XVII век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45716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ромной популярностью в начале XVII века пользовались подробнейшие карты Меркатора ( образец 1609 года)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Рисунок 7" descr="drevnie-karti-mira12.jpg"/>
          <p:cNvPicPr/>
          <p:nvPr/>
        </p:nvPicPr>
        <p:blipFill>
          <a:blip r:embed="rId2"/>
          <a:stretch/>
        </p:blipFill>
        <p:spPr>
          <a:xfrm>
            <a:off x="214200" y="1571760"/>
            <a:ext cx="3798000" cy="29286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drevnie-karti-mira11.jpg"/>
          <p:cNvPicPr/>
          <p:nvPr/>
        </p:nvPicPr>
        <p:blipFill>
          <a:blip r:embed="rId3"/>
          <a:stretch/>
        </p:blipFill>
        <p:spPr>
          <a:xfrm>
            <a:off x="214200" y="4572000"/>
            <a:ext cx="3928680" cy="2192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9"/>
          <p:cNvSpPr/>
          <p:nvPr/>
        </p:nvSpPr>
        <p:spPr>
          <a:xfrm>
            <a:off x="4572000" y="100008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прочем, интересна и не менее популярна карта Хаджи Ахмеда (155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drevnie-karti-mira13.jpg"/>
          <p:cNvPicPr/>
          <p:nvPr/>
        </p:nvPicPr>
        <p:blipFill>
          <a:blip r:embed="rId4"/>
          <a:stretch/>
        </p:blipFill>
        <p:spPr>
          <a:xfrm>
            <a:off x="4429080" y="1714320"/>
            <a:ext cx="446868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1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реднее ве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5840" y="642960"/>
            <a:ext cx="857232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можность наносить куда больше элементов, возможность передать каждый изгиб земной тверди, да ещё и подкреплённая точными знаниями - вот что дало такой "высокий старт" созданию подробнейших и удивительных карт в средние века. Давайте посмотрим на примерах: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1650240" y="6143760"/>
            <a:ext cx="137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Пи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drevnie-karti-mira14.jpg"/>
          <p:cNvPicPr/>
          <p:nvPr/>
        </p:nvPicPr>
        <p:blipFill>
          <a:blip r:embed="rId2"/>
          <a:stretch/>
        </p:blipFill>
        <p:spPr>
          <a:xfrm>
            <a:off x="642960" y="1714320"/>
            <a:ext cx="3805920" cy="42858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5442480" y="6072120"/>
            <a:ext cx="289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Палестины (1650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7" descr="drevnie-karti-mira15.jpg"/>
          <p:cNvPicPr/>
          <p:nvPr/>
        </p:nvPicPr>
        <p:blipFill>
          <a:blip r:embed="rId3"/>
          <a:stretch/>
        </p:blipFill>
        <p:spPr>
          <a:xfrm>
            <a:off x="4572000" y="1714320"/>
            <a:ext cx="4285800" cy="4295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drevnie-karti-mira16.jpg"/>
          <p:cNvPicPr/>
          <p:nvPr/>
        </p:nvPicPr>
        <p:blipFill>
          <a:blip r:embed="rId4"/>
          <a:stretch/>
        </p:blipFill>
        <p:spPr>
          <a:xfrm>
            <a:off x="142920" y="1714320"/>
            <a:ext cx="4508640" cy="36428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drevnie-karti-mira17.jpg"/>
          <p:cNvPicPr/>
          <p:nvPr/>
        </p:nvPicPr>
        <p:blipFill>
          <a:blip r:embed="rId5"/>
          <a:stretch/>
        </p:blipFill>
        <p:spPr>
          <a:xfrm>
            <a:off x="4714920" y="1714320"/>
            <a:ext cx="4282200" cy="33573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6080040" y="5214960"/>
            <a:ext cx="1609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Вен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1436040" y="5572080"/>
            <a:ext cx="151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Яма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2" descr="drevnie-karti-mira18.jpg"/>
          <p:cNvPicPr/>
          <p:nvPr/>
        </p:nvPicPr>
        <p:blipFill>
          <a:blip r:embed="rId6"/>
          <a:stretch/>
        </p:blipFill>
        <p:spPr>
          <a:xfrm>
            <a:off x="1785960" y="1571760"/>
            <a:ext cx="4928760" cy="3864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-339120" y="-318960"/>
            <a:ext cx="982188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 менее удивительная и даже более любопытная карта самого Бориса Годунова (16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hlinkClick r:id="rId7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"/>
          <p:cNvSpPr/>
          <p:nvPr/>
        </p:nvSpPr>
        <p:spPr>
          <a:xfrm>
            <a:off x="1857240" y="550080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е менее удивительная и даже более любопытная карта самого Бориса Годунова (16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7" nodeType="after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1" nodeType="after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9500"/>
                            </p:stCondLst>
                            <p:childTnLst>
                              <p:par>
                                <p:cTn id="178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5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-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аше время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8760" y="714240"/>
            <a:ext cx="82292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на политической карте находится 230 стран. При таком огромном количестве возникает необходимость в их дифференциации, которую можно провести на основании различных показателей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3" descr="000002.jpg"/>
          <p:cNvPicPr/>
          <p:nvPr/>
        </p:nvPicPr>
        <p:blipFill>
          <a:blip r:embed="rId2"/>
          <a:stretch/>
        </p:blipFill>
        <p:spPr>
          <a:xfrm>
            <a:off x="857160" y="1771920"/>
            <a:ext cx="6786360" cy="49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16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информация была взята в интернете на сайтах: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 5ka.ru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 limur.com.ua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5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0480" y="5315040"/>
            <a:ext cx="4043160" cy="15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 презентацией работала: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еница 10 ПТ класса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шельевского лицея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га Виктория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Verve</Template>
  <TotalTime>151</TotalTime>
  <Application>LibreOffice/7.4.7.2$Linux_X86_64 LibreOffice_project/40$Build-2</Application>
  <AppVersion>15.0000</AppVersion>
  <Words>429</Words>
  <Paragraphs>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нька</cp:lastModifiedBy>
  <dcterms:modified xsi:type="dcterms:W3CDTF">2010-09-25T10:57:58Z</dcterms:modified>
  <cp:revision>36</cp:revision>
  <dc:subject/>
  <dc:title>Политическая карта ми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