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3.wmf" ContentType="image/x-wmf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24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2E7F-7A0D-41F2-AA4B-D5BCA1F3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131A-217D-4EE0-ACEC-42E767D9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BBE-E2F6-4728-8B0A-1071BD40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376-CD31-48CA-AAF8-A027E7CF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8CE2-4775-40FC-8F9A-01B28377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5F93-B5D6-4E54-A0CD-75F59366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004F-DB13-40C5-9531-E6B1C859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47F1-EE68-404E-BEF4-3DC0C124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7913-CE6F-47AF-8D8B-EB84D174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7088-4C47-44B4-B156-59AED1CB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764A-AAC7-4F89-AF94-44BA2994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014C-5E21-4718-AF96-37BCB336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D780-7B04-453F-A1FD-51ADEE07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AEC1-DDE7-4AD7-A7BE-06E6424C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5E34-DE89-4889-861C-8BE6F7AA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204C-4D2E-48D4-96E6-BA98AC3C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2758-DDCD-4A6C-A28F-56E16AD7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5A0F-4813-42A3-AB8C-C1131B05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5AF6-476F-415F-932D-1EC68403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4AF-4D8E-4F60-BB70-B4754DDB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DE70-9782-4733-B9CD-0BBEB04A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9AB-D949-460A-82A5-186DAF73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DAC5-2E56-4D7F-8E8C-EC269BA1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73ED-52C4-456C-8CD0-9BBCE208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847E-88D6-4ED3-A4A2-7F8FB412D3DE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CB2E-EF6B-4697-926D-FBFDA169F05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Наука и образование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Что такое наука?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733920" y="1143000"/>
            <a:ext cx="250020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ук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889560" y="1523880"/>
            <a:ext cx="2844000" cy="1527120"/>
            <a:chOff x="889560" y="1523880"/>
            <a:chExt cx="2844000" cy="1527120"/>
          </a:xfrm>
        </p:grpSpPr>
        <p:sp>
          <p:nvSpPr>
            <p:cNvPr id="119" name=""/>
            <p:cNvSpPr/>
            <p:nvPr/>
          </p:nvSpPr>
          <p:spPr>
            <a:xfrm>
              <a:off x="889560" y="2225520"/>
              <a:ext cx="143208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стем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на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437920" y="1523880"/>
              <a:ext cx="1295640" cy="60984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630520" y="1828800"/>
            <a:ext cx="3195360" cy="1206360"/>
            <a:chOff x="2630520" y="1828800"/>
            <a:chExt cx="3195360" cy="1206360"/>
          </a:xfrm>
        </p:grpSpPr>
        <p:sp>
          <p:nvSpPr>
            <p:cNvPr id="122" name=""/>
            <p:cNvSpPr/>
            <p:nvPr/>
          </p:nvSpPr>
          <p:spPr>
            <a:xfrm>
              <a:off x="2630520" y="2209680"/>
              <a:ext cx="31953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стема организац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 учрежде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52880" y="1828800"/>
              <a:ext cx="0" cy="30492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136920" y="1523880"/>
            <a:ext cx="2649600" cy="1527120"/>
            <a:chOff x="6136920" y="1523880"/>
            <a:chExt cx="2649600" cy="1527120"/>
          </a:xfrm>
        </p:grpSpPr>
        <p:sp>
          <p:nvSpPr>
            <p:cNvPr id="125" name=""/>
            <p:cNvSpPr/>
            <p:nvPr/>
          </p:nvSpPr>
          <p:spPr>
            <a:xfrm>
              <a:off x="6136920" y="2225520"/>
              <a:ext cx="264960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стема научны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чрежде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24480" y="1523880"/>
              <a:ext cx="1143000" cy="60984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838080" y="3276720"/>
            <a:ext cx="8001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07000" y="4495680"/>
            <a:ext cx="143208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666880" y="3429000"/>
            <a:ext cx="5918760" cy="1523880"/>
            <a:chOff x="2666880" y="3429000"/>
            <a:chExt cx="5918760" cy="1523880"/>
          </a:xfrm>
        </p:grpSpPr>
        <p:grpSp>
          <p:nvGrpSpPr>
            <p:cNvPr id="130" name=""/>
            <p:cNvGrpSpPr/>
            <p:nvPr/>
          </p:nvGrpSpPr>
          <p:grpSpPr>
            <a:xfrm>
              <a:off x="3111480" y="3429000"/>
              <a:ext cx="5474160" cy="1001880"/>
              <a:chOff x="3111480" y="3429000"/>
              <a:chExt cx="5474160" cy="1001880"/>
            </a:xfrm>
          </p:grpSpPr>
          <p:pic>
            <p:nvPicPr>
              <p:cNvPr id="1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111480" y="3429000"/>
                <a:ext cx="774720" cy="1001880"/>
              </a:xfrm>
              <a:prstGeom prst="rect">
                <a:avLst/>
              </a:prstGeom>
              <a:ln w="38160">
                <a:solidFill>
                  <a:srgbClr val="000099"/>
                </a:solidFill>
                <a:miter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3976200" y="3733920"/>
                <a:ext cx="4609440" cy="45972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никновение  в суть явлени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 flipV="1">
              <a:off x="2666880" y="4572000"/>
              <a:ext cx="38124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666880" y="4648320"/>
            <a:ext cx="5324040" cy="666720"/>
            <a:chOff x="2666880" y="4648320"/>
            <a:chExt cx="5324040" cy="66672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3124080" y="4648320"/>
              <a:ext cx="762120" cy="666720"/>
            </a:xfrm>
            <a:prstGeom prst="rect">
              <a:avLst/>
            </a:prstGeom>
            <a:ln w="38160">
              <a:solidFill>
                <a:srgbClr val="000099"/>
              </a:solidFill>
              <a:miter/>
            </a:ln>
          </p:spPr>
        </p:pic>
        <p:sp>
          <p:nvSpPr>
            <p:cNvPr id="136" name=""/>
            <p:cNvSpPr/>
            <p:nvPr/>
          </p:nvSpPr>
          <p:spPr>
            <a:xfrm>
              <a:off x="3983400" y="4734000"/>
              <a:ext cx="4007520" cy="4597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оретическое обоснов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6880" y="4952880"/>
              <a:ext cx="3812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H="1">
            <a:off x="4266720" y="3429000"/>
            <a:ext cx="68580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666880" y="4952880"/>
            <a:ext cx="5939280" cy="1143000"/>
            <a:chOff x="2666880" y="4952880"/>
            <a:chExt cx="5939280" cy="114300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3124080" y="5533920"/>
              <a:ext cx="762120" cy="561960"/>
            </a:xfrm>
            <a:prstGeom prst="rect">
              <a:avLst/>
            </a:prstGeom>
            <a:ln w="38160">
              <a:solidFill>
                <a:srgbClr val="000099"/>
              </a:solidFill>
              <a:miter/>
            </a:ln>
          </p:spPr>
        </p:pic>
        <p:sp>
          <p:nvSpPr>
            <p:cNvPr id="141" name=""/>
            <p:cNvSpPr/>
            <p:nvPr/>
          </p:nvSpPr>
          <p:spPr>
            <a:xfrm>
              <a:off x="4037760" y="5562720"/>
              <a:ext cx="4568400" cy="4597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становление закономерносте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66880" y="4952880"/>
              <a:ext cx="381240" cy="8384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Функции современной наук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680" y="1219320"/>
            <a:ext cx="1582920" cy="55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пох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143000"/>
            <a:ext cx="2666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ункци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61200" y="1905120"/>
            <a:ext cx="1779480" cy="1297800"/>
            <a:chOff x="961200" y="1905120"/>
            <a:chExt cx="1779480" cy="129780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1369800" y="1905120"/>
              <a:ext cx="960480" cy="931680"/>
            </a:xfrm>
            <a:prstGeom prst="rect">
              <a:avLst/>
            </a:prstGeom>
            <a:ln w="38160">
              <a:solidFill>
                <a:srgbClr val="000099"/>
              </a:solidFill>
              <a:miter/>
            </a:ln>
          </p:spPr>
        </p:pic>
        <p:sp>
          <p:nvSpPr>
            <p:cNvPr id="148" name=""/>
            <p:cNvSpPr/>
            <p:nvPr/>
          </p:nvSpPr>
          <p:spPr>
            <a:xfrm>
              <a:off x="961200" y="274320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нтич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362320" y="1905120"/>
            <a:ext cx="6461640" cy="825480"/>
            <a:chOff x="2362320" y="1905120"/>
            <a:chExt cx="6461640" cy="825480"/>
          </a:xfrm>
        </p:grpSpPr>
        <p:sp>
          <p:nvSpPr>
            <p:cNvPr id="150" name=""/>
            <p:cNvSpPr/>
            <p:nvPr/>
          </p:nvSpPr>
          <p:spPr>
            <a:xfrm>
              <a:off x="3169080" y="1905120"/>
              <a:ext cx="5654880" cy="8254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основа-знания Египта и Месопотамии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прикладной характер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62320" y="2362320"/>
              <a:ext cx="76176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916920" y="3200400"/>
            <a:ext cx="1937880" cy="1069200"/>
            <a:chOff x="916920" y="3200400"/>
            <a:chExt cx="1937880" cy="106920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1371600" y="3200400"/>
              <a:ext cx="990720" cy="695160"/>
            </a:xfrm>
            <a:prstGeom prst="rect">
              <a:avLst/>
            </a:prstGeom>
            <a:ln w="38160">
              <a:solidFill>
                <a:srgbClr val="000099"/>
              </a:solidFill>
              <a:miter/>
            </a:ln>
          </p:spPr>
        </p:pic>
        <p:sp>
          <p:nvSpPr>
            <p:cNvPr id="154" name=""/>
            <p:cNvSpPr/>
            <p:nvPr/>
          </p:nvSpPr>
          <p:spPr>
            <a:xfrm>
              <a:off x="916920" y="3809880"/>
              <a:ext cx="193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зрожде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38280" y="3048120"/>
            <a:ext cx="5983920" cy="1191240"/>
            <a:chOff x="2438280" y="3048120"/>
            <a:chExt cx="5983920" cy="1191240"/>
          </a:xfrm>
        </p:grpSpPr>
        <p:sp>
          <p:nvSpPr>
            <p:cNvPr id="156" name=""/>
            <p:cNvSpPr/>
            <p:nvPr/>
          </p:nvSpPr>
          <p:spPr>
            <a:xfrm>
              <a:off x="3178800" y="3048120"/>
              <a:ext cx="5243400" cy="11912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отказ от религиозных концепций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возникновение культурно-мировоз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ренческой фунции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38280" y="3657600"/>
              <a:ext cx="685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143000" y="4495680"/>
            <a:ext cx="1447920" cy="952560"/>
            <a:chOff x="1143000" y="4495680"/>
            <a:chExt cx="1447920" cy="95256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1143000" y="4495680"/>
              <a:ext cx="1447920" cy="306360"/>
            </a:xfrm>
            <a:prstGeom prst="rect">
              <a:avLst/>
            </a:prstGeom>
            <a:ln w="38160">
              <a:solidFill>
                <a:srgbClr val="000099"/>
              </a:solidFill>
              <a:miter/>
            </a:ln>
          </p:spPr>
        </p:pic>
        <p:sp>
          <p:nvSpPr>
            <p:cNvPr id="160" name=""/>
            <p:cNvSpPr txBox="1"/>
            <p:nvPr/>
          </p:nvSpPr>
          <p:spPr>
            <a:xfrm>
              <a:off x="1162080" y="4876920"/>
              <a:ext cx="14097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XIX век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590920" y="4530600"/>
            <a:ext cx="6062760" cy="825480"/>
            <a:chOff x="2590920" y="4530600"/>
            <a:chExt cx="6062760" cy="825480"/>
          </a:xfrm>
        </p:grpSpPr>
        <p:sp>
          <p:nvSpPr>
            <p:cNvPr id="162" name=""/>
            <p:cNvSpPr/>
            <p:nvPr/>
          </p:nvSpPr>
          <p:spPr>
            <a:xfrm>
              <a:off x="3206160" y="4530600"/>
              <a:ext cx="5447520" cy="8254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превращение науки в непосредствен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ую производительную силу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90920" y="5022720"/>
              <a:ext cx="53316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64280" y="5638680"/>
            <a:ext cx="2230560" cy="1145520"/>
            <a:chOff x="764280" y="5638680"/>
            <a:chExt cx="2230560" cy="1145520"/>
          </a:xfrm>
        </p:grpSpPr>
        <p:sp>
          <p:nvSpPr>
            <p:cNvPr id="165" name=""/>
            <p:cNvSpPr/>
            <p:nvPr/>
          </p:nvSpPr>
          <p:spPr>
            <a:xfrm>
              <a:off x="764280" y="6324480"/>
              <a:ext cx="2230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времен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6"/>
            <a:stretch/>
          </p:blipFill>
          <p:spPr>
            <a:xfrm>
              <a:off x="1295280" y="5638680"/>
              <a:ext cx="1143000" cy="744480"/>
            </a:xfrm>
            <a:prstGeom prst="rect">
              <a:avLst/>
            </a:prstGeom>
            <a:ln w="38160">
              <a:solidFill>
                <a:srgbClr val="000099"/>
              </a:solidFill>
              <a:miter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2514600" y="5638680"/>
            <a:ext cx="6066360" cy="825480"/>
            <a:chOff x="2514600" y="5638680"/>
            <a:chExt cx="6066360" cy="825480"/>
          </a:xfrm>
        </p:grpSpPr>
        <p:sp>
          <p:nvSpPr>
            <p:cNvPr id="168" name=""/>
            <p:cNvSpPr/>
            <p:nvPr/>
          </p:nvSpPr>
          <p:spPr>
            <a:xfrm>
              <a:off x="3255120" y="5638680"/>
              <a:ext cx="5325840" cy="8254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социальная сила-участие в социаль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м развитии и управлении им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4600" y="6095880"/>
              <a:ext cx="60948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тика наук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628560" cy="164124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2819520" y="1379520"/>
            <a:ext cx="2163600" cy="865080"/>
            <a:chOff x="2819520" y="1379520"/>
            <a:chExt cx="2163600" cy="865080"/>
          </a:xfrm>
        </p:grpSpPr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4255920" y="1379520"/>
              <a:ext cx="7272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819520" y="1905120"/>
              <a:ext cx="13716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029200" y="1228680"/>
            <a:ext cx="2895480" cy="1166760"/>
            <a:chOff x="5029200" y="1228680"/>
            <a:chExt cx="2895480" cy="116676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6477120" y="1228680"/>
              <a:ext cx="14475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029200" y="1905120"/>
              <a:ext cx="13716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2714760" y="2590920"/>
            <a:ext cx="37623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истема этических норм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117080" y="2895480"/>
            <a:ext cx="3454920" cy="1496160"/>
            <a:chOff x="1117080" y="2895480"/>
            <a:chExt cx="3454920" cy="1496160"/>
          </a:xfrm>
        </p:grpSpPr>
        <p:sp>
          <p:nvSpPr>
            <p:cNvPr id="180" name=""/>
            <p:cNvSpPr/>
            <p:nvPr/>
          </p:nvSpPr>
          <p:spPr>
            <a:xfrm>
              <a:off x="1117080" y="3200400"/>
              <a:ext cx="2926800" cy="11912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Общечеловеческ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не лги, не укради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нет плагиату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4114800" y="2895480"/>
              <a:ext cx="457200" cy="9907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572000" y="2895480"/>
            <a:ext cx="3638880" cy="1496160"/>
            <a:chOff x="4572000" y="2895480"/>
            <a:chExt cx="3638880" cy="1496160"/>
          </a:xfrm>
        </p:grpSpPr>
        <p:sp>
          <p:nvSpPr>
            <p:cNvPr id="183" name=""/>
            <p:cNvSpPr/>
            <p:nvPr/>
          </p:nvSpPr>
          <p:spPr>
            <a:xfrm>
              <a:off x="5125320" y="3200400"/>
              <a:ext cx="3085560" cy="11912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Этическ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Платон мне друг, 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ина дороже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0" y="2895480"/>
              <a:ext cx="533520" cy="9907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710000" y="2971800"/>
            <a:ext cx="5755680" cy="2918520"/>
            <a:chOff x="1710000" y="2971800"/>
            <a:chExt cx="5755680" cy="2918520"/>
          </a:xfrm>
        </p:grpSpPr>
        <p:sp>
          <p:nvSpPr>
            <p:cNvPr id="186" name=""/>
            <p:cNvSpPr/>
            <p:nvPr/>
          </p:nvSpPr>
          <p:spPr>
            <a:xfrm>
              <a:off x="1710000" y="4699080"/>
              <a:ext cx="5755680" cy="11912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Взаимоотношения ученого и общества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свобода научного поиска и социальна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тветственность ученого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0" y="2971800"/>
              <a:ext cx="0" cy="16002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Образовани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219320" y="1066680"/>
            <a:ext cx="746748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ереустройство общества-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ереустройство школы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47320" y="2209680"/>
            <a:ext cx="2107080" cy="1374120"/>
            <a:chOff x="1147320" y="2209680"/>
            <a:chExt cx="2107080" cy="1374120"/>
          </a:xfrm>
        </p:grpSpPr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1277640" y="2361960"/>
              <a:ext cx="57780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2573280" y="2209680"/>
              <a:ext cx="51588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963440" y="2819160"/>
              <a:ext cx="6098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47320" y="3124080"/>
              <a:ext cx="21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ци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124080" y="2209680"/>
            <a:ext cx="4191120" cy="609480"/>
            <a:chOff x="3124080" y="2209680"/>
            <a:chExt cx="4191120" cy="609480"/>
          </a:xfrm>
        </p:grpSpPr>
        <p:sp>
          <p:nvSpPr>
            <p:cNvPr id="196" name=""/>
            <p:cNvSpPr txBox="1"/>
            <p:nvPr/>
          </p:nvSpPr>
          <p:spPr>
            <a:xfrm>
              <a:off x="4495680" y="2209680"/>
              <a:ext cx="28195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стихийно(среда)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124080" y="2514240"/>
              <a:ext cx="1219320" cy="3049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124080" y="2819520"/>
            <a:ext cx="4316400" cy="687240"/>
            <a:chOff x="3124080" y="2819520"/>
            <a:chExt cx="4316400" cy="687240"/>
          </a:xfrm>
        </p:grpSpPr>
        <p:sp>
          <p:nvSpPr>
            <p:cNvPr id="199" name=""/>
            <p:cNvSpPr txBox="1"/>
            <p:nvPr/>
          </p:nvSpPr>
          <p:spPr>
            <a:xfrm>
              <a:off x="4419720" y="2819520"/>
              <a:ext cx="3020760" cy="68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целенаправленн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(общество)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24080" y="2819520"/>
              <a:ext cx="1143000" cy="30456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165320" y="3429000"/>
            <a:ext cx="3787200" cy="2114640"/>
            <a:chOff x="1165320" y="3429000"/>
            <a:chExt cx="3787200" cy="2114640"/>
          </a:xfrm>
        </p:grpSpPr>
        <p:grpSp>
          <p:nvGrpSpPr>
            <p:cNvPr id="202" name=""/>
            <p:cNvGrpSpPr/>
            <p:nvPr/>
          </p:nvGrpSpPr>
          <p:grpSpPr>
            <a:xfrm>
              <a:off x="1165320" y="4114800"/>
              <a:ext cx="1806480" cy="1428840"/>
              <a:chOff x="1165320" y="4114800"/>
              <a:chExt cx="1806480" cy="1428840"/>
            </a:xfrm>
          </p:grpSpPr>
          <p:pic>
            <p:nvPicPr>
              <p:cNvPr id="2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371600" y="4114800"/>
                <a:ext cx="144468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 txBox="1"/>
              <p:nvPr/>
            </p:nvSpPr>
            <p:spPr>
              <a:xfrm>
                <a:off x="1165320" y="5181480"/>
                <a:ext cx="1806480" cy="362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800000"/>
                      </a:solidFill>
                      <a:miter/>
                    </a:ln>
                    <a:blipFill rotWithShape="0">
                      <a:blip r:embed="rId4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образование</a:t>
                </a:r>
                <a:endParaRPr b="1" lang="en-US" sz="2400" spc="1" strike="noStrike">
                  <a:ln w="9360">
                    <a:solidFill>
                      <a:srgbClr val="8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 flipH="1">
              <a:off x="2590560" y="3429000"/>
              <a:ext cx="2361960" cy="68580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895480" y="4114800"/>
            <a:ext cx="4343400" cy="838080"/>
            <a:chOff x="2895480" y="4114800"/>
            <a:chExt cx="4343400" cy="838080"/>
          </a:xfrm>
        </p:grpSpPr>
        <p:sp>
          <p:nvSpPr>
            <p:cNvPr id="207" name=""/>
            <p:cNvSpPr txBox="1"/>
            <p:nvPr/>
          </p:nvSpPr>
          <p:spPr>
            <a:xfrm>
              <a:off x="4648320" y="4114800"/>
              <a:ext cx="25905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221304"/>
                      </a:gs>
                      <a:gs pos="50000">
                        <a:srgbClr val="ffffff"/>
                      </a:gs>
                      <a:gs pos="100000">
                        <a:srgbClr val="221304"/>
                      </a:gs>
                    </a:gsLst>
                    <a:lin ang="5400000"/>
                  </a:gradFill>
                  <a:latin typeface="Arial"/>
                </a:rPr>
                <a:t>неоднородно</a:t>
              </a:r>
              <a:endParaRPr b="1" lang="en-US" sz="2400" spc="1" strike="noStrike">
                <a:ln w="2844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221304"/>
                    </a:gs>
                    <a:gs pos="50000">
                      <a:srgbClr val="ffffff"/>
                    </a:gs>
                    <a:gs pos="100000">
                      <a:srgbClr val="221304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895480" y="4495680"/>
              <a:ext cx="1600200" cy="457200"/>
            </a:xfrm>
            <a:prstGeom prst="line">
              <a:avLst/>
            </a:prstGeom>
            <a:ln w="76320">
              <a:solidFill>
                <a:srgbClr val="22130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590920" y="4495680"/>
            <a:ext cx="3200040" cy="1828800"/>
            <a:chOff x="2590920" y="4495680"/>
            <a:chExt cx="3200040" cy="1828800"/>
          </a:xfrm>
        </p:grpSpPr>
        <p:sp>
          <p:nvSpPr>
            <p:cNvPr id="210" name=""/>
            <p:cNvSpPr txBox="1"/>
            <p:nvPr/>
          </p:nvSpPr>
          <p:spPr>
            <a:xfrm>
              <a:off x="2590920" y="5867280"/>
              <a:ext cx="12952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класс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3733560" y="4495680"/>
              <a:ext cx="2057400" cy="12956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267080" y="4495680"/>
            <a:ext cx="1600200" cy="1981440"/>
            <a:chOff x="4267080" y="4495680"/>
            <a:chExt cx="1600200" cy="1981440"/>
          </a:xfrm>
        </p:grpSpPr>
        <p:sp>
          <p:nvSpPr>
            <p:cNvPr id="213" name=""/>
            <p:cNvSpPr txBox="1"/>
            <p:nvPr/>
          </p:nvSpPr>
          <p:spPr>
            <a:xfrm>
              <a:off x="4267080" y="5867280"/>
              <a:ext cx="16002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наци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257800" y="4495680"/>
              <a:ext cx="533520" cy="12193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791320" y="4495680"/>
            <a:ext cx="3047760" cy="2133720"/>
            <a:chOff x="5791320" y="4495680"/>
            <a:chExt cx="3047760" cy="2133720"/>
          </a:xfrm>
        </p:grpSpPr>
        <p:sp>
          <p:nvSpPr>
            <p:cNvPr id="216" name=""/>
            <p:cNvSpPr txBox="1"/>
            <p:nvPr/>
          </p:nvSpPr>
          <p:spPr>
            <a:xfrm>
              <a:off x="6019920" y="5715000"/>
              <a:ext cx="281916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социальны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групп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1320" y="4495680"/>
              <a:ext cx="1066680" cy="11430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Образовани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298880" y="1219320"/>
            <a:ext cx="1913400" cy="1832040"/>
            <a:chOff x="1298880" y="1219320"/>
            <a:chExt cx="1913400" cy="183204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1682640" y="1219320"/>
              <a:ext cx="106056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298880" y="2225880"/>
              <a:ext cx="191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держ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разова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216240" y="1219320"/>
            <a:ext cx="4937040" cy="1600200"/>
            <a:chOff x="3216240" y="1219320"/>
            <a:chExt cx="4937040" cy="1600200"/>
          </a:xfrm>
        </p:grpSpPr>
        <p:sp>
          <p:nvSpPr>
            <p:cNvPr id="223" name=""/>
            <p:cNvSpPr txBox="1"/>
            <p:nvPr/>
          </p:nvSpPr>
          <p:spPr>
            <a:xfrm>
              <a:off x="4282920" y="1219320"/>
              <a:ext cx="3870360" cy="160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государствен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регулирова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16240" y="172404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cc00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4197240" y="2895480"/>
            <a:ext cx="746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0800000"/>
                </a:gradFill>
                <a:latin typeface="Arial"/>
              </a:rPr>
              <a:t>Но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72360" y="3581280"/>
            <a:ext cx="6084720" cy="4597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личные типы школ, в т.ч. религиоз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378160" y="4267080"/>
            <a:ext cx="5165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864"/>
                </a:solidFill>
                <a:latin typeface="Arial"/>
              </a:rPr>
              <a:t>основные напрвлени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86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864"/>
                </a:solidFill>
                <a:latin typeface="Arial"/>
              </a:rPr>
              <a:t>реформы образова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864"/>
              </a:solidFill>
              <a:latin typeface="Arial"/>
              <a:ea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66680" y="541008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гуманизация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971800" y="6172200"/>
            <a:ext cx="3581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гуманитаризация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105520" y="5410080"/>
            <a:ext cx="3733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тернационализация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Образовани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990720" y="1174680"/>
            <a:ext cx="8035920" cy="1191240"/>
            <a:chOff x="990720" y="1174680"/>
            <a:chExt cx="8035920" cy="1191240"/>
          </a:xfrm>
        </p:grpSpPr>
        <p:sp>
          <p:nvSpPr>
            <p:cNvPr id="233" name=""/>
            <p:cNvSpPr txBox="1"/>
            <p:nvPr/>
          </p:nvSpPr>
          <p:spPr>
            <a:xfrm>
              <a:off x="990720" y="1600200"/>
              <a:ext cx="2971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уманизация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72120" y="1174680"/>
              <a:ext cx="4754520" cy="119124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нимание к интересам человек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ые возможности для  раз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ичных социальных групп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914400" y="3262320"/>
            <a:ext cx="8044200" cy="1191240"/>
            <a:chOff x="914400" y="3262320"/>
            <a:chExt cx="8044200" cy="1191240"/>
          </a:xfrm>
        </p:grpSpPr>
        <p:sp>
          <p:nvSpPr>
            <p:cNvPr id="236" name=""/>
            <p:cNvSpPr txBox="1"/>
            <p:nvPr/>
          </p:nvSpPr>
          <p:spPr>
            <a:xfrm>
              <a:off x="914400" y="3678120"/>
              <a:ext cx="30481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уманитаризация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09560" y="3262320"/>
              <a:ext cx="4649040" cy="119124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силение внимание общества к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зучению общественных нау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экономика,социология и т.д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2120" y="5349960"/>
            <a:ext cx="8128440" cy="825480"/>
            <a:chOff x="762120" y="5349960"/>
            <a:chExt cx="8128440" cy="825480"/>
          </a:xfrm>
        </p:grpSpPr>
        <p:sp>
          <p:nvSpPr>
            <p:cNvPr id="239" name=""/>
            <p:cNvSpPr txBox="1"/>
            <p:nvPr/>
          </p:nvSpPr>
          <p:spPr>
            <a:xfrm>
              <a:off x="762120" y="5639040"/>
              <a:ext cx="3276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интернационализация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22160" y="5349960"/>
              <a:ext cx="456840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здание единой системы обра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ования для разных стран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Чернов Алексей</cp:lastModifiedBy>
  <dcterms:modified xsi:type="dcterms:W3CDTF">2002-04-25T17:29:19Z</dcterms:modified>
  <cp:revision>89</cp:revision>
  <dc:subject/>
  <dc:title>ОСОБЕННОСТИ ДРЕВНИХ ЦИВИЛИЗАЦИЙ.</dc:title>
</cp:coreProperties>
</file>