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2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78E-02A3-48C0-B628-EFE10C04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463-A270-473D-AF91-752E1A8B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48C-EB9A-42F0-B094-9F3DABBC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E6D-2291-400B-9219-D959AF83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1875-A7A9-4605-BD59-AD08D60B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CFE6-7DB8-47B3-A844-836C9926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D2A0-81BF-4718-BA7B-65B382B1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B0A6-E160-402C-BE88-AB24F27F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B64C-B926-4225-86A9-C98EB9B8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E11B-DB87-4141-9174-4B379628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2030-1F9F-419F-B0FD-65467B19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255-DFA1-4CA7-AA89-3629A02C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B63F-AE36-4410-8CA8-563FD7A4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422D-F0B4-449B-BA69-8A4D16AE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8C7D-5D95-4908-9242-322A83E7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CE10-6887-430E-8123-68556DB6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52DA-3078-49A1-8BCA-D7704164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126-5BAE-4B41-87AD-ABDE70FD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257-04D7-4170-A1C9-4F7572B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EB9-9284-4832-82FC-6FCE3E77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A50-F635-4164-8541-4CE653A9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0B5-C9CA-461B-B28F-FA4199F1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63E-4E68-4ED4-A8F9-3A52D069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425-F13D-4741-84E8-D8E73D4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6FB5-DEFE-45FF-97F7-5D29A732C81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A848-ED98-4202-858F-2C9C2B79491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Наука и образовани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Что такое наука?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33920" y="1143000"/>
            <a:ext cx="25002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у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89560" y="1523880"/>
            <a:ext cx="2844000" cy="1527120"/>
            <a:chOff x="889560" y="1523880"/>
            <a:chExt cx="2844000" cy="1527120"/>
          </a:xfrm>
        </p:grpSpPr>
        <p:sp>
          <p:nvSpPr>
            <p:cNvPr id="119" name=""/>
            <p:cNvSpPr/>
            <p:nvPr/>
          </p:nvSpPr>
          <p:spPr>
            <a:xfrm>
              <a:off x="889560" y="2225520"/>
              <a:ext cx="14320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437920" y="1523880"/>
              <a:ext cx="1295640" cy="6098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630520" y="1828800"/>
            <a:ext cx="3195360" cy="1206360"/>
            <a:chOff x="2630520" y="1828800"/>
            <a:chExt cx="3195360" cy="1206360"/>
          </a:xfrm>
        </p:grpSpPr>
        <p:sp>
          <p:nvSpPr>
            <p:cNvPr id="122" name=""/>
            <p:cNvSpPr/>
            <p:nvPr/>
          </p:nvSpPr>
          <p:spPr>
            <a:xfrm>
              <a:off x="2630520" y="2209680"/>
              <a:ext cx="3195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 организац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 учрежд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1828800"/>
              <a:ext cx="0" cy="30492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136920" y="1523880"/>
            <a:ext cx="2649600" cy="1527120"/>
            <a:chOff x="6136920" y="1523880"/>
            <a:chExt cx="2649600" cy="1527120"/>
          </a:xfrm>
        </p:grpSpPr>
        <p:sp>
          <p:nvSpPr>
            <p:cNvPr id="125" name=""/>
            <p:cNvSpPr/>
            <p:nvPr/>
          </p:nvSpPr>
          <p:spPr>
            <a:xfrm>
              <a:off x="6136920" y="2225520"/>
              <a:ext cx="264960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 науч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чрежд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1523880"/>
              <a:ext cx="1143000" cy="6098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838080" y="3276720"/>
            <a:ext cx="8001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07000" y="4495680"/>
            <a:ext cx="143208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666880" y="3429000"/>
            <a:ext cx="5918760" cy="1523880"/>
            <a:chOff x="2666880" y="3429000"/>
            <a:chExt cx="5918760" cy="1523880"/>
          </a:xfrm>
        </p:grpSpPr>
        <p:grpSp>
          <p:nvGrpSpPr>
            <p:cNvPr id="130" name=""/>
            <p:cNvGrpSpPr/>
            <p:nvPr/>
          </p:nvGrpSpPr>
          <p:grpSpPr>
            <a:xfrm>
              <a:off x="3111480" y="3429000"/>
              <a:ext cx="5474160" cy="1001880"/>
              <a:chOff x="3111480" y="3429000"/>
              <a:chExt cx="5474160" cy="1001880"/>
            </a:xfrm>
          </p:grpSpPr>
          <p:pic>
            <p:nvPicPr>
              <p:cNvPr id="1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11480" y="3429000"/>
                <a:ext cx="774720" cy="1001880"/>
              </a:xfrm>
              <a:prstGeom prst="rect">
                <a:avLst/>
              </a:prstGeom>
              <a:ln w="38160">
                <a:solidFill>
                  <a:srgbClr val="000099"/>
                </a:solidFill>
                <a:miter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3976200" y="3733920"/>
                <a:ext cx="4609440" cy="4597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никновение  в суть явлен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flipV="1">
              <a:off x="2666880" y="4572000"/>
              <a:ext cx="38124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666880" y="4648320"/>
            <a:ext cx="5324040" cy="666720"/>
            <a:chOff x="2666880" y="4648320"/>
            <a:chExt cx="5324040" cy="66672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124080" y="4648320"/>
              <a:ext cx="762120" cy="66672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3983400" y="4734000"/>
              <a:ext cx="400752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оретическое обосн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4952880"/>
              <a:ext cx="381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4266720" y="3429000"/>
            <a:ext cx="6858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6880" y="4952880"/>
            <a:ext cx="5939280" cy="1143000"/>
            <a:chOff x="2666880" y="4952880"/>
            <a:chExt cx="5939280" cy="114300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3124080" y="5533920"/>
              <a:ext cx="762120" cy="56196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41" name=""/>
            <p:cNvSpPr/>
            <p:nvPr/>
          </p:nvSpPr>
          <p:spPr>
            <a:xfrm>
              <a:off x="4037760" y="5562720"/>
              <a:ext cx="45684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ановление закономерносте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6880" y="4952880"/>
              <a:ext cx="381240" cy="8384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Функции современной нау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1219320"/>
            <a:ext cx="1582920" cy="55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пох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14300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ункци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61200" y="1905120"/>
            <a:ext cx="1779480" cy="1297800"/>
            <a:chOff x="961200" y="1905120"/>
            <a:chExt cx="1779480" cy="12978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369800" y="1905120"/>
              <a:ext cx="960480" cy="93168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>
              <a:off x="961200" y="274320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нтич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1905120"/>
            <a:ext cx="6461640" cy="825480"/>
            <a:chOff x="2362320" y="1905120"/>
            <a:chExt cx="6461640" cy="825480"/>
          </a:xfrm>
        </p:grpSpPr>
        <p:sp>
          <p:nvSpPr>
            <p:cNvPr id="150" name=""/>
            <p:cNvSpPr/>
            <p:nvPr/>
          </p:nvSpPr>
          <p:spPr>
            <a:xfrm>
              <a:off x="3169080" y="1905120"/>
              <a:ext cx="565488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основа-знания Египта и Месопотами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икладной характер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2320" y="2362320"/>
              <a:ext cx="7617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916920" y="3200400"/>
            <a:ext cx="1937880" cy="1069200"/>
            <a:chOff x="916920" y="3200400"/>
            <a:chExt cx="1937880" cy="106920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1371600" y="3200400"/>
              <a:ext cx="990720" cy="69516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916920" y="3809880"/>
              <a:ext cx="19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зро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048120"/>
            <a:ext cx="5983920" cy="1191240"/>
            <a:chOff x="2438280" y="3048120"/>
            <a:chExt cx="5983920" cy="1191240"/>
          </a:xfrm>
        </p:grpSpPr>
        <p:sp>
          <p:nvSpPr>
            <p:cNvPr id="156" name=""/>
            <p:cNvSpPr/>
            <p:nvPr/>
          </p:nvSpPr>
          <p:spPr>
            <a:xfrm>
              <a:off x="3178800" y="3048120"/>
              <a:ext cx="524340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отказ от религиозных концепций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возникновение культурно-мировоз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ренческой фунци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38280" y="3657600"/>
              <a:ext cx="685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143000" y="4495680"/>
            <a:ext cx="1447920" cy="952560"/>
            <a:chOff x="1143000" y="4495680"/>
            <a:chExt cx="1447920" cy="95256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1143000" y="4495680"/>
              <a:ext cx="1447920" cy="30636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  <p:sp>
          <p:nvSpPr>
            <p:cNvPr id="160" name=""/>
            <p:cNvSpPr txBox="1"/>
            <p:nvPr/>
          </p:nvSpPr>
          <p:spPr>
            <a:xfrm>
              <a:off x="1162080" y="4876920"/>
              <a:ext cx="1409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XIX век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590920" y="4530600"/>
            <a:ext cx="6062760" cy="825480"/>
            <a:chOff x="2590920" y="4530600"/>
            <a:chExt cx="6062760" cy="825480"/>
          </a:xfrm>
        </p:grpSpPr>
        <p:sp>
          <p:nvSpPr>
            <p:cNvPr id="162" name=""/>
            <p:cNvSpPr/>
            <p:nvPr/>
          </p:nvSpPr>
          <p:spPr>
            <a:xfrm>
              <a:off x="3206160" y="4530600"/>
              <a:ext cx="544752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евращение науки в непосредствен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ую производительную сил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0920" y="5022720"/>
              <a:ext cx="5331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64280" y="5638680"/>
            <a:ext cx="2230560" cy="1145520"/>
            <a:chOff x="764280" y="5638680"/>
            <a:chExt cx="2230560" cy="1145520"/>
          </a:xfrm>
        </p:grpSpPr>
        <p:sp>
          <p:nvSpPr>
            <p:cNvPr id="165" name=""/>
            <p:cNvSpPr/>
            <p:nvPr/>
          </p:nvSpPr>
          <p:spPr>
            <a:xfrm>
              <a:off x="764280" y="6324480"/>
              <a:ext cx="2230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времен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1295280" y="5638680"/>
              <a:ext cx="1143000" cy="744480"/>
            </a:xfrm>
            <a:prstGeom prst="rect">
              <a:avLst/>
            </a:prstGeom>
            <a:ln w="38160">
              <a:solidFill>
                <a:srgbClr val="000099"/>
              </a:solidFill>
              <a:miter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2514600" y="5638680"/>
            <a:ext cx="6066360" cy="825480"/>
            <a:chOff x="2514600" y="5638680"/>
            <a:chExt cx="6066360" cy="825480"/>
          </a:xfrm>
        </p:grpSpPr>
        <p:sp>
          <p:nvSpPr>
            <p:cNvPr id="168" name=""/>
            <p:cNvSpPr/>
            <p:nvPr/>
          </p:nvSpPr>
          <p:spPr>
            <a:xfrm>
              <a:off x="3255120" y="5638680"/>
              <a:ext cx="532584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социальная сила-участие в социаль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м развитии и управлении и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4600" y="6095880"/>
              <a:ext cx="60948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тика нау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628560" cy="164124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819520" y="1379520"/>
            <a:ext cx="2163600" cy="865080"/>
            <a:chOff x="2819520" y="1379520"/>
            <a:chExt cx="2163600" cy="86508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255920" y="1379520"/>
              <a:ext cx="7272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819520" y="1905120"/>
              <a:ext cx="13716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29200" y="1228680"/>
            <a:ext cx="2895480" cy="1166760"/>
            <a:chOff x="5029200" y="1228680"/>
            <a:chExt cx="2895480" cy="116676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6477120" y="1228680"/>
              <a:ext cx="14475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029200" y="1905120"/>
              <a:ext cx="13716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714760" y="2590920"/>
            <a:ext cx="3762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стема этических норм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17080" y="2895480"/>
            <a:ext cx="3454920" cy="1496160"/>
            <a:chOff x="1117080" y="2895480"/>
            <a:chExt cx="3454920" cy="1496160"/>
          </a:xfrm>
        </p:grpSpPr>
        <p:sp>
          <p:nvSpPr>
            <p:cNvPr id="180" name=""/>
            <p:cNvSpPr/>
            <p:nvPr/>
          </p:nvSpPr>
          <p:spPr>
            <a:xfrm>
              <a:off x="1117080" y="3200400"/>
              <a:ext cx="292680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Общечеловеческ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не лги, не украд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нет плагиату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114800" y="2895480"/>
              <a:ext cx="457200" cy="990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572000" y="2895480"/>
            <a:ext cx="3638880" cy="1496160"/>
            <a:chOff x="4572000" y="2895480"/>
            <a:chExt cx="3638880" cy="1496160"/>
          </a:xfrm>
        </p:grpSpPr>
        <p:sp>
          <p:nvSpPr>
            <p:cNvPr id="183" name=""/>
            <p:cNvSpPr/>
            <p:nvPr/>
          </p:nvSpPr>
          <p:spPr>
            <a:xfrm>
              <a:off x="5125320" y="3200400"/>
              <a:ext cx="308556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Этическ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латон мне друг, 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ина дороже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2895480"/>
              <a:ext cx="533520" cy="990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710000" y="2971800"/>
            <a:ext cx="5755680" cy="2918520"/>
            <a:chOff x="1710000" y="2971800"/>
            <a:chExt cx="5755680" cy="2918520"/>
          </a:xfrm>
        </p:grpSpPr>
        <p:sp>
          <p:nvSpPr>
            <p:cNvPr id="186" name=""/>
            <p:cNvSpPr/>
            <p:nvPr/>
          </p:nvSpPr>
          <p:spPr>
            <a:xfrm>
              <a:off x="1710000" y="4699080"/>
              <a:ext cx="575568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заимоотношения ученого и общества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свобода научного поиска и социальн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ветственность ученого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2971800"/>
              <a:ext cx="0" cy="16002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19320" y="1066680"/>
            <a:ext cx="74674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ереустройство общества-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ереустройство школ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7320" y="2209680"/>
            <a:ext cx="2107080" cy="1374120"/>
            <a:chOff x="1147320" y="2209680"/>
            <a:chExt cx="2107080" cy="137412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1277640" y="2361960"/>
              <a:ext cx="57780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2573280" y="2209680"/>
              <a:ext cx="51588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963440" y="2819160"/>
              <a:ext cx="609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7320" y="31240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ци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124080" y="2209680"/>
            <a:ext cx="4191120" cy="609480"/>
            <a:chOff x="3124080" y="2209680"/>
            <a:chExt cx="4191120" cy="609480"/>
          </a:xfrm>
        </p:grpSpPr>
        <p:sp>
          <p:nvSpPr>
            <p:cNvPr id="196" name=""/>
            <p:cNvSpPr txBox="1"/>
            <p:nvPr/>
          </p:nvSpPr>
          <p:spPr>
            <a:xfrm>
              <a:off x="4495680" y="2209680"/>
              <a:ext cx="28195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тихийно(сред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124080" y="2514240"/>
              <a:ext cx="1219320" cy="3049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24080" y="2819520"/>
            <a:ext cx="4316400" cy="687240"/>
            <a:chOff x="3124080" y="2819520"/>
            <a:chExt cx="4316400" cy="687240"/>
          </a:xfrm>
        </p:grpSpPr>
        <p:sp>
          <p:nvSpPr>
            <p:cNvPr id="199" name=""/>
            <p:cNvSpPr txBox="1"/>
            <p:nvPr/>
          </p:nvSpPr>
          <p:spPr>
            <a:xfrm>
              <a:off x="4419720" y="2819520"/>
              <a:ext cx="3020760" cy="68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целенаправленн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(общество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4080" y="2819520"/>
              <a:ext cx="1143000" cy="3045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65320" y="3429000"/>
            <a:ext cx="3787200" cy="2114640"/>
            <a:chOff x="1165320" y="3429000"/>
            <a:chExt cx="3787200" cy="2114640"/>
          </a:xfrm>
        </p:grpSpPr>
        <p:grpSp>
          <p:nvGrpSpPr>
            <p:cNvPr id="202" name=""/>
            <p:cNvGrpSpPr/>
            <p:nvPr/>
          </p:nvGrpSpPr>
          <p:grpSpPr>
            <a:xfrm>
              <a:off x="1165320" y="4114800"/>
              <a:ext cx="1806480" cy="1428840"/>
              <a:chOff x="1165320" y="4114800"/>
              <a:chExt cx="1806480" cy="1428840"/>
            </a:xfrm>
          </p:grpSpPr>
          <p:pic>
            <p:nvPicPr>
              <p:cNvPr id="2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4114800"/>
                <a:ext cx="144468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 txBox="1"/>
              <p:nvPr/>
            </p:nvSpPr>
            <p:spPr>
              <a:xfrm>
                <a:off x="1165320" y="5181480"/>
                <a:ext cx="1806480" cy="362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4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образование</a:t>
                </a:r>
                <a:endParaRPr b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H="1">
              <a:off x="2590560" y="3429000"/>
              <a:ext cx="2361960" cy="6858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895480" y="4114800"/>
            <a:ext cx="4343400" cy="838080"/>
            <a:chOff x="2895480" y="4114800"/>
            <a:chExt cx="4343400" cy="838080"/>
          </a:xfrm>
        </p:grpSpPr>
        <p:sp>
          <p:nvSpPr>
            <p:cNvPr id="207" name=""/>
            <p:cNvSpPr txBox="1"/>
            <p:nvPr/>
          </p:nvSpPr>
          <p:spPr>
            <a:xfrm>
              <a:off x="4648320" y="4114800"/>
              <a:ext cx="25905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221304"/>
                      </a:gs>
                      <a:gs pos="50000">
                        <a:srgbClr val="ffffff"/>
                      </a:gs>
                      <a:gs pos="100000">
                        <a:srgbClr val="221304"/>
                      </a:gs>
                    </a:gsLst>
                    <a:lin ang="5400000"/>
                  </a:gradFill>
                  <a:latin typeface="Arial"/>
                </a:rPr>
                <a:t>неоднородно</a:t>
              </a:r>
              <a:endParaRPr b="1" lang="en-US" sz="2400" spc="1" strike="noStrike">
                <a:ln w="2844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221304"/>
                    </a:gs>
                    <a:gs pos="50000">
                      <a:srgbClr val="ffffff"/>
                    </a:gs>
                    <a:gs pos="100000">
                      <a:srgbClr val="221304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895480" y="4495680"/>
              <a:ext cx="1600200" cy="457200"/>
            </a:xfrm>
            <a:prstGeom prst="line">
              <a:avLst/>
            </a:prstGeom>
            <a:ln w="76320">
              <a:solidFill>
                <a:srgbClr val="2213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590920" y="4495680"/>
            <a:ext cx="3200040" cy="1828800"/>
            <a:chOff x="2590920" y="4495680"/>
            <a:chExt cx="3200040" cy="1828800"/>
          </a:xfrm>
        </p:grpSpPr>
        <p:sp>
          <p:nvSpPr>
            <p:cNvPr id="210" name=""/>
            <p:cNvSpPr txBox="1"/>
            <p:nvPr/>
          </p:nvSpPr>
          <p:spPr>
            <a:xfrm>
              <a:off x="2590920" y="5867280"/>
              <a:ext cx="12952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класс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733560" y="4495680"/>
              <a:ext cx="205740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267080" y="4495680"/>
            <a:ext cx="1600200" cy="1981440"/>
            <a:chOff x="4267080" y="4495680"/>
            <a:chExt cx="1600200" cy="1981440"/>
          </a:xfrm>
        </p:grpSpPr>
        <p:sp>
          <p:nvSpPr>
            <p:cNvPr id="213" name=""/>
            <p:cNvSpPr txBox="1"/>
            <p:nvPr/>
          </p:nvSpPr>
          <p:spPr>
            <a:xfrm>
              <a:off x="4267080" y="5867280"/>
              <a:ext cx="16002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н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257800" y="4495680"/>
              <a:ext cx="533520" cy="12193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791320" y="4495680"/>
            <a:ext cx="3047760" cy="2133720"/>
            <a:chOff x="5791320" y="4495680"/>
            <a:chExt cx="3047760" cy="2133720"/>
          </a:xfrm>
        </p:grpSpPr>
        <p:sp>
          <p:nvSpPr>
            <p:cNvPr id="216" name=""/>
            <p:cNvSpPr txBox="1"/>
            <p:nvPr/>
          </p:nvSpPr>
          <p:spPr>
            <a:xfrm>
              <a:off x="6019920" y="5715000"/>
              <a:ext cx="28191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социальны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групп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1320" y="4495680"/>
              <a:ext cx="1066680" cy="11430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298880" y="1219320"/>
            <a:ext cx="1913400" cy="1832040"/>
            <a:chOff x="1298880" y="1219320"/>
            <a:chExt cx="1913400" cy="183204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1682640" y="1219320"/>
              <a:ext cx="10605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298880" y="2225880"/>
              <a:ext cx="191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держ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зов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216240" y="1219320"/>
            <a:ext cx="4937040" cy="1600200"/>
            <a:chOff x="3216240" y="1219320"/>
            <a:chExt cx="4937040" cy="1600200"/>
          </a:xfrm>
        </p:grpSpPr>
        <p:sp>
          <p:nvSpPr>
            <p:cNvPr id="223" name=""/>
            <p:cNvSpPr txBox="1"/>
            <p:nvPr/>
          </p:nvSpPr>
          <p:spPr>
            <a:xfrm>
              <a:off x="4282920" y="1219320"/>
              <a:ext cx="387036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16240" y="1724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197240" y="2895480"/>
            <a:ext cx="746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Arial"/>
              </a:rPr>
              <a:t>Но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72360" y="3581280"/>
            <a:ext cx="6084720" cy="4597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ные типы школ, в т.ч. религио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78160" y="4267080"/>
            <a:ext cx="516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latin typeface="Arial"/>
              </a:rPr>
              <a:t>основные напрвлен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latin typeface="Arial"/>
              </a:rPr>
              <a:t>реформы образов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66680" y="541008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уманизаци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971800" y="617220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уманитаризаци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105520" y="541008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тернационализаци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90720" y="1174680"/>
            <a:ext cx="8035920" cy="1191240"/>
            <a:chOff x="990720" y="1174680"/>
            <a:chExt cx="8035920" cy="1191240"/>
          </a:xfrm>
        </p:grpSpPr>
        <p:sp>
          <p:nvSpPr>
            <p:cNvPr id="233" name=""/>
            <p:cNvSpPr txBox="1"/>
            <p:nvPr/>
          </p:nvSpPr>
          <p:spPr>
            <a:xfrm>
              <a:off x="990720" y="1600200"/>
              <a:ext cx="2971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уманизац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72120" y="1174680"/>
              <a:ext cx="475452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нимание к интересам человек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ые возможности для  раз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ичных социальных групп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3262320"/>
            <a:ext cx="8044200" cy="1191240"/>
            <a:chOff x="914400" y="3262320"/>
            <a:chExt cx="8044200" cy="1191240"/>
          </a:xfrm>
        </p:grpSpPr>
        <p:sp>
          <p:nvSpPr>
            <p:cNvPr id="236" name=""/>
            <p:cNvSpPr txBox="1"/>
            <p:nvPr/>
          </p:nvSpPr>
          <p:spPr>
            <a:xfrm>
              <a:off x="914400" y="3678120"/>
              <a:ext cx="30481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уманитаризац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09560" y="3262320"/>
              <a:ext cx="464904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иление внимание общества к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зучению общественных нау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экономика,социология и т.д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2120" y="5349960"/>
            <a:ext cx="8128440" cy="825480"/>
            <a:chOff x="762120" y="5349960"/>
            <a:chExt cx="8128440" cy="825480"/>
          </a:xfrm>
        </p:grpSpPr>
        <p:sp>
          <p:nvSpPr>
            <p:cNvPr id="239" name=""/>
            <p:cNvSpPr txBox="1"/>
            <p:nvPr/>
          </p:nvSpPr>
          <p:spPr>
            <a:xfrm>
              <a:off x="762120" y="5639040"/>
              <a:ext cx="3276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нтернационализац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22160" y="5349960"/>
              <a:ext cx="456840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единой системы обр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ования для разных стран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25T17:29:19Z</dcterms:modified>
  <cp:revision>89</cp:revision>
  <dc:subject/>
  <dc:title>ОСОБЕННОСТИ ДРЕВНИХ ЦИВИЛИЗАЦИЙ.</dc:title>
</cp:coreProperties>
</file>