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3.wmf" ContentType="image/x-wmf"/>
  <Override PartName="/ppt/media/image19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24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6460-A2DB-49DC-AA28-D79C53D2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7FF6-154F-4687-92FC-9F59DA3E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2EE6-F91C-486B-A4BC-12157AEA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DC51-4119-4A44-BC1B-DE081FB7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71FD-BC3F-4FD9-848C-DFF2B7F7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2523-9554-4F3E-B4AB-EC5DD500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4374-402E-4C18-8809-BA222978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BBD7-A296-4A28-BFCF-4945CBDF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8244-06EF-4BCD-9012-7D699ED7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2059-E9F6-4EF8-B39F-0FB6A6E3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7543-42D0-4789-B076-25967B15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A76D-2EE1-4FF8-99FE-6F87DC78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1E7B-B235-447B-8024-B08A9652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F91A-C0B7-439D-9F0C-D1688CBC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CA2F-BE8C-4B1C-9802-DA34241F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54CF-54DB-479F-BCED-EC2BA19A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9EA9-791D-463D-BE1A-41C48E74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E175-9AD9-4AB6-B3DB-58ADB3B8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0200-1A7F-4B7F-AA2E-B6D789DB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DD6C-15CB-4472-8F49-D0F04F2D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72DB-BE0B-4AC3-A0C9-0D32DB5A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19A3-ACC9-4EFC-A8C3-9A0F4178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BAFF-4FF1-4A33-A271-2548CD69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CA34-A43F-4760-9E6D-40271A91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F72C-030A-4703-957E-D45708A66D0A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9C64-9AFE-49DB-A486-BC5D4C02EF03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Наука и образование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Что такое наука?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733920" y="1143000"/>
            <a:ext cx="250020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ука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889560" y="1523880"/>
            <a:ext cx="2844000" cy="1527120"/>
            <a:chOff x="889560" y="1523880"/>
            <a:chExt cx="2844000" cy="1527120"/>
          </a:xfrm>
        </p:grpSpPr>
        <p:sp>
          <p:nvSpPr>
            <p:cNvPr id="119" name=""/>
            <p:cNvSpPr/>
            <p:nvPr/>
          </p:nvSpPr>
          <p:spPr>
            <a:xfrm>
              <a:off x="889560" y="2225520"/>
              <a:ext cx="143208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истем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нан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437920" y="1523880"/>
              <a:ext cx="1295640" cy="60984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630520" y="1828800"/>
            <a:ext cx="3195360" cy="1206360"/>
            <a:chOff x="2630520" y="1828800"/>
            <a:chExt cx="3195360" cy="1206360"/>
          </a:xfrm>
        </p:grpSpPr>
        <p:sp>
          <p:nvSpPr>
            <p:cNvPr id="122" name=""/>
            <p:cNvSpPr/>
            <p:nvPr/>
          </p:nvSpPr>
          <p:spPr>
            <a:xfrm>
              <a:off x="2630520" y="2209680"/>
              <a:ext cx="319536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истема организац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 учрежден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52880" y="1828800"/>
              <a:ext cx="0" cy="30492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136920" y="1523880"/>
            <a:ext cx="2649600" cy="1527120"/>
            <a:chOff x="6136920" y="1523880"/>
            <a:chExt cx="2649600" cy="1527120"/>
          </a:xfrm>
        </p:grpSpPr>
        <p:sp>
          <p:nvSpPr>
            <p:cNvPr id="125" name=""/>
            <p:cNvSpPr/>
            <p:nvPr/>
          </p:nvSpPr>
          <p:spPr>
            <a:xfrm>
              <a:off x="6136920" y="2225520"/>
              <a:ext cx="264960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истема научны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чрежден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24480" y="1523880"/>
              <a:ext cx="1143000" cy="60984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838080" y="3276720"/>
            <a:ext cx="8001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07000" y="4495680"/>
            <a:ext cx="143208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666880" y="3429000"/>
            <a:ext cx="5918760" cy="1523880"/>
            <a:chOff x="2666880" y="3429000"/>
            <a:chExt cx="5918760" cy="1523880"/>
          </a:xfrm>
        </p:grpSpPr>
        <p:grpSp>
          <p:nvGrpSpPr>
            <p:cNvPr id="130" name=""/>
            <p:cNvGrpSpPr/>
            <p:nvPr/>
          </p:nvGrpSpPr>
          <p:grpSpPr>
            <a:xfrm>
              <a:off x="3111480" y="3429000"/>
              <a:ext cx="5474160" cy="1001880"/>
              <a:chOff x="3111480" y="3429000"/>
              <a:chExt cx="5474160" cy="1001880"/>
            </a:xfrm>
          </p:grpSpPr>
          <p:pic>
            <p:nvPicPr>
              <p:cNvPr id="13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111480" y="3429000"/>
                <a:ext cx="774720" cy="1001880"/>
              </a:xfrm>
              <a:prstGeom prst="rect">
                <a:avLst/>
              </a:prstGeom>
              <a:ln w="38160">
                <a:solidFill>
                  <a:srgbClr val="000099"/>
                </a:solidFill>
                <a:miter/>
              </a:ln>
            </p:spPr>
          </p:pic>
          <p:sp>
            <p:nvSpPr>
              <p:cNvPr id="132" name=""/>
              <p:cNvSpPr/>
              <p:nvPr/>
            </p:nvSpPr>
            <p:spPr>
              <a:xfrm>
                <a:off x="3976200" y="3733920"/>
                <a:ext cx="4609440" cy="45972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оникновение  в суть явлений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 flipV="1">
              <a:off x="2666880" y="4572000"/>
              <a:ext cx="381240" cy="380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666880" y="4648320"/>
            <a:ext cx="5324040" cy="666720"/>
            <a:chOff x="2666880" y="4648320"/>
            <a:chExt cx="5324040" cy="66672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3124080" y="4648320"/>
              <a:ext cx="762120" cy="666720"/>
            </a:xfrm>
            <a:prstGeom prst="rect">
              <a:avLst/>
            </a:prstGeom>
            <a:ln w="38160">
              <a:solidFill>
                <a:srgbClr val="000099"/>
              </a:solidFill>
              <a:miter/>
            </a:ln>
          </p:spPr>
        </p:pic>
        <p:sp>
          <p:nvSpPr>
            <p:cNvPr id="136" name=""/>
            <p:cNvSpPr/>
            <p:nvPr/>
          </p:nvSpPr>
          <p:spPr>
            <a:xfrm>
              <a:off x="3983400" y="4734000"/>
              <a:ext cx="4007520" cy="4597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оретическое обоснова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6880" y="4952880"/>
              <a:ext cx="3812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H="1">
            <a:off x="4266720" y="3429000"/>
            <a:ext cx="685800" cy="274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666880" y="4952880"/>
            <a:ext cx="5939280" cy="1143000"/>
            <a:chOff x="2666880" y="4952880"/>
            <a:chExt cx="5939280" cy="1143000"/>
          </a:xfrm>
        </p:grpSpPr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3124080" y="5533920"/>
              <a:ext cx="762120" cy="561960"/>
            </a:xfrm>
            <a:prstGeom prst="rect">
              <a:avLst/>
            </a:prstGeom>
            <a:ln w="38160">
              <a:solidFill>
                <a:srgbClr val="000099"/>
              </a:solidFill>
              <a:miter/>
            </a:ln>
          </p:spPr>
        </p:pic>
        <p:sp>
          <p:nvSpPr>
            <p:cNvPr id="141" name=""/>
            <p:cNvSpPr/>
            <p:nvPr/>
          </p:nvSpPr>
          <p:spPr>
            <a:xfrm>
              <a:off x="4037760" y="5562720"/>
              <a:ext cx="4568400" cy="4597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становление закономерносте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66880" y="4952880"/>
              <a:ext cx="381240" cy="83844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Функции современной наук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66680" y="1219320"/>
            <a:ext cx="1582920" cy="55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поха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143000"/>
            <a:ext cx="2666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ункции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61200" y="1905120"/>
            <a:ext cx="1779480" cy="1297800"/>
            <a:chOff x="961200" y="1905120"/>
            <a:chExt cx="1779480" cy="129780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1369800" y="1905120"/>
              <a:ext cx="960480" cy="931680"/>
            </a:xfrm>
            <a:prstGeom prst="rect">
              <a:avLst/>
            </a:prstGeom>
            <a:ln w="38160">
              <a:solidFill>
                <a:srgbClr val="000099"/>
              </a:solidFill>
              <a:miter/>
            </a:ln>
          </p:spPr>
        </p:pic>
        <p:sp>
          <p:nvSpPr>
            <p:cNvPr id="148" name=""/>
            <p:cNvSpPr/>
            <p:nvPr/>
          </p:nvSpPr>
          <p:spPr>
            <a:xfrm>
              <a:off x="961200" y="274320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нтичнос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362320" y="1905120"/>
            <a:ext cx="6461640" cy="825480"/>
            <a:chOff x="2362320" y="1905120"/>
            <a:chExt cx="6461640" cy="825480"/>
          </a:xfrm>
        </p:grpSpPr>
        <p:sp>
          <p:nvSpPr>
            <p:cNvPr id="150" name=""/>
            <p:cNvSpPr/>
            <p:nvPr/>
          </p:nvSpPr>
          <p:spPr>
            <a:xfrm>
              <a:off x="3169080" y="1905120"/>
              <a:ext cx="5654880" cy="8254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основа-знания Египта и Месопотамии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прикладной характер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62320" y="2362320"/>
              <a:ext cx="76176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916920" y="3200400"/>
            <a:ext cx="1937880" cy="1069200"/>
            <a:chOff x="916920" y="3200400"/>
            <a:chExt cx="1937880" cy="106920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1371600" y="3200400"/>
              <a:ext cx="990720" cy="695160"/>
            </a:xfrm>
            <a:prstGeom prst="rect">
              <a:avLst/>
            </a:prstGeom>
            <a:ln w="38160">
              <a:solidFill>
                <a:srgbClr val="000099"/>
              </a:solidFill>
              <a:miter/>
            </a:ln>
          </p:spPr>
        </p:pic>
        <p:sp>
          <p:nvSpPr>
            <p:cNvPr id="154" name=""/>
            <p:cNvSpPr/>
            <p:nvPr/>
          </p:nvSpPr>
          <p:spPr>
            <a:xfrm>
              <a:off x="916920" y="3809880"/>
              <a:ext cx="193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зрожде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438280" y="3048120"/>
            <a:ext cx="5983920" cy="1191240"/>
            <a:chOff x="2438280" y="3048120"/>
            <a:chExt cx="5983920" cy="1191240"/>
          </a:xfrm>
        </p:grpSpPr>
        <p:sp>
          <p:nvSpPr>
            <p:cNvPr id="156" name=""/>
            <p:cNvSpPr/>
            <p:nvPr/>
          </p:nvSpPr>
          <p:spPr>
            <a:xfrm>
              <a:off x="3178800" y="3048120"/>
              <a:ext cx="5243400" cy="11912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отказ от религиозных концепций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возникновение культурно-мировоз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ренческой фунции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38280" y="3657600"/>
              <a:ext cx="685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143000" y="4495680"/>
            <a:ext cx="1447920" cy="952560"/>
            <a:chOff x="1143000" y="4495680"/>
            <a:chExt cx="1447920" cy="952560"/>
          </a:xfrm>
        </p:grpSpPr>
        <p:pic>
          <p:nvPicPr>
            <p:cNvPr id="159" name="" descr=""/>
            <p:cNvPicPr/>
            <p:nvPr/>
          </p:nvPicPr>
          <p:blipFill>
            <a:blip r:embed="rId3"/>
            <a:stretch/>
          </p:blipFill>
          <p:spPr>
            <a:xfrm>
              <a:off x="1143000" y="4495680"/>
              <a:ext cx="1447920" cy="306360"/>
            </a:xfrm>
            <a:prstGeom prst="rect">
              <a:avLst/>
            </a:prstGeom>
            <a:ln w="38160">
              <a:solidFill>
                <a:srgbClr val="000099"/>
              </a:solidFill>
              <a:miter/>
            </a:ln>
          </p:spPr>
        </p:pic>
        <p:sp>
          <p:nvSpPr>
            <p:cNvPr id="160" name=""/>
            <p:cNvSpPr txBox="1"/>
            <p:nvPr/>
          </p:nvSpPr>
          <p:spPr>
            <a:xfrm>
              <a:off x="1162080" y="4876920"/>
              <a:ext cx="140976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XIX век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590920" y="4530600"/>
            <a:ext cx="6062760" cy="825480"/>
            <a:chOff x="2590920" y="4530600"/>
            <a:chExt cx="6062760" cy="825480"/>
          </a:xfrm>
        </p:grpSpPr>
        <p:sp>
          <p:nvSpPr>
            <p:cNvPr id="162" name=""/>
            <p:cNvSpPr/>
            <p:nvPr/>
          </p:nvSpPr>
          <p:spPr>
            <a:xfrm>
              <a:off x="3206160" y="4530600"/>
              <a:ext cx="5447520" cy="8254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превращение науки в непосредствен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ую производительную силу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90920" y="5022720"/>
              <a:ext cx="53316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764280" y="5638680"/>
            <a:ext cx="2230560" cy="1145520"/>
            <a:chOff x="764280" y="5638680"/>
            <a:chExt cx="2230560" cy="1145520"/>
          </a:xfrm>
        </p:grpSpPr>
        <p:sp>
          <p:nvSpPr>
            <p:cNvPr id="165" name=""/>
            <p:cNvSpPr/>
            <p:nvPr/>
          </p:nvSpPr>
          <p:spPr>
            <a:xfrm>
              <a:off x="764280" y="6324480"/>
              <a:ext cx="2230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временнос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6"/>
            <a:stretch/>
          </p:blipFill>
          <p:spPr>
            <a:xfrm>
              <a:off x="1295280" y="5638680"/>
              <a:ext cx="1143000" cy="744480"/>
            </a:xfrm>
            <a:prstGeom prst="rect">
              <a:avLst/>
            </a:prstGeom>
            <a:ln w="38160">
              <a:solidFill>
                <a:srgbClr val="000099"/>
              </a:solidFill>
              <a:miter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2514600" y="5638680"/>
            <a:ext cx="6066360" cy="825480"/>
            <a:chOff x="2514600" y="5638680"/>
            <a:chExt cx="6066360" cy="825480"/>
          </a:xfrm>
        </p:grpSpPr>
        <p:sp>
          <p:nvSpPr>
            <p:cNvPr id="168" name=""/>
            <p:cNvSpPr/>
            <p:nvPr/>
          </p:nvSpPr>
          <p:spPr>
            <a:xfrm>
              <a:off x="3255120" y="5638680"/>
              <a:ext cx="5325840" cy="8254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социальная сила-участие в социаль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ом развитии и управлении им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14600" y="6095880"/>
              <a:ext cx="60948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тика наук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628560" cy="164124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2819520" y="1379520"/>
            <a:ext cx="2163600" cy="865080"/>
            <a:chOff x="2819520" y="1379520"/>
            <a:chExt cx="2163600" cy="865080"/>
          </a:xfrm>
        </p:grpSpPr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4255920" y="1379520"/>
              <a:ext cx="7272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819520" y="1905120"/>
              <a:ext cx="13716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029200" y="1228680"/>
            <a:ext cx="2895480" cy="1166760"/>
            <a:chOff x="5029200" y="1228680"/>
            <a:chExt cx="2895480" cy="1166760"/>
          </a:xfrm>
        </p:grpSpPr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6477120" y="1228680"/>
              <a:ext cx="14475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5029200" y="1905120"/>
              <a:ext cx="13716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 txBox="1"/>
          <p:nvPr/>
        </p:nvSpPr>
        <p:spPr>
          <a:xfrm>
            <a:off x="2714760" y="2590920"/>
            <a:ext cx="37623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истема этических норм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117080" y="2895480"/>
            <a:ext cx="3454920" cy="1496160"/>
            <a:chOff x="1117080" y="2895480"/>
            <a:chExt cx="3454920" cy="1496160"/>
          </a:xfrm>
        </p:grpSpPr>
        <p:sp>
          <p:nvSpPr>
            <p:cNvPr id="180" name=""/>
            <p:cNvSpPr/>
            <p:nvPr/>
          </p:nvSpPr>
          <p:spPr>
            <a:xfrm>
              <a:off x="1117080" y="3200400"/>
              <a:ext cx="2926800" cy="11912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Общечеловеческие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не лги, не укради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(нет плагиату!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4114800" y="2895480"/>
              <a:ext cx="457200" cy="9907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572000" y="2895480"/>
            <a:ext cx="3638880" cy="1496160"/>
            <a:chOff x="4572000" y="2895480"/>
            <a:chExt cx="3638880" cy="1496160"/>
          </a:xfrm>
        </p:grpSpPr>
        <p:sp>
          <p:nvSpPr>
            <p:cNvPr id="183" name=""/>
            <p:cNvSpPr/>
            <p:nvPr/>
          </p:nvSpPr>
          <p:spPr>
            <a:xfrm>
              <a:off x="5125320" y="3200400"/>
              <a:ext cx="3085560" cy="11912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Этические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Платон мне друг, н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ина дороже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0" y="2895480"/>
              <a:ext cx="533520" cy="9907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710000" y="2971800"/>
            <a:ext cx="5755680" cy="2918520"/>
            <a:chOff x="1710000" y="2971800"/>
            <a:chExt cx="5755680" cy="2918520"/>
          </a:xfrm>
        </p:grpSpPr>
        <p:sp>
          <p:nvSpPr>
            <p:cNvPr id="186" name=""/>
            <p:cNvSpPr/>
            <p:nvPr/>
          </p:nvSpPr>
          <p:spPr>
            <a:xfrm>
              <a:off x="1710000" y="4699080"/>
              <a:ext cx="5755680" cy="11912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Взаимоотношения ученого и общества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свобода научного поиска и социальная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тветственность ученого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72000" y="2971800"/>
              <a:ext cx="0" cy="16002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Образование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219320" y="1066680"/>
            <a:ext cx="746748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ереустройство общества-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ереустройство школы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147320" y="2209680"/>
            <a:ext cx="2107080" cy="1374120"/>
            <a:chOff x="1147320" y="2209680"/>
            <a:chExt cx="2107080" cy="1374120"/>
          </a:xfrm>
        </p:grpSpPr>
        <p:pic>
          <p:nvPicPr>
            <p:cNvPr id="191" name="" descr=""/>
            <p:cNvPicPr/>
            <p:nvPr/>
          </p:nvPicPr>
          <p:blipFill>
            <a:blip r:embed="rId1"/>
            <a:stretch/>
          </p:blipFill>
          <p:spPr>
            <a:xfrm>
              <a:off x="1277640" y="2361960"/>
              <a:ext cx="577800" cy="9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2573280" y="2209680"/>
              <a:ext cx="51588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963440" y="2819160"/>
              <a:ext cx="6098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47320" y="3124080"/>
              <a:ext cx="21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ци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124080" y="2209680"/>
            <a:ext cx="4191120" cy="609480"/>
            <a:chOff x="3124080" y="2209680"/>
            <a:chExt cx="4191120" cy="609480"/>
          </a:xfrm>
        </p:grpSpPr>
        <p:sp>
          <p:nvSpPr>
            <p:cNvPr id="196" name=""/>
            <p:cNvSpPr txBox="1"/>
            <p:nvPr/>
          </p:nvSpPr>
          <p:spPr>
            <a:xfrm>
              <a:off x="4495680" y="2209680"/>
              <a:ext cx="28195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cc33"/>
                  </a:solidFill>
                  <a:latin typeface="Arial"/>
                </a:rPr>
                <a:t>стихийно(среда)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  <a:ea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124080" y="2514240"/>
              <a:ext cx="1219320" cy="3049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124080" y="2819520"/>
            <a:ext cx="4316400" cy="687240"/>
            <a:chOff x="3124080" y="2819520"/>
            <a:chExt cx="4316400" cy="687240"/>
          </a:xfrm>
        </p:grpSpPr>
        <p:sp>
          <p:nvSpPr>
            <p:cNvPr id="199" name=""/>
            <p:cNvSpPr txBox="1"/>
            <p:nvPr/>
          </p:nvSpPr>
          <p:spPr>
            <a:xfrm>
              <a:off x="4419720" y="2819520"/>
              <a:ext cx="3020760" cy="68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cc33"/>
                  </a:solidFill>
                  <a:latin typeface="Arial"/>
                </a:rPr>
                <a:t>целенаправленн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cc33"/>
                  </a:solidFill>
                  <a:latin typeface="Arial"/>
                </a:rPr>
                <a:t>(общество)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  <a:ea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24080" y="2819520"/>
              <a:ext cx="1143000" cy="30456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165320" y="3429000"/>
            <a:ext cx="3787200" cy="2114640"/>
            <a:chOff x="1165320" y="3429000"/>
            <a:chExt cx="3787200" cy="2114640"/>
          </a:xfrm>
        </p:grpSpPr>
        <p:grpSp>
          <p:nvGrpSpPr>
            <p:cNvPr id="202" name=""/>
            <p:cNvGrpSpPr/>
            <p:nvPr/>
          </p:nvGrpSpPr>
          <p:grpSpPr>
            <a:xfrm>
              <a:off x="1165320" y="4114800"/>
              <a:ext cx="1806480" cy="1428840"/>
              <a:chOff x="1165320" y="4114800"/>
              <a:chExt cx="1806480" cy="1428840"/>
            </a:xfrm>
          </p:grpSpPr>
          <p:pic>
            <p:nvPicPr>
              <p:cNvPr id="20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371600" y="4114800"/>
                <a:ext cx="1444680" cy="11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 txBox="1"/>
              <p:nvPr/>
            </p:nvSpPr>
            <p:spPr>
              <a:xfrm>
                <a:off x="1165320" y="5181480"/>
                <a:ext cx="1806480" cy="362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800000"/>
                      </a:solidFill>
                      <a:miter/>
                    </a:ln>
                    <a:blipFill rotWithShape="0">
                      <a:blip r:embed="rId4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образование</a:t>
                </a:r>
                <a:endParaRPr b="1" lang="en-US" sz="2400" spc="1" strike="noStrike">
                  <a:ln w="9360">
                    <a:solidFill>
                      <a:srgbClr val="80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 flipH="1">
              <a:off x="2590560" y="3429000"/>
              <a:ext cx="2361960" cy="68580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895480" y="4114800"/>
            <a:ext cx="4343400" cy="838080"/>
            <a:chOff x="2895480" y="4114800"/>
            <a:chExt cx="4343400" cy="838080"/>
          </a:xfrm>
        </p:grpSpPr>
        <p:sp>
          <p:nvSpPr>
            <p:cNvPr id="207" name=""/>
            <p:cNvSpPr txBox="1"/>
            <p:nvPr/>
          </p:nvSpPr>
          <p:spPr>
            <a:xfrm>
              <a:off x="4648320" y="4114800"/>
              <a:ext cx="25905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221304"/>
                    </a:solidFill>
                    <a:miter/>
                  </a:ln>
                  <a:gradFill rotWithShape="0">
                    <a:gsLst>
                      <a:gs pos="0">
                        <a:srgbClr val="221304"/>
                      </a:gs>
                      <a:gs pos="50000">
                        <a:srgbClr val="ffffff"/>
                      </a:gs>
                      <a:gs pos="100000">
                        <a:srgbClr val="221304"/>
                      </a:gs>
                    </a:gsLst>
                    <a:lin ang="5400000"/>
                  </a:gradFill>
                  <a:latin typeface="Arial"/>
                </a:rPr>
                <a:t>неоднородно</a:t>
              </a:r>
              <a:endParaRPr b="1" lang="en-US" sz="2400" spc="1" strike="noStrike">
                <a:ln w="2844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221304"/>
                    </a:gs>
                    <a:gs pos="50000">
                      <a:srgbClr val="ffffff"/>
                    </a:gs>
                    <a:gs pos="100000">
                      <a:srgbClr val="221304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2895480" y="4495680"/>
              <a:ext cx="1600200" cy="457200"/>
            </a:xfrm>
            <a:prstGeom prst="line">
              <a:avLst/>
            </a:prstGeom>
            <a:ln w="76320">
              <a:solidFill>
                <a:srgbClr val="22130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590920" y="4495680"/>
            <a:ext cx="3200040" cy="1828800"/>
            <a:chOff x="2590920" y="4495680"/>
            <a:chExt cx="3200040" cy="1828800"/>
          </a:xfrm>
        </p:grpSpPr>
        <p:sp>
          <p:nvSpPr>
            <p:cNvPr id="210" name=""/>
            <p:cNvSpPr txBox="1"/>
            <p:nvPr/>
          </p:nvSpPr>
          <p:spPr>
            <a:xfrm>
              <a:off x="2590920" y="5867280"/>
              <a:ext cx="129528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класс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3733560" y="4495680"/>
              <a:ext cx="2057400" cy="12956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267080" y="4495680"/>
            <a:ext cx="1600200" cy="1981440"/>
            <a:chOff x="4267080" y="4495680"/>
            <a:chExt cx="1600200" cy="1981440"/>
          </a:xfrm>
        </p:grpSpPr>
        <p:sp>
          <p:nvSpPr>
            <p:cNvPr id="213" name=""/>
            <p:cNvSpPr txBox="1"/>
            <p:nvPr/>
          </p:nvSpPr>
          <p:spPr>
            <a:xfrm>
              <a:off x="4267080" y="5867280"/>
              <a:ext cx="160020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нации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5257800" y="4495680"/>
              <a:ext cx="533520" cy="12193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791320" y="4495680"/>
            <a:ext cx="3047760" cy="2133720"/>
            <a:chOff x="5791320" y="4495680"/>
            <a:chExt cx="3047760" cy="2133720"/>
          </a:xfrm>
        </p:grpSpPr>
        <p:sp>
          <p:nvSpPr>
            <p:cNvPr id="216" name=""/>
            <p:cNvSpPr txBox="1"/>
            <p:nvPr/>
          </p:nvSpPr>
          <p:spPr>
            <a:xfrm>
              <a:off x="6019920" y="5715000"/>
              <a:ext cx="281916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социальны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групп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91320" y="4495680"/>
              <a:ext cx="1066680" cy="114300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Образование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298880" y="1219320"/>
            <a:ext cx="1913400" cy="1832040"/>
            <a:chOff x="1298880" y="1219320"/>
            <a:chExt cx="1913400" cy="1832040"/>
          </a:xfrm>
        </p:grpSpPr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1682640" y="1219320"/>
              <a:ext cx="106056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298880" y="2225880"/>
              <a:ext cx="1913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держа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разова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216240" y="1219320"/>
            <a:ext cx="4937040" cy="1600200"/>
            <a:chOff x="3216240" y="1219320"/>
            <a:chExt cx="4937040" cy="1600200"/>
          </a:xfrm>
        </p:grpSpPr>
        <p:sp>
          <p:nvSpPr>
            <p:cNvPr id="223" name=""/>
            <p:cNvSpPr txBox="1"/>
            <p:nvPr/>
          </p:nvSpPr>
          <p:spPr>
            <a:xfrm>
              <a:off x="4282920" y="1219320"/>
              <a:ext cx="3870360" cy="1600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государственн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регулирова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16240" y="172404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ffcc00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 txBox="1"/>
          <p:nvPr/>
        </p:nvSpPr>
        <p:spPr>
          <a:xfrm>
            <a:off x="4197240" y="2895480"/>
            <a:ext cx="746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0800000"/>
                </a:gradFill>
                <a:latin typeface="Arial"/>
              </a:rPr>
              <a:t>Но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72360" y="3581280"/>
            <a:ext cx="6084720" cy="4597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личные типы школ, в т.ч. религиоз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378160" y="4267080"/>
            <a:ext cx="5165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864"/>
                </a:solidFill>
                <a:latin typeface="Arial"/>
              </a:rPr>
              <a:t>основные напрвлени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86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864"/>
                </a:solidFill>
                <a:latin typeface="Arial"/>
              </a:rPr>
              <a:t>реформы образован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864"/>
              </a:solidFill>
              <a:latin typeface="Arial"/>
              <a:ea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066680" y="541008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гуманизация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971800" y="6172200"/>
            <a:ext cx="3581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гуманитаризация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105520" y="5410080"/>
            <a:ext cx="3733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нтернационализация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Образование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990720" y="1174680"/>
            <a:ext cx="8035920" cy="1191240"/>
            <a:chOff x="990720" y="1174680"/>
            <a:chExt cx="8035920" cy="1191240"/>
          </a:xfrm>
        </p:grpSpPr>
        <p:sp>
          <p:nvSpPr>
            <p:cNvPr id="233" name=""/>
            <p:cNvSpPr txBox="1"/>
            <p:nvPr/>
          </p:nvSpPr>
          <p:spPr>
            <a:xfrm>
              <a:off x="990720" y="1600200"/>
              <a:ext cx="29718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гуманизация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72120" y="1174680"/>
              <a:ext cx="4754520" cy="119124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нимание к интересам человек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ые возможности для  раз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ичных социальных групп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914400" y="3262320"/>
            <a:ext cx="8044200" cy="1191240"/>
            <a:chOff x="914400" y="3262320"/>
            <a:chExt cx="8044200" cy="1191240"/>
          </a:xfrm>
        </p:grpSpPr>
        <p:sp>
          <p:nvSpPr>
            <p:cNvPr id="236" name=""/>
            <p:cNvSpPr txBox="1"/>
            <p:nvPr/>
          </p:nvSpPr>
          <p:spPr>
            <a:xfrm>
              <a:off x="914400" y="3678120"/>
              <a:ext cx="30481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гуманитаризация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09560" y="3262320"/>
              <a:ext cx="4649040" cy="119124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силение внимание общества к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зучению общественных нау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(экономика,социология и т.д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2120" y="5349960"/>
            <a:ext cx="8128440" cy="825480"/>
            <a:chOff x="762120" y="5349960"/>
            <a:chExt cx="8128440" cy="825480"/>
          </a:xfrm>
        </p:grpSpPr>
        <p:sp>
          <p:nvSpPr>
            <p:cNvPr id="239" name=""/>
            <p:cNvSpPr txBox="1"/>
            <p:nvPr/>
          </p:nvSpPr>
          <p:spPr>
            <a:xfrm>
              <a:off x="762120" y="5639040"/>
              <a:ext cx="3276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интернационализация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22160" y="5349960"/>
              <a:ext cx="456840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здание единой системы обра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ования для разных стран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Чернов Алексей</cp:lastModifiedBy>
  <dcterms:modified xsi:type="dcterms:W3CDTF">2002-04-25T17:29:19Z</dcterms:modified>
  <cp:revision>89</cp:revision>
  <dc:subject/>
  <dc:title>ОСОБЕННОСТИ ДРЕВНИХ ЦИВИЛИЗАЦИЙ.</dc:title>
</cp:coreProperties>
</file>