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21E7-B5BF-4594-90A6-6105FE2ADC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25F-D3DF-48EE-9AB0-9BA77F605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2DF-3110-41FE-A8D6-1DD5737E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7F4-A108-4DE1-94FF-E1F7C2A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F21-F360-4DD5-BFA9-807F5E0D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EDA-E191-483E-80B4-024189C7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C34-AD32-4998-8A7E-80ED1B1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6E0-2DEF-4876-8CE3-629F127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39A-BF8C-4677-8198-BA65A5C5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112-0D20-43B9-9121-0EF9187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9CF-5D51-423B-A5BE-05163927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D75-0969-4C0F-9962-882541FE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7DA-66DC-4131-B925-56F0352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AC4-69E8-46CD-8936-22E78500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DDCD-DDF1-4B08-A6FE-B797E8491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e7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611c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2-08-06T16:01:00Z</dcterms:modified>
  <cp:revision>18</cp:revision>
  <dc:subject>Африка</dc:subject>
  <dc:title>Национальные парки Африки</dc:title>
</cp:coreProperties>
</file>