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40.png" ContentType="image/png"/>
  <Override PartName="/ppt/media/image50.jpeg" ContentType="image/jpeg"/>
  <Override PartName="/ppt/media/image52.png" ContentType="image/png"/>
  <Override PartName="/ppt/media/image5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4E4CA-8968-41C0-9E97-279745E7BD1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688CD-FA39-43F8-9AB0-0B8334E919E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2F31-F67E-4F08-BE85-401BF90B4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9D09-92E4-4496-8379-FDFE89EB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6144-F78E-4765-80ED-521B69D9C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D8A3-D03B-4BC3-A367-A3FF1641C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854B-E038-4D1E-BDEA-975C1CD6F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E939-0CE8-4666-BC13-3ECCDF301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34CC-32EB-4883-A9D5-3E7063DF6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FE1C-5E27-4CF0-B423-BF8D56F87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29FA-99D8-472C-990C-EDC816B4B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F368-E688-4EBF-B2D9-2204CF8A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DA22-C7F8-466B-BE26-6ADE4837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3DEF-726A-4B1A-8B4C-317A42EE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b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2284F-D4FF-4222-82EF-22ADFC5F07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http://prezentacii.com/" TargetMode="External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4857840" y="1500120"/>
            <a:ext cx="3643200" cy="2421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674280" y="642960"/>
            <a:ext cx="724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          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Национальные  парки Афр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6" descr=""/>
          <p:cNvPicPr/>
          <p:nvPr/>
        </p:nvPicPr>
        <p:blipFill>
          <a:blip r:embed="rId2"/>
          <a:stretch/>
        </p:blipFill>
        <p:spPr>
          <a:xfrm>
            <a:off x="0" y="1571760"/>
            <a:ext cx="3214800" cy="2346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3"/>
          <a:stretch/>
        </p:blipFill>
        <p:spPr>
          <a:xfrm>
            <a:off x="2286000" y="4071960"/>
            <a:ext cx="3703680" cy="257184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5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bfbfbf"/>
          </a:solidFill>
          <a:ln w="38160">
            <a:solidFill>
              <a:srgbClr val="ffe7d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d2611c"/>
                </a:solidFill>
                <a:uFillTx/>
                <a:latin typeface="Times New Roman"/>
                <a:hlinkClick r:id="rId4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4834080" y="3625920"/>
            <a:ext cx="4309920" cy="3232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1" descr=""/>
          <p:cNvPicPr/>
          <p:nvPr/>
        </p:nvPicPr>
        <p:blipFill>
          <a:blip r:embed="rId3"/>
          <a:stretch/>
        </p:blipFill>
        <p:spPr>
          <a:xfrm>
            <a:off x="0" y="3643200"/>
            <a:ext cx="4786200" cy="3214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3" descr=""/>
          <p:cNvPicPr/>
          <p:nvPr/>
        </p:nvPicPr>
        <p:blipFill>
          <a:blip r:embed="rId4"/>
          <a:stretch/>
        </p:blipFill>
        <p:spPr>
          <a:xfrm>
            <a:off x="4786200" y="0"/>
            <a:ext cx="435780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2786040" y="214200"/>
            <a:ext cx="62150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еренгети  находится на севере Танзании у границы с Кенией, в 335 км от Аруши. Серенгети - самый известный национальный парк в Танзании, а по некоторым оценкам лучший в мире. Его название происходит от масайского слова “siringet”, означающего “вытянутая площадка”. Для основания этого парка в 1951 году было выделено 14 763 кв. км и с тех пор Серенгети является вторым по величине парком в стране после парка Селоус. Серенгети находится на высоте от 920 до 1850 м над уровнем моря и его ландшафт меняется от длинной или короткой травы на юге до саванн в центре и холмов, покрытых лесами на севере. А настоящие леса находятся в западной части пар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8" descr=""/>
          <p:cNvPicPr/>
          <p:nvPr/>
        </p:nvPicPr>
        <p:blipFill>
          <a:blip r:embed="rId1"/>
          <a:stretch/>
        </p:blipFill>
        <p:spPr>
          <a:xfrm>
            <a:off x="0" y="0"/>
            <a:ext cx="2754360" cy="2143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4" descr=""/>
          <p:cNvPicPr/>
          <p:nvPr/>
        </p:nvPicPr>
        <p:blipFill>
          <a:blip r:embed="rId2"/>
          <a:stretch/>
        </p:blipFill>
        <p:spPr>
          <a:xfrm>
            <a:off x="0" y="3643200"/>
            <a:ext cx="2786040" cy="3214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5" descr=""/>
          <p:cNvPicPr/>
          <p:nvPr/>
        </p:nvPicPr>
        <p:blipFill>
          <a:blip r:embed="rId3"/>
          <a:stretch/>
        </p:blipFill>
        <p:spPr>
          <a:xfrm>
            <a:off x="5143680" y="4572000"/>
            <a:ext cx="40003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357800" cy="3632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"/>
          <p:cNvPicPr/>
          <p:nvPr/>
        </p:nvPicPr>
        <p:blipFill>
          <a:blip r:embed="rId2"/>
          <a:stretch/>
        </p:blipFill>
        <p:spPr>
          <a:xfrm>
            <a:off x="4429080" y="3643200"/>
            <a:ext cx="4714920" cy="3214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3"/>
          <a:stretch/>
        </p:blipFill>
        <p:spPr>
          <a:xfrm>
            <a:off x="0" y="3643200"/>
            <a:ext cx="4429080" cy="3214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6" descr=""/>
          <p:cNvPicPr/>
          <p:nvPr/>
        </p:nvPicPr>
        <p:blipFill>
          <a:blip r:embed="rId4"/>
          <a:stretch/>
        </p:blipFill>
        <p:spPr>
          <a:xfrm>
            <a:off x="4357800" y="0"/>
            <a:ext cx="478620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1"/>
          <p:cNvSpPr/>
          <p:nvPr/>
        </p:nvSpPr>
        <p:spPr>
          <a:xfrm>
            <a:off x="0" y="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орской национальный парк Ватаму раскинулся по побережью Индийского океана в 120 км от Момба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десь, в прибрежных водах, у самой кромки роскошных пляжей, раскинулось удивительное царство коралловых рифов и мангровых лесов, населенных богатейшей флор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ногие считают, что здесь лучшие места для дайвинга и рыбной ловли, а также самая богатая ихтиофауна на побереж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ядом находится национальный парк Шимба-Хиллс - единственное место в Кении, где водятся антилопы-ро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Хорошими местами для погружений также считаются острова Фунзи, Васини и Пемб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0" y="2857680"/>
            <a:ext cx="4191120" cy="4000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2"/>
          <a:stretch/>
        </p:blipFill>
        <p:spPr>
          <a:xfrm>
            <a:off x="4214880" y="5286240"/>
            <a:ext cx="4929120" cy="1571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3"/>
          <a:stretch/>
        </p:blipFill>
        <p:spPr>
          <a:xfrm>
            <a:off x="4214880" y="2857680"/>
            <a:ext cx="492912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885816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7" descr=""/>
          <p:cNvPicPr/>
          <p:nvPr/>
        </p:nvPicPr>
        <p:blipFill>
          <a:blip r:embed="rId1"/>
          <a:stretch/>
        </p:blipFill>
        <p:spPr>
          <a:xfrm>
            <a:off x="2428920" y="3645000"/>
            <a:ext cx="4286160" cy="3213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4629240" cy="3500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"/>
          <p:cNvPicPr/>
          <p:nvPr/>
        </p:nvPicPr>
        <p:blipFill>
          <a:blip r:embed="rId3"/>
          <a:stretch/>
        </p:blipFill>
        <p:spPr>
          <a:xfrm>
            <a:off x="4643280" y="0"/>
            <a:ext cx="45007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4929120" y="0"/>
            <a:ext cx="4214880" cy="3000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"/>
          <p:cNvPicPr/>
          <p:nvPr/>
        </p:nvPicPr>
        <p:blipFill>
          <a:blip r:embed="rId2"/>
          <a:stretch/>
        </p:blipFill>
        <p:spPr>
          <a:xfrm>
            <a:off x="2786040" y="4362480"/>
            <a:ext cx="3929040" cy="2495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3"/>
          <a:stretch/>
        </p:blipFill>
        <p:spPr>
          <a:xfrm>
            <a:off x="6786720" y="3643200"/>
            <a:ext cx="2357280" cy="3214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"/>
          <p:cNvPicPr/>
          <p:nvPr/>
        </p:nvPicPr>
        <p:blipFill>
          <a:blip r:embed="rId4"/>
          <a:stretch/>
        </p:blipFill>
        <p:spPr>
          <a:xfrm>
            <a:off x="0" y="0"/>
            <a:ext cx="4500720" cy="2987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5"/>
          <a:stretch/>
        </p:blipFill>
        <p:spPr>
          <a:xfrm>
            <a:off x="0" y="3573360"/>
            <a:ext cx="292896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7" descr=""/>
          <p:cNvPicPr/>
          <p:nvPr/>
        </p:nvPicPr>
        <p:blipFill>
          <a:blip r:embed="rId1"/>
          <a:stretch/>
        </p:blipFill>
        <p:spPr>
          <a:xfrm>
            <a:off x="4340160" y="3643200"/>
            <a:ext cx="4803840" cy="3214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"/>
          <p:cNvPicPr/>
          <p:nvPr/>
        </p:nvPicPr>
        <p:blipFill>
          <a:blip r:embed="rId2"/>
          <a:stretch/>
        </p:blipFill>
        <p:spPr>
          <a:xfrm>
            <a:off x="0" y="3643200"/>
            <a:ext cx="4214880" cy="3214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"/>
          <p:cNvPicPr/>
          <p:nvPr/>
        </p:nvPicPr>
        <p:blipFill>
          <a:blip r:embed="rId3"/>
          <a:stretch/>
        </p:blipFill>
        <p:spPr>
          <a:xfrm>
            <a:off x="1500120" y="214200"/>
            <a:ext cx="557208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2"/>
          <p:cNvSpPr/>
          <p:nvPr/>
        </p:nvSpPr>
        <p:spPr>
          <a:xfrm>
            <a:off x="0" y="0"/>
            <a:ext cx="9144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лавная достопримечательность Кении - около 59 национальных парков и заповедников, занимающих в общей сложности около 7,5% территории стр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акие парки, как Цаво, Сибилон, Маунт-Кения, Масаи-Мара, Абердаре, гора Элгон, Самбуру, Амбосели и другие, широко известны далеко за пределами стр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1"/>
          <a:stretch/>
        </p:blipFill>
        <p:spPr>
          <a:xfrm>
            <a:off x="285840" y="2643120"/>
            <a:ext cx="3643200" cy="2986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7" descr=""/>
          <p:cNvPicPr/>
          <p:nvPr/>
        </p:nvPicPr>
        <p:blipFill>
          <a:blip r:embed="rId2"/>
          <a:stretch/>
        </p:blipFill>
        <p:spPr>
          <a:xfrm>
            <a:off x="5143680" y="2643120"/>
            <a:ext cx="378612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2"/>
          <p:cNvSpPr/>
          <p:nvPr/>
        </p:nvSpPr>
        <p:spPr>
          <a:xfrm>
            <a:off x="0" y="0"/>
            <a:ext cx="63579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циональный парк Масаи-Мара (площадь 320 км²) лежит в 275 км к западу от Найроби, на высоте 1 650 м над уровнем мор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Его западная часть граничит с Серенгети - Национальным парком Танзании, поэтому в период с июля по сентябрь здесь можно увидеть передвижение огромных масс животных, которые мигрируют из Серенгети в поисках пищ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десь, в саванне и густых зарослях акации вдоль реки Мара, водятся почти все животные, населяющие Восточную Африку, в том числе популяция уникальных черных львов, а сама река Мара буквально кишит крокодилами и гиппопотам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4143240"/>
            <a:ext cx="3929040" cy="2714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6429240" y="0"/>
            <a:ext cx="2714760" cy="2214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3"/>
          <a:stretch/>
        </p:blipFill>
        <p:spPr>
          <a:xfrm>
            <a:off x="5143680" y="3857760"/>
            <a:ext cx="40003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2"/>
          <p:cNvSpPr/>
          <p:nvPr/>
        </p:nvSpPr>
        <p:spPr>
          <a:xfrm>
            <a:off x="0" y="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циональный заповедник Амбосели (площадь 392 км²) расположен у подножия горы Килиманджаро, самой высокой вершины Афр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мбосели создан для охраны представителей "великолепной пятерки" животных Африки - леопарда, буйвола, носорога, слона и ль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то именно то место, где каждый может получить наиболее классическое представление об Афр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-22320" y="4286160"/>
            <a:ext cx="3409920" cy="2571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2928960" y="3071880"/>
            <a:ext cx="3238560" cy="2428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3"/>
          <a:stretch/>
        </p:blipFill>
        <p:spPr>
          <a:xfrm>
            <a:off x="5619600" y="4214880"/>
            <a:ext cx="352440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2"/>
          <p:cNvSpPr/>
          <p:nvPr/>
        </p:nvSpPr>
        <p:spPr>
          <a:xfrm>
            <a:off x="0" y="0"/>
            <a:ext cx="9144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циональный парк Маунт-Кения лежит в 150 км от Найроб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ористый рельеф парка позволяет совместить наблюдение за животными, причем в большинстве своем - редких горных подвидов, со скалолазанием и треккинг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иже альпийских лугов, в сухих разреженных лесах, можно встретить слонов, черных носорогов, капских буйволов и антило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ут же расположены знаменитый клуб "Сафари" и комфортабельные гостиничные номера, установленные на сваях или верхушках деревь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4143240" y="3106800"/>
            <a:ext cx="5000760" cy="3751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2"/>
          <a:stretch/>
        </p:blipFill>
        <p:spPr>
          <a:xfrm>
            <a:off x="0" y="3143160"/>
            <a:ext cx="409572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4857840" y="3571920"/>
            <a:ext cx="4286160" cy="3286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4476600" cy="3571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"/>
          <p:cNvPicPr/>
          <p:nvPr/>
        </p:nvPicPr>
        <p:blipFill>
          <a:blip r:embed="rId3"/>
          <a:stretch/>
        </p:blipFill>
        <p:spPr>
          <a:xfrm>
            <a:off x="0" y="3578400"/>
            <a:ext cx="4857840" cy="3279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9" descr=""/>
          <p:cNvPicPr/>
          <p:nvPr/>
        </p:nvPicPr>
        <p:blipFill>
          <a:blip r:embed="rId4"/>
          <a:stretch/>
        </p:blipFill>
        <p:spPr>
          <a:xfrm>
            <a:off x="4422600" y="0"/>
            <a:ext cx="47214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2"/>
          <p:cNvSpPr/>
          <p:nvPr/>
        </p:nvSpPr>
        <p:spPr>
          <a:xfrm>
            <a:off x="0" y="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циональный парк Самбуру охраняет представителей пустынной флоры и фау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есной заповедник Какамега представляет собой массив девственного тропического леса в самом сердце сельскохозяйственного района в Западной К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десь сохранились реликтовые породы деревьев, которые не встречаются больше нигде в стране, а также множество диких животных, в том числе одна из самых больших в стране популяция прима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0" y="3643200"/>
            <a:ext cx="4286160" cy="3214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4286160" y="3618000"/>
            <a:ext cx="48578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929120" cy="369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4762440" y="3571920"/>
            <a:ext cx="4381560" cy="3286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4" descr=""/>
          <p:cNvPicPr/>
          <p:nvPr/>
        </p:nvPicPr>
        <p:blipFill>
          <a:blip r:embed="rId3"/>
          <a:stretch/>
        </p:blipFill>
        <p:spPr>
          <a:xfrm>
            <a:off x="5500800" y="500040"/>
            <a:ext cx="3000240" cy="2479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8" descr=""/>
          <p:cNvPicPr/>
          <p:nvPr/>
        </p:nvPicPr>
        <p:blipFill>
          <a:blip r:embed="rId4"/>
          <a:stretch/>
        </p:blipFill>
        <p:spPr>
          <a:xfrm>
            <a:off x="357120" y="4214880"/>
            <a:ext cx="3429000" cy="23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2"/>
          <p:cNvSpPr/>
          <p:nvPr/>
        </p:nvSpPr>
        <p:spPr>
          <a:xfrm>
            <a:off x="0" y="0"/>
            <a:ext cx="6929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циональный парк Абердарее - одно из самых влажных мест стр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десь, на склонах одноименной горной цепи и на плато Кинангоп, раскинулись дождевые леса и альпийские пустоши, проживают десятки эндемичных видов животных и высятся живописные скалы, с которых низвергаются кристально-чистые водопа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4429080" y="3214800"/>
            <a:ext cx="4714920" cy="3643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0" y="3235320"/>
            <a:ext cx="4286160" cy="36226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"/>
          <p:cNvPicPr/>
          <p:nvPr/>
        </p:nvPicPr>
        <p:blipFill>
          <a:blip r:embed="rId3"/>
          <a:stretch/>
        </p:blipFill>
        <p:spPr>
          <a:xfrm>
            <a:off x="6572160" y="0"/>
            <a:ext cx="257184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14:28:48Z</dcterms:created>
  <dc:creator>Александра</dc:creator>
  <dc:description/>
  <dc:language>en-US</dc:language>
  <cp:lastModifiedBy>Admin</cp:lastModifiedBy>
  <dcterms:modified xsi:type="dcterms:W3CDTF">2012-08-06T16:01:00Z</dcterms:modified>
  <cp:revision>18</cp:revision>
  <dc:subject>Африка</dc:subject>
  <dc:title>Национальные парки Африки</dc:title>
</cp:coreProperties>
</file>