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40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DAEA-32D5-4D41-B5DC-8D04DFC480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C8D1-7962-4951-9A37-5DF8286F98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E6E-0D77-4A04-8781-7E74F74D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DA08-CE56-4776-846D-9B991089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F1AE-C56D-4AFB-86D9-C7347C0A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4D5-8C1E-47C2-B02E-08BDF37A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14F-5264-4624-9724-5037090E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A4A4-AAD9-4DD0-8A94-F4388233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F59D-5FAD-4DA7-B4CC-27EADB02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F62-7A30-46FF-9445-6E0DCE09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C7B-12EA-4439-9490-8BF4346C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16E-06C9-4158-9B83-11A4FB45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EF5-E36C-4B66-86D0-8B645C8D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FCF-109F-4A18-AF20-DF7AF07D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E9DA-3D7B-488D-8CC8-979E6BC7A1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prezentacii.com/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857840" y="1500120"/>
            <a:ext cx="3643200" cy="2421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74280" y="64296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ациональные  парки Аф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"/>
          <p:cNvPicPr/>
          <p:nvPr/>
        </p:nvPicPr>
        <p:blipFill>
          <a:blip r:embed="rId2"/>
          <a:stretch/>
        </p:blipFill>
        <p:spPr>
          <a:xfrm>
            <a:off x="0" y="1571760"/>
            <a:ext cx="3214800" cy="234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2286000" y="4071960"/>
            <a:ext cx="3703680" cy="2571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fe7d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d2611c"/>
                </a:solidFill>
                <a:uFillTx/>
                <a:latin typeface="Times New Roman"/>
                <a:hlinkClick r:id="rId4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4834080" y="3625920"/>
            <a:ext cx="4309920" cy="323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1" descr=""/>
          <p:cNvPicPr/>
          <p:nvPr/>
        </p:nvPicPr>
        <p:blipFill>
          <a:blip r:embed="rId3"/>
          <a:stretch/>
        </p:blipFill>
        <p:spPr>
          <a:xfrm>
            <a:off x="0" y="3643200"/>
            <a:ext cx="4786200" cy="3214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4"/>
          <a:stretch/>
        </p:blipFill>
        <p:spPr>
          <a:xfrm>
            <a:off x="4786200" y="0"/>
            <a:ext cx="43578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786040" y="214200"/>
            <a:ext cx="6215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ренгети  находится на севере Танзании у границы с Кенией, в 335 км от Аруши. Серенгети - самый известный национальный парк в Танзании, а по некоторым оценкам лучший в мире. Его название происходит от масайского слова “siringet”, означающего “вытянутая площадка”. Для основания этого парка в 1951 году было выделено 14 763 кв. км и с тех пор Серенгети является вторым по величине парком в стране после парка Селоус. Серенгети находится на высоте от 920 до 1850 м над уровнем моря и его ландшафт меняется от длинной или короткой травы на юге до саванн в центре и холмов, покрытых лесами на севере. А настоящие леса находятся в западной части пар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2754360" cy="2143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2"/>
          <a:stretch/>
        </p:blipFill>
        <p:spPr>
          <a:xfrm>
            <a:off x="0" y="3643200"/>
            <a:ext cx="2786040" cy="3214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"/>
          <p:cNvPicPr/>
          <p:nvPr/>
        </p:nvPicPr>
        <p:blipFill>
          <a:blip r:embed="rId3"/>
          <a:stretch/>
        </p:blipFill>
        <p:spPr>
          <a:xfrm>
            <a:off x="5143680" y="4572000"/>
            <a:ext cx="4000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57800" cy="3632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4429080" y="3643200"/>
            <a:ext cx="4714920" cy="3214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0" y="3643200"/>
            <a:ext cx="4429080" cy="3214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6" descr=""/>
          <p:cNvPicPr/>
          <p:nvPr/>
        </p:nvPicPr>
        <p:blipFill>
          <a:blip r:embed="rId4"/>
          <a:stretch/>
        </p:blipFill>
        <p:spPr>
          <a:xfrm>
            <a:off x="4357800" y="0"/>
            <a:ext cx="4786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рской национальный парк Ватаму раскинулся по побережью Индийского океана в 120 км от Момб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десь, в прибрежных водах, у самой кромки роскошных пляжей, раскинулось удивительное царство коралловых рифов и мангровых лесов, населенных богатейшей фло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ногие считают, что здесь лучшие места для дайвинга и рыбной ловли, а также самая богатая ихтиофауна на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ядом находится национальный парк Шимба-Хиллс - единственное место в Кении, где водятся антилопы-ро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орошими местами для погружений также считаются острова Фунзи, Васини и Пем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4191120" cy="4000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4214880" y="5286240"/>
            <a:ext cx="4929120" cy="1571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4214880" y="2857680"/>
            <a:ext cx="49291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8581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7" descr=""/>
          <p:cNvPicPr/>
          <p:nvPr/>
        </p:nvPicPr>
        <p:blipFill>
          <a:blip r:embed="rId1"/>
          <a:stretch/>
        </p:blipFill>
        <p:spPr>
          <a:xfrm>
            <a:off x="2428920" y="3645000"/>
            <a:ext cx="4286160" cy="321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4629240" cy="350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929120" y="0"/>
            <a:ext cx="4214880" cy="3000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2786040" y="4362480"/>
            <a:ext cx="3929040" cy="2495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6786720" y="3643200"/>
            <a:ext cx="2357280" cy="32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4500720" cy="2987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5"/>
          <a:stretch/>
        </p:blipFill>
        <p:spPr>
          <a:xfrm>
            <a:off x="0" y="3573360"/>
            <a:ext cx="29289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4340160" y="3643200"/>
            <a:ext cx="4803840" cy="32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0" y="3643200"/>
            <a:ext cx="4214880" cy="3214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1500120" y="214200"/>
            <a:ext cx="55720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"/>
          <p:cNvSpPr/>
          <p:nvPr/>
        </p:nvSpPr>
        <p:spPr>
          <a:xfrm>
            <a:off x="0" y="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лавная достопримечательность Кении - около 59 национальных парков и заповедников, занимающих в общей сложности около 7,5% территории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кие парки, как Цаво, Сибилон, Маунт-Кения, Масаи-Мара, Абердаре, гора Элгон, Самбуру, Амбосели и другие, широко известны далеко за пределами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1"/>
          <a:stretch/>
        </p:blipFill>
        <p:spPr>
          <a:xfrm>
            <a:off x="285840" y="2643120"/>
            <a:ext cx="3643200" cy="2986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"/>
          <p:cNvPicPr/>
          <p:nvPr/>
        </p:nvPicPr>
        <p:blipFill>
          <a:blip r:embed="rId2"/>
          <a:stretch/>
        </p:blipFill>
        <p:spPr>
          <a:xfrm>
            <a:off x="5143680" y="2643120"/>
            <a:ext cx="37861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0" y="0"/>
            <a:ext cx="6357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циональный парк Масаи-Мара (площадь 320 км²) лежит в 275 км к западу от Найроби, на высоте 1 650 м над уровнем мо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го западная часть граничит с Серенгети - Национальным парком Танзании, поэтому в период с июля по сентябрь здесь можно увидеть передвижение огромных масс животных, которые мигрируют из Серенгети в поисках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десь, в саванне и густых зарослях акации вдоль реки Мара, водятся почти все животные, населяющие Восточную Африку, в том числе популяция уникальных черных львов, а сама река Мара буквально кишит крокодилами и гиппопота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4143240"/>
            <a:ext cx="3929040" cy="271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6429240" y="0"/>
            <a:ext cx="2714760" cy="221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5143680" y="385776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2"/>
          <p:cNvSpPr/>
          <p:nvPr/>
        </p:nvSpPr>
        <p:spPr>
          <a:xfrm>
            <a:off x="0" y="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циональный заповедник Амбосели (площадь 392 км²) расположен у подножия горы Килиманджаро, самой высокой вершины Аф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мбосели создан для охраны представителей "великолепной пятерки" животных Африки - леопарда, буйвола, носорога, слона и ль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именно то место, где каждый может получить наиболее классическое представление об Афр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22320" y="4286160"/>
            <a:ext cx="3409920" cy="2571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928960" y="307188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5619600" y="4214880"/>
            <a:ext cx="3524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0" y="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циональный парк Маунт-Кения лежит в 150 км от Найро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ристый рельеф парка позволяет совместить наблюдение за животными, причем в большинстве своем - редких горных подвидов, со скалолазанием и треккин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иже альпийских лугов, в сухих разреженных лесах, можно встретить слонов, черных носорогов, капских буйволов и антил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ут же расположены знаменитый клуб "Сафари" и комфортабельные гостиничные номера, установленные на сваях или верхушках деревь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143240" y="3106800"/>
            <a:ext cx="5000760" cy="3751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0" y="3143160"/>
            <a:ext cx="40957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857840" y="3571920"/>
            <a:ext cx="4286160" cy="3286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476600" cy="3571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0" y="3578400"/>
            <a:ext cx="4857840" cy="32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9" descr=""/>
          <p:cNvPicPr/>
          <p:nvPr/>
        </p:nvPicPr>
        <p:blipFill>
          <a:blip r:embed="rId4"/>
          <a:stretch/>
        </p:blipFill>
        <p:spPr>
          <a:xfrm>
            <a:off x="4422600" y="0"/>
            <a:ext cx="4721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циональный парк Самбуру охраняет представителей пустынной флоры и фау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сной заповедник Какамега представляет собой массив девственного тропического леса в самом сердце сельскохозяйственного района в Западной К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есь сохранились реликтовые породы деревьев, которые не встречаются больше нигде в стране, а также множество диких животных, в том числе одна из самых больших в стране популяция прим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364320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4286160" y="3618000"/>
            <a:ext cx="48578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929120" cy="369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762440" y="35719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4" descr=""/>
          <p:cNvPicPr/>
          <p:nvPr/>
        </p:nvPicPr>
        <p:blipFill>
          <a:blip r:embed="rId3"/>
          <a:stretch/>
        </p:blipFill>
        <p:spPr>
          <a:xfrm>
            <a:off x="5500800" y="500040"/>
            <a:ext cx="3000240" cy="2479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"/>
          <p:cNvPicPr/>
          <p:nvPr/>
        </p:nvPicPr>
        <p:blipFill>
          <a:blip r:embed="rId4"/>
          <a:stretch/>
        </p:blipFill>
        <p:spPr>
          <a:xfrm>
            <a:off x="357120" y="4214880"/>
            <a:ext cx="342900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0" y="0"/>
            <a:ext cx="6929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циональный парк Абердарее - одно из самых влажных мест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десь, на склонах одноименной горной цепи и на плато Кинангоп, раскинулись дождевые леса и альпийские пустоши, проживают десятки эндемичных видов животных и высятся живописные скалы, с которых низвергаются кристально-чистые водоп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429080" y="3214800"/>
            <a:ext cx="4714920" cy="364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0" y="3235320"/>
            <a:ext cx="4286160" cy="3622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6572160" y="0"/>
            <a:ext cx="25718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4:28:48Z</dcterms:created>
  <dc:creator>Александра</dc:creator>
  <dc:description/>
  <dc:language>en-US</dc:language>
  <cp:lastModifiedBy>Admin</cp:lastModifiedBy>
  <dcterms:modified xsi:type="dcterms:W3CDTF">2012-08-06T16:01:00Z</dcterms:modified>
  <cp:revision>18</cp:revision>
  <dc:subject>Африка</dc:subject>
  <dc:title>Национальные парки Африки</dc:title>
</cp:coreProperties>
</file>