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C99-0727-4B53-BEC2-F9F6D741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0EA-4B0D-4E14-8B82-C62CD6DB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428-16F0-4239-9699-1B9AA45F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DBF-4150-45CD-BF64-58789E9D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CD1F-3FD2-43C1-8CD7-1A59F953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B0F8-B7C7-43EC-8BC2-AFA6EDF3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82D7-0698-42F0-B289-5F161958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4F25-B4E0-4CFB-97DF-39A0E769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A7A0-A5B0-4134-813D-DE46EE86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CDE1-B61E-48E3-AB1A-B35303AF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E2AC-EF34-4B67-B8C5-EDE5AEE5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C91A-9933-41F9-AF58-2A7375C8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E070-4D6F-47B2-8EC4-D30B146A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9F72-4378-4595-96E7-6F02F17E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379D-7754-47A0-99F3-9D8179CB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FA3B-F618-4652-91A0-1144DCCB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7A31-CB72-4AB5-8B1D-F9337C43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E81-D29E-4F2F-8674-679C7D38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75A-3BAA-4F13-9B15-2003A027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DFD-CB81-4A68-B4DD-6DCEFF8A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A90A-4ECB-4E32-BF8C-73025139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2FD5-653E-4C35-8A25-D4479950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2110-CA04-4B00-8E5C-E0247EAE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F2A-9CEA-43E3-A43E-774C0C84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9DCF-FCAD-4BFA-8D59-2818C269878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7AA4-2126-45CA-BA4A-19FAA22EFC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Национальные костюмы народов Росс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мордовский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340000" y="1251000"/>
            <a:ext cx="37274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якутский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6913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Национальный русский костюм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4100400" cy="4683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55640" y="1628640"/>
            <a:ext cx="35053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татарский костюм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800600" y="1773360"/>
            <a:ext cx="4229280" cy="460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15840" y="1773360"/>
            <a:ext cx="3160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чувашский костюм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141720" cy="4724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932360" y="1197000"/>
            <a:ext cx="33336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удмуртский 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42920" y="1546200"/>
            <a:ext cx="676908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башкирский 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787560" cy="473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72000" y="1700280"/>
            <a:ext cx="33685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марийский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4122720" cy="5497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859280" y="1125360"/>
            <a:ext cx="380196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бурятский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626436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аварский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843280" y="1413000"/>
            <a:ext cx="3162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5:33:57Z</dcterms:created>
  <dc:creator>Admin</dc:creator>
  <dc:description/>
  <dc:language>en-US</dc:language>
  <cp:lastModifiedBy>Admin</cp:lastModifiedBy>
  <dcterms:modified xsi:type="dcterms:W3CDTF">2010-11-15T10:34:03Z</dcterms:modified>
  <cp:revision>3</cp:revision>
  <dc:subject/>
  <dc:title>Национальные костюмы народов России</dc:title>
</cp:coreProperties>
</file>