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A8684-17FC-4A3A-8791-0DC79E230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59FBD-C8A2-4108-B2D8-F335BC215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2AF6F-9787-4156-8CCC-69B3BE167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17434-68F1-453A-9BB8-4FF6F92F8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00F51-06CB-41DA-8B7A-720B85C25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36727-9A33-4679-BC55-F86426BDA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51C98-84D2-46D0-9951-5140802F9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85619-D865-415B-83B1-2D1F12CDB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75DBB-09DA-4538-8BE3-B865CD44A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BC734-14F4-4444-8857-6B28AF8BF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5FB46-05FD-4EE5-97C0-FF688F8B9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4195F-CB6A-4ACA-A665-3A10C002B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FD677-4691-4467-8A22-EF6425F33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3A931-D96E-4C74-9A16-5C9A1E487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C6569-350A-45B5-A275-4C33D2CFA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E2DB7-7639-47BB-94B1-1227706A5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BBD83-8214-4F80-BEFB-7ED24E211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7DCA3-2002-4FCD-9DBD-567BF94D0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15E12-32F0-44FB-8D0A-76444B9CA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B18EA-FC65-40C0-BE49-5D4B40868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90C9F-5C11-4F81-91A6-E97065488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BC7BA-1C34-4814-B07E-09E66655F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9E2BE-9C71-47E4-9A84-A8822BCE3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699C2-1178-4FC1-B75A-11E5C5270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ABD9E-75CA-40C0-9FAB-415BA2D2346A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B690D-77DE-4B60-BFEB-016D664B6F83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4360" y="105228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Национальные костюмы народов России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Национальный мордовский костюм 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2340000" y="1251000"/>
            <a:ext cx="3727440" cy="56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Национальный якутский костюм 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1042920" y="1413000"/>
            <a:ext cx="691380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Национальный русский костюм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427640" y="1628640"/>
            <a:ext cx="4100400" cy="46832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755640" y="1628640"/>
            <a:ext cx="3505320" cy="467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Национальный татарский костюм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4800600" y="1773360"/>
            <a:ext cx="4229280" cy="460836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915840" y="1773360"/>
            <a:ext cx="3160800" cy="47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Национальный чувашский костюм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826920" y="1557360"/>
            <a:ext cx="3141720" cy="47242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4932360" y="1197000"/>
            <a:ext cx="3333600" cy="51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Национальный удмуртский  костюм 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042920" y="1546200"/>
            <a:ext cx="6769080" cy="413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Национальный башкирский  костюм 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324000" y="1700280"/>
            <a:ext cx="3787560" cy="47340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4572000" y="1700280"/>
            <a:ext cx="3368520" cy="483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Национальный марийский костюм 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395280" y="1052640"/>
            <a:ext cx="4122720" cy="54975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4859280" y="1125360"/>
            <a:ext cx="3801960" cy="539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Национальный бурятский костюм 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1476360" y="1413000"/>
            <a:ext cx="6264360" cy="46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Национальный аварский костюм 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2843280" y="1413000"/>
            <a:ext cx="316224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31T15:33:57Z</dcterms:created>
  <dc:creator>Admin</dc:creator>
  <dc:description/>
  <dc:language>en-US</dc:language>
  <cp:lastModifiedBy>Admin</cp:lastModifiedBy>
  <dcterms:modified xsi:type="dcterms:W3CDTF">2010-11-15T10:34:03Z</dcterms:modified>
  <cp:revision>3</cp:revision>
  <dc:subject/>
  <dc:title>Национальные костюмы народов России</dc:title>
</cp:coreProperties>
</file>