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30D4-23C3-4B4C-9457-49D910895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CA4B-BC6B-47FF-9057-C6DD5B45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39D5-BFCF-43B3-8BD3-076020E7A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AB6F-B871-4FBB-8A9C-61CA51D49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4AEF-9CBA-4FE7-843B-D88B2E501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200E-A8DA-4CF0-869B-1EF1C924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BBF9-2DFB-4BFE-AB15-630936D7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19DF-D16B-4D80-A8F0-24E46E15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FBCF-9580-4388-83FD-8B6DFBAE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829D-A733-444D-822C-7C4CBD4B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EB90-BC10-4CE9-A122-506303B8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E338-A436-4A52-BCCA-BA7E4EBC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2811-8E1B-46B2-9283-581BC355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44A0-29D1-4CD6-B96B-D04389B2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B619-AAC1-497C-ADB8-8D608B96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459B-8DD2-4E17-9AF2-8A9FF1920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A2D9-69BE-4BFA-B758-363EA8A47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6542-1EA7-492F-AE10-361C8B17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E76C-1EAD-4AE8-BE94-09FC2D13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0213-B0A2-499C-8800-48F3D534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06EF-47E9-4DA2-9656-F739D18B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C9DF-5D72-434B-8886-CF977788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56D0-BA90-4747-B37A-F50B5144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382A-EB7A-4257-9D86-C48BBAA0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AE7F-D7EF-41CE-AE4B-51A8115184E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4691-9671-447D-A43C-873B615C0D8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Национальные костюмы народов Росси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Национальный мордовский костюм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340000" y="1251000"/>
            <a:ext cx="372744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Национальный якутский костюм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6913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Национальный русский костюм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427640" y="1628640"/>
            <a:ext cx="4100400" cy="4683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55640" y="1628640"/>
            <a:ext cx="3505320" cy="46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Национальный татарский костюм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800600" y="1773360"/>
            <a:ext cx="4229280" cy="4608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15840" y="1773360"/>
            <a:ext cx="31608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Национальный чувашский костюм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3141720" cy="4724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932360" y="1197000"/>
            <a:ext cx="33336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Национальный удмуртский  костюм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042920" y="1546200"/>
            <a:ext cx="676908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Национальный башкирский  костюм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3787560" cy="4734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572000" y="1700280"/>
            <a:ext cx="336852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Национальный марийский костюм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5280" y="1052640"/>
            <a:ext cx="4122720" cy="5497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859280" y="1125360"/>
            <a:ext cx="380196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Национальный бурятский костюм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76360" y="1413000"/>
            <a:ext cx="6264360" cy="46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Национальный аварский костюм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843280" y="1413000"/>
            <a:ext cx="31622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5:33:57Z</dcterms:created>
  <dc:creator>Admin</dc:creator>
  <dc:description/>
  <dc:language>en-US</dc:language>
  <cp:lastModifiedBy>Admin</cp:lastModifiedBy>
  <dcterms:modified xsi:type="dcterms:W3CDTF">2010-11-15T10:34:03Z</dcterms:modified>
  <cp:revision>3</cp:revision>
  <dc:subject/>
  <dc:title>Национальные костюмы народов России</dc:title>
</cp:coreProperties>
</file>