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5D3-BEF3-4411-9900-5CDD2B7B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873-5661-44AE-BE2F-55F94CF9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4537-02C8-4DF5-8CC5-143EDF37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C6C-39F2-4EF1-BC97-E1ABAA9E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871-760F-482A-8839-FD6DF339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E27-F07E-4F77-A6F9-674BD81F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EF3-B5E4-4F3E-BBEA-13A1CA76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326-345D-4A94-B05B-815D0ABD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0C3-DD76-4AC6-8A10-D2927AAC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73E-6B15-429F-9EC5-1275C7ED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313-220B-4E5C-8DD4-08E97150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376-37FD-4EEC-B35B-ADA9DEF4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7634-52A6-4621-85E8-3E574326BF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езентация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Международный день защиты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1\Pictures\220px-Stamp_of_USSR_2161.jpg"/>
          <p:cNvPicPr/>
          <p:nvPr/>
        </p:nvPicPr>
        <p:blipFill>
          <a:blip r:embed="rId1"/>
          <a:stretch/>
        </p:blipFill>
        <p:spPr>
          <a:xfrm>
            <a:off x="2643120" y="2500200"/>
            <a:ext cx="4214880" cy="28702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000680" y="585792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ень защиты де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онкурс тематических рисунков.«Международный день защиты детей» (англ. «International Children's Day») — отмечается ежегодно 1 июня. Был учрежден в ноябре 1949 года в столице Франции городе Париже решением конгресса Международной демократической федерации женщин. Впервые «Международный день защиты детей» отмечался в 1950-м г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оме этого дня детям посвящены «Всемирный день ребёнка» (20 ноября), «День защиты детей Африки» (16 июня) и «День "Белых Орхидей"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же противники абортов выбрали этот день для проведения акций в защиту права нерожденных детей на жизнь. В России [1] и других странах мира (Чехии [2], Литве [3], Белоруссии[4] и пр.) 1 июня собираются борцы за права детей, чтобы привлечь внимание широкой общественности к проблеме абортов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1\Pictures\220px-Stamp_of_USSR_2161.jpg"/>
          <p:cNvPicPr/>
          <p:nvPr/>
        </p:nvPicPr>
        <p:blipFill>
          <a:blip r:embed="rId1"/>
          <a:stretch/>
        </p:blipFill>
        <p:spPr>
          <a:xfrm>
            <a:off x="6611760" y="214200"/>
            <a:ext cx="233064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1\Pictures\ртп.jpg"/>
          <p:cNvPicPr/>
          <p:nvPr/>
        </p:nvPicPr>
        <p:blipFill>
          <a:blip r:embed="rId2"/>
          <a:stretch/>
        </p:blipFill>
        <p:spPr>
          <a:xfrm>
            <a:off x="6643800" y="31431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685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семирный день ребён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англ. Universal Children's Day, исп. Día Universal del Niño , фр. Journée mondiale de l'enfance) — праздник, который Генеральная Ассамблея ООН в 1954 году (резолюция №836 (IX) ) рекомендовала всем странам ввести начиная с 1956 года. Праздник направлен на улучшение благополучия детей, укрепление работы, проводимой ООН в интересах детей всего ми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неральная Ассамблея предложила отмечать этот праздник в той форме и в тот день, которые каждое государство признает для себя целесообраз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неральная Ассамблея в своей резолюции предположила, что всеобщее празднование Всемирного дня ребёнка послужит укреплению солидарности и сотрудничества между нац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воих официальных документах ООН говорит о праздновании Всемирного дня ребёнка 20-го ноября. В этот день в 1959 году была принята «Декларация прав ребёнка», а в 1989 году «Конвенция прав ребён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ные фирмы и организации проводят в День ребёнка благотворительные акции. Так, например, компания McDonald’s часть выручки этого дня отдаёт в детские фонды, больницы, детские дома. За прилавки ресторанов компании в этот день во всём мире встают популярные артисты, журналисты, политики, спортсме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1\Pictures\B6AKX7CASG6J83CAKZQ4IYCA4AWV1RCAGQC7OJCAY5NPP2CAP4NTQ4CANMBSU2CAOD449YCAERXO6PCAZ8TMPSCACCIF7LCAD1ZJPXCA9JH3KFCAR198S0CAUXWG1PCADK9LAHCAQEYW8SCAVE11CLCAIHTUQL.jpg"/>
          <p:cNvPicPr/>
          <p:nvPr/>
        </p:nvPicPr>
        <p:blipFill>
          <a:blip r:embed="rId1"/>
          <a:stretch/>
        </p:blipFill>
        <p:spPr>
          <a:xfrm>
            <a:off x="6786720" y="214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1\Pictures\оов.jpg"/>
          <p:cNvPicPr/>
          <p:nvPr/>
        </p:nvPicPr>
        <p:blipFill>
          <a:blip r:embed="rId2"/>
          <a:stretch/>
        </p:blipFill>
        <p:spPr>
          <a:xfrm>
            <a:off x="6786720" y="2928960"/>
            <a:ext cx="21380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360" y="0"/>
            <a:ext cx="6357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ень защиты детей Афри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 (англ. Day of the African Child) - международный день, который призван обратить внимание политиков всех стран и мировой общественности на проблемы, с которыми сталкиваются дети в африканских странах. Эта дата отмечается ежегодно, 16 июня. Название «День защиты детей Африки» довольно прочно прижилось в Российской Федерации и СНГ, хотя дословно с английского название этого праздника переводится на русский язык, как «День африканского ребён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1\Pictures\untitled.bmp"/>
          <p:cNvPicPr/>
          <p:nvPr/>
        </p:nvPicPr>
        <p:blipFill>
          <a:blip r:embed="rId1"/>
          <a:stretch/>
        </p:blipFill>
        <p:spPr>
          <a:xfrm>
            <a:off x="6286680" y="214200"/>
            <a:ext cx="26859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0"/>
            <a:ext cx="671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рия Дня защиты детей Афри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дпись на плакате: «Каждые 5 минут от недоедания умирает ещё 1 ребёнок»Впервые праздник отмечался в 1991 году. Инициатором его проведения стала Организация африканского единства. Дата для проведения этого праздника была выбрана не случайно, это своеобразная дань памяти погибшим в 1976 году. В ЮАР, в Соуэто (юго-западная окраина Йоханнесбурга) 16 июня 1976 года, около десяти тысяч чернокожих школьников и студентов прошли в колонне более длиной в полмили, протестуя против низкого качества образования и требуя право получать образование на своем родном языке. В итоге, властями проповедующими политику апартеида сотни молодых людей, по сути-детей, были расстреляны. Более ста человек погибли в результате протестов следующие две недели, и более тысячи получили ранения или были покалечены[1]. После расстрела демонстрации учащихся, протестовавших против введения обучения на языке африкаанс, началось восстание против всей системы апартеида и господства белого населения, охватившее практически все слои населения пригорода и поддержанное в других районах и городах ЮАР. Начались всеобщие политические забастовки в августе-ноябре 1976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1\Pictures\QC0TONCAD4DVKSCA0C53CJCA97ABR8CA66VV5BCAO4J06LCABSUVFJCAKA6JGBCAZI862ECAC5VS6GCA6BSGQQCAFAIP36CAEN6ZVFCAGK9NRKCA1MCPDLCA6IIAXZCAFXN9ZICAY5933LCAXTWBHZCAWK9MBB.jpg"/>
          <p:cNvPicPr/>
          <p:nvPr/>
        </p:nvPicPr>
        <p:blipFill>
          <a:blip r:embed="rId1"/>
          <a:stretch/>
        </p:blipFill>
        <p:spPr>
          <a:xfrm>
            <a:off x="6680160" y="214200"/>
            <a:ext cx="2249640" cy="150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1\Pictures\S3VCY3CA4ZTGZLCA95JRHMCAY8GVJCCAXJSDJ1CAHN7G87CAKR7WCUCA1L5BK3CAZQXIA6CAZ56Q0CCAIDJH5DCAGDV3AMCAM2U8PGCATPPUNLCAJVQ4ARCANYW1CQCADMRHDRCAMYUOSJCAWKH6VWCAKOFR47.jpg"/>
          <p:cNvPicPr/>
          <p:nvPr/>
        </p:nvPicPr>
        <p:blipFill>
          <a:blip r:embed="rId2"/>
          <a:stretch/>
        </p:blipFill>
        <p:spPr>
          <a:xfrm>
            <a:off x="6653160" y="2500200"/>
            <a:ext cx="2276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6572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ак празднуют д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ики радуются в этот день не только празднику, но и началу, самых длинных и долгожданных, летних каникул. Довольные и счастливые дети раскупают мороженое, лимонад и другие сладости, которые 1-го июня в изобилии продаются на каждом угл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, и конечно, какой же День Защиты Детей без катания на аттракционах и похода в кино?! 1 июня выстраиваются особенно длинные очереди в кассы Луна-парков и кинотеатров. В этот праздничный летний день, кажется, можно всё: и наесться мороженого до ангины, и накататься на всевозможных аттракционах «до упаду». Тем более, что впереди 3 месяца почти полной свободы без надоедливых уроков, на которые приходится «тратить» драгоценные час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1\Pictures\1-iyunya-1.jpg"/>
          <p:cNvPicPr/>
          <p:nvPr/>
        </p:nvPicPr>
        <p:blipFill>
          <a:blip r:embed="rId1"/>
          <a:stretch/>
        </p:blipFill>
        <p:spPr>
          <a:xfrm>
            <a:off x="6481800" y="214200"/>
            <a:ext cx="2503440" cy="200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1\Pictures\1-iyunya-2.jpg"/>
          <p:cNvPicPr/>
          <p:nvPr/>
        </p:nvPicPr>
        <p:blipFill>
          <a:blip r:embed="rId2"/>
          <a:stretch/>
        </p:blipFill>
        <p:spPr>
          <a:xfrm>
            <a:off x="6473880" y="2857680"/>
            <a:ext cx="2479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360" y="0"/>
            <a:ext cx="671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раз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тмечаемый 1 июня, не зря носит название День Защиты Детей. «От улыбки станет всем светлей» поётся в доброй детской песенке, и, действительно, порой одной чистой детской улыбки достаточно, чтобы растопить сердце вечно занятого и усталого взрослого. Как это не печально, в мире миллиарды детей, которые больше других нуждаются в защите и помощи. У них слишком редко бывает повод для улыбки и их детство нельзя назвать счастлив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тоит думать, что это количество составляют лишь несчастные дети африканских стран третьего мира и «горячих точек». Обделённые любовью детишки, которые нуждаются в помощи, всегда рядом с нами. И даже самая маленькая толика заботы и внимания вызовет на их лицах редкую, но искреннюю и благодарную улыб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1-му июня, как правило, приурочивают благотворительные акции в пользу детей с ограниченными возможностями, сирот, детей из малоимущих и неблагополучных семей. Подарить нуждающимся детям повод для улыбки – значит сделать мир светлее, а детей счастливее. Хотя бы один раз в год, давайте найдем время, чтобы подумать и о них. Ведь, чужих детей не быва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1\Pictures\i.jpg"/>
          <p:cNvPicPr/>
          <p:nvPr/>
        </p:nvPicPr>
        <p:blipFill>
          <a:blip r:embed="rId1"/>
          <a:stretch/>
        </p:blipFill>
        <p:spPr>
          <a:xfrm>
            <a:off x="6680160" y="214200"/>
            <a:ext cx="2249640" cy="150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1\Pictures\он.jpg"/>
          <p:cNvPicPr/>
          <p:nvPr/>
        </p:nvPicPr>
        <p:blipFill>
          <a:blip r:embed="rId2"/>
          <a:stretch/>
        </p:blipFill>
        <p:spPr>
          <a:xfrm>
            <a:off x="6715080" y="2428920"/>
            <a:ext cx="22096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ru.wikipedia.org/wiki/%D0%9D%D0%BE%D0%B2%D1%8B%D0%B9_%D0%B3%D0%BE%D0%B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0:38:08Z</dcterms:created>
  <dc:creator>1</dc:creator>
  <dc:description/>
  <dc:language>en-US</dc:language>
  <cp:lastModifiedBy>Admin</cp:lastModifiedBy>
  <dcterms:modified xsi:type="dcterms:W3CDTF">2012-06-25T08:24:36Z</dcterms:modified>
  <cp:revision>11</cp:revision>
  <dc:subject/>
  <dc:title>Презентация  Международный день защиты детей</dc:title>
</cp:coreProperties>
</file>