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29E-F427-4E7A-8BC3-4C93E938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D3B-250C-4FDC-91F8-BDED7D3A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6C2-FD93-49E6-AF9C-8C7F671E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3EE-7E4B-4938-BBFC-6CC6F6BD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6FC-6A81-4CBA-9C6D-CBABDC8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B67-EEAE-493F-BBB4-B10DFCD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6EC-F5A6-44DD-BD17-218294A5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D8-0A58-4A2A-9329-0DF36293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0C2-6CE9-47B7-AFEB-7426F66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094-C18A-47F5-AC67-56603E4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5DA-FEF9-472A-9380-FB0C653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665-DD46-4FBF-A78D-0784333A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B21-CA07-4C89-8E95-3AA97A9A5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Международный день защиты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2643120" y="2500200"/>
            <a:ext cx="4214880" cy="2870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000680" y="585792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онкурс тематических рисунков.«Международный день защиты детей» (англ. «International Children's Day») — отмечается ежегодно 1 июня. Был учрежден в ноябре 1949 года в столице Франции городе Париже решением конгресса Международной демократической федерации женщин. Впервые «Международный день защиты детей» отмечался в 1950-м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этого дня детям посвящены «Всемирный день ребёнка» (20 ноября), «День защиты детей Африки» (16 июня) и «День "Белых Орхидей"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противники абортов выбрали этот день для проведения акций в защиту права нерожденных детей на жизнь. В России [1] и других странах мира (Чехии [2], Литве [3], Белоруссии[4] и пр.) 1 июня собираются борцы за права детей, чтобы привлечь внимание широкой общественности к проблеме абортов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6611760" y="214200"/>
            <a:ext cx="23306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1\Pictures\ртп.jpg"/>
          <p:cNvPicPr/>
          <p:nvPr/>
        </p:nvPicPr>
        <p:blipFill>
          <a:blip r:embed="rId2"/>
          <a:stretch/>
        </p:blipFill>
        <p:spPr>
          <a:xfrm>
            <a:off x="6643800" y="3143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685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семирный день ребён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англ. Universal Children's Day, исп. Día Universal del Niño , фр. Journée mondiale de l'enfance) — праздник, который Генеральная Ассамблея ООН в 1954 году (резолюция №836 (IX) ) рекомендовала всем странам ввести начиная с 1956 года. Праздник направлен на улучшение благополучия детей, укрепление работы, проводимой ООН в интересах детей всего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предложила отмечать этот праздник в той форме и в тот день, которые каждое государство признает для себя целесообраз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в своей резолюции предположила, что всеобщее празднование Всемирного дня ребёнка послужит укреплению солидарности и сотрудничества между нац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их официальных документах ООН говорит о праздновании Всемирного дня ребёнка 20-го ноября. В этот день в 1959 году была принята «Декларация прав ребёнка», а в 1989 году «Конвенция прав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ные фирмы и организации проводят в День ребёнка благотворительные акции. Так, например, компания McDonald’s часть выручки этого дня отдаёт в детские фонды, больницы, детские дома. За прилавки ресторанов компании в этот день во всём мире встают популярные артисты, журналисты, политики, спортсм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1\Pictures\B6AKX7CASG6J83CAKZQ4IYCA4AWV1RCAGQC7OJCAY5NPP2CAP4NTQ4CANMBSU2CAOD449YCAERXO6PCAZ8TMPSCACCIF7LCAD1ZJPXCA9JH3KFCAR198S0CAUXWG1PCADK9LAHCAQEYW8SCAVE11CLCAIHTUQL.jpg"/>
          <p:cNvPicPr/>
          <p:nvPr/>
        </p:nvPicPr>
        <p:blipFill>
          <a:blip r:embed="rId1"/>
          <a:stretch/>
        </p:blipFill>
        <p:spPr>
          <a:xfrm>
            <a:off x="6786720" y="214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1\Pictures\оов.jpg"/>
          <p:cNvPicPr/>
          <p:nvPr/>
        </p:nvPicPr>
        <p:blipFill>
          <a:blip r:embed="rId2"/>
          <a:stretch/>
        </p:blipFill>
        <p:spPr>
          <a:xfrm>
            <a:off x="6786720" y="2928960"/>
            <a:ext cx="2138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0"/>
            <a:ext cx="635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 Афр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(англ. Day of the African Child) - международный день, который призван обратить внимание политиков всех стран и мировой общественности на проблемы, с которыми сталкиваются дети в африканских странах. Эта дата отмечается ежегодно, 16 июня. Название «День защиты детей Африки» довольно прочно прижилось в Российской Федерации и СНГ, хотя дословно с английского название этого праздника переводится на русский язык, как «День африканского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1\Pictures\untitled.bmp"/>
          <p:cNvPicPr/>
          <p:nvPr/>
        </p:nvPicPr>
        <p:blipFill>
          <a:blip r:embed="rId1"/>
          <a:stretch/>
        </p:blipFill>
        <p:spPr>
          <a:xfrm>
            <a:off x="6286680" y="214200"/>
            <a:ext cx="2685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 Дня защиты детей Афр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пись на плакате: «Каждые 5 минут от недоедания умирает ещё 1 ребёнок»Впервые праздник отмечался в 1991 году. Инициатором его проведения стала Организация африканского единства. Дата для проведения этого праздника была выбрана не случайно, это своеобразная дань памяти погибшим в 1976 году. В ЮАР, в Соуэто (юго-западная окраина Йоханнесбурга) 16 июня 1976 года, около десяти тысяч чернокожих школьников и студентов прошли в колонне более длиной в полмили, протестуя против низкого качества образования и требуя право получать образование на своем родном языке. В итоге, властями проповедующими политику апартеида сотни молодых людей, по сути-детей, были расстреляны. Более ста человек погибли в результате протестов следующие две недели, и более тысячи получили ранения или были покалечены[1]. После расстрела демонстрации учащихся, протестовавших против введения обучения на языке африкаанс, началось восстание против всей системы апартеида и господства белого населения, охватившее практически все слои населения пригорода и поддержанное в других районах и городах ЮАР. Начались всеобщие политические забастовки в августе-ноябре 1976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1\Pictures\QC0TONCAD4DVKSCA0C53CJCA97ABR8CA66VV5BCAO4J06LCABSUVFJCAKA6JGBCAZI862ECAC5VS6GCA6BSGQQCAFAIP36CAEN6ZVFCAGK9NRKCA1MCPDLCA6IIAXZCAFXN9ZICAY5933LCAXTWBHZCAWK9MBB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Pictures\S3VCY3CA4ZTGZLCA95JRHMCAY8GVJCCAXJSDJ1CAHN7G87CAKR7WCUCA1L5BK3CAZQXIA6CAZ56Q0CCAIDJH5DCAGDV3AMCAM2U8PGCATPPUNLCAJVQ4ARCANYW1CQCADMRHDRCAMYUOSJCAWKH6VWCAKOFR47.jpg"/>
          <p:cNvPicPr/>
          <p:nvPr/>
        </p:nvPicPr>
        <p:blipFill>
          <a:blip r:embed="rId2"/>
          <a:stretch/>
        </p:blipFill>
        <p:spPr>
          <a:xfrm>
            <a:off x="6653160" y="2500200"/>
            <a:ext cx="2276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657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ак празднуют д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ики радуются в этот день не только празднику, но и началу, самых длинных и долгожданных, летних каникул. Довольные и счастливые дети раскупают мороженое, лимонад и другие сладости, которые 1-го июня в изобилии продаются на каждом уг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, и конечно, какой же День Защиты Детей без катания на аттракционах и похода в кино?! 1 июня выстраиваются особенно длинные очереди в кассы Луна-парков и кинотеатров. В этот праздничный летний день, кажется, можно всё: и наесться мороженого до ангины, и накататься на всевозможных аттракционах «до упаду». Тем более, что впереди 3 месяца почти полной свободы без надоедливых уроков, на которые приходится «тратить» драгоценные час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1\Pictures\1-iyunya-1.jpg"/>
          <p:cNvPicPr/>
          <p:nvPr/>
        </p:nvPicPr>
        <p:blipFill>
          <a:blip r:embed="rId1"/>
          <a:stretch/>
        </p:blipFill>
        <p:spPr>
          <a:xfrm>
            <a:off x="6481800" y="214200"/>
            <a:ext cx="250344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1\Pictures\1-iyunya-2.jpg"/>
          <p:cNvPicPr/>
          <p:nvPr/>
        </p:nvPicPr>
        <p:blipFill>
          <a:blip r:embed="rId2"/>
          <a:stretch/>
        </p:blipFill>
        <p:spPr>
          <a:xfrm>
            <a:off x="6473880" y="2857680"/>
            <a:ext cx="2479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мечаемый 1 июня, не зря носит название День Защиты Детей. «От улыбки станет всем светлей» поётся в доброй детской песенке, и, действительно, порой одной чистой детской улыбки достаточно, чтобы растопить сердце вечно занятого и усталого взрослого. Как это не печально, в мире миллиарды детей, которые больше других нуждаются в защите и помощи. У них слишком редко бывает повод для улыбки и их детство нельзя назвать счастлив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тоит думать, что это количество составляют лишь несчастные дети африканских стран третьего мира и «горячих точек». Обделённые любовью детишки, которые нуждаются в помощи, всегда рядом с нами. И даже самая маленькая толика заботы и внимания вызовет на их лицах редкую, но искреннюю и благодарную улыб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1-му июня, как правило, приурочивают благотворительные акции в пользу детей с ограниченными возможностями, сирот, детей из малоимущих и неблагополучных семей. Подарить нуждающимся детям повод для улыбки – значит сделать мир светлее, а детей счастливее. Хотя бы один раз в год, давайте найдем время, чтобы подумать и о них. Ведь, чужих детей не быва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1\Pictures\i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1\Pictures\он.jpg"/>
          <p:cNvPicPr/>
          <p:nvPr/>
        </p:nvPicPr>
        <p:blipFill>
          <a:blip r:embed="rId2"/>
          <a:stretch/>
        </p:blipFill>
        <p:spPr>
          <a:xfrm>
            <a:off x="6715080" y="2428920"/>
            <a:ext cx="22096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ru.wikipedia.org/wiki/%D0%9D%D0%BE%D0%B2%D1%8B%D0%B9_%D0%B3%D0%BE%D0%B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0:38:08Z</dcterms:created>
  <dc:creator>1</dc:creator>
  <dc:description/>
  <dc:language>en-US</dc:language>
  <cp:lastModifiedBy>Admin</cp:lastModifiedBy>
  <dcterms:modified xsi:type="dcterms:W3CDTF">2012-06-25T08:24:36Z</dcterms:modified>
  <cp:revision>11</cp:revision>
  <dc:subject/>
  <dc:title>Презентация  Международный день защиты детей</dc:title>
</cp:coreProperties>
</file>