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887-0853-4F8B-BBD7-94095B97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53D-A893-4D82-BA09-40651669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A69-B058-4E95-8602-4DB61C3A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120-44A8-4991-BF55-7598E824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728-80CE-40AC-AB65-AD546DE8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D46-813F-4B05-A685-DF230F50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69B-D209-4672-BE4A-273D841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5BF-B6F0-4889-88C6-4CF2EE5A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964-0DA8-498F-A9CD-59240E76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811-06F4-488C-9154-2C6FB2B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008-8671-48FA-8EC0-450155B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FDB-8D37-4D1B-8485-083E463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8DC-343C-495B-BBEC-2ED251E3CE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1536840" y="450720"/>
            <a:ext cx="6387840" cy="1176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2052360" y="602136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 27.08.1910 года - 05.09.1997 год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857680" y="1744560"/>
            <a:ext cx="3557520" cy="425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99"/>
            </a:gs>
            <a:gs pos="100000">
              <a:srgbClr val="cc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57160" y="55720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мысл жизни каждого смертного лишь в том, чтобы любить и быть любимым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928960" y="1714680"/>
            <a:ext cx="3214800" cy="3643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ктические советы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тери Терез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826920" y="155736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Люди бывают неразумны, нелогичны и эгоистичны, всё равно прощайте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Если вы проявляли доброту, а люди обвиняли вас в тайных личных побуждениях, всё равно проявляйте добр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333360"/>
            <a:ext cx="76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умаемся и поймё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286000" y="2643120"/>
            <a:ext cx="42861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928800" y="1571760"/>
            <a:ext cx="73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Если вы честны и откровенны, то люди будут обманывать вас. Всё равно будьте честны и откровен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Если вы обрели безмятежное счастье, вам будут завидовать. Всё равно будьте счастл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571840" y="3286080"/>
            <a:ext cx="42861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121428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То, что вы строили годами, может быть разрушено в одночасье. Всё равно строй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1714680" y="41432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Если вы добились успеха, то у вас может появиться множество мнимых друзей и настоящих врагов. Всё равно добивайтесь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500200" y="2857680"/>
            <a:ext cx="4286520" cy="95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611280" y="50004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Добро, которое вы сотворили сегодня, люди позабудут назавтра. Всё равно творите 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Делитесь с людьми лучшим, что у вас есть, и этого никогда не будет достаточно. Всё равно делитесь самым лучшим, что у вас есть. В конце концов, все, что вы делаете, нужно не людям. Это нужно только тебе и Бо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214720" y="2143080"/>
            <a:ext cx="42861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66ff33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4286160" y="785880"/>
            <a:ext cx="4572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марте 1997 мать Тереза по состоянию здоровья сложила с себя обязанности настоятельницы ордена, и ее место заняла сестра Нирмал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рла мать Тереза в Калькутте 5сентября 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396216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324000" y="260280"/>
            <a:ext cx="8459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3786120" y="1000080"/>
            <a:ext cx="50720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на раса – раса челове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ин язык – язык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на религия – религия люб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ин Бог, и Он вездесущ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3200400" cy="4124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ff99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521496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356000" y="907920"/>
            <a:ext cx="428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Ее мать, была ревностной католичкой, она часто брала с собой младшую дочь во время посещения больных и нуждаю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rcRect l="17442" t="0" r="18605" b="0"/>
          <a:stretch/>
        </p:blipFill>
        <p:spPr>
          <a:xfrm>
            <a:off x="622440" y="907920"/>
            <a:ext cx="3409920" cy="5329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cc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000240" y="2770200"/>
            <a:ext cx="58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гнес в дублинском аббатстве Лорето изучает английский язык, а 6 января 1929 г. отплывает в Калькут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rcRect l="11657" t="0" r="18605" b="0"/>
          <a:stretch/>
        </p:blipFill>
        <p:spPr>
          <a:xfrm>
            <a:off x="395280" y="1773360"/>
            <a:ext cx="2511360" cy="3600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3059280" y="1844640"/>
            <a:ext cx="57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rcRect l="14651" t="0" r="21017" b="0"/>
          <a:stretch/>
        </p:blipFill>
        <p:spPr>
          <a:xfrm>
            <a:off x="6500880" y="214200"/>
            <a:ext cx="162072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357800" y="2816280"/>
            <a:ext cx="4518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... Она стала носить белое сари с голубой каймой и распятием, приколотым на плече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285840" y="642960"/>
            <a:ext cx="392904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666699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42920" y="765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57120" y="857160"/>
            <a:ext cx="5072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осподь, дай мне си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тешать, а не быть утешаемы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нимать, а не быть поняты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юбить, а не быть любимым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бо, когда отдаем, получаем 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, прощая, обретаем себе про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072040" y="928800"/>
            <a:ext cx="3571920" cy="5000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46b"/>
          <p:cNvPicPr/>
          <p:nvPr/>
        </p:nvPicPr>
        <p:blipFill>
          <a:blip r:embed="rId2"/>
          <a:stretch/>
        </p:blipFill>
        <p:spPr>
          <a:xfrm>
            <a:off x="1785960" y="1143000"/>
            <a:ext cx="5357880" cy="40006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286000" y="53672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ля брошенных на улице стариков ею в 1954 г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был основан Дом умирающих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 1950 г. Тереза получила разрешение Ватикана на создание новой конгрегации – ордена милосердия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356000" y="15573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, кто встречался с Терезой, рассказывают о ее спокойной духовности, о любви, радости и уважении к жизни, которые она излучает. </a:t>
            </a:r>
            <a:r>
              <a:rPr b="1" lang="ru-RU" sz="2400" spc="-1" strike="noStrike">
                <a:solidFill>
                  <a:srgbClr val="4b4fef"/>
                </a:solidFill>
                <a:latin typeface="Arial"/>
              </a:rPr>
              <a:t>«Мы не делаем ничего велик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– записала Тереза однажды, – </a:t>
            </a:r>
            <a:r>
              <a:rPr b="1" lang="ru-RU" sz="2400" spc="-1" strike="noStrike">
                <a:solidFill>
                  <a:srgbClr val="4b4fef"/>
                </a:solidFill>
                <a:latin typeface="Arial"/>
              </a:rPr>
              <a:t>мы делаем мало, но с великой любовью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47184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4714920" cy="4357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143080" y="5929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Arial"/>
              </a:rPr>
              <a:t>Мать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e3e5c"/>
                </a:solidFill>
                <a:latin typeface="Arial"/>
              </a:rPr>
              <a:t>Тереза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с президентом США Рональдом Рейган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b4fef"/>
                </a:solidFill>
                <a:latin typeface="Arial"/>
              </a:rPr>
              <a:t>В 1979 г. ей была присуждена Нобелевская премия мира. </a:t>
            </a:r>
            <a:br>
              <a:rPr sz="2000"/>
            </a:b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олученные средства она истратила на строительство приютов для бедных, в частности для страдающих проказо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14200" y="285840"/>
            <a:ext cx="87156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адпись на сте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нованного Матерью Терез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июта для умирающих от СПИ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86080" y="2133720"/>
            <a:ext cx="4670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шанс, не упусти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красота, удивляйся 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мечта, осуществи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долг, исполни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игра, так игра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любовь, так люб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тайна, разгадай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трагедия, выдержи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приключение, решись на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жизнь, спаси е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счастье, сотвори его с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ть стоит. Не уничтожай свою Жизн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5:55:01Z</dcterms:created>
  <dc:creator>LENOVO</dc:creator>
  <dc:description/>
  <dc:language>en-US</dc:language>
  <cp:lastModifiedBy>Коля</cp:lastModifiedBy>
  <dcterms:modified xsi:type="dcterms:W3CDTF">2013-04-03T20:59:00Z</dcterms:modified>
  <cp:revision>77</cp:revision>
  <dc:subject/>
  <dc:title>Слайд 1</dc:title>
</cp:coreProperties>
</file>