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19.jpeg" ContentType="image/jpeg"/>
  <Override PartName="/ppt/media/image17.jpeg" ContentType="image/jpeg"/>
  <Override PartName="/ppt/media/image14.png" ContentType="image/png"/>
  <Override PartName="/ppt/media/image16.gif" ContentType="image/gif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18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291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6904-7E46-4C08-A4F2-469A6335C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F19F-E8C7-4832-9573-08AD28912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69D2-3577-4E3B-87BF-F71328712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4ED8-F8F2-4B66-A4AB-CBB3FC1A3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5A81-14B9-4EF5-BB8F-976C05085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CE85-4650-442E-909E-0E4CADFB2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B35C-DE16-4BA0-A723-1BFC14082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2311-837F-455E-A24C-F8ACE1CD4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C0B8-96FD-484C-8604-DA3F55550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0477-62CA-446F-884D-1000A7CC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9290-3050-4D47-BC2D-FFD900B5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E27D-2471-476A-ACCC-68EAA6F1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5012D-6C10-4442-8D7A-6E4439E8837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cc99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WordArt 4" descr=""/>
          <p:cNvPicPr/>
          <p:nvPr/>
        </p:nvPicPr>
        <p:blipFill>
          <a:blip r:embed="rId1"/>
          <a:stretch/>
        </p:blipFill>
        <p:spPr>
          <a:xfrm>
            <a:off x="1536840" y="450720"/>
            <a:ext cx="6387840" cy="117648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2052360" y="6021360"/>
            <a:ext cx="539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( 27.08.1910 года - 05.09.1997 года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2"/>
          <a:stretch/>
        </p:blipFill>
        <p:spPr>
          <a:xfrm>
            <a:off x="2857680" y="1744560"/>
            <a:ext cx="3557520" cy="42544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50000">
              <a:srgbClr val="ffff99"/>
            </a:gs>
            <a:gs pos="100000">
              <a:srgbClr val="cc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857160" y="5572080"/>
            <a:ext cx="74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Arial"/>
              </a:rPr>
              <a:t>…</a:t>
            </a:r>
            <a:r>
              <a:rPr b="1" i="1" lang="ru-RU" sz="2400" spc="-1" strike="noStrike">
                <a:solidFill>
                  <a:srgbClr val="0070c0"/>
                </a:solidFill>
                <a:latin typeface="Arial"/>
              </a:rPr>
              <a:t>смысл жизни каждого смертного лишь в том, чтобы любить и быть любимым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2928960" y="1714680"/>
            <a:ext cx="3214800" cy="36432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рактические советы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Матери Терез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826920" y="1557360"/>
            <a:ext cx="7632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e535"/>
                </a:solidFill>
                <a:latin typeface="Arial"/>
              </a:rPr>
              <a:t>— </a:t>
            </a:r>
            <a:r>
              <a:rPr b="1" lang="ru-RU" sz="2800" spc="-1" strike="noStrike">
                <a:solidFill>
                  <a:srgbClr val="0be535"/>
                </a:solidFill>
                <a:latin typeface="Arial"/>
              </a:rPr>
              <a:t>Люди бывают неразумны, нелогичны и эгоистичны, всё равно прощайте и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1aa71"/>
                </a:solidFill>
                <a:latin typeface="Arial"/>
              </a:rPr>
              <a:t>— </a:t>
            </a:r>
            <a:r>
              <a:rPr b="1" lang="ru-RU" sz="2800" spc="-1" strike="noStrike">
                <a:solidFill>
                  <a:srgbClr val="c1aa71"/>
                </a:solidFill>
                <a:latin typeface="Arial"/>
              </a:rPr>
              <a:t>Если вы проявляли доброту, а люди обвиняли вас в тайных личных побуждениях, всё равно проявляйте доброт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WordArt 5"/>
          <p:cNvSpPr txBox="1"/>
          <p:nvPr/>
        </p:nvSpPr>
        <p:spPr>
          <a:xfrm>
            <a:off x="826920" y="333360"/>
            <a:ext cx="7632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ff33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Задумаемся и поймём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66ff33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1" name="Picture 3" descr="D:\Мои документы\Мама\fg_anihollysnowflakebar2.gif"/>
          <p:cNvPicPr/>
          <p:nvPr/>
        </p:nvPicPr>
        <p:blipFill>
          <a:blip r:embed="rId1"/>
          <a:stretch/>
        </p:blipFill>
        <p:spPr>
          <a:xfrm>
            <a:off x="2286000" y="2643120"/>
            <a:ext cx="4286160" cy="95256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5"/>
          <p:cNvSpPr/>
          <p:nvPr/>
        </p:nvSpPr>
        <p:spPr>
          <a:xfrm>
            <a:off x="928800" y="1571760"/>
            <a:ext cx="7343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e535"/>
                </a:solidFill>
                <a:latin typeface="Arial"/>
              </a:rPr>
              <a:t>— </a:t>
            </a:r>
            <a:r>
              <a:rPr b="1" lang="ru-RU" sz="2800" spc="-1" strike="noStrike">
                <a:solidFill>
                  <a:srgbClr val="0be535"/>
                </a:solidFill>
                <a:latin typeface="Arial"/>
              </a:rPr>
              <a:t>Если вы честны и откровенны, то люди будут обманывать вас. Всё равно будьте честны и откровенн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45b0c"/>
                </a:solidFill>
                <a:latin typeface="Arial"/>
              </a:rPr>
              <a:t>— </a:t>
            </a:r>
            <a:r>
              <a:rPr b="1" lang="ru-RU" sz="2800" spc="-1" strike="noStrike">
                <a:solidFill>
                  <a:srgbClr val="c45b0c"/>
                </a:solidFill>
                <a:latin typeface="Arial"/>
              </a:rPr>
              <a:t>Если вы обрели безмятежное счастье, вам будут завидовать. Всё равно будьте счастлив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3" descr="D:\Мои документы\Мама\fg_anihollysnowflakebar2.gif"/>
          <p:cNvPicPr/>
          <p:nvPr/>
        </p:nvPicPr>
        <p:blipFill>
          <a:blip r:embed="rId1"/>
          <a:stretch/>
        </p:blipFill>
        <p:spPr>
          <a:xfrm>
            <a:off x="2571840" y="3286080"/>
            <a:ext cx="4286160" cy="952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1"/>
          <p:cNvSpPr/>
          <p:nvPr/>
        </p:nvSpPr>
        <p:spPr>
          <a:xfrm>
            <a:off x="1714680" y="1214280"/>
            <a:ext cx="6072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1aa71"/>
                </a:solidFill>
                <a:latin typeface="Arial"/>
              </a:rPr>
              <a:t>— </a:t>
            </a:r>
            <a:r>
              <a:rPr b="1" lang="ru-RU" sz="2800" spc="-1" strike="noStrike">
                <a:solidFill>
                  <a:srgbClr val="c1aa71"/>
                </a:solidFill>
                <a:latin typeface="Arial"/>
              </a:rPr>
              <a:t>То, что вы строили годами, может быть разрушено в одночасье. Всё равно стройт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Прямоугольник 2"/>
          <p:cNvSpPr/>
          <p:nvPr/>
        </p:nvSpPr>
        <p:spPr>
          <a:xfrm>
            <a:off x="1714680" y="4143240"/>
            <a:ext cx="6429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45b0c"/>
                </a:solidFill>
                <a:latin typeface="Arial"/>
              </a:rPr>
              <a:t>— </a:t>
            </a:r>
            <a:r>
              <a:rPr b="1" lang="ru-RU" sz="2800" spc="-1" strike="noStrike">
                <a:solidFill>
                  <a:srgbClr val="c45b0c"/>
                </a:solidFill>
                <a:latin typeface="Arial"/>
              </a:rPr>
              <a:t>Если вы добились успеха, то у вас может появиться множество мнимых друзей и настоящих врагов. Всё равно добивайтесь успех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3" descr="D:\Мои документы\Мама\fg_anihollysnowflakebar2.gif"/>
          <p:cNvPicPr/>
          <p:nvPr/>
        </p:nvPicPr>
        <p:blipFill>
          <a:blip r:embed="rId1"/>
          <a:stretch/>
        </p:blipFill>
        <p:spPr>
          <a:xfrm>
            <a:off x="2500200" y="2857680"/>
            <a:ext cx="4286520" cy="952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5"/>
          <p:cNvSpPr/>
          <p:nvPr/>
        </p:nvSpPr>
        <p:spPr>
          <a:xfrm>
            <a:off x="611280" y="500040"/>
            <a:ext cx="8137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1aa71"/>
                </a:solidFill>
                <a:latin typeface="Arial"/>
              </a:rPr>
              <a:t>— </a:t>
            </a:r>
            <a:r>
              <a:rPr b="1" lang="ru-RU" sz="2800" spc="-1" strike="noStrike">
                <a:solidFill>
                  <a:srgbClr val="c1aa71"/>
                </a:solidFill>
                <a:latin typeface="Arial"/>
              </a:rPr>
              <a:t>Добро, которое вы сотворили сегодня, люди позабудут назавтра. Всё равно творите добр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45b0c"/>
                </a:solidFill>
                <a:latin typeface="Arial"/>
              </a:rPr>
              <a:t>— </a:t>
            </a:r>
            <a:r>
              <a:rPr b="1" lang="ru-RU" sz="2800" spc="-1" strike="noStrike">
                <a:solidFill>
                  <a:srgbClr val="c45b0c"/>
                </a:solidFill>
                <a:latin typeface="Arial"/>
              </a:rPr>
              <a:t>Делитесь с людьми лучшим, что у вас есть, и этого никогда не будет достаточно. Всё равно делитесь самым лучшим, что у вас есть. В конце концов, все, что вы делаете, нужно не людям. Это нужно только тебе и Бог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3" descr="D:\Мои документы\Мама\fg_anihollysnowflakebar2.gif"/>
          <p:cNvPicPr/>
          <p:nvPr/>
        </p:nvPicPr>
        <p:blipFill>
          <a:blip r:embed="rId1"/>
          <a:stretch/>
        </p:blipFill>
        <p:spPr>
          <a:xfrm>
            <a:off x="2214720" y="2143080"/>
            <a:ext cx="4286160" cy="952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50000">
              <a:srgbClr val="66ff33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4286160" y="785880"/>
            <a:ext cx="457200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марте 1997 мать Тереза по состоянию здоровья сложила с себя обязанности настоятельницы ордена, и ее место заняла сестра Нирмала.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мерла мать Тереза в Калькутте 5сентября 1997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428760" y="857160"/>
            <a:ext cx="3962160" cy="47437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50000">
              <a:srgbClr val="66ffff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2"/>
          <p:cNvSpPr txBox="1"/>
          <p:nvPr/>
        </p:nvSpPr>
        <p:spPr>
          <a:xfrm>
            <a:off x="324000" y="260280"/>
            <a:ext cx="845964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3816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i="1" lang="en-US" sz="1800" spc="1" strike="noStrike">
              <a:ln w="38160">
                <a:solidFill>
                  <a:srgbClr val="ff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38160">
                <a:solidFill>
                  <a:srgbClr val="ff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2" name="Прямоугольник 2"/>
          <p:cNvSpPr/>
          <p:nvPr/>
        </p:nvSpPr>
        <p:spPr>
          <a:xfrm>
            <a:off x="3786120" y="1000080"/>
            <a:ext cx="507204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ff"/>
                </a:solidFill>
                <a:latin typeface="Arial"/>
              </a:rPr>
              <a:t>Есть только одна раса – раса человечест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ff"/>
                </a:solidFill>
                <a:latin typeface="Arial"/>
              </a:rPr>
              <a:t>Есть только один язык – язык сердц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ff"/>
                </a:solidFill>
                <a:latin typeface="Arial"/>
              </a:rPr>
              <a:t>Есть только одна религия – религия любв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ff"/>
                </a:solidFill>
                <a:latin typeface="Arial"/>
              </a:rPr>
              <a:t>Есть только один Бог, и Он вездесущ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642960" y="1000080"/>
            <a:ext cx="3200400" cy="41245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50000">
              <a:srgbClr val="ff99ff"/>
            </a:gs>
            <a:gs pos="100000">
              <a:srgbClr val="6666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928880" y="1357200"/>
            <a:ext cx="5214960" cy="4214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4356000" y="907920"/>
            <a:ext cx="428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99"/>
                </a:solidFill>
                <a:latin typeface="Arial"/>
              </a:rPr>
              <a:t>Ее мать, была ревностной католичкой, она часто брала с собой младшую дочь во время посещения больных и нуждающихс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5" descr=""/>
          <p:cNvPicPr/>
          <p:nvPr/>
        </p:nvPicPr>
        <p:blipFill>
          <a:blip r:embed="rId2"/>
          <a:srcRect l="17442" t="0" r="18605" b="0"/>
          <a:stretch/>
        </p:blipFill>
        <p:spPr>
          <a:xfrm>
            <a:off x="622440" y="907920"/>
            <a:ext cx="3409920" cy="53294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ccff"/>
            </a:gs>
            <a:gs pos="100000">
              <a:srgbClr val="66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"/>
          <p:cNvSpPr/>
          <p:nvPr/>
        </p:nvSpPr>
        <p:spPr>
          <a:xfrm>
            <a:off x="3000240" y="2770200"/>
            <a:ext cx="5819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гнес в дублинском аббатстве Лорето изучает английский язык, а 6 января 1929 г. отплывает в Калькутт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"/>
          <p:cNvPicPr/>
          <p:nvPr/>
        </p:nvPicPr>
        <p:blipFill>
          <a:blip r:embed="rId1"/>
          <a:srcRect l="11657" t="0" r="18605" b="0"/>
          <a:stretch/>
        </p:blipFill>
        <p:spPr>
          <a:xfrm>
            <a:off x="395280" y="1773360"/>
            <a:ext cx="2511360" cy="360036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7"/>
          <p:cNvSpPr/>
          <p:nvPr/>
        </p:nvSpPr>
        <p:spPr>
          <a:xfrm>
            <a:off x="3059280" y="1844640"/>
            <a:ext cx="57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2"/>
          <a:srcRect l="14651" t="0" r="21017" b="0"/>
          <a:stretch/>
        </p:blipFill>
        <p:spPr>
          <a:xfrm>
            <a:off x="6500880" y="214200"/>
            <a:ext cx="1620720" cy="25196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4357800" y="2816280"/>
            <a:ext cx="45180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0000"/>
                </a:solidFill>
                <a:latin typeface="Arial"/>
              </a:rPr>
              <a:t>... Она стала носить белое сари с голубой каймой и распятием, приколотым на плече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285840" y="642960"/>
            <a:ext cx="3929040" cy="564372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666699"/>
            </a:gs>
            <a:gs pos="100000">
              <a:srgbClr val="ff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1042920" y="76500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3"/>
          <p:cNvSpPr/>
          <p:nvPr/>
        </p:nvSpPr>
        <p:spPr>
          <a:xfrm>
            <a:off x="357120" y="857160"/>
            <a:ext cx="50720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Господь, дай мне сил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Утешать, а не быть утешаемы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онимать, а не быть поняты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Любить, а не быть любимым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Ибо, когда отдаем, получаем м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И, прощая, обретаем себе прощ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5072040" y="928800"/>
            <a:ext cx="3571920" cy="5000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46b"/>
          <p:cNvPicPr/>
          <p:nvPr/>
        </p:nvPicPr>
        <p:blipFill>
          <a:blip r:embed="rId2"/>
          <a:stretch/>
        </p:blipFill>
        <p:spPr>
          <a:xfrm>
            <a:off x="1785960" y="1143000"/>
            <a:ext cx="5357880" cy="400068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2"/>
          <p:cNvSpPr/>
          <p:nvPr/>
        </p:nvSpPr>
        <p:spPr>
          <a:xfrm>
            <a:off x="2286000" y="5367240"/>
            <a:ext cx="514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Для брошенных на улице стариков ею в 1954 г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был основан Дом умирающих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В 1950 г. Тереза получила разрешение Ватикана на создание новой конгрегации – ордена милосердия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66"/>
            </a:gs>
            <a:gs pos="100000">
              <a:srgbClr val="99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4356000" y="1557360"/>
            <a:ext cx="457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, кто встречался с Терезой, рассказывают о ее спокойной духовности, о любви, радости и уважении к жизни, которые она излучает. </a:t>
            </a:r>
            <a:r>
              <a:rPr b="1" lang="ru-RU" sz="2400" spc="-1" strike="noStrike">
                <a:solidFill>
                  <a:srgbClr val="4b4fef"/>
                </a:solidFill>
                <a:latin typeface="Arial"/>
              </a:rPr>
              <a:t>«Мы не делаем ничего великог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– записала Тереза однажды, – </a:t>
            </a:r>
            <a:r>
              <a:rPr b="1" lang="ru-RU" sz="2400" spc="-1" strike="noStrike">
                <a:solidFill>
                  <a:srgbClr val="4b4fef"/>
                </a:solidFill>
                <a:latin typeface="Arial"/>
              </a:rPr>
              <a:t>мы делаем мало, но с великой любовью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500040" y="571680"/>
            <a:ext cx="3471840" cy="54291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66ffff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143080" y="1428840"/>
            <a:ext cx="4714920" cy="435744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4"/>
          <p:cNvSpPr/>
          <p:nvPr/>
        </p:nvSpPr>
        <p:spPr>
          <a:xfrm>
            <a:off x="2143080" y="5929200"/>
            <a:ext cx="471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3e5c"/>
                </a:solidFill>
                <a:latin typeface="Arial"/>
              </a:rPr>
              <a:t>Мать</a:t>
            </a:r>
            <a:r>
              <a:rPr b="0" lang="ru-RU" sz="1800" spc="-1" strike="noStrike">
                <a:solidFill>
                  <a:srgbClr val="3e3e5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e3e5c"/>
                </a:solidFill>
                <a:latin typeface="Arial"/>
              </a:rPr>
              <a:t>Тереза</a:t>
            </a:r>
            <a:r>
              <a:rPr b="0" lang="ru-RU" sz="1800" spc="-1" strike="noStrike">
                <a:solidFill>
                  <a:srgbClr val="3e3e5c"/>
                </a:solidFill>
                <a:latin typeface="Arial"/>
              </a:rPr>
              <a:t> с президентом США Рональдом Рейгано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4b4fef"/>
                </a:solidFill>
                <a:latin typeface="Arial"/>
              </a:rPr>
              <a:t>В 1979 г. ей была присуждена Нобелевская премия мира. </a:t>
            </a:r>
            <a:br>
              <a:rPr sz="2000"/>
            </a:b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Полученные средства она истратила на строительство приютов для бедных, в частности для страдающих проказой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4"/>
          <p:cNvSpPr txBox="1"/>
          <p:nvPr/>
        </p:nvSpPr>
        <p:spPr>
          <a:xfrm>
            <a:off x="214200" y="285840"/>
            <a:ext cx="8715600" cy="15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Надпись на стен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основанного Матерью Терезой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приюта для умирающих от СПИ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3286080" y="2133720"/>
            <a:ext cx="46706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b4fef"/>
                </a:solidFill>
                <a:latin typeface="Arial"/>
              </a:rPr>
              <a:t>Жизнь — это шанс, не упусти ег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b4fef"/>
                </a:solidFill>
                <a:latin typeface="Arial"/>
              </a:rPr>
              <a:t>Жизнь — это красота, удивляйся 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b4fef"/>
                </a:solidFill>
                <a:latin typeface="Arial"/>
              </a:rPr>
              <a:t>Жизнь — это мечта, осуществи е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b4fef"/>
                </a:solidFill>
                <a:latin typeface="Arial"/>
              </a:rPr>
              <a:t>Жизнь — это долг, исполни ег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b4fef"/>
                </a:solidFill>
                <a:latin typeface="Arial"/>
              </a:rPr>
              <a:t>Жизнь — это игра, так играй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b4fef"/>
                </a:solidFill>
                <a:latin typeface="Arial"/>
              </a:rPr>
              <a:t>Жизнь — это любовь, так люб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b4fef"/>
                </a:solidFill>
                <a:latin typeface="Arial"/>
              </a:rPr>
              <a:t>Жизнь — это тайна, разгадай е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b4fef"/>
                </a:solidFill>
                <a:latin typeface="Arial"/>
              </a:rPr>
              <a:t>Жизнь — это трагедия, выдержи е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b4fef"/>
                </a:solidFill>
                <a:latin typeface="Arial"/>
              </a:rPr>
              <a:t>Жизнь — это приключение, решись на нег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b4fef"/>
                </a:solidFill>
                <a:latin typeface="Arial"/>
              </a:rPr>
              <a:t>Жизнь — это жизнь, спаси ее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b4fef"/>
                </a:solidFill>
                <a:latin typeface="Arial"/>
              </a:rPr>
              <a:t>Жизнь — это счастье, сотвори его са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b4fef"/>
                </a:solidFill>
                <a:latin typeface="Arial"/>
              </a:rPr>
              <a:t>Жить стоит. Не уничтожай свою Жизнь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0" y="2000160"/>
            <a:ext cx="3286080" cy="43578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5:55:01Z</dcterms:created>
  <dc:creator>LENOVO</dc:creator>
  <dc:description/>
  <dc:language>en-US</dc:language>
  <cp:lastModifiedBy>Коля</cp:lastModifiedBy>
  <dcterms:modified xsi:type="dcterms:W3CDTF">2013-04-03T20:59:00Z</dcterms:modified>
  <cp:revision>77</cp:revision>
  <dc:subject/>
  <dc:title>Слайд 1</dc:title>
</cp:coreProperties>
</file>