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media/image1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952-DE9C-4423-9C11-6F5E6CE4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801-42B6-4089-918B-EADC60B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020-F28C-41AA-AF4E-2994100C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FF2-63D7-472F-8877-8FD946CC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022-E1A3-4777-8E27-FE1BB1C1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253F-F73D-4DBD-AFBF-D152D279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D6C-7F4C-408B-8C9C-DB1A260F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9DF3-5989-4717-8657-F1312A7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09EC-0DB7-4D65-BBD7-EBA96F7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B7EA-9E00-4B43-8705-B35741D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77F8-FB73-4ECB-B47C-7671784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ECC-5155-49ED-866A-BFAC9C5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C869-4E1A-4CBA-98F5-9C097E2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E1D-DAC4-4710-8C8B-251E263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85D-6ABA-4F91-BC47-379A3F4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C17-DC6B-4BAA-9270-E0249095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204-CF40-4F51-8A30-B60EDA48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E9D-112A-40F8-A8AB-6AFBC9F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194-0BF4-4019-9D47-3E72F2F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E6E-1905-468D-88A4-BD024CD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245-AD5D-41BB-98BA-4CA44DE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6DA-0276-4E4A-ABC6-92F146F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27A-CAAF-4E0E-B8FD-E218C76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79D-516F-4588-A7D4-2BA77C66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DD4C-D283-469E-B841-2EBF5F994D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2AF-6021-4C0D-8550-FF81111EE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47880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"Михаил Васильевич Ломоносов и е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значение дл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экономиче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географии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16360" y="4905360"/>
            <a:ext cx="37418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Ломоносов М"/>
          <p:cNvPicPr/>
          <p:nvPr/>
        </p:nvPicPr>
        <p:blipFill>
          <a:blip r:embed="rId1"/>
          <a:stretch/>
        </p:blipFill>
        <p:spPr>
          <a:xfrm>
            <a:off x="4606920" y="476280"/>
            <a:ext cx="453708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3b2c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32000" y="0"/>
            <a:ext cx="2519640" cy="154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пной работой Ломоносова по экономико-географическому изучению России было составление «Экономического лексикона российских продуктов», в котором должны были быть перечислены по алфавиту производившиеся в России продукты. К их названиям предлагалось «...приписывать места, где каждый продукт родился или производится с его количеством и добротою, на том ли самом месте исходит или для распродажи в другие города развозится и каким путем; по чему продается; места упоминаемые поставить на карта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431964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льшое внимание Ломоносов уделил вопросам народонаселения, считая, что процветание и могущество государства зависят от наличия большого количества трудоспособного населения. Прирост населения он ставил в зависимость от условий жизни и его культурного состояния, предлагая ряд мер к «размножению и сохранению российского народа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нимаясь экономико-географическими проблемами, Ломоносов всегда связывал их с картографией, считая карту неотъемлемой частью экономико-географического описания. Так, задуманная им география России должна была явиться неотъемлемой частью атласа, сбор экономико-географических сведений проводился в связи с составлением карт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карта"/>
          <p:cNvPicPr/>
          <p:nvPr/>
        </p:nvPicPr>
        <p:blipFill>
          <a:blip r:embed="rId1"/>
          <a:stretch/>
        </p:blipFill>
        <p:spPr>
          <a:xfrm>
            <a:off x="2556000" y="189000"/>
            <a:ext cx="352872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Экономический лексикон...» сопровождался составлением географических карт с экономико-географическими показателями. Связь экономической географии с картографией Ломоносов подчеркивал введением в науку особого термина «экономическая ландкарта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ными идеями экономико-географических трудов и замыслов Ломоносова были: связь экономических явлений с физико-географическими условиями и зависимость их от географического полож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Palace Script MT"/>
              </a:rPr>
              <a:t>Спасибо за внимание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AN067"/>
          <p:cNvPicPr/>
          <p:nvPr/>
        </p:nvPicPr>
        <p:blipFill>
          <a:blip r:embed="rId1"/>
          <a:stretch/>
        </p:blipFill>
        <p:spPr>
          <a:xfrm>
            <a:off x="2050920" y="3213000"/>
            <a:ext cx="4681800" cy="36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lick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116000" y="33084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ученый XVIII в. М. В. Ломоносов был энциклопедистом в широком смысле этого слова. Многие науки, различные по своему характеру, считают его своим основоположником. Среди них географии принадлежит видное место. Разными проблемами географии Ломоносов занимался в течение всей своей научной деятельности, а в последние годы, заведуя географическим департаментом Академии наук, уделял географии очень большое внима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школа"/>
          <p:cNvPicPr/>
          <p:nvPr/>
        </p:nvPicPr>
        <p:blipFill>
          <a:blip r:embed="rId1"/>
          <a:stretch/>
        </p:blipFill>
        <p:spPr>
          <a:xfrm>
            <a:off x="2411280" y="189000"/>
            <a:ext cx="4310280" cy="30956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288144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 географических интересов Ломоносова был чрезвычайно широк: он изучал атмосферное электричество, решая в связи с этим ряд метеорологических проблем, имеющих крупное теоретическое значение; дал замечательный по глубине анализа, силе обобщений и могучему научному предвидению очерк учения о формировании лика Земли; огромны его заслуги в картографии, страноведении и экономической географии, которой он является одним из основоположников, выделившим эту отрасль знаний в самостоятельную нау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глобус"/>
          <p:cNvPicPr/>
          <p:nvPr/>
        </p:nvPicPr>
        <p:blipFill>
          <a:blip r:embed="rId1"/>
          <a:stretch/>
        </p:blipFill>
        <p:spPr>
          <a:xfrm>
            <a:off x="6300720" y="189000"/>
            <a:ext cx="2448000" cy="26017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300720" y="0"/>
            <a:ext cx="2274840" cy="1844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ередине XVIII в., когда многие известные ученые считали географию придатком той или иной науки, Ломоносов не только утверждал географию как самостоятельную науку, а и рассматривал ее как науку комплексную, охватывающую не только природу, но и экономическую деятельность человек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084720" y="0"/>
            <a:ext cx="2490840" cy="2492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2491920"/>
            <a:ext cx="800100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ной чертой Ломоносова как ученого, особенно выделявшей его из академиков того времени (почти сплошь иностранцев), было стремление связать разрабатываемые им теоретические проблемы с практическими нуждами стра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u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моносов отчетливо понимал значение соединения знаний о природе со знанием хозяйства и очень ясно об этом говорил. Так у него определялись содержание и границы новой науки, которую он вначале 1760 годов назвал «экономической географией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COMPASS"/>
          <p:cNvPicPr/>
          <p:nvPr/>
        </p:nvPicPr>
        <p:blipFill>
          <a:blip r:embed="rId1"/>
          <a:stretch/>
        </p:blipFill>
        <p:spPr>
          <a:xfrm>
            <a:off x="7236000" y="260280"/>
            <a:ext cx="190800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67280" y="0"/>
            <a:ext cx="2708280" cy="306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2997000"/>
            <a:ext cx="82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 этого, в середине XVIII в. и во второй половине, среди географов безраздельно господствовала описательная — камеральная — статистика, авторы географо-статистических описаний даже близко не подходили к мысли о создании экономико-географических характеристик, об изучении связи хозяйства с природными условиями стран и районов, с их географическим положением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4560" y="0"/>
            <a:ext cx="2917800" cy="2565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2492280"/>
            <a:ext cx="8001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и один ученый до Ломоносова не поднимался до такой постановки вопроса. Это показывает, что он разрабатывал экономическую географию не только как самостоятельную научную дисциплину, но и как науку географическую по самому существу своего содержания. Поэтому Ломоносов по праву должен считаться одним из основоположников этой отрасли географических знан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3889440" cy="1844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географической точки зрения очень важна мысль, высказанная Ломоносовым в его критических замечаниях по поводу «Истории Российской империи при Петре Великом» Вольтера, о необходимости при описании нашей страны учитывать неодинаковое значение ее различных частей и обращать особое внимание на наиболее заселенные и экономически развитые центральные район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9:53:21Z</dcterms:created>
  <dc:creator>sdfg</dc:creator>
  <dc:description/>
  <dc:language>en-US</dc:language>
  <cp:lastModifiedBy>Admin</cp:lastModifiedBy>
  <dcterms:modified xsi:type="dcterms:W3CDTF">2012-06-14T10:42:55Z</dcterms:modified>
  <cp:revision>6</cp:revision>
  <dc:subject/>
  <dc:title>"Михаил Васильевич Ломоносов и его значение для экономической географии" </dc:title>
</cp:coreProperties>
</file>