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gif" ContentType="image/gif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click.wav" ContentType="audio/x-wav"/>
  <Override PartName="/ppt/media/image1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764-B30E-4B1B-82DE-F8090062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037-FAEA-4D5B-AA8C-93365148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C80-0966-4D7C-889E-8F7CC9F5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7325-4259-4D22-922A-2DA2E034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498B-EE1F-478C-BC36-2A7AC593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5E15-41BA-45A8-BED0-4C282B4A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833A-FE82-4DC4-B9CA-35A5D344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6395-DC71-490E-B603-58F3A7C8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8A4B-EF23-4500-9589-9522312B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19EC-04DB-42A1-BE87-EE054061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8613-7BDD-4982-8971-5F18358A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244-440A-40E7-B3A9-AD8999BE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1E9C-F72E-4C88-891F-EFA92A39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B72C-C221-4AA5-BB98-2824BFD6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CCF2-D217-46E7-89B7-70597E90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64F0-C982-4B42-81F1-58BF3951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F3CC-FB65-4B28-A07B-E28EA413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A1D-4BBB-4032-87F3-004A2434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BBE-7E82-41BF-B0D4-48B2DDAD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764-0FE6-4C7B-BB11-B23DFFDB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B12-BA5D-44F1-8242-3834F16E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233-D47A-48D1-95B9-BDF73EFD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351-7787-4D96-9EB8-B63F8E04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D57-27DC-448F-9C61-4821683E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3997-0F18-4434-8DCC-535F978508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55C3-F798-4D6D-BC08-E733FF5245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76280"/>
            <a:ext cx="478800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"Михаил Васильевич Ломоносов и ег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значение дл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экономическ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географии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716360" y="4905360"/>
            <a:ext cx="37418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Ломоносов М"/>
          <p:cNvPicPr/>
          <p:nvPr/>
        </p:nvPicPr>
        <p:blipFill>
          <a:blip r:embed="rId1"/>
          <a:stretch/>
        </p:blipFill>
        <p:spPr>
          <a:xfrm>
            <a:off x="4606920" y="476280"/>
            <a:ext cx="4537080" cy="6381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a3b2c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132000" y="0"/>
            <a:ext cx="2519640" cy="1549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рупной работой Ломоносова по экономико-географическому изучению России было составление «Экономического лексикона российских продуктов», в котором должны были быть перечислены по алфавиту производившиеся в России продукты. К их названиям предлагалось «...приписывать места, где каждый продукт родился или производится с его количеством и добротою, на том ли самом месте исходит или для распродажи в другие города развозится и каким путем; по чему продается; места упоминаемые поставить на картах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908000" y="0"/>
            <a:ext cx="4319640" cy="1844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ольшое внимание Ломоносов уделил вопросам народонаселения, считая, что процветание и могущество государства зависят от наличия большого количества трудоспособного населения. Прирост населения он ставил в зависимость от условий жизни и его культурного состояния, предлагая ряд мер к «размножению и сохранению российского народа»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  <p:sndAc>
      <p:stSnd>
        <p:snd r:embed="rId2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нимаясь экономико-географическими проблемами, Ломоносов всегда связывал их с картографией, считая карту неотъемлемой частью экономико-географического описания. Так, задуманная им география России должна была явиться неотъемлемой частью атласа, сбор экономико-географических сведений проводился в связи с составлением карт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карта"/>
          <p:cNvPicPr/>
          <p:nvPr/>
        </p:nvPicPr>
        <p:blipFill>
          <a:blip r:embed="rId1"/>
          <a:stretch/>
        </p:blipFill>
        <p:spPr>
          <a:xfrm>
            <a:off x="2556000" y="189000"/>
            <a:ext cx="3528720" cy="162864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2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Экономический лексикон...» сопровождался составлением географических карт с экономико-географическими показателями. Связь экономической географии с картографией Ломоносов подчеркивал введением в науку особого термина «экономическая ландкарта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  <p:sndAc>
      <p:stSnd>
        <p:snd r:embed="rId1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ными идеями экономико-географических трудов и замыслов Ломоносова были: связь экономических явлений с физико-географическими условиями и зависимость их от географического полож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  <p:sndAc>
      <p:stSnd>
        <p:snd r:embed="rId1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1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Palace Script MT"/>
              </a:rPr>
              <a:t>Спасибо за внимание!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AN067"/>
          <p:cNvPicPr/>
          <p:nvPr/>
        </p:nvPicPr>
        <p:blipFill>
          <a:blip r:embed="rId1"/>
          <a:stretch/>
        </p:blipFill>
        <p:spPr>
          <a:xfrm>
            <a:off x="2050920" y="3213000"/>
            <a:ext cx="4681800" cy="364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lick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116000" y="33084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ученый XVIII в. М. В. Ломоносов был энциклопедистом в широком смысле этого слова. Многие науки, различные по своему характеру, считают его своим основоположником. Среди них географии принадлежит видное место. Разными проблемами географии Ломоносов занимался в течение всей своей научной деятельности, а в последние годы, заведуя географическим департаментом Академии наук, уделял географии очень большое внима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школа"/>
          <p:cNvPicPr/>
          <p:nvPr/>
        </p:nvPicPr>
        <p:blipFill>
          <a:blip r:embed="rId1"/>
          <a:stretch/>
        </p:blipFill>
        <p:spPr>
          <a:xfrm>
            <a:off x="2411280" y="189000"/>
            <a:ext cx="4310280" cy="309564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2881440"/>
            <a:ext cx="770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 географических интересов Ломоносова был чрезвычайно широк: он изучал атмосферное электричество, решая в связи с этим ряд метеорологических проблем, имеющих крупное теоретическое значение; дал замечательный по глубине анализа, силе обобщений и могучему научному предвидению очерк учения о формировании лика Земли; огромны его заслуги в картографии, страноведении и экономической географии, которой он является одним из основоположников, выделившим эту отрасль знаний в самостоятельную наук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глобус"/>
          <p:cNvPicPr/>
          <p:nvPr/>
        </p:nvPicPr>
        <p:blipFill>
          <a:blip r:embed="rId1"/>
          <a:stretch/>
        </p:blipFill>
        <p:spPr>
          <a:xfrm>
            <a:off x="6300720" y="189000"/>
            <a:ext cx="2448000" cy="26017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300720" y="0"/>
            <a:ext cx="2274840" cy="1844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ередине XVIII в., когда многие известные ученые считали географию придатком той или иной науки, Ломоносов не только утверждал географию как самостоятельную науку, а и рассматривал ее как науку комплексную, охватывающую не только природу, но и экономическую деятельность человек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  <p:sndAc>
      <p:stSnd>
        <p:snd r:embed="rId2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084720" y="0"/>
            <a:ext cx="2490840" cy="2492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2491920"/>
            <a:ext cx="8001000" cy="46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арактерной чертой Ломоносова как ученого, особенно выделявшей его из академиков того времени (почти сплошь иностранцев), было стремление связать разрабатываемые им теоретические проблемы с практическими нуждами стра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u"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омоносов отчетливо понимал значение соединения знаний о природе со знанием хозяйства и очень ясно об этом говорил. Так у него определялись содержание и границы новой науки, которую он вначале 1760 годов назвал «экономической географией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COMPASS"/>
          <p:cNvPicPr/>
          <p:nvPr/>
        </p:nvPicPr>
        <p:blipFill>
          <a:blip r:embed="rId1"/>
          <a:stretch/>
        </p:blipFill>
        <p:spPr>
          <a:xfrm>
            <a:off x="7236000" y="260280"/>
            <a:ext cx="1908000" cy="19447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867280" y="0"/>
            <a:ext cx="2708280" cy="3068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2997000"/>
            <a:ext cx="82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 этого, в середине XVIII в. и во второй половине, среди географов безраздельно господствовала описательная — камеральная — статистика, авторы географо-статистических описаний даже близко не подходили к мысли о создании экономико-географических характеристик, об изучении связи хозяйства с природными условиями стран и районов, с их географическим положением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  <p:sndAc>
      <p:stSnd>
        <p:snd r:embed="rId2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74560" y="0"/>
            <a:ext cx="2917800" cy="2565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66280" y="2492280"/>
            <a:ext cx="8001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и один ученый до Ломоносова не поднимался до такой постановки вопроса. Это показывает, что он разрабатывал экономическую географию не только как самостоятельную научную дисциплину, но и как науку географическую по самому существу своего содержания. Поэтому Ломоносов по праву должен считаться одним из основоположников этой отрасли географических знан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  <p:sndAc>
      <p:stSnd>
        <p:snd r:embed="rId2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50920" y="0"/>
            <a:ext cx="3889440" cy="1844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географической точки зрения очень важна мысль, высказанная Ломоносовым в его критических замечаниях по поводу «Истории Российской империи при Петре Великом» Вольтера, о необходимости при описании нашей страны учитывать неодинаковое значение ее различных частей и обращать особое внимание на наиболее заселенные и экономически развитые центральные районы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9:53:21Z</dcterms:created>
  <dc:creator>sdfg</dc:creator>
  <dc:description/>
  <dc:language>en-US</dc:language>
  <cp:lastModifiedBy>Admin</cp:lastModifiedBy>
  <dcterms:modified xsi:type="dcterms:W3CDTF">2012-06-14T10:42:55Z</dcterms:modified>
  <cp:revision>6</cp:revision>
  <dc:subject/>
  <dc:title>"Михаил Васильевич Ломоносов и его значение для экономической географии" </dc:title>
</cp:coreProperties>
</file>