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media/image1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519-5548-451C-9381-CCED424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60F-B3C9-42D7-B19C-3333C2B3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936-35F0-4D55-95E8-9600F45B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FB-FA38-42BC-940D-09BB9AE5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FA83-D88B-418E-8CAB-07BFF776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AB39-0DE4-4BAB-93AF-3015414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B85-17B5-45AD-B1F7-8E7FC9EB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F8EE-CBFA-417E-B4D4-88C92BC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190-D52B-48D3-98C6-B902216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AD1F-B918-4404-9F75-03B47552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834B-2EE3-44E8-877F-E675660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22C-0335-47C4-B713-30CE248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AF0-7EE3-479E-BDB0-F975859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2334-5F41-4151-AEB2-4258B46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7C88-D4D6-4461-B32C-E8991433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525-003D-4EB8-8C43-3565370D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751-079E-4823-BC97-DDD196AF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233-332F-4730-ABA5-4B3E93E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7D7-1806-44BF-860A-43B325A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E0E-2AE3-493A-B9F0-A263518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D46-6C5C-46B8-B933-2D064DA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CC1-37EF-4C2F-92D4-389BB95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FAA-56BB-4954-943B-9C7D007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A19-5FE0-456C-9D1D-6A26BBF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FA4-4B94-4922-94EF-9D925CD32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5C3A-8F22-4AFE-80BE-177BE09DA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47880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"Михаил Васильевич Ломоносов и е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значение дл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экономиче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географии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16360" y="4905360"/>
            <a:ext cx="37418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Ломоносов М"/>
          <p:cNvPicPr/>
          <p:nvPr/>
        </p:nvPicPr>
        <p:blipFill>
          <a:blip r:embed="rId1"/>
          <a:stretch/>
        </p:blipFill>
        <p:spPr>
          <a:xfrm>
            <a:off x="4606920" y="476280"/>
            <a:ext cx="453708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3b2c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32000" y="0"/>
            <a:ext cx="2519640" cy="154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пной работой Ломоносова по экономико-географическому изучению России было составление «Экономического лексикона российских продуктов», в котором должны были быть перечислены по алфавиту производившиеся в России продукты. К их названиям предлагалось «...приписывать места, где каждый продукт родился или производится с его количеством и добротою, на том ли самом месте исходит или для распродажи в другие города развозится и каким путем; по чему продается; места упоминаемые поставить на карта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4319640" cy="1844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льшое внимание Ломоносов уделил вопросам народонаселения, считая, что процветание и могущество государства зависят от наличия большого количества трудоспособного населения. Прирост населения он ставил в зависимость от условий жизни и его культурного состояния, предлагая ряд мер к «размножению и сохранению российского народа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нимаясь экономико-географическими проблемами, Ломоносов всегда связывал их с картографией, считая карту неотъемлемой частью экономико-географического описания. Так, задуманная им география России должна была явиться неотъемлемой частью атласа, сбор экономико-географических сведений проводился в связи с составлением карт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карта"/>
          <p:cNvPicPr/>
          <p:nvPr/>
        </p:nvPicPr>
        <p:blipFill>
          <a:blip r:embed="rId1"/>
          <a:stretch/>
        </p:blipFill>
        <p:spPr>
          <a:xfrm>
            <a:off x="2556000" y="189000"/>
            <a:ext cx="352872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Экономический лексикон...» сопровождался составлением географических карт с экономико-географическими показателями. Связь экономической географии с картографией Ломоносов подчеркивал введением в науку особого термина «экономическая ландкарта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ными идеями экономико-географических трудов и замыслов Ломоносова были: связь экономических явлений с физико-географическими условиями и зависимость их от географического полож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Palace Script MT"/>
              </a:rPr>
              <a:t>Спасибо за внимание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AN067"/>
          <p:cNvPicPr/>
          <p:nvPr/>
        </p:nvPicPr>
        <p:blipFill>
          <a:blip r:embed="rId1"/>
          <a:stretch/>
        </p:blipFill>
        <p:spPr>
          <a:xfrm>
            <a:off x="2050920" y="3213000"/>
            <a:ext cx="4681800" cy="36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lick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116000" y="33084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ученый XVIII в. М. В. Ломоносов был энциклопедистом в широком смысле этого слова. Многие науки, различные по своему характеру, считают его своим основоположником. Среди них географии принадлежит видное место. Разными проблемами географии Ломоносов занимался в течение всей своей научной деятельности, а в последние годы, заведуя географическим департаментом Академии наук, уделял географии очень большое внима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школа"/>
          <p:cNvPicPr/>
          <p:nvPr/>
        </p:nvPicPr>
        <p:blipFill>
          <a:blip r:embed="rId1"/>
          <a:stretch/>
        </p:blipFill>
        <p:spPr>
          <a:xfrm>
            <a:off x="2411280" y="189000"/>
            <a:ext cx="4310280" cy="30956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288144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 географических интересов Ломоносова был чрезвычайно широк: он изучал атмосферное электричество, решая в связи с этим ряд метеорологических проблем, имеющих крупное теоретическое значение; дал замечательный по глубине анализа, силе обобщений и могучему научному предвидению очерк учения о формировании лика Земли; огромны его заслуги в картографии, страноведении и экономической географии, которой он является одним из основоположников, выделившим эту отрасль знаний в самостоятельную наук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глобус"/>
          <p:cNvPicPr/>
          <p:nvPr/>
        </p:nvPicPr>
        <p:blipFill>
          <a:blip r:embed="rId1"/>
          <a:stretch/>
        </p:blipFill>
        <p:spPr>
          <a:xfrm>
            <a:off x="6300720" y="189000"/>
            <a:ext cx="2448000" cy="26017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300720" y="0"/>
            <a:ext cx="2274840" cy="1844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ередине XVIII в., когда многие известные ученые считали географию придатком той или иной науки, Ломоносов не только утверждал географию как самостоятельную науку, а и рассматривал ее как науку комплексную, охватывающую не только природу, но и экономическую деятельность человек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084720" y="0"/>
            <a:ext cx="2490840" cy="2492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2491920"/>
            <a:ext cx="800100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ной чертой Ломоносова как ученого, особенно выделявшей его из академиков того времени (почти сплошь иностранцев), было стремление связать разрабатываемые им теоретические проблемы с практическими нуждами стра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u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моносов отчетливо понимал значение соединения знаний о природе со знанием хозяйства и очень ясно об этом говорил. Так у него определялись содержание и границы новой науки, которую он вначале 1760 годов назвал «экономической географией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COMPASS"/>
          <p:cNvPicPr/>
          <p:nvPr/>
        </p:nvPicPr>
        <p:blipFill>
          <a:blip r:embed="rId1"/>
          <a:stretch/>
        </p:blipFill>
        <p:spPr>
          <a:xfrm>
            <a:off x="7236000" y="260280"/>
            <a:ext cx="190800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67280" y="0"/>
            <a:ext cx="2708280" cy="306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2997000"/>
            <a:ext cx="82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 этого, в середине XVIII в. и во второй половине, среди географов безраздельно господствовала описательная — камеральная — статистика, авторы географо-статистических описаний даже близко не подходили к мысли о создании экономико-географических характеристик, об изучении связи хозяйства с природными условиями стран и районов, с их географическим положением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4560" y="0"/>
            <a:ext cx="2917800" cy="2565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2492280"/>
            <a:ext cx="8001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и один ученый до Ломоносова не поднимался до такой постановки вопроса. Это показывает, что он разрабатывал экономическую географию не только как самостоятельную научную дисциплину, но и как науку географическую по самому существу своего содержания. Поэтому Ломоносов по праву должен считаться одним из основоположников этой отрасли географических знан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3889440" cy="1844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географической точки зрения очень важна мысль, высказанная Ломоносовым в его критических замечаниях по поводу «Истории Российской империи при Петре Великом» Вольтера, о необходимости при описании нашей страны учитывать неодинаковое значение ее различных частей и обращать особое внимание на наиболее заселенные и экономически развитые центральные район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9:53:21Z</dcterms:created>
  <dc:creator>sdfg</dc:creator>
  <dc:description/>
  <dc:language>en-US</dc:language>
  <cp:lastModifiedBy>Admin</cp:lastModifiedBy>
  <dcterms:modified xsi:type="dcterms:W3CDTF">2012-06-14T10:42:55Z</dcterms:modified>
  <cp:revision>6</cp:revision>
  <dc:subject/>
  <dc:title>"Михаил Васильевич Ломоносов и его значение для экономической географии" </dc:title>
</cp:coreProperties>
</file>