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99B-C2C3-4A1F-8469-D328DAA4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116-6DEF-4E84-B42F-60EF1689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D1F-CBC2-4270-80B9-326DDCF3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01B-62FD-4714-A830-E3C76489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7FA9-66C6-4A2B-954E-CC7F3FCA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AA29-1B92-420F-B203-0DB5F540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4BF-ADD5-4722-9608-D97D6F3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5275-0958-4279-ACD2-6F0C6142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D1F-CE02-4E4A-91ED-E11D57C2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30CC-E23E-4335-BDC6-3958D75F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489-95F9-4311-A2C2-7F7F851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A45-302F-45E8-8AF4-2834591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43B-679D-48EA-B9F2-10FF0F1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3150-F16A-4663-8259-9FBCE9E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7A0B-CB45-40F6-ADD0-BA55EB6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047-0006-4877-B11F-A8FE7F5C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793-BE69-405F-A4CB-C3527AFB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697-FC5B-47EA-B0FE-8E66209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46E-CBE6-4068-91E1-04F8F19E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205-8F08-4AE6-83C3-99449FF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E0E-50AC-4AF8-9AC2-F2E7A292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87C-F072-4D86-AE80-033A8B0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B9F-D4DB-4474-A26E-BF67F0B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AA1-36BB-4141-9DBC-B03C92C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4DD5-687D-44FF-B659-82789A834C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9ED-79D6-41AE-808E-6A0021922C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5.png"/><Relationship Id="rId13" Type="http://schemas.openxmlformats.org/officeDocument/2006/relationships/slide" Target="slide2.xml"/><Relationship Id="rId14" Type="http://schemas.openxmlformats.org/officeDocument/2006/relationships/image" Target="../media/image6.jpeg"/><Relationship Id="rId15" Type="http://schemas.openxmlformats.org/officeDocument/2006/relationships/hyperlink" Target="file:///tmp/home/.config/libreoffice/4/user/gallery/chimes.wav" TargetMode="External"/><Relationship Id="rId16" Type="http://schemas.openxmlformats.org/officeDocument/2006/relationships/image" Target="../media/image5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692000" y="4149360"/>
            <a:ext cx="684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втор: Кондратьева Тамара Стан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ГОУ СОШ № 534, город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итель мат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ая квалификационная катег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При каких значениях х значения функци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= - 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2х + 8 положительны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5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6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7"/>
          <a:stretch/>
        </p:blipFill>
        <p:spPr>
          <a:xfrm>
            <a:off x="6012000" y="1989000"/>
            <a:ext cx="3082680" cy="2984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21164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1164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6"/>
              <p:cNvSpPr txBox="1"/>
              <p:nvPr/>
            </p:nvSpPr>
            <p:spPr>
              <a:xfrm>
                <a:off x="1692360" y="1628640"/>
                <a:ext cx="1857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1692360" y="270828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1692360" y="5229360"/>
                <a:ext cx="1857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0"/>
              <p:cNvSpPr txBox="1"/>
              <p:nvPr/>
            </p:nvSpPr>
            <p:spPr>
              <a:xfrm>
                <a:off x="1692360" y="4149720"/>
                <a:ext cx="82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608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. Решите неравенство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4427640" y="333360"/>
                <a:ext cx="32385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3" name="AutoShape 1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4" name="AutoShape 1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 flipH="1">
            <a:off x="3491640" y="3789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1200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13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 flipH="1">
            <a:off x="5292000" y="2708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77164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4"/>
              <p:cNvSpPr txBox="1"/>
              <p:nvPr/>
            </p:nvSpPr>
            <p:spPr>
              <a:xfrm>
                <a:off x="6372360" y="1628640"/>
                <a:ext cx="1012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7"/>
              <p:cNvSpPr txBox="1"/>
              <p:nvPr/>
            </p:nvSpPr>
            <p:spPr>
              <a:xfrm>
                <a:off x="1692360" y="4149720"/>
                <a:ext cx="739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8"/>
              <p:cNvSpPr txBox="1"/>
              <p:nvPr/>
            </p:nvSpPr>
            <p:spPr>
              <a:xfrm>
                <a:off x="1692360" y="1628640"/>
                <a:ext cx="2160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9"/>
              <p:cNvSpPr txBox="1"/>
              <p:nvPr/>
            </p:nvSpPr>
            <p:spPr>
              <a:xfrm>
                <a:off x="4932360" y="3789360"/>
                <a:ext cx="33274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. Решите неравенство:  –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9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9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149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93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457200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57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1692360" y="1628640"/>
                <a:ext cx="216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692360" y="2708280"/>
                <a:ext cx="1019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1692360" y="4149720"/>
                <a:ext cx="1079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692360" y="5229360"/>
                <a:ext cx="1253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5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5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42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. Решите неравенство и укажите наименьшее  целое решение этого неравенства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492360" y="1268280"/>
                <a:ext cx="2089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7" name="AutoShape 8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11280" y="234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29272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52927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611280" y="306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61128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5651640" y="342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332000" y="2349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133200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2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6372360" y="2708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6372360" y="4149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51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тынов П.И./ Алгебра. Тесты. 7 – 9 классы: Учебно-методическое пособие. – 3-е изд. – М.: Дрофа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ычев Ю.Н., Миндюк Н.Г., Нешков К.И., Суворова С.Б./ Алгебра. 9 класс: учебник для общеообразовательных учреждений. – 17-е изд. – М.: ОАО «Московские учебники», по лицензии ОАО «Издательство «Просвещение»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umsolver.com/image_rus/image_1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akak.ru/recipes/11651-kak-issledovat-funktsiyu-i-postroit-ee-graf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ebmath.exponenta.ru/s/c/function/content/models/parafor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лайде №8 и №9 графики выполнены с помощью программ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8" name="AutoShape 5">
            <a:hlinkClick r:id="" action="ppaction://hlinkshowjump?jump=firstslide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previousslide"/>
            <a:hlinkClick r:id="rId4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5651640" y="5229360"/>
          <a:ext cx="180000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7" descr="2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5229360"/>
                    <a:ext cx="1800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24206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ичная функция и квадратичные неравенст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71280" y="4508640"/>
            <a:ext cx="252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нтерактивный 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8532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4" name="AutoShape 7">
            <a:hlinkClick r:id="" action="ppaction://hlinkshowjump?jump=previousslide"/>
            <a:hlinkClick r:id="rId2"/>
          </p:cNvPr>
          <p:cNvSpPr/>
          <p:nvPr/>
        </p:nvSpPr>
        <p:spPr>
          <a:xfrm>
            <a:off x="7812000" y="558972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5720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квадратичной функции и её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" action="ppaction://hlinksldjump"/>
              </a:rPr>
              <a:t>Вопрос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2" action="ppaction://hlinksldjump"/>
              </a:rPr>
              <a:t>Вопрос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3" action="ppaction://hlinksldjump"/>
              </a:rPr>
              <a:t>Вопрос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4" action="ppaction://hlinksldjump"/>
              </a:rPr>
              <a:t>Вопрос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5" action="ppaction://hlinksldjump"/>
              </a:rPr>
              <a:t>Вопрос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6" action="ppaction://hlinksldjump"/>
              </a:rPr>
              <a:t>Вопрос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360" y="1267920"/>
            <a:ext cx="4178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квадратичных неравен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7" action="ppaction://hlinksldjump"/>
              </a:rPr>
              <a:t>Вопрос №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8" action="ppaction://hlinksldjump"/>
              </a:rPr>
              <a:t>Вопрос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9" action="ppaction://hlinksldjump"/>
              </a:rPr>
              <a:t>Вопрос №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ecc4c"/>
                </a:solidFill>
                <a:uFillTx/>
                <a:latin typeface="Arial"/>
                <a:hlinkClick r:id="rId10" action="ppaction://hlinksldjump"/>
              </a:rPr>
              <a:t>Вопрос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  <a:hlinkClick r:id="rId11"/>
          </p:cNvPr>
          <p:cNvSpPr/>
          <p:nvPr/>
        </p:nvSpPr>
        <p:spPr>
          <a:xfrm>
            <a:off x="493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9" name="AutoShape 6">
            <a:hlinkClick r:id="rId13" action="ppaction://hlinksldjump"/>
          </p:cNvPr>
          <p:cNvSpPr/>
          <p:nvPr/>
        </p:nvSpPr>
        <p:spPr>
          <a:xfrm>
            <a:off x="421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previousslide"/>
            <a:hlinkClick r:id="rId15"/>
          </p:cNvPr>
          <p:cNvSpPr/>
          <p:nvPr/>
        </p:nvSpPr>
        <p:spPr>
          <a:xfrm>
            <a:off x="349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50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Найдите координаты вершины параболы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8х - 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92360" y="162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332000" y="2708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- 2; - 9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69236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7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692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(2; - 5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AutoShape 11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AutoShape 12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132000" y="4869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9236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611280" y="2708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3cbb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11280" y="378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1128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cbb"/>
                </a:solidFill>
                <a:latin typeface="Times New Roman"/>
              </a:rPr>
              <a:t>г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AutoShape 19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492360" y="378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7" name="Picture 24" descr=""/>
          <p:cNvPicPr/>
          <p:nvPr/>
        </p:nvPicPr>
        <p:blipFill>
          <a:blip r:embed="rId7"/>
          <a:stretch/>
        </p:blipFill>
        <p:spPr>
          <a:xfrm>
            <a:off x="5567400" y="1989000"/>
            <a:ext cx="3576600" cy="34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Найдите нули функции: у = - 9х + 7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1692360" y="2808360"/>
                <a:ext cx="6062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692360" y="1670040"/>
                <a:ext cx="718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5"/>
          <p:cNvSpPr/>
          <p:nvPr/>
        </p:nvSpPr>
        <p:spPr>
          <a:xfrm>
            <a:off x="1692360" y="162864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32000" y="2708280"/>
            <a:ext cx="14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AutoShape 10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132000" y="270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3"/>
              <p:cNvSpPr txBox="1"/>
              <p:nvPr/>
            </p:nvSpPr>
            <p:spPr>
              <a:xfrm>
                <a:off x="1743120" y="3844800"/>
                <a:ext cx="60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5"/>
              <p:cNvSpPr txBox="1"/>
              <p:nvPr/>
            </p:nvSpPr>
            <p:spPr>
              <a:xfrm>
                <a:off x="1692360" y="5019840"/>
                <a:ext cx="7189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Picture 36" descr=""/>
          <p:cNvPicPr/>
          <p:nvPr/>
        </p:nvPicPr>
        <p:blipFill>
          <a:blip r:embed="rId7"/>
          <a:stretch/>
        </p:blipFill>
        <p:spPr>
          <a:xfrm>
            <a:off x="5622840" y="1989000"/>
            <a:ext cx="3521160" cy="35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Найдите промежуток (промежутки) возрастания функции: у = - 2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7х -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8"/>
              <p:cNvSpPr txBox="1"/>
              <p:nvPr/>
            </p:nvSpPr>
            <p:spPr>
              <a:xfrm>
                <a:off x="1332000" y="1628640"/>
                <a:ext cx="1101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1,7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AutoShape 43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0" name="AutoShape 44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1" name="AutoShape 45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372360" y="162864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0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492360" y="1628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349236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349236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349236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0"/>
              <p:cNvSpPr txBox="1"/>
              <p:nvPr/>
            </p:nvSpPr>
            <p:spPr>
              <a:xfrm>
                <a:off x="1332000" y="2708280"/>
                <a:ext cx="107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6"/>
              <p:cNvSpPr txBox="1"/>
              <p:nvPr/>
            </p:nvSpPr>
            <p:spPr>
              <a:xfrm>
                <a:off x="1332000" y="4149720"/>
                <a:ext cx="1163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7"/>
              <p:cNvSpPr txBox="1"/>
              <p:nvPr/>
            </p:nvSpPr>
            <p:spPr>
              <a:xfrm>
                <a:off x="1332000" y="5229360"/>
                <a:ext cx="996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3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Найдите множество значений функции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у =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3х -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292720" y="1628640"/>
            <a:ext cx="3836880" cy="3956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611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11280" y="270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3132000" y="5229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132000" y="162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13200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132000" y="414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1332000" y="162864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- 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1"/>
              <p:cNvSpPr txBox="1"/>
              <p:nvPr/>
            </p:nvSpPr>
            <p:spPr>
              <a:xfrm>
                <a:off x="1332000" y="4149720"/>
                <a:ext cx="131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- 7,2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2"/>
              <p:cNvSpPr txBox="1"/>
              <p:nvPr/>
            </p:nvSpPr>
            <p:spPr>
              <a:xfrm>
                <a:off x="1332000" y="2708280"/>
                <a:ext cx="1079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1332000" y="5229360"/>
                <a:ext cx="1423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Укажите график функции: у = -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4х – 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3" name="AutoShape 5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092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93236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250920" y="486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57200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57200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7"/>
          <a:stretch/>
        </p:blipFill>
        <p:spPr>
          <a:xfrm>
            <a:off x="2050920" y="4149720"/>
            <a:ext cx="1914480" cy="199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8"/>
          <a:stretch/>
        </p:blipFill>
        <p:spPr>
          <a:xfrm>
            <a:off x="2050920" y="1628640"/>
            <a:ext cx="215928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"/>
          <p:cNvPicPr/>
          <p:nvPr/>
        </p:nvPicPr>
        <p:blipFill>
          <a:blip r:embed="rId9"/>
          <a:stretch/>
        </p:blipFill>
        <p:spPr>
          <a:xfrm>
            <a:off x="6372360" y="1268280"/>
            <a:ext cx="2160360" cy="18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10"/>
          <a:stretch/>
        </p:blipFill>
        <p:spPr>
          <a:xfrm>
            <a:off x="6372360" y="3875040"/>
            <a:ext cx="216036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72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. Укажите график функции: у = (х + 2)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nextslide"/>
            <a:hlinkClick r:id="rId1"/>
          </p:cNvPr>
          <p:cNvSpPr/>
          <p:nvPr/>
        </p:nvSpPr>
        <p:spPr>
          <a:xfrm>
            <a:off x="169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AutoShape 6">
            <a:hlinkClick r:id="rId3" action="ppaction://hlinksldjump"/>
          </p:cNvPr>
          <p:cNvSpPr/>
          <p:nvPr/>
        </p:nvSpPr>
        <p:spPr>
          <a:xfrm>
            <a:off x="97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2509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1128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а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29272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cbb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1128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012000" y="162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cbb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292720" y="234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cc4c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50920" y="234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5092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93236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722"/>
                </a:solidFill>
                <a:latin typeface="Times New Roman"/>
              </a:rPr>
              <a:t>Неверно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7"/>
          <a:stretch/>
        </p:blipFill>
        <p:spPr>
          <a:xfrm>
            <a:off x="2050920" y="1628640"/>
            <a:ext cx="2019600" cy="171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"/>
          <p:cNvPicPr/>
          <p:nvPr/>
        </p:nvPicPr>
        <p:blipFill>
          <a:blip r:embed="rId8"/>
          <a:stretch/>
        </p:blipFill>
        <p:spPr>
          <a:xfrm>
            <a:off x="2050920" y="3789360"/>
            <a:ext cx="2086200" cy="1952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"/>
          <p:cNvPicPr/>
          <p:nvPr/>
        </p:nvPicPr>
        <p:blipFill>
          <a:blip r:embed="rId9"/>
          <a:stretch/>
        </p:blipFill>
        <p:spPr>
          <a:xfrm>
            <a:off x="6983280" y="1268280"/>
            <a:ext cx="2160720" cy="2043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"/>
          <p:cNvPicPr/>
          <p:nvPr/>
        </p:nvPicPr>
        <p:blipFill>
          <a:blip r:embed="rId10"/>
          <a:stretch/>
        </p:blipFill>
        <p:spPr>
          <a:xfrm>
            <a:off x="6372360" y="3789360"/>
            <a:ext cx="24955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ecc4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31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Admin</cp:lastModifiedBy>
  <dcterms:modified xsi:type="dcterms:W3CDTF">2012-10-05T19:53:28Z</dcterms:modified>
  <cp:revision>19</cp:revision>
  <dc:subject/>
  <dc:title>Слайд 1</dc:title>
</cp:coreProperties>
</file>