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3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chimes.wav" ContentType="audio/x-wav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2BF-688F-4B0E-B279-489C5E38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E54-3167-4E29-A202-2B4CC4C0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45B-DEFA-4916-AF64-E264E21C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7E4-98F1-40C4-8263-17F0D88F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E9F6-6EBB-4AF7-A27E-DEF9DAA4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E016-C1FE-4687-9F2E-D44AF820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0582-B2EF-4C5D-8094-F8B4D2F9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985E-D3ED-44E4-A22A-7AF483E4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53D2-136F-47A7-AA4D-08B4BC12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AF55-221A-4DE5-BB98-6E92C147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AA3A-C7BC-4159-8AF8-C2610E4C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14D-AC9F-4A49-9853-330CA3C4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14C8-612F-44EF-B50C-586BA5CA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7518-7DD3-44B5-AB85-A2A8F8A6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1EF3-D931-448D-9123-86B2A8BC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196C-C7C7-4713-ABA4-061D77A8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4B10-38A4-4045-82BE-8913EC11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9CD-D160-48CE-987C-6788460D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CFA-6D84-494E-B842-63A7EC52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D7EE-5A6F-4749-8ACE-565B6668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E59-204D-438A-A6EF-CF71914E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424-E82B-4F0A-8BF7-711EEEF2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C3A-4F8F-40F0-9202-546D7F08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EEB-913F-4590-83B8-B9B675F9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15B3-7B6E-4819-8DE6-ABBF21E0F8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7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68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74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6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77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A8F5-0E4C-4AD3-816D-0608B6C966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19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image" Target="../media/image5.png"/><Relationship Id="rId13" Type="http://schemas.openxmlformats.org/officeDocument/2006/relationships/slide" Target="slide2.xml"/><Relationship Id="rId14" Type="http://schemas.openxmlformats.org/officeDocument/2006/relationships/image" Target="../media/image6.jpeg"/><Relationship Id="rId15" Type="http://schemas.openxmlformats.org/officeDocument/2006/relationships/hyperlink" Target="file:///tmp/home/.config/libreoffice/4/user/gallery/chimes.wav" TargetMode="External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8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10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692000" y="4149360"/>
            <a:ext cx="684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автор: Кондратьева Тамара Стани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ГОУ СОШ № 534, город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читель математ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ервая квалификационная катег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>
            <a:hlinkClick r:id="" action="ppaction://hlinkshowjump?jump=nextslide"/>
          </p:cNvPr>
          <p:cNvSpPr/>
          <p:nvPr/>
        </p:nvSpPr>
        <p:spPr>
          <a:xfrm>
            <a:off x="8532720" y="5589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7. При каких значениях х значения функции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= - х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2х + 8 положительны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5" name="AutoShape 5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6" name="AutoShape 6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7"/>
          <a:stretch/>
        </p:blipFill>
        <p:spPr>
          <a:xfrm>
            <a:off x="6012000" y="1989000"/>
            <a:ext cx="3082680" cy="29847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61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1128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3132000" y="270828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3492360" y="414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211640" y="522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4211640" y="162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6"/>
              <p:cNvSpPr txBox="1"/>
              <p:nvPr/>
            </p:nvSpPr>
            <p:spPr>
              <a:xfrm>
                <a:off x="1692360" y="1628640"/>
                <a:ext cx="1857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7"/>
              <p:cNvSpPr txBox="1"/>
              <p:nvPr/>
            </p:nvSpPr>
            <p:spPr>
              <a:xfrm>
                <a:off x="1692360" y="2708280"/>
                <a:ext cx="822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9"/>
              <p:cNvSpPr txBox="1"/>
              <p:nvPr/>
            </p:nvSpPr>
            <p:spPr>
              <a:xfrm>
                <a:off x="1692360" y="5229360"/>
                <a:ext cx="18572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0"/>
              <p:cNvSpPr txBox="1"/>
              <p:nvPr/>
            </p:nvSpPr>
            <p:spPr>
              <a:xfrm>
                <a:off x="1692360" y="4149720"/>
                <a:ext cx="822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47" dur="indefinite" restart="never" nodeType="tmRoot">
          <p:childTnLst>
            <p:seq>
              <p:cTn id="34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5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5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77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2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5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46083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. Решите неравенство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0"/>
              <p:cNvSpPr txBox="1"/>
              <p:nvPr/>
            </p:nvSpPr>
            <p:spPr>
              <a:xfrm>
                <a:off x="4427640" y="333360"/>
                <a:ext cx="32385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AutoShape 13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3" name="AutoShape 14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4" name="AutoShape 15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 flipH="1">
            <a:off x="3491640" y="3789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493236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6012000" y="4869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133200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1" name="Text Box 22"/>
          <p:cNvSpPr/>
          <p:nvPr/>
        </p:nvSpPr>
        <p:spPr>
          <a:xfrm flipH="1">
            <a:off x="5292000" y="2708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771640" y="414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4"/>
              <p:cNvSpPr txBox="1"/>
              <p:nvPr/>
            </p:nvSpPr>
            <p:spPr>
              <a:xfrm>
                <a:off x="6372360" y="1628640"/>
                <a:ext cx="101268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7"/>
              <p:cNvSpPr txBox="1"/>
              <p:nvPr/>
            </p:nvSpPr>
            <p:spPr>
              <a:xfrm>
                <a:off x="1692360" y="4149720"/>
                <a:ext cx="7398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8"/>
              <p:cNvSpPr txBox="1"/>
              <p:nvPr/>
            </p:nvSpPr>
            <p:spPr>
              <a:xfrm>
                <a:off x="1692360" y="1628640"/>
                <a:ext cx="21603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-1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9"/>
              <p:cNvSpPr txBox="1"/>
              <p:nvPr/>
            </p:nvSpPr>
            <p:spPr>
              <a:xfrm>
                <a:off x="4932360" y="3789360"/>
                <a:ext cx="33274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4" dur="indefinite" restart="never" nodeType="tmRoot">
          <p:childTnLst>
            <p:seq>
              <p:cTn id="405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5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5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9" dur="5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448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3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. Решите неравенство:  –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9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gt;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9" name="AutoShape 5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0" name="AutoShape 6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61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61128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4572000" y="4149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4932360" y="162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4572000" y="522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457200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6"/>
              <p:cNvSpPr txBox="1"/>
              <p:nvPr/>
            </p:nvSpPr>
            <p:spPr>
              <a:xfrm>
                <a:off x="1692360" y="1628640"/>
                <a:ext cx="216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7"/>
              <p:cNvSpPr txBox="1"/>
              <p:nvPr/>
            </p:nvSpPr>
            <p:spPr>
              <a:xfrm>
                <a:off x="1692360" y="2708280"/>
                <a:ext cx="1019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8"/>
              <p:cNvSpPr txBox="1"/>
              <p:nvPr/>
            </p:nvSpPr>
            <p:spPr>
              <a:xfrm>
                <a:off x="1692360" y="4149720"/>
                <a:ext cx="1079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9"/>
              <p:cNvSpPr txBox="1"/>
              <p:nvPr/>
            </p:nvSpPr>
            <p:spPr>
              <a:xfrm>
                <a:off x="1692360" y="5229360"/>
                <a:ext cx="12538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61" dur="indefinite" restart="never" nodeType="tmRoot">
          <p:childTnLst>
            <p:seq>
              <p:cTn id="46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8" dur="500" fill="hold"/>
                                        <p:tgtEl>
                                          <p:spTgt spid="2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2" dur="5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5" dur="5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504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5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42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. Решите неравенство и укажите наименьшее  целое решение этого неравенства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492360" y="1268280"/>
                <a:ext cx="2089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х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AutoShape 6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7" name="AutoShape 8">
            <a:hlinkClick r:id="" action="ppaction://hlinkshowjump?jump=previousslide"/>
            <a:hlinkClick r:id="rId4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611280" y="2349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292720" y="414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29272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5292720" y="4869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611280" y="306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611280" y="486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5651640" y="342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1332000" y="2349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- 3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1332000" y="4149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- 2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6372360" y="27082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6372360" y="4149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61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6518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тынов П.И./ Алгебра. Тесты. 7 – 9 классы: Учебно-методическое пособие. – 3-е изд. – М.: Дрофа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ычев Ю.Н., Миндюк Н.Г., Нешков К.И., Суворова С.Б./ Алгебра. 9 класс: учебник для общеообразовательных учреждений. – 17-е изд. – М.: ОАО «Московские учебники», по лицензии ОАО «Издательство «Просвещение»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3" name="AutoShape 5">
            <a:hlinkClick r:id="" action="ppaction://hlinkshowjump?jump=firstslide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4" name="AutoShape 6">
            <a:hlinkClick r:id="" action="ppaction://hlinkshowjump?jump=previousslide"/>
            <a:hlinkClick r:id="rId4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чники иллюстраций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umsolver.com/image_rus/image_1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akak.ru/recipes/11651-kak-issledovat-funktsiyu-i-postroit-ee-graf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ebmath.exponenta.ru/s/c/function/content/models/paraform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лайде №8 и №9 графики выполнены с помощью программы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8" name="AutoShape 5">
            <a:hlinkClick r:id="" action="ppaction://hlinkshowjump?jump=firstslide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9" name="AutoShape 6">
            <a:hlinkClick r:id="" action="ppaction://hlinkshowjump?jump=previousslide"/>
            <a:hlinkClick r:id="rId4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310" name="Object 7"/>
          <p:cNvGraphicFramePr/>
          <p:nvPr/>
        </p:nvGraphicFramePr>
        <p:xfrm>
          <a:off x="5651640" y="5229360"/>
          <a:ext cx="1800000" cy="114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1" name="Object 7" descr="2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51640" y="5229360"/>
                    <a:ext cx="18000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242064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вадратичная функция и квадратичные неравенств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71280" y="4508640"/>
            <a:ext cx="25210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нтерактивный трена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>
            <a:hlinkClick r:id="" action="ppaction://hlinkshowjump?jump=nextslide"/>
          </p:cNvPr>
          <p:cNvSpPr/>
          <p:nvPr/>
        </p:nvSpPr>
        <p:spPr>
          <a:xfrm>
            <a:off x="8532720" y="5589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4" name="AutoShape 7">
            <a:hlinkClick r:id="" action="ppaction://hlinkshowjump?jump=previousslide"/>
            <a:hlinkClick r:id="rId2"/>
          </p:cNvPr>
          <p:cNvSpPr/>
          <p:nvPr/>
        </p:nvSpPr>
        <p:spPr>
          <a:xfrm>
            <a:off x="7812000" y="558972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главлени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5720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 квадратичной функции и её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1" action="ppaction://hlinksldjump"/>
              </a:rPr>
              <a:t>Вопрос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2" action="ppaction://hlinksldjump"/>
              </a:rPr>
              <a:t>Вопрос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3" action="ppaction://hlinksldjump"/>
              </a:rPr>
              <a:t>Вопрос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4" action="ppaction://hlinksldjump"/>
              </a:rPr>
              <a:t>Вопрос №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5" action="ppaction://hlinksldjump"/>
              </a:rPr>
              <a:t>Вопрос №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6" action="ppaction://hlinksldjump"/>
              </a:rPr>
              <a:t>Вопрос №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32360" y="1267920"/>
            <a:ext cx="4178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 квадратичных неравен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7" action="ppaction://hlinksldjump"/>
              </a:rPr>
              <a:t>Вопрос №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8" action="ppaction://hlinksldjump"/>
              </a:rPr>
              <a:t>Вопрос №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9" action="ppaction://hlinksldjump"/>
              </a:rPr>
              <a:t>Вопрос №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10" action="ppaction://hlinksldjump"/>
              </a:rPr>
              <a:t>Вопрос №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>
            <a:hlinkClick r:id="" action="ppaction://hlinkshowjump?jump=nextslide"/>
            <a:hlinkClick r:id="rId11"/>
          </p:cNvPr>
          <p:cNvSpPr/>
          <p:nvPr/>
        </p:nvSpPr>
        <p:spPr>
          <a:xfrm>
            <a:off x="493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9" name="AutoShape 6">
            <a:hlinkClick r:id="rId13" action="ppaction://hlinksldjump"/>
          </p:cNvPr>
          <p:cNvSpPr/>
          <p:nvPr/>
        </p:nvSpPr>
        <p:spPr>
          <a:xfrm>
            <a:off x="421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0" name="AutoShape 7">
            <a:hlinkClick r:id="" action="ppaction://hlinkshowjump?jump=previousslide"/>
            <a:hlinkClick r:id="rId15"/>
          </p:cNvPr>
          <p:cNvSpPr/>
          <p:nvPr/>
        </p:nvSpPr>
        <p:spPr>
          <a:xfrm>
            <a:off x="349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850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Найдите координаты вершины параболы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у = - 2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8х - 1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692360" y="1628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(-2; - 5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332000" y="2708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(- 2; - 9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69236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(2; 7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692360" y="486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(2; - 5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6" name="AutoShape 11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7" name="AutoShape 12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3132000" y="4869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492360" y="162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611280" y="2708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3cbb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611280" y="3789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61128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г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4" name="AutoShape 19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349236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3492360" y="378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47" name="Picture 24" descr=""/>
          <p:cNvPicPr/>
          <p:nvPr/>
        </p:nvPicPr>
        <p:blipFill>
          <a:blip r:embed="rId7"/>
          <a:stretch/>
        </p:blipFill>
        <p:spPr>
          <a:xfrm>
            <a:off x="5567400" y="1989000"/>
            <a:ext cx="3576600" cy="34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Найдите нули функции: у = - 9х + 7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9"/>
              <p:cNvSpPr txBox="1"/>
              <p:nvPr/>
            </p:nvSpPr>
            <p:spPr>
              <a:xfrm>
                <a:off x="1692360" y="2808360"/>
                <a:ext cx="6062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6"/>
              <p:cNvSpPr txBox="1"/>
              <p:nvPr/>
            </p:nvSpPr>
            <p:spPr>
              <a:xfrm>
                <a:off x="1692360" y="1670040"/>
                <a:ext cx="718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Text Box 5"/>
          <p:cNvSpPr/>
          <p:nvPr/>
        </p:nvSpPr>
        <p:spPr>
          <a:xfrm>
            <a:off x="1692360" y="1628640"/>
            <a:ext cx="14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332000" y="2708280"/>
            <a:ext cx="14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3" name="AutoShape 9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4" name="AutoShape 10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132000" y="270828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132000" y="162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61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61128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1" name="AutoShape 17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3492360" y="522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3492360" y="414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3"/>
              <p:cNvSpPr txBox="1"/>
              <p:nvPr/>
            </p:nvSpPr>
            <p:spPr>
              <a:xfrm>
                <a:off x="1743120" y="3844800"/>
                <a:ext cx="601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5"/>
              <p:cNvSpPr txBox="1"/>
              <p:nvPr/>
            </p:nvSpPr>
            <p:spPr>
              <a:xfrm>
                <a:off x="1692360" y="5019840"/>
                <a:ext cx="71892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6" name="Picture 36" descr=""/>
          <p:cNvPicPr/>
          <p:nvPr/>
        </p:nvPicPr>
        <p:blipFill>
          <a:blip r:embed="rId7"/>
          <a:stretch/>
        </p:blipFill>
        <p:spPr>
          <a:xfrm>
            <a:off x="5622840" y="1989000"/>
            <a:ext cx="3521160" cy="351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5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5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Найдите промежуток (промежутки) возрастания функции: у = - 2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7х -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8"/>
              <p:cNvSpPr txBox="1"/>
              <p:nvPr/>
            </p:nvSpPr>
            <p:spPr>
              <a:xfrm>
                <a:off x="1332000" y="1628640"/>
                <a:ext cx="1101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1,7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AutoShape 43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0" name="AutoShape 44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1" name="AutoShape 45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72" name="Picture 46" descr=""/>
          <p:cNvPicPr/>
          <p:nvPr/>
        </p:nvPicPr>
        <p:blipFill>
          <a:blip r:embed="rId7"/>
          <a:stretch/>
        </p:blipFill>
        <p:spPr>
          <a:xfrm>
            <a:off x="6372360" y="1628640"/>
            <a:ext cx="264924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0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4" name="Text Box 51"/>
          <p:cNvSpPr/>
          <p:nvPr/>
        </p:nvSpPr>
        <p:spPr>
          <a:xfrm>
            <a:off x="61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61128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492360" y="162864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349236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3492360" y="522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0" name="Text Box 57"/>
          <p:cNvSpPr/>
          <p:nvPr/>
        </p:nvSpPr>
        <p:spPr>
          <a:xfrm>
            <a:off x="3492360" y="414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60"/>
              <p:cNvSpPr txBox="1"/>
              <p:nvPr/>
            </p:nvSpPr>
            <p:spPr>
              <a:xfrm>
                <a:off x="1332000" y="2708280"/>
                <a:ext cx="107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66"/>
              <p:cNvSpPr txBox="1"/>
              <p:nvPr/>
            </p:nvSpPr>
            <p:spPr>
              <a:xfrm>
                <a:off x="1332000" y="4149720"/>
                <a:ext cx="1163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3,5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67"/>
              <p:cNvSpPr txBox="1"/>
              <p:nvPr/>
            </p:nvSpPr>
            <p:spPr>
              <a:xfrm>
                <a:off x="1332000" y="5229360"/>
                <a:ext cx="996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3,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5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5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 Найдите множество значений функции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у = 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3х - 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5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6" name="AutoShape 6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7" name="AutoShape 7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7"/>
          <a:stretch/>
        </p:blipFill>
        <p:spPr>
          <a:xfrm>
            <a:off x="5292720" y="1628640"/>
            <a:ext cx="3836880" cy="39560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2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61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61128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3132000" y="5229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132000" y="162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313200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3132000" y="414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0"/>
              <p:cNvSpPr txBox="1"/>
              <p:nvPr/>
            </p:nvSpPr>
            <p:spPr>
              <a:xfrm>
                <a:off x="1332000" y="1628640"/>
                <a:ext cx="107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- 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1"/>
              <p:cNvSpPr txBox="1"/>
              <p:nvPr/>
            </p:nvSpPr>
            <p:spPr>
              <a:xfrm>
                <a:off x="1332000" y="4149720"/>
                <a:ext cx="131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- 7,2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2"/>
              <p:cNvSpPr txBox="1"/>
              <p:nvPr/>
            </p:nvSpPr>
            <p:spPr>
              <a:xfrm>
                <a:off x="1332000" y="2708280"/>
                <a:ext cx="1079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1332000" y="5229360"/>
                <a:ext cx="14238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5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5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5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848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. Укажите график функции: у = - 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4х – 3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3" name="AutoShape 5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4" name="AutoShape 6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092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292720" y="414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493236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250920" y="4869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4572000" y="486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4572000" y="234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250920" y="234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13" name="Picture 16" descr=""/>
          <p:cNvPicPr/>
          <p:nvPr/>
        </p:nvPicPr>
        <p:blipFill>
          <a:blip r:embed="rId7"/>
          <a:stretch/>
        </p:blipFill>
        <p:spPr>
          <a:xfrm>
            <a:off x="2050920" y="4149720"/>
            <a:ext cx="1914480" cy="1996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8"/>
          <a:stretch/>
        </p:blipFill>
        <p:spPr>
          <a:xfrm>
            <a:off x="2050920" y="1628640"/>
            <a:ext cx="2159280" cy="1676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"/>
          <p:cNvPicPr/>
          <p:nvPr/>
        </p:nvPicPr>
        <p:blipFill>
          <a:blip r:embed="rId9"/>
          <a:stretch/>
        </p:blipFill>
        <p:spPr>
          <a:xfrm>
            <a:off x="6372360" y="1268280"/>
            <a:ext cx="2160360" cy="183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9" descr=""/>
          <p:cNvPicPr/>
          <p:nvPr/>
        </p:nvPicPr>
        <p:blipFill>
          <a:blip r:embed="rId10"/>
          <a:stretch/>
        </p:blipFill>
        <p:spPr>
          <a:xfrm>
            <a:off x="6372360" y="3875040"/>
            <a:ext cx="2160360" cy="21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25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. Укажите график функции: у = (х + 2)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9" name="AutoShape 6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0" name="AutoShape 7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292720" y="414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01200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292720" y="2349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250920" y="234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50920" y="486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4932360" y="486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29" name="Picture 16" descr=""/>
          <p:cNvPicPr/>
          <p:nvPr/>
        </p:nvPicPr>
        <p:blipFill>
          <a:blip r:embed="rId7"/>
          <a:stretch/>
        </p:blipFill>
        <p:spPr>
          <a:xfrm>
            <a:off x="2050920" y="1628640"/>
            <a:ext cx="2019600" cy="1714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7" descr=""/>
          <p:cNvPicPr/>
          <p:nvPr/>
        </p:nvPicPr>
        <p:blipFill>
          <a:blip r:embed="rId8"/>
          <a:stretch/>
        </p:blipFill>
        <p:spPr>
          <a:xfrm>
            <a:off x="2050920" y="3789360"/>
            <a:ext cx="2086200" cy="1952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"/>
          <p:cNvPicPr/>
          <p:nvPr/>
        </p:nvPicPr>
        <p:blipFill>
          <a:blip r:embed="rId9"/>
          <a:stretch/>
        </p:blipFill>
        <p:spPr>
          <a:xfrm>
            <a:off x="6983280" y="1268280"/>
            <a:ext cx="2160720" cy="2043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" descr=""/>
          <p:cNvPicPr/>
          <p:nvPr/>
        </p:nvPicPr>
        <p:blipFill>
          <a:blip r:embed="rId10"/>
          <a:stretch/>
        </p:blipFill>
        <p:spPr>
          <a:xfrm>
            <a:off x="6372360" y="3789360"/>
            <a:ext cx="249552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250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250" autoRev="1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5:54Z</dcterms:created>
  <dc:creator>1</dc:creator>
  <dc:description/>
  <dc:language>en-US</dc:language>
  <cp:lastModifiedBy>Admin</cp:lastModifiedBy>
  <dcterms:modified xsi:type="dcterms:W3CDTF">2012-10-05T19:53:28Z</dcterms:modified>
  <cp:revision>19</cp:revision>
  <dc:subject/>
  <dc:title>Слайд 1</dc:title>
</cp:coreProperties>
</file>