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4B8-918E-45C0-954D-168241CC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7F6-147A-4AC3-9BAA-591851E7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8C8-8448-412D-A29E-C369A061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466-7493-4F79-AD43-E099A5A9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1FA9-7838-48AF-A17C-F802B960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5173-757D-4581-8A51-E2046B0F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3B25-1213-4124-9B44-484B3559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6C544-C481-48B9-8C71-E0F345E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A7B7-00E1-4AFA-9E70-9A67D98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EFD3-F2D9-457E-A842-116CD08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63ED2-BD6F-435F-B610-2B545E5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442-7910-4977-ADD3-1C268966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E94D-59B2-419C-AD4C-65A028B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3FF3-CFE3-473E-8F88-127C5EF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C2B10-1647-4996-8BC8-5A852E71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07F80-09F4-4383-B6AF-2E214580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DDFB-D5A4-4A0A-9522-6C045CF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6B7-DBB6-4E35-8276-0FCD3FF4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71F-1E94-49FB-AD51-659CA32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027-0DB4-432D-9C99-1E62D9A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79D-C109-42E9-8D4C-3C0A35CC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D06-339A-456F-9C8E-ABD52B4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239-77F3-47F4-B61C-FA6F8DA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D35-E4C7-4357-8AF4-B1C7C53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252-B4C4-467A-A83A-A6DECD8FF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3414-DE20-481E-B1E7-A3520BB63C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Куда</a:t>
            </a:r>
            <a:r>
              <a:rPr b="1" lang="ru-RU" sz="4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текут рек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3885840"/>
            <a:ext cx="8280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уда впадают ре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равним реки и м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ыполняем лабораторную 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G_NEW"/>
          <p:cNvPicPr/>
          <p:nvPr/>
        </p:nvPicPr>
        <p:blipFill>
          <a:blip r:embed="rId1"/>
          <a:stretch/>
        </p:blipFill>
        <p:spPr>
          <a:xfrm>
            <a:off x="324000" y="428760"/>
            <a:ext cx="84628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IMG_0002_NEW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32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IMG_0002_NEW"/>
          <p:cNvPicPr/>
          <p:nvPr/>
        </p:nvPicPr>
        <p:blipFill>
          <a:blip r:embed="rId2"/>
          <a:stretch/>
        </p:blipFill>
        <p:spPr>
          <a:xfrm>
            <a:off x="4500720" y="3645000"/>
            <a:ext cx="4319280" cy="298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4859280" y="476280"/>
            <a:ext cx="3889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азовите разн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жду рекой и мор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68360" y="3933720"/>
            <a:ext cx="374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Чем отличается речная вода от морск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T235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1484280"/>
            <a:ext cx="4105080" cy="386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AM_0217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3478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932360" y="162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О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6156360" y="2565360"/>
            <a:ext cx="50328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4360" y="57340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1619280" y="4797360"/>
            <a:ext cx="50472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Укажите на рисунке, где изображена река, а где мор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1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верим, что мы узнали на уроке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905120"/>
            <a:ext cx="4402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ка может впадать в другую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еку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зеро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ор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реке вода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есная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а в море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ле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3" descr="IMG_NEW"/>
          <p:cNvPicPr/>
          <p:nvPr/>
        </p:nvPicPr>
        <p:blipFill>
          <a:blip r:embed="rId1"/>
          <a:stretch/>
        </p:blipFill>
        <p:spPr>
          <a:xfrm>
            <a:off x="250920" y="206064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6588000" y="3213000"/>
            <a:ext cx="115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4716360" y="3716280"/>
            <a:ext cx="1440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7236000" y="3716280"/>
            <a:ext cx="122364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716360" y="4941720"/>
            <a:ext cx="19432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012000" y="5445000"/>
            <a:ext cx="2016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1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пасибо за работу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ы молодцы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IMG_NEW3"/>
          <p:cNvPicPr/>
          <p:nvPr/>
        </p:nvPicPr>
        <p:blipFill>
          <a:blip r:embed="rId1"/>
          <a:stretch/>
        </p:blipFill>
        <p:spPr>
          <a:xfrm>
            <a:off x="324000" y="189000"/>
            <a:ext cx="3919320" cy="282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MG_NEW1"/>
          <p:cNvPicPr/>
          <p:nvPr/>
        </p:nvPicPr>
        <p:blipFill>
          <a:blip r:embed="rId2"/>
          <a:stretch/>
        </p:blipFill>
        <p:spPr>
          <a:xfrm>
            <a:off x="5867280" y="2133720"/>
            <a:ext cx="302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0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7:49:20Z</dcterms:created>
  <dc:creator>Programmer</dc:creator>
  <dc:description/>
  <dc:language>en-US</dc:language>
  <cp:lastModifiedBy>User</cp:lastModifiedBy>
  <dcterms:modified xsi:type="dcterms:W3CDTF">2013-06-02T18:18:23Z</dcterms:modified>
  <cp:revision>3</cp:revision>
  <dc:subject/>
  <dc:title>Куда текут реки ?</dc:title>
</cp:coreProperties>
</file>