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8C5-1609-457E-B747-E8D1AD0D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293-8993-4F80-A109-3480E2CA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3B8-6EEE-4D05-8078-5B3D3D5C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7F3-9425-4DAD-BE10-55D83435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BA79A-30B1-47D8-BD70-6A728129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5A2BD-755B-4E04-9C1B-79485A82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C2CC7-F70F-4A80-83C9-CDD29EA6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43527-07B5-403F-81ED-35BB96C9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B73FA-104C-4F14-B700-68D03E4F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2E8E8-4A5C-4E64-83B7-FEE3DE11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57242-DE14-499C-9008-4F3E2587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C5B1-E557-4DFF-8906-6B0C3665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0F02A-D46D-45B3-AE2A-98D74160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B5311-7E24-4F54-BF1C-F293B035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C2894-2375-48D0-9F61-43757A5C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03F47-14E9-4C03-83C4-5152071A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1A205-963B-4C89-A164-CFE1EDC6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3B1-6096-4815-A828-5EF39A9B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B4D-0A27-440D-9CE7-F56AC0A0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F404-0DFA-4014-90A9-5E8793F7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837-80FA-4185-8692-4A61104A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EE8-5306-4D30-B831-A8D0B884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CA86-10F2-41C7-A01D-5C572CA9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3227-02CE-46BA-8291-6FC4B165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cccc"/>
            </a:gs>
            <a:gs pos="100000">
              <a:srgbClr val="66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9D75-57D6-4493-806C-9545F6A81A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cccc"/>
            </a:gs>
            <a:gs pos="100000">
              <a:srgbClr val="66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606C-E1F3-424A-8240-DF29D749B5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10199"/>
                </a:solidFill>
                <a:latin typeface="Tahoma"/>
              </a:rPr>
              <a:t>Куда</a:t>
            </a:r>
            <a:r>
              <a:rPr b="1" lang="ru-RU" sz="4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6000" spc="-1" strike="noStrike">
                <a:solidFill>
                  <a:srgbClr val="010199"/>
                </a:solidFill>
                <a:latin typeface="Tahoma"/>
              </a:rPr>
              <a:t>текут реки 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000" y="3885840"/>
            <a:ext cx="828036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Куда впадают ре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Сравним реки и мор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Выполняем лабораторную рабо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IMG_NEW"/>
          <p:cNvPicPr/>
          <p:nvPr/>
        </p:nvPicPr>
        <p:blipFill>
          <a:blip r:embed="rId1"/>
          <a:stretch/>
        </p:blipFill>
        <p:spPr>
          <a:xfrm>
            <a:off x="324000" y="428760"/>
            <a:ext cx="846288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IMG_0002_NEW"/>
          <p:cNvPicPr/>
          <p:nvPr/>
        </p:nvPicPr>
        <p:blipFill>
          <a:blip r:embed="rId1"/>
          <a:stretch/>
        </p:blipFill>
        <p:spPr>
          <a:xfrm>
            <a:off x="324000" y="260280"/>
            <a:ext cx="4032000" cy="3326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IMG_0002_NEW"/>
          <p:cNvPicPr/>
          <p:nvPr/>
        </p:nvPicPr>
        <p:blipFill>
          <a:blip r:embed="rId2"/>
          <a:stretch/>
        </p:blipFill>
        <p:spPr>
          <a:xfrm>
            <a:off x="4500720" y="3645000"/>
            <a:ext cx="4319280" cy="2989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4859280" y="476280"/>
            <a:ext cx="38894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Назовите разниц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Между рекой и море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68360" y="3933720"/>
            <a:ext cx="374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Чем отличается речная вода от морской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63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64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74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75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ICT2358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50920" y="1484280"/>
            <a:ext cx="4105080" cy="3862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SAM_0217"/>
          <p:cNvPicPr/>
          <p:nvPr/>
        </p:nvPicPr>
        <p:blipFill>
          <a:blip r:embed="rId2"/>
          <a:stretch/>
        </p:blipFill>
        <p:spPr>
          <a:xfrm>
            <a:off x="4067280" y="3068640"/>
            <a:ext cx="4752720" cy="3478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4932360" y="162864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МОР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5"/>
          <p:cNvSpPr/>
          <p:nvPr/>
        </p:nvSpPr>
        <p:spPr>
          <a:xfrm flipH="1">
            <a:off x="6156360" y="2565360"/>
            <a:ext cx="50328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84360" y="573408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Ре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7"/>
          <p:cNvSpPr/>
          <p:nvPr/>
        </p:nvSpPr>
        <p:spPr>
          <a:xfrm flipV="1">
            <a:off x="1619280" y="4797360"/>
            <a:ext cx="50472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68360" y="18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Укажите на рисунке, где изображена река, а где мор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06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07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15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16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роверим, что мы узнали на уроке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84720" y="1905120"/>
            <a:ext cx="4402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Река может впадать в другую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реку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, в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зеро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море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 реке вода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ресная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, а в море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соле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13" descr="IMG_NEW"/>
          <p:cNvPicPr/>
          <p:nvPr/>
        </p:nvPicPr>
        <p:blipFill>
          <a:blip r:embed="rId1"/>
          <a:stretch/>
        </p:blipFill>
        <p:spPr>
          <a:xfrm>
            <a:off x="250920" y="2060640"/>
            <a:ext cx="3889440" cy="3889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4"/>
          <p:cNvSpPr/>
          <p:nvPr/>
        </p:nvSpPr>
        <p:spPr>
          <a:xfrm>
            <a:off x="6588000" y="3213000"/>
            <a:ext cx="11527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4716360" y="3716280"/>
            <a:ext cx="144000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7236000" y="3716280"/>
            <a:ext cx="122364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4716360" y="4941720"/>
            <a:ext cx="194328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012000" y="5445000"/>
            <a:ext cx="201600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3141360"/>
            <a:ext cx="51116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Спасибо за работу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Вы молодцы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8" descr="IMG_NEW3"/>
          <p:cNvPicPr/>
          <p:nvPr/>
        </p:nvPicPr>
        <p:blipFill>
          <a:blip r:embed="rId1"/>
          <a:stretch/>
        </p:blipFill>
        <p:spPr>
          <a:xfrm>
            <a:off x="324000" y="189000"/>
            <a:ext cx="3919320" cy="2828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IMG_NEW1"/>
          <p:cNvPicPr/>
          <p:nvPr/>
        </p:nvPicPr>
        <p:blipFill>
          <a:blip r:embed="rId2"/>
          <a:stretch/>
        </p:blipFill>
        <p:spPr>
          <a:xfrm>
            <a:off x="5867280" y="2133720"/>
            <a:ext cx="302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89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90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98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99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20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21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7:49:20Z</dcterms:created>
  <dc:creator>Programmer</dc:creator>
  <dc:description/>
  <dc:language>en-US</dc:language>
  <cp:lastModifiedBy>User</cp:lastModifiedBy>
  <dcterms:modified xsi:type="dcterms:W3CDTF">2013-06-02T18:18:23Z</dcterms:modified>
  <cp:revision>3</cp:revision>
  <dc:subject/>
  <dc:title>Куда текут реки ?</dc:title>
</cp:coreProperties>
</file>