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ECC-5934-43BF-9977-1E532D2D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315-0DD8-4AE8-A2FE-F8BB5A4E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8BE-CF5D-4C62-81B6-8962769C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827-97BB-47C9-B36E-352616DF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7F4F5-5C10-40DA-9CB6-457E9512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28806-24DD-435C-B61B-423285BF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85C29-F392-4180-98E8-915A8EA4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400C5-3959-4E48-A209-E741A3D6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24EAD-3E13-4577-87A9-888A41D6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C3444-47F5-440C-BBF0-BEBFD8BE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CA556-CC1B-4D6F-A2FE-87C2EA2B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FA38-C0A0-4DC1-9220-8E91BADC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D7A55-C851-4C1C-9B3A-E7595012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4984C-045A-419D-8572-343FF147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00F28-B2D5-43AB-868E-53A6B448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E6518-BD7C-4F23-AC32-4719BAC1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7B67D-80F8-4E1F-B616-3F902EA5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390B-0B1D-4916-B674-6280CB85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BCA9-E31A-4A14-9ACA-F16BC64E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E67-21A3-455C-A14C-801CBCD0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32D0-D089-41BD-9B07-1FBA2C4E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667-00F9-478C-B778-3D812FAE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E49-C158-4ACB-905C-B9DD3A9E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7BF-DF4D-446E-9AD6-9B22CE59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cccc"/>
            </a:gs>
            <a:gs pos="100000">
              <a:srgbClr val="66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8ABA-6017-45AA-BBE2-DE4AB230F5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cccc"/>
            </a:gs>
            <a:gs pos="100000">
              <a:srgbClr val="66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7393-D2CC-4AD7-8F00-E75B548953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10199"/>
                </a:solidFill>
                <a:latin typeface="Tahoma"/>
              </a:rPr>
              <a:t>Куда</a:t>
            </a:r>
            <a:r>
              <a:rPr b="1" lang="ru-RU" sz="4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010199"/>
                </a:solidFill>
                <a:latin typeface="Tahoma"/>
              </a:rPr>
              <a:t>текут реки 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000" y="3885840"/>
            <a:ext cx="828036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Куда впадают ре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Сравним реки и мор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Выполняем лабораторную рабо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IMG_NEW"/>
          <p:cNvPicPr/>
          <p:nvPr/>
        </p:nvPicPr>
        <p:blipFill>
          <a:blip r:embed="rId1"/>
          <a:stretch/>
        </p:blipFill>
        <p:spPr>
          <a:xfrm>
            <a:off x="324000" y="428760"/>
            <a:ext cx="846288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IMG_0002_NEW"/>
          <p:cNvPicPr/>
          <p:nvPr/>
        </p:nvPicPr>
        <p:blipFill>
          <a:blip r:embed="rId1"/>
          <a:stretch/>
        </p:blipFill>
        <p:spPr>
          <a:xfrm>
            <a:off x="324000" y="260280"/>
            <a:ext cx="4032000" cy="3326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IMG_0002_NEW"/>
          <p:cNvPicPr/>
          <p:nvPr/>
        </p:nvPicPr>
        <p:blipFill>
          <a:blip r:embed="rId2"/>
          <a:stretch/>
        </p:blipFill>
        <p:spPr>
          <a:xfrm>
            <a:off x="4500720" y="3645000"/>
            <a:ext cx="4319280" cy="2989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4859280" y="476280"/>
            <a:ext cx="38894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Назовите разниц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Между рекой и мор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68360" y="3933720"/>
            <a:ext cx="374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Чем отличается речная вода от морской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63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64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74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75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ICT2358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50920" y="1484280"/>
            <a:ext cx="4105080" cy="3862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SAM_0217"/>
          <p:cNvPicPr/>
          <p:nvPr/>
        </p:nvPicPr>
        <p:blipFill>
          <a:blip r:embed="rId2"/>
          <a:stretch/>
        </p:blipFill>
        <p:spPr>
          <a:xfrm>
            <a:off x="4067280" y="3068640"/>
            <a:ext cx="4752720" cy="3478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4932360" y="162864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МОР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5"/>
          <p:cNvSpPr/>
          <p:nvPr/>
        </p:nvSpPr>
        <p:spPr>
          <a:xfrm flipH="1">
            <a:off x="6156360" y="2565360"/>
            <a:ext cx="50328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84360" y="573408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Ре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7"/>
          <p:cNvSpPr/>
          <p:nvPr/>
        </p:nvSpPr>
        <p:spPr>
          <a:xfrm flipV="1">
            <a:off x="1619280" y="4797360"/>
            <a:ext cx="50472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68360" y="18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Укажите на рисунке, где изображена река, а где мор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06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07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15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16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роверим, что мы узнали на уроке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84720" y="1905120"/>
            <a:ext cx="4402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Река может впадать в другую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реку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, в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зеро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море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 реке вода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ресная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, а в море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соле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13" descr="IMG_NEW"/>
          <p:cNvPicPr/>
          <p:nvPr/>
        </p:nvPicPr>
        <p:blipFill>
          <a:blip r:embed="rId1"/>
          <a:stretch/>
        </p:blipFill>
        <p:spPr>
          <a:xfrm>
            <a:off x="250920" y="2060640"/>
            <a:ext cx="3889440" cy="3889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4"/>
          <p:cNvSpPr/>
          <p:nvPr/>
        </p:nvSpPr>
        <p:spPr>
          <a:xfrm>
            <a:off x="6588000" y="3213000"/>
            <a:ext cx="11527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4716360" y="3716280"/>
            <a:ext cx="144000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7236000" y="3716280"/>
            <a:ext cx="122364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4716360" y="4941720"/>
            <a:ext cx="194328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012000" y="5445000"/>
            <a:ext cx="201600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3141360"/>
            <a:ext cx="51116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Спасибо за работу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Вы молодцы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8" descr="IMG_NEW3"/>
          <p:cNvPicPr/>
          <p:nvPr/>
        </p:nvPicPr>
        <p:blipFill>
          <a:blip r:embed="rId1"/>
          <a:stretch/>
        </p:blipFill>
        <p:spPr>
          <a:xfrm>
            <a:off x="324000" y="189000"/>
            <a:ext cx="3919320" cy="2828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IMG_NEW1"/>
          <p:cNvPicPr/>
          <p:nvPr/>
        </p:nvPicPr>
        <p:blipFill>
          <a:blip r:embed="rId2"/>
          <a:stretch/>
        </p:blipFill>
        <p:spPr>
          <a:xfrm>
            <a:off x="5867280" y="2133720"/>
            <a:ext cx="302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89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90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98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99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20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21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7:49:20Z</dcterms:created>
  <dc:creator>Programmer</dc:creator>
  <dc:description/>
  <dc:language>en-US</dc:language>
  <cp:lastModifiedBy>User</cp:lastModifiedBy>
  <dcterms:modified xsi:type="dcterms:W3CDTF">2013-06-02T18:18:23Z</dcterms:modified>
  <cp:revision>3</cp:revision>
  <dc:subject/>
  <dc:title>Куда текут реки ?</dc:title>
</cp:coreProperties>
</file>