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23.gif" ContentType="image/gif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3BBC-10EE-4D01-8196-5D128319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63A16-1B1C-43AF-81DC-C9096B6E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AC31F-9A0C-4FDF-93E5-E3F20E04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CAE8-89F4-44B4-8AA2-2BD613CA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A071-EDD9-4E1C-9A4E-454569A3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147C-6EF1-424D-96B0-D4340546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ED41-A631-47D8-8B1E-53795440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B4AB-E785-4023-A55F-85859A1A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14B2-8F41-4837-A9B1-E8150E93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0860-6B90-46CA-82AD-037A58B8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3ADF-01DB-4B47-A9AE-774C31A5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A2F8-71D1-4ACC-9E23-F1A1C752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F8C9-9AFB-45E6-83C8-F7913B16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33B3-4C74-4DB8-8252-0F81D773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8C03-9117-4A0A-B423-3F6039B6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D6AC-CBAF-46E9-AF24-B454624C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566F-876D-413C-8569-D8294D8D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F77B-4328-448C-8476-AAEA655C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215DE-481E-489C-99EF-5A53AA22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818FC-058B-4D35-AC58-A8CF7714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9B70-B977-4E9B-A928-15560E08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6DC15-AE84-4DF3-8C40-814FC5D1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FC537-079C-4708-ADA6-4B5F396B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DDE1A-3863-4FE3-ADDC-BF30D2D2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FC13-2F89-41B2-A52E-F14F943879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EF8F-1360-4079-8F32-8F26C141C1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24000" y="450864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fdef6"/>
                </a:solidFill>
                <a:latin typeface="Arial"/>
              </a:rPr>
              <a:t>Крещение Господне.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9280" y="5852880"/>
            <a:ext cx="8156520" cy="10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9" descr="8014f89b671b79d08e2cff0ea720f056"/>
          <p:cNvPicPr/>
          <p:nvPr/>
        </p:nvPicPr>
        <p:blipFill>
          <a:blip r:embed="rId1"/>
          <a:stretch/>
        </p:blipFill>
        <p:spPr>
          <a:xfrm>
            <a:off x="1547640" y="404640"/>
            <a:ext cx="60278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79280" y="551628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В память крещения Спасителя в праздник совершается великое освящение воды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4" name="Picture 4" descr="picturecontent-pid-2b91d"/>
          <p:cNvPicPr/>
          <p:nvPr/>
        </p:nvPicPr>
        <p:blipFill>
          <a:blip r:embed="rId1"/>
          <a:stretch/>
        </p:blipFill>
        <p:spPr>
          <a:xfrm>
            <a:off x="611280" y="189000"/>
            <a:ext cx="8001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В храмах служится особый водосвятный молебен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6" name="Picture 4" descr="1853"/>
          <p:cNvPicPr/>
          <p:nvPr/>
        </p:nvPicPr>
        <p:blipFill>
          <a:blip r:embed="rId1"/>
          <a:stretch/>
        </p:blipFill>
        <p:spPr>
          <a:xfrm>
            <a:off x="971640" y="189000"/>
            <a:ext cx="723744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508464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Водоосвящение совершается с торжественным крестным ходом к источникам воды, известным под названием "хода на Иордан».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8" name="Picture 4" descr="a2"/>
          <p:cNvPicPr/>
          <p:nvPr/>
        </p:nvPicPr>
        <p:blipFill>
          <a:blip r:embed="rId1"/>
          <a:stretch/>
        </p:blipFill>
        <p:spPr>
          <a:xfrm>
            <a:off x="1258920" y="189000"/>
            <a:ext cx="6816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Вырубленная крестообразная прорубь, называется Иордань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0" name="Picture 5" descr="36984"/>
          <p:cNvPicPr/>
          <p:nvPr/>
        </p:nvPicPr>
        <p:blipFill>
          <a:blip r:embed="rId1"/>
          <a:stretch/>
        </p:blipFill>
        <p:spPr>
          <a:xfrm>
            <a:off x="900000" y="260280"/>
            <a:ext cx="758376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23640" y="5229360"/>
            <a:ext cx="837396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Совершается чин освящения, во время которого священник троекратно погружает крест в воду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2" name="Picture 4" descr="3-jpg"/>
          <p:cNvPicPr/>
          <p:nvPr/>
        </p:nvPicPr>
        <p:blipFill>
          <a:blip r:embed="rId1"/>
          <a:stretch/>
        </p:blipFill>
        <p:spPr>
          <a:xfrm>
            <a:off x="826920" y="189000"/>
            <a:ext cx="76010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000" y="5229360"/>
            <a:ext cx="830268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По окончании службы присутствующие наперебой спешат набрать священной воды и несут ее домой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4" name="Picture 4" descr="09_2010 045"/>
          <p:cNvPicPr/>
          <p:nvPr/>
        </p:nvPicPr>
        <p:blipFill>
          <a:blip r:embed="rId1"/>
          <a:stretch/>
        </p:blipFill>
        <p:spPr>
          <a:xfrm>
            <a:off x="1476360" y="189000"/>
            <a:ext cx="67183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24000" y="5714640"/>
            <a:ext cx="830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А некоторые смельчаки даже купаются в ледяной проруби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6" name="Picture 4" descr="255790"/>
          <p:cNvPicPr/>
          <p:nvPr/>
        </p:nvPicPr>
        <p:blipFill>
          <a:blip r:embed="rId1"/>
          <a:stretch/>
        </p:blipFill>
        <p:spPr>
          <a:xfrm>
            <a:off x="1116000" y="260280"/>
            <a:ext cx="72057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Говорят, что купание в проруби на Крещение одаривает человека богатырским здоровьем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8" name="Picture 4" descr="s65294"/>
          <p:cNvPicPr/>
          <p:nvPr/>
        </p:nvPicPr>
        <p:blipFill>
          <a:blip r:embed="rId1"/>
          <a:stretch/>
        </p:blipFill>
        <p:spPr>
          <a:xfrm>
            <a:off x="2916360" y="189000"/>
            <a:ext cx="38797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501336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Крещенская вода — это святыня, которая должна быть в каждом доме православного христианина. Ее бережно хранят в святом углу, возле икон и пьют натощак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0" name="Picture 5" descr="1_b84218"/>
          <p:cNvPicPr/>
          <p:nvPr/>
        </p:nvPicPr>
        <p:blipFill>
          <a:blip r:embed="rId1"/>
          <a:stretch/>
        </p:blipFill>
        <p:spPr>
          <a:xfrm>
            <a:off x="1332000" y="189000"/>
            <a:ext cx="67579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Ею окропляют жилище и всякую вещь. Берегут ее весь год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2" name="Picture 3" descr="640x480_scale_thumb_7416614731220453798"/>
          <p:cNvPicPr/>
          <p:nvPr/>
        </p:nvPicPr>
        <p:blipFill>
          <a:blip r:embed="rId1"/>
          <a:stretch/>
        </p:blipFill>
        <p:spPr>
          <a:xfrm>
            <a:off x="1332000" y="189000"/>
            <a:ext cx="67183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24000" y="571464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В январе, в январе много снега на дворе…</a:t>
            </a:r>
            <a:br>
              <a:rPr sz="3200"/>
            </a:b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И крещенские морозы….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8" name="Picture 3" descr="61"/>
          <p:cNvPicPr/>
          <p:nvPr/>
        </p:nvPicPr>
        <p:blipFill>
          <a:blip r:embed="rId1"/>
          <a:stretch/>
        </p:blipFill>
        <p:spPr>
          <a:xfrm>
            <a:off x="1258920" y="404640"/>
            <a:ext cx="67230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587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Благодарю за внимание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4" name="Picture 4" descr="bb1e0b06284a"/>
          <p:cNvPicPr/>
          <p:nvPr/>
        </p:nvPicPr>
        <p:blipFill>
          <a:blip r:embed="rId1"/>
          <a:stretch/>
        </p:blipFill>
        <p:spPr>
          <a:xfrm>
            <a:off x="1042920" y="260280"/>
            <a:ext cx="722304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8920" y="5444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При крещении детей погружают в наполненную водой купель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0" name="Picture 3" descr="c1999ce9a582"/>
          <p:cNvPicPr/>
          <p:nvPr/>
        </p:nvPicPr>
        <p:blipFill>
          <a:blip r:embed="rId1"/>
          <a:stretch/>
        </p:blipFill>
        <p:spPr>
          <a:xfrm>
            <a:off x="1258920" y="260280"/>
            <a:ext cx="675468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9280" y="5444640"/>
            <a:ext cx="878544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Купель – большой сосуд, в который погружают ребенка при церковном обряде крещения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2" name="Picture 3" descr="21_21b86e"/>
          <p:cNvPicPr/>
          <p:nvPr/>
        </p:nvPicPr>
        <p:blipFill>
          <a:blip r:embed="rId1"/>
          <a:stretch/>
        </p:blipFill>
        <p:spPr>
          <a:xfrm>
            <a:off x="826920" y="189000"/>
            <a:ext cx="76122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Праздник Крещение Господне отмечается 19 января у всех православных верующих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4" name="Picture 3" descr="58254647"/>
          <p:cNvPicPr/>
          <p:nvPr/>
        </p:nvPicPr>
        <p:blipFill>
          <a:blip r:embed="rId1"/>
          <a:stretch/>
        </p:blipFill>
        <p:spPr>
          <a:xfrm>
            <a:off x="1258920" y="189000"/>
            <a:ext cx="686592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Это один из самых древних праздников христианской Церкви, связан с крещением Иисуса Христа в реке Иордан.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6" name="Picture 4" descr="03052009196"/>
          <p:cNvPicPr/>
          <p:nvPr/>
        </p:nvPicPr>
        <p:blipFill>
          <a:blip r:embed="rId1"/>
          <a:stretch/>
        </p:blipFill>
        <p:spPr>
          <a:xfrm>
            <a:off x="1187280" y="189000"/>
            <a:ext cx="6769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Река Иордан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8" name="Picture 4" descr="2b"/>
          <p:cNvPicPr/>
          <p:nvPr/>
        </p:nvPicPr>
        <p:blipFill>
          <a:blip r:embed="rId1"/>
          <a:stretch/>
        </p:blipFill>
        <p:spPr>
          <a:xfrm>
            <a:off x="755640" y="333360"/>
            <a:ext cx="76374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9280" y="5300640"/>
            <a:ext cx="896472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Когда Иисусу исполнилось 30 лет, он пришел на реку Иордан к Иоанну Крестителю, чтобы принять от него крещение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0" name="Picture 3" descr="1515pati"/>
          <p:cNvPicPr/>
          <p:nvPr/>
        </p:nvPicPr>
        <p:blipFill>
          <a:blip r:embed="rId1"/>
          <a:stretch/>
        </p:blipFill>
        <p:spPr>
          <a:xfrm>
            <a:off x="1763640" y="189000"/>
            <a:ext cx="58485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280" y="5444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Когда Иоанн крестил в воде Иисуса, открылось небо, и сошел на Иисуса Христа Святой Дух в виде голубя, и послышался голос с небес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2" name="Picture 4" descr="kreshenie_gospodne3"/>
          <p:cNvPicPr/>
          <p:nvPr/>
        </p:nvPicPr>
        <p:blipFill>
          <a:blip r:embed="rId1"/>
          <a:stretch/>
        </p:blipFill>
        <p:spPr>
          <a:xfrm>
            <a:off x="2484360" y="189000"/>
            <a:ext cx="3749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08:16:18Z</dcterms:created>
  <dc:creator>Admin</dc:creator>
  <dc:description/>
  <dc:language>en-US</dc:language>
  <cp:lastModifiedBy>User</cp:lastModifiedBy>
  <dcterms:modified xsi:type="dcterms:W3CDTF">2013-01-19T06:46:41Z</dcterms:modified>
  <cp:revision>73</cp:revision>
  <dc:subject/>
  <dc:title>Муниципальное дошкольное образовательное  учреждение Детский сад №4 «Золушка»</dc:title>
</cp:coreProperties>
</file>