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941C-8E33-4F6E-96A6-F43967E9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EF2C-AD1D-4BE0-A778-4656193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A91A-D0C7-4B20-8032-29BF6F38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0F9A-5DD7-4326-A662-294C496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9485-9E40-405B-BF52-47C75167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835-4416-4B48-9D80-5ECF389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0717-7944-4036-9D4B-A6AEAFF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F8A6-0D9B-480A-8409-401B223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F6A-2041-48B9-81C0-707B78A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4B2-2790-4B2E-A94E-44F1804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41C-983F-4B64-954A-9ACC244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5C16-CA23-410E-98B2-C12F0A8A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C9F-E681-4E88-B792-357678A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E6F-0139-466C-BCC0-66AD13A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372-D48F-4433-B980-7DD90C5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429D-FCEB-4315-8A5E-F069CF10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09E-F11D-4BBE-8BC1-2E259396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9AF4-822C-4D67-99C2-BDC0F35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2EEC-3EA0-4B5B-90F1-6AB027E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B8F0-C9E6-4E30-9137-D7095DE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5903-B4B9-46F3-9433-01FA803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9491-C921-462A-84D8-77ECACA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B956-F49A-4015-8558-5A73C07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A24B-8FF9-48D0-A29C-CB6F243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AF9-3052-4088-9473-697CD0A9D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99F-4410-4676-87E4-AD05DE43F8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Крещение Господне.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5852880"/>
            <a:ext cx="815652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9" descr="8014f89b671b79d08e2cff0ea720f056"/>
          <p:cNvPicPr/>
          <p:nvPr/>
        </p:nvPicPr>
        <p:blipFill>
          <a:blip r:embed="rId1"/>
          <a:stretch/>
        </p:blipFill>
        <p:spPr>
          <a:xfrm>
            <a:off x="1547640" y="404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280" y="5516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память крещения Спасителя в праздник совершается великое освящение воды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4" name="Picture 4" descr="picturecontent-pid-2b91d"/>
          <p:cNvPicPr/>
          <p:nvPr/>
        </p:nvPicPr>
        <p:blipFill>
          <a:blip r:embed="rId1"/>
          <a:stretch/>
        </p:blipFill>
        <p:spPr>
          <a:xfrm>
            <a:off x="611280" y="18900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храмах служится особый водосвятный молебе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Picture 4" descr="1853"/>
          <p:cNvPicPr/>
          <p:nvPr/>
        </p:nvPicPr>
        <p:blipFill>
          <a:blip r:embed="rId1"/>
          <a:stretch/>
        </p:blipFill>
        <p:spPr>
          <a:xfrm>
            <a:off x="971640" y="189000"/>
            <a:ext cx="72374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одоосвящение совершается с торжественным крестным ходом к источникам воды, известным под названием "хода на Иордан».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4" descr="a2"/>
          <p:cNvPicPr/>
          <p:nvPr/>
        </p:nvPicPr>
        <p:blipFill>
          <a:blip r:embed="rId1"/>
          <a:stretch/>
        </p:blipFill>
        <p:spPr>
          <a:xfrm>
            <a:off x="1258920" y="189000"/>
            <a:ext cx="6816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ырубленная крестообразная прорубь, называется Иордан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Picture 5" descr="36984"/>
          <p:cNvPicPr/>
          <p:nvPr/>
        </p:nvPicPr>
        <p:blipFill>
          <a:blip r:embed="rId1"/>
          <a:stretch/>
        </p:blipFill>
        <p:spPr>
          <a:xfrm>
            <a:off x="900000" y="260280"/>
            <a:ext cx="75837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5229360"/>
            <a:ext cx="83739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Совершается чин освящения, во время которого священник троекратно погружает крест в воду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4" descr="3-jpg"/>
          <p:cNvPicPr/>
          <p:nvPr/>
        </p:nvPicPr>
        <p:blipFill>
          <a:blip r:embed="rId1"/>
          <a:stretch/>
        </p:blipFill>
        <p:spPr>
          <a:xfrm>
            <a:off x="826920" y="189000"/>
            <a:ext cx="760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5229360"/>
            <a:ext cx="83026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 окончании службы присутствующие наперебой спешат набрать священной воды и несут ее домой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09_2010 045"/>
          <p:cNvPicPr/>
          <p:nvPr/>
        </p:nvPicPr>
        <p:blipFill>
          <a:blip r:embed="rId1"/>
          <a:stretch/>
        </p:blipFill>
        <p:spPr>
          <a:xfrm>
            <a:off x="147636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3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А некоторые смельчаки даже купаются в ледяной проруби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4" descr="255790"/>
          <p:cNvPicPr/>
          <p:nvPr/>
        </p:nvPicPr>
        <p:blipFill>
          <a:blip r:embed="rId1"/>
          <a:stretch/>
        </p:blipFill>
        <p:spPr>
          <a:xfrm>
            <a:off x="1116000" y="260280"/>
            <a:ext cx="72057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Говорят, что купание в проруби на Крещение одаривает человека богатырским здоровьем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4" descr="s65294"/>
          <p:cNvPicPr/>
          <p:nvPr/>
        </p:nvPicPr>
        <p:blipFill>
          <a:blip r:embed="rId1"/>
          <a:stretch/>
        </p:blipFill>
        <p:spPr>
          <a:xfrm>
            <a:off x="2916360" y="189000"/>
            <a:ext cx="3879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рещенская вода — это святыня, которая должна быть в каждом доме православного христианина. Ее бережно хранят в святом углу, возле икон и пьют натощак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5" descr="1_b84218"/>
          <p:cNvPicPr/>
          <p:nvPr/>
        </p:nvPicPr>
        <p:blipFill>
          <a:blip r:embed="rId1"/>
          <a:stretch/>
        </p:blipFill>
        <p:spPr>
          <a:xfrm>
            <a:off x="1332000" y="189000"/>
            <a:ext cx="67579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Ею окропляют жилище и всякую вещь. Берегут ее весь год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3" descr="640x480_scale_thumb_7416614731220453798"/>
          <p:cNvPicPr/>
          <p:nvPr/>
        </p:nvPicPr>
        <p:blipFill>
          <a:blip r:embed="rId1"/>
          <a:stretch/>
        </p:blipFill>
        <p:spPr>
          <a:xfrm>
            <a:off x="133200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январе, в январе много снега на дворе…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И крещенские морозы….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3" descr="61"/>
          <p:cNvPicPr/>
          <p:nvPr/>
        </p:nvPicPr>
        <p:blipFill>
          <a:blip r:embed="rId1"/>
          <a:stretch/>
        </p:blipFill>
        <p:spPr>
          <a:xfrm>
            <a:off x="1258920" y="404640"/>
            <a:ext cx="6723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Благодарю за внима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4" descr="bb1e0b06284a"/>
          <p:cNvPicPr/>
          <p:nvPr/>
        </p:nvPicPr>
        <p:blipFill>
          <a:blip r:embed="rId1"/>
          <a:stretch/>
        </p:blipFill>
        <p:spPr>
          <a:xfrm>
            <a:off x="1042920" y="260280"/>
            <a:ext cx="7223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544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и крещении детей погружают в наполненную водой купел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3" descr="c1999ce9a582"/>
          <p:cNvPicPr/>
          <p:nvPr/>
        </p:nvPicPr>
        <p:blipFill>
          <a:blip r:embed="rId1"/>
          <a:stretch/>
        </p:blipFill>
        <p:spPr>
          <a:xfrm>
            <a:off x="1258920" y="26028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упель – большой сосуд, в который погружают ребенка при церковном обряде крещени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3" descr="21_21b86e"/>
          <p:cNvPicPr/>
          <p:nvPr/>
        </p:nvPicPr>
        <p:blipFill>
          <a:blip r:embed="rId1"/>
          <a:stretch/>
        </p:blipFill>
        <p:spPr>
          <a:xfrm>
            <a:off x="826920" y="189000"/>
            <a:ext cx="76122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здник Крещение Господне отмечается 19 января у всех православных верующи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3" descr="58254647"/>
          <p:cNvPicPr/>
          <p:nvPr/>
        </p:nvPicPr>
        <p:blipFill>
          <a:blip r:embed="rId1"/>
          <a:stretch/>
        </p:blipFill>
        <p:spPr>
          <a:xfrm>
            <a:off x="1258920" y="1890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Это один из самых древних праздников христианской Церкви, связан с крещением Иисуса Христа в реке Иордан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03052009196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ека Иорда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4" descr="2b"/>
          <p:cNvPicPr/>
          <p:nvPr/>
        </p:nvPicPr>
        <p:blipFill>
          <a:blip r:embed="rId1"/>
          <a:stretch/>
        </p:blipFill>
        <p:spPr>
          <a:xfrm>
            <a:off x="755640" y="333360"/>
            <a:ext cx="7637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530064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огда Иисусу исполнилось 30 лет, он пришел на реку Иордан к Иоанну Крестителю, чтобы принять от него крещ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3" descr="1515pati"/>
          <p:cNvPicPr/>
          <p:nvPr/>
        </p:nvPicPr>
        <p:blipFill>
          <a:blip r:embed="rId1"/>
          <a:stretch/>
        </p:blipFill>
        <p:spPr>
          <a:xfrm>
            <a:off x="1763640" y="189000"/>
            <a:ext cx="58485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огда Иоанн крестил в воде Иисуса, открылось небо, и сошел на Иисуса Христа Святой Дух в виде голубя, и послышался голос с небес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Picture 4" descr="kreshenie_gospodne3"/>
          <p:cNvPicPr/>
          <p:nvPr/>
        </p:nvPicPr>
        <p:blipFill>
          <a:blip r:embed="rId1"/>
          <a:stretch/>
        </p:blipFill>
        <p:spPr>
          <a:xfrm>
            <a:off x="2484360" y="189000"/>
            <a:ext cx="374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16:18Z</dcterms:created>
  <dc:creator>Admin</dc:creator>
  <dc:description/>
  <dc:language>en-US</dc:language>
  <cp:lastModifiedBy>User</cp:lastModifiedBy>
  <dcterms:modified xsi:type="dcterms:W3CDTF">2013-01-19T06:46:41Z</dcterms:modified>
  <cp:revision>73</cp:revision>
  <dc:subject/>
  <dc:title>Муниципальное дошкольное образовательное  учреждение Детский сад №4 «Золушка»</dc:title>
</cp:coreProperties>
</file>