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23.gif" ContentType="image/gif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C225F-15D6-4BFE-8247-9E1B2FF2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6F95-822A-4212-8EB4-D3BBDA10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1385-ADA4-402A-906D-5380880E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7B26-037F-4C0F-AC45-2E61BF59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EB2F-2A5E-4158-9543-7C95AA8F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FEAD-3F8A-4237-83D7-8E5AA502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07C6-B6F5-4E14-BC82-0ACBB477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1009-192B-4F1D-A0B4-B7A91E89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3E50-2CD9-4130-89BA-DD40542B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1C5C-DCC3-497B-8CC0-1902889A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3481-E054-4A02-AC20-46EAA97E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C3CF-D801-4812-8740-C71FAB7C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9E2C-A505-45C0-85AD-8270D47E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E1EF-52B2-415A-81B1-5A0A2430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B8F0-B951-4E2B-98FF-C9196F03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CD11-1ADC-45B0-B64E-CA515EF8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158E-6067-4C2D-AE65-8C2E1A70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23912-663D-4AF6-8AF4-DD77B196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CD53-2320-4843-86B2-69E5BEAB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EFB2-0B95-40CC-A693-AEC4291D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E2ED-3917-494C-BE93-242F9E13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7207-C242-4268-A685-3E60B693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FAD9-9AC2-44AC-95AA-CECF904B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2E4F-6E0E-470A-97C6-7B3F3A4E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8BD3-9D10-497A-8F96-30952AB3D0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1692-19A5-4759-917C-EF7FD2A3F1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24000" y="450864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fdef6"/>
                </a:solidFill>
                <a:latin typeface="Arial"/>
              </a:rPr>
              <a:t>Крещение Господне.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9280" y="5852880"/>
            <a:ext cx="8156520" cy="10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9" descr="8014f89b671b79d08e2cff0ea720f056"/>
          <p:cNvPicPr/>
          <p:nvPr/>
        </p:nvPicPr>
        <p:blipFill>
          <a:blip r:embed="rId1"/>
          <a:stretch/>
        </p:blipFill>
        <p:spPr>
          <a:xfrm>
            <a:off x="1547640" y="404640"/>
            <a:ext cx="60278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79280" y="551628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В память крещения Спасителя в праздник совершается великое освящение воды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4" name="Picture 4" descr="picturecontent-pid-2b91d"/>
          <p:cNvPicPr/>
          <p:nvPr/>
        </p:nvPicPr>
        <p:blipFill>
          <a:blip r:embed="rId1"/>
          <a:stretch/>
        </p:blipFill>
        <p:spPr>
          <a:xfrm>
            <a:off x="611280" y="189000"/>
            <a:ext cx="8001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В храмах служится особый водосвятный молебен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6" name="Picture 4" descr="1853"/>
          <p:cNvPicPr/>
          <p:nvPr/>
        </p:nvPicPr>
        <p:blipFill>
          <a:blip r:embed="rId1"/>
          <a:stretch/>
        </p:blipFill>
        <p:spPr>
          <a:xfrm>
            <a:off x="971640" y="189000"/>
            <a:ext cx="723744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508464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Водоосвящение совершается с торжественным крестным ходом к источникам воды, известным под названием "хода на Иордан».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8" name="Picture 4" descr="a2"/>
          <p:cNvPicPr/>
          <p:nvPr/>
        </p:nvPicPr>
        <p:blipFill>
          <a:blip r:embed="rId1"/>
          <a:stretch/>
        </p:blipFill>
        <p:spPr>
          <a:xfrm>
            <a:off x="1258920" y="189000"/>
            <a:ext cx="6816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Вырубленная крестообразная прорубь, называется Иордань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0" name="Picture 5" descr="36984"/>
          <p:cNvPicPr/>
          <p:nvPr/>
        </p:nvPicPr>
        <p:blipFill>
          <a:blip r:embed="rId1"/>
          <a:stretch/>
        </p:blipFill>
        <p:spPr>
          <a:xfrm>
            <a:off x="900000" y="260280"/>
            <a:ext cx="758376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23640" y="5229360"/>
            <a:ext cx="837396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Совершается чин освящения, во время которого священник троекратно погружает крест в воду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2" name="Picture 4" descr="3-jpg"/>
          <p:cNvPicPr/>
          <p:nvPr/>
        </p:nvPicPr>
        <p:blipFill>
          <a:blip r:embed="rId1"/>
          <a:stretch/>
        </p:blipFill>
        <p:spPr>
          <a:xfrm>
            <a:off x="826920" y="189000"/>
            <a:ext cx="760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000" y="5229360"/>
            <a:ext cx="830268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По окончании службы присутствующие наперебой спешат набрать священной воды и несут ее домой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4" name="Picture 4" descr="09_2010 045"/>
          <p:cNvPicPr/>
          <p:nvPr/>
        </p:nvPicPr>
        <p:blipFill>
          <a:blip r:embed="rId1"/>
          <a:stretch/>
        </p:blipFill>
        <p:spPr>
          <a:xfrm>
            <a:off x="1476360" y="189000"/>
            <a:ext cx="67183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4000" y="5714640"/>
            <a:ext cx="830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А некоторые смельчаки даже купаются в ледяной проруби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6" name="Picture 4" descr="255790"/>
          <p:cNvPicPr/>
          <p:nvPr/>
        </p:nvPicPr>
        <p:blipFill>
          <a:blip r:embed="rId1"/>
          <a:stretch/>
        </p:blipFill>
        <p:spPr>
          <a:xfrm>
            <a:off x="1116000" y="260280"/>
            <a:ext cx="72057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Говорят, что купание в проруби на Крещение одаривает человека богатырским здоровьем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8" name="Picture 4" descr="s65294"/>
          <p:cNvPicPr/>
          <p:nvPr/>
        </p:nvPicPr>
        <p:blipFill>
          <a:blip r:embed="rId1"/>
          <a:stretch/>
        </p:blipFill>
        <p:spPr>
          <a:xfrm>
            <a:off x="2916360" y="189000"/>
            <a:ext cx="38797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501336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Крещенская вода — это святыня, которая должна быть в каждом доме православного христианина. Ее бережно хранят в святом углу, возле икон и пьют натощак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0" name="Picture 5" descr="1_b84218"/>
          <p:cNvPicPr/>
          <p:nvPr/>
        </p:nvPicPr>
        <p:blipFill>
          <a:blip r:embed="rId1"/>
          <a:stretch/>
        </p:blipFill>
        <p:spPr>
          <a:xfrm>
            <a:off x="1332000" y="189000"/>
            <a:ext cx="67579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Ею окропляют жилище и всякую вещь. Берегут ее весь год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2" name="Picture 3" descr="640x480_scale_thumb_7416614731220453798"/>
          <p:cNvPicPr/>
          <p:nvPr/>
        </p:nvPicPr>
        <p:blipFill>
          <a:blip r:embed="rId1"/>
          <a:stretch/>
        </p:blipFill>
        <p:spPr>
          <a:xfrm>
            <a:off x="1332000" y="189000"/>
            <a:ext cx="67183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24000" y="571464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В январе, в январе много снега на дворе…</a:t>
            </a:r>
            <a:br>
              <a:rPr sz="3200"/>
            </a:b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И крещенские морозы….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8" name="Picture 3" descr="61"/>
          <p:cNvPicPr/>
          <p:nvPr/>
        </p:nvPicPr>
        <p:blipFill>
          <a:blip r:embed="rId1"/>
          <a:stretch/>
        </p:blipFill>
        <p:spPr>
          <a:xfrm>
            <a:off x="1258920" y="404640"/>
            <a:ext cx="67230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587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Благодарю за внимание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4" name="Picture 4" descr="bb1e0b06284a"/>
          <p:cNvPicPr/>
          <p:nvPr/>
        </p:nvPicPr>
        <p:blipFill>
          <a:blip r:embed="rId1"/>
          <a:stretch/>
        </p:blipFill>
        <p:spPr>
          <a:xfrm>
            <a:off x="1042920" y="260280"/>
            <a:ext cx="722304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8920" y="5444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При крещении детей погружают в наполненную водой купель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0" name="Picture 3" descr="c1999ce9a582"/>
          <p:cNvPicPr/>
          <p:nvPr/>
        </p:nvPicPr>
        <p:blipFill>
          <a:blip r:embed="rId1"/>
          <a:stretch/>
        </p:blipFill>
        <p:spPr>
          <a:xfrm>
            <a:off x="1258920" y="260280"/>
            <a:ext cx="675468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9280" y="5444640"/>
            <a:ext cx="878544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Купель – большой сосуд, в который погружают ребенка при церковном обряде крещения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Picture 3" descr="21_21b86e"/>
          <p:cNvPicPr/>
          <p:nvPr/>
        </p:nvPicPr>
        <p:blipFill>
          <a:blip r:embed="rId1"/>
          <a:stretch/>
        </p:blipFill>
        <p:spPr>
          <a:xfrm>
            <a:off x="826920" y="189000"/>
            <a:ext cx="76122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Праздник Крещение Господне отмечается 19 января у всех православных верующих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4" name="Picture 3" descr="58254647"/>
          <p:cNvPicPr/>
          <p:nvPr/>
        </p:nvPicPr>
        <p:blipFill>
          <a:blip r:embed="rId1"/>
          <a:stretch/>
        </p:blipFill>
        <p:spPr>
          <a:xfrm>
            <a:off x="1258920" y="189000"/>
            <a:ext cx="686592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Это один из самых древних праздников христианской Церкви, связан с крещением Иисуса Христа в реке Иордан.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6" name="Picture 4" descr="03052009196"/>
          <p:cNvPicPr/>
          <p:nvPr/>
        </p:nvPicPr>
        <p:blipFill>
          <a:blip r:embed="rId1"/>
          <a:stretch/>
        </p:blipFill>
        <p:spPr>
          <a:xfrm>
            <a:off x="1187280" y="189000"/>
            <a:ext cx="6769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Река Иордан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8" name="Picture 4" descr="2b"/>
          <p:cNvPicPr/>
          <p:nvPr/>
        </p:nvPicPr>
        <p:blipFill>
          <a:blip r:embed="rId1"/>
          <a:stretch/>
        </p:blipFill>
        <p:spPr>
          <a:xfrm>
            <a:off x="755640" y="333360"/>
            <a:ext cx="76374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280" y="5300640"/>
            <a:ext cx="896472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Когда Иисусу исполнилось 30 лет, он пришел на реку Иордан к Иоанну Крестителю, чтобы принять от него крещение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0" name="Picture 3" descr="1515pati"/>
          <p:cNvPicPr/>
          <p:nvPr/>
        </p:nvPicPr>
        <p:blipFill>
          <a:blip r:embed="rId1"/>
          <a:stretch/>
        </p:blipFill>
        <p:spPr>
          <a:xfrm>
            <a:off x="1763640" y="189000"/>
            <a:ext cx="58485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280" y="5444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Когда Иоанн крестил в воде Иисуса, открылось небо, и сошел на Иисуса Христа Святой Дух в виде голубя, и послышался голос с небес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2" name="Picture 4" descr="kreshenie_gospodne3"/>
          <p:cNvPicPr/>
          <p:nvPr/>
        </p:nvPicPr>
        <p:blipFill>
          <a:blip r:embed="rId1"/>
          <a:stretch/>
        </p:blipFill>
        <p:spPr>
          <a:xfrm>
            <a:off x="2484360" y="189000"/>
            <a:ext cx="3749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08:16:18Z</dcterms:created>
  <dc:creator>Admin</dc:creator>
  <dc:description/>
  <dc:language>en-US</dc:language>
  <cp:lastModifiedBy>User</cp:lastModifiedBy>
  <dcterms:modified xsi:type="dcterms:W3CDTF">2013-01-19T06:46:41Z</dcterms:modified>
  <cp:revision>73</cp:revision>
  <dc:subject/>
  <dc:title>Муниципальное дошкольное образовательное  учреждение Детский сад №4 «Золушка»</dc:title>
</cp:coreProperties>
</file>