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C00-4509-4BBE-8A98-073E85F1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A95-9B0A-4641-903D-E30EB87C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06B-CF02-4EAF-8B8A-5C53BE5B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86A-B17D-43AA-9FFE-4351D7BB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B7B-C126-4EC1-8383-020C2D9F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FAE-967B-4A2B-ACE7-FBEE4A71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EC6-6672-4B7A-9AB4-EB04999E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02F-F85F-4675-9BC9-8B286083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F68-6044-4371-912E-F8B48243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459-E77C-47CE-95E3-308AA74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BAB-743B-4F3E-8160-43192BBA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368-B908-4E7B-B5FF-9458670E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32C8-39DF-4243-A939-547B3765B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74;&#1086;&#1089;&#1087;&#1080;&#1090;&#1072;&#1085;&#1080;&#1077;%20&#1087;&#1072;&#1090;&#1088;&#1080;&#1086;&#1090;&#1080;&#1079;&#1084;&#1072;%20&#1085;&#1072;%20&#1091;&#1088;&#1086;&#1082;&#1072;&#1093;%20&#1092;&#1080;&#1079;&#1080;&#1082;&#1080;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74;&#1086;&#1089;&#1087;&#1080;&#1090;&#1072;&#1085;&#1080;&#1077;%20&#1087;&#1072;&#1090;&#1088;&#1080;&#1086;&#1090;&#1080;&#1079;&#1084;&#1072;%20&#1085;&#1072;%20&#1091;&#1088;&#1086;&#1082;&#1072;&#1093;%20&#1092;&#1080;&#1079;&#1080;&#1082;&#1080;" TargetMode="External"/><Relationship Id="rId2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48;&#1085;&#1090;&#1077;&#1083;&#1083;&#1077;&#1082;&#1090;&#1091;&#1072;&#1083;&#1100;&#1085;&#1086;-&#1082;&#1088;&#1072;&#1077;&#1074;&#1077;&#1076;&#1095;&#1077;&#1089;&#1082;&#1086;&#1077;/&#1048;&#1057;&#1055;&#1054;&#1051;&#1068;&#1047;&#1054;&#1042;&#1040;&#1053;&#1048;&#1045;%20%20&#1050;&#1056;&#1040;&#1045;&#1042;&#1045;&#1044;&#1063;&#1045;&#1057;&#1050;&#1054;&#1043;&#1054;.doc" TargetMode="External"/><Relationship Id="rId3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48;&#1085;&#1090;&#1077;&#1083;&#1083;&#1077;&#1082;&#1090;&#1091;&#1072;&#1083;&#1100;&#1085;&#1086;-&#1082;&#1088;&#1072;&#1077;&#1074;&#1077;&#1076;&#1095;&#1077;&#1089;&#1082;&#1086;&#1077;/&#1048;&#1057;&#1055;&#1054;&#1051;&#1068;&#1047;&#1054;&#1042;&#1040;&#1053;&#1048;&#1045;%20%20&#1050;&#1056;&#1040;&#1045;&#1042;&#1045;&#1044;&#1063;&#1045;&#1057;&#1050;&#1054;&#1043;&#1054;.doc" TargetMode="External"/><Relationship Id="rId4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48;&#1085;&#1090;&#1077;&#1083;&#1083;&#1077;&#1082;&#1090;&#1091;&#1072;&#1083;&#1100;&#1085;&#1086;-&#1082;&#1088;&#1072;&#1077;&#1074;&#1077;&#1076;&#1095;&#1077;&#1089;&#1082;&#1086;&#1077;/&#1048;&#1057;&#1055;&#1054;&#1051;&#1068;&#1047;&#1054;&#1042;&#1040;&#1053;&#1048;&#1045;%20%20&#1050;&#1056;&#1040;&#1045;&#1042;&#1045;&#1044;&#1063;&#1045;&#1057;&#1050;&#1054;&#1043;&#1054;.doc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48;&#1085;&#1090;&#1077;&#1083;&#1083;&#1077;&#1082;&#1090;&#1091;&#1072;&#1083;&#1100;&#1085;&#1086;-&#1082;&#1088;&#1072;&#1077;&#1074;&#1077;&#1076;&#1095;&#1077;&#1089;&#1082;&#1086;&#1077;" TargetMode="External"/><Relationship Id="rId2" Type="http://schemas.openxmlformats.org/officeDocument/2006/relationships/hyperlink" Target="file:///H:/&#1055;&#1077;&#1076;&#1087;&#1088;&#1086;&#1077;&#1082;&#1090;%20&#1050;&#1086;&#1087;&#1099;&#1083;&#1086;&#1074;&#1086;&#1081;%20&#1054;&#1045;/&#1055;&#1056;&#1048;&#1051;&#1054;&#1046;&#1045;&#1053;&#1048;&#1045;/&#1057;&#1087;&#1086;&#1088;&#1090;&#1080;&#1074;&#1085;&#1086;-&#1087;&#1072;&#1090;&#1088;&#1080;&#1086;&#1090;&#1095;&#1077;&#1089;&#1082;&#1086;&#1077;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usflaga"/>
          <p:cNvPicPr/>
          <p:nvPr/>
        </p:nvPicPr>
        <p:blipFill>
          <a:blip r:embed="rId2"/>
          <a:stretch/>
        </p:blipFill>
        <p:spPr>
          <a:xfrm>
            <a:off x="0" y="0"/>
            <a:ext cx="1952640" cy="140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rusgerb3"/>
          <p:cNvPicPr/>
          <p:nvPr/>
        </p:nvPicPr>
        <p:blipFill>
          <a:blip r:embed="rId3"/>
          <a:stretch/>
        </p:blipFill>
        <p:spPr>
          <a:xfrm>
            <a:off x="7778880" y="0"/>
            <a:ext cx="1365120" cy="16398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2771640" y="260280"/>
            <a:ext cx="4032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триотическое воспитание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чности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системе работы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я-предметника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лассного руководителя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жидаемые результаты   в  образе  выпускн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познавательной сфере: 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историко-краеведческой: осознание ответственности за судьбу страны, формирование гордости за сопричастность к деяниям предыдущих покол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социальной: способность к самореализации в пространстве российского государства, формирование активной жизненной позиции; знание и соблюдение норм правового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духовно-нравственной сфере: осознание обучающимися высших ценностей, идеалов, ориентиров, способность руководствоваться ими в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своей работе я использую эффективные  средства  и  методы воспитания у учащихся патриотизма, любви и гордости за свою Родину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- показ выдающегося вклада отечественных ученых в развитие нау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ссказ о большом вкладе отечественных изобретателей в развитие тех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ассказ о наших соотечественниках – лауреатах Нобелевской премии  в области физики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ллюстрация патриотизма выдающихся ученых и изобретателей нашей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одчеркивание гражданственности и активной жизненной позиции прогрессивных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формирование у учащихся уважительного отношения к труду, упорства в преодолении трудностей на примерах деятельности выдающихся русских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На своих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роках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пользуюсь следующими  способами воспитания патриотиз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ключение фрагментов о жизни  и поисках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ообщение учащихся на уроках о жизни и деятельности выдающихся деятелей науки и тех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спользование высказываний знаменитых уче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оведение вечеров, посвященных юбилейным датам ученых и их откры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 стенгазет, посвященных юбилейным да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омендация учащимся научно-популярной литературы, освещающей жизнь ученых и изобрет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СПОЛЬЗОВАНИЕ  КРАЕВЕДЧЕСКОГО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МАТЕРИАЛА НА  УРОКАХ 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сновные направления воспитательной работы по развитию патриотизма у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теллектуально- краевед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о на изучение истории, природы, культуры страны, своей мест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портивно-патриот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о на физическое развитие учащихся, воспитание выносливости, стойкости. Реализуется через формирование потребности в ведении здорового образа жизни, ответственности за свое здоровье и здоровье будущих поко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2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уховно- нравственно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мероприятий по осознанию учащимися в процессе патриотического воспитания высших ценностей, идеалов и ориентиров, социально значимых процессов и явлений реальной жизни, способность руководствоваться ими в качестве определяющих принци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ражданско-патрио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гражданского самосознания, правовой культуры учащихся, гражданской позиции, сознания долга перед семьей, народом и Род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3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ворческо-краевед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робное изучение культуры, быта, традиций своего и других народов. Пополнение  школьной краеведческой комнаты исследовательскими материалами, которые можно использовать на уроках и внеклассных занят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енно-патриот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русской военной истории, воинских традиций,  яркие примеры служения Отече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роико-патриот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хранение памяти о героических событиях, подвигах, формирование уважения к военной проф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ческая работа по изучению уровня развития классного коллект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6"/>
          <p:cNvSpPr txBox="1"/>
          <p:nvPr/>
        </p:nvSpPr>
        <p:spPr>
          <a:xfrm>
            <a:off x="468360" y="836640"/>
            <a:ext cx="77058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триотическое воспитание личности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системе работы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я-предметника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лассного руководителя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476360" y="5013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1908000" y="3429000"/>
            <a:ext cx="52102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 проекта: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Как  воспитать Патриота»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036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ние учащихся – одна из важнейших задач школы. Нельзя учителю быть равнодушным к вопросам воспитания молодежи, ведь он осуществляет связь времен, передает эстафету из настоящего в будущее, определяя тем самым грядущую судьбу страны. Современная школа в ответе за   воспитание человека просвещенного, гуманного, духовно богатого, неравнодушного, активного, высоконравственного, любящего свою Родину, свой народ, с уважением относящегося к истории родной страны, ее тради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аши дни, когда на государственном уровне происходит поворот к духовности, тема патриотического воспитания заново приобретает актуальность и важный социально-культурный смыс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ой из основных задач современной государственной политики РФ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вляется воспитание чувств патриотизма, которое должно пониматься как одно из наиболее значимых, непреходящих цен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бъект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сследования данной работы является система патриотического воспитания личности в работе учителя-предметника и классного руковод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редмет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следования - организационные условия формирования патриотического сознания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сследовательской работы— развитие в личности высокой социальной активности, гражданской ответственности, духовности, становление личности, обладающей позитивными ценностями и качествами, способных проявить их в созидательном процессе в интересах Оте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892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достижения указанной целевой установки ставлю перед собой следующие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задач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формировать осознанное отношение к Отечеству, его прошлому, настоящему и будущему на основе исторических ценностей и роли России в судьбах ми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звивать гражданственность и национальное самосознание уча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звивать и углублять знания об истории и культуре родного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 этой проблемы осложняется сложившимися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ротиворечия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ежду потребностью современного общества в социальной,  активной личности и несовершенством процесса формирования  гражданственности и патриотизма в нынешних условиях (вопиющий разрыв между богатыми и бедными;  деградация русской деревни, ее вымирание, пьянство и наркомания, хищническое отношение к природе и богатствам стран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ежду гуманистическими требованиями развития индивидуальности каждой личности  и недостаточной теоретической и практической разработанностью соответствующей модели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формирования и развития патриотического сознания у учащихся путем создания организационных условий в школе будет эффективным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риотическое воспитание выступает как личностное состояние, выраженное в основу гуманистических по содержанию и гармонических по структуре мыслей, чувств,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патриотического сознания представляет собой целостный процесс учебно-воспит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патриотического сознания личности учащихся выступает активной силой, под влиянием которого, изменяются и окружающая действительность,  и сама л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риотические качества личности обеспечивают внутреннее изменение не только в настоящем, но и устремленность учащихся в будущее, развитие его активности и самосто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актическая значим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заключается в внедрении данного проекта по созданию организационных условий для формирования и развития патриотического сознания учащихся в систему   учебно-воспит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32:04Z</dcterms:created>
  <dc:creator>TEST</dc:creator>
  <dc:description/>
  <dc:language>en-US</dc:language>
  <cp:lastModifiedBy>COMP</cp:lastModifiedBy>
  <dcterms:modified xsi:type="dcterms:W3CDTF">2011-10-23T15:42:25Z</dcterms:modified>
  <cp:revision>15</cp:revision>
  <dc:subject/>
  <dc:title>Слайд 1</dc:title>
</cp:coreProperties>
</file>