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B5B2-05F4-4B2B-820E-BAED0FEA3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3076-0BA6-4FCD-B198-41E58BBC3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B932-DF1F-4228-A53F-3BEA529A3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9722-62BC-4D10-B27D-9F9AAC696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3C81-1FF0-4517-96F6-D65191A92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B76A-2383-452B-A669-AEC4498DF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ACC9-DBD9-4F8A-A782-479961E1B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3BE9-2D64-4B1A-8517-983EECA3E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7E71-E5B1-4720-87DA-7888FA9A2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D86F-3ABB-4F49-9CBF-BA0D74A6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75D8-65EF-4352-A38E-BDF00092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D52A-5779-4D0A-9F8A-718F8D8A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F2DD4-D895-4C98-9167-6DA6661A9F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H:/&#1055;&#1077;&#1076;&#1087;&#1088;&#1086;&#1077;&#1082;&#1090;%20&#1050;&#1086;&#1087;&#1099;&#1083;&#1086;&#1074;&#1086;&#1081;%20&#1054;&#1045;/&#1055;&#1056;&#1048;&#1051;&#1054;&#1046;&#1045;&#1053;&#1048;&#1045;/&#1074;&#1086;&#1089;&#1087;&#1080;&#1090;&#1072;&#1085;&#1080;&#1077;%20&#1087;&#1072;&#1090;&#1088;&#1080;&#1086;&#1090;&#1080;&#1079;&#1084;&#1072;%20&#1085;&#1072;%20&#1091;&#1088;&#1086;&#1082;&#1072;&#1093;%20&#1092;&#1080;&#1079;&#1080;&#1082;&#1080;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H:/&#1055;&#1077;&#1076;&#1087;&#1088;&#1086;&#1077;&#1082;&#1090;%20&#1050;&#1086;&#1087;&#1099;&#1083;&#1086;&#1074;&#1086;&#1081;%20&#1054;&#1045;/&#1055;&#1056;&#1048;&#1051;&#1054;&#1046;&#1045;&#1053;&#1048;&#1045;/&#1074;&#1086;&#1089;&#1087;&#1080;&#1090;&#1072;&#1085;&#1080;&#1077;%20&#1087;&#1072;&#1090;&#1088;&#1080;&#1086;&#1090;&#1080;&#1079;&#1084;&#1072;%20&#1085;&#1072;%20&#1091;&#1088;&#1086;&#1082;&#1072;&#1093;%20&#1092;&#1080;&#1079;&#1080;&#1082;&#1080;" TargetMode="External"/><Relationship Id="rId2" Type="http://schemas.openxmlformats.org/officeDocument/2006/relationships/hyperlink" Target="file:///H:/&#1055;&#1077;&#1076;&#1087;&#1088;&#1086;&#1077;&#1082;&#1090;%20&#1050;&#1086;&#1087;&#1099;&#1083;&#1086;&#1074;&#1086;&#1081;%20&#1054;&#1045;/&#1055;&#1056;&#1048;&#1051;&#1054;&#1046;&#1045;&#1053;&#1048;&#1045;/&#1048;&#1085;&#1090;&#1077;&#1083;&#1083;&#1077;&#1082;&#1090;&#1091;&#1072;&#1083;&#1100;&#1085;&#1086;-&#1082;&#1088;&#1072;&#1077;&#1074;&#1077;&#1076;&#1095;&#1077;&#1089;&#1082;&#1086;&#1077;/&#1048;&#1057;&#1055;&#1054;&#1051;&#1068;&#1047;&#1054;&#1042;&#1040;&#1053;&#1048;&#1045;%20%20&#1050;&#1056;&#1040;&#1045;&#1042;&#1045;&#1044;&#1063;&#1045;&#1057;&#1050;&#1054;&#1043;&#1054;.doc" TargetMode="External"/><Relationship Id="rId3" Type="http://schemas.openxmlformats.org/officeDocument/2006/relationships/hyperlink" Target="file:///H:/&#1055;&#1077;&#1076;&#1087;&#1088;&#1086;&#1077;&#1082;&#1090;%20&#1050;&#1086;&#1087;&#1099;&#1083;&#1086;&#1074;&#1086;&#1081;%20&#1054;&#1045;/&#1055;&#1056;&#1048;&#1051;&#1054;&#1046;&#1045;&#1053;&#1048;&#1045;/&#1048;&#1085;&#1090;&#1077;&#1083;&#1083;&#1077;&#1082;&#1090;&#1091;&#1072;&#1083;&#1100;&#1085;&#1086;-&#1082;&#1088;&#1072;&#1077;&#1074;&#1077;&#1076;&#1095;&#1077;&#1089;&#1082;&#1086;&#1077;/&#1048;&#1057;&#1055;&#1054;&#1051;&#1068;&#1047;&#1054;&#1042;&#1040;&#1053;&#1048;&#1045;%20%20&#1050;&#1056;&#1040;&#1045;&#1042;&#1045;&#1044;&#1063;&#1045;&#1057;&#1050;&#1054;&#1043;&#1054;.doc" TargetMode="External"/><Relationship Id="rId4" Type="http://schemas.openxmlformats.org/officeDocument/2006/relationships/hyperlink" Target="file:///H:/&#1055;&#1077;&#1076;&#1087;&#1088;&#1086;&#1077;&#1082;&#1090;%20&#1050;&#1086;&#1087;&#1099;&#1083;&#1086;&#1074;&#1086;&#1081;%20&#1054;&#1045;/&#1055;&#1056;&#1048;&#1051;&#1054;&#1046;&#1045;&#1053;&#1048;&#1045;/&#1048;&#1085;&#1090;&#1077;&#1083;&#1083;&#1077;&#1082;&#1090;&#1091;&#1072;&#1083;&#1100;&#1085;&#1086;-&#1082;&#1088;&#1072;&#1077;&#1074;&#1077;&#1076;&#1095;&#1077;&#1089;&#1082;&#1086;&#1077;/&#1048;&#1057;&#1055;&#1054;&#1051;&#1068;&#1047;&#1054;&#1042;&#1040;&#1053;&#1048;&#1045;%20%20&#1050;&#1056;&#1040;&#1045;&#1042;&#1045;&#1044;&#1063;&#1045;&#1057;&#1050;&#1054;&#1043;&#1054;.doc" TargetMode="Externa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H:/&#1055;&#1077;&#1076;&#1087;&#1088;&#1086;&#1077;&#1082;&#1090;%20&#1050;&#1086;&#1087;&#1099;&#1083;&#1086;&#1074;&#1086;&#1081;%20&#1054;&#1045;/&#1055;&#1056;&#1048;&#1051;&#1054;&#1046;&#1045;&#1053;&#1048;&#1045;/&#1048;&#1085;&#1090;&#1077;&#1083;&#1083;&#1077;&#1082;&#1090;&#1091;&#1072;&#1083;&#1100;&#1085;&#1086;-&#1082;&#1088;&#1072;&#1077;&#1074;&#1077;&#1076;&#1095;&#1077;&#1089;&#1082;&#1086;&#1077;" TargetMode="External"/><Relationship Id="rId2" Type="http://schemas.openxmlformats.org/officeDocument/2006/relationships/hyperlink" Target="file:///H:/&#1055;&#1077;&#1076;&#1087;&#1088;&#1086;&#1077;&#1082;&#1090;%20&#1050;&#1086;&#1087;&#1099;&#1083;&#1086;&#1074;&#1086;&#1081;%20&#1054;&#1045;/&#1055;&#1056;&#1048;&#1051;&#1054;&#1046;&#1045;&#1053;&#1048;&#1045;/&#1057;&#1087;&#1086;&#1088;&#1090;&#1080;&#1074;&#1085;&#1086;-&#1087;&#1072;&#1090;&#1088;&#1080;&#1086;&#1090;&#1095;&#1077;&#1089;&#1082;&#1086;&#1077;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rusflaga"/>
          <p:cNvPicPr/>
          <p:nvPr/>
        </p:nvPicPr>
        <p:blipFill>
          <a:blip r:embed="rId2"/>
          <a:stretch/>
        </p:blipFill>
        <p:spPr>
          <a:xfrm>
            <a:off x="0" y="0"/>
            <a:ext cx="1952640" cy="14097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rusgerb3"/>
          <p:cNvPicPr/>
          <p:nvPr/>
        </p:nvPicPr>
        <p:blipFill>
          <a:blip r:embed="rId3"/>
          <a:stretch/>
        </p:blipFill>
        <p:spPr>
          <a:xfrm>
            <a:off x="7778880" y="0"/>
            <a:ext cx="1365120" cy="1639800"/>
          </a:xfrm>
          <a:prstGeom prst="rect">
            <a:avLst/>
          </a:prstGeom>
          <a:ln w="0">
            <a:noFill/>
          </a:ln>
        </p:spPr>
      </p:pic>
      <p:sp>
        <p:nvSpPr>
          <p:cNvPr id="43" name="WordArt 7"/>
          <p:cNvSpPr txBox="1"/>
          <p:nvPr/>
        </p:nvSpPr>
        <p:spPr>
          <a:xfrm>
            <a:off x="2771640" y="260280"/>
            <a:ext cx="403236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атриотическое воспитание 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ичности 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системе работы 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чителя-предметника 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 классного руководителя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20000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36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Ожидаемые результаты   в  образе  выпускни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в познавательной сфере: развитие творческих способност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в историко-краеведческой: осознание ответственности за судьбу страны, формирование гордости за сопричастность к деяниям предыдущих поколени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в социальной: способность к самореализации в пространстве российского государства, формирование активной жизненной позиции; знание и соблюдение норм правового государст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в духовно-нравственной сфере: осознание обучающимися высших ценностей, идеалов, ориентиров, способность руководствоваться ими в практическ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В своей работе я использую эффективные  средства  и  методы воспитания у учащихся патриотизма, любви и гордости за свою Родину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- показ выдающегося вклада отечественных ученых в развитие нау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рассказ о большом вкладе отечественных изобретателей в развитие техни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рассказ о наших соотечественниках – лауреатах Нобелевской премии  в области физики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иллюстрация патриотизма выдающихся ученых и изобретателей нашей стран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подчеркивание гражданственности и активной жизненной позиции прогрессивных учены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формирование у учащихся уважительного отношения к труду, упорства в преодолении трудностей на примерах деятельности выдающихся русских уче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На своих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уроках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 пользуюсь следующими  способами воспитания патриотизм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включение фрагментов о жизни  и поисках учены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сообщение учащихся на уроках о жизни и деятельности выдающихся деятелей науки и техн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использование высказываний знаменитых учены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проведение вечеров, посвященных юбилейным датам ученых и их открыт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пуск стенгазет, посвященных юбилейным дата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комендация учащимся научно-популярной литературы, освещающей жизнь ученых и изобретател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ИСПОЛЬЗОВАНИЕ  КРАЕВЕДЧЕСКОГО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МАТЕРИАЛА НА  УРОКАХ  ФИЗ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Основные направления воспитательной работы по развитию патриотизма у уча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6360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Интеллектуально- краеведчес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правлено на изучение истории, природы, культуры страны, своей местност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Спортивно-патриотичес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правлено на физическое развитие учащихся, воспитание выносливости, стойкости. Реализуется через формирование потребности в ведении здорового образа жизни, ответственности за свое здоровье и здоровье будущих покол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45252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Духовно- нравственно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истема мероприятий по осознанию учащимися в процессе патриотического воспитания высших ценностей, идеалов и ориентиров, социально значимых процессов и явлений реальной жизни, способность руководствоваться ими в качестве определяющих принцип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5252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Гражданско-патриотическ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ормирование гражданского самосознания, правовой культуры учащихся, гражданской позиции, сознания долга перед семьей, народом и Роди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63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Творческо-краеведчес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робное изучение культуры, быта, традиций своего и других народов. Пополнение  школьной краеведческой комнаты исследовательскими материалами, которые можно использовать на уроках и внеклассных занят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оенно-патриотичес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учение русской военной истории, воинских традиций,  яркие примеры служения Отечеств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Героико-патриотичес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хранение памяти о героических событиях, подвигах, формирование уважения к военной профе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агностическая работа по изучению уровня развития классного коллекти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6"/>
          <p:cNvSpPr txBox="1"/>
          <p:nvPr/>
        </p:nvSpPr>
        <p:spPr>
          <a:xfrm>
            <a:off x="468360" y="836640"/>
            <a:ext cx="770580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атриотическое воспитание личности 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системе работы 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чителя-предметника 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 классного руководителя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1476360" y="5013360"/>
            <a:ext cx="691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8"/>
          <p:cNvSpPr txBox="1"/>
          <p:nvPr/>
        </p:nvSpPr>
        <p:spPr>
          <a:xfrm>
            <a:off x="1908000" y="3429000"/>
            <a:ext cx="521028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ма проекта: 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«Как  воспитать Патриота»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20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0360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спитание учащихся – одна из важнейших задач школы. Нельзя учителю быть равнодушным к вопросам воспитания молодежи, ведь он осуществляет связь времен, передает эстафету из настоящего в будущее, определяя тем самым грядущую судьбу страны. Современная школа в ответе за   воспитание человека просвещенного, гуманного, духовно богатого, неравнодушного, активного, высоконравственного, любящего свою Родину, свой народ, с уважением относящегося к истории родной страны, ее традици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наши дни, когда на государственном уровне происходит поворот к духовности, тема патриотического воспитания заново приобретает актуальность и важный социально-культурный смысл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дной из основных задач современной государственной политики РФ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вляется воспитание чувств патриотизма, которое должно пониматься как одно из наиболее значимых, непреходящих ценн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115920"/>
            <a:ext cx="914400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Объекто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исследования данной работы является система патриотического воспитания личности в работе учителя-предметника и классного руководите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Предметом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следования - организационные условия формирования патриотического сознания учащих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Цел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исследовательской работы— развитие в личности высокой социальной активности, гражданской ответственности, духовности, становление личности, обладающей позитивными ценностями и качествами, способных проявить их в созидательном процессе в интересах Отеч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08000" y="0"/>
            <a:ext cx="8928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достижения указанной целевой установки ставлю перед собой следующие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задач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формировать осознанное отношение к Отечеству, его прошлому, настоящему и будущему на основе исторических ценностей и роли России в судьбах ми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развивать гражданственность и национальное самосознание учащих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развивать и углублять знания об истории и культуре родного кр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шение этой проблемы осложняется сложившимися 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противоречиям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между потребностью современного общества в социальной,  активной личности и несовершенством процесса формирования  гражданственности и патриотизма в нынешних условиях (вопиющий разрыв между богатыми и бедными;  деградация русской деревни, ее вымирание, пьянство и наркомания, хищническое отношение к природе и богатствам страны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между гуманистическими требованиями развития индивидуальности каждой личности  и недостаточной теоретической и практической разработанностью соответствующей модели воспит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Гипоте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цесс формирования и развития патриотического сознания у учащихся путем создания организационных условий в школе будет эффективным, ес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539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триотическое воспитание выступает как личностное состояние, выраженное в основу гуманистических по содержанию и гармонических по структуре мыслей, чувств, повед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539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спитание патриотического сознания представляет собой целостный процесс учебно-воспитательной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539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витие патриотического сознания личности учащихся выступает активной силой, под влиянием которого, изменяются и окружающая действительность,  и сама лич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539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триотические качества личности обеспечивают внутреннее изменение не только в настоящем, но и устремленность учащихся в будущее, развитие его активности и самосто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Практическая значимост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работы заключается в внедрении данного проекта по созданию организационных условий для формирования и развития патриотического сознания учащихся в систему   учебно-воспитательного процес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1T18:32:04Z</dcterms:created>
  <dc:creator>TEST</dc:creator>
  <dc:description/>
  <dc:language>en-US</dc:language>
  <cp:lastModifiedBy>COMP</cp:lastModifiedBy>
  <dcterms:modified xsi:type="dcterms:W3CDTF">2011-10-23T15:42:25Z</dcterms:modified>
  <cp:revision>15</cp:revision>
  <dc:subject/>
  <dc:title>Слайд 1</dc:title>
</cp:coreProperties>
</file>