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EA5-1931-449D-BD26-22BAED5B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DDD-6059-4D0E-A822-C9485BD3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DA4-0730-4C57-9261-3530CFD9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821-B17E-4CCD-9759-2BD4E8B9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A469-07F8-4F86-A862-DB20D1C8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6A4-BCCD-4694-9CC1-A7E24E8E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A46-C7AE-41F0-957F-EB5BEB98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3D0C-5DEE-408A-8CED-15D4B7B2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9597-5675-4268-8A6B-1D181AD6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3398-8C54-417D-AFE2-17F01165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76C4-07E2-45BC-903E-1970E571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20E-27AD-463A-9967-7990FB29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8461-4159-4A9D-8538-6FCA4B56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6EF9-6EAB-49D7-A1DB-48E3C953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B591-2CAF-480C-8F38-C78911F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2B1-F717-40F0-88AC-AD2995EA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87B6-820B-4AB9-AB74-7406D72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A3D-28FF-409D-9DBC-F33C465F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282-D869-41FA-99FC-2F784487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ED9-EF4B-4EA3-B2F9-EFC77D0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69E-E37A-4AF0-A014-94BA8020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F4B-0683-4539-8345-730A68BB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85D-78FB-4A8F-9444-28819A2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045-2CB9-4B75-AF9F-4D035A4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11AB-184A-443E-ABBC-AABA9F136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FD0-5E74-4FA2-9176-6AA0FC643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onotype Corsiva"/>
              </a:rPr>
              <a:t>Измерение высоты предмета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Задача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определить высот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предме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249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тметим точку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 определенном расстоянии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от основания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едмета и измерим угол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:  </a:t>
            </a:r>
            <a:r>
              <a:rPr b="0" lang="ar-S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=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 этим данным  из прямоугольного треугольника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находим высоту предмета: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 =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tg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084640"/>
            <a:ext cx="51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15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15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9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5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9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95"/>
                            </p:stCondLst>
                            <p:childTnLst>
                              <p:par>
                                <p:cTn id="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95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395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895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248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Если основание предмета недоступно, можно поступить так: на прямой проходящей через основание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Н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предмета, отметим точк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на определенном расстояни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друг от друга и измерим углы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С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: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  и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СВ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Эти данные позволяют определить все элементы треугольника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, в частност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.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– внешний угол  </a:t>
            </a: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∆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, поэтому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08360" y="5084640"/>
            <a:ext cx="436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7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17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9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26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9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350"/>
                            </p:stCondLst>
                            <p:childTnLst>
                              <p:par>
                                <p:cTn id="1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35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85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35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48229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спользуя теорему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инусов, находим А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=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β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sin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 (</a:t>
            </a: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-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β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з прямоугольного треугольника АВН находим высоту АН предме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= АВ </a:t>
            </a:r>
            <a:r>
              <a:rPr b="1" i="1" lang="ru-RU" sz="18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так,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= а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sin </a:t>
            </a:r>
            <a:r>
              <a:rPr b="1" i="1" lang="el-GR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β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sin (</a:t>
            </a:r>
            <a:r>
              <a:rPr b="1" i="1" lang="el-GR" sz="35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35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1" i="1" lang="el-GR" sz="35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08360" y="5084640"/>
            <a:ext cx="436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2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62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9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71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9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800"/>
                            </p:stCondLst>
                            <p:childTnLst>
                              <p:par>
                                <p:cTn id="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8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8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4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4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72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2:29:17Z</dcterms:created>
  <dc:creator>Светик</dc:creator>
  <dc:description/>
  <dc:language>en-US</dc:language>
  <cp:lastModifiedBy>Светик</cp:lastModifiedBy>
  <dcterms:modified xsi:type="dcterms:W3CDTF">2009-12-10T09:15:16Z</dcterms:modified>
  <cp:revision>11</cp:revision>
  <dc:subject/>
  <dc:title>Измерение высоты предмета</dc:title>
</cp:coreProperties>
</file>