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600-3AF2-4A4F-88B3-ABE00635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2C1-87A7-4E3A-B63F-7AC116CA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D1E-51DA-452E-9EA4-7168D7A4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161-4443-4519-9D85-E389BC12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8A16-72D1-4AA6-832A-6692FBF0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C650-5AB7-4183-B14B-CD53CA60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A868-9ACA-42C8-968D-7CBEE9C1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F989-9FA6-45A3-93CA-F66EBF60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3A1C-42E8-4D7A-A694-D8EB4EA7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220B-3548-4199-9D49-7BF68FDD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CFEA-B192-442E-AB05-07EA6375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EB4-4F85-4F99-B6A1-F0B5E89B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DEC7-BA98-45CA-995A-7468A5E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2562-2BD5-4D0B-9DDD-F755425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9603-0A91-47C4-B0F1-3AC57EAD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3CF1-690D-4224-8671-7911470E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F897-3FFA-443F-916F-470E81C3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206A-C8F4-4DCB-8523-0D6ACF23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34F-2F52-42B7-979A-284F0D29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461-03AC-4B40-B151-DBD1A046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92B-7FEC-4DB9-B68F-4D75F372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650-05EE-4F4E-88D9-500CD80C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70B-805A-4299-B28F-CBA7549D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1F0-EC16-465A-B218-FFE2A357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741F-03B1-4A4A-8DFB-46000C5AF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E8F9-F90F-4D5E-B9BC-A38DF8F1D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onotype Corsiva"/>
              </a:rPr>
              <a:t>Измерение высоты предмета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Задача: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определить высот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предмет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2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4249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Отметим точку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а определенном расстоянии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от основания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Н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едмета и измерим угол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ВН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:  </a:t>
            </a:r>
            <a:r>
              <a:rPr b="0" lang="ar-S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ВН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=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 этим данным  из прямоугольного треугольника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ВН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находим высоту предмета: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Н =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a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tg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5157720"/>
            <a:ext cx="403200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ree"/>
          <p:cNvSpPr/>
          <p:nvPr/>
        </p:nvSpPr>
        <p:spPr>
          <a:xfrm>
            <a:off x="5148360" y="1700280"/>
            <a:ext cx="1809720" cy="3456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5157720"/>
            <a:ext cx="2159280" cy="1800"/>
          </a:xfrm>
          <a:prstGeom prst="line">
            <a:avLst/>
          </a:prstGeom>
          <a:ln w="127080">
            <a:solidFill>
              <a:srgbClr val="0023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1700280"/>
            <a:ext cx="2159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084720" y="1700280"/>
            <a:ext cx="2735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7236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23560" y="45306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812000" y="486900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459640" y="494172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532720" y="5013360"/>
            <a:ext cx="2887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09080" y="105264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3480" y="51577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09480" y="508464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532720" y="508464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5084640"/>
            <a:ext cx="516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3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3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3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15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15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9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805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9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95"/>
                            </p:stCondLst>
                            <p:childTnLst>
                              <p:par>
                                <p:cTn id="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95"/>
                            </p:stCondLst>
                            <p:childTnLst>
                              <p:par>
                                <p:cTn id="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395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895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3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3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3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4248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Если основание предмета недоступно, можно поступить так: на прямой проходящей через основание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Н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предмета, отметим точк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В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С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на определенном расстояни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друг от друга и измерим углы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Н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СВ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: </a:t>
            </a:r>
            <a:r>
              <a:rPr b="1" i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Н= </a:t>
            </a:r>
            <a:r>
              <a:rPr b="1" i="1" lang="el-GR" sz="26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  и </a:t>
            </a:r>
            <a:r>
              <a:rPr b="1" i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СВ= </a:t>
            </a:r>
            <a:r>
              <a:rPr b="1" i="1" lang="el-GR" sz="2600" spc="-1" strike="noStrike">
                <a:solidFill>
                  <a:srgbClr val="ffffff"/>
                </a:solidFill>
                <a:latin typeface="Monotype Corsiva"/>
              </a:rPr>
              <a:t>β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Эти данные позволяют определить все элементы треугольника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С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, в частност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. </a:t>
            </a:r>
            <a:r>
              <a:rPr b="1" i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Н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– внешний угол  </a:t>
            </a: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∆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С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, поэтому </a:t>
            </a:r>
            <a:r>
              <a:rPr b="1" i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= </a:t>
            </a:r>
            <a:r>
              <a:rPr b="1" i="1" lang="el-GR" sz="26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1" i="1" lang="el-GR" sz="2600" spc="-1" strike="noStrike">
                <a:solidFill>
                  <a:srgbClr val="ffffff"/>
                </a:solidFill>
                <a:latin typeface="Monotype Corsiva"/>
              </a:rPr>
              <a:t>β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0" y="5157720"/>
            <a:ext cx="403200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ree"/>
          <p:cNvSpPr/>
          <p:nvPr/>
        </p:nvSpPr>
        <p:spPr>
          <a:xfrm>
            <a:off x="5148360" y="1700280"/>
            <a:ext cx="1809720" cy="3456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84720" y="5157720"/>
            <a:ext cx="2159280" cy="1800"/>
          </a:xfrm>
          <a:prstGeom prst="line">
            <a:avLst/>
          </a:prstGeom>
          <a:ln w="127080">
            <a:solidFill>
              <a:srgbClr val="0023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84720" y="1700280"/>
            <a:ext cx="2159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6084720" y="1700280"/>
            <a:ext cx="2735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7236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23560" y="45306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812000" y="486900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459640" y="494172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532720" y="5013360"/>
            <a:ext cx="2887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9080" y="105264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3480" y="51577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09480" y="508464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532720" y="508464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08360" y="5084640"/>
            <a:ext cx="436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3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3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3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7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17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9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26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9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350"/>
                            </p:stCondLst>
                            <p:childTnLst>
                              <p:par>
                                <p:cTn id="1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35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850"/>
                            </p:stCondLst>
                            <p:childTnLst>
                              <p:par>
                                <p:cTn id="1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35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3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3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3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-360" y="691920"/>
            <a:ext cx="48229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спользуя теорему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инусов, находим А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В=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a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sin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β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/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sin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 (</a:t>
            </a:r>
            <a:r>
              <a:rPr b="1" i="1" lang="el-GR" sz="36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-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β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з прямоугольного треугольника АВН находим высоту АН предме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Н= АВ </a:t>
            </a:r>
            <a:r>
              <a:rPr b="1" i="1" lang="ru-RU" sz="18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sin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так,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Н= а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sin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 sin </a:t>
            </a:r>
            <a:r>
              <a:rPr b="1" i="1" lang="el-GR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β</a:t>
            </a:r>
            <a:r>
              <a:rPr b="1" i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sin (</a:t>
            </a:r>
            <a:r>
              <a:rPr b="1" i="1" lang="el-GR" sz="35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i="1" lang="ru-RU" sz="35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1" i="1" lang="el-GR" sz="3500" spc="-1" strike="noStrike">
                <a:solidFill>
                  <a:srgbClr val="ffffff"/>
                </a:solidFill>
                <a:latin typeface="Monotype Corsiva"/>
              </a:rPr>
              <a:t>β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88000" y="5157720"/>
            <a:ext cx="403200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ree"/>
          <p:cNvSpPr/>
          <p:nvPr/>
        </p:nvSpPr>
        <p:spPr>
          <a:xfrm>
            <a:off x="5148360" y="1700280"/>
            <a:ext cx="1809720" cy="3456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84720" y="5157720"/>
            <a:ext cx="2159280" cy="1800"/>
          </a:xfrm>
          <a:prstGeom prst="line">
            <a:avLst/>
          </a:prstGeom>
          <a:ln w="127080">
            <a:solidFill>
              <a:srgbClr val="0023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700280"/>
            <a:ext cx="2159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6084720" y="1700280"/>
            <a:ext cx="2735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7236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23560" y="45306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812000" y="486900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459640" y="494172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532720" y="5013360"/>
            <a:ext cx="2887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9080" y="105264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93480" y="51577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09480" y="508464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532720" y="508464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08360" y="5084640"/>
            <a:ext cx="436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2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620"/>
                            </p:stCondLst>
                            <p:childTnLst>
                              <p:par>
                                <p:cTn id="2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9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710"/>
                            </p:stCondLst>
                            <p:childTnLst>
                              <p:par>
                                <p:cTn id="2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9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800"/>
                            </p:stCondLst>
                            <p:childTnLst>
                              <p:par>
                                <p:cTn id="2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80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3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80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4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48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72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2:29:17Z</dcterms:created>
  <dc:creator>Светик</dc:creator>
  <dc:description/>
  <dc:language>en-US</dc:language>
  <cp:lastModifiedBy>Светик</cp:lastModifiedBy>
  <dcterms:modified xsi:type="dcterms:W3CDTF">2009-12-10T09:15:16Z</dcterms:modified>
  <cp:revision>11</cp:revision>
  <dc:subject/>
  <dc:title>Измерение высоты предмета</dc:title>
</cp:coreProperties>
</file>