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940-2839-403D-87F2-0DEC5FA7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CC32-A7D9-401D-AC95-8058261E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808-C0C5-40A8-8DB5-6AE911DE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EEA-7855-402D-9D62-2A826516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3087-D59B-46D3-A91C-1129DB08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2A0F-14D0-4799-9270-1EC004F0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7DC0-8066-4B8D-891D-DE7C352F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83C5-169D-4CF7-A84F-9B291322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5E57-A217-4517-97CB-7960A0F1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3DFE-F648-4D26-AEAE-1BAEF50B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2D72-B6C7-44FE-97FF-1A155F75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664-05E9-4AD6-B118-75763C86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A8B0-A92A-44BE-93F4-CF1DBF39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2728-85B1-447F-8B4F-2DCF5432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0366-A1B5-4274-9848-45B2081B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FF69-5B0D-4CC2-A9D0-A9E579CD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539C-5EB5-441B-BABA-4B49239F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5F8-F945-41D2-82CA-874B2E37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291-6E33-47C4-98F7-37FC9BB4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39E-702D-4375-8451-47E1B6D6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009-B0E4-463F-A553-371AFCFF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BA41-F146-4E86-9D09-FC08535E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2E7-33AD-48A3-BA05-4182E400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6D03-CA95-4D49-889E-A04DD522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F417-63B3-4D86-9F56-E767766761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FBE5-FC6E-4F51-8245-1D0744D38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7772400" cy="25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onotype Corsiva"/>
              </a:rPr>
              <a:t>Измерение высоты предмета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Задача: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определить высот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предмет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2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4249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Отметим точку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В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на определенном расстоянии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от основания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Н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редмета и измерим угол 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ВН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:  </a:t>
            </a:r>
            <a:r>
              <a:rPr b="0" lang="ar-S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ВН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= </a:t>
            </a:r>
            <a:r>
              <a:rPr b="1" i="1" lang="el-GR" sz="3200" spc="-1" strike="noStrike">
                <a:solidFill>
                  <a:srgbClr val="ffffff"/>
                </a:solidFill>
                <a:latin typeface="Monotype Corsiva"/>
              </a:rPr>
              <a:t>α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 этим данным  из прямоугольного треугольника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ВН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находим высоту предмета: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Н =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a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tg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el-GR" sz="3200" spc="-1" strike="noStrike">
                <a:solidFill>
                  <a:srgbClr val="ffffff"/>
                </a:solidFill>
                <a:latin typeface="Monotype Corsiva"/>
              </a:rPr>
              <a:t>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88000" y="5157720"/>
            <a:ext cx="403200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ree"/>
          <p:cNvSpPr/>
          <p:nvPr/>
        </p:nvSpPr>
        <p:spPr>
          <a:xfrm>
            <a:off x="5148360" y="1700280"/>
            <a:ext cx="1809720" cy="3456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5157720"/>
            <a:ext cx="2159280" cy="1800"/>
          </a:xfrm>
          <a:prstGeom prst="line">
            <a:avLst/>
          </a:prstGeom>
          <a:ln w="127080">
            <a:solidFill>
              <a:srgbClr val="0023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1700280"/>
            <a:ext cx="2159280" cy="34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6084720" y="1700280"/>
            <a:ext cx="2735280" cy="34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72360" y="465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23560" y="45306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ffffff"/>
                </a:solidFill>
                <a:latin typeface="Monotype Corsiva"/>
              </a:rPr>
              <a:t>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812000" y="486900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459640" y="494172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532720" y="5013360"/>
            <a:ext cx="28872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09080" y="1052640"/>
            <a:ext cx="4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93480" y="515772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09480" y="5084640"/>
            <a:ext cx="4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532720" y="5084640"/>
            <a:ext cx="3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48360" y="5084640"/>
            <a:ext cx="516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3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3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3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15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15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9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805"/>
                            </p:stCondLst>
                            <p:childTnLst>
                              <p:par>
                                <p:cTn id="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9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95"/>
                            </p:stCondLst>
                            <p:childTnLst>
                              <p:par>
                                <p:cTn id="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895"/>
                            </p:stCondLst>
                            <p:childTnLst>
                              <p:par>
                                <p:cTn id="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395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895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3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3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3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4248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Если основание предмета недоступно, можно поступить так: на прямой проходящей через основание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Н 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предмета, отметим точки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В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 и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С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 на определенном расстоянии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 друг от друга и измерим углы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ВН 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и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СВ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: </a:t>
            </a:r>
            <a:r>
              <a:rPr b="1" i="1" lang="ru-RU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ВН= </a:t>
            </a:r>
            <a:r>
              <a:rPr b="1" i="1" lang="el-GR" sz="2600" spc="-1" strike="noStrike">
                <a:solidFill>
                  <a:srgbClr val="ffffff"/>
                </a:solidFill>
                <a:latin typeface="Monotype Corsiva"/>
              </a:rPr>
              <a:t>α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  и </a:t>
            </a:r>
            <a:r>
              <a:rPr b="1" i="1" lang="ru-RU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СВ= </a:t>
            </a:r>
            <a:r>
              <a:rPr b="1" i="1" lang="el-GR" sz="2600" spc="-1" strike="noStrike">
                <a:solidFill>
                  <a:srgbClr val="ffffff"/>
                </a:solidFill>
                <a:latin typeface="Monotype Corsiva"/>
              </a:rPr>
              <a:t>β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Эти данные позволяют определить все элементы треугольника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ВС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, в частности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В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. </a:t>
            </a:r>
            <a:r>
              <a:rPr b="1" i="1" lang="ru-RU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ВН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 – внешний угол  </a:t>
            </a: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∆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ВС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, поэтому </a:t>
            </a:r>
            <a:r>
              <a:rPr b="1" i="1" lang="ru-RU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∠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А= </a:t>
            </a:r>
            <a:r>
              <a:rPr b="1" i="1" lang="el-GR" sz="2600" spc="-1" strike="noStrike">
                <a:solidFill>
                  <a:srgbClr val="ffffff"/>
                </a:solidFill>
                <a:latin typeface="Monotype Corsiva"/>
              </a:rPr>
              <a:t>α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- </a:t>
            </a:r>
            <a:r>
              <a:rPr b="1" i="1" lang="el-GR" sz="2600" spc="-1" strike="noStrike">
                <a:solidFill>
                  <a:srgbClr val="ffffff"/>
                </a:solidFill>
                <a:latin typeface="Monotype Corsiva"/>
              </a:rPr>
              <a:t>β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88000" y="5157720"/>
            <a:ext cx="403200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ree"/>
          <p:cNvSpPr/>
          <p:nvPr/>
        </p:nvSpPr>
        <p:spPr>
          <a:xfrm>
            <a:off x="5148360" y="1700280"/>
            <a:ext cx="1809720" cy="3456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84720" y="5157720"/>
            <a:ext cx="2159280" cy="1800"/>
          </a:xfrm>
          <a:prstGeom prst="line">
            <a:avLst/>
          </a:prstGeom>
          <a:ln w="127080">
            <a:solidFill>
              <a:srgbClr val="0023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84720" y="1700280"/>
            <a:ext cx="2159280" cy="34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6084720" y="1700280"/>
            <a:ext cx="2735280" cy="34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172360" y="465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23560" y="45306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ffffff"/>
                </a:solidFill>
                <a:latin typeface="Monotype Corsiva"/>
              </a:rPr>
              <a:t>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812000" y="486900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459640" y="494172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532720" y="5013360"/>
            <a:ext cx="28872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9080" y="1052640"/>
            <a:ext cx="4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93480" y="515772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809480" y="5084640"/>
            <a:ext cx="4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532720" y="5084640"/>
            <a:ext cx="3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08360" y="5084640"/>
            <a:ext cx="436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3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3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3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67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17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9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26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9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350"/>
                            </p:stCondLst>
                            <p:childTnLst>
                              <p:par>
                                <p:cTn id="1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35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850"/>
                            </p:stCondLst>
                            <p:childTnLst>
                              <p:par>
                                <p:cTn id="1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5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5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5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35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3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3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3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-360" y="691920"/>
            <a:ext cx="48229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Используя теорему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инусов, находим А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В=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a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sin </a:t>
            </a:r>
            <a:r>
              <a:rPr b="1" i="1" lang="el-GR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β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/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sin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 (</a:t>
            </a:r>
            <a:r>
              <a:rPr b="1" i="1" lang="el-GR" sz="3600" spc="-1" strike="noStrike">
                <a:solidFill>
                  <a:srgbClr val="ffffff"/>
                </a:solidFill>
                <a:latin typeface="Monotype Corsiva"/>
              </a:rPr>
              <a:t>α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  <a:ea typeface="Arial"/>
              </a:rPr>
              <a:t>-</a:t>
            </a:r>
            <a:r>
              <a:rPr b="1" i="1" lang="el-GR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β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Из прямоугольного треугольника АВН находим высоту АН предме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Н= АВ </a:t>
            </a:r>
            <a:r>
              <a:rPr b="1" i="1" lang="ru-RU" sz="1800" spc="-1" strike="noStrike">
                <a:solidFill>
                  <a:srgbClr val="ffffff"/>
                </a:solidFill>
                <a:latin typeface="Monotype Corsiva"/>
              </a:rPr>
              <a:t>•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sin </a:t>
            </a:r>
            <a:r>
              <a:rPr b="1" i="1" lang="el-GR" sz="3200" spc="-1" strike="noStrike">
                <a:solidFill>
                  <a:srgbClr val="ffffff"/>
                </a:solidFill>
                <a:latin typeface="Monotype Corsiva"/>
              </a:rPr>
              <a:t>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Итак,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АН= а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sin </a:t>
            </a:r>
            <a:r>
              <a:rPr b="1" i="1" lang="el-GR" sz="3200" spc="-1" strike="noStrike">
                <a:solidFill>
                  <a:srgbClr val="ffffff"/>
                </a:solidFill>
                <a:latin typeface="Monotype Corsiva"/>
              </a:rPr>
              <a:t>α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</a:rPr>
              <a:t> sin </a:t>
            </a:r>
            <a:r>
              <a:rPr b="1" i="1" lang="el-GR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β</a:t>
            </a:r>
            <a:r>
              <a:rPr b="1" i="1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 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sin (</a:t>
            </a:r>
            <a:r>
              <a:rPr b="1" i="1" lang="el-GR" sz="3500" spc="-1" strike="noStrike">
                <a:solidFill>
                  <a:srgbClr val="ffffff"/>
                </a:solidFill>
                <a:latin typeface="Monotype Corsiva"/>
              </a:rPr>
              <a:t>α</a:t>
            </a:r>
            <a:r>
              <a:rPr b="1" i="1" lang="ru-RU" sz="3500" spc="-1" strike="noStrike">
                <a:solidFill>
                  <a:srgbClr val="ffffff"/>
                </a:solidFill>
                <a:latin typeface="Monotype Corsiva"/>
              </a:rPr>
              <a:t>- </a:t>
            </a:r>
            <a:r>
              <a:rPr b="1" i="1" lang="el-GR" sz="3500" spc="-1" strike="noStrike">
                <a:solidFill>
                  <a:srgbClr val="ffffff"/>
                </a:solidFill>
                <a:latin typeface="Monotype Corsiva"/>
              </a:rPr>
              <a:t>β</a:t>
            </a:r>
            <a:r>
              <a:rPr b="1" i="1" lang="en-US" sz="32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88000" y="5157720"/>
            <a:ext cx="403200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ree"/>
          <p:cNvSpPr/>
          <p:nvPr/>
        </p:nvSpPr>
        <p:spPr>
          <a:xfrm>
            <a:off x="5148360" y="1700280"/>
            <a:ext cx="1809720" cy="3456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84720" y="5157720"/>
            <a:ext cx="2159280" cy="1800"/>
          </a:xfrm>
          <a:prstGeom prst="line">
            <a:avLst/>
          </a:prstGeom>
          <a:ln w="127080">
            <a:solidFill>
              <a:srgbClr val="0023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1700280"/>
            <a:ext cx="2159280" cy="34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6084720" y="1700280"/>
            <a:ext cx="2735280" cy="34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172360" y="465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Arial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23560" y="45306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ffffff"/>
                </a:solidFill>
                <a:latin typeface="Monotype Corsiva"/>
              </a:rPr>
              <a:t>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812000" y="486900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459640" y="494172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8532720" y="5013360"/>
            <a:ext cx="28872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9080" y="1052640"/>
            <a:ext cx="4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93480" y="515772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09480" y="5084640"/>
            <a:ext cx="4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532720" y="5084640"/>
            <a:ext cx="3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08360" y="5084640"/>
            <a:ext cx="436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12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620"/>
                            </p:stCondLst>
                            <p:childTnLst>
                              <p:par>
                                <p:cTn id="2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9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710"/>
                            </p:stCondLst>
                            <p:childTnLst>
                              <p:par>
                                <p:cTn id="2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9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800"/>
                            </p:stCondLst>
                            <p:childTnLst>
                              <p:par>
                                <p:cTn id="23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800"/>
                            </p:stCondLst>
                            <p:childTnLst>
                              <p:par>
                                <p:cTn id="2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300"/>
                            </p:stCondLst>
                            <p:childTnLst>
                              <p:par>
                                <p:cTn id="2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5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5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5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800"/>
                            </p:stCondLst>
                            <p:childTnLst>
                              <p:par>
                                <p:cTn id="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4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7480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72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2:29:17Z</dcterms:created>
  <dc:creator>Светик</dc:creator>
  <dc:description/>
  <dc:language>en-US</dc:language>
  <cp:lastModifiedBy>Светик</cp:lastModifiedBy>
  <dcterms:modified xsi:type="dcterms:W3CDTF">2009-12-10T09:15:16Z</dcterms:modified>
  <cp:revision>11</cp:revision>
  <dc:subject/>
  <dc:title>Измерение высоты предмета</dc:title>
</cp:coreProperties>
</file>