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0AF05-32DD-4B93-87CD-E2C88B52E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C1AD1-CC91-423E-8831-3E710EC44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5615A-3B65-4FA6-832A-F9AC1000B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61C2E-04AE-4563-9471-93177CD73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8F044-4F88-4686-936B-44DE01053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B1213-D0F9-432A-A0AD-FC2388EEC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4C7F3-268C-45B2-971A-4D5F88FC2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A69FB-147F-45D7-8B44-C689F3D00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426D1-AA0B-4DA5-A3C7-65568E5CA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78116-9B26-41D4-A949-406DD51A7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A102E-9B1B-4261-B339-44427EB2F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4AF4A-BC93-4B61-BC27-73D32D649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F83B9-19F6-409F-8C73-DD1AD9B1F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82E47-A074-4DFE-B5AD-C9591DD43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4BBA1-027D-4392-8074-D39972A27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70965-051E-45AC-A472-53F1F9F40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E7CA4-A6FD-440B-8B9D-375F82F0E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56A4A-4747-4F68-B665-0A5F26622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03F47-B0EB-4236-B464-48543F1B3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F15CD-020B-4971-9DE9-E5A2E5901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66590-66FC-4710-869B-9D9C7F888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9812D-3C98-4296-883E-2393F8FD0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AA106-148A-45EE-905D-95E5D1DAD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15959-01D4-4471-9429-FC51CE107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C2DC2-EFD1-402F-9688-31B4964BEA9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64F98-7EA3-4D16-A793-84721FE5DA7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-360" y="1523520"/>
            <a:ext cx="533412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ffff"/>
                </a:solidFill>
                <a:latin typeface="Times New Roman"/>
              </a:rPr>
              <a:t>Иммануил Кант</a:t>
            </a:r>
            <a:br>
              <a:rPr sz="4400"/>
            </a:br>
            <a:r>
              <a:rPr b="1" lang="ru-RU" sz="4400" spc="-1" strike="noStrike">
                <a:solidFill>
                  <a:srgbClr val="e5ffff"/>
                </a:solidFill>
                <a:latin typeface="Times New Roman"/>
              </a:rPr>
              <a:t>(1724 – 1804)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514600" y="4952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Подготовила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студентка 41 групп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Сидоркина Василис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5067360" y="380880"/>
            <a:ext cx="376704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ffff"/>
                </a:solidFill>
                <a:latin typeface="Times New Roman"/>
              </a:rPr>
              <a:t>Категории рассудка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. Категории количества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Единств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Множеств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цельност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.Категории качества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Реальност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Отрицани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Ограничени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228240" y="3049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3.Категории отношения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убстанция и принадлежност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ичина и следстви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заимодействи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4.Категории модальности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озможность и невозможност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уществование и несуществовани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еобходимость и случайност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3581280" y="228600"/>
            <a:ext cx="556272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Для философской системы Канта характерен компромисс между материализмом и идеализмом. Материалистические тенденции в философии Канта сказываются в том, что он признает существование объективной реальности, вещей вне нас. Кант учит, что существуют "вещи в себе", не зависящие от познающего субъекта. Если бы Кант последовательно проводил этот взгляд, то он пришел бы к материализму. Но в противоречие с этой материалистической тенденцией он утверждал, что "вещи в себе" непознаваемы.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228600" y="1371600"/>
            <a:ext cx="358128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304560" y="304560"/>
            <a:ext cx="83818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Т.е., он выступал как сторонник агностицизма, который приводит Канта к идеализму. Идеализм Канта выступает в форме 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априоризма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- учения о том, что основные положения всякого знания являются доопытными, априорными формами рассудка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остранство и время, по Канту, являются не объективными формами существования материи, а всего лишь формами человеческого сознания, априорными формами чувственного созерцания. Кант ставил вопрос о характере основных понятий, категорий, при помощи которых люди познают природу, но этот вопрос он также решал с позиций априоризм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3657600" y="380880"/>
            <a:ext cx="548640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Так, причинность он считал не объективной связью, закономерностью природы, а априорной формой человеческого рассудка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Идеалистически Кант представил и предмет познания. Согласно учению Канта, он конструируется человеческим сознанием из чувственного материала при помощи априорных форм рассудка. Этот конструируемый сознанием предмет Кант называет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природой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152280" y="762120"/>
            <a:ext cx="3638520" cy="50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228600" y="228240"/>
            <a:ext cx="86104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Формально Кант признает, что познание имеет своим предметом природу, но по существу он противопоставляет природу объективному миру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В идеалистической философии Канта имеются и ценные образцы диалектики. Заслуга Канта в теории познания состоит в том, что он установил недостаточность аналитического метода для науки и поставил вопрос о познавательной роли синтеза в научном исследовании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4876920" y="3886200"/>
            <a:ext cx="36576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0" y="304920"/>
            <a:ext cx="586728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Диалектический характер имела критика Кантом рассудочного мышления. Кант различал рассудок и разум. Он считал, что разумное понятие выше и по природе своей диалектично. В этом отношении особый интерес представляет его учение о противоречиях, антиномиях разума. Согласно Канту, разум, решая вопрос о конечности или бесконечности мира, его простоте или сложности и так далее, впадает в противоречия. 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691240" y="609480"/>
            <a:ext cx="3255840" cy="39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380520" y="99072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Диалектика, по мнению Канта, имеет негативный отрицательный смысл: с одинаковой убедительностью можно доказывать, что мир конечен в пространстве и времени (тезис) и что он бесконечен во времени и пространстве (антитезис). Как агностик, Кант ошибочно полагал, что подобные антиномии неразрешимы. Тем не менее, его учение об антиномиях разума было направлено против метафизики и самой постановкой вопроса о противоречиях способствовало развитию диалектического взгляда на мир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0" y="685440"/>
            <a:ext cx="60199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Немецкий философ, родоначальник немецкой классической философии. В ранний период своей деятельности много занимался вопросами естествознания и выдвинул свою гипотезу происхождения и развития солнечной системы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Главным философским произведением является «Критика чистого разума».  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6095880" y="838080"/>
            <a:ext cx="275292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ffff"/>
                </a:solidFill>
                <a:latin typeface="Times New Roman"/>
              </a:rPr>
              <a:t>Философия И.Канта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Кант отвергал догматический способ познания и считал, что вместо него нужно взять за основу метод критического философствования, сущность которого заключается в исследовании самого разума; границ, которые может достичь разумом человек; и изучении отдельных способов человеческого познания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-360" y="304920"/>
            <a:ext cx="609588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Исходной проблемой для Канта является вопрос «Как возможно чистое знание?». Прежде всего это касается возможности чистой математики и чистого естествознания («чистый» означает «неэмпирический», то есть такой, к которому не примешивается ощущение). Указанный вопрос Кант формулировал в терминах различения аналитических и синтетических суждений — «Как возможны синтетические суждения априори?» Термин «априори» означает «вне опыта», в противоположность термину «апостериори» — «из опыта».  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6248520" y="3276720"/>
            <a:ext cx="2720880" cy="34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2971800" y="304560"/>
            <a:ext cx="601992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ант не разделял безграничной веры в силы человеческого разума, называя эту веру догматизмом. Кант, по его словам, совершил Коперниканский переворот в философии, тем, что первым указал, что для обоснования возможности знания следует признать, что не наши познавательные способности должны сообразовываться с миром, а мир должен сообразовываться с нашими способностями, чтобы вообще могло состояться познание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304920" y="990720"/>
            <a:ext cx="287172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457200" y="8380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Т.е., наше сознание не просто пассивно постигает мир, как он есть на самом деле (догматизм), но, скорее, наоборот, мир сообразуется с возможностями нашего познания, а именно: рассудок является активным участником становления самого мира, данного нам в опыте. Опыт по сути есть синтез того содержания, материи, которое дается миром (вещей в себе) и той субъективной формы, в которой эта материя (ощущения) постигается сознанием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3428640" y="609120"/>
            <a:ext cx="5715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Единое синтетическое целое материи и формы Кант и называет 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опытом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, который по необходимости становится чем-то только субъективным. Именно поэтому Кант различает мир, как он есть сам по себе (т.е. вне формирующей деятельности рассудка) — вещь-в-себе, и мир, как он дан в явлении, т.е. в опыте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228600" y="838080"/>
            <a:ext cx="3173400" cy="40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e5ffff"/>
                </a:solidFill>
                <a:latin typeface="Times New Roman"/>
              </a:rPr>
              <a:t>2 уровня формообразования (активности) субъекта, выделяемые в опыте: </a:t>
            </a:r>
            <a:br>
              <a:rPr sz="3300"/>
            </a:br>
            <a:endParaRPr b="0" lang="en-US" sz="33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52280" y="1142640"/>
            <a:ext cx="88394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субъективные формы чувства — пространство и время. В созерцании чувственные данные (материя) осознаются нами в формах пространства и времени, и тем самым опыт чувства становится чем-то необходимым и всеобщим. Это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чувственный синтез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благодаря категориям рассудка связываются данности созерцания. Это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рассудочный синтез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Основой всякого синтеза является, согласно Канту, самосознание — единство апперцепции (обусловленное восприятие предметов и явлений внешнего мира и осознание этого восприятия особенностями общего содержания психической жизни как целого). В «Критике» много места уделяется тому, как понятия рассудка (категории) подводятся под представления. Здесь решающую роль играет воображение и рассудочный категориальный схематизм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1-10-24T19:33:4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