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45A-E312-4839-9B53-188BA1F2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79E-933F-4CFF-8717-6F2DB06A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8DF-3341-43C3-AFCD-42B5BA90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D6D-341D-400F-81C9-924930C5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1C8A-7C0A-4250-863F-345CDDFA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5581-BDB4-4DFF-9893-5640A8EB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CA7D-F36B-43F3-B232-542682BA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FD25-F38B-4556-8AB4-5C693DCC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9614-31F8-4F12-8499-BBB1645A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574D-E559-4181-B91B-5AF26F73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E3A0-7CC5-4C99-8411-4FD6D615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56B-D103-4D31-8EA0-1E2C7104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FD1D-8550-4541-AEBC-A30A79FC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FDB4-B13D-4856-8CFF-0EC6DF53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C76D-B566-466E-907F-65F93B8C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D336-C6AB-4563-A09B-8F4F0F7D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2DCA-4A5D-41AF-8B3A-4250CA9A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1E9-E177-45BD-B1C7-7742E90C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F34-0621-49AE-823F-B7BF28CD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EAA-79EA-4F16-9D80-A9CDD962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F6C-34BB-467B-BE0A-619C36CB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75E-E009-4099-9D3A-990CFA7F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C53-7274-4DD4-8614-6142E3D0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98A-06AD-451F-904D-37F8A51B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16A9-4B23-4F7E-BDA6-E3123584E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C936-CF27-4DDE-8891-D5B16F539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5334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Иммануил Кант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(1724 – 1804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14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удентка 41 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идоркина Васили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67360" y="380880"/>
            <a:ext cx="3767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imes New Roman"/>
              </a:rPr>
              <a:t>Категории рассуд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Категории количест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нож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е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Категории качест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а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риц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грани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Категории отнош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бстанция и принадлеж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чина и след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дей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Категории мода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можность и невозмож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ование и несуществ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сть и случай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81280" y="228600"/>
            <a:ext cx="5562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Для философской системы Канта характерен компромисс между материализмом и идеализмом. Материалистические тенденции в философии Канта сказываются в том, что он признает существование объективной реальности, вещей вне нас. Кант учит, что существуют "вещи в себе", не зависящие от познающего субъекта. Если бы Кант последовательно проводил этот взгляд, то он пришел бы к материализму. Но в противоречие с этой материалистической тенденцией он утверждал, что "вещи в себе" непознаваемы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.е., он выступал как сторонник агностицизма, который приводит Канта к идеализму. Идеализм Канта выступает в форме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приориз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учения о том, что основные положения всякого знания являются доопытными, априорными формами рассуд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ранство и время, по Канту, являются не объективными формами существования материи, а всего лишь формами человеческого сознания, априорными формами чувственного созерцания. Кант ставил вопрос о характере основных понятий, категорий, при помощи которых люди познают природу, но этот вопрос он также решал с позиций априор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57600" y="380880"/>
            <a:ext cx="5486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ак, причинность он считал не объективной связью, закономерностью природы, а априорной формой человеческого рассуд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деалистически Кант представил и предмет познания. Согласно учению Канта, он конструируется человеческим сознанием из чувственного материала при помощи априорных форм рассудка. Этот конструируемый сознанием предмет Кант называет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иродо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3638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ормально Кант признает, что познание имеет своим предметом природу, но по существу он противопоставляет природу объективному мир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идеалистической философии Канта имеются и ценные образцы диалектики. Заслуга Канта в теории познания состоит в том, что он установил недостаточность аналитического метода для науки и поставил вопрос о познавательной роли синтеза в научном исследова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5867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алектический характер имела критика Кантом рассудочного мышления. Кант различал рассудок и разум. Он считал, что разумное понятие выше и по природе своей диалектично. В этом отношении особый интерес представляет его учение о противоречиях, антиномиях разума. Согласно Канту, разум, решая вопрос о конечности или бесконечности мира, его простоте или сложности и так далее, впадает в противоречия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91240" y="609480"/>
            <a:ext cx="3255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алектика, по мнению Канта, имеет негативный отрицательный смысл: с одинаковой убедительностью можно доказывать, что мир конечен в пространстве и времени (тезис) и что он бесконечен во времени и пространстве (антитезис). Как агностик, Кант ошибочно полагал, что подобные антиномии неразрешимы. Тем не менее, его учение об антиномиях разума было направлено против метафизики и самой постановкой вопроса о противоречиях способствовало развитию диалектического взгляда на ми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мецкий философ, родоначальник немецкой классической философии. В ранний период своей деятельности много занимался вопросами естествознания и выдвинул свою гипотезу происхождения и развития солнечной систем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лавным философским произведением является «Критика чистого разума».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838080"/>
            <a:ext cx="2752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imes New Roman"/>
              </a:rPr>
              <a:t>Философия И.Кан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нт отвергал догматический способ познания и считал, что вместо него нужно взять за основу метод критического философствования, сущность которого заключается в исследовании самого разума; границ, которые может достичь разумом человек; и изучении отдельных способов человеческого позн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6095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ходной проблемой для Канта является вопрос «Как возможно чистое знание?». Прежде всего это касается возможности чистой математики и чистого естествознания («чистый» означает «неэмпирический», то есть такой, к которому не примешивается ощущение). Указанный вопрос Кант формулировал в терминах различения аналитических и синтетических суждений — «Как возможны синтетические суждения априори?» Термин «априори» означает «вне опыта», в противоположность термину «апостериори» — «из опыта». 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27208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04560"/>
            <a:ext cx="6019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нт не разделял безграничной веры в силы человеческого разума, называя эту веру догматизмом. Кант, по его словам, совершил Коперниканский переворот в философии, тем, что первым указал, что для обоснования возможности знания следует признать, что не наши познавательные способности должны сообразовываться с миром, а мир должен сообразовываться с нашими способностями, чтобы вообще могло состояться позна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2871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.е., наше сознание не просто пассивно постигает мир, как он есть на самом деле (догматизм), но, скорее, наоборот, мир сообразуется с возможностями нашего познания, а именно: рассудок является активным участником становления самого мира, данного нам в опыте. Опыт по сути есть синтез того содержания, материи, которое дается миром (вещей в себе) и той субъективной формы, в которой эта материя (ощущения) постигается сознанием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428640" y="60912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диное синтетическое целое материи и формы Кант и называе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пы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который по необходимости становится чем-то только субъективным. Именно поэтому Кант различает мир, как он есть сам по себе (т.е. вне формирующей деятельности рассудка) — вещь-в-себе, и мир, как он дан в явлении, т.е. в опыт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1734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ffff"/>
                </a:solidFill>
                <a:latin typeface="Times New Roman"/>
              </a:rPr>
              <a:t>2 уровня формообразования (активности) субъекта, выделяемые в опыте: </a:t>
            </a:r>
            <a:br>
              <a:rPr sz="3300"/>
            </a:br>
            <a:endParaRPr b="0" lang="en-US" sz="33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бъективные формы чувства — пространство и время. В созерцании чувственные данные (материя) осознаются нами в формах пространства и времени, и тем самым опыт чувства становится чем-то необходимым и всеобщим. Это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чувственный синте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лагодаря категориям рассудка связываются данности созерцания. Это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ассудочный синте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новой всякого синтеза является, согласно Канту, самосознание — единство апперцепции (обусловленное восприятие предметов и явлений внешнего мира и осознание этого восприятия особенностями общего содержания психической жизни как целого). В «Критике» много места уделяется тому, как понятия рассудка (категории) подводятся под представления. Здесь решающую роль играет воображение и рассудочный категориальный схематиз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24T19:33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