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592-FE40-45D0-A61F-A5100E7A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B24-1FC4-4C9E-A26F-D20A5FD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8FA-12B1-43B2-891B-34EDCBBC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14A-4EAA-4CDE-B607-F286A7E7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80F9-E4EA-427F-9E4D-B0B9A931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0125-186C-456C-BF7D-BD14CDE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9B00-0FF1-4370-BABC-036E655A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90EC-AB4A-4846-BF6A-01D664E8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DAAB-D0AC-4CC4-A399-8E96CC9C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65BA-5B13-422C-A6A2-792F79C5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2B49-5EC8-4056-A070-6FF40AB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69A-0BC7-4B1A-93BB-1D96BA9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8C21-6740-49DD-A362-93D8657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9ED4-4361-4319-86E5-3A65A56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760C-D15B-4E21-ACE1-A989667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7F5-DECD-4530-8BD8-D3CF9E90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42CC-7056-4289-8CAA-D79F9610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639-67DC-405C-9651-CE954FBA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287-351A-40A0-B3BA-B1E24E7B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DF8-A58B-4BDD-A21B-AF1792F0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775-3400-445A-9313-321FC9DE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A0C-B4B4-4B9E-AF0B-EB198DC3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1C5-935B-41DD-AA12-9C50074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7F7-387B-4CE7-98CC-8B917828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8E1-105B-4111-96BF-F82F3E28E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CAE4-F225-40AB-91EC-3F92D5F94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5334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Иммануил Кант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(1724 – 1804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удентка 41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идоркина Васили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67360" y="380880"/>
            <a:ext cx="3767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</a:rPr>
              <a:t>Категории рассуд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Категории колич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ож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Категории кач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риц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грани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Категории отнош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бстанция и принадле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чина и след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Категории мода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ь и невозмо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ование и несуществ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сть и случай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81280" y="228600"/>
            <a:ext cx="5562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Для философской системы Канта характерен компромисс между материализмом и идеализмом. Материалистические тенденции в философии Канта сказываются в том, что он признает существование объективной реальности, вещей вне нас. Кант учит, что существуют "вещи в себе", не зависящие от познающего субъекта. Если бы Кант последовательно проводил этот взгляд, то он пришел бы к материализму. Но в противоречие с этой материалистической тенденцией он утверждал, что "вещи в себе" непознаваемы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.е., он выступал как сторонник агностицизма, который приводит Канта к идеализму. Идеализм Канта выступает в форме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приориз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учения о том, что основные положения всякого знания являются доопытными, априорными формами рассуд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ранство и время, по Канту, являются не объективными формами существования материи, а всего лишь формами человеческого сознания, априорными формами чувственного созерцания. Кант ставил вопрос о характере основных понятий, категорий, при помощи которых люди познают природу, но этот вопрос он также решал с позиций априор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57600" y="380880"/>
            <a:ext cx="5486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ак, причинность он считал не объективной связью, закономерностью природы, а априорной формой человеческого рассуд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деалистически Кант представил и предмет познания. Согласно учению Канта, он конструируется человеческим сознанием из чувственного материала при помощи априорных форм рассудка. Этот конструируемый сознанием предмет Кант называе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иродо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3638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ормально Кант признает, что познание имеет своим предметом природу, но по существу он противопоставляет природу объективному мир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идеалистической философии Канта имеются и ценные образцы диалектики. Заслуга Канта в теории познания состоит в том, что он установил недостаточность аналитического метода для науки и поставил вопрос о познавательной роли синтеза в научном исследова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867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лектический характер имела критика Кантом рассудочного мышления. Кант различал рассудок и разум. Он считал, что разумное понятие выше и по природе своей диалектично. В этом отношении особый интерес представляет его учение о противоречиях, антиномиях разума. Согласно Канту, разум, решая вопрос о конечности или бесконечности мира, его простоте или сложности и так далее, впадает в противоречия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91240" y="609480"/>
            <a:ext cx="3255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лектика, по мнению Канта, имеет негативный отрицательный смысл: с одинаковой убедительностью можно доказывать, что мир конечен в пространстве и времени (тезис) и что он бесконечен во времени и пространстве (антитезис). Как агностик, Кант ошибочно полагал, что подобные антиномии неразрешимы. Тем не менее, его учение об антиномиях разума было направлено против метафизики и самой постановкой вопроса о противоречиях способствовало развитию диалектического взгляда на ми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мецкий философ, родоначальник немецкой классической философии. В ранний период своей деятельности много занимался вопросами естествознания и выдвинул свою гипотезу происхождения и развития солнечной систем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лавным философским произведением является «Критика чистого разума».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838080"/>
            <a:ext cx="2752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</a:rPr>
              <a:t>Философия И.Кан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нт отвергал догматический способ познания и считал, что вместо него нужно взять за основу метод критического философствования, сущность которого заключается в исследовании самого разума; границ, которые может достичь разумом человек; и изучении отдельных способов человеческого позн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6095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ходной проблемой для Канта является вопрос «Как возможно чистое знание?». Прежде всего это касается возможности чистой математики и чистого естествознания («чистый» означает «неэмпирический», то есть такой, к которому не примешивается ощущение). Указанный вопрос Кант формулировал в терминах различения аналитических и синтетических суждений — «Как возможны синтетические суждения априори?» Термин «априори» означает «вне опыта», в противоположность термину «апостериори» — «из опыта». 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2720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04560"/>
            <a:ext cx="6019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нт не разделял безграничной веры в силы человеческого разума, называя эту веру догматизмом. Кант, по его словам, совершил Коперниканский переворот в философии, тем, что первым указал, что для обоснования возможности знания следует признать, что не наши познавательные способности должны сообразовываться с миром, а мир должен сообразовываться с нашими способностями, чтобы вообще могло состояться позна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871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.е., наше сознание не просто пассивно постигает мир, как он есть на самом деле (догматизм), но, скорее, наоборот, мир сообразуется с возможностями нашего познания, а именно: рассудок является активным участником становления самого мира, данного нам в опыте. Опыт по сути есть синтез того содержания, материи, которое дается миром (вещей в себе) и той субъективной формы, в которой эта материя (ощущения) постигается сознанием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428640" y="60912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диное синтетическое целое материи и формы Кант и называе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пы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оторый по необходимости становится чем-то только субъективным. Именно поэтому Кант различает мир, как он есть сам по себе (т.е. вне формирующей деятельности рассудка) — вещь-в-себе, и мир, как он дан в явлении, т.е. в опы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1734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ffff"/>
                </a:solidFill>
                <a:latin typeface="Times New Roman"/>
              </a:rPr>
              <a:t>2 уровня формообразования (активности) субъекта, выделяемые в опыте: </a:t>
            </a:r>
            <a:br>
              <a:rPr sz="3300"/>
            </a:br>
            <a:endParaRPr b="0" lang="en-US" sz="33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бъективные формы чувства — пространство и время. В созерцании чувственные данные (материя) осознаются нами в формах пространства и времени, и тем самым опыт чувства становится чем-то необходимым и всеобщим. Это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увственный синте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лагодаря категориям рассудка связываются данности созерцания. Это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ассудочный синте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ой всякого синтеза является, согласно Канту, самосознание — единство апперцепции (обусловленное восприятие предметов и явлений внешнего мира и осознание этого восприятия особенностями общего содержания психической жизни как целого). В «Критике» много места уделяется тому, как понятия рассудка (категории) подводятся под представления. Здесь решающую роль играет воображение и рассудочный категориальный схематиз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24T19:33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