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72B-1B95-4BA4-A87D-7C25ACAF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8AD-CBB6-4681-8D61-F046A438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029-7FAB-44C3-A22E-35651731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5A5-207B-44CF-857A-9BBFE9C1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6CA-9432-49E4-9479-6EE9CC76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8E1-41FB-4CCB-937F-21FE6073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6F4-D81A-480E-BF26-DD27C55B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3D1-45A1-445B-B91E-64B0A3B3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9E9-DB81-4EC0-A8C6-92168879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53F-12F7-4592-A77E-F6A2C4DB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6DA-D3CF-4A51-A8B2-AF7AFAD3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5A1-88BD-4928-96A6-0FC0BFE8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C571-1729-4E59-BD6E-8CEB0AC8D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3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4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6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7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8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9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6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8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9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8T17:33:45Z</dcterms:created>
  <dc:creator>olga</dc:creator>
  <dc:description/>
  <dc:language>en-US</dc:language>
  <cp:lastModifiedBy>olga</cp:lastModifiedBy>
  <dcterms:modified xsi:type="dcterms:W3CDTF">2011-06-18T17:36:14Z</dcterms:modified>
  <cp:revision>1</cp:revision>
  <dc:subject/>
  <dc:title>Презентация PowerPoint</dc:title>
</cp:coreProperties>
</file>