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9BD-D884-492E-AA00-9C210880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40D-D525-4198-8477-E959246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5F7-8FD2-485E-8582-EE6D4471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608-1EFD-4297-979F-98D6E0CF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87B-9FBD-4075-9204-1152274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C7B-AF37-4586-BC65-F92B432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725-94CD-4C25-9340-BF91AD09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5A1-8444-412F-B53D-9CF5630C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866-1C0C-4BEC-ABA3-88A038FC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E6B-1909-451A-BDED-0C437AC8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C38-1646-4109-9EE7-7D41CAE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C6C-5639-46FC-8184-0E217462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CA3-52B1-47FE-8871-AC625EE8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olga</cp:lastModifiedBy>
  <dcterms:modified xsi:type="dcterms:W3CDTF">2011-06-18T17:36:14Z</dcterms:modified>
  <cp:revision>1</cp:revision>
  <dc:subject/>
  <dc:title>Презентация PowerPoint</dc:title>
</cp:coreProperties>
</file>