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289-34A8-4526-ACB8-32D8F788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4EB-A4E2-40B5-93BC-920DF0D5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844-FAEA-4503-AFCD-9A060845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7D8-5776-44AC-A5D8-F2DD676C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F8C3-FBED-4014-A52F-7A2376B9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475-9047-470B-AA7C-99C0DB89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2C6-2B17-4874-8643-43C89DD9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465-36E9-4F55-B9E9-017FB39B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E92-241F-4AA3-8503-2501C764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850-FF1C-47A0-888E-71414138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0BD-9F32-4FA5-95A1-65B8346D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F4B-7855-433E-8372-A4F8B2C8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6986-2832-4923-872F-93E1DAC03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3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4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5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6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7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8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9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5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6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8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9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8T17:33:45Z</dcterms:created>
  <dc:creator>olga</dc:creator>
  <dc:description/>
  <dc:language>en-US</dc:language>
  <cp:lastModifiedBy>olga</cp:lastModifiedBy>
  <dcterms:modified xsi:type="dcterms:W3CDTF">2011-06-18T17:36:14Z</dcterms:modified>
  <cp:revision>1</cp:revision>
  <dc:subject/>
  <dc:title>Презентация PowerPoint</dc:title>
</cp:coreProperties>
</file>