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E0F-BB45-44F8-83DF-C37C4ECB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116-B286-4891-BDA6-59BD49FD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B78-E50F-4F6E-9A47-C2D56F94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773-304B-46D0-85A5-72367204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4CA-B957-4612-AE6A-973D692E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FA1-915F-4148-AC14-58250DA8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7CD-9F07-4EC1-B5EB-2933F22B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FFD-B974-40D6-9EE5-410F6266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8C9-016E-41B1-BB86-F08EB05C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723-F412-4791-AE25-C8C628C3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B89-E908-4A8F-AE25-75921147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5F3-8C28-4545-A117-8BC45782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43AA-59C9-41ED-BBBE-5014DEC840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Гражданин Российской Федерации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Чтобы сделать из людей хороших граждан, им следует дать возможность проявить свои права граждан и исполнять свои обязанности гражда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.Смайлс, английский пис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 вправе не выполнять неправомерные акты и требования налоговых огра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жаловать в установленном порядке решения налоговых органов и действия(бездействие) их должностных лиц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овать соблюдения  налоговой тайны и возмещения в полном объеме убытков, причиненных незаконными решениями налоговых органов или незаконными действиями (бездействием) их должностных лиц и д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Гражданство РФ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ство РФ является единым и равным независимо от оснований его приобрет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РФ не может быть лишен своего гражданства или права изменить е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не может быть выслан за пределы РФ или выдан другому государств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их конституционных прав, свобод во время их пребывания на своей территории, защиту и покровительство за рубеж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Основания приобретения гражданств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Приобретение гражданства по рождению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Прием в гражданство (натурализация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Права и обязанности гражданина РФ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а гражданина включают в себя те права, которые закрепляются за лицом только в силу его гражданства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каждый гражданин того или иного государства обладает всем комплексом прав, относящихся к общепризнанным правам человека, плюс всеми правами гражданина, признаваемыми в данном государств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Воинская обязан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ждане РФ несут военную службу в соответствии с Федеральным законом «О воинской обязанности и военной служб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Воинская обязанность гражданина РФ включае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инский уч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язательную подготовку к военной служ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ыв на военную службу и прохождение военной служб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в запас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ыв на военные сборы и прохождение военных сборов в период пребывания в запа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Права и обязанности налогоплательщик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м кодексом РФ установлено, что налоги уплачиваются в определенных размерах  и в заранее указанные сроки. За уклонение от уплаты и нарушения порядка уплаты налогов налогоплательщики несут административную, а в отдельных случаях уголовную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ами признаются организации и физические лица, на которых в соответствии с Налоговым кодексом РФ возложена обязанность уплачивать налог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и должны встать на учет в органах Федеральной налоговой службы и вести в установленном порядке учет своих доходов (расходов) и объектов налогооблож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Налогоплательщики имеют право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ать бесплатную информацию о действующих налогах и сбор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законодательстве о налогах и сбор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правах и обязанностях налогоплательщ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омочиях налоговых органов и их должностных лиц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енные разъяснения по вопросам применения законодательства о налогах и сбор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12T20:35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