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83B3-465B-422D-9C55-A04FBAB29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0746-2675-47D1-86CE-AEB1AA71B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A470-0AC3-4033-8AA9-1C2C6125F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05E0-4DB9-40AC-B8D2-538365171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33F9-62BA-4312-89ED-DA39302E2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B921-6FFB-42FE-B354-5420CB127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E4BB-4C41-489C-B2D5-9147B1958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F983-E6E9-4DF4-AA87-AEAB4D458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1ED1-8B3A-4B3A-AA5F-0BBAE5797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2EAB-D94B-4A2F-9452-2998ED873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8526-4B67-4822-AD4B-8841AD485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1CBD-1984-4F49-BBB7-97341752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08C29-E7A4-4D51-A9A0-DBCF1A17005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5ffff"/>
                </a:solidFill>
                <a:latin typeface="Tahoma"/>
              </a:rPr>
              <a:t>Гражданин Российской Федерации.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75438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Чтобы сделать из людей хороших граждан, им следует дать возможность проявить свои права граждан и исполнять свои обязанности граждан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.Смайлс, английский писател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Прямоугольник 5"/>
          <p:cNvSpPr/>
          <p:nvPr/>
        </p:nvSpPr>
        <p:spPr>
          <a:xfrm>
            <a:off x="3714840" y="0"/>
            <a:ext cx="2286000" cy="500040"/>
          </a:xfrm>
          <a:prstGeom prst="rect">
            <a:avLst/>
          </a:prstGeom>
          <a:solidFill>
            <a:srgbClr val="0099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ezentacii.c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логоплательщик вправе не выполнять неправомерные акты и требования налоговых ограно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жаловать в установленном порядке решения налоговых органов и действия(бездействие) их должностных лиц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ребовать соблюдения  налоговой тайны и возмещения в полном объеме убытков, причиненных незаконными решениями налоговых органов или незаконными действиями (бездействием) их должностных лиц и др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4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4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4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4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4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4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e5ffff"/>
                </a:solidFill>
                <a:uFillTx/>
                <a:latin typeface="Tahoma"/>
              </a:rPr>
              <a:t>Гражданство РФ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ражданство РФ является единым и равным независимо от оснований его приобрет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ражданин РФ не может быть лишен своего гражданства или права изменить его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н не может быть выслан за пределы РФ или выдан другому государству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осударство гарантирует гражданам защиту их конституционных прав, свобод во время их пребывания на своей территории, защиту и покровительство за рубежом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e5ffff"/>
                </a:solidFill>
                <a:latin typeface="Tahoma"/>
              </a:rPr>
              <a:t>Основания приобретения гражданства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1. Приобретение гражданства по рождению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2.Прием в гражданство (натурализация)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e5ffff"/>
                </a:solidFill>
                <a:uFillTx/>
                <a:latin typeface="Tahoma"/>
              </a:rPr>
              <a:t>Права и обязанности гражданина РФ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ава гражданина включают в себя те права, которые закрепляются за лицом только в силу его гражданства.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аким образом, каждый гражданин того или иного государства обладает всем комплексом прав, относящихся к общепризнанным правам человека, плюс всеми правами гражданина, признаваемыми в данном государств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e5ffff"/>
                </a:solidFill>
                <a:uFillTx/>
                <a:latin typeface="Tahoma"/>
              </a:rPr>
              <a:t>Воинская обязанность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раждане РФ несут военную службу в соответствии с Федеральным законом «О воинской обязанности и военной службе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e5ffff"/>
                </a:solidFill>
                <a:latin typeface="Tahoma"/>
              </a:rPr>
              <a:t>Воинская обязанность гражданина РФ включает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инский учет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язательную подготовку к военной служб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зыв на военную службу и прохождение военной служб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бывание в запас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зыв на военные сборы и прохождение военных сборов в период пребывания в запас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e5ffff"/>
                </a:solidFill>
                <a:uFillTx/>
                <a:latin typeface="Tahoma"/>
              </a:rPr>
              <a:t>Права и обязанности налогоплательщика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логовым кодексом РФ установлено, что налоги уплачиваются в определенных размерах  и в заранее указанные сроки. За уклонение от уплаты и нарушения порядка уплаты налогов налогоплательщики несут административную, а в отдельных случаях уголовную ответственность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8088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логоплательщиками признаются организации и физические лица, на которых в соответствии с Налоговым кодексом РФ возложена обязанность уплачивать налог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логоплательщики должны встать на учет в органах Федеральной налоговой службы и вести в установленном порядке учет своих доходов (расходов) и объектов налогообложен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e5ffff"/>
                </a:solidFill>
                <a:latin typeface="Tahoma"/>
              </a:rPr>
              <a:t>Налогоплательщики имеют право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лучать бесплатную информацию о действующих налогах и сборах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 законодательстве о налогах и сборах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 правах и обязанностях налогоплательщиков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лномочиях налоговых органов и их должностных лиц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исьменные разъяснения по вопросам применения законодательства о налогах и сборах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4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4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4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4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4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4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4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4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4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4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6-12T20:35:20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