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795-DA85-4F4D-8FFD-0874CF59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E67-B2D4-4FFE-A53F-DBC1B53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14D-E5A9-4205-8BD1-200B943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AB3-4004-42CF-8340-566E7B59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76E-B317-4E42-B174-8F7D85B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B21-D42B-4819-8128-DEB6838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111-BA43-4DD7-9C50-CA73408C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0CD-E57E-4851-BFC2-456A047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E41-3039-463C-9BB0-14677A5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62D-9BE6-48E9-B57C-9884E08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10D-CCF8-4D9D-8C6D-3C744BF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BD5-2798-4174-9EDB-C4DB75C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F03-3C9D-479D-9D17-51EAFDB884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Гражданин Российской Федерации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тобы сделать из людей хороших граждан, им следует дать возможность проявить свои права граждан и исполнять свои обязанности гражда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Смайлс, английский пис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 вправе не выполнять неправомерные акты и требования налоговых огра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жаловать в установленном порядке решения налоговых органов и действия(бездействие) их должностных ли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овать соблюдения  налоговой тайны и возмещения в полном объеме убытков, причиненных незаконными решениями налоговых органов или незаконными действиями (бездействием) их должностных лиц и д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Гражданство РФ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ство РФ является единым и равным независимо от оснований его приобрет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РФ не может быть лишен своего гражданства или права изменить 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не может быть выслан за пределы РФ или выдан другому государств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их конституционных прав, свобод во время их пребывания на своей территории, защиту и покровительство за рубеж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Основания приобретения гражданств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Приобретение гражданства по рождению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Прием в гражданство (натурализаци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гражданина РФ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 гражданина включают в себя те права, которые закрепляются за лицом только в силу его гражданства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каждый гражданин того или иного государства обладает всем комплексом прав, относящихся к общепризнанным правам человека, плюс всеми правами гражданина, признаваемыми в данном государ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Воинская обяза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е РФ несут военную службу в соответствии с Федеральным законом «О воинской обязанности и военной служб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оинская обязанность гражданина РФ включае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ский уч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ьную подготовку к военной служ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ую службу и прохождение военной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в запас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ые сборы и прохождение военных сборов в период пребывания в запа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налогоплательщ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м кодексом РФ установлено, что налоги уплачиваются в определенных размерах  и в заранее указанные сроки. За уклонение от уплаты и нарушения порядка уплаты налогов налогоплательщики несут административную, а в отдельных случаях уголовную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ами признаются организации и физические лица, на которых в соответствии с Налоговым кодексом РФ возложена обязанность уплачивать налог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должны встать на учет в органах Федеральной налоговой службы и вести в установленном порядке учет своих доходов (расходов) и объектов налогообл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Налогоплательщики имеют прав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ать бесплатную информацию о действующих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законодательстве о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правах и обязанностях налогоплательщ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мочиях налоговых органов и их должностных лиц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разъяснения по вопросам применения законодательства о налогах и сбор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12T20:3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