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016-FB76-486F-A3BD-64E2285C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192-2AC8-4469-B7D0-5F685733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561-DB5B-4AFB-A9A8-714D94E0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696-F7B1-45FF-9751-E28DF5B2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B2A-4C44-4AC2-8627-74B3838C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768-DFAF-4CBF-8C2E-E5156A33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498-3F18-41F7-A255-C33CE642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F5F-F0C2-47ED-AD4D-D3893562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F18-E4CC-44F1-8A9B-035B8A90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E67-C907-45E8-826E-088CA06B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2AD-3795-49F4-A42C-45325AF8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047-9C1F-4C47-93FB-19F998DA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C4A8-9086-453B-9635-43D9DE5E72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rezentacii.com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42920"/>
            <a:ext cx="9472680" cy="194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06000" y="5565600"/>
            <a:ext cx="4685760" cy="131364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Автор: преподаватель-организатор ОБ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иикской СО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ахадзе М.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3"/>
          <a:stretch/>
        </p:blipFill>
        <p:spPr>
          <a:xfrm>
            <a:off x="2928960" y="2214720"/>
            <a:ext cx="45115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КОПИЯ ФЛЕШКИ (папка ОБЖ)\ОБЖ\стрелковое оружие Российской армии\стрелковое оружие Российской армии\Гранатометы\ags17-автоматический гранатомет.jpg"/>
          <p:cNvPicPr/>
          <p:nvPr/>
        </p:nvPicPr>
        <p:blipFill>
          <a:blip r:embed="rId1"/>
          <a:stretch/>
        </p:blipFill>
        <p:spPr>
          <a:xfrm>
            <a:off x="1071720" y="1785960"/>
            <a:ext cx="6929280" cy="4827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714240" y="285840"/>
            <a:ext cx="785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втоматически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АГС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КОПИЯ ФЛЕШКИ (папка ОБЖ)\ОБЖ\стрелковое оружие Российской армии\стрелковое оружие Российской армии\Гранатометы\gm94-1.jpg"/>
          <p:cNvPicPr/>
          <p:nvPr/>
        </p:nvPicPr>
        <p:blipFill>
          <a:blip r:embed="rId1"/>
          <a:stretch/>
        </p:blipFill>
        <p:spPr>
          <a:xfrm>
            <a:off x="285840" y="2643120"/>
            <a:ext cx="8526240" cy="2643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857240" y="285840"/>
            <a:ext cx="55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Calibri"/>
              </a:rPr>
              <a:t>ГМ94-1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КОПИЯ ФЛЕШКИ (папка ОБЖ)\ОБЖ\стрелковое оружие Российской армии\стрелковое оружие Российской армии\Гранатометы\rpg-16.jpg"/>
          <p:cNvPicPr/>
          <p:nvPr/>
        </p:nvPicPr>
        <p:blipFill>
          <a:blip r:embed="rId1"/>
          <a:stretch/>
        </p:blipFill>
        <p:spPr>
          <a:xfrm>
            <a:off x="571680" y="2143080"/>
            <a:ext cx="8108640" cy="378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071720" y="357120"/>
            <a:ext cx="63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1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КОПИЯ ФЛЕШКИ (папка ОБЖ)\ОБЖ\стрелковое оружие Российской армии\стрелковое оружие Российской армии\Гранатометы\rpg-29.jpg"/>
          <p:cNvPicPr/>
          <p:nvPr/>
        </p:nvPicPr>
        <p:blipFill>
          <a:blip r:embed="rId1"/>
          <a:stretch/>
        </p:blipFill>
        <p:spPr>
          <a:xfrm>
            <a:off x="557280" y="2357280"/>
            <a:ext cx="8165880" cy="3286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071800" y="3571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Calibri"/>
              </a:rPr>
              <a:t>ГР-2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КОПИЯ ФЛЕШКИ (папка ОБЖ)\ОБЖ\стрелковое оружие Российской армии\стрелковое оружие Российской армии\Гранатометы\подствольный гранатомет ГП-25.jpg"/>
          <p:cNvPicPr/>
          <p:nvPr/>
        </p:nvPicPr>
        <p:blipFill>
          <a:blip r:embed="rId1"/>
          <a:stretch/>
        </p:blipFill>
        <p:spPr>
          <a:xfrm>
            <a:off x="357120" y="3000240"/>
            <a:ext cx="8302680" cy="2786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714240" y="50004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Подстволоьный гранатоме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ГП-2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КОПИЯ ФЛЕШКИ (папка ОБЖ)\ОБЖ\стрелковое оружие Российской армии\стрелковое оружие Российской армии\Гранатометы\Противотанковый гранатомет РПГ-2 СССР.jpg"/>
          <p:cNvPicPr/>
          <p:nvPr/>
        </p:nvPicPr>
        <p:blipFill>
          <a:blip r:embed="rId1"/>
          <a:stretch/>
        </p:blipFill>
        <p:spPr>
          <a:xfrm>
            <a:off x="338040" y="2857680"/>
            <a:ext cx="8406000" cy="3143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857160" y="357120"/>
            <a:ext cx="728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Противотанков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Calibri"/>
              </a:rPr>
              <a:t>гранатоме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7.jpg"/>
          <p:cNvPicPr/>
          <p:nvPr/>
        </p:nvPicPr>
        <p:blipFill>
          <a:blip r:embed="rId1"/>
          <a:stretch/>
        </p:blipFill>
        <p:spPr>
          <a:xfrm>
            <a:off x="571680" y="2611440"/>
            <a:ext cx="8001000" cy="3436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57120" y="3571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гранатомет РПГ-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КОПИЯ ФЛЕШКИ (папка ОБЖ)\ОБЖ\стрелковое оружие Российской армии\стрелковое оружие Российской армии\Гранатометы\Реактивный противотанковый гранатомет РПГ-16.jpg"/>
          <p:cNvPicPr/>
          <p:nvPr/>
        </p:nvPicPr>
        <p:blipFill>
          <a:blip r:embed="rId1"/>
          <a:stretch/>
        </p:blipFill>
        <p:spPr>
          <a:xfrm>
            <a:off x="642960" y="2428920"/>
            <a:ext cx="7915320" cy="3690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642960" y="285840"/>
            <a:ext cx="792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еактивный противотанков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Гранатомет РПГ-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4:24:53Z</dcterms:created>
  <dc:creator>FS</dc:creator>
  <dc:description/>
  <dc:language>en-US</dc:language>
  <cp:lastModifiedBy>Admin</cp:lastModifiedBy>
  <dcterms:modified xsi:type="dcterms:W3CDTF">2012-08-29T09:06:02Z</dcterms:modified>
  <cp:revision>8</cp:revision>
  <dc:subject/>
  <dc:title>Слайд 1</dc:title>
</cp:coreProperties>
</file>