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35B-87BC-4640-B62F-CFE108AC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E0D-08F4-49A0-B9C7-64C1D08C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CC3-A913-4C32-9455-84C4CCCC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7458-17DE-42A1-BE93-0E8CB553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D6F9-C316-4068-8AC6-AB87CD34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D88-8D54-4CD4-8310-9F29E371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072-CEB7-4FB1-9B6F-A85F9127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14C-5351-451E-A30F-CCC617C3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3CFD-34EE-4D9D-93A7-9FB23645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46E6-D6F0-42C3-8AA6-F56ADEE9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45A4-9717-44AE-B794-95F017B4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605-17FF-470D-8452-CA3F2A35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C4C2-DEFF-4663-8FB4-34B76BE7AC6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rezentacii.com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0" y="142920"/>
            <a:ext cx="9472680" cy="1949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006000" y="5565600"/>
            <a:ext cx="4685760" cy="13136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Автор: преподаватель-организатор ОБ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Киикской СО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Кахадзе М.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0000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2" descr="D:\КОПИЯ ФЛЕШКИ (папка ОБЖ)\ОБЖ\стрелковое оружие Российской армии\стрелковое оружие Российской армии\Гранатометы\ags17-автоматический гранатомет.jpg"/>
          <p:cNvPicPr/>
          <p:nvPr/>
        </p:nvPicPr>
        <p:blipFill>
          <a:blip r:embed="rId3"/>
          <a:stretch/>
        </p:blipFill>
        <p:spPr>
          <a:xfrm>
            <a:off x="2928960" y="2214720"/>
            <a:ext cx="4511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КОПИЯ ФЛЕШКИ (папка ОБЖ)\ОБЖ\стрелковое оружие Российской армии\стрелковое оружие Российской армии\Гранатометы\ags17-автоматический гранатомет.jpg"/>
          <p:cNvPicPr/>
          <p:nvPr/>
        </p:nvPicPr>
        <p:blipFill>
          <a:blip r:embed="rId1"/>
          <a:stretch/>
        </p:blipFill>
        <p:spPr>
          <a:xfrm>
            <a:off x="1071720" y="1785960"/>
            <a:ext cx="6929280" cy="48276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714240" y="285840"/>
            <a:ext cx="785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Автоматический гранатоме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АГС1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КОПИЯ ФЛЕШКИ (папка ОБЖ)\ОБЖ\стрелковое оружие Российской армии\стрелковое оружие Российской армии\Гранатометы\gm94-1.jpg"/>
          <p:cNvPicPr/>
          <p:nvPr/>
        </p:nvPicPr>
        <p:blipFill>
          <a:blip r:embed="rId1"/>
          <a:stretch/>
        </p:blipFill>
        <p:spPr>
          <a:xfrm>
            <a:off x="285840" y="2643120"/>
            <a:ext cx="8526240" cy="264312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857240" y="285840"/>
            <a:ext cx="55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Calibri"/>
              </a:rPr>
              <a:t>ГМ94-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КОПИЯ ФЛЕШКИ (папка ОБЖ)\ОБЖ\стрелковое оружие Российской армии\стрелковое оружие Российской армии\Гранатометы\rpg-16.jpg"/>
          <p:cNvPicPr/>
          <p:nvPr/>
        </p:nvPicPr>
        <p:blipFill>
          <a:blip r:embed="rId1"/>
          <a:stretch/>
        </p:blipFill>
        <p:spPr>
          <a:xfrm>
            <a:off x="571680" y="2143080"/>
            <a:ext cx="8108640" cy="3781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071720" y="357120"/>
            <a:ext cx="635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Calibri"/>
              </a:rPr>
              <a:t>ГР-16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КОПИЯ ФЛЕШКИ (папка ОБЖ)\ОБЖ\стрелковое оружие Российской армии\стрелковое оружие Российской армии\Гранатометы\rpg-29.jpg"/>
          <p:cNvPicPr/>
          <p:nvPr/>
        </p:nvPicPr>
        <p:blipFill>
          <a:blip r:embed="rId1"/>
          <a:stretch/>
        </p:blipFill>
        <p:spPr>
          <a:xfrm>
            <a:off x="557280" y="2357280"/>
            <a:ext cx="8165880" cy="328644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2071800" y="35712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Calibri"/>
              </a:rPr>
              <a:t>ГР-29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КОПИЯ ФЛЕШКИ (папка ОБЖ)\ОБЖ\стрелковое оружие Российской армии\стрелковое оружие Российской армии\Гранатометы\подствольный гранатомет ГП-25.jpg"/>
          <p:cNvPicPr/>
          <p:nvPr/>
        </p:nvPicPr>
        <p:blipFill>
          <a:blip r:embed="rId1"/>
          <a:stretch/>
        </p:blipFill>
        <p:spPr>
          <a:xfrm>
            <a:off x="357120" y="3000240"/>
            <a:ext cx="8302680" cy="2786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714240" y="500040"/>
            <a:ext cx="771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Подстволоьный гранатоме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ГП-2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КОПИЯ ФЛЕШКИ (папка ОБЖ)\ОБЖ\стрелковое оружие Российской армии\стрелковое оружие Российской армии\Гранатометы\Противотанковый гранатомет РПГ-2 СССР.jpg"/>
          <p:cNvPicPr/>
          <p:nvPr/>
        </p:nvPicPr>
        <p:blipFill>
          <a:blip r:embed="rId1"/>
          <a:stretch/>
        </p:blipFill>
        <p:spPr>
          <a:xfrm>
            <a:off x="338040" y="2857680"/>
            <a:ext cx="8406000" cy="3143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857160" y="357120"/>
            <a:ext cx="7286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Противотанковый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гранатомет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КОПИЯ ФЛЕШКИ (папка ОБЖ)\ОБЖ\стрелковое оружие Российской армии\стрелковое оружие Российской армии\Гранатометы\Реактивный противотанковый гранатомет РПГ-7.jpg"/>
          <p:cNvPicPr/>
          <p:nvPr/>
        </p:nvPicPr>
        <p:blipFill>
          <a:blip r:embed="rId1"/>
          <a:stretch/>
        </p:blipFill>
        <p:spPr>
          <a:xfrm>
            <a:off x="571680" y="2611440"/>
            <a:ext cx="8001000" cy="343692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357120" y="35712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Реактивный противотанков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гранатомет РПГ-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КОПИЯ ФЛЕШКИ (папка ОБЖ)\ОБЖ\стрелковое оружие Российской армии\стрелковое оружие Российской армии\Гранатометы\Реактивный противотанковый гранатомет РПГ-16.jpg"/>
          <p:cNvPicPr/>
          <p:nvPr/>
        </p:nvPicPr>
        <p:blipFill>
          <a:blip r:embed="rId1"/>
          <a:stretch/>
        </p:blipFill>
        <p:spPr>
          <a:xfrm>
            <a:off x="642960" y="2428920"/>
            <a:ext cx="7915320" cy="3690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642960" y="285840"/>
            <a:ext cx="792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еактивный противотанков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Гранатомет РПГ-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4:24:53Z</dcterms:created>
  <dc:creator>FS</dc:creator>
  <dc:description/>
  <dc:language>en-US</dc:language>
  <cp:lastModifiedBy>Admin</cp:lastModifiedBy>
  <dcterms:modified xsi:type="dcterms:W3CDTF">2012-08-29T09:06:02Z</dcterms:modified>
  <cp:revision>8</cp:revision>
  <dc:subject/>
  <dc:title>Слайд 1</dc:title>
</cp:coreProperties>
</file>