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D2-E2DD-4458-8D55-FE0A2127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02D-6B2A-49FD-8B50-9A347B0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454-96F7-4F1D-BAA6-2912DFE9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EAA-A6ED-47DD-8B56-AD9BF706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993-A956-4F31-8D16-00206376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771-A5EB-4EE3-9A5A-62B51EE6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E6B-FAAF-42B2-BCE0-CEB8254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CCF-E468-4886-944B-9D4A758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21F-27C1-4736-B1E5-A6CD310A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57A-25F6-4121-BB81-4F8A409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A2A-4C64-4C12-86B5-CCABE42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A3F-32F5-4249-8578-BCFB81C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DBB3-9121-464D-B833-60043E598A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i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3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Admin</cp:lastModifiedBy>
  <dcterms:modified xsi:type="dcterms:W3CDTF">2012-08-29T09:06:02Z</dcterms:modified>
  <cp:revision>8</cp:revision>
  <dc:subject/>
  <dc:title>Слайд 1</dc:title>
</cp:coreProperties>
</file>