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37A-F867-412E-95A4-02132808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4320"/>
            <a:ext cx="82324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AFF-A050-48CB-AB08-2211ADAF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47C-EF42-4785-B1CC-7A9850EA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164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164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432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432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964320"/>
            <a:ext cx="26506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5BC-9D2E-44B3-8118-7DE363D2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7B6-7499-4A13-8274-E1AD6605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AF2-9FAE-43B2-ACBE-3FBB670E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A25-8791-49CB-BE4B-BFF5009C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D16-2078-4C60-B84D-88734727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4320"/>
            <a:ext cx="823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0AC-0EE9-4914-9C8D-3FD14CAE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2FF-0FFF-4929-8161-A52354E7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3D0-F472-4515-B7DF-95463FF0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7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823248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BE5-6870-4117-938D-DE528ECB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1640" indent="-231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4920"/>
            <a:ext cx="21366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880" y="6244920"/>
            <a:ext cx="28922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6244920"/>
            <a:ext cx="21366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D963A1-BB5A-480F-B86F-5C25CC55F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4520"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Урок музы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Учителя МОУ «Ильинская  средняя общеобразовательная школа» Каюковой Марины Станиславовны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2008г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" descr=""/>
          <p:cNvPicPr/>
          <p:nvPr/>
        </p:nvPicPr>
        <p:blipFill>
          <a:blip r:embed="rId2"/>
          <a:srcRect l="46516" t="2644" r="15183" b="56224"/>
          <a:stretch/>
        </p:blipFill>
        <p:spPr>
          <a:xfrm>
            <a:off x="5180040" y="914400"/>
            <a:ext cx="2898720" cy="2516040"/>
          </a:xfrm>
          <a:prstGeom prst="rect">
            <a:avLst/>
          </a:prstGeom>
          <a:ln w="76320">
            <a:solidFill>
              <a:srgbClr val="000000"/>
            </a:solidFill>
            <a:round/>
          </a:ln>
        </p:spPr>
      </p:pic>
      <p:pic>
        <p:nvPicPr>
          <p:cNvPr id="61" name="picture" descr=""/>
          <p:cNvPicPr/>
          <p:nvPr/>
        </p:nvPicPr>
        <p:blipFill>
          <a:blip r:embed="rId3"/>
          <a:srcRect l="4155" t="2984" r="57799" b="55896"/>
          <a:stretch/>
        </p:blipFill>
        <p:spPr>
          <a:xfrm>
            <a:off x="533520" y="914400"/>
            <a:ext cx="2895480" cy="2514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2" name="picture" descr=""/>
          <p:cNvPicPr/>
          <p:nvPr/>
        </p:nvPicPr>
        <p:blipFill>
          <a:blip r:embed="rId4"/>
          <a:srcRect l="25172" t="55468" r="36767" b="7681"/>
          <a:stretch/>
        </p:blipFill>
        <p:spPr>
          <a:xfrm>
            <a:off x="3048120" y="3581280"/>
            <a:ext cx="2896920" cy="2436840"/>
          </a:xfrm>
          <a:prstGeom prst="rect">
            <a:avLst/>
          </a:prstGeom>
          <a:ln w="222120">
            <a:solidFill>
              <a:srgbClr val="000000"/>
            </a:solidFill>
            <a:round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232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Портреты авторов текстов гимно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838080"/>
            <a:ext cx="289584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581280"/>
            <a:ext cx="2895480" cy="243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914400"/>
            <a:ext cx="2895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581280"/>
            <a:ext cx="1676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Г.Р.Держав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3581280"/>
            <a:ext cx="1828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.А.Жуковск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6172200"/>
            <a:ext cx="1828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.В. Михал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 u="sng">
                <a:solidFill>
                  <a:srgbClr val="003399"/>
                </a:solidFill>
                <a:uFillTx/>
                <a:latin typeface="Arial"/>
              </a:rPr>
              <a:t>Государственные символы Росс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" descr=""/>
          <p:cNvPicPr/>
          <p:nvPr/>
        </p:nvPicPr>
        <p:blipFill>
          <a:blip r:embed="rId2"/>
          <a:stretch/>
        </p:blipFill>
        <p:spPr>
          <a:xfrm>
            <a:off x="603360" y="2589120"/>
            <a:ext cx="3968640" cy="2546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3" name="picture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4035600" cy="2224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18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" descr=""/>
          <p:cNvPicPr/>
          <p:nvPr/>
        </p:nvPicPr>
        <p:blipFill>
          <a:blip r:embed="rId2"/>
          <a:stretch/>
        </p:blipFill>
        <p:spPr>
          <a:xfrm>
            <a:off x="1905120" y="380880"/>
            <a:ext cx="5486400" cy="5715000"/>
          </a:xfrm>
          <a:prstGeom prst="rect">
            <a:avLst/>
          </a:prstGeom>
          <a:ln w="9360">
            <a:solidFill>
              <a:srgbClr val="333399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219320"/>
            <a:ext cx="83822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Гимн - главная песня страны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514600"/>
            <a:ext cx="411336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сня русская-ветер и пар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ль, невиданная дос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 молодость, это не стар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9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 май ,это зелень земли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95320" y="3200400"/>
            <a:ext cx="41943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т она своим сердцем объемл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й и двадцать, и тысячу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сню русскую ,русскую зем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 люблю, что и слов больше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52120" y="3352320"/>
            <a:ext cx="579276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990033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.Президент,герб,флаг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.Флаг,герб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99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.Гимн,флаг,герб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2133720"/>
            <a:ext cx="8150400" cy="206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относится к знакам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уверенитета любого государства?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5120" y="228600"/>
            <a:ext cx="5162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правильный отв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00200" y="1295280"/>
            <a:ext cx="5791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шиб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нись к вопрос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065240" y="1981080"/>
            <a:ext cx="6707160" cy="251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мн,  флаг, герб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3833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990033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u-RU" sz="3300" spc="-1" strike="noStrike">
                <a:solidFill>
                  <a:srgbClr val="990033"/>
                </a:solidFill>
                <a:latin typeface="Arial"/>
              </a:rPr>
              <a:t>Автор российского флага – Петр </a:t>
            </a:r>
            <a:r>
              <a:rPr b="1" i="1" lang="en-US" sz="33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i="1" lang="ru-RU" sz="3300" spc="-1" strike="noStrike">
                <a:solidFill>
                  <a:srgbClr val="990033"/>
                </a:solidFill>
                <a:latin typeface="Arial"/>
              </a:rPr>
              <a:t>,</a:t>
            </a:r>
            <a:r>
              <a:rPr b="1" i="1" lang="en-US" sz="33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300" spc="-1" strike="noStrike">
                <a:solidFill>
                  <a:srgbClr val="990033"/>
                </a:solidFill>
                <a:latin typeface="Arial"/>
              </a:rPr>
              <a:t>даровавший в январе1705г. его торговым суда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" descr=""/>
          <p:cNvPicPr/>
          <p:nvPr/>
        </p:nvPicPr>
        <p:blipFill>
          <a:blip r:embed="rId2"/>
          <a:stretch/>
        </p:blipFill>
        <p:spPr>
          <a:xfrm>
            <a:off x="687240" y="2971800"/>
            <a:ext cx="3275280" cy="2514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4" name="picture" descr=""/>
          <p:cNvPicPr/>
          <p:nvPr/>
        </p:nvPicPr>
        <p:blipFill>
          <a:blip r:embed="rId3"/>
          <a:stretch/>
        </p:blipFill>
        <p:spPr>
          <a:xfrm>
            <a:off x="4646520" y="2286000"/>
            <a:ext cx="3735360" cy="327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С именем Ивана </a:t>
            </a: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III </a:t>
            </a:r>
            <a:r>
              <a:rPr b="1" lang="ru-RU" sz="3300" spc="-1" strike="noStrike">
                <a:solidFill>
                  <a:srgbClr val="003399"/>
                </a:solidFill>
                <a:latin typeface="Arial"/>
              </a:rPr>
              <a:t>связывают  появление в России двуглавого орл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425760" cy="273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7" name="picture" descr=""/>
          <p:cNvPicPr/>
          <p:nvPr/>
        </p:nvPicPr>
        <p:blipFill>
          <a:blip r:embed="rId3"/>
          <a:stretch/>
        </p:blipFill>
        <p:spPr>
          <a:xfrm>
            <a:off x="5259240" y="2743200"/>
            <a:ext cx="3463920" cy="277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15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65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601640"/>
            <a:ext cx="823248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До 17в. – духовные гимны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1791 г. –марш- гимн «Гром победы, раздавайся!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825"/>
              </a:spcBef>
              <a:buClr>
                <a:srgbClr val="00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300" spc="-1" strike="noStrike">
                <a:solidFill>
                  <a:srgbClr val="003399"/>
                </a:solidFill>
                <a:latin typeface="Arial"/>
              </a:rPr>
              <a:t>25 декабря 2000г. Принят закон «О Государственном гимне Российской Федерации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</cp:lastModifiedBy>
  <dcterms:modified xsi:type="dcterms:W3CDTF">2008-10-04T06:54:5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