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1A2B-262F-4978-A5D6-F721D8F8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601640"/>
            <a:ext cx="823248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760" y="3964320"/>
            <a:ext cx="823248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2477-9D72-4DEF-9FAA-928270F4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601640"/>
            <a:ext cx="401724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724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760" y="3964320"/>
            <a:ext cx="401724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724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CDC5-BF59-437A-9D30-95B509A6E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760" y="1601640"/>
            <a:ext cx="265068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1640"/>
            <a:ext cx="265068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800" y="1601640"/>
            <a:ext cx="265068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760" y="3964320"/>
            <a:ext cx="265068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4320"/>
            <a:ext cx="265068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800" y="3964320"/>
            <a:ext cx="265068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814A-BF4F-4C83-B656-8F34E2762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760" y="1601640"/>
            <a:ext cx="823248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35E1-33B3-403C-B572-CEEE307D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760" y="1601640"/>
            <a:ext cx="823248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27E3-95F3-4537-BE06-AF662724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601640"/>
            <a:ext cx="401724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724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EE50-9871-4E41-AA84-4C0111F1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270E-666E-4CCE-B549-E8E65F1B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760" y="274320"/>
            <a:ext cx="8232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8255-9845-4C9B-A54C-7D34D382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760" y="1601640"/>
            <a:ext cx="401724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724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760" y="3964320"/>
            <a:ext cx="401724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E8A8-41C5-4C4D-B7FB-FE579ACD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601640"/>
            <a:ext cx="401724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724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724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7830-86DC-4379-A7CD-CE29A371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601640"/>
            <a:ext cx="401724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724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760" y="3964320"/>
            <a:ext cx="823248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0DE5-F1A4-4682-B76F-05BD14FF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601640"/>
            <a:ext cx="823248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716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01640" indent="-2314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5400" y="6244920"/>
            <a:ext cx="213660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5880" y="6244920"/>
            <a:ext cx="289224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1280" y="6244920"/>
            <a:ext cx="213660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FBDBFF-B346-4AF8-B48D-31541C2466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4520"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4520" indent="0" algn="ctr">
              <a:spcBef>
                <a:spcPts val="825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33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lang="ru-RU" sz="3300" spc="-1" strike="noStrike">
                <a:solidFill>
                  <a:srgbClr val="003399"/>
                </a:solidFill>
                <a:latin typeface="Arial"/>
              </a:rPr>
              <a:t>Урок музык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4520" indent="0" algn="ctr">
              <a:spcBef>
                <a:spcPts val="825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33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lang="ru-RU" sz="3300" spc="-1" strike="noStrike">
                <a:solidFill>
                  <a:srgbClr val="003399"/>
                </a:solidFill>
                <a:latin typeface="Arial"/>
              </a:rPr>
              <a:t>Учителя МОУ «Ильинская  средняя общеобразовательная школа» Каюковой Марины Станиславовны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4520" indent="0" algn="ctr">
              <a:spcBef>
                <a:spcPts val="825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33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lang="ru-RU" sz="3300" spc="-1" strike="noStrike">
                <a:solidFill>
                  <a:srgbClr val="003399"/>
                </a:solidFill>
                <a:latin typeface="Arial"/>
              </a:rPr>
              <a:t>2008г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" descr=""/>
          <p:cNvPicPr/>
          <p:nvPr/>
        </p:nvPicPr>
        <p:blipFill>
          <a:blip r:embed="rId2"/>
          <a:srcRect l="46516" t="2644" r="15183" b="56224"/>
          <a:stretch/>
        </p:blipFill>
        <p:spPr>
          <a:xfrm>
            <a:off x="5180040" y="914400"/>
            <a:ext cx="2898720" cy="2516040"/>
          </a:xfrm>
          <a:prstGeom prst="rect">
            <a:avLst/>
          </a:prstGeom>
          <a:ln w="76320">
            <a:solidFill>
              <a:srgbClr val="000000"/>
            </a:solidFill>
            <a:round/>
          </a:ln>
        </p:spPr>
      </p:pic>
      <p:pic>
        <p:nvPicPr>
          <p:cNvPr id="61" name="picture" descr=""/>
          <p:cNvPicPr/>
          <p:nvPr/>
        </p:nvPicPr>
        <p:blipFill>
          <a:blip r:embed="rId3"/>
          <a:srcRect l="4155" t="2984" r="57799" b="55896"/>
          <a:stretch/>
        </p:blipFill>
        <p:spPr>
          <a:xfrm>
            <a:off x="533520" y="914400"/>
            <a:ext cx="2895480" cy="25146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62" name="picture" descr=""/>
          <p:cNvPicPr/>
          <p:nvPr/>
        </p:nvPicPr>
        <p:blipFill>
          <a:blip r:embed="rId4"/>
          <a:srcRect l="25172" t="55468" r="36767" b="7681"/>
          <a:stretch/>
        </p:blipFill>
        <p:spPr>
          <a:xfrm>
            <a:off x="3048120" y="3581280"/>
            <a:ext cx="2896920" cy="2436840"/>
          </a:xfrm>
          <a:prstGeom prst="rect">
            <a:avLst/>
          </a:prstGeom>
          <a:ln w="222120">
            <a:solidFill>
              <a:srgbClr val="000000"/>
            </a:solidFill>
            <a:round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232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Портреты авторов текстов гимнов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81480" y="838080"/>
            <a:ext cx="2895840" cy="25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581280"/>
            <a:ext cx="2895480" cy="2438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914400"/>
            <a:ext cx="289548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3581280"/>
            <a:ext cx="1676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Г.Р.Держави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72200" y="3581280"/>
            <a:ext cx="1828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.А.Жуковск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6172200"/>
            <a:ext cx="1828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С.В. Михалк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760" y="1601640"/>
            <a:ext cx="823248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825"/>
              </a:spcBef>
              <a:buClr>
                <a:srgbClr val="00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3300" spc="-1" strike="noStrike" u="sng">
                <a:solidFill>
                  <a:srgbClr val="003399"/>
                </a:solidFill>
                <a:uFillTx/>
                <a:latin typeface="Arial"/>
              </a:rPr>
              <a:t>Государственные символы Росси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" descr=""/>
          <p:cNvPicPr/>
          <p:nvPr/>
        </p:nvPicPr>
        <p:blipFill>
          <a:blip r:embed="rId2"/>
          <a:stretch/>
        </p:blipFill>
        <p:spPr>
          <a:xfrm>
            <a:off x="603360" y="2589120"/>
            <a:ext cx="3968640" cy="2546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73" name="picture" descr=""/>
          <p:cNvPicPr/>
          <p:nvPr/>
        </p:nvPicPr>
        <p:blipFill>
          <a:blip r:embed="rId3"/>
          <a:stretch/>
        </p:blipFill>
        <p:spPr>
          <a:xfrm>
            <a:off x="4724280" y="2666880"/>
            <a:ext cx="4035600" cy="2224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>
    <p:strips dir="r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18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" descr=""/>
          <p:cNvPicPr/>
          <p:nvPr/>
        </p:nvPicPr>
        <p:blipFill>
          <a:blip r:embed="rId2"/>
          <a:stretch/>
        </p:blipFill>
        <p:spPr>
          <a:xfrm>
            <a:off x="1905120" y="380880"/>
            <a:ext cx="5486400" cy="5715000"/>
          </a:xfrm>
          <a:prstGeom prst="rect">
            <a:avLst/>
          </a:prstGeom>
          <a:ln w="9360">
            <a:solidFill>
              <a:srgbClr val="333399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452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0880" y="1219320"/>
            <a:ext cx="838224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ема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Гимн - главная песня страны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2514600"/>
            <a:ext cx="4113360" cy="24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9520" indent="0">
              <a:spcBef>
                <a:spcPts val="601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есня русская-ветер и пару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9520" indent="0">
              <a:spcBef>
                <a:spcPts val="601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аль, невиданная досел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9520" indent="0">
              <a:spcBef>
                <a:spcPts val="601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то молодость, это не старо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9520" indent="0">
              <a:spcBef>
                <a:spcPts val="601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то май ,это зелень земли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495320" y="3200400"/>
            <a:ext cx="419436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>
              <a:spcBef>
                <a:spcPts val="601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т она своим сердцем объемл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601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й и двадцать, и тысячу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601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есню русскую ,русскую зем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601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ак люблю, что и слов больше н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52120" y="3352320"/>
            <a:ext cx="5792760" cy="26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825"/>
              </a:spcBef>
              <a:buClr>
                <a:srgbClr val="990033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.Президент,герб,флаг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2.Флаг,герб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825"/>
              </a:spcBef>
              <a:buClr>
                <a:srgbClr val="0099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3.Гимн,флаг,герб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09480" y="2133720"/>
            <a:ext cx="8150400" cy="2060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то относится к знакам 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уверенитета любого государства?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905120" y="228600"/>
            <a:ext cx="51624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бери правильный отве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600200" y="1295280"/>
            <a:ext cx="57913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Ошибк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Вернись к вопросу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065240" y="1981080"/>
            <a:ext cx="6707160" cy="251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имн,  флаг, герб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609480"/>
            <a:ext cx="83833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825"/>
              </a:spcBef>
              <a:buClr>
                <a:srgbClr val="990033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i="1" lang="ru-RU" sz="3300" spc="-1" strike="noStrike">
                <a:solidFill>
                  <a:srgbClr val="990033"/>
                </a:solidFill>
                <a:latin typeface="Arial"/>
              </a:rPr>
              <a:t>Автор российского флага – Петр </a:t>
            </a:r>
            <a:r>
              <a:rPr b="1" i="1" lang="en-US" sz="3300" spc="-1" strike="noStrike">
                <a:solidFill>
                  <a:srgbClr val="990033"/>
                </a:solidFill>
                <a:latin typeface="Arial"/>
              </a:rPr>
              <a:t>I</a:t>
            </a:r>
            <a:r>
              <a:rPr b="1" i="1" lang="ru-RU" sz="3300" spc="-1" strike="noStrike">
                <a:solidFill>
                  <a:srgbClr val="990033"/>
                </a:solidFill>
                <a:latin typeface="Arial"/>
              </a:rPr>
              <a:t>,</a:t>
            </a:r>
            <a:r>
              <a:rPr b="1" i="1" lang="en-US" sz="33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ru-RU" sz="3300" spc="-1" strike="noStrike">
                <a:solidFill>
                  <a:srgbClr val="990033"/>
                </a:solidFill>
                <a:latin typeface="Arial"/>
              </a:rPr>
              <a:t>даровавший в январе1705г. его торговым судам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" descr=""/>
          <p:cNvPicPr/>
          <p:nvPr/>
        </p:nvPicPr>
        <p:blipFill>
          <a:blip r:embed="rId2"/>
          <a:stretch/>
        </p:blipFill>
        <p:spPr>
          <a:xfrm>
            <a:off x="687240" y="2971800"/>
            <a:ext cx="3275280" cy="25146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54" name="picture" descr=""/>
          <p:cNvPicPr/>
          <p:nvPr/>
        </p:nvPicPr>
        <p:blipFill>
          <a:blip r:embed="rId3"/>
          <a:stretch/>
        </p:blipFill>
        <p:spPr>
          <a:xfrm>
            <a:off x="4646520" y="2286000"/>
            <a:ext cx="3735360" cy="3276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825"/>
              </a:spcBef>
              <a:buClr>
                <a:srgbClr val="00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3300" spc="-1" strike="noStrike">
                <a:solidFill>
                  <a:srgbClr val="003399"/>
                </a:solidFill>
                <a:latin typeface="Arial"/>
              </a:rPr>
              <a:t>С именем Ивана </a:t>
            </a:r>
            <a:r>
              <a:rPr b="1" lang="en-US" sz="3300" spc="-1" strike="noStrike">
                <a:solidFill>
                  <a:srgbClr val="003399"/>
                </a:solidFill>
                <a:latin typeface="Arial"/>
              </a:rPr>
              <a:t>III </a:t>
            </a:r>
            <a:r>
              <a:rPr b="1" lang="ru-RU" sz="3300" spc="-1" strike="noStrike">
                <a:solidFill>
                  <a:srgbClr val="003399"/>
                </a:solidFill>
                <a:latin typeface="Arial"/>
              </a:rPr>
              <a:t>связывают  появление в России двуглавого орла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" descr=""/>
          <p:cNvPicPr/>
          <p:nvPr/>
        </p:nvPicPr>
        <p:blipFill>
          <a:blip r:embed="rId2"/>
          <a:stretch/>
        </p:blipFill>
        <p:spPr>
          <a:xfrm>
            <a:off x="762120" y="2666880"/>
            <a:ext cx="3425760" cy="2737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57" name="picture" descr=""/>
          <p:cNvPicPr/>
          <p:nvPr/>
        </p:nvPicPr>
        <p:blipFill>
          <a:blip r:embed="rId3"/>
          <a:stretch/>
        </p:blipFill>
        <p:spPr>
          <a:xfrm>
            <a:off x="5259240" y="2743200"/>
            <a:ext cx="3463920" cy="27748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150"/>
                            </p:stCondLst>
                            <p:childTnLst>
                              <p:par>
                                <p:cTn id="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650"/>
                            </p:stCondLst>
                            <p:childTnLst>
                              <p:par>
                                <p:cTn id="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601640"/>
            <a:ext cx="823248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825"/>
              </a:spcBef>
              <a:buClr>
                <a:srgbClr val="00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3300" spc="-1" strike="noStrike">
                <a:solidFill>
                  <a:srgbClr val="003399"/>
                </a:solidFill>
                <a:latin typeface="Arial"/>
              </a:rPr>
              <a:t>До 17в. – духовные гимны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825"/>
              </a:spcBef>
              <a:buClr>
                <a:srgbClr val="00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3300" spc="-1" strike="noStrike">
                <a:solidFill>
                  <a:srgbClr val="003399"/>
                </a:solidFill>
                <a:latin typeface="Arial"/>
              </a:rPr>
              <a:t>1791 г. –марш- гимн «Гром победы, раздавайся!»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825"/>
              </a:spcBef>
              <a:buClr>
                <a:srgbClr val="00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3300" spc="-1" strike="noStrike">
                <a:solidFill>
                  <a:srgbClr val="003399"/>
                </a:solidFill>
                <a:latin typeface="Arial"/>
              </a:rPr>
              <a:t>25 декабря 2000г. Принят закон «О Государственном гимне Российской Федерации»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ера</cp:lastModifiedBy>
  <dcterms:modified xsi:type="dcterms:W3CDTF">2008-10-04T06:54:5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