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280-4F90-40CF-9D9F-452834A2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E72-EC11-43F3-A82F-7E1B7D5C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C88-BDA1-4A49-A6DB-D3C784DC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164-99EF-4556-928C-04CA27FF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E47-19A3-426D-BE10-FC3F024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803-D32C-410F-B3B8-F3407CB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93C-14E7-4E88-B0AB-D985F82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063-F487-4CA6-9142-CD7750A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320"/>
            <a:ext cx="823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775-4E69-4C61-9D04-CBAFD58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CDD-3646-4EEB-BEA2-74EF511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C3F-F3E7-4418-8AA2-BD6148F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A9F-5C14-4803-A2E8-257AF5DB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1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4920"/>
            <a:ext cx="28922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4E888-A088-409B-96C6-7F02E9C4A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рок музы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чителя МОУ «Ильинская  средняя общеобразовательная школа» Каюковой Марины Станиславовн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2008г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" descr=""/>
          <p:cNvPicPr/>
          <p:nvPr/>
        </p:nvPicPr>
        <p:blipFill>
          <a:blip r:embed="rId2"/>
          <a:srcRect l="46516" t="2644" r="15183" b="56224"/>
          <a:stretch/>
        </p:blipFill>
        <p:spPr>
          <a:xfrm>
            <a:off x="5180040" y="914400"/>
            <a:ext cx="2898720" cy="251604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pic>
        <p:nvPicPr>
          <p:cNvPr id="61" name="picture" descr=""/>
          <p:cNvPicPr/>
          <p:nvPr/>
        </p:nvPicPr>
        <p:blipFill>
          <a:blip r:embed="rId3"/>
          <a:srcRect l="4155" t="2984" r="57799" b="55896"/>
          <a:stretch/>
        </p:blipFill>
        <p:spPr>
          <a:xfrm>
            <a:off x="533520" y="914400"/>
            <a:ext cx="28954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2" name="picture" descr=""/>
          <p:cNvPicPr/>
          <p:nvPr/>
        </p:nvPicPr>
        <p:blipFill>
          <a:blip r:embed="rId4"/>
          <a:srcRect l="25172" t="55468" r="36767" b="7681"/>
          <a:stretch/>
        </p:blipFill>
        <p:spPr>
          <a:xfrm>
            <a:off x="3048120" y="3581280"/>
            <a:ext cx="2896920" cy="2436840"/>
          </a:xfrm>
          <a:prstGeom prst="rect">
            <a:avLst/>
          </a:prstGeom>
          <a:ln w="222120">
            <a:solidFill>
              <a:srgbClr val="000000"/>
            </a:solidFill>
            <a:round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32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ортреты авторов текстов гимн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838080"/>
            <a:ext cx="289584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581280"/>
            <a:ext cx="2895480" cy="24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14400"/>
            <a:ext cx="2895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581280"/>
            <a:ext cx="167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.Р.Держав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58128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.А.Жуковск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617220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.В. Михал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 u="sng">
                <a:solidFill>
                  <a:srgbClr val="003399"/>
                </a:solidFill>
                <a:uFillTx/>
                <a:latin typeface="Arial"/>
              </a:rPr>
              <a:t>Государственные символы Росс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" descr=""/>
          <p:cNvPicPr/>
          <p:nvPr/>
        </p:nvPicPr>
        <p:blipFill>
          <a:blip r:embed="rId2"/>
          <a:stretch/>
        </p:blipFill>
        <p:spPr>
          <a:xfrm>
            <a:off x="603360" y="2589120"/>
            <a:ext cx="3968640" cy="2546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3" name="picture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5600" cy="2224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18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486400" cy="5715000"/>
          </a:xfrm>
          <a:prstGeom prst="rect">
            <a:avLst/>
          </a:prstGeom>
          <a:ln w="9360">
            <a:solidFill>
              <a:srgbClr val="3333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219320"/>
            <a:ext cx="8382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Гимн - главная песня стра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411336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я русская-ветер и пар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ль, невиданная дос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олодость, это не стар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ай ,это зелень зем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95320" y="3200400"/>
            <a:ext cx="41943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 она своим сердцем объем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й и двадцать, и тысячу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ю русскую ,русскую зем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люблю, что и слов больше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120" y="3352320"/>
            <a:ext cx="579276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Президент,герб,фла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Флаг,герб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99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.Гимн,флаг,герб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133720"/>
            <a:ext cx="8150400" cy="206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относится к знакам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веренитета любого государства?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228600"/>
            <a:ext cx="51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правильный от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1295280"/>
            <a:ext cx="5791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шиб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нись к вопрос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65240" y="1981080"/>
            <a:ext cx="670716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,  флаг, герб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3833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Автор российского флага – Петр 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даровавший в январе1705г. его торговым суда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" descr=""/>
          <p:cNvPicPr/>
          <p:nvPr/>
        </p:nvPicPr>
        <p:blipFill>
          <a:blip r:embed="rId2"/>
          <a:stretch/>
        </p:blipFill>
        <p:spPr>
          <a:xfrm>
            <a:off x="687240" y="2971800"/>
            <a:ext cx="32752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4" name="picture" descr=""/>
          <p:cNvPicPr/>
          <p:nvPr/>
        </p:nvPicPr>
        <p:blipFill>
          <a:blip r:embed="rId3"/>
          <a:stretch/>
        </p:blipFill>
        <p:spPr>
          <a:xfrm>
            <a:off x="4646520" y="2286000"/>
            <a:ext cx="3735360" cy="32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 именем Ивана </a:t>
            </a: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III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вязывают  появление в России двуглавого орл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425760" cy="273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picture" descr=""/>
          <p:cNvPicPr/>
          <p:nvPr/>
        </p:nvPicPr>
        <p:blipFill>
          <a:blip r:embed="rId3"/>
          <a:stretch/>
        </p:blipFill>
        <p:spPr>
          <a:xfrm>
            <a:off x="5259240" y="2743200"/>
            <a:ext cx="3463920" cy="277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15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5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До 17в. – духовные гимн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1791 г. –марш- гимн «Гром победы, раздавайся!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25 декабря 2000г. Принят закон «О Государственном гимне Российской Федераци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08-10-04T06:54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