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25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17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214-FD71-4BE0-A66C-049B5ECD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7F0-5E08-4E78-81C2-43D99000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2F6-0E78-43D8-8A7A-A3283246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89F-0A2A-4858-8718-1BDE79A3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7124-CA3F-4807-8F7E-1AC5945B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D2B6-A7BB-4A7D-A698-BEEA933C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FA28-B68D-4BEF-A6E6-285CCBC8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6F99-FF2B-477E-89FB-C842865F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883B-3DD4-4E26-842B-328CED3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8730-9E2D-4359-98B9-4B481353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B3A2-6F39-4E08-92B8-C43D521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423-3F18-403A-BFA2-E668B7D1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7A5-2340-4E85-B359-6BCA484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46E4-51CC-47D9-ACC4-7774033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7603-A377-4806-9F90-A31DCD8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E318-A20B-4A4A-ABC7-CC1515EB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708-9718-4446-BADA-DFF4F2D8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39F-DCB2-45D8-91AF-4C820638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BE2-C104-46B8-B8F6-C9675BE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AC5-6C50-4564-ABD9-AB6BFA43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90B-1A26-4576-95DA-142F6BB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9C2-20A6-405D-96F8-0DB9F4A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71D-7462-47AE-913F-8A2B13A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3CA-A2A6-4E1D-84A3-8441BD4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AFA0-9E6B-4C5E-9318-20A6A8CAF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6DB-6030-4A08-B206-270673E85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www.clubook.ru/" TargetMode="External"/><Relationship Id="rId4" Type="http://schemas.openxmlformats.org/officeDocument/2006/relationships/hyperlink" Target="http://www.clubook.ru/" TargetMode="External"/><Relationship Id="rId5" Type="http://schemas.openxmlformats.org/officeDocument/2006/relationships/hyperlink" Target="http://www.clubook.ru/" TargetMode="External"/><Relationship Id="rId6" Type="http://schemas.openxmlformats.org/officeDocument/2006/relationships/hyperlink" Target="http://www.clubook.ru/" TargetMode="External"/><Relationship Id="rId7" Type="http://schemas.openxmlformats.org/officeDocument/2006/relationships/hyperlink" Target="http://www.clubook.ru/" TargetMode="External"/><Relationship Id="rId8" Type="http://schemas.openxmlformats.org/officeDocument/2006/relationships/hyperlink" Target="http://www.erudites.ru/" TargetMode="External"/><Relationship Id="rId9" Type="http://schemas.openxmlformats.org/officeDocument/2006/relationships/hyperlink" Target="http://www.erudites.ru/" TargetMode="External"/><Relationship Id="rId10" Type="http://schemas.openxmlformats.org/officeDocument/2006/relationships/hyperlink" Target="http://www.erudites.ru/" TargetMode="External"/><Relationship Id="rId11" Type="http://schemas.openxmlformats.org/officeDocument/2006/relationships/hyperlink" Target="http://www.erudites.ru/" TargetMode="External"/><Relationship Id="rId12" Type="http://schemas.openxmlformats.org/officeDocument/2006/relationships/hyperlink" Target="http://www.erudites.ru/" TargetMode="External"/><Relationship Id="rId13" Type="http://schemas.openxmlformats.org/officeDocument/2006/relationships/hyperlink" Target="http://www.nachalka.com/" TargetMode="External"/><Relationship Id="rId1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ФОРМИРОВАНИЕ ЧИТАТЕЛЬСКОГО  ИНТЕРЕСА 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У  УЧАЩИХСЯ  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НАЧАЛЬНЫХ  КЛАССОВ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2360" y="4292280"/>
            <a:ext cx="396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азработчик проект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МОУ «СОШ №6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Г. Чебокса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Шилина Елена Василье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21171000">
            <a:off x="826920" y="3860280"/>
            <a:ext cx="316872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 хорошо уметь читать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5714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Цель: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формирование у учащихся навыков чтения без насилия над ребенком на основе постоянного роста интереса к чт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781360"/>
            <a:ext cx="8713800" cy="1122480"/>
          </a:xfrm>
          <a:custGeom>
            <a:avLst/>
            <a:gdLst>
              <a:gd name="textAreaLeft" fmla="*/ 2178360 w 8713800"/>
              <a:gd name="textAreaRight" fmla="*/ 6535440 w 8713800"/>
              <a:gd name="textAreaTop" fmla="*/ 33120 h 1122480"/>
              <a:gd name="textAreaBottom" fmla="*/ 84204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Формировани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авыков чтени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развитие процесс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221000"/>
            <a:ext cx="201600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869000"/>
            <a:ext cx="1944720" cy="1439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4149720"/>
            <a:ext cx="194472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4724280"/>
            <a:ext cx="1946160" cy="1440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мы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Упражнения на развитие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техники чтения учащихс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развитие восприятия текст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Нахождение слова, идентичного тому, которое расположено в начале стро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ак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аг мак мат мал смак бак мак лак мак рак т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Чтение с карточкой или карточкой с прорез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повышение уровня вним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- Найти среди буквенного набора сло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к н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о с л и к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п р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с л о н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т д к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в о л к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м и 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развитие вербальной памяти детей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гры «Кто больше запомнит», «Посмотри и запомн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На определение смысловой структуры текста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Работа с деформированным текс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867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Читательская разминк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Чистоговорки или скороговор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903600">
            <a:off x="7524360" y="333000"/>
            <a:ext cx="1263600" cy="136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1856160"/>
            <a:ext cx="5113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Шла Саша по шоссе и сосала ... (сушки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070360"/>
            <a:ext cx="513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Шапка да шубка - вот и наш ...   (мишутк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369880"/>
            <a:ext cx="4897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Цапля цыкнула на зайца: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«Отдавили вы мне ... (пальцы)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19000">
            <a:off x="6659640" y="2349360"/>
            <a:ext cx="2374920" cy="91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20245800">
            <a:off x="6084360" y="980640"/>
            <a:ext cx="1057320" cy="123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3254760"/>
            <a:ext cx="6840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«Вспышка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- прочитай (за отведенное время) 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запомни слова (предложения, текст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101840"/>
            <a:ext cx="86407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«Собери словечко»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 из заданных букв, слогов или слов собер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как  можно больше новых слов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а) Директор – реки, ток, кот, диктор, рот, корт и т.д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) Кареч – речка; палам – лампа и т.д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нижный дом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Цель: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знакомить  учащихся с миром детской литературы, учить осуществлять целесообразный самостоятельный выбор книг для чт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131640" y="3141360"/>
            <a:ext cx="5761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ещение школьной библиоте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комство с библиотеками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уроков внеклассного чтения, праздников в библиоте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ая подписка на журнал «Игрушка» (Тетте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7772400" y="-5829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2665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емейное чтени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65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Цель: работать над созданием и развитием «читающей» семьи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2565360"/>
            <a:ext cx="5111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тематических родительских собр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«Клуба семейного чт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бор книг для семейного чт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готовка и проведение литературных конкурсов, викторин по прочитанным книг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ормление стенда «Советую прочита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19640" y="2997360"/>
            <a:ext cx="34196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260280"/>
            <a:ext cx="727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ое творчест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5764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Цель: приобщить детей к чтению книг че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театральное искус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0" y="2492280"/>
            <a:ext cx="4248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навыков выразительного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атрализация прочитанных произвед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34096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 школьной сцене ученики 2 «В» клас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7772400" y="-5829480"/>
            <a:ext cx="4726080" cy="354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424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63280" y="188640"/>
            <a:ext cx="67899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319280" cy="201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29200" y="22050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юбить книгу и процесс чт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сить качество чт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ь его творческие расширить кругозор чит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соб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24000" y="4005360"/>
            <a:ext cx="4319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3970080" cy="251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56000" y="2424240"/>
            <a:ext cx="446400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решила поддержать и продолжить идею Интернет -общения посредством участия в различных литературных викторинах. Для этого я пользуюсь доступной информацией таких сайтов как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clubook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r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Успешное чтение»,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erudite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www.nachalka.com/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роки рефлексии.</a:t>
            </a:r>
            <a:br>
              <a:rPr sz="4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ль: сформировать у учащихся средства контроля и самооценки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роки рефлексии по чтению проводятся 1 раз в месяц. Они помогают учащим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бщить зн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знать свои проблемы и сложности в освоении предм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мулировать повышение  читательского уров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3311640" cy="194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932360" y="4221000"/>
            <a:ext cx="3887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уровень успеваемости и качества знаний учащихся по литературному чтению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280" y="458100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3213000"/>
          <a:ext cx="4276440" cy="19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213000"/>
                    <a:ext cx="42764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7928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59280" y="3213000"/>
          <a:ext cx="4097520" cy="1882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3213000"/>
                    <a:ext cx="40975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218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«Чтение должно стать для ребенка очень тонким инструментом овладения знаниями и вместе с тем источником богатой духовной жизни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"Если в начальной школе дети мало читали, мало мыслили, у них складывалась структура малодеятельного мозга"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      В.А. Сухомлинск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902800">
            <a:off x="755640" y="3933360"/>
            <a:ext cx="25192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интерес учащихся моего класса к чтению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2400" y="2205000"/>
          <a:ext cx="7818480" cy="359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2205000"/>
                    <a:ext cx="781848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ообразный круг интересов в самостоятельном выборе книг для чт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2492280"/>
          <a:ext cx="7417080" cy="39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92280"/>
                    <a:ext cx="741708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тоги реализации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ысокий уровень читательской активности учащихся (по данным школьной библиотеки и городской библиотеки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93800" y="3281400"/>
          <a:ext cx="6141960" cy="24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3800" y="3281400"/>
                    <a:ext cx="61419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пользованная литера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вдокимова Н.Ф. Как кроссворды помогают развитию интереса к чтению//Начальная школа. – 2005, №7 – с.8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узнецов О.А., Хромов Л.Н. Техника быстрого чтения. - М.: Просвещение, 198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данов И.Д., Розанова О.А. Практическое пособие с упражнениями «Техника быстрого чтения». – М.: Просвещение, 199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етникова С.В. Формирование навыка чтения на основе развития познавательных процессов//Начальная школа. – 2006, №2 – с.6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хомирова И.И. Психология детского чтения от А до Я. Методический словарь – справочник. – М.: Школьная библиотека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данов И.Д., Розанова О.А. Практическое пособие с упражнениями «Техника быстрого чтения». – М.: Просвещение, 199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шетникова С.В. Формирование навыка чтения на основе развития познавательных процессов//Начальная школа. – 2006, №2. – с.6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хомирова И.И. Психология детского чтения от А до Я. Методический словарь – справочник. – М.: Школьная библиотека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20832000">
            <a:off x="6897600" y="4354560"/>
            <a:ext cx="1440000" cy="2128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 rot="1057200">
            <a:off x="755280" y="4581000"/>
            <a:ext cx="1265400" cy="1981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 rot="20962200">
            <a:off x="2771640" y="4652640"/>
            <a:ext cx="137808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511200">
            <a:off x="4903920" y="4583160"/>
            <a:ext cx="1390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облема: дети не хотят читать книги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оциальная значимость проблемы: не читающие дети в среднем и старшем звене. Их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адаптация во взрослой жизн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24360" y="3429000"/>
            <a:ext cx="285768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24000" y="2708280"/>
          <a:ext cx="4894200" cy="4021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08280"/>
                    <a:ext cx="489420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24000" y="6021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Основополагающий вопрос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пробудить интерес к чтению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сделать, чтобы интерес к чтению не угаса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4074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87972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иск путей развития у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ладших классов интереса к книг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мления к самостоятельному чт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Этапы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ановка целей и задач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методической литературы по данной пробл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стематизация личного опыта работы и опыта работы учителей начальной школы по данной пробл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и организация занятий, способствующих реализации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та полученных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учение навыкам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умения эмоционально-творческого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у учащихся потребности в чтении как в источнике дальнейшего личностного совершенс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ринципы построения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природосообразности</a:t>
            </a: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учета типологических психологических особенностей детей 7-10 лет. Исходя из этого, разработан концентрический принцип подбора детских литературных произвед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преемственности и перспектив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одчеркивающих пропедевтическое значение начальных навыков чтения и интереса к нему для формирования готовности к дальнейшему обучению и реализующих межпредметные и внутрипредметные связ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интеграции теоретических сведений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с деятельность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по их практическому применению, что определяет практическую направленность проекта, расходование значительной части времени на формирование различных деятельностных компетенций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ринципы построения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коммуникатив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редполагающий развитие у младших школьников представлений о возможностях литературы как науки, усвоение учащимися элементарных терминов и понятий, осознанное оперирование и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интеграции обучения, развития и воспита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определяющий необходимость использования средств литературного чтения для социализации школьника, развития его социальной культуры, а также соответствующих практических навык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200" spc="-1" strike="noStrike">
                <a:solidFill>
                  <a:srgbClr val="ffcc00"/>
                </a:solidFill>
                <a:latin typeface="Tahoma"/>
              </a:rPr>
              <a:t>вариативност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полагающий развитие у младших школьников умения осуществлять осознанный самостоятельный выбор книг для чтения среди нескольких предложенных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Теоретические основы проек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я о причинах нарушения чтения у детей, о методах устранения этих наруш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тодика развития зрительного восприятия текста, тренировка памяти вним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тодика обучения скорочте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 заданий, направленная на формирование умений смысловой обработки тек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 упражнений на развитие восприятие текс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8:57:17Z</dcterms:created>
  <dc:creator>54</dc:creator>
  <dc:description/>
  <dc:language>en-US</dc:language>
  <cp:lastModifiedBy>Ирина</cp:lastModifiedBy>
  <dcterms:modified xsi:type="dcterms:W3CDTF">2009-12-12T15:38:18Z</dcterms:modified>
  <cp:revision>8</cp:revision>
  <dc:subject/>
  <dc:title>ФОРМИРОВАНИЕ ЧИТАТЕЛЬСКОГО  ИНТЕРЕСА   У  УЧАЩИХСЯ   НАЧАЛЬНЫХ  КЛАССОВ </dc:title>
</cp:coreProperties>
</file>