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5.wmf" ContentType="image/x-wmf"/>
  <Override PartName="/ppt/media/image4.jpeg" ContentType="image/jpeg"/>
  <Override PartName="/ppt/media/image25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26.jpeg" ContentType="image/jpeg"/>
  <Override PartName="/ppt/media/image18.wmf" ContentType="image/x-wmf"/>
  <Override PartName="/ppt/media/image20.wmf" ContentType="image/x-wmf"/>
  <Override PartName="/ppt/media/image3.wmf" ContentType="image/x-wmf"/>
  <Override PartName="/ppt/media/image17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FABA-46E4-4DC8-B5E1-70BDC52FA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C049-5BED-40ED-8174-F47100DE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9093-4685-4EAE-9CA3-3126445FA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4144-8618-4CAE-BD48-D25205D6F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2549-987A-48FC-A1F6-94EFCB659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0A58-7DFE-4F34-BC48-5B75DB1C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F243-9EDB-40CF-AA24-B61D2FFE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BA27-E1E8-46E1-984C-76927D0D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EF19C-B1ED-466B-8B92-29EAFD76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83427-CB58-429F-9B83-D322522A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34A7-8A51-4928-AC56-72B7E42B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9008-2670-4828-9D5E-103A723D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CE0F-A39A-4127-8200-D116D2C8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A881-1E0D-42AA-B18E-D891C345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01E0-C64C-4E21-95D4-A342C084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A620-CB29-42FA-957E-D85BC2926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C736-F207-4C34-9004-7D68110E8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495B-B1A7-4BBE-9AD7-708948D7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B20A-801D-43E0-9F06-9E9D6BF9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A1E7-908D-4E31-8AC7-9535BAE8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828C-3345-4F86-9CAB-7BF1DECF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C944-B006-4C23-947F-992A4DCE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7763-CB09-4B7C-B304-9531C3F2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8DB9-54C4-488A-ABEB-9E11A9BB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62E3-E00F-48D0-BEFB-B0BBC459B6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C210-76DB-4580-BBD5-04A1CB4C14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hyperlink" Target="http://www.clubook.ru/" TargetMode="External"/><Relationship Id="rId4" Type="http://schemas.openxmlformats.org/officeDocument/2006/relationships/hyperlink" Target="http://www.clubook.ru/" TargetMode="External"/><Relationship Id="rId5" Type="http://schemas.openxmlformats.org/officeDocument/2006/relationships/hyperlink" Target="http://www.clubook.ru/" TargetMode="External"/><Relationship Id="rId6" Type="http://schemas.openxmlformats.org/officeDocument/2006/relationships/hyperlink" Target="http://www.clubook.ru/" TargetMode="External"/><Relationship Id="rId7" Type="http://schemas.openxmlformats.org/officeDocument/2006/relationships/hyperlink" Target="http://www.clubook.ru/" TargetMode="External"/><Relationship Id="rId8" Type="http://schemas.openxmlformats.org/officeDocument/2006/relationships/hyperlink" Target="http://www.erudites.ru/" TargetMode="External"/><Relationship Id="rId9" Type="http://schemas.openxmlformats.org/officeDocument/2006/relationships/hyperlink" Target="http://www.erudites.ru/" TargetMode="External"/><Relationship Id="rId10" Type="http://schemas.openxmlformats.org/officeDocument/2006/relationships/hyperlink" Target="http://www.erudites.ru/" TargetMode="External"/><Relationship Id="rId11" Type="http://schemas.openxmlformats.org/officeDocument/2006/relationships/hyperlink" Target="http://www.erudites.ru/" TargetMode="External"/><Relationship Id="rId12" Type="http://schemas.openxmlformats.org/officeDocument/2006/relationships/hyperlink" Target="http://www.erudites.ru/" TargetMode="External"/><Relationship Id="rId13" Type="http://schemas.openxmlformats.org/officeDocument/2006/relationships/hyperlink" Target="http://www.nachalka.com/" TargetMode="External"/><Relationship Id="rId1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7724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ФОРМИРОВАНИЕ ЧИТАТЕЛЬСКОГО  ИНТЕРЕСА </a:t>
            </a:r>
            <a:br>
              <a:rPr sz="4000"/>
            </a:b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 У  УЧАЩИХСЯ  </a:t>
            </a:r>
            <a:br>
              <a:rPr sz="4000"/>
            </a:b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НАЧАЛЬНЫХ  КЛАССОВ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932360" y="4292280"/>
            <a:ext cx="396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Разработчик проекта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МОУ «СОШ №61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Г. Чебоксар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                                                                </a:t>
            </a: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Шилина Елена Васильевн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 rot="21171000">
            <a:off x="826920" y="3860280"/>
            <a:ext cx="3168720" cy="22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68360" y="260280"/>
            <a:ext cx="7272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Как хорошо уметь читать!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157140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ahoma"/>
              </a:rPr>
              <a:t>Цель: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 формирование у учащихся навыков чтения без насилия над ребенком на основе постоянного роста интереса к чте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2781360"/>
            <a:ext cx="8713800" cy="1122480"/>
          </a:xfrm>
          <a:custGeom>
            <a:avLst/>
            <a:gdLst>
              <a:gd name="textAreaLeft" fmla="*/ 2178360 w 8713800"/>
              <a:gd name="textAreaRight" fmla="*/ 6535440 w 8713800"/>
              <a:gd name="textAreaTop" fmla="*/ 33120 h 1122480"/>
              <a:gd name="textAreaBottom" fmla="*/ 842040 h 1122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Формирование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навыков чтения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развитие процессо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4221000"/>
            <a:ext cx="2016000" cy="14400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сприят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4869000"/>
            <a:ext cx="1944720" cy="143964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ним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88000" y="4149720"/>
            <a:ext cx="1944720" cy="14400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амя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20000" y="4724280"/>
            <a:ext cx="1946160" cy="14400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смысл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Упражнения на развитие </a:t>
            </a:r>
            <a:br>
              <a:rPr sz="36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техники чтения учащихс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2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Tahoma"/>
              </a:rPr>
              <a:t>На развитие восприятия текст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 Нахождение слова, идентичного тому, которое расположено в начале стро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Мак/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маг мак мат мал смак бак мак лак мак рак та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Чтение с карточкой или карточкой с прорезя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Tahoma"/>
              </a:rPr>
              <a:t>На повышение уровня внимания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- Найти среди буквенного набора слов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к н </a:t>
            </a:r>
            <a:r>
              <a:rPr b="0" i="1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о с л и к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 п р </a:t>
            </a:r>
            <a:r>
              <a:rPr b="0" i="1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с л о н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 т д к </a:t>
            </a:r>
            <a:r>
              <a:rPr b="0" i="1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в о л к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 м и 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Tahoma"/>
              </a:rPr>
              <a:t>На развитие вербальной памяти детей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гры «Кто больше запомнит», «Посмотри и запомни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Tahoma"/>
              </a:rPr>
              <a:t>На определение смысловой структуры текста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Работа с деформированным текст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58672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5ffff"/>
                </a:solidFill>
                <a:latin typeface="Tahoma"/>
              </a:rPr>
              <a:t>Читательская разминка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8355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Tahoma"/>
              </a:rPr>
              <a:t>Чистоговорки или скороговорк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 rot="903600">
            <a:off x="7524360" y="333000"/>
            <a:ext cx="1263600" cy="1368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042920" y="1856160"/>
            <a:ext cx="51134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Шла Саша по шоссе и сосала ... (сушки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42920" y="2070360"/>
            <a:ext cx="5130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Шапка да шубка - вот и наш ...   (мишутка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42920" y="2369880"/>
            <a:ext cx="489744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Цапля цыкнула на зайца:                                      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«Отдавили вы мне ... (пальцы)»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 rot="219000">
            <a:off x="6659640" y="2349360"/>
            <a:ext cx="2374920" cy="916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 rot="20245800">
            <a:off x="6084360" y="980640"/>
            <a:ext cx="1057320" cy="1238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24000" y="3254760"/>
            <a:ext cx="684036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ffcc00"/>
                </a:solidFill>
                <a:latin typeface="Tahoma"/>
              </a:rPr>
              <a:t>«Вспышка»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- прочитай (за отведенное время) и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запомни слова (предложения, текст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4101840"/>
            <a:ext cx="864072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200" spc="-1" strike="noStrike">
                <a:solidFill>
                  <a:srgbClr val="ffcc00"/>
                </a:solidFill>
                <a:latin typeface="Tahoma"/>
              </a:rPr>
              <a:t>«Собери словечко»</a:t>
            </a: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- из заданных букв, слогов или слов собери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как  можно больше новых слов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а) Директор – реки, ток, кот, диктор, рот, корт и т.д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б) Кареч – речка; палам – лампа и т.д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68360" y="260280"/>
            <a:ext cx="7272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Книжный дом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16286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ahoma"/>
              </a:rPr>
              <a:t>Цель: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 знакомить  учащихся с миром детской литературы, учить осуществлять целесообразный самостоятельный выбор книг для чтения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131640" y="3141360"/>
            <a:ext cx="576108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ещение школьной библиоте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накомство с библиотеками гор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едение уроков внеклассного чтения, праздников в библиоте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ллективная подписка на журнал «Игрушка» (Тетте»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-7772400" y="-58294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250920" y="3141720"/>
            <a:ext cx="26654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68360" y="260280"/>
            <a:ext cx="7272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Семейное чтение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165276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Цель: работать над созданием и развитием «читающей» семьи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50560" y="2565360"/>
            <a:ext cx="511164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ведение тематических родительских собра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здание «Клуба семейного чтения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дбор книг для семейного чт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дготовка и проведение литературных конкурсов, викторин по прочитанным книга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формление стенда «Советую прочитать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219640" y="2997360"/>
            <a:ext cx="341964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68360" y="260280"/>
            <a:ext cx="7272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итературное творчеств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1576440"/>
            <a:ext cx="799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Цель: приобщить детей к чтению книг через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театральное искус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0" y="2492280"/>
            <a:ext cx="42480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витие навыков выразительного чт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еатрализация прочитанных произвед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108000" y="5340960"/>
            <a:ext cx="44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На школьной сцене ученики 2 «В» класс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-7772400" y="-5829480"/>
            <a:ext cx="4726080" cy="3544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79280" y="2637000"/>
            <a:ext cx="42483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763280" y="188640"/>
            <a:ext cx="678996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4319280" cy="2016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029200" y="2205000"/>
            <a:ext cx="411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любить книгу и процесс чт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высить качество чт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звить его творческие расширить кругозор читател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пособ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324000" y="4005360"/>
            <a:ext cx="43192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50920" y="2924280"/>
            <a:ext cx="3970080" cy="2519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356000" y="2424240"/>
            <a:ext cx="4464000" cy="32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Я решила поддержать и продолжить идею Интернет -общения посредством участия в различных литературных викторинах. Для этого я пользуюсь доступной информацией таких сайтов как 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www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.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clubook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.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ru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Успешное чтение», 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8"/>
              </a:rPr>
              <a:t>www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9"/>
              </a:rPr>
              <a:t>.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10"/>
              </a:rPr>
              <a:t>erudites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1"/>
              </a:rPr>
              <a:t>.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12"/>
              </a:rPr>
              <a:t>ru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13"/>
              </a:rPr>
              <a:t>www.nachalka.com/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Итоги реализации проекта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Уроки рефлексии.</a:t>
            </a:r>
            <a:br>
              <a:rPr sz="4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Цель: сформировать у учащихся средства контроля и самооценки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роки рефлексии по чтению проводятся 1 раз в месяц. Они помогают учащимс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общить зна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сознать свои проблемы и сложности в освоении предме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имулировать повышение  читательского уровн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219640" y="2205000"/>
            <a:ext cx="3311640" cy="19432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932360" y="4221000"/>
            <a:ext cx="388764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Итоги реализации проект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21844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Высокий уровень успеваемости и качества знаний учащихся по литературному чтению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9280" y="4581000"/>
            <a:ext cx="81471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24000" y="3213000"/>
          <a:ext cx="4276440" cy="1981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3213000"/>
                    <a:ext cx="42764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179280" y="486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859280" y="3213000"/>
          <a:ext cx="4097520" cy="18828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59280" y="3213000"/>
                    <a:ext cx="4097520" cy="18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1988640"/>
            <a:ext cx="8218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e5ffff"/>
                </a:solidFill>
                <a:latin typeface="Tahoma"/>
              </a:rPr>
              <a:t>«Чтение должно стать для ребенка очень тонким инструментом овладения знаниями и вместе с тем источником богатой духовной жизни»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e5ffff"/>
                </a:solidFill>
                <a:latin typeface="Tahoma"/>
              </a:rPr>
              <a:t>"Если в начальной школе дети мало читали, мало мыслили, у них складывалась структура малодеятельного мозга"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e5ffff"/>
                </a:solidFill>
                <a:latin typeface="Tahoma"/>
              </a:rPr>
              <a:t>                                                       В.А. Сухомлинский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 rot="20902800">
            <a:off x="755640" y="3933360"/>
            <a:ext cx="2519280" cy="244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Итоги реализации проект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91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Высокий интерес учащихся моего класса к чтению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752400" y="2205000"/>
          <a:ext cx="7818480" cy="3595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2400" y="2205000"/>
                    <a:ext cx="7818480" cy="35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Итоги реализации проект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знообразный круг интересов в самостоятельном выборе книг для чт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826920" y="2492280"/>
          <a:ext cx="7417080" cy="3961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2492280"/>
                    <a:ext cx="7417080" cy="39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Итоги реализации проект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Высокий уровень читательской активности учащихся (по данным школьной библиотеки и городской библиотеки)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693800" y="3281400"/>
          <a:ext cx="6141960" cy="2428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3800" y="3281400"/>
                    <a:ext cx="614196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91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Использованная литератур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424720" cy="29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Евдокимова Н.Ф. Как кроссворды помогают развитию интереса к чтению//Начальная школа. – 2005, №7 – с.88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узнецов О.А., Хромов Л.Н. Техника быстрого чтения. - М.: Просвещение, 1983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Ладанов И.Д., Розанова О.А. Практическое пособие с упражнениями «Техника быстрого чтения». – М.: Просвещение, 1998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ешетникова С.В. Формирование навыка чтения на основе развития познавательных процессов//Начальная школа. – 2006, №2 – с.6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ихомирова И.И. Психология детского чтения от А до Я. Методический словарь – справочник. – М.: Школьная библиотека, 2004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Ладанов И.Д., Розанова О.А. Практическое пособие с упражнениями «Техника быстрого чтения». – М.: Просвещение, 1998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ешетникова С.В. Формирование навыка чтения на основе развития познавательных процессов//Начальная школа. – 2006, №2. – с.6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ихомирова И.И. Психология детского чтения от А до Я. Методический словарь – справочник. – М.: Школьная библиотека, 2004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 rot="20832000">
            <a:off x="6897600" y="4354560"/>
            <a:ext cx="1440000" cy="21286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 rot="1057200">
            <a:off x="755280" y="4581000"/>
            <a:ext cx="1265400" cy="19814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 rot="20962200">
            <a:off x="2771640" y="4652640"/>
            <a:ext cx="1378080" cy="19447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 rot="511200">
            <a:off x="4903920" y="4583160"/>
            <a:ext cx="13906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8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Проблема: дети не хотят читать книги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Социальная значимость проблемы: не читающие дети в среднем и старшем звене. Их</a:t>
            </a:r>
            <a:br>
              <a:rPr sz="2800"/>
            </a:b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адаптация во взрослой жизни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724360" y="3429000"/>
            <a:ext cx="2857680" cy="2209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324000" y="2708280"/>
          <a:ext cx="4894200" cy="4021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2708280"/>
                    <a:ext cx="4894200" cy="40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324000" y="6021360"/>
            <a:ext cx="85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Основополагающий вопрос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 пробудить интерес к чтению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 сделать, чтобы интерес к чтению не угаса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3407400"/>
            <a:ext cx="72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4400" spc="-1" strike="noStrike" u="sng">
                <a:solidFill>
                  <a:srgbClr val="ffcc00"/>
                </a:solidFill>
                <a:uFillTx/>
                <a:latin typeface="Tahoma"/>
              </a:rPr>
              <a:t>Цель проект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3879720"/>
            <a:ext cx="842472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иск путей развития у учащих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ладших классов интереса к книге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емления к самостоятельному чтен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Этапы работы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становка целей и задач проек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зучение методической литературы по данной проблем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истематизация личного опыта работы и опыта работы учителей начальной школы по данной проблем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работка и организация занятий, способствующих реализации проек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щита полученных результа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Задачи проект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учение навыкам чт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Формирование умения эмоционально-творческого чт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витие у учащихся потребности в чтении как в источнике дальнейшего личностного совершенство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5ffff"/>
                </a:solidFill>
                <a:uFillTx/>
                <a:latin typeface="Tahoma"/>
              </a:rPr>
              <a:t>Принципы построения проекта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cc00"/>
                </a:solidFill>
                <a:latin typeface="Tahoma"/>
              </a:rPr>
              <a:t>природосообразности</a:t>
            </a:r>
            <a:r>
              <a:rPr b="0" lang="ru-RU" sz="2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– учета типологических психологических особенностей детей 7-10 лет. Исходя из этого, разработан концентрический принцип подбора детских литературных произведений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i="1" lang="ru-RU" sz="2200" spc="-1" strike="noStrike">
                <a:solidFill>
                  <a:srgbClr val="ffcc00"/>
                </a:solidFill>
                <a:latin typeface="Tahoma"/>
              </a:rPr>
              <a:t>преемственности и перспективности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, подчеркивающих пропедевтическое значение начальных навыков чтения и интереса к нему для формирования готовности к дальнейшему обучению и реализующих межпредметные и внутрипредметные связи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i="1" lang="ru-RU" sz="2200" spc="-1" strike="noStrike">
                <a:solidFill>
                  <a:srgbClr val="ffcc00"/>
                </a:solidFill>
                <a:latin typeface="Tahoma"/>
              </a:rPr>
              <a:t>интеграции теоретических сведений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 с деятельностью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по их практическому применению, что определяет практическую направленность проекта, расходование значительной части времени на формирование различных деятельностных компетенций;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5ffff"/>
                </a:solidFill>
                <a:uFillTx/>
                <a:latin typeface="Tahoma"/>
              </a:rPr>
              <a:t>Принципы построения проекта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cc00"/>
                </a:solidFill>
                <a:latin typeface="Tahoma"/>
              </a:rPr>
              <a:t>коммуникативности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, предполагающий развитие у младших школьников представлений о возможностях литературы как науки, усвоение учащимися элементарных терминов и понятий, осознанное оперирование ими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i="1" lang="ru-RU" sz="2200" spc="-1" strike="noStrike">
                <a:solidFill>
                  <a:srgbClr val="ffcc00"/>
                </a:solidFill>
                <a:latin typeface="Tahoma"/>
              </a:rPr>
              <a:t>интеграции обучения, развития и воспитания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, определяющий необходимость использования средств литературного чтения для социализации школьника, развития его социальной культуры, а также соответствующих практических навыков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i="1" lang="ru-RU" sz="2200" spc="-1" strike="noStrike">
                <a:solidFill>
                  <a:srgbClr val="ffcc00"/>
                </a:solidFill>
                <a:latin typeface="Tahoma"/>
              </a:rPr>
              <a:t>вариативности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редполагающий развитие у младших школьников умения осуществлять осознанный самостоятельный выбор книг для чтения среди нескольких предложенных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5ffff"/>
                </a:solidFill>
                <a:uFillTx/>
                <a:latin typeface="Tahoma"/>
              </a:rPr>
              <a:t>Теоретические основы проекта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следования о причинах нарушения чтения у детей, о методах устранения этих нарушен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методика развития зрительного восприятия текста, тренировка памяти внима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методика обучения скорочтению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система заданий, направленная на формирование умений смысловой обработки текст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система упражнений на развитие восприятие текст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18:57:17Z</dcterms:created>
  <dc:creator>54</dc:creator>
  <dc:description/>
  <dc:language>en-US</dc:language>
  <cp:lastModifiedBy>Ирина</cp:lastModifiedBy>
  <dcterms:modified xsi:type="dcterms:W3CDTF">2009-12-12T15:38:18Z</dcterms:modified>
  <cp:revision>8</cp:revision>
  <dc:subject/>
  <dc:title>ФОРМИРОВАНИЕ ЧИТАТЕЛЬСКОГО  ИНТЕРЕСА   У  УЧАЩИХСЯ   НАЧАЛЬНЫХ  КЛАССОВ </dc:title>
</cp:coreProperties>
</file>