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9E13-D0EA-4902-AD81-F371D36FC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02FC-83D8-48FC-8791-D663D7056484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21E-DC01-4B6B-BB62-3513BA513332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9F1F-C6A5-44C5-9E3B-B8A6557BFDD8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DB2-C8BF-4D7E-9BE3-5638F5EAACB0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14D-1D32-41DF-8DB5-F3DAA60BADA6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F22-59BA-4FE7-8CD4-6884E5201F00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C15-1AA5-4CC5-9481-3E25C2C13F37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25D-8282-41EB-85CF-4C4E078AB779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E9A3-FD9A-4FD4-8F33-A5009DBC93EA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DF9-C258-4E22-AA33-B02ADFC485F9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6D1B-2286-4CFD-8712-0C909DD3B71E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F6E-866C-49A2-B492-DC64F7C904A5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9ACE-24A8-46A5-A822-DEF0199B39F9}" type="slidenum">
              <a:rPr b="0" lang="ru-RU" sz="1200" spc="-1" strike="noStrike">
                <a:solidFill>
                  <a:srgbClr val="4d5b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23B7-70F4-444D-A79D-4252B0AB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FAA5-5BCB-40F9-ABFE-CB4BB17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CCD2-052F-40FA-9E7A-B5CEE6AD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0B86-275D-4350-9B0A-18A164B2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F865-BABC-48ED-A20C-3317512C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64C-98F3-4CAD-B677-2E1B666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CEA2-E03E-4CF7-B44C-4A376D7F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AD3A-8E7E-415D-9048-C865A64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5EC3-A2FF-4905-8E21-2AE5C46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F178-2434-438F-99C0-D65CB76A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3384-7732-46E2-8062-02BB1B2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74B7-7BED-44D5-B96E-10398486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08F5-16C9-45B8-A1B8-6B63205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E69-B100-4624-9A4D-694C9C7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61B-FE02-483E-A809-908D580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6DE5-6358-40E0-96C0-512F3F76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65D-922D-47DF-907D-D4AE7AF1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0589-AB3A-462A-ABDD-EC7F86D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1AD9-597D-4FEF-84AF-E93B198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4AE0-F6ED-4212-8A23-5419782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CB2E-23A3-425A-A07A-5EA48F0B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D2D9-C801-4330-BED1-3CE6F31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3630-5A88-44BF-80AA-4E4FDD6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82BD-F3B3-4CBF-B006-2EFE462A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662-0AC8-4903-AFE5-54A564FFBAAD}" type="slidenum">
              <a:rPr b="0" lang="ru-RU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AE74-CBE8-442E-8305-56A15076ECCF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Arial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9356-643C-4C54-BC7C-19DB9C96DDDB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E277-5789-4304-A37C-DDBD8A36E1ED}" type="slidenum">
              <a:rPr b="0" lang="ru-RU" sz="14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133640" y="2670120"/>
            <a:ext cx="7443720" cy="2822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5720" y="195120"/>
            <a:ext cx="618948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79d99"/>
                </a:solidFill>
                <a:latin typeface="Calibri"/>
              </a:rPr>
              <a:t>ЗАЩИТА ДИПЛОМА 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2771640" y="6013440"/>
            <a:ext cx="6189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С.н.с. каф. ЭАФУ </a:t>
            </a:r>
            <a:r>
              <a:rPr b="1" lang="ru-RU" sz="1800" spc="-1" strike="noStrike">
                <a:solidFill>
                  <a:srgbClr val="4d4643"/>
                </a:solidFill>
                <a:latin typeface="Calibri"/>
              </a:rPr>
              <a:t>Н.В. Ливенцова</a:t>
            </a: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620280"/>
            <a:ext cx="8245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график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подписи оси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 конце оси, данные и подписи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должны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акладываться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друг на друга и сливаться с графическими элементами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числа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едином формате и удобочитаемые (можно нормировать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график и сетка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средних размеров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уменьшая размер диаграммы, шрифты увеличивать так, чтобы текстовая информация читалась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ип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графика (диаграммы) должен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соответствова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типу отображаемых данных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сколько связанных графиков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располагать так, чтобы </a:t>
            </a:r>
            <a:br>
              <a:rPr sz="2000"/>
            </a:b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шкал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были  друг под другом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фон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светлы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5F45-38A6-4089-AF21-9B5C5C6FD211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Графики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26560" y="981000"/>
            <a:ext cx="8245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79640" indent="-28796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разобраться с названиями: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труктурная, функциональная и т.д. 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сколько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объемных можно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бобщи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1 разъясняющую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выделять ключевые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лементы схемы цветом или пунктиром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спользо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ффект приближения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ключевых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элементов схемы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«разумность»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 точки зрения зрительного восприятия (большие нечитаемые схемы можно приводить, показывая объем работы, связывая его общим текстом не задерживая особого внимания на них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лгоритм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в обобщенных блок-схемах, или разбить на части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879640" indent="-28796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964-1CA1-437D-99F0-9F9BD0B1A39B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Схем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6080" y="1197000"/>
            <a:ext cx="7532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если одна (4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4), то не увеличивать на весь слайд, можно добавить рисунок или объединить с другим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таблица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текст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1-4 пункта меньше, чем основно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объемны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аблиц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8d6953"/>
                </a:solidFill>
                <a:latin typeface="Calibri"/>
              </a:rPr>
              <a:t>&gt; 10 x 10)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о возможности преобразовать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 график или разбить на 2 лайда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      (сохраняя заголовки)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делять цветом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ключевые области таблицы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AB6B-867F-49D8-A831-0E302A1B68C3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Таблиц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86920" y="134100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 более </a:t>
            </a:r>
            <a:r>
              <a:rPr b="1" lang="ru-RU" sz="2100" spc="-1" strike="noStrike">
                <a:solidFill>
                  <a:srgbClr val="0070c0"/>
                </a:solidFill>
                <a:latin typeface="Calibri"/>
              </a:rPr>
              <a:t>10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на слайд, только основные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не назыв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«формула»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без «зюзюк»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в едином формат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и удобочитаемые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дписи названий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формул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снизу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принцип упорядоченности и близости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одписей и обозначений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умерация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формул на слайде не желательна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891-8504-456B-9353-77FF58571A7D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Формулы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79280" y="1412640"/>
            <a:ext cx="7956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деление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8d6953"/>
                </a:solidFill>
                <a:uFillTx/>
                <a:latin typeface="Calibri"/>
              </a:rPr>
              <a:t>подчеркивание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размер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цвет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плохо читается </a:t>
            </a:r>
            <a:r>
              <a:rPr b="1" i="1" lang="ru-RU" sz="2000" spc="-1" strike="noStrike">
                <a:solidFill>
                  <a:srgbClr val="8d6953"/>
                </a:solidFill>
                <a:latin typeface="Calibri"/>
              </a:rPr>
              <a:t>курсивом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допустимые цвета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- не яркие, не более 4 сочетающихся, черный имеет негативный (мрачный) подтекст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версия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цветов плохо читается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100" spc="-1" strike="noStrike">
                <a:solidFill>
                  <a:srgbClr val="c35800"/>
                </a:solidFill>
                <a:latin typeface="Calibri"/>
              </a:rPr>
              <a:t>текст на фоне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должен быть хорошо читаем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оличество эффектов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сплывающих элементов и анимаций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минимально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067A-9C95-46FE-8E32-AF15FA82BB14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4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1212840" y="2036880"/>
            <a:ext cx="7248600" cy="4638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5720" y="201240"/>
            <a:ext cx="61894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79d99"/>
                </a:solidFill>
                <a:latin typeface="Calibri"/>
              </a:rPr>
              <a:t>ЗАЩИТА ДИПЛОМА на кафедре ЭАФУ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2771640" y="6208560"/>
            <a:ext cx="618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С.н.с. каф. ЭАФУ </a:t>
            </a:r>
            <a:r>
              <a:rPr b="1" lang="ru-RU" sz="1800" spc="-1" strike="noStrike">
                <a:solidFill>
                  <a:srgbClr val="4d4643"/>
                </a:solidFill>
                <a:latin typeface="Calibri"/>
              </a:rPr>
              <a:t>Н.В. Ливенцова</a:t>
            </a: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76320" y="549000"/>
            <a:ext cx="7843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актуальность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абот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661f1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аботы, постановка </a:t>
            </a:r>
            <a:r>
              <a:rPr b="1" lang="ru-RU" sz="1800" spc="-1" strike="noStrike">
                <a:solidFill>
                  <a:srgbClr val="2f537f"/>
                </a:solidFill>
                <a:latin typeface="Calibri"/>
              </a:rPr>
              <a:t>задачи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объект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исследования, результат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анализ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а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объекта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можно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показать разбиение цели на подцели и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отметить новизну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выбор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и обоснование </a:t>
            </a: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методов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методики) решения задач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d69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6953"/>
                </a:solidFill>
                <a:latin typeface="Calibri"/>
              </a:rPr>
              <a:t>ход разработки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моделей, АСУ (методик, схем, и т.д., в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зависимости от темы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f53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37f"/>
                </a:solidFill>
                <a:latin typeface="Calibri"/>
              </a:rPr>
              <a:t>адекватность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(работоспособность), результаты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экспериментальной части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0" lang="ru-RU" sz="1800" spc="-1" strike="noStrike">
                <a:solidFill>
                  <a:srgbClr val="a79d99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4d4643"/>
                </a:solidFill>
                <a:latin typeface="Calibri"/>
              </a:rPr>
              <a:t>результаты работы </a:t>
            </a:r>
            <a:r>
              <a:rPr b="0" lang="ru-RU" sz="1300" spc="-1" strike="noStrike">
                <a:solidFill>
                  <a:srgbClr val="4d4643"/>
                </a:solidFill>
                <a:latin typeface="Calibri"/>
              </a:rPr>
              <a:t>должны быть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согласован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с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целями</a:t>
            </a:r>
            <a:r>
              <a:rPr b="0" lang="ru-RU" sz="1600" spc="-1" strike="noStrike">
                <a:solidFill>
                  <a:srgbClr val="8d6953"/>
                </a:solidFill>
                <a:latin typeface="Calibri"/>
              </a:rPr>
              <a:t>,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дачами и темой</a:t>
            </a:r>
            <a:r>
              <a:rPr b="0" lang="ru-RU" sz="1400" spc="-1" strike="noStrike">
                <a:solidFill>
                  <a:srgbClr val="8d6953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d4643"/>
                </a:solidFill>
                <a:latin typeface="Calibri"/>
              </a:rPr>
              <a:t>т. е. в выводах указывается: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решен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задачи</a:t>
            </a:r>
            <a:r>
              <a:rPr b="0" lang="ru-RU" sz="1600" spc="-1" strike="noStrike">
                <a:solidFill>
                  <a:srgbClr val="8d6953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cbb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достигнуты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цели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исследования,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4d4643"/>
                </a:solidFill>
                <a:latin typeface="Calibri"/>
              </a:rPr>
              <a:t>или обозначается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a7cbb"/>
                </a:solidFill>
                <a:latin typeface="Calibri"/>
              </a:rPr>
              <a:t>этап разработки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C36-284B-49FB-AD65-1726F4AA844C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1216080" y="11592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Подготовка основы доклада о НИР 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3"/>
          <p:cNvSpPr/>
          <p:nvPr/>
        </p:nvSpPr>
        <p:spPr>
          <a:xfrm>
            <a:off x="179280" y="20160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ABE1-B9CA-4BF7-862A-952E06792B0E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Доклад за 10 мин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08" name="Диаграмма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656480" cy="525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94920" y="475920"/>
            <a:ext cx="6620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Максимальное  количество слайдов и слов для доклада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179280" y="20160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624F-A799-49AF-BF00-CFE15AF7734C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Доклад за 10 мин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765000"/>
          <a:ext cx="7743960" cy="5967720"/>
        </p:xfrm>
        <a:graphic>
          <a:graphicData uri="http://schemas.openxmlformats.org/drawingml/2006/table">
            <a:tbl>
              <a:tblPr/>
              <a:tblGrid>
                <a:gridCol w="1584360"/>
                <a:gridCol w="3600360"/>
                <a:gridCol w="719280"/>
                <a:gridCol w="1023840"/>
                <a:gridCol w="816120"/>
              </a:tblGrid>
              <a:tr h="6750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Часть доклада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Примерный текст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ремя, мин.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Кол-во слайдов, шт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лов в докладе, шт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6344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Приветствие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Здравствуйте, уважаемые …..,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ашему вниманию предоставляется дипломная работа на тему … , выполненная ….., под руководством …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0,3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80028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Цели и задач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уществуют следующие проблемы/задачи: задача-1; задача-2 ..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Актуальность решения задач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0944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азработка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На основе методики-</a:t>
                      </a:r>
                      <a:r>
                        <a:rPr b="0" lang="smj-NO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 ..., основы которой изложены в записке, заключающейся в …, проведено, разработано …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6 - 8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5 - 1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480-64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99216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езультаты разработки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 результате проверки адекватности … (работоспособности … ) получили …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2 - 6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  <a:tr h="10098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Выводы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Были получены: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5b6b"/>
                        </a:buClr>
                        <a:buSzPct val="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решение-1; …..решение-N. 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Спасибо за внимание (такой слайд не нужен).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5b6b"/>
                          </a:solidFill>
                          <a:latin typeface="Calibri"/>
                        </a:rPr>
                        <a:t>80-160</a:t>
                      </a: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6"/>
                    </a:solidFill>
                  </a:tcPr>
                </a:tc>
              </a:tr>
              <a:tr h="417600"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ИТОГО максимум:</a:t>
                      </a:r>
                      <a:endParaRPr b="0" lang="en-US" sz="13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10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мин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слайдов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  <a:tc>
                  <a:txBody>
                    <a:bodyPr lIns="17280" rIns="17280" tIns="17280" bIns="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7605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r>
                        <a:rPr b="1" lang="ru-RU" sz="1400" spc="-1" strike="noStrike">
                          <a:solidFill>
                            <a:srgbClr val="ff7605"/>
                          </a:solidFill>
                          <a:latin typeface="Calibri"/>
                        </a:rPr>
                        <a:t>слов</a:t>
                      </a:r>
                      <a:endParaRPr b="0" lang="en-US" sz="14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76320" y="1484280"/>
            <a:ext cx="6548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Больше не значит лучше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a79d99"/>
                </a:solidFill>
                <a:latin typeface="Calibri"/>
              </a:rPr>
              <a:t>думайте не только о себе</a:t>
            </a: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Защита </a:t>
            </a: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19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чел * </a:t>
            </a:r>
            <a:r>
              <a:rPr b="1" lang="ru-RU" sz="1800" spc="-1" strike="noStrike">
                <a:solidFill>
                  <a:srgbClr val="c35800"/>
                </a:solidFill>
                <a:latin typeface="Calibri"/>
              </a:rPr>
              <a:t>20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мин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 ч  20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Обед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1 ч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Совещание ГАК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   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5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Оглашение результатов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+       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5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мин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79d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a79d9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ОГО   минимум:   </a:t>
            </a:r>
            <a:r>
              <a:rPr b="1" lang="en-US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 ч  </a:t>
            </a:r>
            <a:r>
              <a:rPr b="1" lang="en-US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5</a:t>
            </a:r>
            <a:r>
              <a:rPr b="1" lang="ru-RU" sz="1800" spc="-1" strike="noStrike">
                <a:solidFill>
                  <a:srgbClr val="ff7605"/>
                </a:solidFill>
                <a:latin typeface="Times New Roman"/>
                <a:ea typeface="Times New Roman"/>
              </a:rPr>
              <a:t>0 мин 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8747-F04C-4642-A48B-D9E9435ADD1F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Общие затраты времени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16" name="Диаграмма 1" descr=""/>
          <p:cNvPicPr/>
          <p:nvPr/>
        </p:nvPicPr>
        <p:blipFill>
          <a:blip r:embed="rId1"/>
          <a:stretch/>
        </p:blipFill>
        <p:spPr>
          <a:xfrm>
            <a:off x="6026040" y="4508640"/>
            <a:ext cx="27590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контраста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разный размер шрифтов, разные символы, цвета. </a:t>
            </a:r>
            <a:r>
              <a:rPr b="1" lang="ru-RU" sz="1800" spc="-1" strike="noStrike">
                <a:solidFill>
                  <a:srgbClr val="89aad3"/>
                </a:solidFill>
                <a:latin typeface="Calibri"/>
              </a:rPr>
              <a:t>Контраст — привлекает внимание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повторяемост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повторение некоторых элементов оформления: одинаковые рамки, цвет поля, тип шрифта.      </a:t>
            </a:r>
            <a:br>
              <a:rPr sz="1800"/>
            </a:b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Создает ощущение организованности и единства стиля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упорядоченности 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элементы на слайде не хаотично, а с некоторой видимой связью между собой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близости </a:t>
            </a:r>
            <a:r>
              <a:rPr b="1" lang="ru-RU" sz="22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элементы, связанные общим смыслом, должны быть сгруппированы вместе, образуя некоторую визуальную единицу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3225960" indent="-3135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7605"/>
                </a:solidFill>
                <a:latin typeface="Calibri"/>
              </a:rPr>
              <a:t>Принцип разумност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ограничение элементов на слайде с позиции зрительного восприятия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F6A-B6C3-4D7C-B8C8-2EF0ECC04AF9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26560" y="620640"/>
            <a:ext cx="824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Текст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подписи названий элементов слайда снизу (не по всей длине слайда) шрифт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) 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Графики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подписи в конце оси, числа воспринимаемые и единый стиль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Схемы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разобраться с названиями структурная, функциональная и т.д.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Таблицы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размер средний, объемные в график или на 2 слайда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Алгоритмы </a:t>
            </a:r>
            <a:r>
              <a:rPr b="1" lang="ru-RU" sz="2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в блок-схемы, или разбить на части, показать часть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Формулы</a:t>
            </a:r>
            <a:r>
              <a:rPr b="1" lang="ru-RU" sz="20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без «зюзюк», только основные, до 10 шт на слайд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r>
              <a:rPr b="1" lang="ru-RU" sz="20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допустимые цвета - не яркие, кол-во всплывающих элементов минимально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CAF8-6D6E-4D07-A781-90BE04623E42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2" name="Подзаголовок 2"/>
          <p:cNvSpPr/>
          <p:nvPr/>
        </p:nvSpPr>
        <p:spPr>
          <a:xfrm>
            <a:off x="1216080" y="11592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26560" y="475920"/>
            <a:ext cx="8245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Текст 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что </a:t>
            </a: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не говорить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(аббревиатуру малоизвестную и расшифровки всем известные, маркировки, личн. местоим., самый главный …,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самый лучший …, хороший …, очень большой…) 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подписи названий элементов слайда снизу </a:t>
            </a:r>
            <a:br>
              <a:rPr sz="1300"/>
            </a:b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(не по всей длине слайда) 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цифры (размер видимый, № слайда)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пунктуации в конце предложения не надо</a:t>
            </a:r>
            <a:br>
              <a:rPr sz="1300"/>
            </a:br>
            <a:r>
              <a:rPr b="1" lang="ru-RU" sz="1300" spc="-1" strike="noStrike">
                <a:solidFill>
                  <a:srgbClr val="c35800"/>
                </a:solidFill>
                <a:latin typeface="Calibri"/>
              </a:rPr>
              <a:t>*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шрифт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300" spc="-1" strike="noStrike">
                <a:solidFill>
                  <a:srgbClr val="8d6953"/>
                </a:solidFill>
                <a:latin typeface="Calibri"/>
              </a:rPr>
              <a:t>pt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 для 432а ауд)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Графики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—не называть «график», подписи в конце оси, но данные и подписи не должны накладываться друг на друга и сливаться с графическими элементами, числа воспринимаемые и в едином формате, м.б. норм., размер и сетка средних размеров, не более 4 на слайд, тип графика (диаграммы) должен соответствовать типу отображаемых данных, если уменьшить размер диаграммы, то размер шрифтов должен быть увеличен так, чтобы текстовая информация читалась, фон не темный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Схемы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разобраться с названиями структурная, функциональная и т.д., если несколько объемных можно обобщить в 1 разъясняющую, «разумность» с точки зрения зрительного восприятия, алгоритмы в обобщенных блок-схемах, или разбить на части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Таблицы </a:t>
            </a:r>
            <a:r>
              <a:rPr b="1" lang="ru-RU" sz="17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размер средний, текст на 1-2 пункта меньше, чем основной, объемные в график или на 2 слайда, но с заголовками, выделение цветом ключевых областей 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Формулы</a:t>
            </a:r>
            <a:r>
              <a:rPr b="1" lang="ru-RU" sz="14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без «зюзюк», только основные, до 10 шт на слайд</a:t>
            </a:r>
            <a:endParaRPr b="0" lang="en-US" sz="14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•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ff7605"/>
                </a:solidFill>
                <a:latin typeface="Calibri"/>
              </a:rPr>
              <a:t>Эффекты</a:t>
            </a:r>
            <a:r>
              <a:rPr b="1" lang="ru-RU" sz="1400" spc="-1" strike="noStrike">
                <a:solidFill>
                  <a:srgbClr val="ff7605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1300" spc="-1" strike="noStrike">
                <a:solidFill>
                  <a:srgbClr val="8d6953"/>
                </a:solidFill>
                <a:latin typeface="Calibri"/>
              </a:rPr>
              <a:t>выделение подчеркиванием, размером, цветом, допустимые цвета - не яркие, не более четырех сочетающихся, черный имеет негативный (мрачный) подтекст, инверсия плохо читается, текст на фоне должен быть хорошо читаем, кол-во всплывающих элементов и анимаций минимально</a:t>
            </a:r>
            <a:endParaRPr b="0" lang="en-US" sz="13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8A1-893E-4096-8498-A9E303680B46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5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9d99"/>
                </a:solidFill>
                <a:latin typeface="Calibri"/>
              </a:rPr>
              <a:t>Рекомендации оформления слайдов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6" name="Подзаголовок 2"/>
          <p:cNvSpPr/>
          <p:nvPr/>
        </p:nvSpPr>
        <p:spPr>
          <a:xfrm>
            <a:off x="2843280" y="6381720"/>
            <a:ext cx="6189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35800"/>
                </a:solidFill>
                <a:latin typeface="Calibri"/>
              </a:rPr>
              <a:t>Плохо, да?</a:t>
            </a:r>
            <a:endParaRPr b="0" lang="en-US" sz="22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8245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09920" indent="-2509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подписи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названий элементов слайда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снизу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(не по всей длине слайда) </a:t>
            </a:r>
            <a:br>
              <a:rPr sz="1900"/>
            </a:b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и быть обязательно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цифры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№ слайда вверху слева, </a:t>
            </a: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дату не приводить, текстом не писать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пунктуации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в конце предложения не надо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шрифт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Arial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,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Calibri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 или  Verdana (от 1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о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32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8d6953"/>
                </a:solidFill>
                <a:latin typeface="Calibri"/>
              </a:rPr>
              <a:t>pt</a:t>
            </a:r>
            <a:r>
              <a:rPr b="1" lang="ru-RU" sz="1900" spc="-1" strike="noStrike">
                <a:solidFill>
                  <a:srgbClr val="8d6953"/>
                </a:solidFill>
                <a:latin typeface="Calibri"/>
              </a:rPr>
              <a:t> для 432а ауд) </a:t>
            </a:r>
            <a:endParaRPr b="0" lang="en-US" sz="19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3600" spc="-1" strike="noStrike">
                <a:solidFill>
                  <a:srgbClr val="46342a"/>
                </a:solidFill>
                <a:latin typeface="Calibri"/>
              </a:rPr>
              <a:t>заголовок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46342a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46342a"/>
                </a:solidFill>
                <a:latin typeface="Calibri"/>
              </a:rPr>
              <a:t>3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2800" spc="-1" strike="noStrike">
                <a:solidFill>
                  <a:srgbClr val="46342a"/>
                </a:solidFill>
                <a:latin typeface="Calibri"/>
              </a:rPr>
              <a:t>подзаголовок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24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</a:t>
            </a:r>
            <a:r>
              <a:rPr b="1" lang="ru-RU" sz="2800" spc="-1" strike="noStrike">
                <a:solidFill>
                  <a:srgbClr val="46342a"/>
                </a:solidFill>
                <a:latin typeface="Calibri"/>
              </a:rPr>
              <a:t>28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текст, подписи, информация в таблицах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46342a"/>
                </a:solidFill>
                <a:latin typeface="Calibri"/>
              </a:rPr>
              <a:t>18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</a:t>
            </a:r>
            <a:r>
              <a:rPr b="1" lang="ru-RU" sz="2400" spc="-1" strike="noStrike">
                <a:solidFill>
                  <a:srgbClr val="46342a"/>
                </a:solidFill>
                <a:latin typeface="Calibri"/>
              </a:rPr>
              <a:t> 24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•     </a:t>
            </a:r>
            <a:r>
              <a:rPr b="1" lang="ru-RU" sz="1600" spc="-1" strike="noStrike">
                <a:solidFill>
                  <a:srgbClr val="46342a"/>
                </a:solidFill>
                <a:latin typeface="Calibri"/>
              </a:rPr>
              <a:t>шрифт легенды 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– </a:t>
            </a:r>
            <a:r>
              <a:rPr b="1" lang="ru-RU" sz="1600" spc="-1" strike="noStrike">
                <a:solidFill>
                  <a:srgbClr val="46342a"/>
                </a:solidFill>
                <a:latin typeface="Calibri"/>
              </a:rPr>
              <a:t>16</a:t>
            </a:r>
            <a:r>
              <a:rPr b="1" lang="ru-RU" sz="2000" spc="-1" strike="noStrike">
                <a:solidFill>
                  <a:srgbClr val="46342a"/>
                </a:solidFill>
                <a:latin typeface="Calibri"/>
              </a:rPr>
              <a:t> - 20 pt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не говорить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 — аббревиатуру малоизвестную и расшифровки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всем известные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маркировки, личные местоимения, </a:t>
            </a:r>
            <a:br>
              <a:rPr sz="2000"/>
            </a:b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самый главный …, самый лучший …, хороший …, очень большой… </a:t>
            </a:r>
            <a:br>
              <a:rPr sz="2000"/>
            </a:b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2509920" indent="-2509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</a:t>
            </a:r>
            <a:r>
              <a:rPr b="1" lang="ru-RU" sz="2000" spc="-1" strike="noStrike">
                <a:solidFill>
                  <a:srgbClr val="c35800"/>
                </a:solidFill>
                <a:latin typeface="Calibri"/>
              </a:rPr>
              <a:t>знать </a:t>
            </a:r>
            <a:r>
              <a:rPr b="1" lang="ru-RU" sz="2000" spc="-1" strike="noStrike">
                <a:solidFill>
                  <a:srgbClr val="8d6953"/>
                </a:solidFill>
                <a:latin typeface="Calibri"/>
              </a:rPr>
              <a:t>— что обозначает каждое слово и каждый элемент слайда!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179280" y="206280"/>
            <a:ext cx="45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81AD-2AD3-4006-95E5-D8295E1AD1BE}" type="slidenum">
              <a:rPr b="1" lang="ru-RU" sz="2000" spc="-1" strike="noStrike">
                <a:solidFill>
                  <a:srgbClr val="262e35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29" name="Подзаголовок 2"/>
          <p:cNvSpPr/>
          <p:nvPr/>
        </p:nvSpPr>
        <p:spPr>
          <a:xfrm>
            <a:off x="1216080" y="201600"/>
            <a:ext cx="61894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605"/>
                </a:solidFill>
                <a:latin typeface="Calibri"/>
              </a:rPr>
              <a:t>Текст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27:03Z</dcterms:created>
  <dc:creator>Nina</dc:creator>
  <dc:description/>
  <dc:language>en-US</dc:language>
  <cp:lastModifiedBy>Коля</cp:lastModifiedBy>
  <dcterms:modified xsi:type="dcterms:W3CDTF">2013-08-22T11:24:37Z</dcterms:modified>
  <cp:revision>110</cp:revision>
  <dc:subject/>
  <dc:title>Презентация PowerPoint</dc:title>
</cp:coreProperties>
</file>