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855-CAC0-4329-B1EB-7F2022EC72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620-6B3D-40B6-871F-113C31A4ABAC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28F-D5F4-4AEA-A25F-E5AB9C65FB13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33A-4064-481F-B8D5-0F08B3A6D7B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942E-44EB-444B-BA1B-FF240E67FDA4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408-0047-4A39-B35E-6A8E3BB9F6FB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D80-F042-406A-9F5C-DF84CA99175A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1E04-C8B3-4210-820A-D7E6AB4D703C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44A-B1CC-4EA5-89BC-0BEDE8159E0A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C50-9848-4601-9ED4-7660DCEB3533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813-C2CA-47D8-ABF1-E8FD6A73C6E0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25D5-FFDF-4158-9FDF-231FA6A68B86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BC0-12FA-4A36-82CE-3556BBDFE51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8D9-506C-4986-835B-BB277FCE75DA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BCD3-1EC1-4A04-892B-A06D749B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B405-B3D3-404B-A89B-9842210D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B5F1-833C-4F76-A934-2838570F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161E-E910-45A6-BF00-BFF931C0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03C-00A1-418B-8D44-B48B31D5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9982-7524-46C9-B335-317ABCFD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3011-9FEB-4586-BC29-865F3AED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4CA2-7B57-4A3B-8DFB-FD35535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8A5D-BA6C-42B4-B244-22DA7B7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5736-0854-40B4-9799-76FE3DE5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287-7535-49B1-9183-67F7CC0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C17D-FC1C-4DD7-9C2A-2B227DF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4EAE-F49C-41F9-BEC3-4A60287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029D-4DD4-4435-9E97-08F94A6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D99-D389-4EE4-A7E2-3F907354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2ECF-5FC0-449D-9949-CB6A83A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BD2-83F6-4EFE-BB1C-81A1B850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7921-7A08-4436-A585-81024E9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E134-EB88-466D-AEE3-5447B81A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0742-FB8E-4464-A2A3-3A74617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AFFB-2717-452A-B085-EB4EEA0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0BE8-A4AA-497D-94B0-7753602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18C1-AEB9-4DE0-A2B3-5B5B2BF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7F9A-749D-4896-ACD1-5DB5071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5528-4313-4C2C-A3F8-55C8DD4D9759}" type="slidenum">
              <a:rPr b="0" lang="ru-RU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69A-D3F1-43BC-9B0E-AD4FA7686BAF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4AB9-FA38-410B-A6C9-A95A185F6F45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EBF-5178-483E-BBF7-C748B0CF624E}" type="slidenum">
              <a:rPr b="0" lang="ru-RU" sz="14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133640" y="2670120"/>
            <a:ext cx="7443720" cy="2822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5720" y="195120"/>
            <a:ext cx="618948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2771640" y="6013440"/>
            <a:ext cx="6189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620280"/>
            <a:ext cx="824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график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подписи ос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конце оси, данные и подписи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олжны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акладыватьс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руг на друга и сливаться с графическими элементами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числа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едином формате и удобочитаемые (можно нормировать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график и сетка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редних размеров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уменьшая размер диаграммы, шрифты увеличивать так, чтобы текстовая информация читалась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ип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графика (диаграммы) должен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оответствова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типу отображаемых данных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 связанных график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располагать так, чтобы </a:t>
            </a:r>
            <a:br>
              <a:rPr sz="2000"/>
            </a:b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шкал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были  друг под друг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фон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светлы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1EFE-B602-4FD5-A13F-3D0961AB8EB9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График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26560" y="981000"/>
            <a:ext cx="824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9640" indent="-28796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разобраться с названиями: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труктурная, функциональная и т.д. 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объемных можно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бобщ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1 разъясняющую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ыделять ключевы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ы схемы цветом или пунктир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спользо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ффект приближения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ключевых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ов схем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«разумность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 точки зрения зрительного восприятия (большие нечитаемые схемы можно приводить, показывая объем работы, связывая его общим текстом не задерживая особого внимания на них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лгорит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обобщенных блок-схемах, или разбить на части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98A1-C020-4C6A-B26A-003FFF8859E4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Схем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6080" y="1197000"/>
            <a:ext cx="7532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если одна (4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4), то не увеличивать на весь слайд, можно добавить рисунок или объединить с други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таблиц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текст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1-4 пункта меньше, чем основно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объемны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аблиц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&gt; 10 x 10)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 возможности преобразовать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график или разбить на 2 лайда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      (сохраняя заголовки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ять цветом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ключевые области таблиц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C3B-7A01-45F5-99D2-8D080559568E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аблиц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86920" y="1341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10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, только основн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формул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без «зюзюк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 едином формат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и удобочитаем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дписи названий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формул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принцип упорядоченности и близост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дписей и обозначени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умерация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формул на слайде не желательна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AE04-900B-4ACD-B2F6-F7C65F3ED3B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Формулы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79280" y="1412640"/>
            <a:ext cx="7956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ени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8d6953"/>
                </a:solidFill>
                <a:uFillTx/>
                <a:latin typeface="Calibri"/>
              </a:rPr>
              <a:t>подчеркивание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размер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цвет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лохо читается </a:t>
            </a:r>
            <a:r>
              <a:rPr b="1" i="1" lang="ru-RU" sz="2000" spc="-1" strike="noStrike">
                <a:solidFill>
                  <a:srgbClr val="8d6953"/>
                </a:solidFill>
                <a:latin typeface="Calibri"/>
              </a:rPr>
              <a:t>курсив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допустимые цвета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- не яркие, не более 4 сочетающихся, черный имеет негативный (мрачный) подтекст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верси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цветов плохо читается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екст на фон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должен быть хорошо читае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оличество эффект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плывающих элементов и анимаций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инимально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0E86-A28B-47A2-BE64-481F4629327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4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1212840" y="2036880"/>
            <a:ext cx="7248600" cy="4638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5720" y="201240"/>
            <a:ext cx="61894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на кафедре ЭАФУ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2771640" y="6208560"/>
            <a:ext cx="618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76320" y="549000"/>
            <a:ext cx="7843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661f1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, постановка </a:t>
            </a:r>
            <a:r>
              <a:rPr b="1" lang="ru-RU" sz="1800" spc="-1" strike="noStrike">
                <a:solidFill>
                  <a:srgbClr val="2f537f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объект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сследования, результа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анализ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объекта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ожно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показать разбиение цели на подцели 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отметить новизну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выбор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 обоснование </a:t>
            </a: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методов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етодики) решения зада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ход разработк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моделей, АСУ (методик, схем, и т.д., в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зависимости от темы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адекватность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работоспособность), результаты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экспериментальной част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езультаты работы </a:t>
            </a: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должны быть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согласова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с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целям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дачами и темой</a:t>
            </a:r>
            <a:r>
              <a:rPr b="0" lang="ru-RU" sz="14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т. е. в выводах указывается: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реше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задач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cbb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достигнут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це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сследования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ли обозначается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этап разработки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9208-7109-4B20-B33E-06F256101B55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Подготовка основы доклада о НИР 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2B87-4CE6-4813-AF2D-35953A435D8D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08" name="Диаграмма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656480" cy="525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6620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Максимальное  количество слайдов и слов для доклада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0C6-C5EE-4384-9A8A-2898B2F3E842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765000"/>
          <a:ext cx="7743960" cy="5967720"/>
        </p:xfrm>
        <a:graphic>
          <a:graphicData uri="http://schemas.openxmlformats.org/drawingml/2006/table">
            <a:tbl>
              <a:tblPr/>
              <a:tblGrid>
                <a:gridCol w="1584360"/>
                <a:gridCol w="3600360"/>
                <a:gridCol w="719280"/>
                <a:gridCol w="1023840"/>
                <a:gridCol w="816120"/>
              </a:tblGrid>
              <a:tr h="6750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Часть доклад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мерный текст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ремя, мин.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Кол-во слайдов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лов в докладе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63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ветствие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Здравствуйте, уважаемые …..,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ашему вниманию предоставляется дипломная работа на тему … , выполненная ….., под руководством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0,3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80028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Цели и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уществуют следующие проблемы/задачи: задача-1; задача-2 ..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Актуальность решения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азработк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На основе методики-</a:t>
                      </a:r>
                      <a:r>
                        <a:rPr b="0" lang="smj-NO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..., основы которой изложены в записке, заключающейся в …, проведено, разработано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6 - 8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5 - 1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80-6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99216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езультаты разработк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 результате проверки адекватности … (работоспособности … ) получили …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6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8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ыводы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Были получены: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5b6b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решение-1; …..решение-N.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пасибо за внимание (такой слайд не нужен)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4176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ИТОГО максимум: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1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мин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айд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76320" y="1484280"/>
            <a:ext cx="6548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Больше не значит лучш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думайте не только о себ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Защита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19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чел *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20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мин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 ч  20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бед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1 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вещание ГАК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глашение результатов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О   минимум: 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 ч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5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0 мин 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F6F9-2731-4573-BA13-35A1E970D19D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Общие затраты времен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16" name="Диаграмма 1" descr=""/>
          <p:cNvPicPr/>
          <p:nvPr/>
        </p:nvPicPr>
        <p:blipFill>
          <a:blip r:embed="rId1"/>
          <a:stretch/>
        </p:blipFill>
        <p:spPr>
          <a:xfrm>
            <a:off x="6026040" y="4508640"/>
            <a:ext cx="27590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контраста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разный размер шрифтов, разные символы, цвета. </a:t>
            </a:r>
            <a:r>
              <a:rPr b="1" lang="ru-RU" sz="1800" spc="-1" strike="noStrike">
                <a:solidFill>
                  <a:srgbClr val="89aad3"/>
                </a:solidFill>
                <a:latin typeface="Calibri"/>
              </a:rPr>
              <a:t>Контраст — привлекает внимание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повторяем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повторение некоторых элементов оформления: одинаковые рамки, цвет поля, тип шрифта.      </a:t>
            </a:r>
            <a:br>
              <a:rPr sz="1800"/>
            </a:b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здает ощущение организованности и единства стил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упорядоченн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 на слайде не хаотично, а с некоторой видимой связью между собой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близ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, связанные общим смыслом, должны быть сгруппированы вместе, образуя некоторую визуальную единицу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разумн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ограничение элементов на слайде с позиции зрительного восприяти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164-FA25-49BA-B4A2-E760E56457F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6560" y="620640"/>
            <a:ext cx="824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(не по всей длине слайда) шрифт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подписи в конце оси, числа воспринимаемые и единый стил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размер средний, объемные в график или на 2 слайда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Алгоритм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в блок-схемы, или разбить на части, показать часть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допустимые цвета - не яркие, кол-во всплывающих элементов минимальн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780-065B-49B0-9553-52A09F0D6BD7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2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26560" y="475920"/>
            <a:ext cx="8245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что </a:t>
            </a: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(аббревиатуру малоизвестную и расшифровки всем известные, маркировки, личн. местоим., самый главный …,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самый лучший …, хороший …, очень большой…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</a:t>
            </a:r>
            <a:br>
              <a:rPr sz="1300"/>
            </a:b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(не по всей длине слайда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цифры (размер видимый, № слайда)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унктуации в конце предложения не надо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шрифт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—не называть «график», подписи в конце оси, но данные и подписи не должны накладываться друг на друга и сливаться с графическими элементами, числа воспринимаемые и в едином формате, м.б. норм., размер и сетка средних размеров, не более 4 на слайд, тип графика (диаграммы) должен соответствовать типу отображаемых данных, если уменьшить размер диаграммы, то размер шрифтов должен быть увеличен так, чтобы текстовая информация читалась, фон не темный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, если несколько объемных можно обобщить в 1 разъясняющую, «разумность» с точки зрения зрительного восприятия, алгоритмы в обобщенных блок-схемах, или разбить на части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мер средний, текст на 1-2 пункта меньше, чем основной, объемные в график или на 2 слайда, но с заголовками, выделение цветом ключевых областей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выделение подчеркиванием, размером, цветом, допустимые цвета - не яркие, не более четырех сочетающихся, черный имеет негативный (мрачный) подтекст, инверсия плохо читается, текст на фоне должен быть хорошо читаем, кол-во всплывающих элементов и анимаций минимально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5774-01B0-48F8-8797-1879BD3285A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2843280" y="6381720"/>
            <a:ext cx="618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35800"/>
                </a:solidFill>
                <a:latin typeface="Calibri"/>
              </a:rPr>
              <a:t>Плохо, да?</a:t>
            </a: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8245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одпис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названий элементов слайда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(не по всей длине слайда) </a:t>
            </a:r>
            <a:br>
              <a:rPr sz="1900"/>
            </a:b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и быть обязательно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цифры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№ слайда вверху слева,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дату не приводить, текстом не писат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унктуаци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в конце предложения не над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шрифт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Arial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46342a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3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под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24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2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текст, подписи, информация в таблицах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46342a"/>
                </a:solidFill>
                <a:latin typeface="Calibri"/>
              </a:rPr>
              <a:t>1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 24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шрифт легенды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1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 20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— аббревиатуру малоизвестную и расшифровки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ем известные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маркировки, личные местоимения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амый главный …, самый лучший …, хороший …, очень большой… </a:t>
            </a:r>
            <a:br>
              <a:rPr sz="2000"/>
            </a:b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зн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что обозначает каждое слово и каждый элемент слайда!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F5D-84B3-490C-B121-CC422340A11A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екст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27:03Z</dcterms:created>
  <dc:creator>Nina</dc:creator>
  <dc:description/>
  <dc:language>en-US</dc:language>
  <cp:lastModifiedBy>Коля</cp:lastModifiedBy>
  <dcterms:modified xsi:type="dcterms:W3CDTF">2013-08-22T11:24:37Z</dcterms:modified>
  <cp:revision>110</cp:revision>
  <dc:subject/>
  <dc:title>Презентация PowerPoint</dc:title>
</cp:coreProperties>
</file>