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2FE-B8B5-4C17-A85D-9384603E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858-9AF3-4AA0-B554-CDE6DC41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4DF-0584-4C60-8979-870A65C4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7D0-4F8B-4C10-B9A3-E5B7313A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9C0-3586-4BE1-8792-39379B5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980-7B83-4C46-B19C-FB747A37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00C-8009-4F3D-BCEE-EC73864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5C9-761B-48E7-B26F-189D2D2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071-EDEC-4E87-841A-9333BBE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785-D852-4C1E-A4D4-35B0A2E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733-90EC-44BD-BFC6-50BD19B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8A5-80A9-447B-9FF4-8D399ED5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96CA-A7BE-4C0D-9205-D9EEA28C3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00040" y="45720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2-09-03T15:21:56Z</dcterms:modified>
  <cp:revision>4</cp:revision>
  <dc:subject/>
  <dc:title>Факториал</dc:title>
</cp:coreProperties>
</file>