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CAD-6EA6-4099-83A9-1ACEBAB2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B72-CAC6-48CD-8A0E-1120CFB9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DC2-7BAD-40C7-A836-A23133D2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863-97BB-4343-AD60-48187ACD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D69-EDD1-428D-BF34-1DD9F8A1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13D-B486-4B28-984C-9E62646B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F95-BB42-44EB-80EA-6BED18EF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31A-B947-42AC-896B-DF1AA20A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8E8-8994-45F5-B6EC-72F29B70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003-615C-48EF-8056-904B249F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EFF-18C6-42D9-9EFC-5FB173D6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F57-CA3F-402E-9D83-7F46472A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A1A0-2075-4C5F-824C-30C00339D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00040" y="45720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2-09-03T15:21:56Z</dcterms:modified>
  <cp:revision>4</cp:revision>
  <dc:subject/>
  <dc:title>Факториал</dc:title>
</cp:coreProperties>
</file>