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CCC-A5DC-442A-960E-1A30FE1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79D-6107-4EFC-A24B-9F6DBF6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A0B-55BD-44FE-8C24-1B7EEEF2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054-2234-49FE-8414-CED85A4F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540-37EC-4128-92D7-6F1B449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91D-89BE-43FA-A78F-09BA5D1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799-9342-4760-984D-03F34255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46A-482C-407B-9653-BDA295E2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F67-83DB-4AE9-A47C-44844628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E18-925C-44C1-83F2-91EF7A3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E52-8419-4F8E-A16F-97C49B4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E89-5DF1-490D-8C05-A9DFCF5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56B-010D-49A2-AE20-693CF6E60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0004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2-09-03T15:21:56Z</dcterms:modified>
  <cp:revision>4</cp:revision>
  <dc:subject/>
  <dc:title>Факториал</dc:title>
</cp:coreProperties>
</file>