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4D3-75F8-4096-96E9-5B7EC238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A89-A470-47B7-BB37-5298691A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8FD-B2EE-49A2-9BDC-F0E4BA44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516-0EDF-4AA6-880F-F6A20B4A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AF3F-F117-4201-99D7-81D970C1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20C6-6D27-4C6B-8B4F-0003DF87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4AD3-D52A-47FA-9CB1-4E201EDB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78A4-23C1-4037-9EAB-598CDDB1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0761-FFE2-4B09-A763-8AD3923C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1FE8-0D91-4E56-A77E-4424AB6C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64F3-1E95-43C3-BCAA-A854D49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AB7-D796-412F-BAA4-99604179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A28D-75C7-445D-B8C3-5500DA91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3269-790B-497C-8515-CE656F5E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95DB-EC49-424A-9383-EF8D228F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830A-176F-4B05-A8EA-829F732C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E3D5-CC24-4FAC-A4E4-42D0E4A4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A7F39-EB11-4889-96A6-134EAA29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3593E-CE7C-44B2-8AA4-B76AA04A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E43A7-FFDB-43F3-9B41-1E88EC5A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EB7DA-6B1B-43D6-99B2-2FDAC61B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97638-1792-40C7-A2CC-DE4B5048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B2E-BA74-48EA-BA23-B73B90A8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BD224-7AC2-47AB-A0B1-369A7B06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057B2-F7AC-4C76-B043-39F8B53D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26610-AF09-46A7-AB89-990A9121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048E3-A7C8-42F6-B376-2004F69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7B5EE-5A0D-445A-A932-C66636B2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79AF8-3440-484F-B126-7C053D77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56ABB-9C82-475E-B276-3BB0D5E8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F96D6-F320-4E67-901A-51C3ACA9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FCF32-8F99-4EFD-8F40-881283B3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23800-9EF7-479D-AA79-3271749B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865-FF65-4475-82F3-73E7CAB0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20BA5-9BDB-434A-9F0D-DFE08319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83449-C334-477C-A63E-251C4E7C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8654-48F0-439E-997A-F0F2CAD8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1616-5A8C-4121-A117-BDACE61D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85AA3-CA83-4FC9-B46B-FB0E15FF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DF3EF-1F59-41A5-BFFC-945B3B80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E4D9-55C2-4C28-812E-D684D7B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DF80C-DBC5-40AD-BE21-BD3166E6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3EF7D-7A03-4E6D-9A4F-2CB22E8F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A47-AA81-4309-933E-CCAD07A3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32B-E756-4C3A-B253-B20A346E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824-376C-4043-B618-A78C5657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381-9D11-4807-A816-33AE15C4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3DB-39DE-4BDC-ADAD-0D2E12F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AE75-BF52-4BCF-9A06-4B4F49D7438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35E9-8035-425D-8FBA-021BADC143A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286D-D60C-4548-AC66-DA68C31FB99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DDC9-4F23-4183-9D05-0C8E816926E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Скругленный прямоугольник 3"/>
          <p:cNvSpPr/>
          <p:nvPr/>
        </p:nvSpPr>
        <p:spPr>
          <a:xfrm>
            <a:off x="214200" y="1000080"/>
            <a:ext cx="8643960" cy="235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40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ГЛАВНЫЕ ВОПРОСЫ ЭКОНОМИКИ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28760" y="4214880"/>
            <a:ext cx="8472240" cy="18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 какой категории относится экономика Росси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Государство как основа российской экономи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Особенности российских предприятий и их приватизац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Скругленный прямоугольник 6"/>
          <p:cNvSpPr/>
          <p:nvPr/>
        </p:nvSpPr>
        <p:spPr>
          <a:xfrm>
            <a:off x="428760" y="1357200"/>
            <a:ext cx="8215200" cy="1643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500040" y="142884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ЭКОНОМИЧЕСКОЕ УСТРОЙСТВО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4"/>
          <p:cNvSpPr/>
          <p:nvPr/>
        </p:nvSpPr>
        <p:spPr>
          <a:xfrm>
            <a:off x="357120" y="1785960"/>
            <a:ext cx="8286840" cy="3857760"/>
          </a:xfrm>
          <a:prstGeom prst="roundRect">
            <a:avLst>
              <a:gd name="adj" fmla="val 16667"/>
            </a:avLst>
          </a:prstGeom>
          <a:solidFill>
            <a:srgbClr val="f0fc52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3"/>
          <p:cNvSpPr/>
          <p:nvPr/>
        </p:nvSpPr>
        <p:spPr>
          <a:xfrm>
            <a:off x="428760" y="714240"/>
            <a:ext cx="8215200" cy="1071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осударство как основа российской экономик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2876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обенностью российской экономики является чрезвычайно большая роль в ней государства, обусловленная многовековым ходом отечественной истории. Государство стало в отечественной хозяйственной системе не только органом управления, но и реальным собственником, а также главным покупателем. Это исказило всю структуру экономики, сориентировало ее на удовлетворение нужд преимущественно военной промышленности, а не личных потребностей граждан. Современная структура отечественной экономики делает ставку на предприяти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малого бизнес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так как крупные предприятия-монополисты давят на правительство, вынуждая его отходить от курса запланированных рефор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Группа 6"/>
          <p:cNvGrpSpPr/>
          <p:nvPr/>
        </p:nvGrpSpPr>
        <p:grpSpPr>
          <a:xfrm>
            <a:off x="214200" y="714240"/>
            <a:ext cx="6786720" cy="2869560"/>
            <a:chOff x="214200" y="714240"/>
            <a:chExt cx="6786720" cy="2869560"/>
          </a:xfrm>
        </p:grpSpPr>
        <p:grpSp>
          <p:nvGrpSpPr>
            <p:cNvPr id="282" name="Группа 5"/>
            <p:cNvGrpSpPr/>
            <p:nvPr/>
          </p:nvGrpSpPr>
          <p:grpSpPr>
            <a:xfrm>
              <a:off x="214200" y="714240"/>
              <a:ext cx="4929480" cy="642600"/>
              <a:chOff x="214200" y="714240"/>
              <a:chExt cx="4929480" cy="642600"/>
            </a:xfrm>
          </p:grpSpPr>
          <p:sp>
            <p:nvSpPr>
              <p:cNvPr id="283" name="Скругленный прямоугольник 1"/>
              <p:cNvSpPr/>
              <p:nvPr/>
            </p:nvSpPr>
            <p:spPr>
              <a:xfrm>
                <a:off x="214200" y="714240"/>
                <a:ext cx="3643560" cy="642600"/>
              </a:xfrm>
              <a:prstGeom prst="roundRect">
                <a:avLst>
                  <a:gd name="adj" fmla="val 16667"/>
                </a:avLst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2"/>
              <p:cNvSpPr/>
              <p:nvPr/>
            </p:nvSpPr>
            <p:spPr>
              <a:xfrm>
                <a:off x="214200" y="714240"/>
                <a:ext cx="3572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Georgia"/>
                  </a:rPr>
                  <a:t> 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Georgia"/>
                  </a:rPr>
                  <a:t>Приватиз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Box 3"/>
              <p:cNvSpPr/>
              <p:nvPr/>
            </p:nvSpPr>
            <p:spPr>
              <a:xfrm>
                <a:off x="3929400" y="785520"/>
                <a:ext cx="121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–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это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Box 4"/>
            <p:cNvSpPr/>
            <p:nvPr/>
          </p:nvSpPr>
          <p:spPr>
            <a:xfrm>
              <a:off x="214200" y="1356840"/>
              <a:ext cx="6786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передача бывших государственных предприятий на определенных условиях новым частным собственникам в лице граждан и негосударственных организаций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7"/>
          <p:cNvGrpSpPr/>
          <p:nvPr/>
        </p:nvGrpSpPr>
        <p:grpSpPr>
          <a:xfrm>
            <a:off x="1143000" y="3643200"/>
            <a:ext cx="7858080" cy="3616920"/>
            <a:chOff x="1143000" y="3643200"/>
            <a:chExt cx="7858080" cy="3616920"/>
          </a:xfrm>
        </p:grpSpPr>
        <p:grpSp>
          <p:nvGrpSpPr>
            <p:cNvPr id="288" name="Группа 5"/>
            <p:cNvGrpSpPr/>
            <p:nvPr/>
          </p:nvGrpSpPr>
          <p:grpSpPr>
            <a:xfrm>
              <a:off x="1143000" y="3643200"/>
              <a:ext cx="7858080" cy="663480"/>
              <a:chOff x="1143000" y="3643200"/>
              <a:chExt cx="7858080" cy="663480"/>
            </a:xfrm>
          </p:grpSpPr>
          <p:sp>
            <p:nvSpPr>
              <p:cNvPr id="289" name="Скругленный прямоугольник 10"/>
              <p:cNvSpPr/>
              <p:nvPr/>
            </p:nvSpPr>
            <p:spPr>
              <a:xfrm>
                <a:off x="1143000" y="3643200"/>
                <a:ext cx="671508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Box 2"/>
              <p:cNvSpPr/>
              <p:nvPr/>
            </p:nvSpPr>
            <p:spPr>
              <a:xfrm>
                <a:off x="1143000" y="3643200"/>
                <a:ext cx="6715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Georgia"/>
                  </a:rPr>
                  <a:t>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Georgia"/>
                  </a:rPr>
                  <a:t>Ваучер (приватизационный чек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Box 3"/>
              <p:cNvSpPr/>
              <p:nvPr/>
            </p:nvSpPr>
            <p:spPr>
              <a:xfrm>
                <a:off x="7786800" y="3786120"/>
                <a:ext cx="121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–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это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Box 9"/>
            <p:cNvSpPr/>
            <p:nvPr/>
          </p:nvSpPr>
          <p:spPr>
            <a:xfrm>
              <a:off x="2071440" y="4179960"/>
              <a:ext cx="678672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государственная ценная бумага, бесплатно выдававшаяся всем гражданам России в 1992-1993 гг. в подтверждение права стать совладельцами имущества выбранного ими государственного предприяти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Скругленный прямоугольник 4"/>
          <p:cNvSpPr/>
          <p:nvPr/>
        </p:nvSpPr>
        <p:spPr>
          <a:xfrm>
            <a:off x="1071720" y="2928960"/>
            <a:ext cx="7000560" cy="3500280"/>
          </a:xfrm>
          <a:prstGeom prst="roundRect">
            <a:avLst>
              <a:gd name="adj" fmla="val 16667"/>
            </a:avLst>
          </a:prstGeom>
          <a:solidFill>
            <a:srgbClr val="b7b7d4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"/>
          <p:cNvSpPr/>
          <p:nvPr/>
        </p:nvSpPr>
        <p:spPr>
          <a:xfrm>
            <a:off x="285840" y="857160"/>
            <a:ext cx="8572320" cy="1785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"/>
          <p:cNvSpPr/>
          <p:nvPr/>
        </p:nvSpPr>
        <p:spPr>
          <a:xfrm>
            <a:off x="571680" y="1071720"/>
            <a:ext cx="8001000" cy="135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785880" y="128592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1714680" y="3143160"/>
            <a:ext cx="56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ыразите свое мн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1571760" y="3786120"/>
            <a:ext cx="592920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сле распада СССР многие отечественные экономисты призывали спасти хотя бы «единое экономическое пространство», которое существовало прежде на территории этого государ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чему это было так важ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Скругленный прямоугольник 10"/>
          <p:cNvSpPr/>
          <p:nvPr/>
        </p:nvSpPr>
        <p:spPr>
          <a:xfrm>
            <a:off x="2643120" y="571680"/>
            <a:ext cx="5500800" cy="857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7"/>
          <p:cNvSpPr/>
          <p:nvPr/>
        </p:nvSpPr>
        <p:spPr>
          <a:xfrm>
            <a:off x="500040" y="3143160"/>
            <a:ext cx="407196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500040" y="1643040"/>
            <a:ext cx="407196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642760" y="642600"/>
            <a:ext cx="5643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 уровню экономического развития страны мира делятся на: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42960" y="1856880"/>
            <a:ext cx="385776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мышленно развит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США, Япония, Германия и другие члены ОЭСР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56800" y="3357360"/>
            <a:ext cx="3567240" cy="3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овые индустриальн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«азиатские драконы» – Тайвань, Сингапур, Юж.Корея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571680" y="4643280"/>
            <a:ext cx="407160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одержимое 3"/>
          <p:cNvSpPr/>
          <p:nvPr/>
        </p:nvSpPr>
        <p:spPr>
          <a:xfrm>
            <a:off x="714240" y="5072040"/>
            <a:ext cx="3857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вивающиеся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некоторые страны Африки, Латинской Америки, Ази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5"/>
          <p:cNvSpPr/>
          <p:nvPr/>
        </p:nvSpPr>
        <p:spPr>
          <a:xfrm flipH="1">
            <a:off x="5571720" y="1428840"/>
            <a:ext cx="1800" cy="414324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7"/>
          <p:cNvSpPr/>
          <p:nvPr/>
        </p:nvSpPr>
        <p:spPr>
          <a:xfrm>
            <a:off x="4572000" y="2286000"/>
            <a:ext cx="1000080" cy="28584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4572000" y="3821040"/>
            <a:ext cx="1000080" cy="25092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4"/>
          <p:cNvSpPr/>
          <p:nvPr/>
        </p:nvSpPr>
        <p:spPr>
          <a:xfrm>
            <a:off x="4643280" y="5322960"/>
            <a:ext cx="928800" cy="24912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Скругленный прямоугольник 4"/>
          <p:cNvSpPr/>
          <p:nvPr/>
        </p:nvSpPr>
        <p:spPr>
          <a:xfrm>
            <a:off x="500040" y="785880"/>
            <a:ext cx="5929200" cy="5713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357120" y="1643040"/>
            <a:ext cx="835812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щной, хотя и устаревшей и малоприбыльной, промышлен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громной, хотя и изношенной, транспортной сетью и обширной системой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сокоразвитой культурой и системой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ьшим числом научных и технических разрабо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дет постоянное совершенствования всех направлений развития страны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стается довольно низким уровень жизни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500040" y="785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годня Россия облад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10-конечная звезда 11"/>
          <p:cNvSpPr/>
          <p:nvPr/>
        </p:nvSpPr>
        <p:spPr>
          <a:xfrm>
            <a:off x="2214720" y="2428920"/>
            <a:ext cx="4714560" cy="1928880"/>
          </a:xfrm>
          <a:prstGeom prst="pie">
            <a:avLst/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7"/>
          <p:cNvSpPr/>
          <p:nvPr/>
        </p:nvSpPr>
        <p:spPr>
          <a:xfrm>
            <a:off x="5572080" y="1214280"/>
            <a:ext cx="328608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2786040"/>
            <a:ext cx="38577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Типы экономических систем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5929200" y="157176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ман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3"/>
          <p:cNvSpPr/>
          <p:nvPr/>
        </p:nvSpPr>
        <p:spPr>
          <a:xfrm>
            <a:off x="642960" y="1214280"/>
            <a:ext cx="328608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4"/>
          <p:cNvSpPr/>
          <p:nvPr/>
        </p:nvSpPr>
        <p:spPr>
          <a:xfrm>
            <a:off x="5429160" y="4214880"/>
            <a:ext cx="3500640" cy="1428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5"/>
          <p:cNvSpPr/>
          <p:nvPr/>
        </p:nvSpPr>
        <p:spPr>
          <a:xfrm>
            <a:off x="642960" y="4286160"/>
            <a:ext cx="328608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785880" y="15717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ади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1000080" y="4714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ын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5572080" y="4714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меш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Скругленный прямоугольник 1"/>
          <p:cNvSpPr/>
          <p:nvPr/>
        </p:nvSpPr>
        <p:spPr>
          <a:xfrm>
            <a:off x="214200" y="78588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357120" y="85716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остсоциалистические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7572240" y="9288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1714680" y="1428840"/>
            <a:ext cx="678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ывшие государства социалистического лагеря, имеющие развитую промышленность и высокий образовательный уровень населения, но лишь приступившие к созданию целостной экономической системы рыночного или смешанного ти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Скругленный прямоугольник 10"/>
          <p:cNvSpPr/>
          <p:nvPr/>
        </p:nvSpPr>
        <p:spPr>
          <a:xfrm>
            <a:off x="2643120" y="142920"/>
            <a:ext cx="5500800" cy="857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7"/>
          <p:cNvSpPr/>
          <p:nvPr/>
        </p:nvSpPr>
        <p:spPr>
          <a:xfrm>
            <a:off x="500040" y="2500200"/>
            <a:ext cx="407196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5"/>
          <p:cNvSpPr/>
          <p:nvPr/>
        </p:nvSpPr>
        <p:spPr>
          <a:xfrm>
            <a:off x="571680" y="1071720"/>
            <a:ext cx="407160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5643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 уровню экономического развития страны мира делятся на: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4240" y="1285920"/>
            <a:ext cx="38577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мышленно развит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США, Япония, Германия и другие члены ОЭСР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6800" y="2714400"/>
            <a:ext cx="3567240" cy="3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овые индустриальн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«азиатские драконы» – Тайвань, Сингапур, Юж.Корея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Овал 11"/>
          <p:cNvSpPr/>
          <p:nvPr/>
        </p:nvSpPr>
        <p:spPr>
          <a:xfrm>
            <a:off x="571680" y="3929040"/>
            <a:ext cx="407160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одержимое 3"/>
          <p:cNvSpPr/>
          <p:nvPr/>
        </p:nvSpPr>
        <p:spPr>
          <a:xfrm>
            <a:off x="714240" y="4214880"/>
            <a:ext cx="3857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вивающиеся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некоторые страны Африки, Латинской Америки, Ази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5"/>
          <p:cNvSpPr/>
          <p:nvPr/>
        </p:nvSpPr>
        <p:spPr>
          <a:xfrm flipH="1">
            <a:off x="5571720" y="1000080"/>
            <a:ext cx="1800" cy="528660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7"/>
          <p:cNvSpPr/>
          <p:nvPr/>
        </p:nvSpPr>
        <p:spPr>
          <a:xfrm>
            <a:off x="4643280" y="1785960"/>
            <a:ext cx="928800" cy="28584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1"/>
          <p:cNvSpPr/>
          <p:nvPr/>
        </p:nvSpPr>
        <p:spPr>
          <a:xfrm>
            <a:off x="4572000" y="3178080"/>
            <a:ext cx="1000080" cy="25092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24"/>
          <p:cNvSpPr/>
          <p:nvPr/>
        </p:nvSpPr>
        <p:spPr>
          <a:xfrm>
            <a:off x="4643280" y="4608360"/>
            <a:ext cx="928800" cy="24948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3"/>
          <p:cNvSpPr/>
          <p:nvPr/>
        </p:nvSpPr>
        <p:spPr>
          <a:xfrm>
            <a:off x="642960" y="5357880"/>
            <a:ext cx="407196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одержимое 3"/>
          <p:cNvSpPr/>
          <p:nvPr/>
        </p:nvSpPr>
        <p:spPr>
          <a:xfrm>
            <a:off x="785880" y="5572080"/>
            <a:ext cx="3857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стсоциалистические страны с экономикой переходн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Россия, некоторые члены СНГ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9"/>
          <p:cNvSpPr/>
          <p:nvPr/>
        </p:nvSpPr>
        <p:spPr>
          <a:xfrm>
            <a:off x="4714920" y="6072120"/>
            <a:ext cx="857160" cy="21456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428760" y="857160"/>
            <a:ext cx="8143920" cy="1071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История России ставила перед ее экономикой конкретные 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249640"/>
            <a:ext cx="8472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создание мощной военной промышленност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54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развитие всех отраслей, обеспечивающих работу военной промышленност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достижение экономической независимости, позволяющей существовать даже при враждебных отношениях с окружающими стран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5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Скругленный прямоугольник 1"/>
          <p:cNvSpPr/>
          <p:nvPr/>
        </p:nvSpPr>
        <p:spPr>
          <a:xfrm>
            <a:off x="214200" y="78588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285840" y="85716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еждународная специ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7572240" y="9288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714680" y="1428840"/>
            <a:ext cx="678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редоточение различных стран на изготовлении тех товаров и услуг, в производстве которых они имеют экономическое преимущество перед другими стра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Скругленный прямоугольник 1"/>
          <p:cNvSpPr/>
          <p:nvPr/>
        </p:nvSpPr>
        <p:spPr>
          <a:xfrm>
            <a:off x="285840" y="714240"/>
            <a:ext cx="7215120" cy="8575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285840" y="1643040"/>
            <a:ext cx="72151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имущественное развитие ВПК (на оборонные нужды работало около 80% промышленности и более 80% всех ученых и конструкторов стран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ормирование натурального хозяйства в масштабах страны, т.е. создание предприятий для изготовления всех видов товаров и усл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устриализация в сочетании с урбаниз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здание максимально крупных предприятий как средства снижения средних затрат на производ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сключение конкуренции как «ненужной» в условиях планово-командной эконом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357120" y="78588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ализация стратегии экономического развития, основными элементами которой бы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6"/>
          <p:cNvSpPr/>
          <p:nvPr/>
        </p:nvSpPr>
        <p:spPr>
          <a:xfrm>
            <a:off x="357120" y="5143680"/>
            <a:ext cx="8001000" cy="107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571680" y="5286240"/>
            <a:ext cx="76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вела к тому, что Россия завершила ХХ век с совершенно особым устройством своего хозя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0:32:17Z</dcterms:created>
  <dc:creator>Admin</dc:creator>
  <dc:description/>
  <dc:language>en-US</dc:language>
  <cp:lastModifiedBy>Admin</cp:lastModifiedBy>
  <dcterms:modified xsi:type="dcterms:W3CDTF">2011-09-04T19:55:23Z</dcterms:modified>
  <cp:revision>34</cp:revision>
  <dc:subject/>
  <dc:title>ГЛАВНЫЕ ВОПРОСЫ ЭКОНОМИКИ</dc:title>
</cp:coreProperties>
</file>