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FFB-303B-4B76-AAF3-74C90CA0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3DB-289D-40FC-8BB3-559F5BEB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495-E2D0-4348-B4CF-181B5FCD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FE2-EA36-465E-B680-72710E0F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D0D-7DF8-41A8-8177-A8F7A748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EF8D-1958-4064-B0E8-B6C6199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802B-78A6-43E8-9BF1-10580A1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30C-2668-4C83-847B-2967FAD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B4FF-68ED-400E-B628-1251014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732-4129-411E-AF2D-52FD4052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3395-4197-468F-A4A5-137E63B4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E3F-D082-4C02-9256-2D8C15CD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CAF5-820A-4941-814B-8C66AC0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601D-5DDD-4404-9C36-9309619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A709-68A7-42A4-8C0D-D585A260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BAE0-7896-4040-9EF0-C6B04262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746A-87A8-46B8-AF34-9BB86B8F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61FFA-899B-472E-A57C-2DEA20E6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78B86-B8F1-4AF3-B09C-B6B2B5E8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74E7F-B01C-40D9-8CF0-C3005DA5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DCB32-55D8-4B46-BBCA-2CDA7CFD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FBAF8-33C9-4D83-84F1-9C0AB0E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495-B485-43C8-A638-8D0F241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76159-9369-4D06-8390-A509FEF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055BD-3137-4A4B-8716-C4DC9E2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BC82F-3DA4-443D-BC7E-3D398BD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77995-73AE-4F81-9B15-16E504F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D93FC-8272-4A77-86CC-9173F89B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19415-33AD-4ED8-BC2E-C63216EB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01115-3A93-4DE9-98D9-E8D61A3D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6106-8168-4C6E-836D-475F4642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94ED7-E121-441D-AB58-B8570571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59A6-55BB-4579-B0AB-1DA43E7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4BA-D95E-41F7-8A42-CDF3098B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6BE20-1ED3-44F7-B1B8-87A7EB5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8E2B9-DD38-4CE8-B0C4-A40015D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A2D4-C21D-4A55-B16C-43E40069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299E-FC26-43B8-8B54-4017DC3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D4E4-F0A4-45F7-B8E6-F949008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3896-D824-4952-8EAA-5573F65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3FD1-F794-482E-B41F-C81E5235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CF64-A262-4EA6-80FC-66F01D7B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A46B-8BEA-4CA1-ABF3-F7B1EF12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43F-797D-4033-A7A8-A9CF7FC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43C-8C2D-433B-B3E5-8C392245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CD4-BC56-41DB-80C1-177E489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0A7-7EB2-4D5F-83F4-A7BBA44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AC7-1830-47F5-A7A8-7D4A22C2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221-1FD9-44B2-895A-3F9C3F6EBEA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9DEF-D680-42D8-9767-F4D45D5ABC9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C5DC-2547-4D0B-84BA-A1F1A92F7C8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881E-38C3-43CF-99DE-6AB48E47C70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Скругленный прямоугольник 3"/>
          <p:cNvSpPr/>
          <p:nvPr/>
        </p:nvSpPr>
        <p:spPr>
          <a:xfrm>
            <a:off x="214200" y="1000080"/>
            <a:ext cx="8643960" cy="235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ГЛАВНЫЕ ВОПРОСЫ ЭКОНОМИКИ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28760" y="4214880"/>
            <a:ext cx="847224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 какой категории относится экономика Росси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осударство как основа российской экономи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Особенности российских предприятий и их приватизац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Скругленный прямоугольник 6"/>
          <p:cNvSpPr/>
          <p:nvPr/>
        </p:nvSpPr>
        <p:spPr>
          <a:xfrm>
            <a:off x="428760" y="1357200"/>
            <a:ext cx="8215200" cy="1643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500040" y="14288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КОНОМИЧЕСКОЕ УСТРОЙСТВО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4"/>
          <p:cNvSpPr/>
          <p:nvPr/>
        </p:nvSpPr>
        <p:spPr>
          <a:xfrm>
            <a:off x="357120" y="1785960"/>
            <a:ext cx="8286840" cy="3857760"/>
          </a:xfrm>
          <a:prstGeom prst="roundRect">
            <a:avLst>
              <a:gd name="adj" fmla="val 16667"/>
            </a:avLst>
          </a:prstGeom>
          <a:solidFill>
            <a:srgbClr val="f0fc5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"/>
          <p:cNvSpPr/>
          <p:nvPr/>
        </p:nvSpPr>
        <p:spPr>
          <a:xfrm>
            <a:off x="428760" y="714240"/>
            <a:ext cx="821520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о как основа российской экономик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обенностью российской экономики является чрезвычайно большая роль в ней государства, обусловленная многовековым ходом отечественной истории. Государство стало в отечественной хозяйственной системе не только органом управления, но и реальным собственником, а также главным покупателем. Это исказило всю структуру экономики, сориентировало ее на удовлетворение нужд преимущественно военной промышленности, а не личных потребностей граждан. Современная структура отечественной экономики делает ставку на предприят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алого бизнес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так как крупные предприятия-монополисты давят на правительство, вынуждая его отходить от курса запланированных рефор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Группа 6"/>
          <p:cNvGrpSpPr/>
          <p:nvPr/>
        </p:nvGrpSpPr>
        <p:grpSpPr>
          <a:xfrm>
            <a:off x="214200" y="714240"/>
            <a:ext cx="6786720" cy="2869560"/>
            <a:chOff x="214200" y="714240"/>
            <a:chExt cx="6786720" cy="2869560"/>
          </a:xfrm>
        </p:grpSpPr>
        <p:grpSp>
          <p:nvGrpSpPr>
            <p:cNvPr id="282" name="Группа 5"/>
            <p:cNvGrpSpPr/>
            <p:nvPr/>
          </p:nvGrpSpPr>
          <p:grpSpPr>
            <a:xfrm>
              <a:off x="214200" y="714240"/>
              <a:ext cx="4929480" cy="642600"/>
              <a:chOff x="214200" y="714240"/>
              <a:chExt cx="4929480" cy="642600"/>
            </a:xfrm>
          </p:grpSpPr>
          <p:sp>
            <p:nvSpPr>
              <p:cNvPr id="283" name="Скругленный прямоугольник 1"/>
              <p:cNvSpPr/>
              <p:nvPr/>
            </p:nvSpPr>
            <p:spPr>
              <a:xfrm>
                <a:off x="214200" y="714240"/>
                <a:ext cx="3643560" cy="64260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2"/>
              <p:cNvSpPr/>
              <p:nvPr/>
            </p:nvSpPr>
            <p:spPr>
              <a:xfrm>
                <a:off x="214200" y="714240"/>
                <a:ext cx="3572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Приватиз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Box 3"/>
              <p:cNvSpPr/>
              <p:nvPr/>
            </p:nvSpPr>
            <p:spPr>
              <a:xfrm>
                <a:off x="3929400" y="785520"/>
                <a:ext cx="121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–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это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4"/>
            <p:cNvSpPr/>
            <p:nvPr/>
          </p:nvSpPr>
          <p:spPr>
            <a:xfrm>
              <a:off x="214200" y="1356840"/>
              <a:ext cx="6786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передача бывших государственных предприятий на определенных условиях новым частным собственникам в лице граждан и негосударственных организаци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7"/>
          <p:cNvGrpSpPr/>
          <p:nvPr/>
        </p:nvGrpSpPr>
        <p:grpSpPr>
          <a:xfrm>
            <a:off x="1143000" y="3643200"/>
            <a:ext cx="7858080" cy="3616920"/>
            <a:chOff x="1143000" y="3643200"/>
            <a:chExt cx="7858080" cy="3616920"/>
          </a:xfrm>
        </p:grpSpPr>
        <p:grpSp>
          <p:nvGrpSpPr>
            <p:cNvPr id="288" name="Группа 5"/>
            <p:cNvGrpSpPr/>
            <p:nvPr/>
          </p:nvGrpSpPr>
          <p:grpSpPr>
            <a:xfrm>
              <a:off x="1143000" y="3643200"/>
              <a:ext cx="7858080" cy="663480"/>
              <a:chOff x="1143000" y="3643200"/>
              <a:chExt cx="7858080" cy="663480"/>
            </a:xfrm>
          </p:grpSpPr>
          <p:sp>
            <p:nvSpPr>
              <p:cNvPr id="289" name="Скругленный прямоугольник 10"/>
              <p:cNvSpPr/>
              <p:nvPr/>
            </p:nvSpPr>
            <p:spPr>
              <a:xfrm>
                <a:off x="1143000" y="3643200"/>
                <a:ext cx="671508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2"/>
              <p:cNvSpPr/>
              <p:nvPr/>
            </p:nvSpPr>
            <p:spPr>
              <a:xfrm>
                <a:off x="1143000" y="3643200"/>
                <a:ext cx="671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Georgia"/>
                  </a:rPr>
                  <a:t>Ваучер (приватизационный чек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3"/>
              <p:cNvSpPr/>
              <p:nvPr/>
            </p:nvSpPr>
            <p:spPr>
              <a:xfrm>
                <a:off x="7786800" y="3786120"/>
                <a:ext cx="121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–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это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Box 9"/>
            <p:cNvSpPr/>
            <p:nvPr/>
          </p:nvSpPr>
          <p:spPr>
            <a:xfrm>
              <a:off x="2071440" y="4179960"/>
              <a:ext cx="67867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государственная ценная бумага, бесплатно выдававшаяся всем гражданам России в 1992-1993 гг. в подтверждение права стать совладельцами имущества выбранного ими государственного предприят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Скругленный прямоугольник 4"/>
          <p:cNvSpPr/>
          <p:nvPr/>
        </p:nvSpPr>
        <p:spPr>
          <a:xfrm>
            <a:off x="1071720" y="2928960"/>
            <a:ext cx="7000560" cy="3500280"/>
          </a:xfrm>
          <a:prstGeom prst="roundRect">
            <a:avLst>
              <a:gd name="adj" fmla="val 16667"/>
            </a:avLst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"/>
          <p:cNvSpPr/>
          <p:nvPr/>
        </p:nvSpPr>
        <p:spPr>
          <a:xfrm>
            <a:off x="285840" y="857160"/>
            <a:ext cx="8572320" cy="1785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"/>
          <p:cNvSpPr/>
          <p:nvPr/>
        </p:nvSpPr>
        <p:spPr>
          <a:xfrm>
            <a:off x="571680" y="1071720"/>
            <a:ext cx="8001000" cy="135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785880" y="128592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1714680" y="314316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разите свое 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1571760" y="3786120"/>
            <a:ext cx="59292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ле распада СССР многие отечественные экономисты призывали спасти хотя бы «единое экономическое пространство», которое существовало прежде на территории этого государ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чему это было так важ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10"/>
          <p:cNvSpPr/>
          <p:nvPr/>
        </p:nvSpPr>
        <p:spPr>
          <a:xfrm>
            <a:off x="2643120" y="571680"/>
            <a:ext cx="5500800" cy="85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7"/>
          <p:cNvSpPr/>
          <p:nvPr/>
        </p:nvSpPr>
        <p:spPr>
          <a:xfrm>
            <a:off x="500040" y="3143160"/>
            <a:ext cx="407196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500040" y="1643040"/>
            <a:ext cx="407196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42760" y="642600"/>
            <a:ext cx="5643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уровню экономического развития страны мира делятся на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42960" y="1856880"/>
            <a:ext cx="385776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мышленно развит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США, Япония, Германия и другие члены ОЭСР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56800" y="3357360"/>
            <a:ext cx="356724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овые индустриальн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«азиатские драконы» – Тайвань, Сингапур, Юж.Корея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571680" y="4643280"/>
            <a:ext cx="407160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3"/>
          <p:cNvSpPr/>
          <p:nvPr/>
        </p:nvSpPr>
        <p:spPr>
          <a:xfrm>
            <a:off x="714240" y="5072040"/>
            <a:ext cx="3857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ющиеся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которые страны Африки, Латинской Америки, Аз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5"/>
          <p:cNvSpPr/>
          <p:nvPr/>
        </p:nvSpPr>
        <p:spPr>
          <a:xfrm flipH="1">
            <a:off x="5571720" y="1428840"/>
            <a:ext cx="1800" cy="41432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7"/>
          <p:cNvSpPr/>
          <p:nvPr/>
        </p:nvSpPr>
        <p:spPr>
          <a:xfrm>
            <a:off x="4572000" y="2286000"/>
            <a:ext cx="1000080" cy="2858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4572000" y="3821040"/>
            <a:ext cx="1000080" cy="2509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4"/>
          <p:cNvSpPr/>
          <p:nvPr/>
        </p:nvSpPr>
        <p:spPr>
          <a:xfrm>
            <a:off x="4643280" y="5322960"/>
            <a:ext cx="928800" cy="2491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4"/>
          <p:cNvSpPr/>
          <p:nvPr/>
        </p:nvSpPr>
        <p:spPr>
          <a:xfrm>
            <a:off x="500040" y="785880"/>
            <a:ext cx="5929200" cy="571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57120" y="1643040"/>
            <a:ext cx="83581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щной, хотя и устаревшей и малоприбыльной, промышлен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громной, хотя и изношенной, транспортной сетью и обширной системой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окоразвитой культурой и системой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ьшим числом научных и технических разраб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дет постоянное совершенствования всех направлений развития страны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тается довольно низким уровень жизни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500040" y="785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годня Россия облад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10-конечная звезда 11"/>
          <p:cNvSpPr/>
          <p:nvPr/>
        </p:nvSpPr>
        <p:spPr>
          <a:xfrm>
            <a:off x="2214720" y="2428920"/>
            <a:ext cx="4714560" cy="1928880"/>
          </a:xfrm>
          <a:prstGeom prst="pie">
            <a:avLst/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7"/>
          <p:cNvSpPr/>
          <p:nvPr/>
        </p:nvSpPr>
        <p:spPr>
          <a:xfrm>
            <a:off x="5572080" y="121428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2786040"/>
            <a:ext cx="38577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ипы экономических систем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5929200" y="15717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ман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3"/>
          <p:cNvSpPr/>
          <p:nvPr/>
        </p:nvSpPr>
        <p:spPr>
          <a:xfrm>
            <a:off x="642960" y="121428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4"/>
          <p:cNvSpPr/>
          <p:nvPr/>
        </p:nvSpPr>
        <p:spPr>
          <a:xfrm>
            <a:off x="5429160" y="4214880"/>
            <a:ext cx="3500640" cy="1428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5"/>
          <p:cNvSpPr/>
          <p:nvPr/>
        </p:nvSpPr>
        <p:spPr>
          <a:xfrm>
            <a:off x="642960" y="428616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785880" y="15717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ади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000080" y="471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ын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5572080" y="4714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кругленный прямоугольник 1"/>
          <p:cNvSpPr/>
          <p:nvPr/>
        </p:nvSpPr>
        <p:spPr>
          <a:xfrm>
            <a:off x="214200" y="78588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357120" y="85716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стсоциалистические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7572240" y="9288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1714680" y="1428840"/>
            <a:ext cx="678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ывшие государства социалистического лагеря, имеющие развитую промышленность и высокий образовательный уровень населения, но лишь приступившие к созданию целостной экономической системы рыночного или смешанного ти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Скругленный прямоугольник 10"/>
          <p:cNvSpPr/>
          <p:nvPr/>
        </p:nvSpPr>
        <p:spPr>
          <a:xfrm>
            <a:off x="2643120" y="142920"/>
            <a:ext cx="5500800" cy="85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7"/>
          <p:cNvSpPr/>
          <p:nvPr/>
        </p:nvSpPr>
        <p:spPr>
          <a:xfrm>
            <a:off x="500040" y="2500200"/>
            <a:ext cx="407196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5"/>
          <p:cNvSpPr/>
          <p:nvPr/>
        </p:nvSpPr>
        <p:spPr>
          <a:xfrm>
            <a:off x="571680" y="1071720"/>
            <a:ext cx="407160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5643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уровню экономического развития страны мира делятся на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4240" y="1285920"/>
            <a:ext cx="3857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мышленно развит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США, Япония, Германия и другие члены ОЭСР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6800" y="2714400"/>
            <a:ext cx="356724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овые индустриальн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«азиатские драконы» – Тайвань, Сингапур, Юж.Корея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Овал 11"/>
          <p:cNvSpPr/>
          <p:nvPr/>
        </p:nvSpPr>
        <p:spPr>
          <a:xfrm>
            <a:off x="571680" y="3929040"/>
            <a:ext cx="407160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3"/>
          <p:cNvSpPr/>
          <p:nvPr/>
        </p:nvSpPr>
        <p:spPr>
          <a:xfrm>
            <a:off x="714240" y="4214880"/>
            <a:ext cx="3857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ющиеся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которые страны Африки, Латинской Америки, Аз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5"/>
          <p:cNvSpPr/>
          <p:nvPr/>
        </p:nvSpPr>
        <p:spPr>
          <a:xfrm flipH="1">
            <a:off x="5571720" y="1000080"/>
            <a:ext cx="1800" cy="528660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7"/>
          <p:cNvSpPr/>
          <p:nvPr/>
        </p:nvSpPr>
        <p:spPr>
          <a:xfrm>
            <a:off x="4643280" y="1785960"/>
            <a:ext cx="928800" cy="2858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1"/>
          <p:cNvSpPr/>
          <p:nvPr/>
        </p:nvSpPr>
        <p:spPr>
          <a:xfrm>
            <a:off x="4572000" y="3178080"/>
            <a:ext cx="1000080" cy="2509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4"/>
          <p:cNvSpPr/>
          <p:nvPr/>
        </p:nvSpPr>
        <p:spPr>
          <a:xfrm>
            <a:off x="4643280" y="4608360"/>
            <a:ext cx="928800" cy="24948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3"/>
          <p:cNvSpPr/>
          <p:nvPr/>
        </p:nvSpPr>
        <p:spPr>
          <a:xfrm>
            <a:off x="642960" y="5357880"/>
            <a:ext cx="407196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одержимое 3"/>
          <p:cNvSpPr/>
          <p:nvPr/>
        </p:nvSpPr>
        <p:spPr>
          <a:xfrm>
            <a:off x="785880" y="5572080"/>
            <a:ext cx="3857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тсоциалистические страны с экономикой переход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Россия, некоторые члены СНГ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9"/>
          <p:cNvSpPr/>
          <p:nvPr/>
        </p:nvSpPr>
        <p:spPr>
          <a:xfrm>
            <a:off x="4714920" y="6072120"/>
            <a:ext cx="857160" cy="21456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428760" y="857160"/>
            <a:ext cx="814392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История России ставила перед ее экономикой конкретные 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создание мощной военной промышлен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развитие всех отраслей, обеспечивающих работу военной промышлен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достижение экономической независимости, позволяющей существовать даже при враждебных отношениях с окружающими стра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Скругленный прямоугольник 1"/>
          <p:cNvSpPr/>
          <p:nvPr/>
        </p:nvSpPr>
        <p:spPr>
          <a:xfrm>
            <a:off x="214200" y="78588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85840" y="8571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еждународная специ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7572240" y="9288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714680" y="1428840"/>
            <a:ext cx="67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редоточение различных стран на изготовлении тех товаров и услуг, в производстве которых они имеют экономическое преимущество перед другими стр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"/>
          <p:cNvSpPr/>
          <p:nvPr/>
        </p:nvSpPr>
        <p:spPr>
          <a:xfrm>
            <a:off x="285840" y="714240"/>
            <a:ext cx="7215120" cy="857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85840" y="1643040"/>
            <a:ext cx="72151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имущественное развитие ВПК (на оборонные нужды работало около 80% промышленности и более 80% всех ученых и конструкторов стра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натурального хозяйства в масштабах страны, т.е. создание предприятий для изготовления всех видов товаров и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устриализация в сочетании с урбаниз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максимально крупных предприятий как средства снижения средних затрат на производ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ключение конкуренции как «ненужной» в условиях планово-командной эконом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357120" y="78588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ализация стратегии экономического развития, основными элементами которой бы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"/>
          <p:cNvSpPr/>
          <p:nvPr/>
        </p:nvSpPr>
        <p:spPr>
          <a:xfrm>
            <a:off x="357120" y="5143680"/>
            <a:ext cx="8001000" cy="107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71680" y="528624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вела к тому, что Россия завершила ХХ век с совершенно особым устройством своего 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32:17Z</dcterms:created>
  <dc:creator>Admin</dc:creator>
  <dc:description/>
  <dc:language>en-US</dc:language>
  <cp:lastModifiedBy>Admin</cp:lastModifiedBy>
  <dcterms:modified xsi:type="dcterms:W3CDTF">2011-09-04T19:55:23Z</dcterms:modified>
  <cp:revision>34</cp:revision>
  <dc:subject/>
  <dc:title>ГЛАВНЫЕ ВОПРОСЫ ЭКОНОМИКИ</dc:title>
</cp:coreProperties>
</file>