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78C5-7A75-4EAF-AB5D-7F2147E4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A6BE-3F0E-4AD9-81AC-B2A4CC2A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56E8-D284-4A58-9571-A8837B0D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8BB2-5962-47AA-8D33-6BCACFC7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8D64-D5DA-4AE3-8374-AF450362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6DA7-201B-4133-B3B7-BC4B4379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A901-B5CF-4039-8E1F-8FF89088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51FE-E94D-4C6B-B63D-71B54F89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4A39-5130-42B7-BC20-BC093874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6F8B-9EA1-445F-94BF-EAB428D5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167D-236B-4433-AC07-E3FA3EF5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46F2-C920-45E8-BB40-B3673630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4A2C-65F4-4267-A7BA-B3C6D355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FDD7-9F79-4F57-9C22-367B6531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30D4-D8B8-448A-B4FB-394AC413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8F3B-C972-44B2-8E15-F7A23BD8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7F16-884F-4D5E-9A0C-861C6A44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106593-88C4-46E5-8804-DDF9BE77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6DD681-BF61-4A07-A732-9391290E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42A205-0F2B-4D48-917C-3CC02EE4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44620F-FDE3-491B-8C3D-DBAC8BFA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47F9B-7A45-4526-A2F2-1F2FB46C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A8FE-07D7-4975-A0E4-9510A2CC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AC7F5E-B11E-4D20-A169-9471D10C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F0772B-BAB2-4EAA-83A8-69F707D4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40F01A-FB98-433A-BF3D-F4D3BAAF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5FD141-46B5-4E1F-89B1-0624E9B1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F79981-A005-4654-BF66-12BB8F57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7CD8C-074C-4BE6-B80C-8FDF5384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AF542-F4F4-4BF5-BE00-F4952D9C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09ADD-5283-4507-90F9-28FFFCD3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18866-53B1-4461-A724-BC3CCC6A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7D8E6-B85D-409D-BEFF-10F6A735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B668-567D-4630-B186-7A22D5F5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3BC1F-9706-45FF-976B-EA331A8F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505B1-DA65-4B16-9634-1D9F2773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043C7-C3A4-49B7-90E2-96374E34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73778-DB8E-48B3-ABE2-6D1B42AD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9AC25-F8FC-4CE6-A42C-D353BA2F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3215F-C858-40A7-B9F0-5387624C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E81BA-01C2-47A2-91A3-EE30B2BC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EA697-C843-4FFD-A63B-89E805C0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1C68D-BED1-4EC8-8B26-CE84F81C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08D5-3091-4EC1-B4CE-11DDC2D5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18DF-7404-438A-B294-CFB659EE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B490-E8D0-4AD8-9081-8090B2CA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BCFA-2B8C-4EC5-83DA-0661F70D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3C4A-02B5-467F-8142-20A14877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8E7D-8B39-4A31-94D8-F367FDA69FF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9A69-5A1A-4D9F-AC5B-A0FED2E59D23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ECE8-B515-42CE-A8D3-ACE331F12851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D1B4-7ACB-4E08-8C11-8BD3CF6D6C7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Скругленный прямоугольник 3"/>
          <p:cNvSpPr/>
          <p:nvPr/>
        </p:nvSpPr>
        <p:spPr>
          <a:xfrm>
            <a:off x="214200" y="1000080"/>
            <a:ext cx="8643960" cy="2357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400" y="150012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ГЛАВНЫЕ ВОПРОСЫ ЭКОНОМИКИ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28760" y="4214880"/>
            <a:ext cx="8472240" cy="18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  </a:t>
            </a: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К какой категории относится экономика России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  </a:t>
            </a: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Государство как основа российской экономи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  </a:t>
            </a: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Особенности российских предприятий и их приватизац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Скругленный прямоугольник 6"/>
          <p:cNvSpPr/>
          <p:nvPr/>
        </p:nvSpPr>
        <p:spPr>
          <a:xfrm>
            <a:off x="428760" y="1357200"/>
            <a:ext cx="8215200" cy="16430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7"/>
          <p:cNvSpPr/>
          <p:nvPr/>
        </p:nvSpPr>
        <p:spPr>
          <a:xfrm>
            <a:off x="500040" y="142884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ЭКОНОМИЧЕСКОЕ УСТРОЙСТВО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Скругленный прямоугольник 4"/>
          <p:cNvSpPr/>
          <p:nvPr/>
        </p:nvSpPr>
        <p:spPr>
          <a:xfrm>
            <a:off x="357120" y="1785960"/>
            <a:ext cx="8286840" cy="3857760"/>
          </a:xfrm>
          <a:prstGeom prst="roundRect">
            <a:avLst>
              <a:gd name="adj" fmla="val 16667"/>
            </a:avLst>
          </a:prstGeom>
          <a:solidFill>
            <a:srgbClr val="f0fc52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ый прямоугольник 3"/>
          <p:cNvSpPr/>
          <p:nvPr/>
        </p:nvSpPr>
        <p:spPr>
          <a:xfrm>
            <a:off x="428760" y="714240"/>
            <a:ext cx="8215200" cy="1071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Государство как основа российской экономики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28760" y="17859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собенностью российской экономики является чрезвычайно большая роль в ней государства, обусловленная многовековым ходом отечественной истории. Государство стало в отечественной хозяйственной системе не только органом управления, но и реальным собственником, а также главным покупателем. Это исказило всю структуру экономики, сориентировало ее на удовлетворение нужд преимущественно военной промышленности, а не личных потребностей граждан. Современная структура отечественной экономики делает ставку на предприяти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малого бизнес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, так как крупные предприятия-монополисты давят на правительство, вынуждая его отходить от курса запланированных рефор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Группа 6"/>
          <p:cNvGrpSpPr/>
          <p:nvPr/>
        </p:nvGrpSpPr>
        <p:grpSpPr>
          <a:xfrm>
            <a:off x="214200" y="714240"/>
            <a:ext cx="6786720" cy="2869560"/>
            <a:chOff x="214200" y="714240"/>
            <a:chExt cx="6786720" cy="2869560"/>
          </a:xfrm>
        </p:grpSpPr>
        <p:grpSp>
          <p:nvGrpSpPr>
            <p:cNvPr id="282" name="Группа 5"/>
            <p:cNvGrpSpPr/>
            <p:nvPr/>
          </p:nvGrpSpPr>
          <p:grpSpPr>
            <a:xfrm>
              <a:off x="214200" y="714240"/>
              <a:ext cx="4929480" cy="642600"/>
              <a:chOff x="214200" y="714240"/>
              <a:chExt cx="4929480" cy="642600"/>
            </a:xfrm>
          </p:grpSpPr>
          <p:sp>
            <p:nvSpPr>
              <p:cNvPr id="283" name="Скругленный прямоугольник 1"/>
              <p:cNvSpPr/>
              <p:nvPr/>
            </p:nvSpPr>
            <p:spPr>
              <a:xfrm>
                <a:off x="214200" y="714240"/>
                <a:ext cx="3643560" cy="642600"/>
              </a:xfrm>
              <a:prstGeom prst="roundRect">
                <a:avLst>
                  <a:gd name="adj" fmla="val 16667"/>
                </a:avLst>
              </a:prstGeom>
              <a:solidFill>
                <a:srgbClr val="92d05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Box 2"/>
              <p:cNvSpPr/>
              <p:nvPr/>
            </p:nvSpPr>
            <p:spPr>
              <a:xfrm>
                <a:off x="214200" y="714240"/>
                <a:ext cx="3572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Georgia"/>
                  </a:rPr>
                  <a:t> </a:t>
                </a:r>
                <a:r>
                  <a:rPr b="1" lang="ru-RU" sz="3200" spc="-1" strike="noStrike">
                    <a:solidFill>
                      <a:srgbClr val="000000"/>
                    </a:solidFill>
                    <a:latin typeface="Georgia"/>
                  </a:rPr>
                  <a:t>Приватизаци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Box 3"/>
              <p:cNvSpPr/>
              <p:nvPr/>
            </p:nvSpPr>
            <p:spPr>
              <a:xfrm>
                <a:off x="3929400" y="785520"/>
                <a:ext cx="121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Georgia"/>
                  </a:rPr>
                  <a:t>– 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Georgia"/>
                  </a:rPr>
                  <a:t>это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TextBox 4"/>
            <p:cNvSpPr/>
            <p:nvPr/>
          </p:nvSpPr>
          <p:spPr>
            <a:xfrm>
              <a:off x="214200" y="1356840"/>
              <a:ext cx="6786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передача бывших государственных предприятий на определенных условиях новым частным собственникам в лице граждан и негосударственных организаций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Группа 7"/>
          <p:cNvGrpSpPr/>
          <p:nvPr/>
        </p:nvGrpSpPr>
        <p:grpSpPr>
          <a:xfrm>
            <a:off x="1143000" y="3643200"/>
            <a:ext cx="7858080" cy="3616920"/>
            <a:chOff x="1143000" y="3643200"/>
            <a:chExt cx="7858080" cy="3616920"/>
          </a:xfrm>
        </p:grpSpPr>
        <p:grpSp>
          <p:nvGrpSpPr>
            <p:cNvPr id="288" name="Группа 5"/>
            <p:cNvGrpSpPr/>
            <p:nvPr/>
          </p:nvGrpSpPr>
          <p:grpSpPr>
            <a:xfrm>
              <a:off x="1143000" y="3643200"/>
              <a:ext cx="7858080" cy="663480"/>
              <a:chOff x="1143000" y="3643200"/>
              <a:chExt cx="7858080" cy="663480"/>
            </a:xfrm>
          </p:grpSpPr>
          <p:sp>
            <p:nvSpPr>
              <p:cNvPr id="289" name="Скругленный прямоугольник 10"/>
              <p:cNvSpPr/>
              <p:nvPr/>
            </p:nvSpPr>
            <p:spPr>
              <a:xfrm>
                <a:off x="1143000" y="3643200"/>
                <a:ext cx="6715080" cy="6429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Box 2"/>
              <p:cNvSpPr/>
              <p:nvPr/>
            </p:nvSpPr>
            <p:spPr>
              <a:xfrm>
                <a:off x="1143000" y="3643200"/>
                <a:ext cx="6715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Georgia"/>
                  </a:rPr>
                  <a:t> </a:t>
                </a:r>
                <a:r>
                  <a:rPr b="1" lang="ru-RU" sz="2800" spc="-1" strike="noStrike">
                    <a:solidFill>
                      <a:srgbClr val="000000"/>
                    </a:solidFill>
                    <a:latin typeface="Georgia"/>
                  </a:rPr>
                  <a:t>Ваучер (приватизационный чек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Box 3"/>
              <p:cNvSpPr/>
              <p:nvPr/>
            </p:nvSpPr>
            <p:spPr>
              <a:xfrm>
                <a:off x="7786800" y="3786120"/>
                <a:ext cx="121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Georgia"/>
                  </a:rPr>
                  <a:t>– 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Georgia"/>
                  </a:rPr>
                  <a:t>это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TextBox 9"/>
            <p:cNvSpPr/>
            <p:nvPr/>
          </p:nvSpPr>
          <p:spPr>
            <a:xfrm>
              <a:off x="2071440" y="4179960"/>
              <a:ext cx="678672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государственная ценная бумага, бесплатно выдававшаяся всем гражданам России в 1992-1993 гг. в подтверждение права стать совладельцами имущества выбранного ими государственного предприятия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Скругленный прямоугольник 4"/>
          <p:cNvSpPr/>
          <p:nvPr/>
        </p:nvSpPr>
        <p:spPr>
          <a:xfrm>
            <a:off x="1071720" y="2928960"/>
            <a:ext cx="7000560" cy="3500280"/>
          </a:xfrm>
          <a:prstGeom prst="roundRect">
            <a:avLst>
              <a:gd name="adj" fmla="val 16667"/>
            </a:avLst>
          </a:prstGeom>
          <a:solidFill>
            <a:srgbClr val="b7b7d4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1"/>
          <p:cNvSpPr/>
          <p:nvPr/>
        </p:nvSpPr>
        <p:spPr>
          <a:xfrm>
            <a:off x="285840" y="857160"/>
            <a:ext cx="8572320" cy="1785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2"/>
          <p:cNvSpPr/>
          <p:nvPr/>
        </p:nvSpPr>
        <p:spPr>
          <a:xfrm>
            <a:off x="571680" y="1071720"/>
            <a:ext cx="8001000" cy="135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"/>
          <p:cNvSpPr/>
          <p:nvPr/>
        </p:nvSpPr>
        <p:spPr>
          <a:xfrm>
            <a:off x="785880" y="1285920"/>
            <a:ext cx="764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1714680" y="3143160"/>
            <a:ext cx="564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Выразите свое мн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7"/>
          <p:cNvSpPr/>
          <p:nvPr/>
        </p:nvSpPr>
        <p:spPr>
          <a:xfrm>
            <a:off x="1571760" y="3786120"/>
            <a:ext cx="5929200" cy="25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сле распада СССР многие отечественные экономисты призывали спасти хотя бы «единое экономическое пространство», которое существовало прежде на территории этого государст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чему это было так важно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Скругленный прямоугольник 10"/>
          <p:cNvSpPr/>
          <p:nvPr/>
        </p:nvSpPr>
        <p:spPr>
          <a:xfrm>
            <a:off x="2643120" y="571680"/>
            <a:ext cx="5500800" cy="8571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7"/>
          <p:cNvSpPr/>
          <p:nvPr/>
        </p:nvSpPr>
        <p:spPr>
          <a:xfrm>
            <a:off x="500040" y="3143160"/>
            <a:ext cx="4071960" cy="13575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5"/>
          <p:cNvSpPr/>
          <p:nvPr/>
        </p:nvSpPr>
        <p:spPr>
          <a:xfrm>
            <a:off x="500040" y="1643040"/>
            <a:ext cx="4071960" cy="13572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642760" y="642600"/>
            <a:ext cx="5643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о уровню экономического развития страны мира делятся на: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42960" y="1856880"/>
            <a:ext cx="3857760" cy="10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68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мышленно развитые стран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77840" indent="-68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(США, Япония, Германия и другие члены ОЭСР)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56800" y="3357360"/>
            <a:ext cx="3567240" cy="39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овые индустриальные стран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(«азиатские драконы» – Тайвань, Сингапур, Юж.Корея)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571680" y="4643280"/>
            <a:ext cx="4071600" cy="13575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одержимое 3"/>
          <p:cNvSpPr/>
          <p:nvPr/>
        </p:nvSpPr>
        <p:spPr>
          <a:xfrm>
            <a:off x="714240" y="5072040"/>
            <a:ext cx="38577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68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азвивающиеся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68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(некоторые страны Африки, Латинской Америки, Азии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15"/>
          <p:cNvSpPr/>
          <p:nvPr/>
        </p:nvSpPr>
        <p:spPr>
          <a:xfrm flipH="1">
            <a:off x="5571720" y="1428840"/>
            <a:ext cx="1800" cy="4143240"/>
          </a:xfrm>
          <a:prstGeom prst="line">
            <a:avLst/>
          </a:prstGeom>
          <a:ln w="7632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17"/>
          <p:cNvSpPr/>
          <p:nvPr/>
        </p:nvSpPr>
        <p:spPr>
          <a:xfrm>
            <a:off x="4572000" y="2286000"/>
            <a:ext cx="1000080" cy="285840"/>
          </a:xfrm>
          <a:prstGeom prst="line">
            <a:avLst/>
          </a:prstGeom>
          <a:ln w="7632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21"/>
          <p:cNvSpPr/>
          <p:nvPr/>
        </p:nvSpPr>
        <p:spPr>
          <a:xfrm>
            <a:off x="4572000" y="3821040"/>
            <a:ext cx="1000080" cy="250920"/>
          </a:xfrm>
          <a:prstGeom prst="line">
            <a:avLst/>
          </a:prstGeom>
          <a:ln w="7632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24"/>
          <p:cNvSpPr/>
          <p:nvPr/>
        </p:nvSpPr>
        <p:spPr>
          <a:xfrm>
            <a:off x="4643280" y="5322960"/>
            <a:ext cx="928800" cy="249120"/>
          </a:xfrm>
          <a:prstGeom prst="line">
            <a:avLst/>
          </a:prstGeom>
          <a:ln w="7632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Скругленный прямоугольник 4"/>
          <p:cNvSpPr/>
          <p:nvPr/>
        </p:nvSpPr>
        <p:spPr>
          <a:xfrm>
            <a:off x="500040" y="785880"/>
            <a:ext cx="5929200" cy="5713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357120" y="1643040"/>
            <a:ext cx="835812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ощной, хотя и устаревшей и малоприбыльной, промышленност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громной, хотя и изношенной, транспортной сетью и обширной системой связ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сокоразвитой культурой и системой обще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ольшим числом научных и технических разрабо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дет постоянное совершенствования всех направлений развития страны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стается довольно низким уровень жизни нас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500040" y="7858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егодня Россия облад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10-конечная звезда 11"/>
          <p:cNvSpPr/>
          <p:nvPr/>
        </p:nvSpPr>
        <p:spPr>
          <a:xfrm>
            <a:off x="2214720" y="2428920"/>
            <a:ext cx="4714560" cy="1928880"/>
          </a:xfrm>
          <a:prstGeom prst="pie">
            <a:avLst/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вал 7"/>
          <p:cNvSpPr/>
          <p:nvPr/>
        </p:nvSpPr>
        <p:spPr>
          <a:xfrm>
            <a:off x="5572080" y="1214280"/>
            <a:ext cx="3286080" cy="13575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643120" y="2786040"/>
            <a:ext cx="38577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Типы экономических систем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TextBox 12"/>
          <p:cNvSpPr/>
          <p:nvPr/>
        </p:nvSpPr>
        <p:spPr>
          <a:xfrm>
            <a:off x="5929200" y="157176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оман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13"/>
          <p:cNvSpPr/>
          <p:nvPr/>
        </p:nvSpPr>
        <p:spPr>
          <a:xfrm>
            <a:off x="642960" y="1214280"/>
            <a:ext cx="3286080" cy="13575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14"/>
          <p:cNvSpPr/>
          <p:nvPr/>
        </p:nvSpPr>
        <p:spPr>
          <a:xfrm>
            <a:off x="5429160" y="4214880"/>
            <a:ext cx="3500640" cy="14288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15"/>
          <p:cNvSpPr/>
          <p:nvPr/>
        </p:nvSpPr>
        <p:spPr>
          <a:xfrm>
            <a:off x="642960" y="4286160"/>
            <a:ext cx="3286080" cy="13575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6"/>
          <p:cNvSpPr/>
          <p:nvPr/>
        </p:nvSpPr>
        <p:spPr>
          <a:xfrm>
            <a:off x="785880" y="157176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традицио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7"/>
          <p:cNvSpPr/>
          <p:nvPr/>
        </p:nvSpPr>
        <p:spPr>
          <a:xfrm>
            <a:off x="1000080" y="47149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ын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8"/>
          <p:cNvSpPr/>
          <p:nvPr/>
        </p:nvSpPr>
        <p:spPr>
          <a:xfrm>
            <a:off x="5572080" y="4714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меш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Скругленный прямоугольник 1"/>
          <p:cNvSpPr/>
          <p:nvPr/>
        </p:nvSpPr>
        <p:spPr>
          <a:xfrm>
            <a:off x="214200" y="785880"/>
            <a:ext cx="7358040" cy="6429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357120" y="85716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остсоциалистические ст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7572240" y="92880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1714680" y="1428840"/>
            <a:ext cx="678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ывшие государства социалистического лагеря, имеющие развитую промышленность и высокий образовательный уровень населения, но лишь приступившие к созданию целостной экономической системы рыночного или смешанного ти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Скругленный прямоугольник 10"/>
          <p:cNvSpPr/>
          <p:nvPr/>
        </p:nvSpPr>
        <p:spPr>
          <a:xfrm>
            <a:off x="2643120" y="142920"/>
            <a:ext cx="5500800" cy="8571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Овал 7"/>
          <p:cNvSpPr/>
          <p:nvPr/>
        </p:nvSpPr>
        <p:spPr>
          <a:xfrm>
            <a:off x="500040" y="2500200"/>
            <a:ext cx="4071960" cy="13575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Овал 5"/>
          <p:cNvSpPr/>
          <p:nvPr/>
        </p:nvSpPr>
        <p:spPr>
          <a:xfrm>
            <a:off x="571680" y="1071720"/>
            <a:ext cx="4071600" cy="13572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642760" y="213840"/>
            <a:ext cx="5643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о уровню экономического развития страны мира делятся на: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14240" y="1285920"/>
            <a:ext cx="38577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68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мышленно развитые стран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77840" indent="-68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(США, Япония, Германия и другие члены ОЭСР)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56800" y="2714400"/>
            <a:ext cx="3567240" cy="39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овые индустриальные стран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(«азиатские драконы» – Тайвань, Сингапур, Юж.Корея)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Овал 11"/>
          <p:cNvSpPr/>
          <p:nvPr/>
        </p:nvSpPr>
        <p:spPr>
          <a:xfrm>
            <a:off x="571680" y="3929040"/>
            <a:ext cx="4071600" cy="13572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одержимое 3"/>
          <p:cNvSpPr/>
          <p:nvPr/>
        </p:nvSpPr>
        <p:spPr>
          <a:xfrm>
            <a:off x="714240" y="4214880"/>
            <a:ext cx="38577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68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азвивающиеся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68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(некоторые страны Африки, Латинской Америки, Азии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5"/>
          <p:cNvSpPr/>
          <p:nvPr/>
        </p:nvSpPr>
        <p:spPr>
          <a:xfrm flipH="1">
            <a:off x="5571720" y="1000080"/>
            <a:ext cx="1800" cy="5286600"/>
          </a:xfrm>
          <a:prstGeom prst="line">
            <a:avLst/>
          </a:prstGeom>
          <a:ln w="7632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17"/>
          <p:cNvSpPr/>
          <p:nvPr/>
        </p:nvSpPr>
        <p:spPr>
          <a:xfrm>
            <a:off x="4643280" y="1785960"/>
            <a:ext cx="928800" cy="285840"/>
          </a:xfrm>
          <a:prstGeom prst="line">
            <a:avLst/>
          </a:prstGeom>
          <a:ln w="7632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1"/>
          <p:cNvSpPr/>
          <p:nvPr/>
        </p:nvSpPr>
        <p:spPr>
          <a:xfrm>
            <a:off x="4572000" y="3178080"/>
            <a:ext cx="1000080" cy="250920"/>
          </a:xfrm>
          <a:prstGeom prst="line">
            <a:avLst/>
          </a:prstGeom>
          <a:ln w="7632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24"/>
          <p:cNvSpPr/>
          <p:nvPr/>
        </p:nvSpPr>
        <p:spPr>
          <a:xfrm>
            <a:off x="4643280" y="4608360"/>
            <a:ext cx="928800" cy="249480"/>
          </a:xfrm>
          <a:prstGeom prst="line">
            <a:avLst/>
          </a:prstGeom>
          <a:ln w="7632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13"/>
          <p:cNvSpPr/>
          <p:nvPr/>
        </p:nvSpPr>
        <p:spPr>
          <a:xfrm>
            <a:off x="642960" y="5357880"/>
            <a:ext cx="4071960" cy="13572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одержимое 3"/>
          <p:cNvSpPr/>
          <p:nvPr/>
        </p:nvSpPr>
        <p:spPr>
          <a:xfrm>
            <a:off x="785880" y="5572080"/>
            <a:ext cx="3857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68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стсоциалистические страны с экономикой переходного т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68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(Россия, некоторые члены СНГ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ая соединительная линия 19"/>
          <p:cNvSpPr/>
          <p:nvPr/>
        </p:nvSpPr>
        <p:spPr>
          <a:xfrm>
            <a:off x="4714920" y="6072120"/>
            <a:ext cx="857160" cy="214560"/>
          </a:xfrm>
          <a:prstGeom prst="line">
            <a:avLst/>
          </a:prstGeom>
          <a:ln w="7632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428760" y="857160"/>
            <a:ext cx="8143920" cy="1071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История России ставила перед ее экономикой конкретные задачи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2249640"/>
            <a:ext cx="8472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) создание мощной военной промышленност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954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) развитие всех отраслей, обеспечивающих работу военной промышленност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) достижение экономической независимости, позволяющей существовать даже при враждебных отношениях с окружающими страна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95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Скругленный прямоугольник 1"/>
          <p:cNvSpPr/>
          <p:nvPr/>
        </p:nvSpPr>
        <p:spPr>
          <a:xfrm>
            <a:off x="214200" y="785880"/>
            <a:ext cx="7358040" cy="6429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285840" y="85716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Международная специ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7572240" y="92880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1714680" y="1428840"/>
            <a:ext cx="678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средоточение различных стран на изготовлении тех товаров и услуг, в производстве которых они имеют экономическое преимущество перед другими стра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Скругленный прямоугольник 1"/>
          <p:cNvSpPr/>
          <p:nvPr/>
        </p:nvSpPr>
        <p:spPr>
          <a:xfrm>
            <a:off x="285840" y="714240"/>
            <a:ext cx="7215120" cy="8575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285840" y="1643040"/>
            <a:ext cx="72151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еимущественное развитие ВПК (на оборонные нужды работало около 80% промышленности и более 80% всех ученых и конструкторов стран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формирование натурального хозяйства в масштабах страны, т.е. создание предприятий для изготовления всех видов товаров и услу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ндустриализация в сочетании с урбанизац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здание максимально крупных предприятий как средства снижения средних затрат на производ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сключение конкуренции как «ненужной» в условиях планово-командной экономи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5"/>
          <p:cNvSpPr/>
          <p:nvPr/>
        </p:nvSpPr>
        <p:spPr>
          <a:xfrm>
            <a:off x="357120" y="78588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Реализация стратегии экономического развития, основными элементами которой бы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Скругленный прямоугольник 6"/>
          <p:cNvSpPr/>
          <p:nvPr/>
        </p:nvSpPr>
        <p:spPr>
          <a:xfrm>
            <a:off x="357120" y="5143680"/>
            <a:ext cx="8001000" cy="1071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571680" y="5286240"/>
            <a:ext cx="764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ивела к тому, что Россия завершила ХХ век с совершенно особым устройством своего хозяй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0:32:17Z</dcterms:created>
  <dc:creator>Admin</dc:creator>
  <dc:description/>
  <dc:language>en-US</dc:language>
  <cp:lastModifiedBy>Admin</cp:lastModifiedBy>
  <dcterms:modified xsi:type="dcterms:W3CDTF">2011-09-04T19:55:23Z</dcterms:modified>
  <cp:revision>34</cp:revision>
  <dc:subject/>
  <dc:title>ГЛАВНЫЕ ВОПРОСЫ ЭКОНОМИКИ</dc:title>
</cp:coreProperties>
</file>