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11B-8110-472D-9A73-10DFF3C5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808-D879-482B-A946-03F17E5F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BC0-5EEB-491B-8F37-F912343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D54-A690-43A1-B2D6-6819DDEE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39E-FC9F-438D-9E08-25B1270C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D5E-CB55-41DB-80A1-45E876F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DFD-9C1F-47FA-AE38-F0CB3F98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E59-4BA9-4F12-8829-55D324E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8A35-2EE3-4635-BE97-EC9DED0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A14F-98F3-4870-A6CC-2C595FF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88B-832D-469A-BD2A-2535A43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482-739E-4B30-94F2-FD484E48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063-5980-4FC4-8D93-2B7D7515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F58-FF3A-46A5-A526-00F6C26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013-F5E2-450F-B8A7-766102C4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BD4-7151-414F-8A6B-AF3D9472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F0FF-5007-41A9-8A94-56F334B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70F-8BD4-41CD-B4CB-0F234DC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F75-0022-4263-A9EA-751A8C8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07E-6539-461C-92F6-98C1F8C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FB8-5F7B-4566-925D-E1D0568E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257-8BFD-4956-842D-F1912C0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7F0-56D3-414C-B71C-3413AF2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D53-7EA6-4A1C-9C31-7EBD901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3CA-D1A1-4509-9A58-4BC4FBFBC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BF5-1B63-4D80-ADBD-382DD25A0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Region\Desktop\картинки с шаттерстока\shutterstock_5916189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 rot="527400">
            <a:off x="1195200" y="1268280"/>
            <a:ext cx="291132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 rot="21448800">
            <a:off x="5186520" y="3250800"/>
            <a:ext cx="1525320" cy="19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xamen_logo2"/>
          <p:cNvPicPr/>
          <p:nvPr/>
        </p:nvPicPr>
        <p:blipFill>
          <a:blip r:embed="rId3"/>
          <a:stretch/>
        </p:blipFill>
        <p:spPr>
          <a:xfrm>
            <a:off x="5934240" y="214200"/>
            <a:ext cx="3101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приобретают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я темы дальнейшего сообщен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 жизнь мою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ного воплощения внутренних размышлений героев и рассказ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Где оно, моё счастье? –думает Алёшка.- И  когда оно поя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я модально-эмоциональных оценок (желательности, удивления, недоумения, неуверенности, сомнения, возмущения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 как же ты живё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орические вопросы, весьма распространенные в разговорной речи, активизируют внимание слушающего, поэтому являются особо экспрессивным средством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но-ответ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ств в диа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Реплики дополняют друг друга и создают представление о предмете и поступк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) Нету, детки, Ивана Павловича, в больнице он, ногу ему повред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— К-как повредило? Где? — оторопели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высморкалась в пер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Ответ выступает как возражение или новое толк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6)— Ел, ел, аж опротив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7)— Тезка, не ври. (58)Сколько раз я тебе говорил, что вранье — последн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9)— Я и не 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Вопрос и ответ разъясняют исходное утверж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4)— Вань, а земляника поспела? — вдруг тихо спросила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5)— А я откуда знаю? (16)Не до земляник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)— Ты не сердись. (18)Я это вот к чему. (19)Если поспела — поплывем за реку, наберем и дяде Соломину отне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Region\Desktop\картинки с шаттерстока\shutterstock_1061749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1357200" y="3000240"/>
            <a:ext cx="67867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 е к с 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)Подружились Ваня и Нюра с дядей Соломиным давным-давно, и если бы им  кто-нибудь сказал, что дядя Соломин не родной им человек, они бы, пожалуй, не поверили. (2)И радостью, и детской бедой они привыкли делиться с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)Но однажды хозяйка, у которой снимал комнату Иван Павлович, встретила их со сле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)— Нету, детки, Ивана Павловича, в больнице он, ногу ему повред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5)— К-как повредило? Где? — оторопели реб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 заплакала. (10)— Ходила я в больницу. (11)Говорят, ему ногу выше колена отрежу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2)Низко опустив головы, ребята ушли на берег и уселись под тополями. (13)Нюра сквозь слезы смотрела на заречный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4)— Вань, а земляника поспела? — вдруг тихо спросила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5)— А я откуда знаю?! (16)Не до земляники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)— Ты не сердись. (18)Я это вот к чему. (19)Если поспела — поплывем за реку, наберем и дяде Соломину отнес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0)— Нюрка! — загорелся Ваня. (21)— Ух, и голова у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2)Робко вошли ребята  в палату и замерли, пораженные, — так изменился дядя Соломин. (23)Но самая разительная перемена в глазах: нет той ласковой усмешки, которая часто искрилась в них, нет и грусти. (24)Глаза Соломина словно стекляшки — ровные, безразлич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5)Преодолевая робость, ребята двинулись к его кровати, с радостью замечая, что под тонким одеялом — обе ноги. (26)Нюра задрожавшим голосом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7)— Это мы пришли, дядя Соломин… (28)Мы… я и Ва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9)— Ах, вот кто ко мне пожаловал, — попытался улыбнуться Иван Павлович, с трудом потянулся с кровати и подвинул табуретку. (30)— Садитесь, ребя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1)Ваня и Нюра чинно уселись рядыш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2)— Ну, как де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3)— Все на пять, — почему-то шепотом ответила Ню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4)— Тройка по математике, — промямлил Ваня, угрюмо глядя в распахнутое настежь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5)— Как же ты это подкачал, тез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6)Ваня только вздохну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7)Иван Павлович потрепал Ваню по пле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8)— Ничего, тезка… не горю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9)Нюра толкнула Ваню под бок и повела глазами на рукав халата, где хранился стакан с яг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0)— Это… вот… дядя Соломин, вам, — неловко предложил Ваня пода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1)Иван Павлович, как завороженный, протянул руки к стака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2)— Земляника! — прошептал он и возбужденно крикнул на всю пал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3)-Ребята землянику прине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4)— Да ну! (45)Неужели поспе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6) Иван Павлович поднял стакан так, чтобы все вид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7)— Угощаю первой ягодой! (48)Нюра, надели все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9)Он сунул ей ложечку, и она пошла по палате, насыпая землянику в ладони больных. (50)Как величайшую драгоценность, принимали ягоду больные, подолгу рассматривали ее, вдыхали аромат и растроганно благодар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1)— Ай, спасибо, детки, вот удружили, вот обрадова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2)— А я думаю: откуда это лесом, земляникой потянуло? — говорил Иван Павлович. — Мерещится, думаю, с тоски, а тут оказывается, первооткрыватели ягодного сезона явились… (53)Ну, а вы сами-то почему не пробуете? (54)Бе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5)Нюра взяла две ягодки, а Ваня зая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6)— Ел, ел, аж опротив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7)— Тезка, не ври. (58)Сколько раз я тебе говорил, что вранье — последне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9)— Я и не в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2)Иван Павлович откинулся на подушку, полюбовался ягодами, положил одну из них в рот и блаженно закрыл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3)— Хороша! — восхищенно сказал он.(64)— Не знаю, как я теперь в лес с вами пойду, — добавил он и взглянул на свою неподвижную н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5)— Да это ерунда, дядя Соломин, — горячо заговорил Ваня.  (66)– Мы все вместе скоро рыбачить и охотиться  станем, вот увиди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7)Иван Павлович растроганно прижал детей к своей широкой груди, отпустил и сказ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8)— Ну, бегите,  дорогие мои, бегите…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9)По коридору расхаживал главвр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0)— Ну, как, повидались с дядей Соломи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1)— Повидались, спасибо, — ответила Нюра и, помедлив, спросила: (72)— Дядя доктор, ногу ему будете отрезать или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4)— Хм… (75)Это зависит от того, как вы его земляникой подкармливать буд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6)— Земляникой! — обрадовался Ваня. (77)— Да мы каждый день и лес ходить станем и рыбы наудим, он еще рыбу любит, только вы не режьте ему ногу. (78)Лад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9)— Постараемся, постараемся сохранить вашему дяде ногу, — взъерошив волосы на головах ребят, вздохнул главврач и пошел в палату, из которой они только что выш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0)Во дворе Нюра остановила брата и предлож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1)— Вань, давай всех ребят с нашей улицы сговорим за земляникой? (82)Много в больницу принес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3)Ваня постукал пальцем по голове и серьезно проговор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4)— Крепко у тебя тут, Нюрка, вар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5)И ребята вначале медленно, но потом, не удержавшись, припустили во весь ду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о В.Астафьев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Region\Desktop\картинки с шаттерстока\shutterstock_86718247.jpg"/>
          <p:cNvPicPr/>
          <p:nvPr/>
        </p:nvPicPr>
        <p:blipFill>
          <a:blip r:embed="rId2"/>
          <a:stretch/>
        </p:blipFill>
        <p:spPr>
          <a:xfrm>
            <a:off x="214200" y="0"/>
            <a:ext cx="8929800" cy="6572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708360" y="1628640"/>
            <a:ext cx="500688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Пишем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очинение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 роли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76720" y="214200"/>
            <a:ext cx="5688000" cy="6429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Литературной энциклопедии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езусловно, душевный склад человека отражается в характере его речи, в её содержании, и, включая диалог,  автор помогает читателю лучше понять внутренний мир персонаж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доброта хозяйки, у которой жил Иван Павлович, чувствуется  в обращении «детки» (предложение 4), которым она встречает ребятишек. Кроме того, женщина очень переживает случившееся с её квартирантом, и инверсия в этом предложении (обстоятельство и дополнение, выраженные именами существительными, стоят перед словами, к которым они относятся) передаёт её взволнованность, бол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незапность произошедшей беды ошеломила и ребят, поэтому повтор слова «придавило» в вопросительном предложении 5  отражает их страх за Ивана Павлович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передавая эмоции хозяйки, Вани и Нюры  автор помог читателю понять и их характеры, и характер дяди Соломина, ставшего близким человеком всем героям рассказ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hutterstock_93556075"/>
          <p:cNvPicPr/>
          <p:nvPr/>
        </p:nvPicPr>
        <p:blipFill>
          <a:blip r:embed="rId2"/>
          <a:stretch/>
        </p:blipFill>
        <p:spPr>
          <a:xfrm>
            <a:off x="0" y="0"/>
            <a:ext cx="3276720" cy="6597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 rot="8196600">
            <a:off x="1405080" y="4021200"/>
            <a:ext cx="1023840" cy="1636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33256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 Black"/>
              </a:rPr>
              <a:t>У Вас всё получи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Region\Desktop\картинки с шаттерстока\shutterstock_57163786.jpg"/>
          <p:cNvPicPr/>
          <p:nvPr/>
        </p:nvPicPr>
        <p:blipFill>
          <a:blip r:embed="rId2"/>
          <a:stretch/>
        </p:blipFill>
        <p:spPr>
          <a:xfrm>
            <a:off x="500040" y="3357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071880" y="5929200"/>
            <a:ext cx="55720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 Black"/>
              </a:rPr>
              <a:t>Егораева Г.Т., издательство «Экзам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6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инштейн С.Л. «Основы общей психологии», 198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ьцева Т.Н. Специфические коммуникативные единицы диалогической речи. – Волгоград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ская Е.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ная речь // Русский язык. Энциклопедия. М.: БРЭ-Дрофа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шниченко А."Бизнес-коммуникации. Мастерство делового общения. Практическое руководство" М.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utterstock_95795992"/>
          <p:cNvPicPr/>
          <p:nvPr/>
        </p:nvPicPr>
        <p:blipFill>
          <a:blip r:embed="rId2"/>
          <a:stretch/>
        </p:blipFill>
        <p:spPr>
          <a:xfrm>
            <a:off x="684360" y="189000"/>
            <a:ext cx="22860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egion\Desktop\картинки с шаттерстока\shutterstock_893908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124000" y="1500120"/>
            <a:ext cx="4876920" cy="32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пишите сочинение-рассуждение, раскрывая смысл высказывания, взятого из Литературной энциклопедии: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cc0000"/>
                </a:solidFill>
                <a:latin typeface="Arial Black"/>
              </a:rPr>
              <a:t>Диалог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Region\Desktop\картинки с шаттерстока\shutterstock_82298953.jpg"/>
          <p:cNvPicPr/>
          <p:nvPr/>
        </p:nvPicPr>
        <p:blipFill>
          <a:blip r:embed="rId2"/>
          <a:stretch/>
        </p:blipFill>
        <p:spPr>
          <a:xfrm>
            <a:off x="285840" y="1143000"/>
            <a:ext cx="8866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214280" y="5003280"/>
            <a:ext cx="595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нкции диа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мощь в развити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Информ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Дополнение характеристики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1280" y="260280"/>
            <a:ext cx="4475160" cy="6337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 является основной фор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оворной ре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так как речь художественного произведения всегда подвергается стилизации, 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в художественном произведении является ни чем иным, как стилизацией реаль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hutterstock_64445839"/>
          <p:cNvPicPr/>
          <p:nvPr/>
        </p:nvPicPr>
        <p:blipFill>
          <a:blip r:embed="rId2"/>
          <a:stretch/>
        </p:blipFill>
        <p:spPr>
          <a:xfrm>
            <a:off x="179280" y="404640"/>
            <a:ext cx="398484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00360" y="981000"/>
            <a:ext cx="450036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диалога в его смысле, теме, содерж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ло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о выражения логической цепи взаимосвязанных по содержанию сочетаний мыслей-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ое построение, в котором два говорящих как бы создают одну мыс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, где тема распределяется между дво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 диалога как сложного единства  тесно связана с 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тической цельностью, с характером развития содержания, с движением 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61706380.jpg"/>
          <p:cNvPicPr/>
          <p:nvPr/>
        </p:nvPicPr>
        <p:blipFill>
          <a:blip r:embed="rId2"/>
          <a:stretch/>
        </p:blipFill>
        <p:spPr>
          <a:xfrm>
            <a:off x="214200" y="1052640"/>
            <a:ext cx="414180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алог подразумевает установку на устную реч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разговорных выраж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реч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использование эмоционально-экспрессивн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х средств (простых и бессоюзных предложен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ая роль интон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это несвойственно письмен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ди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321440" cy="5832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ть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роль интон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е особых предложений неполного сост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е от строгих норм письменной речи синтаксическое оформление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простых пред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shutterstock_45014272"/>
          <p:cNvPicPr/>
          <p:nvPr/>
        </p:nvPicPr>
        <p:blipFill>
          <a:blip r:embed="rId2"/>
          <a:stretch/>
        </p:blipFill>
        <p:spPr>
          <a:xfrm>
            <a:off x="250920" y="907920"/>
            <a:ext cx="4249800" cy="55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125000"/>
            <a:ext cx="8785440" cy="223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якое наше представление о взаимодействии, контакте или коммуникации связано с диалогом. Поэтому неудивительно, что именно  диалогу автор уделяет много внимания,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ет человеческие отно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ёт речевую характеристику геро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 своё отношение к ни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лог представляет своеобразную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нсценировку жизненных яв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которых вырисовывается характер геро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ункциональная нагрузка диал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явить характер отношений между геро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знания говорящего о мире, его установки, оце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тивопоставить (сопоставить) взгляды литературных героев на жиз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их эмоциональное (психологическое) состоя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роизвести особенности речевого поведения герое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ратить внимание читателя на речевую манеру персонаж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здать определённую стилистическую тональность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придаёт повествованию драматичность, позволяет раскрыть характер героя через его реплики, показывает идейно-нравственную позицию героев и ав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щения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762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необходимо для установления контакта, и это его прямая фун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ат непосредственно отмечается формой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выполняют функцию выражения субъективного отношения рассказчика к собеседнику и в тоже время они создают атмосферу непринужденной беседы, иллюзию рече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интонации обращение-воздействие может иметь смысл укора, запрета, предостережения, просьб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hutterstock_110485385"/>
          <p:cNvPicPr/>
          <p:nvPr/>
        </p:nvPicPr>
        <p:blipFill>
          <a:blip r:embed="rId2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sp>
        <p:nvSpPr>
          <p:cNvPr id="107" name="Oval 7"/>
          <p:cNvSpPr/>
          <p:nvPr/>
        </p:nvSpPr>
        <p:spPr>
          <a:xfrm rot="20377800">
            <a:off x="6298920" y="1418760"/>
            <a:ext cx="1222200" cy="136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нёк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 rot="1267800">
            <a:off x="7237080" y="1684440"/>
            <a:ext cx="911160" cy="1296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ружи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Пользователь</cp:lastModifiedBy>
  <dcterms:modified xsi:type="dcterms:W3CDTF">2012-11-04T13:04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