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42E-D646-4538-AC1E-70589902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4B3-AC72-4B86-8B2F-5B61FA5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42C-9F3E-4E35-90FA-D61891DE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0C1-DA66-46F1-9F1B-C3FD2A6C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2F7-1091-45BC-9F49-624EA104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1DD-5DC0-4534-9F51-4AE60EF6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1C4-3A8F-4E27-B856-EA0FDFEA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73C-EAA3-4BEE-9F7A-6A5472E5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ACE-2B4E-4BD7-85FF-51537C70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AFF-D0CA-4023-9F8C-42852086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513-9489-4975-949E-66012D0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E42-1533-4B4C-BC3A-905DB23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B401-5341-4BA3-83F5-0E41A3078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ОУ «СОШ №172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.АРХАРА Ам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447920" y="1523880"/>
            <a:ext cx="6705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ТЕРБРОД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382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рок технологии. 5 клас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читель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РЯБИНИНА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Оксана Альбертовн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6" descr="15728"/>
          <p:cNvPicPr/>
          <p:nvPr/>
        </p:nvPicPr>
        <p:blipFill>
          <a:blip r:embed="rId1"/>
          <a:stretch/>
        </p:blipFill>
        <p:spPr>
          <a:xfrm>
            <a:off x="8077320" y="228600"/>
            <a:ext cx="84744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4502"/>
          <p:cNvPicPr/>
          <p:nvPr/>
        </p:nvPicPr>
        <p:blipFill>
          <a:blip r:embed="rId2"/>
          <a:stretch/>
        </p:blipFill>
        <p:spPr>
          <a:xfrm>
            <a:off x="533520" y="5425920"/>
            <a:ext cx="1218960" cy="97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24691"/>
          <p:cNvPicPr/>
          <p:nvPr/>
        </p:nvPicPr>
        <p:blipFill>
          <a:blip r:embed="rId3"/>
          <a:stretch/>
        </p:blipFill>
        <p:spPr>
          <a:xfrm>
            <a:off x="380880" y="304920"/>
            <a:ext cx="100512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9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595959"/>
          </a:solidFill>
          <a:ln w="38160">
            <a:solidFill>
              <a:srgbClr val="ffff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Times New Roman"/>
              </a:rPr>
              <a:t>Prezentacii.co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362320" y="304920"/>
            <a:ext cx="4952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БУТЕРБРОДЫ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533520" y="2057400"/>
            <a:ext cx="34290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ЛОД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800600" y="2133720"/>
            <a:ext cx="39625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РЯЧИ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28600" y="4114800"/>
            <a:ext cx="3276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5029200" y="4343400"/>
            <a:ext cx="3886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5257800" y="320040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УСОЧ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18"/>
          <p:cNvSpPr/>
          <p:nvPr/>
        </p:nvSpPr>
        <p:spPr>
          <a:xfrm rot="6216600">
            <a:off x="480600" y="332100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19"/>
          <p:cNvSpPr/>
          <p:nvPr/>
        </p:nvSpPr>
        <p:spPr>
          <a:xfrm rot="3208800">
            <a:off x="5676480" y="156060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21"/>
          <p:cNvSpPr/>
          <p:nvPr/>
        </p:nvSpPr>
        <p:spPr>
          <a:xfrm rot="7561200">
            <a:off x="2380680" y="1528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22"/>
          <p:cNvSpPr/>
          <p:nvPr/>
        </p:nvSpPr>
        <p:spPr>
          <a:xfrm rot="1975200">
            <a:off x="2161800" y="3765600"/>
            <a:ext cx="3124080" cy="38088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AutoShape 23"/>
          <p:cNvSpPr/>
          <p:nvPr/>
        </p:nvSpPr>
        <p:spPr>
          <a:xfrm rot="961200">
            <a:off x="3276360" y="3276720"/>
            <a:ext cx="2057400" cy="4078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24" descr="24514"/>
          <p:cNvPicPr/>
          <p:nvPr/>
        </p:nvPicPr>
        <p:blipFill>
          <a:blip r:embed="rId1"/>
          <a:stretch/>
        </p:blipFill>
        <p:spPr>
          <a:xfrm>
            <a:off x="7467480" y="4191120"/>
            <a:ext cx="145728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5"/>
          <p:cNvSpPr/>
          <p:nvPr/>
        </p:nvSpPr>
        <p:spPr>
          <a:xfrm rot="7240200">
            <a:off x="876240" y="5114520"/>
            <a:ext cx="533520" cy="380880"/>
          </a:xfrm>
          <a:custGeom>
            <a:avLst/>
            <a:gdLst>
              <a:gd name="textAreaLeft" fmla="*/ 6660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26"/>
          <p:cNvSpPr/>
          <p:nvPr/>
        </p:nvSpPr>
        <p:spPr>
          <a:xfrm rot="2019000">
            <a:off x="2971440" y="5333760"/>
            <a:ext cx="1447920" cy="38088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4419720" y="563868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Ж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304920" y="5638680"/>
            <a:ext cx="2514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С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9" descr="24508"/>
          <p:cNvPicPr/>
          <p:nvPr/>
        </p:nvPicPr>
        <p:blipFill>
          <a:blip r:embed="rId2"/>
          <a:stretch/>
        </p:blipFill>
        <p:spPr>
          <a:xfrm>
            <a:off x="2362320" y="4267080"/>
            <a:ext cx="101916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24502"/>
          <p:cNvPicPr/>
          <p:nvPr/>
        </p:nvPicPr>
        <p:blipFill>
          <a:blip r:embed="rId3"/>
          <a:stretch/>
        </p:blipFill>
        <p:spPr>
          <a:xfrm>
            <a:off x="2971800" y="22096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24519"/>
          <p:cNvPicPr/>
          <p:nvPr/>
        </p:nvPicPr>
        <p:blipFill>
          <a:blip r:embed="rId4"/>
          <a:stretch/>
        </p:blipFill>
        <p:spPr>
          <a:xfrm>
            <a:off x="7772400" y="3184560"/>
            <a:ext cx="1066680" cy="853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24520"/>
          <p:cNvPicPr/>
          <p:nvPr/>
        </p:nvPicPr>
        <p:blipFill>
          <a:blip r:embed="rId5"/>
          <a:stretch/>
        </p:blipFill>
        <p:spPr>
          <a:xfrm>
            <a:off x="7238880" y="1905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24505"/>
          <p:cNvPicPr/>
          <p:nvPr/>
        </p:nvPicPr>
        <p:blipFill>
          <a:blip r:embed="rId6"/>
          <a:stretch/>
        </p:blipFill>
        <p:spPr>
          <a:xfrm>
            <a:off x="62485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24523"/>
          <p:cNvPicPr/>
          <p:nvPr/>
        </p:nvPicPr>
        <p:blipFill>
          <a:blip r:embed="rId7"/>
          <a:stretch/>
        </p:blipFill>
        <p:spPr>
          <a:xfrm>
            <a:off x="2133720" y="5410080"/>
            <a:ext cx="57132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24531"/>
          <p:cNvPicPr/>
          <p:nvPr/>
        </p:nvPicPr>
        <p:blipFill>
          <a:blip r:embed="rId8"/>
          <a:stretch/>
        </p:blipFill>
        <p:spPr>
          <a:xfrm>
            <a:off x="7086600" y="563868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49528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 безопасной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режущими инстру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5722"/>
          <p:cNvPicPr/>
          <p:nvPr/>
        </p:nvPicPr>
        <p:blipFill>
          <a:blip r:embed="rId1"/>
          <a:stretch/>
        </p:blipFill>
        <p:spPr>
          <a:xfrm>
            <a:off x="838080" y="762120"/>
            <a:ext cx="178596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24468"/>
          <p:cNvPicPr/>
          <p:nvPr/>
        </p:nvPicPr>
        <p:blipFill>
          <a:blip r:embed="rId2"/>
          <a:stretch/>
        </p:blipFill>
        <p:spPr>
          <a:xfrm>
            <a:off x="1447920" y="3048120"/>
            <a:ext cx="2128680" cy="1784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24476"/>
          <p:cNvPicPr/>
          <p:nvPr/>
        </p:nvPicPr>
        <p:blipFill>
          <a:blip r:embed="rId3"/>
          <a:stretch/>
        </p:blipFill>
        <p:spPr>
          <a:xfrm>
            <a:off x="19080" y="5029200"/>
            <a:ext cx="9124920" cy="1436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3429000" y="320040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электронагревательными приборам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Бутерброды готовят на пшеничном и ржаном хлебе с различными проду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На ржаном хлебе готовят бутерброды с жирными продуктами и с продуктами, имеющими резко выраженный запах и вкус, например, с сель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Хлеб нарезают ломтиками толщиной 1-1,5 см и массой 30-40 г и на него укладывают различные продукты так, чтобы они закрывали весь ломтик х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4531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7712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Открытые 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ткрытые бутерброды смазывают тонким слоем масла и укладывают на него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утерброд можно украсить зеленью петрушки, кружочком сваренного вкрутую яйца, ломтиками огурца, помидора, лимона или апель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24508"/>
          <p:cNvPicPr/>
          <p:nvPr/>
        </p:nvPicPr>
        <p:blipFill>
          <a:blip r:embed="rId1"/>
          <a:stretch/>
        </p:blipFill>
        <p:spPr>
          <a:xfrm>
            <a:off x="6248520" y="762120"/>
            <a:ext cx="20095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рыт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4514"/>
          <p:cNvPicPr/>
          <p:nvPr/>
        </p:nvPicPr>
        <p:blipFill>
          <a:blip r:embed="rId1"/>
          <a:stretch/>
        </p:blipFill>
        <p:spPr>
          <a:xfrm>
            <a:off x="6477120" y="4343400"/>
            <a:ext cx="2143080" cy="156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рытые бутерброды готовят на мелкоштучных булочках                (массой до 40 г) или              помещают продукт между              двумя кусками хлеба толщиной 0,5 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усочн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усочные бутерброды (канапе) готовят на кусках обжаренного хлеба толщиной 0,5 см и шириной 5-6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Форма куска хлеба может быть разной – прямоугольной, квадратной, треугольной или фигу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Украшают сливочным маслом или майонезом, выпущенным из кондитерского м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4519"/>
          <p:cNvPicPr/>
          <p:nvPr/>
        </p:nvPicPr>
        <p:blipFill>
          <a:blip r:embed="rId1"/>
          <a:stretch/>
        </p:blipFill>
        <p:spPr>
          <a:xfrm>
            <a:off x="6934320" y="5045040"/>
            <a:ext cx="17906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виды бутербродов готовят непосредственно перед подачей к сто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Готовые бутерброды хранят не более 30-4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продукты и полуфабрикаты должны быть абсолютно свеж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бработка сырых и вареных продуктов должна проводиться отд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46"/>
          <p:cNvPicPr/>
          <p:nvPr/>
        </p:nvPicPr>
        <p:blipFill>
          <a:blip r:embed="rId1"/>
          <a:stretch/>
        </p:blipFill>
        <p:spPr>
          <a:xfrm rot="1138800">
            <a:off x="6629040" y="380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46"/>
          <p:cNvPicPr/>
          <p:nvPr/>
        </p:nvPicPr>
        <p:blipFill>
          <a:blip r:embed="rId2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2498"/>
          <p:cNvPicPr/>
          <p:nvPr/>
        </p:nvPicPr>
        <p:blipFill>
          <a:blip r:embed="rId3"/>
          <a:stretch/>
        </p:blipFill>
        <p:spPr>
          <a:xfrm>
            <a:off x="7772400" y="5611680"/>
            <a:ext cx="1057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Сандвич (закрытый бутерброд)   назван так в честь англичанина   сэра Сэндвича.               Любитель карточных игр,            он не мог оторваться от карт     даже для того, чтобы поужинать,    и приносил ужин с собой:          два ломтя хлеба,          намазанные маслом  и    соединенные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66652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</a:t>
            </a: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246"/>
          <p:cNvPicPr/>
          <p:nvPr/>
        </p:nvPicPr>
        <p:blipFill>
          <a:blip r:embed="rId1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46"/>
          <p:cNvPicPr/>
          <p:nvPr/>
        </p:nvPicPr>
        <p:blipFill>
          <a:blip r:embed="rId2"/>
          <a:stretch/>
        </p:blipFill>
        <p:spPr>
          <a:xfrm rot="2596200">
            <a:off x="7086240" y="3808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14975"/>
          <p:cNvPicPr/>
          <p:nvPr/>
        </p:nvPicPr>
        <p:blipFill>
          <a:blip r:embed="rId3"/>
          <a:stretch/>
        </p:blipFill>
        <p:spPr>
          <a:xfrm>
            <a:off x="380880" y="4495680"/>
            <a:ext cx="1692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9:21:09Z</dcterms:created>
  <dc:creator>Admin</dc:creator>
  <dc:description/>
  <dc:language>en-US</dc:language>
  <cp:lastModifiedBy>Admin</cp:lastModifiedBy>
  <dcterms:modified xsi:type="dcterms:W3CDTF">2012-07-01T17:33:31Z</dcterms:modified>
  <cp:revision>35</cp:revision>
  <dc:subject/>
  <dc:title>Слайд 1</dc:title>
</cp:coreProperties>
</file>