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700-3FED-4B58-AA43-6E8773ED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9F4-615A-4AE4-9152-7357A040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252-434A-4675-A398-CB0811A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0F8-F84C-4532-8AE4-85825824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418B-A2C1-48B5-A04B-02C08A49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435E-7011-4DCC-8652-F1559FCB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214-F879-43A2-9996-FC023255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CF3E-0DF9-4948-BD4B-8F9638A2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22FE-8358-4D2C-8514-D96E450D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9433-4F3A-4D89-B063-5D0CC68A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A975-B483-4BA2-B591-94EF2A6F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63D-0E64-4DAA-978D-3FB68B16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81F-8064-4479-BDC3-7A2416B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5A27-95B6-4343-B9CC-960DB5D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F26C-9C6E-4291-8610-290913A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4034-53B8-4CE2-A3F2-73AC8060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F00F-DBF5-4563-A5BB-871425A4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01D-AA5A-4B37-9FBC-C9E8040C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475-2314-4FDE-9135-955C7583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0F3-E4C4-48FE-971C-B4FA4711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6F6-5DB2-45D5-A7BE-DCC14B0B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007-358B-42DD-9CA1-A132A14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6C8-AD44-4577-AB49-F8B12FE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94B-A732-42C9-BF70-A94CFCF9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99A1-FAF7-42A4-AF22-DCD77B567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979-2593-4AE4-937E-8999E64D6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.rdrom.ru/pubs/4483/12405/11425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llur.ru/images/k1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netauto.ru/uploads/posts/2009-07/1248448774_123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abi.ru/attachments/5394/5139/images/large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ealtymessages.com/images/slide4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ollady.ru/pic/0002/010/06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www.coollady.ru/pic/0002/010/05.jp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govorim.by/uploads/posts/2011-09/razreshat-li-mogilevskim-studentam-ezdit-besplatno_1.jpe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hyperlink" Target="http://www.fstore.ru/retailfoto/bigimages/europe_020906_008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306/alisheryakupov.5/0_17c9f_90295ff8_XL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salesreport.ru/wp-content/uploads/333141.png" TargetMode="External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c/3/75/698/75698475_mayb1.jpg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wrailway.gov.ua/img/rabslovo/34/2.jpg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izm.ru/country_gallery/170/68.jpeg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08.radikal.ru/0812/80/e3b565414f5d.jpg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tosoyuz.ru/preview/600x600-p2owd7/bm/8r6vz6/600x600,fs-CHAPLINSKY,15,P1010564.jpg?fy8oditz" TargetMode="External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viacia.ru/civil/boeing/boeing737_10.jpg" TargetMode="Externa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rufox.ru/files/big2/562095.jpg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39.radikal.ru/i084/0910/73/7aa5df0b216b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rtafax.com.ua/photo/i/1158742495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fotoregion.ru/data/media/1/DSC04593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locman.net/img/621/11985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pravoslavie.ru/sas/image/100116/11600.p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cio-world.ru/upload/iblock/789070bee6596d2a9f548948320adecd.jpg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www.mchs.gov.ru/images/5024_21.1124804705.863.jpg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simba.flamber.ru/files/photos/1163149743/1191714042_f.jpg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http://wiki.traditio.ru/images/thumb/f/ff/Skif.jpg/300px-Skif.jpg" TargetMode="External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ts.mosfont.ru/tb/tver/1/7_20070223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rus-trade.net/foto/s_6520.jpg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garage.ru/wp-content/uploads/2010/08/&#1057;&#1088;&#1086;&#1095;&#1085;&#1099;&#1081;-&#1074;&#1099;&#1082;&#1091;&#1087;-&#1072;&#1074;&#1090;&#1086;.png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powerclip.ru/uploads/photos/3055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toreview.ru/archive/2006/21/tyres/750/vintertest-14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vitbichi.by/wp-content/uploads/2010/12/68786468898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englishrussia.com/images/bus_on_fire/0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s153.vkontakte.ru/u8052160/2762952/x_2336f713.jpg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00"/>
                </a:solidFill>
                <a:latin typeface="Rockwell"/>
              </a:rPr>
              <a:t>Безопасность на транспорте.</a:t>
            </a:r>
            <a:endParaRPr b="0" lang="en-US" sz="8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6165720"/>
            <a:ext cx="640080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6a2a"/>
                </a:solidFill>
                <a:latin typeface="Tahoma"/>
              </a:rPr>
              <a:t>Подготовила: Ваганова Н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5300640"/>
            <a:ext cx="7726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Особенно это опасно у пассажирского транспорта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78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Экстремальные ситуации - если на скорости случился пробой колеса.</a:t>
            </a: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700280"/>
            <a:ext cx="5796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57099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еревозить  детей в легковых машинах разрешено только в специальных креслах!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3996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значение детских авто-кресел – удерживать ребенка в безопасном положении в случае столкновения, экстремального торможения или резкого манев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Картинка 274 из 32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549360"/>
            <a:ext cx="2616120" cy="2325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460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2852640"/>
            <a:ext cx="49435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Правила безопасного поведения на транспорте</a:t>
            </a: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при ожидании автобуса (трамвая, троллейбуса) на остановке не приближайтесь к транспорту ближе, чем на 0,5 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когда машина (автобус, троллейбус) подходит к остановке, не спешите встать в первом ряд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войдя в транспор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 задерживайте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 поднож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роходите в сало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277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11280" y="1125360"/>
            <a:ext cx="493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льзя отвлекать водителя во время движени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льзя разговаривать во время вождения любого вида транспорта по телефону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3695760" cy="221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243 из 3285">
            <a:hlinkClick r:id="rId4"/>
          </p:cNvPr>
          <p:cNvPicPr/>
          <p:nvPr/>
        </p:nvPicPr>
        <p:blipFill>
          <a:blip r:embed="rId5"/>
          <a:srcRect l="0" t="0" r="0" b="15789"/>
          <a:stretch/>
        </p:blipFill>
        <p:spPr>
          <a:xfrm>
            <a:off x="2411280" y="3284640"/>
            <a:ext cx="6229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907920"/>
            <a:ext cx="555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при пользовании общественным (и других видов владения) транспортом не высовывайтесь из окна и держитесь за поручни;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Картинка 40 из 10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32120" cy="2832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51 из 10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56 из 10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3068640"/>
            <a:ext cx="4876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4868640"/>
            <a:ext cx="86421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выйдя из транспорта на тротуар, дождитесь, когда автобус, троллейбус или трамвай отъедет, и только после этого начинайте переход улиц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5120" cy="2254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а 48 из 389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620640"/>
            <a:ext cx="619128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716280"/>
            <a:ext cx="6119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7) никогда не садитесь на ступени движущегося эскалатора;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8) если вы спешите, двигайтесь по эскалатору спокойно, держась за поручни;</a:t>
            </a:r>
            <a:br>
              <a:rPr sz="2800"/>
            </a:b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150" name="" descr="Картинка 178 из 1359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5327640" cy="35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6 из 136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4653000"/>
            <a:ext cx="2568600" cy="1941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67280" y="333360"/>
            <a:ext cx="309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6) пользуясь эскалатором, стойте справа, держась за поручни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3280" y="404280"/>
            <a:ext cx="4197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9) ожидая поезда в метро, не подходите к краю платформы, находитесь за предупредительной полос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0) будьте особенно внимательны, выходя из последних дверей последнего вагона поезда метр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Картинка 8 из 13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40701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333360"/>
            <a:ext cx="85899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Меры безопасности на железнодорожном 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не открывать при движении поезда наружные двер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нельзя высовываться из око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тщательно укладывать свой багаж на верхних полках, при этом хорошо зафиксировать его на случай возмож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адения при экстренн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рможении или авар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Картинка 66 из 344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365720"/>
            <a:ext cx="3394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3644640"/>
            <a:ext cx="507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Дети, а так же пассажиры верхних полок во время сна фиксируются специальными ремнями для из безопасного проез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Картинка 63 из 1208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89000"/>
            <a:ext cx="4572000" cy="3422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89 из 70513"/>
          <p:cNvPicPr/>
          <p:nvPr/>
        </p:nvPicPr>
        <p:blipFill>
          <a:blip r:embed="rId4"/>
          <a:stretch/>
        </p:blipFill>
        <p:spPr>
          <a:xfrm>
            <a:off x="179280" y="189000"/>
            <a:ext cx="4129200" cy="30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Картинка 105 из 71070"/>
          <p:cNvPicPr/>
          <p:nvPr/>
        </p:nvPicPr>
        <p:blipFill>
          <a:blip r:embed="rId5"/>
          <a:stretch/>
        </p:blipFill>
        <p:spPr>
          <a:xfrm>
            <a:off x="250920" y="3645000"/>
            <a:ext cx="4019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0920" y="908640"/>
            <a:ext cx="8740080" cy="5326920"/>
            <a:chOff x="250920" y="908640"/>
            <a:chExt cx="8740080" cy="5326920"/>
          </a:xfrm>
        </p:grpSpPr>
        <p:cxnSp>
          <p:nvCxnSpPr>
            <p:cNvPr id="86" name="_s7180"/>
            <p:cNvCxnSpPr/>
            <p:nvPr/>
          </p:nvCxnSpPr>
          <p:spPr>
            <a:xfrm flipV="1" rot="16200000">
              <a:off x="5077080" y="1844640"/>
              <a:ext cx="1531800" cy="2399040"/>
            </a:xfrm>
            <a:prstGeom prst="bentConnector3">
              <a:avLst>
                <a:gd name="adj1" fmla="val 3932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7179"/>
            <p:cNvCxnSpPr>
              <a:stCxn id="88" idx="0"/>
              <a:endCxn id="89" idx="2"/>
            </p:cNvCxnSpPr>
            <p:nvPr/>
          </p:nvCxnSpPr>
          <p:spPr>
            <a:xfrm flipV="1">
              <a:off x="4607280" y="2493720"/>
              <a:ext cx="3240" cy="273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7178"/>
            <p:cNvCxnSpPr/>
            <p:nvPr/>
          </p:nvCxnSpPr>
          <p:spPr>
            <a:xfrm flipH="1" flipV="1" rot="5400000">
              <a:off x="2633040" y="1841400"/>
              <a:ext cx="1524960" cy="2399400"/>
            </a:xfrm>
            <a:prstGeom prst="bentConnector3">
              <a:avLst>
                <a:gd name="adj1" fmla="val 401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7174"/>
            <p:cNvSpPr/>
            <p:nvPr/>
          </p:nvSpPr>
          <p:spPr>
            <a:xfrm>
              <a:off x="2988360" y="908640"/>
              <a:ext cx="3237480" cy="158508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Tahoma"/>
                </a:rPr>
                <a:t>Транспорт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7175"/>
            <p:cNvSpPr/>
            <p:nvPr/>
          </p:nvSpPr>
          <p:spPr>
            <a:xfrm>
              <a:off x="250920" y="3787920"/>
              <a:ext cx="3914640" cy="99324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 месту  дви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7176"/>
            <p:cNvSpPr/>
            <p:nvPr/>
          </p:nvSpPr>
          <p:spPr>
            <a:xfrm>
              <a:off x="3058200" y="5226480"/>
              <a:ext cx="3097800" cy="100908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назначению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7177"/>
            <p:cNvSpPr/>
            <p:nvPr/>
          </p:nvSpPr>
          <p:spPr>
            <a:xfrm>
              <a:off x="5076360" y="3787920"/>
              <a:ext cx="3914640" cy="99324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 принадлежности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не срывать без необходимости стоп-кран. Даже при пожаре нельзя останавливать поезд на мосту, в туннеле и других местах, где может осложниться эваку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при круш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или экстренн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рмож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амое важно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закрепить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чтобы пр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адении избеж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рав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Картинка 103 из 120873">
            <a:hlinkClick r:id="rId2"/>
          </p:cNvPr>
          <p:cNvPicPr/>
          <p:nvPr/>
        </p:nvPicPr>
        <p:blipFill>
          <a:blip r:embed="rId3"/>
          <a:srcRect l="8504" t="0" r="0" b="0"/>
          <a:stretch/>
        </p:blipFill>
        <p:spPr>
          <a:xfrm>
            <a:off x="3995640" y="2527200"/>
            <a:ext cx="4789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5040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6) переходить железнодорожные пути только в местах, безопасных для перехода, – по подземному туннелю, надземному мостику или по служебным и специальным переходам, где проложены шпалы или железобетонные плитки, в других местах неположено и опасно – ваша нога может быть зажата между рельсами в месте стрелочного автоматического перев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Картинка 86 из 21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60280"/>
            <a:ext cx="1943280" cy="345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113 из 37382"/>
          <p:cNvPicPr/>
          <p:nvPr/>
        </p:nvPicPr>
        <p:blipFill>
          <a:blip r:embed="rId4"/>
          <a:stretch/>
        </p:blipFill>
        <p:spPr>
          <a:xfrm>
            <a:off x="5076720" y="3825720"/>
            <a:ext cx="37800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91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Особенност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поведения 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авиационн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изучить памятки, прослушать инструкции экипаж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застегнуть ремень, подогнав его под свою фигур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при разгермет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амолета немедлен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деть кислород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маску, помоч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делать это сосед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976920" cy="2675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69 из 83425"/>
          <p:cNvPicPr/>
          <p:nvPr/>
        </p:nvPicPr>
        <p:blipFill>
          <a:blip r:embed="rId3"/>
          <a:stretch/>
        </p:blipFill>
        <p:spPr>
          <a:xfrm>
            <a:off x="324000" y="189000"/>
            <a:ext cx="3095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Картинка 21 из 323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9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ahoma"/>
              </a:rPr>
              <a:t>Сразу после остановки самолета в случае вынужденной посадки следует</a:t>
            </a: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25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покинуть самолет через основной или аварийный выхо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отбежать от самол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оказать первую медицинскую помощь пострадавшим пассажира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оборудовать временное убежище из обломков самолета, веток, снег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собрать в одно место воду, еду, теплые вещ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Картинка 42 из 33567"/>
          <p:cNvPicPr/>
          <p:nvPr/>
        </p:nvPicPr>
        <p:blipFill>
          <a:blip r:embed="rId2"/>
          <a:stretch/>
        </p:blipFill>
        <p:spPr>
          <a:xfrm>
            <a:off x="5364000" y="1413000"/>
            <a:ext cx="36370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Счастливого полёт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Картинка 83 из 834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620640"/>
            <a:ext cx="709272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3300"/>
                </a:solidFill>
                <a:latin typeface="Tahoma"/>
              </a:rPr>
              <a:t>Меры безопасности на речном и морском 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тупая на борт судна речного или морского типа, пассажир полностью подчиняется власти и командам капитана (касающихся пассажиров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а так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омощ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капит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Картинка 1 из 745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2924280"/>
            <a:ext cx="5076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ahoma"/>
              </a:rPr>
              <a:t>Обязанности пассажира на борту суд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разобраться, как пользоваться спасательными и противопожарными средствами и где они на судне находятся (в ящиках, на стенках, в шкафах кают), ознакомиться с судовыми памятками для пассажи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при возникнов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чрезвычайной ситу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чно выпол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указания капита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его помощников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экипажа суд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Картинка 60 из 47015"/>
          <p:cNvPicPr/>
          <p:nvPr/>
        </p:nvPicPr>
        <p:blipFill>
          <a:blip r:embed="rId2"/>
          <a:srcRect l="0" t="0" r="24831" b="0"/>
          <a:stretch/>
        </p:blipFill>
        <p:spPr>
          <a:xfrm>
            <a:off x="5076720" y="3284640"/>
            <a:ext cx="381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362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при эвакуации в первую очередь борт судна покидают женщины, дети, раненые и старые люди;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немедленно бросить спасательный круг, если человек упал за бор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Картинка 10 из 74575">
            <a:hlinkClick r:id="rId2"/>
          </p:cNvPr>
          <p:cNvPicPr/>
          <p:nvPr/>
        </p:nvPicPr>
        <p:blipFill>
          <a:blip r:embed="rId3"/>
          <a:srcRect l="4252" t="0" r="12070" b="0"/>
          <a:stretch/>
        </p:blipFill>
        <p:spPr>
          <a:xfrm>
            <a:off x="4284720" y="2421000"/>
            <a:ext cx="4608360" cy="412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27 из 10967"/>
          <p:cNvPicPr/>
          <p:nvPr/>
        </p:nvPicPr>
        <p:blipFill>
          <a:blip r:embed="rId4"/>
          <a:stretch/>
        </p:blipFill>
        <p:spPr>
          <a:xfrm>
            <a:off x="611280" y="3141720"/>
            <a:ext cx="3492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месту  движения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916280"/>
          <a:ext cx="8785440" cy="4320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назем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подзем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Картинка 13 из 399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85264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1 из 11872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581360"/>
            <a:ext cx="2017440" cy="151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7 из 142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11280" y="2852640"/>
            <a:ext cx="204948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0 из 3146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84360" y="4508640"/>
            <a:ext cx="2009880" cy="159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4 из 3853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643280" y="2852640"/>
            <a:ext cx="2062440" cy="1551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32 из 1491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3280" y="4630680"/>
            <a:ext cx="2049480" cy="1419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25 из 4621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77080" y="278136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67 из 298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164360" y="429264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назначению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2421000"/>
          <a:ext cx="8229600" cy="338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пассажир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грузо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специ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Картинка 15 из 80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78936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10 из 53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371628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940360" y="3716280"/>
            <a:ext cx="26240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принадлежности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8229600" cy="382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лич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обще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Картинка 74 из 13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63700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105 из 1222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781360"/>
            <a:ext cx="3926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49360"/>
            <a:ext cx="826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роблемы, связанные с возникновением чрезвычайных ситуаций на транспорте, присущи всем странам мира. В последние годы резко возросло число личных автомобилей, движение стало намного интенсивнее и поэтому возрастает риск различного рода авар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Картинка 10 из 117921"/>
          <p:cNvPicPr/>
          <p:nvPr/>
        </p:nvPicPr>
        <p:blipFill>
          <a:blip r:embed="rId2"/>
          <a:stretch/>
        </p:blipFill>
        <p:spPr>
          <a:xfrm>
            <a:off x="2700360" y="3589200"/>
            <a:ext cx="4427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549360"/>
            <a:ext cx="801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Главные причины ЧС на автомобильном транспор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различные нарушения правил дорожного дви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техническая неисправность автомоби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превышение скорости дви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управление автомобилем в нетрезвом состоя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плохие дороги (в том числе и скользк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исправности автомобилей (прежде всего – тормозной системы и рулевого управлен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11120"/>
            <a:ext cx="82296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достаточная подготовка лиц, управляющих автомобилями, слабая их реакция, низкая эмоциональная устойчив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выполнение правил перевозки опасных грузов и несоблюдение при этом необходимых требований безопас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Иногда на проезжей части можно видеть открытые люки, не огороженные и неосвещенные участки ремонтных работ, отсутствие предупреждающих об опасности знаков. Все это в совокупности приводит к огромным человеческим потер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Картинка 40 из 3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60280"/>
            <a:ext cx="367200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214 из 32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3476520"/>
            <a:ext cx="4789440" cy="3189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10 из 13600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60280"/>
            <a:ext cx="3855960" cy="316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06 из 53094">
            <a:hlinkClick r:id="rId8"/>
          </p:cNvPr>
          <p:cNvPicPr/>
          <p:nvPr/>
        </p:nvPicPr>
        <p:blipFill>
          <a:blip r:embed="rId9"/>
          <a:srcRect l="14511" t="0" r="0" b="0"/>
          <a:stretch/>
        </p:blipFill>
        <p:spPr>
          <a:xfrm>
            <a:off x="539640" y="3500280"/>
            <a:ext cx="33973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2:00:53Z</dcterms:created>
  <dc:creator>Наталья</dc:creator>
  <dc:description/>
  <dc:language>en-US</dc:language>
  <cp:lastModifiedBy>User</cp:lastModifiedBy>
  <dcterms:modified xsi:type="dcterms:W3CDTF">2011-11-15T14:36:59Z</dcterms:modified>
  <cp:revision>12</cp:revision>
  <dc:subject/>
  <dc:title>Транспорт </dc:title>
</cp:coreProperties>
</file>