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4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68B9-D8FC-4A87-9C49-53085ABC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5053-A651-4CC9-9881-18DE4D3D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FAA4-AB51-4885-A239-3A8F0A56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96A9-125C-4020-B86F-380D3CFD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1934-5DFA-4C77-A111-24C8036E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4E0A-E570-473F-B2C1-D1158B97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B0D1-7197-422D-A79A-8CCE07CA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1DAE-FFB8-4C51-B07B-E0C4D959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0580-6E3D-4EE9-B11C-FDDF4793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CB83-582E-4790-9D03-B25ED68B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5A84-7D42-4C30-9A68-362E1D65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78A6-0A76-4AB0-BD6B-4DAA8349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BFA9-2DC8-491B-AB53-241D4D5D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40C1-6232-4EDC-AC0C-7CE4E7F0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8FA8-7584-44A1-9948-5273B9FF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428C-E3B5-493B-964F-030353D5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16B5-16DF-4A7A-86B1-D5BC4421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CF0-1A8A-4E2C-A160-309080D5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48BA-61DB-4B5A-B3C1-397CD67F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006B-09B2-48C8-ABF5-302BBE72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83ED-DE09-4E18-A0C9-BFFB2A8D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6DB3-F4B4-4417-8F2F-9413CCDD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EABA-82AF-4146-ADB5-83D28829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188D-87A7-4913-B3E3-5B89BC76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C376-A5EE-4A07-92A8-D183059BC6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6761-276D-4A7C-B244-B566045F38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.rdrom.ru/pubs/4483/12405/114256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allur.ru/images/k1.jpg" TargetMode="External"/><Relationship Id="rId3" Type="http://schemas.openxmlformats.org/officeDocument/2006/relationships/image" Target="../media/image21.jpeg"/><Relationship Id="rId4" Type="http://schemas.openxmlformats.org/officeDocument/2006/relationships/hyperlink" Target="http://inetauto.ru/uploads/posts/2009-07/1248448774_123.jpg" TargetMode="Externa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abi.ru/attachments/5394/5139/images/large.jpg" TargetMode="External"/><Relationship Id="rId3" Type="http://schemas.openxmlformats.org/officeDocument/2006/relationships/image" Target="../media/image24.jpeg"/><Relationship Id="rId4" Type="http://schemas.openxmlformats.org/officeDocument/2006/relationships/hyperlink" Target="http://realtymessages.com/images/slide4.jpg" TargetMode="External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ollady.ru/pic/0002/010/06.jpg" TargetMode="External"/><Relationship Id="rId3" Type="http://schemas.openxmlformats.org/officeDocument/2006/relationships/image" Target="../media/image26.jpeg"/><Relationship Id="rId4" Type="http://schemas.openxmlformats.org/officeDocument/2006/relationships/hyperlink" Target="http://www.coollady.ru/pic/0002/010/05.jpg" TargetMode="External"/><Relationship Id="rId5" Type="http://schemas.openxmlformats.org/officeDocument/2006/relationships/image" Target="../media/image27.jpeg"/><Relationship Id="rId6" Type="http://schemas.openxmlformats.org/officeDocument/2006/relationships/hyperlink" Target="http://govorim.by/uploads/posts/2011-09/razreshat-li-mogilevskim-studentam-ezdit-besplatno_1.jpeg" TargetMode="External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hyperlink" Target="http://www.fstore.ru/retailfoto/bigimages/europe_020906_008.jpg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3306/alisheryakupov.5/0_17c9f_90295ff8_XL.jpg" TargetMode="External"/><Relationship Id="rId3" Type="http://schemas.openxmlformats.org/officeDocument/2006/relationships/image" Target="../media/image31.jpeg"/><Relationship Id="rId4" Type="http://schemas.openxmlformats.org/officeDocument/2006/relationships/hyperlink" Target="http://salesreport.ru/wp-content/uploads/333141.png" TargetMode="External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1.liveinternet.ru/images/attach/c/3/75/698/75698475_mayb1.jpg" TargetMode="External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wrailway.gov.ua/img/rabslovo/34/2.jpg" TargetMode="External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urizm.ru/country_gallery/170/68.jpeg" TargetMode="External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008.radikal.ru/0812/80/e3b565414f5d.jpg" TargetMode="External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otosoyuz.ru/preview/600x600-p2owd7/bm/8r6vz6/600x600,fs-CHAPLINSKY,15,P1010564.jpg?fy8oditz" TargetMode="External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viacia.ru/civil/boeing/boeing737_10.jpg" TargetMode="External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.rufox.ru/files/big2/562095.jpg" TargetMode="External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39.radikal.ru/i084/0910/73/7aa5df0b216b.jpg" TargetMode="External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rtafax.com.ua/photo/i/1158742495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fotoregion.ru/data/media/1/DSC04593.jpg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locman.net/img/621/11985.jpg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pravoslavie.ru/sas/image/100116/11600.p.jpg" TargetMode="External"/><Relationship Id="rId9" Type="http://schemas.openxmlformats.org/officeDocument/2006/relationships/image" Target="../media/image5.jpeg"/><Relationship Id="rId10" Type="http://schemas.openxmlformats.org/officeDocument/2006/relationships/hyperlink" Target="http://www.cio-world.ru/upload/iblock/789070bee6596d2a9f548948320adecd.jpg" TargetMode="External"/><Relationship Id="rId11" Type="http://schemas.openxmlformats.org/officeDocument/2006/relationships/image" Target="../media/image6.jpeg"/><Relationship Id="rId12" Type="http://schemas.openxmlformats.org/officeDocument/2006/relationships/hyperlink" Target="http://www.mchs.gov.ru/images/5024_21.1124804705.863.jpg" TargetMode="External"/><Relationship Id="rId13" Type="http://schemas.openxmlformats.org/officeDocument/2006/relationships/image" Target="../media/image7.jpeg"/><Relationship Id="rId14" Type="http://schemas.openxmlformats.org/officeDocument/2006/relationships/hyperlink" Target="http://simba.flamber.ru/files/photos/1163149743/1191714042_f.jpg" TargetMode="External"/><Relationship Id="rId15" Type="http://schemas.openxmlformats.org/officeDocument/2006/relationships/image" Target="../media/image8.jpeg"/><Relationship Id="rId16" Type="http://schemas.openxmlformats.org/officeDocument/2006/relationships/hyperlink" Target="http://wiki.traditio.ru/images/thumb/f/ff/Skif.jpg/300px-Skif.jpg" TargetMode="External"/><Relationship Id="rId17" Type="http://schemas.openxmlformats.org/officeDocument/2006/relationships/image" Target="../media/image9.jpe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ts.mosfont.ru/tb/tver/1/7_20070223.jpg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www.rus-trade.net/foto/s_6520.jpg" TargetMode="External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egagarage.ru/wp-content/uploads/2010/08/&#1057;&#1088;&#1086;&#1095;&#1085;&#1099;&#1081;-&#1074;&#1099;&#1082;&#1091;&#1087;-&#1072;&#1074;&#1090;&#1086;.png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://powerclip.ru/uploads/photos/3055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utoreview.ru/archive/2006/21/tyres/750/vintertest-14.jpg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www.vitbichi.by/wp-content/uploads/2010/12/68786468898.jpg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englishrussia.com/images/bus_on_fire/0.jpg" TargetMode="External"/><Relationship Id="rId7" Type="http://schemas.openxmlformats.org/officeDocument/2006/relationships/image" Target="../media/image18.jpeg"/><Relationship Id="rId8" Type="http://schemas.openxmlformats.org/officeDocument/2006/relationships/hyperlink" Target="http://cs153.vkontakte.ru/u8052160/2762952/x_2336f713.jpg" TargetMode="External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00"/>
                </a:solidFill>
                <a:latin typeface="Rockwell"/>
              </a:rPr>
              <a:t>Безопасность на транспорте.</a:t>
            </a:r>
            <a:endParaRPr b="0" lang="en-US" sz="8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6165720"/>
            <a:ext cx="6400800" cy="3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6a2a"/>
                </a:solidFill>
                <a:latin typeface="Tahoma"/>
              </a:rPr>
              <a:t>Подготовила: Ваганова Н.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6920" y="5300640"/>
            <a:ext cx="7726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Особенно это опасно у пассажирского транспорта.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404640"/>
            <a:ext cx="781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Экстремальные ситуации - если на скорости случился пробой колеса.</a:t>
            </a: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1700280"/>
            <a:ext cx="579600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8920" y="259920"/>
            <a:ext cx="57099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Перевозить  детей в легковых машинах разрешено только в специальных креслах!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3213000"/>
            <a:ext cx="3996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Назначение детских авто-кресел – удерживать ребенка в безопасном положении в случае столкновения, экстремального торможения или резкого манев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Картинка 274 из 328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549360"/>
            <a:ext cx="2616120" cy="2325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Картинка 2 из 4603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67280" y="2852640"/>
            <a:ext cx="49435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89000"/>
            <a:ext cx="8218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003300"/>
                </a:solidFill>
                <a:latin typeface="Tahoma"/>
              </a:rPr>
              <a:t>Правила безопасного поведения на транспорте</a:t>
            </a: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1) при ожидании автобуса (трамвая, троллейбуса) на остановке не приближайтесь к транспорту ближе, чем на 0,5 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2) когда машина (автобус, троллейбус) подходит к остановке, не спешите встать в первом ряд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3) войдя в транспор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не задерживайтес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на подножк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проходите в салон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292720" y="3860640"/>
            <a:ext cx="277164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11280" y="1125360"/>
            <a:ext cx="4932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Нельзя отвлекать водителя во время движения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Нельзя разговаривать во время вождения любого вида транспорта по телефону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35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549360"/>
            <a:ext cx="3695760" cy="2211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Картинка 243 из 3285">
            <a:hlinkClick r:id="rId4"/>
          </p:cNvPr>
          <p:cNvPicPr/>
          <p:nvPr/>
        </p:nvPicPr>
        <p:blipFill>
          <a:blip r:embed="rId5"/>
          <a:srcRect l="0" t="0" r="0" b="15789"/>
          <a:stretch/>
        </p:blipFill>
        <p:spPr>
          <a:xfrm>
            <a:off x="2411280" y="3284640"/>
            <a:ext cx="62294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907920"/>
            <a:ext cx="5554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4)при пользовании общественным (и других видов владения) транспортом не высовывайтесь из окна и держитесь за поручни;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Картинка 40 из 107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549360"/>
            <a:ext cx="2832120" cy="2832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Картинка 51 из 107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4000" y="3860640"/>
            <a:ext cx="2808000" cy="2808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Картинка 56 из 107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51280" y="3068640"/>
            <a:ext cx="48769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4868640"/>
            <a:ext cx="864216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5) выйдя из транспорта на тротуар, дождитесь, когда автобус, троллейбус или трамвай отъедет, и только после этого начинайте переход улиц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265120" cy="2254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Картинка 48 из 3892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620640"/>
            <a:ext cx="619128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3716280"/>
            <a:ext cx="6119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7) никогда не садитесь на ступени движущегося эскалатора;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8) если вы спешите, двигайтесь по эскалатору спокойно, держась за поручни;</a:t>
            </a:r>
            <a:br>
              <a:rPr sz="2800"/>
            </a:b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pic>
        <p:nvPicPr>
          <p:cNvPr id="150" name="" descr="Картинка 178 из 13599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04640"/>
            <a:ext cx="5327640" cy="3529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Картинка 6 из 13600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00720" y="4653000"/>
            <a:ext cx="2568600" cy="1941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867280" y="333360"/>
            <a:ext cx="309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6) пользуясь эскалатором, стойте справа, держась за поручни;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3280" y="404280"/>
            <a:ext cx="4197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9) ожидая поезда в метро, не подходите к краю платформы, находитесь за предупредительной полос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10) будьте особенно внимательны, выходя из последних дверей последнего вагона поезда метр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Картинка 8 из 136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549360"/>
            <a:ext cx="407016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333360"/>
            <a:ext cx="85899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003300"/>
                </a:solidFill>
                <a:latin typeface="Tahoma"/>
              </a:rPr>
              <a:t>Меры безопасности на железнодорожном транспорт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1) не открывать при движении поезда наружные двер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2) нельзя высовываться из окон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3) тщательно укладывать свой багаж на верхних полках, при этом хорошо зафиксировать его на случай возможно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падения при экстренно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торможении или авар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Картинка 66 из 3449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4365720"/>
            <a:ext cx="339408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67280" y="3644640"/>
            <a:ext cx="5076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Дети, а так же пассажиры верхних полок во время сна фиксируются специальными ремнями для из безопасного проез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Картинка 63 из 12087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189000"/>
            <a:ext cx="4572000" cy="3422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Картинка 89 из 70513"/>
          <p:cNvPicPr/>
          <p:nvPr/>
        </p:nvPicPr>
        <p:blipFill>
          <a:blip r:embed="rId4"/>
          <a:stretch/>
        </p:blipFill>
        <p:spPr>
          <a:xfrm>
            <a:off x="179280" y="189000"/>
            <a:ext cx="4129200" cy="3090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Картинка 105 из 71070"/>
          <p:cNvPicPr/>
          <p:nvPr/>
        </p:nvPicPr>
        <p:blipFill>
          <a:blip r:embed="rId5"/>
          <a:stretch/>
        </p:blipFill>
        <p:spPr>
          <a:xfrm>
            <a:off x="250920" y="3645000"/>
            <a:ext cx="401940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50920" y="908640"/>
            <a:ext cx="8740080" cy="5326920"/>
            <a:chOff x="250920" y="908640"/>
            <a:chExt cx="8740080" cy="5326920"/>
          </a:xfrm>
        </p:grpSpPr>
        <p:cxnSp>
          <p:nvCxnSpPr>
            <p:cNvPr id="86" name="_s7180"/>
            <p:cNvCxnSpPr/>
            <p:nvPr/>
          </p:nvCxnSpPr>
          <p:spPr>
            <a:xfrm flipV="1" rot="16200000">
              <a:off x="5077080" y="1844640"/>
              <a:ext cx="1531800" cy="2399040"/>
            </a:xfrm>
            <a:prstGeom prst="bentConnector3">
              <a:avLst>
                <a:gd name="adj1" fmla="val 3932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" name="_s7179"/>
            <p:cNvCxnSpPr>
              <a:stCxn id="88" idx="0"/>
              <a:endCxn id="89" idx="2"/>
            </p:cNvCxnSpPr>
            <p:nvPr/>
          </p:nvCxnSpPr>
          <p:spPr>
            <a:xfrm flipV="1">
              <a:off x="4607280" y="2493720"/>
              <a:ext cx="3240" cy="2733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" name="_s7178"/>
            <p:cNvCxnSpPr/>
            <p:nvPr/>
          </p:nvCxnSpPr>
          <p:spPr>
            <a:xfrm flipH="1" flipV="1" rot="5400000">
              <a:off x="2633040" y="1841400"/>
              <a:ext cx="1524960" cy="2399400"/>
            </a:xfrm>
            <a:prstGeom prst="bentConnector3">
              <a:avLst>
                <a:gd name="adj1" fmla="val 4014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9" name="_s7174"/>
            <p:cNvSpPr/>
            <p:nvPr/>
          </p:nvSpPr>
          <p:spPr>
            <a:xfrm>
              <a:off x="2988360" y="908640"/>
              <a:ext cx="3237480" cy="1585080"/>
            </a:xfrm>
            <a:prstGeom prst="roundRect">
              <a:avLst>
                <a:gd name="adj" fmla="val 16667"/>
              </a:avLst>
            </a:prstGeom>
            <a:solidFill>
              <a:srgbClr val="4d6a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ff"/>
                  </a:solidFill>
                  <a:latin typeface="Tahoma"/>
                </a:rPr>
                <a:t>Транспорт</a:t>
              </a: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7175"/>
            <p:cNvSpPr/>
            <p:nvPr/>
          </p:nvSpPr>
          <p:spPr>
            <a:xfrm>
              <a:off x="250920" y="3787920"/>
              <a:ext cx="3914640" cy="993240"/>
            </a:xfrm>
            <a:prstGeom prst="roundRect">
              <a:avLst>
                <a:gd name="adj" fmla="val 16667"/>
              </a:avLst>
            </a:prstGeom>
            <a:solidFill>
              <a:srgbClr val="4d6a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ffffff"/>
                  </a:solidFill>
                  <a:latin typeface="Tahoma"/>
                </a:rPr>
                <a:t>По  месту  движения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_s7176"/>
            <p:cNvSpPr/>
            <p:nvPr/>
          </p:nvSpPr>
          <p:spPr>
            <a:xfrm>
              <a:off x="3058200" y="5226480"/>
              <a:ext cx="3097800" cy="1009080"/>
            </a:xfrm>
            <a:prstGeom prst="roundRect">
              <a:avLst>
                <a:gd name="adj" fmla="val 16667"/>
              </a:avLst>
            </a:prstGeom>
            <a:solidFill>
              <a:srgbClr val="4d6a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ffffff"/>
                  </a:solidFill>
                  <a:latin typeface="Tahoma"/>
                </a:rPr>
                <a:t>По назначению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7177"/>
            <p:cNvSpPr/>
            <p:nvPr/>
          </p:nvSpPr>
          <p:spPr>
            <a:xfrm>
              <a:off x="5076360" y="3787920"/>
              <a:ext cx="3914640" cy="993240"/>
            </a:xfrm>
            <a:prstGeom prst="roundRect">
              <a:avLst>
                <a:gd name="adj" fmla="val 16667"/>
              </a:avLst>
            </a:prstGeom>
            <a:solidFill>
              <a:srgbClr val="4d6a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ffffff"/>
                  </a:solidFill>
                  <a:latin typeface="Tahoma"/>
                </a:rPr>
                <a:t>По  принадлежности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4) не срывать без необходимости стоп-кран. Даже при пожаре нельзя останавливать поезд на мосту, в туннеле и других местах, где может осложниться эвакуац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5) при круше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или экстренно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торможе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самое важное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закрепитьс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чтобы пр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падении избежа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трав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Картинка 103 из 120873">
            <a:hlinkClick r:id="rId2"/>
          </p:cNvPr>
          <p:cNvPicPr/>
          <p:nvPr/>
        </p:nvPicPr>
        <p:blipFill>
          <a:blip r:embed="rId3"/>
          <a:srcRect l="8504" t="0" r="0" b="0"/>
          <a:stretch/>
        </p:blipFill>
        <p:spPr>
          <a:xfrm>
            <a:off x="3995640" y="2527200"/>
            <a:ext cx="478944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50403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6) переходить железнодорожные пути только в местах, безопасных для перехода, – по подземному туннелю, надземному мостику или по служебным и специальным переходам, где проложены шпалы или железобетонные плитки, в других местах неположено и опасно – ваша нога может быть зажата между рельсами в месте стрелочного автоматического перев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Картинка 86 из 211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260280"/>
            <a:ext cx="1943280" cy="3456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Картинка 113 из 37382"/>
          <p:cNvPicPr/>
          <p:nvPr/>
        </p:nvPicPr>
        <p:blipFill>
          <a:blip r:embed="rId4"/>
          <a:stretch/>
        </p:blipFill>
        <p:spPr>
          <a:xfrm>
            <a:off x="5076720" y="3825720"/>
            <a:ext cx="3780000" cy="28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915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ahoma"/>
              </a:rPr>
              <a:t>Особенност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ahoma"/>
              </a:rPr>
              <a:t>поведения в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ahoma"/>
              </a:rPr>
              <a:t>авиационном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ahoma"/>
              </a:rPr>
              <a:t>транспорт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1) изучить памятки, прослушать инструкции экипаж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2) застегнуть ремень, подогнав его под свою фигур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3) при разгерметиза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самолета немедленн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надеть кислородну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маску, помоч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сделать это соседя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859280" y="3933720"/>
            <a:ext cx="3976920" cy="2675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Картинка 69 из 83425"/>
          <p:cNvPicPr/>
          <p:nvPr/>
        </p:nvPicPr>
        <p:blipFill>
          <a:blip r:embed="rId3"/>
          <a:stretch/>
        </p:blipFill>
        <p:spPr>
          <a:xfrm>
            <a:off x="324000" y="189000"/>
            <a:ext cx="309564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Картинка 21 из 323"/>
          <p:cNvPicPr/>
          <p:nvPr/>
        </p:nvPicPr>
        <p:blipFill>
          <a:blip r:embed="rId2"/>
          <a:stretch/>
        </p:blipFill>
        <p:spPr>
          <a:xfrm>
            <a:off x="324000" y="404640"/>
            <a:ext cx="8569080" cy="59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00"/>
                </a:solidFill>
                <a:latin typeface="Tahoma"/>
              </a:rPr>
              <a:t>Сразу после остановки самолета в случае вынужденной посадки следует</a:t>
            </a: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5256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1) покинуть самолет через основной или аварийный выход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2) отбежать от самоле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3) оказать первую медицинскую помощь пострадавшим пассажира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4) оборудовать временное убежище из обломков самолета, веток, снег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5) собрать в одно место воду, еду, теплые вещ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Картинка 42 из 33567"/>
          <p:cNvPicPr/>
          <p:nvPr/>
        </p:nvPicPr>
        <p:blipFill>
          <a:blip r:embed="rId2"/>
          <a:stretch/>
        </p:blipFill>
        <p:spPr>
          <a:xfrm>
            <a:off x="5364000" y="1413000"/>
            <a:ext cx="363708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Счастливого полёта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" descr="Картинка 83 из 8342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620640"/>
            <a:ext cx="709272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40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3300"/>
                </a:solidFill>
                <a:latin typeface="Tahoma"/>
              </a:rPr>
              <a:t>Меры безопасности на речном и морском транспорт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Ступая на борт судна речного или морского типа, пассажир полностью подчиняется власти и командам капитана (касающихся пассажиров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а такж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помощник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капита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Картинка 1 из 7457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08360" y="2924280"/>
            <a:ext cx="507672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Tahoma"/>
              </a:rPr>
              <a:t>Обязанности пассажира на борту судн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1) разобраться, как пользоваться спасательными и противопожарными средствами и где они на судне находятся (в ящиках, на стенках, в шкафах кают), ознакомиться с судовыми памятками для пассажи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2) при возникновен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чрезвычайной ситуа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точно выполня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указания капитан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его помощников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экипажа судн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Картинка 60 из 47015"/>
          <p:cNvPicPr/>
          <p:nvPr/>
        </p:nvPicPr>
        <p:blipFill>
          <a:blip r:embed="rId2"/>
          <a:srcRect l="0" t="0" r="24831" b="0"/>
          <a:stretch/>
        </p:blipFill>
        <p:spPr>
          <a:xfrm>
            <a:off x="5076720" y="3284640"/>
            <a:ext cx="38163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3628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3) при эвакуации в первую очередь борт судна покидают женщины, дети, раненые и старые люди;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4) немедленно бросить спасательный круг, если человек упал за бор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Картинка 10 из 74575">
            <a:hlinkClick r:id="rId2"/>
          </p:cNvPr>
          <p:cNvPicPr/>
          <p:nvPr/>
        </p:nvPicPr>
        <p:blipFill>
          <a:blip r:embed="rId3"/>
          <a:srcRect l="4252" t="0" r="12070" b="0"/>
          <a:stretch/>
        </p:blipFill>
        <p:spPr>
          <a:xfrm>
            <a:off x="4284720" y="2421000"/>
            <a:ext cx="4608360" cy="4122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Картинка 27 из 10967"/>
          <p:cNvPicPr/>
          <p:nvPr/>
        </p:nvPicPr>
        <p:blipFill>
          <a:blip r:embed="rId4"/>
          <a:stretch/>
        </p:blipFill>
        <p:spPr>
          <a:xfrm>
            <a:off x="611280" y="3141720"/>
            <a:ext cx="349236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По  месту  движения</a:t>
            </a: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9280" y="1916280"/>
          <a:ext cx="8785440" cy="4320720"/>
        </p:xfrm>
        <a:graphic>
          <a:graphicData uri="http://schemas.openxmlformats.org/drawingml/2006/table">
            <a:tbl>
              <a:tblPr/>
              <a:tblGrid>
                <a:gridCol w="2197080"/>
                <a:gridCol w="2195640"/>
                <a:gridCol w="2197080"/>
                <a:gridCol w="2195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Rockwell"/>
                        </a:rPr>
                        <a:t>назем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Rockwell"/>
                        </a:rPr>
                        <a:t>вод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Rockwell"/>
                        </a:rPr>
                        <a:t>воздуш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Rockwell"/>
                        </a:rPr>
                        <a:t>подзем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" descr="Картинка 13 из 3997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852640"/>
            <a:ext cx="2016000" cy="1511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Картинка 31 из 11872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4581360"/>
            <a:ext cx="2017440" cy="1513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Картинка 17 из 1423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411280" y="2852640"/>
            <a:ext cx="2049480" cy="1536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Картинка 10 из 3146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484360" y="4508640"/>
            <a:ext cx="2009880" cy="1590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Картинка 34 из 3853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643280" y="2852640"/>
            <a:ext cx="2062440" cy="1551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Картинка 32 из 14914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643280" y="4630680"/>
            <a:ext cx="2049480" cy="1419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Картинка 25 из 46212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877080" y="278136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Картинка 67 из 2980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164360" y="4292640"/>
            <a:ext cx="1403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5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9500"/>
                            </p:stCondLst>
                            <p:childTnLst>
                              <p:par>
                                <p:cTn id="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По  назначению</a:t>
            </a: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95280" y="2421000"/>
          <a:ext cx="8229600" cy="3384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Rockwell"/>
                        </a:rPr>
                        <a:t>пассажир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Rockwell"/>
                        </a:rPr>
                        <a:t>грузов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Rockwell"/>
                        </a:rPr>
                        <a:t>специ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3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Картинка 15 из 80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3789360"/>
            <a:ext cx="2521080" cy="1674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Картинка 10 из 532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3640" y="3716280"/>
            <a:ext cx="2590560" cy="1762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5940360" y="3716280"/>
            <a:ext cx="262404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По  принадлежности</a:t>
            </a: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981080"/>
          <a:ext cx="8229600" cy="3824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Rockwell"/>
                        </a:rPr>
                        <a:t>лич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Rockwell"/>
                        </a:rPr>
                        <a:t>обществен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Картинка 74 из 136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2637000"/>
            <a:ext cx="3240000" cy="3240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Картинка 105 из 12220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2781360"/>
            <a:ext cx="39261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549360"/>
            <a:ext cx="826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Проблемы, связанные с возникновением чрезвычайных ситуаций на транспорте, присущи всем странам мира. В последние годы резко возросло число личных автомобилей, движение стало намного интенсивнее и поэтому возрастает риск различного рода авар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Картинка 10 из 117921"/>
          <p:cNvPicPr/>
          <p:nvPr/>
        </p:nvPicPr>
        <p:blipFill>
          <a:blip r:embed="rId2"/>
          <a:stretch/>
        </p:blipFill>
        <p:spPr>
          <a:xfrm>
            <a:off x="2700360" y="3589200"/>
            <a:ext cx="4427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280" y="549360"/>
            <a:ext cx="801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Главные причины ЧС на автомобильном транспорт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- различные нарушения правил дорожного движ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- техническая неисправность автомобил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- превышение скорости движ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- управление автомобилем в нетрезвом состоян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- плохие дороги (в том числе и скользкие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- неисправности автомобилей (прежде всего – тормозной системы и рулевого управлени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311120"/>
            <a:ext cx="82296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- недостаточная подготовка лиц, управляющих автомобилями, слабая их реакция, низкая эмоциональная устойчив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- невыполнение правил перевозки опасных грузов и несоблюдение при этом необходимых требований безопас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Иногда на проезжей части можно видеть открытые люки, не огороженные и неосвещенные участки ремонтных работ, отсутствие предупреждающих об опасности знаков. Все это в совокупности приводит к огромным человеческим потеря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Картинка 40 из 32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260280"/>
            <a:ext cx="3672000" cy="3052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Картинка 214 из 328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67280" y="3476520"/>
            <a:ext cx="4789440" cy="3189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Картинка 10 из 13600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0" y="260280"/>
            <a:ext cx="3855960" cy="3160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Картинка 106 из 53094">
            <a:hlinkClick r:id="rId8"/>
          </p:cNvPr>
          <p:cNvPicPr/>
          <p:nvPr/>
        </p:nvPicPr>
        <p:blipFill>
          <a:blip r:embed="rId9"/>
          <a:srcRect l="14511" t="0" r="0" b="0"/>
          <a:stretch/>
        </p:blipFill>
        <p:spPr>
          <a:xfrm>
            <a:off x="539640" y="3500280"/>
            <a:ext cx="339732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8T12:00:53Z</dcterms:created>
  <dc:creator>Наталья</dc:creator>
  <dc:description/>
  <dc:language>en-US</dc:language>
  <cp:lastModifiedBy>User</cp:lastModifiedBy>
  <dcterms:modified xsi:type="dcterms:W3CDTF">2011-11-15T14:36:59Z</dcterms:modified>
  <cp:revision>12</cp:revision>
  <dc:subject/>
  <dc:title>Транспорт </dc:title>
</cp:coreProperties>
</file>