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rain.wav" ContentType="audio/x-wav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AC4-F1CC-40F8-812A-4FCF3567D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учитель географии СОШ № 34 г. Енакиево Донецкая область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C31-E9FE-433C-8309-55AB77AE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FDB-7359-48BF-BEBB-ECCE474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29E-03B5-4057-850F-6E2BCC69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8CA-1F81-474E-9355-92B8607E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E647-627E-4F70-B32F-5F5D172B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064A-CFA1-4FB7-9020-B375701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50EC-F9FA-486F-9368-A34C37E4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B7C-4832-40C6-B390-1ABF3795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7A9-A238-4148-BEE9-79E56115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EFBE-A94C-41DB-8F1A-A37FDBF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B1E1-9A83-42F9-A549-06552A3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487-802C-44C5-B46D-56D1F0D0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4CFC-A7C9-46CD-BD0D-354E793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7714-71BF-4F34-840D-25DDD7A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9CE-6404-42C1-B2E5-FD3F5EF8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4090-23CB-4BEF-B90F-25162D7B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5C9-3AA8-4B75-A461-7184E76E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945-B71D-4CF6-9B57-CAE5DEE4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D68-DAE3-4911-A3B4-AD61805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DD5-4D2A-4919-86DA-A8277091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1D7-0C19-42E0-BDF6-9B0DD29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A82-E26B-4E55-B7AB-627765E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228-CBE6-4365-AF9F-8C332AB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545-CA2C-40ED-BAFA-B31FE33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066A-06DF-4A34-A665-F11E65F0E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E48-F3D8-4454-AD5D-89C046A6B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Атмосферные</a:t>
            </a:r>
            <a:br>
              <a:rPr sz="7200"/>
            </a:b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осадки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080" y="5516640"/>
            <a:ext cx="4345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ария Ирина Владими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СОШ №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накиево Донецкая область Укра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1640" y="5157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Кучев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f856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64080" y="22860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360036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1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a4"/>
                </a:solidFill>
                <a:latin typeface="Arial"/>
              </a:rPr>
              <a:t>Рос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7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Дожд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rain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64000" y="3635280"/>
            <a:ext cx="4680000" cy="322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33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95335"/>
                </a:solidFill>
                <a:latin typeface="Arial"/>
              </a:rPr>
              <a:t>Град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000" y="5300640"/>
            <a:ext cx="293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Иней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1:22:44Z</dcterms:created>
  <dc:creator>Рома</dc:creator>
  <dc:description/>
  <dc:language>en-US</dc:language>
  <cp:lastModifiedBy>Мама</cp:lastModifiedBy>
  <dcterms:modified xsi:type="dcterms:W3CDTF">2014-06-18T23:31:56Z</dcterms:modified>
  <cp:revision>9</cp:revision>
  <dc:subject/>
  <dc:title>Слайд 1</dc:title>
</cp:coreProperties>
</file>