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F93-07DE-48B4-9F54-90D8EF2AC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186-D7C6-4519-AC3D-355C6615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8B2-EDDA-4ADA-A088-CEB96175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B25-0A09-4BBE-B646-4315F2A6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585-3092-409E-BB54-DEE411E3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3832-C467-4FE3-8045-AB6CAE74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B46-9C90-488B-B9D6-27260ED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DBDB-3517-4B5A-8FDC-85CC58A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217-3577-4972-A48D-AFD0040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8DB3-DC6E-4616-81B0-5A80D2E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AB6A-ADD0-4EF8-931E-E980509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908B-C3F0-4799-845B-93A23C4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F3E-271D-4B5D-9CE9-85BDEED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BC2C-E31F-4E61-ABB7-9BB50C3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6F11-FB39-4980-A26B-380D942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15F-CBFC-4316-80BA-7C70E456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E4D5-0FF3-4BA4-A1B2-F3008814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7B76-76C1-4573-ABEB-73812B9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D2F-70F8-4D6C-8687-37758D53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412-AD12-4AC7-815F-61E184E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755-A11D-4215-BB22-FDD33087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0F7-61DC-4E0E-8118-9F2A044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F70-B36E-460E-B432-8CDDF4B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635-343E-4C1B-9E1D-FB01D50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49F-5CCC-4B13-90E1-FE41D3B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DFE6-44BC-41C8-A64D-635F14DE7A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3DE-1BF5-4716-BD30-F224977558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Мама</cp:lastModifiedBy>
  <dcterms:modified xsi:type="dcterms:W3CDTF">2014-06-18T23:31:56Z</dcterms:modified>
  <cp:revision>9</cp:revision>
  <dc:subject/>
  <dc:title>Слайд 1</dc:title>
</cp:coreProperties>
</file>