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rain.wav" ContentType="audio/x-wav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958A-2852-4547-92BB-0F12C83E4B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гария Ирина Владимировна учитель географии СОШ № 34 г. Енакиево Донецкая область 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C56-2F7A-4AE3-AADB-F74C97D2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A5B-A91F-4C4D-8F22-76570314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116-7415-44E6-BCC8-B26397EC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ADF-41B6-43E1-B40C-7EBC40B8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CE2A-98A8-48D5-9F77-C26DA24E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9F93-87F8-4F1D-8E61-BA505039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25E4-E16C-4297-8EAB-8BC8A866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C713-CBB5-419F-AC81-75B440BC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72C1-09ED-4208-9BA7-090E3ED3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901F-9DA2-4078-B7AD-D75D8EB5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097F-4468-49B8-862C-C419465C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1D4-3085-4298-9FB7-82C46EF9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689B-7821-4089-BBC2-97AF7C87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A65B-8E01-4D02-BB1F-8DEE8B6D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BA69-9261-4996-8811-965E4E94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1ACF-D1F8-4115-9E14-B28962A1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BFD3-6070-4701-B86D-C312A882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138-FA6E-412F-81CE-FCCD0992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39EB-3F6C-402E-B2C2-3A065A7F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BBF-7CE8-414C-90D4-CDFC7A58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08A-1C5B-4934-B246-1D94E390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424-89E9-49C2-89A0-9A09AEB7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865-32F7-4881-9F6E-4A792E95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15F-D5FB-40DE-B2AB-8454FC92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F666-9697-4D35-A7C1-4DBB7975E2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321E-373A-4CA2-BC84-C0A97917B3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ra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ad4bc"/>
                </a:solidFill>
                <a:latin typeface="Arial"/>
              </a:rPr>
              <a:t>Атмосферные</a:t>
            </a:r>
            <a:br>
              <a:rPr sz="7200"/>
            </a:br>
            <a:r>
              <a:rPr b="1" i="1" lang="en-US" sz="7200" spc="-1" strike="noStrike">
                <a:solidFill>
                  <a:srgbClr val="fad4bc"/>
                </a:solidFill>
                <a:latin typeface="Arial"/>
              </a:rPr>
              <a:t>осадки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080" y="5516640"/>
            <a:ext cx="43459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гария Ирина Владимиро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географии СОШ № 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Енакиево Донецкая область Укра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1640" y="5157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a4"/>
                </a:solidFill>
                <a:latin typeface="Arial"/>
              </a:rPr>
              <a:t>Кучевые облак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f856"/>
                </a:solidFill>
                <a:latin typeface="Arial"/>
              </a:rPr>
              <a:t>Перистые обла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64080" y="228600"/>
            <a:ext cx="514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Слоистые облак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360036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Туман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138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Снег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a4"/>
                </a:solidFill>
                <a:latin typeface="Arial"/>
              </a:rPr>
              <a:t>Роса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wheel spokes="2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76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Arial"/>
              </a:rPr>
              <a:t>Дождь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plus/>
    <p:sndAc>
      <p:stSnd>
        <p:snd r:embed="rId3" name="rain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464000" y="3635280"/>
            <a:ext cx="4680000" cy="322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33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95335"/>
                </a:solidFill>
                <a:latin typeface="Arial"/>
              </a:rPr>
              <a:t>Град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40000" y="5300640"/>
            <a:ext cx="293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Arial"/>
              </a:rPr>
              <a:t>Иней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Молния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1:22:44Z</dcterms:created>
  <dc:creator>Рома</dc:creator>
  <dc:description/>
  <dc:language>en-US</dc:language>
  <cp:lastModifiedBy>Мама</cp:lastModifiedBy>
  <dcterms:modified xsi:type="dcterms:W3CDTF">2014-06-18T23:31:56Z</dcterms:modified>
  <cp:revision>9</cp:revision>
  <dc:subject/>
  <dc:title>Слайд 1</dc:title>
</cp:coreProperties>
</file>