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3BE-AFC1-466E-B2DD-30CE7BEC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11F-FD3B-4158-9D49-8D1CA5C3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7E2-D33D-4466-A541-6F1A8DB5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DCB-BC63-4B9E-A03D-8DE2A25F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8209-EF15-4D00-A043-1FFAD173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F9A8-5765-4808-BC62-AAED7B21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0B42-9974-40F8-9483-D72E2B31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AD1F-A6EF-4B52-BED1-CEF03535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B3A7-F163-4973-ACB9-12D43292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73F4-EC1C-45A5-B392-A39DA2A8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AC9E-354B-4760-B86E-79BEFD79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A9B-92DF-45B7-9BA7-AC766466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82B0-3627-4540-B21C-9BB7F45D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0FB9-67A2-43AF-BFE0-5BF8B8BF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F843-F93E-4A15-864F-440C5FA5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7D45-DC61-4F22-B98C-6ED71E8D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5928-3BCF-40FB-873B-4642A014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BB37E-D54D-4F33-A75E-60F55AAA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5C82F-C589-4459-AD56-29C35F64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B14C2-2E24-454D-8C06-EA6B1948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F383-F55C-41AD-8257-138154BC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0523A-1820-4BF8-9CF4-92B0DE43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018-FD4A-4222-8CD4-81F0F7E6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CBF37-0D35-4B71-AB8B-A96D7F67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1A537-A52A-479E-B2B6-82FAA873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F4F9C-3AD4-4A4A-85DE-DF55B22F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7EBA7-5324-43EF-812C-A7C423A9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A1883-AEFD-46F6-8BFD-B29A20AE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E6080-B481-4CE1-AF79-245D2F0D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0FE0B-DAD6-47DB-A07C-47912A60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ED7-D9DD-4070-AF85-45D66C12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685-058E-49D9-B776-1FDAF6E1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26AF-51E7-4705-88CF-D86F3731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16D-0D0F-4B29-9DAD-E60591DD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655-CDFD-4517-BA6B-35EA1ECB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9A2-4BB1-491B-9588-03FB79FB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A760-D606-4E56-BEC5-462227067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A134-0BE9-480C-BB02-DBB4650996F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14E8-513F-4FD4-9AAB-344EF43382B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b812f"/>
                </a:solidFill>
                <a:latin typeface="Garamond"/>
              </a:rPr>
              <a:t>Конспект урока алгебры в 8 классе по теме: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4200" spc="-1" strike="noStrike">
                <a:solidFill>
                  <a:srgbClr val="ff0066"/>
                </a:solidFill>
                <a:latin typeface="Garamond"/>
              </a:rPr>
              <a:t>«Алгебраические дроби»</a:t>
            </a:r>
            <a:r>
              <a:rPr b="1" i="1" lang="en-US" sz="3300" spc="-1" strike="noStrike">
                <a:solidFill>
                  <a:srgbClr val="ff0066"/>
                </a:solidFill>
                <a:latin typeface="Garamond"/>
              </a:rPr>
              <a:t>.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Автор: Обухова Елена Александровна, учитель математики МОУ СОШ № 12 г. Сочи, Краснодарск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solidFill>
            <a:srgbClr val="ffffcc"/>
          </a:solidFill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Сократите дроб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1484280"/>
          <a:ext cx="9144000" cy="5373720"/>
        </p:xfrm>
        <a:graphic>
          <a:graphicData uri="http://schemas.openxmlformats.org/drawingml/2006/table">
            <a:tbl>
              <a:tblPr/>
              <a:tblGrid>
                <a:gridCol w="1771560"/>
                <a:gridCol w="1757520"/>
                <a:gridCol w="1441440"/>
                <a:gridCol w="1361880"/>
                <a:gridCol w="1359000"/>
                <a:gridCol w="1452600"/>
              </a:tblGrid>
              <a:tr h="13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835280" y="1557360"/>
                <a:ext cx="1657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92360" y="2852640"/>
                <a:ext cx="18716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5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692360" y="4149720"/>
                <a:ext cx="18716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63640" y="5432400"/>
                <a:ext cx="1728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851280" y="1700280"/>
                <a:ext cx="10080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292720" y="1700280"/>
                <a:ext cx="10080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732720" y="1700280"/>
                <a:ext cx="8636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8101080" y="1700280"/>
                <a:ext cx="1042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851280" y="4365720"/>
                <a:ext cx="1079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292720" y="4437000"/>
                <a:ext cx="1008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732720" y="4365720"/>
                <a:ext cx="93492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101080" y="4365720"/>
                <a:ext cx="876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924360" y="5661000"/>
                <a:ext cx="909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369040" y="5661000"/>
                <a:ext cx="846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840360" y="5661000"/>
                <a:ext cx="527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8148600" y="5661000"/>
                <a:ext cx="63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0" y="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ыполните дел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)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х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572000" y="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ыполните умноже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342900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ыполните дел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)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572000" y="342900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ыполните умноже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)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74680" y="1341360"/>
                <a:ext cx="22575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11280" y="1989000"/>
                <a:ext cx="371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843280" y="1989000"/>
                <a:ext cx="649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39640" y="2708280"/>
                <a:ext cx="64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724360" y="1341360"/>
                <a:ext cx="2232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219640" y="1989000"/>
                <a:ext cx="585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516800" y="1989000"/>
                <a:ext cx="58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219640" y="2708280"/>
                <a:ext cx="6098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451640" y="2637000"/>
                <a:ext cx="5446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378080" y="4724280"/>
                <a:ext cx="18525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059280" y="5445000"/>
                <a:ext cx="544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84360" y="6093000"/>
                <a:ext cx="6411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987640" y="6165720"/>
                <a:ext cx="6652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596360" y="5445000"/>
                <a:ext cx="544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24360" y="4797360"/>
                <a:ext cx="2232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292720" y="6093000"/>
                <a:ext cx="6253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524720" y="6165720"/>
                <a:ext cx="6476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ccffff"/>
          </a:solidFill>
          <a:ln w="63360">
            <a:solidFill>
              <a:srgbClr val="003366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Упростите выра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600200"/>
          <a:ext cx="9144000" cy="5173560"/>
        </p:xfrm>
        <a:graphic>
          <a:graphicData uri="http://schemas.openxmlformats.org/drawingml/2006/table">
            <a:tbl>
              <a:tblPr/>
              <a:tblGrid>
                <a:gridCol w="1523880"/>
                <a:gridCol w="2401920"/>
                <a:gridCol w="1368360"/>
                <a:gridCol w="1295640"/>
                <a:gridCol w="1295280"/>
                <a:gridCol w="1258920"/>
              </a:tblGrid>
              <a:tr h="12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2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3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547640" y="1700280"/>
                <a:ext cx="23767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284720" y="1844640"/>
                <a:ext cx="8222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651640" y="1844640"/>
                <a:ext cx="785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020000" y="1844640"/>
                <a:ext cx="758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8317080" y="2133720"/>
                <a:ext cx="826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547640" y="2997360"/>
                <a:ext cx="237672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84720" y="3141720"/>
                <a:ext cx="780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651640" y="3141720"/>
                <a:ext cx="80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948360" y="3141720"/>
                <a:ext cx="808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101080" y="3141720"/>
                <a:ext cx="80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547640" y="4221000"/>
                <a:ext cx="237672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284720" y="4365720"/>
                <a:ext cx="822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651640" y="4437000"/>
                <a:ext cx="785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948360" y="4437000"/>
                <a:ext cx="758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8317080" y="4581360"/>
                <a:ext cx="826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547640" y="5589720"/>
                <a:ext cx="23767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84720" y="5734080"/>
                <a:ext cx="780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651640" y="5734080"/>
                <a:ext cx="80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948360" y="5734080"/>
                <a:ext cx="808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172360" y="5734080"/>
                <a:ext cx="808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Arial"/>
              </a:rPr>
              <a:t>Информация для учител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тветы к тесту:                         Оценка тес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0920" y="2205000"/>
          <a:ext cx="4968720" cy="3309840"/>
        </p:xfrm>
        <a:graphic>
          <a:graphicData uri="http://schemas.openxmlformats.org/drawingml/2006/table">
            <a:tbl>
              <a:tblPr/>
              <a:tblGrid>
                <a:gridCol w="1800000"/>
                <a:gridCol w="792360"/>
                <a:gridCol w="792000"/>
                <a:gridCol w="865440"/>
                <a:gridCol w="718920"/>
              </a:tblGrid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ариант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ариант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ариант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ариант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5651640" y="2421000"/>
            <a:ext cx="3260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ждое верно решенное задание оценивается в 1 балл, неверное – 0 б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 балла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балла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 балла -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3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-1 баллов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2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спользуемая литерату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Алгебра 8 класс», часть 1, учебник, под редакцией А.Г. Мордковича, Мнемозина, 20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Алгебра 8 класс», часть 2, задачник, под редакцией А.Г. Мордковича, Мнемозина, 20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Тематический сборник тестовых заданий по алгебре для подготовки к государственной (итоговой) аттестации в новой форме», базовый уровень, под редакцией Е.А. Семенко, Просвещение-Юг, Краснодар,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Экзаменационные тестовые задания», Федеральная служба по надзору в сфере образования и науки РФ,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раевые диагностические работы по алгебре в 9 классе», Департамент образования и науки Краснодарского края, ККИДППО,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500"/>
                            </p:stCondLst>
                            <p:childTnLst>
                              <p:par>
                                <p:cTn id="6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500"/>
                            </p:stCondLst>
                            <p:childTnLst>
                              <p:par>
                                <p:cTn id="6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Тип урока:</a:t>
            </a:r>
            <a:r>
              <a:rPr b="1" i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3400" spc="-1" strike="noStrike">
                <a:solidFill>
                  <a:srgbClr val="3b812f"/>
                </a:solidFill>
                <a:latin typeface="Garamond"/>
              </a:rPr>
              <a:t>обобщение.</a:t>
            </a:r>
            <a:br>
              <a:rPr sz="3400"/>
            </a:b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Цели урока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b812f"/>
                </a:solidFill>
                <a:uFillTx/>
                <a:latin typeface="Arial"/>
              </a:rPr>
              <a:t>Образовательные: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. Обобщение и систематизация знаний учащихся по теме «Алгебраические дроб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. Закрепление навыков решения тестовых заданий по данной 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b812f"/>
                </a:solidFill>
                <a:uFillTx/>
                <a:latin typeface="Arial"/>
              </a:rPr>
              <a:t>Развивающие: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. Формирование и развитие умения мыслить и анализир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. Развитие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b812f"/>
                </a:solidFill>
                <a:uFillTx/>
                <a:latin typeface="Arial"/>
              </a:rPr>
              <a:t>Воспитывающ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). Воспитание умения работать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. Воспитание умения выдерживать регламент времени, отведенного на решение каждо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. Привитие интереса к предм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овторение основных понятий.</a:t>
            </a:r>
            <a:br>
              <a:rPr sz="3200"/>
            </a:b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Новые </a:t>
            </a: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термины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 математического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Алгебраическая дроб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выражение            , 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член Р(х)-числитель алгебраической дроби, 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х)-ее знамен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2.    Основное свойство алгебраической дроб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и числитель и знаменатель алгебраической дроби можно умножить (разделить) на один и тот же не равный 0 многоч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3.    Рациональное уравн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уравнение вида          =0, гд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х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4.    Степень с отрицательным показател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гд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натуральное число и 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667640" y="4076640"/>
                <a:ext cx="7207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659640" y="1197000"/>
                <a:ext cx="792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116000" y="5373720"/>
                <a:ext cx="230364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mph" presetID="2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4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9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4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69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Алгоритм приведения алгебраических дробей к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щему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 знаменат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Разложить все знаменатели на множ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. Найти наименьшее общее кратное для числовых коэффици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Составить произведение, включив в него НОК коэффициентов и все буквенные множители. Одинаковые множители берем один раз. Из всех степеней с одинаковым основанием берем множитель с наибольшим показателем степени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4. Найти дополнительные множители для каждой из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. Найти для каждой дроби новый числитель как произведения числителя на дополнительный множ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6. Записать каждую дробь с новым числителем и новым (общим) знаменате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mph" presetID="2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50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09" dur="50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10" dur="50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100"/>
                            </p:stCondLst>
                            <p:childTnLst>
                              <p:par>
                                <p:cTn id="11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100"/>
                            </p:stCondLst>
                            <p:childTnLst>
                              <p:par>
                                <p:cTn id="117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3100"/>
                            </p:stCondLst>
                            <p:childTnLst>
                              <p:par>
                                <p:cTn id="12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100"/>
                            </p:stCondLst>
                            <p:childTnLst>
                              <p:par>
                                <p:cTn id="127" nodeType="afterEffect" fill="hold" presetClass="entr" presetID="7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5100"/>
                            </p:stCondLst>
                            <p:childTnLst>
                              <p:par>
                                <p:cTn id="1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10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Упростить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ервый эт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=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а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а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а=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а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Общий знамена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(2а-1)(2а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ополнительные множит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первой дроби: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 второй дроби: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(2а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торой эт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76720" y="189000"/>
                <a:ext cx="342756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03640" y="1989000"/>
                <a:ext cx="208944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003640" y="2708280"/>
                <a:ext cx="374508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003640" y="3645000"/>
                <a:ext cx="2376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932360" y="4437000"/>
                <a:ext cx="4032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796000" y="5445000"/>
                <a:ext cx="180036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8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280"/>
                            </p:stCondLst>
                            <p:childTnLst>
                              <p:par>
                                <p:cTn id="16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328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28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7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8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70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248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648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848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0480"/>
                            </p:stCondLst>
                            <p:childTnLst>
                              <p:par>
                                <p:cTn id="216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748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Правила умножения и деления алгебраических дробей, возведения алгебраической дроби в натуральную степ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176720" cy="52293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Умно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Возведение в степен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476360" y="2133720"/>
                <a:ext cx="1800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76360" y="3645000"/>
                <a:ext cx="18716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403280" y="5504040"/>
                <a:ext cx="201636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80000" y="1965240"/>
                <a:ext cx="27370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003640" y="2852640"/>
                <a:ext cx="374508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435640" y="3933720"/>
                <a:ext cx="34574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u</m:t>
                        </m:r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003640" y="4724280"/>
                <a:ext cx="3473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508720" y="5589720"/>
                <a:ext cx="295272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8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88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32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32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680"/>
                            </p:stCondLst>
                            <p:childTnLst>
                              <p:par>
                                <p:cTn id="2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68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48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348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48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748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948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648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Свойства степени с отрицательным целым показате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Тождества справедливы для а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  <a:ea typeface="Arial"/>
              </a:rPr>
              <a:t>≠0,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b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  <a:ea typeface="Arial"/>
              </a:rPr>
              <a:t>≠0,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s,t –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  <a:ea typeface="Arial"/>
              </a:rPr>
              <a:t>произвольные целые 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  <a:ea typeface="Arial"/>
              </a:rPr>
              <a:t>·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 +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: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 –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(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(ab)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  <a:ea typeface="Arial"/>
              </a:rPr>
              <a:t>·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b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(a : b)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: b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+(-5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8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: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-(-3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el-G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-3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5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(4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0,5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6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0,5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6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(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 = 8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880"/>
                            </p:stCondLst>
                            <p:childTnLst>
                              <p:par>
                                <p:cTn id="3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96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320"/>
                            </p:stCondLst>
                            <p:childTnLst>
                              <p:par>
                                <p:cTn id="3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320"/>
                            </p:stCondLst>
                            <p:childTnLst>
                              <p:par>
                                <p:cTn id="3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320"/>
                            </p:stCondLst>
                            <p:childTnLst>
                              <p:par>
                                <p:cTn id="3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320"/>
                            </p:stCondLst>
                            <p:childTnLst>
                              <p:par>
                                <p:cTn id="3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320"/>
                            </p:stCondLst>
                            <p:childTnLst>
                              <p:par>
                                <p:cTn id="3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3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9720"/>
                            </p:stCondLst>
                            <p:childTnLst>
                              <p:par>
                                <p:cTn id="36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2720"/>
                            </p:stCondLst>
                            <p:childTnLst>
                              <p:par>
                                <p:cTn id="366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3720"/>
                            </p:stCondLst>
                            <p:childTnLst>
                              <p:par>
                                <p:cTn id="371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4720"/>
                            </p:stCondLst>
                            <p:childTnLst>
                              <p:par>
                                <p:cTn id="376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Самостоятель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99"/>
                </a:solidFill>
                <a:latin typeface="Arial"/>
              </a:rPr>
              <a:t>Выполните тес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ремя работы – 25 мину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92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34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64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Выполните действ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67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3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/81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268360" y="692280"/>
                <a:ext cx="2303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4572000" y="0"/>
          <a:ext cx="4572000" cy="3436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46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кажите выражение тождественно равное данн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а</a:t>
                      </a:r>
                      <a:r>
                        <a:rPr b="1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9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0" y="342900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Запишите в виде одночлена выражени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82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ав  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276720" y="472428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70" name=""/>
          <p:cNvGraphicFramePr/>
          <p:nvPr/>
        </p:nvGraphicFramePr>
        <p:xfrm>
          <a:off x="4572000" y="3421080"/>
          <a:ext cx="4572000" cy="3436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46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кажите выражение тождественно равное данн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 а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49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093080" y="4221000"/>
                <a:ext cx="5032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451640" y="5373720"/>
                <a:ext cx="505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076720" y="6021360"/>
                <a:ext cx="719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15:37:15Z</dcterms:created>
  <dc:creator>Admin</dc:creator>
  <dc:description/>
  <dc:language>en-US</dc:language>
  <cp:lastModifiedBy>Admin</cp:lastModifiedBy>
  <dcterms:modified xsi:type="dcterms:W3CDTF">2009-07-17T09:31:14Z</dcterms:modified>
  <cp:revision>36</cp:revision>
  <dc:subject/>
  <dc:title>Конспект урока алгебры в 8 классе по теме: «Алгебраические дроби».</dc:title>
</cp:coreProperties>
</file>