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150F-1EC4-4DFC-A286-35CCC504F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ACC6-2F38-4E22-9D2D-1814FAAC2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A017-AB2D-4D42-A6A4-4723B685E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4147-BF3D-4FE4-B7F6-D533CA5CD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46F00-E574-4AFE-B3E3-8AD069F9B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D738F-EAA7-41FB-86CF-BA5825F44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0309D-B7FB-405C-BF89-B7E20C733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2BDA3-4EDB-4BE4-B9C3-1160C5E25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E0555-B6A3-46B7-AEC2-509B09B34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3E59E-A6F7-42D8-8BBF-61642B6E2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CE7C4-B1F5-4F93-993C-C30CE51A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4CEF-A75A-4B47-8836-481394A52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604FB-281E-41A4-8960-F6E7F152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51873-3F12-40C7-8346-DBB8BECF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B5C67-3286-47A4-86A3-B7B266A46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6B254-BE4F-4075-B7A8-A3131A296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C9FB1-83F0-40E9-96CB-625E42076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F6D47-6E4C-4241-BC14-7C26EA769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00E15-CD53-4BD4-BC9B-4EFFECB9C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07222-E03E-40BA-9319-833AD6A4F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04C28-3A02-4B13-A479-8DDDA6BD6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BDB69-D4A7-4FBB-9D00-C3161C041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6838-830F-40F6-8398-523C12B4F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8AAEB-0A3C-4A17-9406-1BD634ED7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EEB6C-9032-40C8-87B2-C942F5ED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CD6CB-393E-4898-8612-4C4CCB29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89831-7971-4C1F-86C2-F22847F0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11FE7-07E5-4ABF-A0ED-88DC2BD6D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0FA67-877A-43AF-8495-11095DB11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994DE-2DF7-44F3-A901-CB93BB4DB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058C-51AB-4CFC-9A30-9952CB9A1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E98F-4027-46DD-9F6C-ADEFA8553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7C5C-7F39-4D8B-93B7-BECF3E429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492C-7F96-4596-9B8B-487465CB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D935-A9FF-4C24-8FD4-2D1F4B75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0B4A-0C7B-401B-AD06-136D49C0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CF329-0790-4441-88CE-3006EBB742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B9223-66FD-464B-9D31-CC3FA30C461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CDB7E-1921-47FC-9CD1-06CD8987FE4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b812f"/>
                </a:solidFill>
                <a:latin typeface="Garamond"/>
              </a:rPr>
              <a:t>Конспект урока алгебры в 8 классе по теме: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i="1" lang="en-US" sz="4200" spc="-1" strike="noStrike">
                <a:solidFill>
                  <a:srgbClr val="ff0066"/>
                </a:solidFill>
                <a:latin typeface="Garamond"/>
              </a:rPr>
              <a:t>«Алгебраические дроби»</a:t>
            </a:r>
            <a:r>
              <a:rPr b="1" i="1" lang="en-US" sz="3300" spc="-1" strike="noStrike">
                <a:solidFill>
                  <a:srgbClr val="ff0066"/>
                </a:solidFill>
                <a:latin typeface="Garamond"/>
              </a:rPr>
              <a:t>.</a:t>
            </a:r>
            <a:endParaRPr b="0" lang="en-US" sz="3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Автор: Обухова Елена Александровна, учитель математики МОУ СОШ № 12 г. Сочи, Краснодарского кр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2009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solidFill>
            <a:srgbClr val="ffffcc"/>
          </a:solidFill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0000cc"/>
                </a:solidFill>
                <a:latin typeface="Arial"/>
              </a:rPr>
              <a:t>Сократите дроб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0" y="1484280"/>
          <a:ext cx="9144000" cy="5373720"/>
        </p:xfrm>
        <a:graphic>
          <a:graphicData uri="http://schemas.openxmlformats.org/drawingml/2006/table">
            <a:tbl>
              <a:tblPr/>
              <a:tblGrid>
                <a:gridCol w="1771560"/>
                <a:gridCol w="1757520"/>
                <a:gridCol w="1441440"/>
                <a:gridCol w="1361880"/>
                <a:gridCol w="1359000"/>
                <a:gridCol w="1452600"/>
              </a:tblGrid>
              <a:tr h="134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ариант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34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ариант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)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)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3)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4)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34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ариант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34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ариант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835280" y="1557360"/>
                <a:ext cx="165708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y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692360" y="2852640"/>
                <a:ext cx="187164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num>
                      <m:den>
                        <m:r>
                          <m:t xml:space="preserve">5</m:t>
                        </m:r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1692360" y="4149720"/>
                <a:ext cx="1871640" cy="13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763640" y="5432400"/>
                <a:ext cx="1728720" cy="14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3851280" y="1700280"/>
                <a:ext cx="100800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5292720" y="1700280"/>
                <a:ext cx="100800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6732720" y="1700280"/>
                <a:ext cx="86364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8101080" y="1700280"/>
                <a:ext cx="104292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3851280" y="4365720"/>
                <a:ext cx="107964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5292720" y="4437000"/>
                <a:ext cx="10080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6732720" y="4365720"/>
                <a:ext cx="93492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101080" y="4365720"/>
                <a:ext cx="87624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3924360" y="5661000"/>
                <a:ext cx="9097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5369040" y="5661000"/>
                <a:ext cx="8460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6840360" y="5661000"/>
                <a:ext cx="5274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8148600" y="5661000"/>
                <a:ext cx="6350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random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9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8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4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7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3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6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9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5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8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1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7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0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34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0" y="0"/>
          <a:ext cx="4572000" cy="34290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</a:tblGrid>
              <a:tr h="68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ариант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Выполните деление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)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х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4572000" y="0"/>
          <a:ext cx="4572000" cy="34290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</a:tblGrid>
              <a:tr h="68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ариант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Выполните умножение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0" y="3429000"/>
          <a:ext cx="4572000" cy="34290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</a:tblGrid>
              <a:tr h="68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ариант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Выполните деление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)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4572000" y="3429000"/>
          <a:ext cx="4572000" cy="34290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</a:tblGrid>
              <a:tr h="68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ариант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Выполните умножение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)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174680" y="1341360"/>
                <a:ext cx="22575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611280" y="1989000"/>
                <a:ext cx="3715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2843280" y="1989000"/>
                <a:ext cx="64908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539640" y="2708280"/>
                <a:ext cx="6476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5724360" y="1341360"/>
                <a:ext cx="223236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5219640" y="1989000"/>
                <a:ext cx="58572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7516800" y="1989000"/>
                <a:ext cx="585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5219640" y="2708280"/>
                <a:ext cx="60984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7451640" y="2637000"/>
                <a:ext cx="5446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1378080" y="4724280"/>
                <a:ext cx="185256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059280" y="5445000"/>
                <a:ext cx="5443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684360" y="6093000"/>
                <a:ext cx="64116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2987640" y="6165720"/>
                <a:ext cx="66528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7596360" y="5445000"/>
                <a:ext cx="5443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5724360" y="4797360"/>
                <a:ext cx="223236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292720" y="6093000"/>
                <a:ext cx="62532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7524720" y="6165720"/>
                <a:ext cx="64764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random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5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8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1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4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0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6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9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2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5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8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solidFill>
            <a:srgbClr val="ccffff"/>
          </a:solidFill>
          <a:ln w="63360">
            <a:solidFill>
              <a:srgbClr val="003366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Упростите выраж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0" y="1600200"/>
          <a:ext cx="9144000" cy="5173560"/>
        </p:xfrm>
        <a:graphic>
          <a:graphicData uri="http://schemas.openxmlformats.org/drawingml/2006/table">
            <a:tbl>
              <a:tblPr/>
              <a:tblGrid>
                <a:gridCol w="1523880"/>
                <a:gridCol w="2401920"/>
                <a:gridCol w="1368360"/>
                <a:gridCol w="1295640"/>
                <a:gridCol w="1295280"/>
                <a:gridCol w="1258920"/>
              </a:tblGrid>
              <a:tr h="128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ариант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22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ариант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335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ариант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33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ариант 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547640" y="1700280"/>
                <a:ext cx="237672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4284720" y="1844640"/>
                <a:ext cx="8222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5651640" y="1844640"/>
                <a:ext cx="7855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7020000" y="1844640"/>
                <a:ext cx="7588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8317080" y="2133720"/>
                <a:ext cx="82692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547640" y="2997360"/>
                <a:ext cx="2376720" cy="102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4284720" y="3141720"/>
                <a:ext cx="78084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5651640" y="3141720"/>
                <a:ext cx="8078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6948360" y="3141720"/>
                <a:ext cx="8082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8101080" y="3141720"/>
                <a:ext cx="8078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1547640" y="4221000"/>
                <a:ext cx="237672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y</m:t>
                            </m:r>
                          </m:den>
                        </m:f>
                      </m:e>
                    </m:d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284720" y="4365720"/>
                <a:ext cx="82224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5651640" y="4437000"/>
                <a:ext cx="7855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6948360" y="4437000"/>
                <a:ext cx="7588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8317080" y="4581360"/>
                <a:ext cx="82692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547640" y="5589720"/>
                <a:ext cx="237672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4284720" y="5734080"/>
                <a:ext cx="78084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5651640" y="5734080"/>
                <a:ext cx="8078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6948360" y="5734080"/>
                <a:ext cx="8082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8172360" y="5734080"/>
                <a:ext cx="8082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random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0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3300"/>
                </a:solidFill>
                <a:latin typeface="Arial"/>
              </a:rPr>
              <a:t>Информация для учител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893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Ответы к тесту:                         Оценка тес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50920" y="2205000"/>
          <a:ext cx="4968720" cy="3309840"/>
        </p:xfrm>
        <a:graphic>
          <a:graphicData uri="http://schemas.openxmlformats.org/drawingml/2006/table">
            <a:tbl>
              <a:tblPr/>
              <a:tblGrid>
                <a:gridCol w="1800000"/>
                <a:gridCol w="792360"/>
                <a:gridCol w="792000"/>
                <a:gridCol w="865440"/>
                <a:gridCol w="718920"/>
              </a:tblGrid>
              <a:tr h="662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Зад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Вариант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Вариант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Вариант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1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Вариант 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"/>
          <p:cNvSpPr/>
          <p:nvPr/>
        </p:nvSpPr>
        <p:spPr>
          <a:xfrm>
            <a:off x="5651640" y="2421000"/>
            <a:ext cx="32605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ждое верно решенное задание оценивается в 1 балл, неверное – 0 бал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4 балла –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«5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3 балла –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«4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2 балла -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«3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0-1 баллов –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«2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4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5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6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Используемая литератур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Алгебра 8 класс», часть 1, учебник, под редакцией А.Г. Мордковича, Мнемозина, 2007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Алгебра 8 класс», часть 2, задачник, под редакцией А.Г. Мордковича, Мнемозина, 2007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Тематический сборник тестовых заданий по алгебре для подготовки к государственной (итоговой) аттестации в новой форме», базовый уровень, под редакцией Е.А. Семенко, Просвещение-Юг, Краснодар, 2008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Экзаменационные тестовые задания», Федеральная служба по надзору в сфере образования и науки РФ, 2008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Краевые диагностические работы по алгебре в 9 классе», Департамент образования и науки Краснодарского края, ККИДППО, 2008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5500"/>
                            </p:stCondLst>
                            <p:childTnLst>
                              <p:par>
                                <p:cTn id="67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10500"/>
                            </p:stCondLst>
                            <p:childTnLst>
                              <p:par>
                                <p:cTn id="67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5500"/>
                            </p:stCondLst>
                            <p:childTnLst>
                              <p:par>
                                <p:cTn id="68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20500"/>
                            </p:stCondLst>
                            <p:childTnLst>
                              <p:par>
                                <p:cTn id="68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33"/>
                </a:solidFill>
                <a:latin typeface="Garamond"/>
              </a:rPr>
              <a:t>Тип урока:</a:t>
            </a:r>
            <a:r>
              <a:rPr b="1" i="1" lang="en-US" sz="34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i="1" lang="en-US" sz="3400" spc="-1" strike="noStrike">
                <a:solidFill>
                  <a:srgbClr val="3b812f"/>
                </a:solidFill>
                <a:latin typeface="Garamond"/>
              </a:rPr>
              <a:t>обобщение.</a:t>
            </a:r>
            <a:br>
              <a:rPr sz="3400"/>
            </a:br>
            <a:r>
              <a:rPr b="1" lang="en-US" sz="3400" spc="-1" strike="noStrike">
                <a:solidFill>
                  <a:srgbClr val="006633"/>
                </a:solidFill>
                <a:latin typeface="Garamond"/>
              </a:rPr>
              <a:t>Цели урока: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b812f"/>
                </a:solidFill>
                <a:uFillTx/>
                <a:latin typeface="Arial"/>
              </a:rPr>
              <a:t>Образовательные: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). Обобщение и систематизация знаний учащихся по теме «Алгебраические дроб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). Закрепление навыков решения тестовых заданий по данной тем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b812f"/>
                </a:solidFill>
                <a:uFillTx/>
                <a:latin typeface="Arial"/>
              </a:rPr>
              <a:t>Развивающие: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). Формирование и развитие умения мыслить и анализиро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). Развитие памя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b812f"/>
                </a:solidFill>
                <a:uFillTx/>
                <a:latin typeface="Arial"/>
              </a:rPr>
              <a:t>Воспитывающие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а). Воспитание умения работать самостоят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). Воспитание умения выдерживать регламент времени, отведенного на решение каждого зад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). Привитие интереса к предме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50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0"/>
                            </p:stCondLst>
                            <p:childTnLst>
                              <p:par>
                                <p:cTn id="2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750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Повторение основных понятий.</a:t>
            </a:r>
            <a:br>
              <a:rPr sz="3200"/>
            </a:b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Новые </a:t>
            </a:r>
            <a:r>
              <a:rPr b="1" i="1" lang="en-US" sz="2800" spc="-1" strike="noStrike" u="sng">
                <a:solidFill>
                  <a:srgbClr val="ff0066"/>
                </a:solidFill>
                <a:uFillTx/>
                <a:latin typeface="Arial"/>
              </a:rPr>
              <a:t>термины</a:t>
            </a: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 математического язы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00"/>
                </a:solidFill>
                <a:latin typeface="Arial"/>
              </a:rPr>
              <a:t>Алгебраическая дроб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выражение            , г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ногочлен Р(х)-числитель алгебраической дроби, 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х)-ее знаменат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00"/>
                </a:solidFill>
                <a:latin typeface="Arial"/>
              </a:rPr>
              <a:t>2.    Основное свойство алгебраической дроб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и числитель и знаменатель алгебраической дроби можно умножить (разделить) на один и тот же не равный 0 многочл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00"/>
                </a:solidFill>
                <a:latin typeface="Arial"/>
              </a:rPr>
              <a:t>3.    Рациональное уравнен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уравнение вида          =0, гд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х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00"/>
                </a:solidFill>
                <a:latin typeface="Arial"/>
              </a:rPr>
              <a:t>4.    Степень с отрицательным показателе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гд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натуральное число и 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7667640" y="4076640"/>
                <a:ext cx="7207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6659640" y="1197000"/>
                <a:ext cx="7920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116000" y="5373720"/>
                <a:ext cx="2303640" cy="14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0"/>
                            </p:stCondLst>
                            <p:childTnLst>
                              <p:par>
                                <p:cTn id="55" nodeType="afterEffect" fill="hold" presetClass="emph" presetID="20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500" autoRev="1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57" dur="500" autoRev="1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58" dur="500" autoRev="1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4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9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14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6900"/>
                            </p:stCondLst>
                            <p:childTnLst>
                              <p:par>
                                <p:cTn id="87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Алгоритм приведения алгебраических дробей к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общему</a:t>
            </a: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 знаменател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. Разложить все знаменатели на множите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2. Найти наименьшее общее кратное для числовых коэффициен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3. Составить произведение, включив в него НОК коэффициентов и все буквенные множители. Одинаковые множители берем один раз. Из всех степеней с одинаковым основанием берем множитель с наибольшим показателем степени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4. Найти дополнительные множители для каждой из дроб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5. Найти для каждой дроби новый числитель как произведения числителя на дополнительный множите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6. Записать каждую дробь с новым числителем и новым (общим) знаменател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mph" presetID="20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500" autoRev="1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109" dur="500" autoRev="1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110" dur="500" autoRev="1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9100"/>
                            </p:stCondLst>
                            <p:childTnLst>
                              <p:par>
                                <p:cTn id="112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6100"/>
                            </p:stCondLst>
                            <p:childTnLst>
                              <p:par>
                                <p:cTn id="117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3100"/>
                            </p:stCondLst>
                            <p:childTnLst>
                              <p:par>
                                <p:cTn id="122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0100"/>
                            </p:stCondLst>
                            <p:childTnLst>
                              <p:par>
                                <p:cTn id="127" nodeType="afterEffect" fill="hold" presetClass="entr" presetID="7" presetSubtype="4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5100"/>
                            </p:stCondLst>
                            <p:childTnLst>
                              <p:par>
                                <p:cTn id="13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60100"/>
                            </p:stCondLst>
                            <p:childTnLst>
                              <p:par>
                                <p:cTn id="13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Упростить выраж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Первый эта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а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1=(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2а-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2а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а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а=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2а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Общий знаменател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(2а-1)(2а+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Дополнительные множите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 первой дроби: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 второй дроби:    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(2а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торой эта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5076720" y="189000"/>
                <a:ext cx="3427560" cy="13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003640" y="1989000"/>
                <a:ext cx="2089440" cy="7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5003640" y="2708280"/>
                <a:ext cx="374508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5003640" y="3645000"/>
                <a:ext cx="237672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4932360" y="4437000"/>
                <a:ext cx="40323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5796000" y="5445000"/>
                <a:ext cx="180036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random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800"/>
                            </p:stCondLst>
                            <p:childTnLst>
                              <p:par>
                                <p:cTn id="151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800"/>
                            </p:stCondLst>
                            <p:childTnLst>
                              <p:par>
                                <p:cTn id="155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280"/>
                            </p:stCondLst>
                            <p:childTnLst>
                              <p:par>
                                <p:cTn id="161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3280"/>
                            </p:stCondLst>
                            <p:childTnLst>
                              <p:par>
                                <p:cTn id="166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280"/>
                            </p:stCondLst>
                            <p:childTnLst>
                              <p:par>
                                <p:cTn id="171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3000"/>
                            </p:stCondLst>
                            <p:childTnLst>
                              <p:par>
                                <p:cTn id="177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0000"/>
                            </p:stCondLst>
                            <p:childTnLst>
                              <p:par>
                                <p:cTn id="182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3000"/>
                            </p:stCondLst>
                            <p:childTnLst>
                              <p:par>
                                <p:cTn id="188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40000"/>
                            </p:stCondLst>
                            <p:childTnLst>
                              <p:par>
                                <p:cTn id="193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7000"/>
                            </p:stCondLst>
                            <p:childTnLst>
                              <p:par>
                                <p:cTn id="198" nodeType="afterEffect" fill="hold" presetClass="entr" presetID="27">
                                  <p:stCondLst>
                                    <p:cond delay="5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2480"/>
                            </p:stCondLst>
                            <p:childTnLst>
                              <p:par>
                                <p:cTn id="204" nodeType="after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6480"/>
                            </p:stCondLst>
                            <p:childTnLst>
                              <p:par>
                                <p:cTn id="2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8480"/>
                            </p:stCondLst>
                            <p:childTnLst>
                              <p:par>
                                <p:cTn id="212" nodeType="afterEffect" fill="hold" presetClass="entr" presetID="8" presetSubtype="1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70480"/>
                            </p:stCondLst>
                            <p:childTnLst>
                              <p:par>
                                <p:cTn id="216" nodeType="afterEffect" fill="hold" presetClass="entr" presetID="8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77480"/>
                            </p:stCondLst>
                            <p:childTnLst>
                              <p:par>
                                <p:cTn id="220" nodeType="afterEffect" fill="hold" presetClass="entr" presetID="8" presetSubtype="1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Правила умножения и деления алгебраических дробей, возведения алгебраической дроби в натуральную степ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176720" cy="522936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Умнож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Дел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Возведение в степен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Наприме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476360" y="2133720"/>
                <a:ext cx="180036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476360" y="3645000"/>
                <a:ext cx="187164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403280" y="5504040"/>
                <a:ext cx="201636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b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580000" y="1965240"/>
                <a:ext cx="273708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5003640" y="2852640"/>
                <a:ext cx="374508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y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435640" y="3933720"/>
                <a:ext cx="345744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u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p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v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u</m:t>
                        </m:r>
                      </m:num>
                      <m:den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5003640" y="4724280"/>
                <a:ext cx="34736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u</m:t>
                            </m:r>
                          </m:e>
                        </m:d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u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⋅</m:t>
                        </m:r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5508720" y="5589720"/>
                <a:ext cx="2952720" cy="96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random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800"/>
                            </p:stCondLst>
                            <p:childTnLst>
                              <p:par>
                                <p:cTn id="2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880"/>
                            </p:stCondLst>
                            <p:childTnLst>
                              <p:par>
                                <p:cTn id="2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4320"/>
                            </p:stCondLst>
                            <p:childTnLst>
                              <p:par>
                                <p:cTn id="2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320"/>
                            </p:stCondLst>
                            <p:childTnLst>
                              <p:par>
                                <p:cTn id="2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8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6680"/>
                            </p:stCondLst>
                            <p:childTnLst>
                              <p:par>
                                <p:cTn id="2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8680"/>
                            </p:stCondLst>
                            <p:childTnLst>
                              <p:par>
                                <p:cTn id="2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8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9480"/>
                            </p:stCondLst>
                            <p:childTnLst>
                              <p:par>
                                <p:cTn id="265" nodeType="after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3480"/>
                            </p:stCondLst>
                            <p:childTnLst>
                              <p:par>
                                <p:cTn id="269" nodeType="afterEffect" fill="hold" presetClass="entr" presetID="27">
                                  <p:stCondLst>
                                    <p:cond delay="10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7">
                                  <p:stCondLst>
                                    <p:cond delay="10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8" presetSubtype="1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480"/>
                            </p:stCondLst>
                            <p:childTnLst>
                              <p:par>
                                <p:cTn id="283" nodeType="afterEffect" fill="hold" presetClass="entr" presetID="8" presetSubtype="1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7480"/>
                            </p:stCondLst>
                            <p:childTnLst>
                              <p:par>
                                <p:cTn id="287" nodeType="afterEffect" fill="hold" presetClass="entr" presetID="27">
                                  <p:stCondLst>
                                    <p:cond delay="10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8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8" presetSubtype="1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49480"/>
                            </p:stCondLst>
                            <p:childTnLst>
                              <p:par>
                                <p:cTn id="296" nodeType="afterEffect" fill="hold" presetClass="entr" presetID="8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6480"/>
                            </p:stCondLst>
                            <p:childTnLst>
                              <p:par>
                                <p:cTn id="300" nodeType="afterEffect" fill="hold" presetClass="entr" presetID="27">
                                  <p:stCondLst>
                                    <p:cond delay="10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8" presetSubtype="1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Arial"/>
              </a:rPr>
              <a:t>Свойства степени с отрицательным целым показател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38160">
            <a:solidFill>
              <a:srgbClr val="00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Тождества справедливы для а</a:t>
            </a:r>
            <a:r>
              <a:rPr b="1" lang="ru-RU" sz="1600" spc="-1" strike="noStrike">
                <a:solidFill>
                  <a:srgbClr val="009900"/>
                </a:solidFill>
                <a:latin typeface="Arial"/>
                <a:ea typeface="Arial"/>
              </a:rPr>
              <a:t>≠0,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  <a:ea typeface="Arial"/>
              </a:rPr>
              <a:t>b</a:t>
            </a:r>
            <a:r>
              <a:rPr b="1" lang="ru-RU" sz="1600" spc="-1" strike="noStrike">
                <a:solidFill>
                  <a:srgbClr val="009900"/>
                </a:solidFill>
                <a:latin typeface="Arial"/>
                <a:ea typeface="Arial"/>
              </a:rPr>
              <a:t>≠0,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  <a:ea typeface="Arial"/>
              </a:rPr>
              <a:t>s,t – </a:t>
            </a:r>
            <a:r>
              <a:rPr b="1" lang="ru-RU" sz="1600" spc="-1" strike="noStrike">
                <a:solidFill>
                  <a:srgbClr val="009900"/>
                </a:solidFill>
                <a:latin typeface="Arial"/>
                <a:ea typeface="Arial"/>
              </a:rPr>
              <a:t>произвольные целые чис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a</a:t>
            </a:r>
            <a:r>
              <a:rPr b="1" lang="en-US" sz="32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s </a:t>
            </a:r>
            <a:r>
              <a:rPr b="1" lang="el-GR" sz="3200" spc="-1" strike="noStrike">
                <a:solidFill>
                  <a:srgbClr val="333399"/>
                </a:solidFill>
                <a:latin typeface="Arial"/>
                <a:ea typeface="Arial"/>
              </a:rPr>
              <a:t>·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 a</a:t>
            </a:r>
            <a:r>
              <a:rPr b="1" lang="en-US" sz="32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t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= a</a:t>
            </a:r>
            <a:r>
              <a:rPr b="1" lang="en-US" sz="32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s +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a</a:t>
            </a:r>
            <a:r>
              <a:rPr b="1" lang="en-US" sz="32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s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: a</a:t>
            </a:r>
            <a:r>
              <a:rPr b="1" lang="en-US" sz="32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t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= a</a:t>
            </a:r>
            <a:r>
              <a:rPr b="1" lang="en-US" sz="32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s –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(a</a:t>
            </a:r>
            <a:r>
              <a:rPr b="1" lang="en-US" sz="32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s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)</a:t>
            </a:r>
            <a:r>
              <a:rPr b="1" lang="en-US" sz="32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t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= a</a:t>
            </a:r>
            <a:r>
              <a:rPr b="1" lang="en-US" sz="32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(ab)</a:t>
            </a:r>
            <a:r>
              <a:rPr b="1" lang="en-US" sz="32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s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 = a</a:t>
            </a:r>
            <a:r>
              <a:rPr b="1" lang="en-US" sz="32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s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l-GR" sz="3200" spc="-1" strike="noStrike">
                <a:solidFill>
                  <a:srgbClr val="333399"/>
                </a:solidFill>
                <a:latin typeface="Arial"/>
                <a:ea typeface="Arial"/>
              </a:rPr>
              <a:t>·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 b</a:t>
            </a:r>
            <a:r>
              <a:rPr b="1" lang="en-US" sz="32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(a : b)</a:t>
            </a:r>
            <a:r>
              <a:rPr b="1" lang="en-US" sz="32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s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 = a</a:t>
            </a:r>
            <a:r>
              <a:rPr b="1" lang="en-US" sz="32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s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 : b</a:t>
            </a:r>
            <a:r>
              <a:rPr b="1" lang="en-US" sz="32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s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априме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а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5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= а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3+(-5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=а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8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: а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= а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-(-3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=а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(а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= а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2</a:t>
            </a:r>
            <a:r>
              <a:rPr b="1" lang="el-GR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(-3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=а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0,5а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(4а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= 0,5а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2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16а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6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= 0,5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16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(а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6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(в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) = 8а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880"/>
                            </p:stCondLst>
                            <p:childTnLst>
                              <p:par>
                                <p:cTn id="3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960"/>
                            </p:stCondLst>
                            <p:childTnLst>
                              <p:par>
                                <p:cTn id="3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4320"/>
                            </p:stCondLst>
                            <p:childTnLst>
                              <p:par>
                                <p:cTn id="33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320"/>
                            </p:stCondLst>
                            <p:childTnLst>
                              <p:par>
                                <p:cTn id="33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6320"/>
                            </p:stCondLst>
                            <p:childTnLst>
                              <p:par>
                                <p:cTn id="34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7320"/>
                            </p:stCondLst>
                            <p:childTnLst>
                              <p:par>
                                <p:cTn id="34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8320"/>
                            </p:stCondLst>
                            <p:childTnLst>
                              <p:par>
                                <p:cTn id="35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93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10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9720"/>
                            </p:stCondLst>
                            <p:childTnLst>
                              <p:par>
                                <p:cTn id="361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22720"/>
                            </p:stCondLst>
                            <p:childTnLst>
                              <p:par>
                                <p:cTn id="366" nodeType="afterEffect" fill="hold" presetClass="entr" presetID="7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33720"/>
                            </p:stCondLst>
                            <p:childTnLst>
                              <p:par>
                                <p:cTn id="371" nodeType="afterEffect" fill="hold" presetClass="entr" presetID="7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44720"/>
                            </p:stCondLst>
                            <p:childTnLst>
                              <p:par>
                                <p:cTn id="376" nodeType="afterEffect" fill="hold" presetClass="entr" presetID="7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Самостоятельная рабо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9999"/>
                </a:solidFill>
                <a:latin typeface="Arial"/>
              </a:rPr>
              <a:t>Выполните тес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ремя работы – 25 мину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920"/>
                            </p:stCondLst>
                            <p:childTnLst>
                              <p:par>
                                <p:cTn id="390" nodeType="afterEffect" fill="hold" presetClass="entr" presetID="27">
                                  <p:stCondLst>
                                    <p:cond delay="3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8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0" y="0"/>
          <a:ext cx="9143640" cy="6857640"/>
        </p:xfrm>
        <a:graphic>
          <a:graphicData uri="http://schemas.openxmlformats.org/drawingml/2006/table">
            <a:tbl>
              <a:tblPr/>
              <a:tblGrid>
                <a:gridCol w="4571640"/>
                <a:gridCol w="4572000"/>
              </a:tblGrid>
              <a:tr h="34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0" y="0"/>
          <a:ext cx="4572000" cy="34290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</a:tblGrid>
              <a:tr h="664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ариант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32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Выполните действия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67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)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а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)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а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38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3)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а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4)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/81а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268360" y="692280"/>
                <a:ext cx="230364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167" name=""/>
          <p:cNvGraphicFramePr/>
          <p:nvPr/>
        </p:nvGraphicFramePr>
        <p:xfrm>
          <a:off x="4572000" y="0"/>
          <a:ext cx="4572000" cy="343692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</a:tblGrid>
              <a:tr h="646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ариант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9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Укажите выражение тождественно равное данном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а</a:t>
                      </a:r>
                      <a:r>
                        <a:rPr b="1" lang="en-US" sz="4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4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1" lang="en-US" sz="4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9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)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а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)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а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62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3)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а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4)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а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0" y="3429000"/>
          <a:ext cx="4572000" cy="34290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</a:tblGrid>
              <a:tr h="679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ариант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87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Запишите в виде одночлена выражение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а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а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6829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)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ав           </a:t>
                      </a: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)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а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9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3)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а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        </a:t>
                      </a: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4)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а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276720" y="4724280"/>
                <a:ext cx="28872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170" name=""/>
          <p:cNvGraphicFramePr/>
          <p:nvPr/>
        </p:nvGraphicFramePr>
        <p:xfrm>
          <a:off x="4572000" y="3421080"/>
          <a:ext cx="4572000" cy="343692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</a:tblGrid>
              <a:tr h="646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ариант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9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Укажите выражение тождественно равное данном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  а</a:t>
                      </a:r>
                      <a:r>
                        <a:rPr b="1" lang="en-US" sz="3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3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1" lang="en-US" sz="3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649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)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а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62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3)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4)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а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7093080" y="4221000"/>
                <a:ext cx="50328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7451640" y="5373720"/>
                <a:ext cx="5050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5076720" y="6021360"/>
                <a:ext cx="71928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random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3T15:37:15Z</dcterms:created>
  <dc:creator>Admin</dc:creator>
  <dc:description/>
  <dc:language>en-US</dc:language>
  <cp:lastModifiedBy>Admin</cp:lastModifiedBy>
  <dcterms:modified xsi:type="dcterms:W3CDTF">2009-07-17T09:31:14Z</dcterms:modified>
  <cp:revision>36</cp:revision>
  <dc:subject/>
  <dc:title>Конспект урока алгебры в 8 классе по теме: «Алгебраические дроби».</dc:title>
</cp:coreProperties>
</file>