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93C681-3F4D-448B-815C-A4F18D2A7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29DB4B-E553-409C-A6E3-DBF84A0D631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477-E507-4E75-9099-2BB0E3F2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899-CB85-4270-AA48-3B08A651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5F8-A389-4B62-B3D2-FCB5B31F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9A1-5159-49BC-8781-3D378AEC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F02B-18CF-4E19-94CD-F565FC5B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8E4B-F8AD-464A-8E8E-CB02A6DF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9B51-FCA8-4B52-97DE-2B51C354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17C9-DF51-4343-BECB-BE522581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9DA0-EA8F-4F12-AB71-A2FF96D6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7475-9599-4017-9B32-8383F45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5D8-B7BC-48D0-8CA2-C880C275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5F0-8040-4DA8-AFA5-CA498D1D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BBF2-D94D-4577-8212-3B1C8FE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5067-5144-49D8-8786-32BF7919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EE8A-67E1-4BEE-ABDA-48FFADC8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BBA1-064F-47C0-9832-886ABCF9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79C9-CE4A-46B6-B146-2ABFD07A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BC3-73B2-4BDA-A63A-EDED4922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4ED-EF46-43CC-8430-545DABD1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A8A-EC3F-4EE1-86D4-71300EFE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FFE-EEA4-4880-BFD2-554EADE9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AB3-7BAC-4EC6-B8B2-19901D3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102-CACB-48C5-8AA8-8D3AC99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5FE-D0CC-4CC2-85FC-2491DF7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6D514F-6312-4D31-B68B-9A1CB93E2EE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EA5A72-F791-4117-8FC6-C5CDF658E4D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920" y="571320"/>
            <a:ext cx="8857800" cy="197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Пройдись по тихим школьным этажам…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29120" y="5429160"/>
            <a:ext cx="392868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Вечер встречи выпуск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2010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Administrator\Рабочий стол\Pub60Cor\SO00017_.WMF"/>
          <p:cNvPicPr/>
          <p:nvPr/>
        </p:nvPicPr>
        <p:blipFill>
          <a:blip r:embed="rId1"/>
          <a:stretch/>
        </p:blipFill>
        <p:spPr>
          <a:xfrm>
            <a:off x="142920" y="3929040"/>
            <a:ext cx="2214360" cy="2347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оследний урок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4" name="Picture 2" descr="C:\Documents and Settings\Administrator\Рабочий стол\Pub60Cor\TR00232_.WMF"/>
          <p:cNvPicPr/>
          <p:nvPr/>
        </p:nvPicPr>
        <p:blipFill>
          <a:blip r:embed="rId1"/>
          <a:stretch/>
        </p:blipFill>
        <p:spPr>
          <a:xfrm>
            <a:off x="5143680" y="1643040"/>
            <a:ext cx="2112480" cy="2066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714240" y="2928960"/>
            <a:ext cx="4071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С последнего урока как все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астенько «вылетали на раке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Выпускникам: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7238520" cy="36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В этой школе вы дружили с колыбели,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Дружбы этой не разбить годам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Много счастья пожелать мы вам хотели…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риходите в школу в гости к нам!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8" name="Picture 2" descr="C:\Documents and Settings\Administrator\Рабочий стол\Pub60Cor\SO00834_.WMF"/>
          <p:cNvPicPr/>
          <p:nvPr/>
        </p:nvPicPr>
        <p:blipFill>
          <a:blip r:embed="rId1"/>
          <a:stretch/>
        </p:blipFill>
        <p:spPr>
          <a:xfrm>
            <a:off x="6072120" y="4500720"/>
            <a:ext cx="1767960" cy="2192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ервая суббота февраля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" name="Picture 2" descr="C:\Documents and Settings\Administrator\Рабочий стол\Pub60Cor\TN00234_.WMF"/>
          <p:cNvPicPr/>
          <p:nvPr/>
        </p:nvPicPr>
        <p:blipFill>
          <a:blip r:embed="rId1"/>
          <a:stretch/>
        </p:blipFill>
        <p:spPr>
          <a:xfrm>
            <a:off x="571320" y="142920"/>
            <a:ext cx="1421640" cy="60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istrator\Рабочий стол\Pub60Cor\TN00211_.WMF"/>
          <p:cNvPicPr/>
          <p:nvPr/>
        </p:nvPicPr>
        <p:blipFill>
          <a:blip r:embed="rId2"/>
          <a:stretch/>
        </p:blipFill>
        <p:spPr>
          <a:xfrm>
            <a:off x="0" y="3143160"/>
            <a:ext cx="1398240" cy="555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istrator\Рабочий стол\Pub60Cor\TN00255_.WMF"/>
          <p:cNvPicPr/>
          <p:nvPr/>
        </p:nvPicPr>
        <p:blipFill>
          <a:blip r:embed="rId3"/>
          <a:stretch/>
        </p:blipFill>
        <p:spPr>
          <a:xfrm>
            <a:off x="0" y="5357880"/>
            <a:ext cx="1945800" cy="96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Administrator\Рабочий стол\Pub60Cor\TR00095_.WMF"/>
          <p:cNvPicPr/>
          <p:nvPr/>
        </p:nvPicPr>
        <p:blipFill>
          <a:blip r:embed="rId4"/>
          <a:stretch/>
        </p:blipFill>
        <p:spPr>
          <a:xfrm>
            <a:off x="6643800" y="2214720"/>
            <a:ext cx="1169640" cy="161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Documents and Settings\Administrator\Рабочий стол\Pub60Cor\TR00172_.WMF"/>
          <p:cNvPicPr/>
          <p:nvPr/>
        </p:nvPicPr>
        <p:blipFill>
          <a:blip r:embed="rId5"/>
          <a:stretch/>
        </p:blipFill>
        <p:spPr>
          <a:xfrm>
            <a:off x="5214960" y="4714920"/>
            <a:ext cx="2857320" cy="1773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1428840" y="2571840"/>
            <a:ext cx="52146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о всей стране, папы, мамы, бабушки и дедушки- все вдруг вспоминают, что когда-то учились в школе. И на всех видах транспорта стараются в этот день добраться до своего родного учебного за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Теплей человеку в дорогах тяжел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 суровом краю от т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то где-то на свете есть милая шко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Есть добрая школа ег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ервый звонок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00040" y="2571840"/>
            <a:ext cx="5285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ервый раз в первый класс вы приш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и писать, ни читать не ум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ы цветы на линейку не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ам красивую форму наде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ервый класс- это первый зво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Были радости, были невзг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ш учитель и первый уро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чинались так школьны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Administrator\Рабочий стол\Pub60Cor\BD19988_.WMF"/>
          <p:cNvPicPr/>
          <p:nvPr/>
        </p:nvPicPr>
        <p:blipFill>
          <a:blip r:embed="rId1"/>
          <a:stretch/>
        </p:blipFill>
        <p:spPr>
          <a:xfrm>
            <a:off x="5857920" y="4214880"/>
            <a:ext cx="1812600" cy="1812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Светлые классы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8" name="Picture 2" descr="C:\Documents and Settings\Administrator\Рабочий стол\Pub60Cor\J0101860.BMP"/>
          <p:cNvPicPr/>
          <p:nvPr/>
        </p:nvPicPr>
        <p:blipFill>
          <a:blip r:embed="rId1"/>
          <a:stretch/>
        </p:blipFill>
        <p:spPr>
          <a:xfrm>
            <a:off x="5357880" y="285840"/>
            <a:ext cx="2530080" cy="40716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428760" y="2714760"/>
            <a:ext cx="4500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е наяву и не во с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Без страха и без роб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Мы снова бродим по стра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Которой нет на глобу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 карту не нанесе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 знаем ты и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то есть она, что есть ст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Страна Школя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Исписанная мелом доск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Picture 2" descr="C:\Documents and Settings\Administrator\Рабочий стол\Pub60Cor\AG00052_.GIF"/>
          <p:cNvPicPr/>
          <p:nvPr/>
        </p:nvPicPr>
        <p:blipFill>
          <a:blip r:embed="rId1"/>
          <a:stretch/>
        </p:blipFill>
        <p:spPr>
          <a:xfrm>
            <a:off x="357120" y="2428920"/>
            <a:ext cx="2571480" cy="1571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286080" y="2643120"/>
            <a:ext cx="4000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 среднем, за 11 лет учебы в школе каждый класс исписывает около 50 кг. м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Строгие учителя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Picture 3" descr="C:\Documents and Settings\Administrator\Рабочий стол\Pub60Cor\SO00768_.WMF"/>
          <p:cNvPicPr/>
          <p:nvPr/>
        </p:nvPicPr>
        <p:blipFill>
          <a:blip r:embed="rId1"/>
          <a:stretch/>
        </p:blipFill>
        <p:spPr>
          <a:xfrm>
            <a:off x="6000840" y="1571760"/>
            <a:ext cx="1704600" cy="1854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571320" y="292896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ы нас простите за оши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ас будем помнить и люб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м нашу школу не за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И ваши добрые улы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отерянный дневник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0" name="Picture 2" descr="C:\Documents and Settings\Administrator\Рабочий стол\Pub60Cor\PE03257_.WMF"/>
          <p:cNvPicPr/>
          <p:nvPr/>
        </p:nvPicPr>
        <p:blipFill>
          <a:blip r:embed="rId1"/>
          <a:stretch/>
        </p:blipFill>
        <p:spPr>
          <a:xfrm>
            <a:off x="642960" y="2928960"/>
            <a:ext cx="2266560" cy="2339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3500280" y="3143160"/>
            <a:ext cx="4000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 школьной жизни все бы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Ученик дневник тер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И причину сочи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о которой его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Если «двойку» получ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От родителей скр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Тайно ручкой испра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тобы не было «бесе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57280"/>
            <a:ext cx="7238520" cy="409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Родительские нотации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4" name="Picture 2" descr="C:\Documents and Settings\Administrator\Рабочий стол\Pub60Cor\BD00146_.WMF"/>
          <p:cNvPicPr/>
          <p:nvPr/>
        </p:nvPicPr>
        <p:blipFill>
          <a:blip r:embed="rId1"/>
          <a:stretch/>
        </p:blipFill>
        <p:spPr>
          <a:xfrm>
            <a:off x="5072040" y="1143000"/>
            <a:ext cx="2531880" cy="2928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928800" y="3071880"/>
            <a:ext cx="3785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Отец спрашивает сы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Как дела в школе, сын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Я с отцом двоечника не разговарив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ервая любовь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Picture 2" descr="C:\Documents and Settings\Administrator\Рабочий стол\Pub60Cor\PE00052_.WMF"/>
          <p:cNvPicPr/>
          <p:nvPr/>
        </p:nvPicPr>
        <p:blipFill>
          <a:blip r:embed="rId1"/>
          <a:stretch/>
        </p:blipFill>
        <p:spPr>
          <a:xfrm>
            <a:off x="1285920" y="2571840"/>
            <a:ext cx="1839600" cy="183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Administrator\Рабочий стол\Pub60Cor\PE01160_.WMF"/>
          <p:cNvPicPr/>
          <p:nvPr/>
        </p:nvPicPr>
        <p:blipFill>
          <a:blip r:embed="rId2"/>
          <a:stretch/>
        </p:blipFill>
        <p:spPr>
          <a:xfrm>
            <a:off x="5715000" y="642960"/>
            <a:ext cx="1517400" cy="12744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3429000" y="4214880"/>
            <a:ext cx="4357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Сегодня после школы я реш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Тебе слова заветные скаж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Documents and Settings\Administrator\Рабочий стол\Pub60Cor\PE01160_.WMF"/>
          <p:cNvPicPr/>
          <p:nvPr/>
        </p:nvPicPr>
        <p:blipFill>
          <a:blip r:embed="rId3"/>
          <a:stretch/>
        </p:blipFill>
        <p:spPr>
          <a:xfrm>
            <a:off x="5786280" y="1428840"/>
            <a:ext cx="1517400" cy="127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334</TotalTime>
  <Application>LibreOffice/7.4.7.2$Linux_X86_64 LibreOffice_project/40$Build-2</Application>
  <AppVersion>15.0000</AppVersion>
  <Words>380</Words>
  <Paragraphs>70</Paragraphs>
  <Company>TENSOR_COR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56:35Z</dcterms:created>
  <dc:creator>TENSOR</dc:creator>
  <dc:description/>
  <dc:language>en-US</dc:language>
  <cp:lastModifiedBy>TENSOR</cp:lastModifiedBy>
  <dcterms:modified xsi:type="dcterms:W3CDTF">2010-02-02T06:22:30Z</dcterms:modified>
  <cp:revision>58</cp:revision>
  <dc:subject/>
  <dc:title>Школа в жизни каждого из на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1</vt:r8>
  </property>
</Properties>
</file>