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88133-CCBD-4700-B3FE-AB985826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7D37C-BED3-4BD0-902D-5E63ED1DE7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B76-DF6C-4E4B-BE92-9C802AA6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382-4093-4C14-A6D6-7F30FF87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835-AF1A-45F5-ACDC-6DFE4503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6F7-09EA-4151-8976-D23384DC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E2BB-6784-4ADF-A055-BC7C6B97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28FC-D8B7-4C90-8F9B-812EA14A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DA79-9A45-4C4A-A8BD-2AFF954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5ECB-062B-4111-B0FA-9FFA998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029-1E09-492D-9D01-2AD2409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2543-8AC0-4A54-9CCB-20A52C1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ADE-516F-4D03-824C-5BE329B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BC3-7705-4301-9381-6E9C0C94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E81-DD44-48E1-B84C-87449FB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3FE0-EDF2-4237-B72E-B3A3103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71F-F68F-450C-8C14-C1A81E2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D62F-90CA-4073-8CD3-99B52091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4ED-3C8C-47F8-8F20-AE766110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D03-802F-40CD-837D-68E784C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9D0-61B8-4371-8A8D-61881432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336-B371-47CB-B646-1BFD0F2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5B-AD51-460C-80DD-F7CE00B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268-5876-4B1B-9F10-4B0BA10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412-F979-45A8-BC0C-97E6777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6BF-3445-4A84-9C73-A564680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92050D-2509-4F8D-85FD-29E43A0CB95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8577BA-0AB8-41AE-A09A-6D78542333C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571320"/>
            <a:ext cx="8857800" cy="197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Пройдись по тихим школьным этажам…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29120" y="5429160"/>
            <a:ext cx="392868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Вечер встречи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2010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Administrator\Рабочий стол\Pub60Cor\SO00017_.WMF"/>
          <p:cNvPicPr/>
          <p:nvPr/>
        </p:nvPicPr>
        <p:blipFill>
          <a:blip r:embed="rId1"/>
          <a:stretch/>
        </p:blipFill>
        <p:spPr>
          <a:xfrm>
            <a:off x="142920" y="3929040"/>
            <a:ext cx="2214360" cy="234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следний ур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C:\Documents and Settings\Administrator\Рабочий стол\Pub60Cor\TR00232_.WMF"/>
          <p:cNvPicPr/>
          <p:nvPr/>
        </p:nvPicPr>
        <p:blipFill>
          <a:blip r:embed="rId1"/>
          <a:stretch/>
        </p:blipFill>
        <p:spPr>
          <a:xfrm>
            <a:off x="5143680" y="1643040"/>
            <a:ext cx="2112480" cy="2066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714240" y="2928960"/>
            <a:ext cx="4071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 последнего урока как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астенько «вылетали на раке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ыпускникам: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7238520" cy="36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В этой школе вы дружили с колыбели,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Дружбы этой не разбить годам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Много счастья пожелать мы вам хотели…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риходите в школу в гости к нам!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Picture 2" descr="C:\Documents and Settings\Administrator\Рабочий стол\Pub60Cor\SO00834_.WMF"/>
          <p:cNvPicPr/>
          <p:nvPr/>
        </p:nvPicPr>
        <p:blipFill>
          <a:blip r:embed="rId1"/>
          <a:stretch/>
        </p:blipFill>
        <p:spPr>
          <a:xfrm>
            <a:off x="6072120" y="4500720"/>
            <a:ext cx="1767960" cy="219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ервая суббота февраля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2" descr="C:\Documents and Settings\Administrator\Рабочий стол\Pub60Cor\TN00234_.WMF"/>
          <p:cNvPicPr/>
          <p:nvPr/>
        </p:nvPicPr>
        <p:blipFill>
          <a:blip r:embed="rId1"/>
          <a:stretch/>
        </p:blipFill>
        <p:spPr>
          <a:xfrm>
            <a:off x="571320" y="142920"/>
            <a:ext cx="1421640" cy="60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istrator\Рабочий стол\Pub60Cor\TN00211_.WMF"/>
          <p:cNvPicPr/>
          <p:nvPr/>
        </p:nvPicPr>
        <p:blipFill>
          <a:blip r:embed="rId2"/>
          <a:stretch/>
        </p:blipFill>
        <p:spPr>
          <a:xfrm>
            <a:off x="0" y="3143160"/>
            <a:ext cx="1398240" cy="555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istrator\Рабочий стол\Pub60Cor\TN00255_.WMF"/>
          <p:cNvPicPr/>
          <p:nvPr/>
        </p:nvPicPr>
        <p:blipFill>
          <a:blip r:embed="rId3"/>
          <a:stretch/>
        </p:blipFill>
        <p:spPr>
          <a:xfrm>
            <a:off x="0" y="5357880"/>
            <a:ext cx="1945800" cy="96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istrator\Рабочий стол\Pub60Cor\TR00095_.WMF"/>
          <p:cNvPicPr/>
          <p:nvPr/>
        </p:nvPicPr>
        <p:blipFill>
          <a:blip r:embed="rId4"/>
          <a:stretch/>
        </p:blipFill>
        <p:spPr>
          <a:xfrm>
            <a:off x="6643800" y="2214720"/>
            <a:ext cx="1169640" cy="161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Administrator\Рабочий стол\Pub60Cor\TR00172_.WMF"/>
          <p:cNvPicPr/>
          <p:nvPr/>
        </p:nvPicPr>
        <p:blipFill>
          <a:blip r:embed="rId5"/>
          <a:stretch/>
        </p:blipFill>
        <p:spPr>
          <a:xfrm>
            <a:off x="5214960" y="4714920"/>
            <a:ext cx="2857320" cy="1773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428840" y="2571840"/>
            <a:ext cx="52146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всей стране, папы, мамы, бабушки и дедушки- все вдруг вспоминают, что когда-то учились в школе. И на всех видах транспорта стараются в этот день добраться до своего родного учебного за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плей человеку в дорогах тяжел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уровом краю от 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где-то на свете есть милая шко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ть добрая школа е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ый звон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00040" y="2571840"/>
            <a:ext cx="5285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раз в первый класс вы приш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и писать, ни читать не ум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цветы на линейку не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м красивую форму наде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класс- это первый зв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ыли радости, были невз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ш учитель и первый уро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чинались так школьн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istrator\Рабочий стол\Pub60Cor\BD19988_.WMF"/>
          <p:cNvPicPr/>
          <p:nvPr/>
        </p:nvPicPr>
        <p:blipFill>
          <a:blip r:embed="rId1"/>
          <a:stretch/>
        </p:blipFill>
        <p:spPr>
          <a:xfrm>
            <a:off x="5857920" y="4214880"/>
            <a:ext cx="1812600" cy="181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ветлые классы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2" descr="C:\Documents and Settings\Administrator\Рабочий стол\Pub60Cor\J0101860.BMP"/>
          <p:cNvPicPr/>
          <p:nvPr/>
        </p:nvPicPr>
        <p:blipFill>
          <a:blip r:embed="rId1"/>
          <a:stretch/>
        </p:blipFill>
        <p:spPr>
          <a:xfrm>
            <a:off x="5357880" y="285840"/>
            <a:ext cx="2530080" cy="4071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428760" y="2714760"/>
            <a:ext cx="450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 наяву и не во с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ез страха и без роб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Мы снова бродим по стр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оторой нет на глобу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 карту не нанес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 знаем ты 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есть она, что есть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трана Школя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Исписанная мелом доск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C:\Documents and Settings\Administrator\Рабочий стол\Pub60Cor\AG00052_.GIF"/>
          <p:cNvPicPr/>
          <p:nvPr/>
        </p:nvPicPr>
        <p:blipFill>
          <a:blip r:embed="rId1"/>
          <a:stretch/>
        </p:blipFill>
        <p:spPr>
          <a:xfrm>
            <a:off x="357120" y="2428920"/>
            <a:ext cx="2571480" cy="1571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286080" y="2643120"/>
            <a:ext cx="4000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реднем, за 11 лет учебы в школе каждый класс исписывает около 50 кг.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трогие учителя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3" descr="C:\Documents and Settings\Administrator\Рабочий стол\Pub60Cor\SO00768_.WMF"/>
          <p:cNvPicPr/>
          <p:nvPr/>
        </p:nvPicPr>
        <p:blipFill>
          <a:blip r:embed="rId1"/>
          <a:stretch/>
        </p:blipFill>
        <p:spPr>
          <a:xfrm>
            <a:off x="6000840" y="1571760"/>
            <a:ext cx="1704600" cy="1854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1320" y="292896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нас простите за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с будем помнить и лю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м нашу школу не за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ваши добрые улы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терянный дневни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0" name="Picture 2" descr="C:\Documents and Settings\Administrator\Рабочий стол\Pub60Cor\PE03257_.WMF"/>
          <p:cNvPicPr/>
          <p:nvPr/>
        </p:nvPicPr>
        <p:blipFill>
          <a:blip r:embed="rId1"/>
          <a:stretch/>
        </p:blipFill>
        <p:spPr>
          <a:xfrm>
            <a:off x="642960" y="2928960"/>
            <a:ext cx="2266560" cy="2339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500280" y="3143160"/>
            <a:ext cx="400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школьной жизни все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Ученик дневник тер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причину сочи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которой е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ли «двойку» получ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 родителей ск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айно ручкой испр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бы не было «бесе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7238520" cy="409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Родительские нотаци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" name="Picture 2" descr="C:\Documents and Settings\Administrator\Рабочий стол\Pub60Cor\BD00146_.WMF"/>
          <p:cNvPicPr/>
          <p:nvPr/>
        </p:nvPicPr>
        <p:blipFill>
          <a:blip r:embed="rId1"/>
          <a:stretch/>
        </p:blipFill>
        <p:spPr>
          <a:xfrm>
            <a:off x="5072040" y="1143000"/>
            <a:ext cx="2531880" cy="2928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928800" y="3071880"/>
            <a:ext cx="378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ец спрашивает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ак дела в школе, сы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Я с отцом двоечника не разговарив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ая любовь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Picture 2" descr="C:\Documents and Settings\Administrator\Рабочий стол\Pub60Cor\PE00052_.WMF"/>
          <p:cNvPicPr/>
          <p:nvPr/>
        </p:nvPicPr>
        <p:blipFill>
          <a:blip r:embed="rId1"/>
          <a:stretch/>
        </p:blipFill>
        <p:spPr>
          <a:xfrm>
            <a:off x="1285920" y="2571840"/>
            <a:ext cx="1839600" cy="183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Administrator\Рабочий стол\Pub60Cor\PE01160_.WMF"/>
          <p:cNvPicPr/>
          <p:nvPr/>
        </p:nvPicPr>
        <p:blipFill>
          <a:blip r:embed="rId2"/>
          <a:stretch/>
        </p:blipFill>
        <p:spPr>
          <a:xfrm>
            <a:off x="5715000" y="642960"/>
            <a:ext cx="1517400" cy="1274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3429000" y="4214880"/>
            <a:ext cx="435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егодня после школы я реш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бе слова заветные скаж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Documents and Settings\Administrator\Рабочий стол\Pub60Cor\PE01160_.WMF"/>
          <p:cNvPicPr/>
          <p:nvPr/>
        </p:nvPicPr>
        <p:blipFill>
          <a:blip r:embed="rId3"/>
          <a:stretch/>
        </p:blipFill>
        <p:spPr>
          <a:xfrm>
            <a:off x="5786280" y="1428840"/>
            <a:ext cx="1517400" cy="127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34</TotalTime>
  <Application>LibreOffice/7.4.7.2$Linux_X86_64 LibreOffice_project/40$Build-2</Application>
  <AppVersion>15.0000</AppVersion>
  <Words>380</Words>
  <Paragraphs>70</Paragraphs>
  <Company>TENSOR_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6:35Z</dcterms:created>
  <dc:creator>TENSOR</dc:creator>
  <dc:description/>
  <dc:language>en-US</dc:language>
  <cp:lastModifiedBy>TENSOR</cp:lastModifiedBy>
  <dcterms:modified xsi:type="dcterms:W3CDTF">2010-02-02T06:22:30Z</dcterms:modified>
  <cp:revision>58</cp:revision>
  <dc:subject/>
  <dc:title>Школа в жизни каждого из н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