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gif" ContentType="image/gi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5B0A53-F2B9-46D4-ACDE-52181D00F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16A923-000A-422D-8C82-65AD310E7AD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80E-C123-4856-8A7C-B9608530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51D5-AEB6-4020-9932-E3EB50BC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42E4-C655-44A7-B493-7FF72916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746-7297-44AE-AED4-30940EF7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0EFB-8C14-41AB-B71E-FFACE0B2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D2EB-6D15-42BC-BB10-660E3456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D025-B70C-4E0E-BA8C-684A9822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65AA-3436-4BE5-B902-2CBE469C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8DCB-5C04-4B61-938C-90704F15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6A19-EE6D-42FE-B652-2EEA7787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A713-43DB-46C3-B752-77F86AD5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5F7-D070-4150-AE87-38C8E9CB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A0C5-C9E5-492B-833B-2574B49F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FB41-4D31-4D39-8C40-DB606873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4F74-E4C2-420B-B5F8-F0C7E52D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DF4B-A8C8-47FD-B43B-E1CE7733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CF14-65CE-4999-8CB3-85209600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64A-E951-43A0-B058-D73028B2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A12-951F-4B12-8C7A-A92A48A9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7729-E66C-4439-B3B4-8F35F9B6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445A-9534-4B88-BE32-DC1C127B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292-4E66-4AF5-934D-B7C64DF8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4585-206A-447D-934F-7A5DF24D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C97-6F8D-49BD-BD6D-2D2A9BF5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 hidden="1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Прямоугольник 7"/>
          <p:cNvSpPr/>
          <p:nvPr/>
        </p:nvSpPr>
        <p:spPr>
          <a:xfrm flipH="1">
            <a:off x="2666160" y="0"/>
            <a:ext cx="6476760" cy="685764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50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V="1">
            <a:off x="2666880" y="0"/>
            <a:ext cx="360" cy="6858000"/>
          </a:xfrm>
          <a:prstGeom prst="line">
            <a:avLst/>
          </a:prstGeom>
          <a:ln w="11430">
            <a:solidFill>
              <a:srgbClr val="ffffff">
                <a:shade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2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8712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19520" y="6558120"/>
            <a:ext cx="292752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88076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6965A7-B915-4D68-AEA1-2473498CAEB3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3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7B90B4-EF5A-44EC-AB01-32B618B09DF2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920" y="571320"/>
            <a:ext cx="8857800" cy="1974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200" spc="-1" strike="noStrike" cap="all">
                <a:solidFill>
                  <a:srgbClr val="000000"/>
                </a:solidFill>
                <a:latin typeface="Trebuchet MS"/>
              </a:rPr>
              <a:t>Пройдись по тихим школьным этажам…</a:t>
            </a:r>
            <a:endParaRPr b="0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29120" y="5429160"/>
            <a:ext cx="392868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Вечер встречи выпуск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2010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Documents and Settings\Administrator\Рабочий стол\Pub60Cor\SO00017_.WMF"/>
          <p:cNvPicPr/>
          <p:nvPr/>
        </p:nvPicPr>
        <p:blipFill>
          <a:blip r:embed="rId1"/>
          <a:stretch/>
        </p:blipFill>
        <p:spPr>
          <a:xfrm>
            <a:off x="142920" y="3929040"/>
            <a:ext cx="2214360" cy="2347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Последний урок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4" name="Picture 2" descr="C:\Documents and Settings\Administrator\Рабочий стол\Pub60Cor\TR00232_.WMF"/>
          <p:cNvPicPr/>
          <p:nvPr/>
        </p:nvPicPr>
        <p:blipFill>
          <a:blip r:embed="rId1"/>
          <a:stretch/>
        </p:blipFill>
        <p:spPr>
          <a:xfrm>
            <a:off x="5143680" y="1643040"/>
            <a:ext cx="2112480" cy="20664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714240" y="2928960"/>
            <a:ext cx="4071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С последнего урока как все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Частенько «вылетали на ракет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Выпускникам: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786040"/>
            <a:ext cx="7238520" cy="36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В этой школе вы дружили с колыбели,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Дружбы этой не разбить годам.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Много счастья пожелать мы вам хотели…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Приходите в школу в гости к нам!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8" name="Picture 2" descr="C:\Documents and Settings\Administrator\Рабочий стол\Pub60Cor\SO00834_.WMF"/>
          <p:cNvPicPr/>
          <p:nvPr/>
        </p:nvPicPr>
        <p:blipFill>
          <a:blip r:embed="rId1"/>
          <a:stretch/>
        </p:blipFill>
        <p:spPr>
          <a:xfrm>
            <a:off x="6072120" y="4500720"/>
            <a:ext cx="1767960" cy="2192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Первая суббота февраля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6" name="Picture 2" descr="C:\Documents and Settings\Administrator\Рабочий стол\Pub60Cor\TN00234_.WMF"/>
          <p:cNvPicPr/>
          <p:nvPr/>
        </p:nvPicPr>
        <p:blipFill>
          <a:blip r:embed="rId1"/>
          <a:stretch/>
        </p:blipFill>
        <p:spPr>
          <a:xfrm>
            <a:off x="571320" y="142920"/>
            <a:ext cx="1421640" cy="60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Administrator\Рабочий стол\Pub60Cor\TN00211_.WMF"/>
          <p:cNvPicPr/>
          <p:nvPr/>
        </p:nvPicPr>
        <p:blipFill>
          <a:blip r:embed="rId2"/>
          <a:stretch/>
        </p:blipFill>
        <p:spPr>
          <a:xfrm>
            <a:off x="0" y="3143160"/>
            <a:ext cx="1398240" cy="555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Documents and Settings\Administrator\Рабочий стол\Pub60Cor\TN00255_.WMF"/>
          <p:cNvPicPr/>
          <p:nvPr/>
        </p:nvPicPr>
        <p:blipFill>
          <a:blip r:embed="rId3"/>
          <a:stretch/>
        </p:blipFill>
        <p:spPr>
          <a:xfrm>
            <a:off x="0" y="5357880"/>
            <a:ext cx="1945800" cy="96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Documents and Settings\Administrator\Рабочий стол\Pub60Cor\TR00095_.WMF"/>
          <p:cNvPicPr/>
          <p:nvPr/>
        </p:nvPicPr>
        <p:blipFill>
          <a:blip r:embed="rId4"/>
          <a:stretch/>
        </p:blipFill>
        <p:spPr>
          <a:xfrm>
            <a:off x="6643800" y="2214720"/>
            <a:ext cx="1169640" cy="1618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Documents and Settings\Administrator\Рабочий стол\Pub60Cor\TR00172_.WMF"/>
          <p:cNvPicPr/>
          <p:nvPr/>
        </p:nvPicPr>
        <p:blipFill>
          <a:blip r:embed="rId5"/>
          <a:stretch/>
        </p:blipFill>
        <p:spPr>
          <a:xfrm>
            <a:off x="5214960" y="4714920"/>
            <a:ext cx="2857320" cy="1773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7"/>
          <p:cNvSpPr/>
          <p:nvPr/>
        </p:nvSpPr>
        <p:spPr>
          <a:xfrm>
            <a:off x="1428840" y="2571840"/>
            <a:ext cx="521460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По всей стране, папы, мамы, бабушки и дедушки- все вдруг вспоминают, что когда-то учились в школе. И на всех видах транспорта стараются в этот день добраться до своего родного учебного за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Теплей человеку в дорогах тяжел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В суровом краю от т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Что где-то на свете есть милая шко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Есть добрая школа его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Первый звонок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500040" y="2571840"/>
            <a:ext cx="5285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Первый раз в первый класс вы пришл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и писать, ни читать не ум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Вы цветы на линейку нес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Вам красивую форму надел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Первый класс- это первый зво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Были радости, были невзго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аш учитель и первый урок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ачинались так школьные 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Documents and Settings\Administrator\Рабочий стол\Pub60Cor\BD19988_.WMF"/>
          <p:cNvPicPr/>
          <p:nvPr/>
        </p:nvPicPr>
        <p:blipFill>
          <a:blip r:embed="rId1"/>
          <a:stretch/>
        </p:blipFill>
        <p:spPr>
          <a:xfrm>
            <a:off x="5857920" y="4214880"/>
            <a:ext cx="1812600" cy="1812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Светлые классы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8" name="Picture 2" descr="C:\Documents and Settings\Administrator\Рабочий стол\Pub60Cor\J0101860.BMP"/>
          <p:cNvPicPr/>
          <p:nvPr/>
        </p:nvPicPr>
        <p:blipFill>
          <a:blip r:embed="rId1"/>
          <a:stretch/>
        </p:blipFill>
        <p:spPr>
          <a:xfrm>
            <a:off x="5357880" y="285840"/>
            <a:ext cx="2530080" cy="40716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428760" y="2714760"/>
            <a:ext cx="4500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е наяву и не во сн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Без страха и без роб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Мы снова бродим по стран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Которой нет на глобу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а карту не нанесе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 знаем ты и 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Что есть она, что есть ст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Страна Школя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Исписанная мелом доск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2" name="Picture 2" descr="C:\Documents and Settings\Administrator\Рабочий стол\Pub60Cor\AG00052_.GIF"/>
          <p:cNvPicPr/>
          <p:nvPr/>
        </p:nvPicPr>
        <p:blipFill>
          <a:blip r:embed="rId1"/>
          <a:stretch/>
        </p:blipFill>
        <p:spPr>
          <a:xfrm>
            <a:off x="357120" y="2428920"/>
            <a:ext cx="2571480" cy="15714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3286080" y="2643120"/>
            <a:ext cx="4000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В среднем, за 11 лет учебы в школе каждый класс исписывает около 50 кг. м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Строгие учителя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6" name="Picture 3" descr="C:\Documents and Settings\Administrator\Рабочий стол\Pub60Cor\SO00768_.WMF"/>
          <p:cNvPicPr/>
          <p:nvPr/>
        </p:nvPicPr>
        <p:blipFill>
          <a:blip r:embed="rId1"/>
          <a:stretch/>
        </p:blipFill>
        <p:spPr>
          <a:xfrm>
            <a:off x="6000840" y="1571760"/>
            <a:ext cx="1704600" cy="1854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571320" y="2928960"/>
            <a:ext cx="457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Вы нас простите за оши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Вас будем помнить и люб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ам нашу школу не за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И ваши добрые улы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Потерянный дневник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0" name="Picture 2" descr="C:\Documents and Settings\Administrator\Рабочий стол\Pub60Cor\PE03257_.WMF"/>
          <p:cNvPicPr/>
          <p:nvPr/>
        </p:nvPicPr>
        <p:blipFill>
          <a:blip r:embed="rId1"/>
          <a:stretch/>
        </p:blipFill>
        <p:spPr>
          <a:xfrm>
            <a:off x="642960" y="2928960"/>
            <a:ext cx="2266560" cy="23396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3500280" y="3143160"/>
            <a:ext cx="4000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В школьной жизни все бы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Ученик дневник теря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И причину сочиня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По которой его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Если «двойку» получ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От родителей скры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Тайно ручкой исправл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Чтобы не было «бесед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57280"/>
            <a:ext cx="7238520" cy="409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Родительские нотации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4" name="Picture 2" descr="C:\Documents and Settings\Administrator\Рабочий стол\Pub60Cor\BD00146_.WMF"/>
          <p:cNvPicPr/>
          <p:nvPr/>
        </p:nvPicPr>
        <p:blipFill>
          <a:blip r:embed="rId1"/>
          <a:stretch/>
        </p:blipFill>
        <p:spPr>
          <a:xfrm>
            <a:off x="5072040" y="1143000"/>
            <a:ext cx="2531880" cy="29286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928800" y="3071880"/>
            <a:ext cx="3785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Отец спрашивает сы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00000"/>
              </a:buClr>
              <a:buFont typeface="StarSymbol"/>
              <a:buChar char="-"/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Как дела в школе, сын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00000"/>
              </a:buClr>
              <a:buFont typeface="StarSymbol"/>
              <a:buChar char="-"/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Я с отцом двоечника не разговарива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школа? </a:t>
            </a:r>
            <a:br>
              <a:rPr sz="3800"/>
            </a:b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   Это значит…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-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Первая любовь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Picture 2" descr="C:\Documents and Settings\Administrator\Рабочий стол\Pub60Cor\PE00052_.WMF"/>
          <p:cNvPicPr/>
          <p:nvPr/>
        </p:nvPicPr>
        <p:blipFill>
          <a:blip r:embed="rId1"/>
          <a:stretch/>
        </p:blipFill>
        <p:spPr>
          <a:xfrm>
            <a:off x="1285920" y="2571840"/>
            <a:ext cx="1839600" cy="183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Documents and Settings\Administrator\Рабочий стол\Pub60Cor\PE01160_.WMF"/>
          <p:cNvPicPr/>
          <p:nvPr/>
        </p:nvPicPr>
        <p:blipFill>
          <a:blip r:embed="rId2"/>
          <a:stretch/>
        </p:blipFill>
        <p:spPr>
          <a:xfrm>
            <a:off x="5715000" y="642960"/>
            <a:ext cx="1517400" cy="12744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3429000" y="4214880"/>
            <a:ext cx="4357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Сегодня после школы я реши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Тебе слова заветные скаж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C:\Documents and Settings\Administrator\Рабочий стол\Pub60Cor\PE01160_.WMF"/>
          <p:cNvPicPr/>
          <p:nvPr/>
        </p:nvPicPr>
        <p:blipFill>
          <a:blip r:embed="rId3"/>
          <a:stretch/>
        </p:blipFill>
        <p:spPr>
          <a:xfrm>
            <a:off x="5786280" y="1428840"/>
            <a:ext cx="1517400" cy="127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334</TotalTime>
  <Application>LibreOffice/7.4.7.2$Linux_X86_64 LibreOffice_project/40$Build-2</Application>
  <AppVersion>15.0000</AppVersion>
  <Words>380</Words>
  <Paragraphs>70</Paragraphs>
  <Company>TENSOR_COR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2:56:35Z</dcterms:created>
  <dc:creator>TENSOR</dc:creator>
  <dc:description/>
  <dc:language>en-US</dc:language>
  <cp:lastModifiedBy>TENSOR</cp:lastModifiedBy>
  <dcterms:modified xsi:type="dcterms:W3CDTF">2010-02-02T06:22:30Z</dcterms:modified>
  <cp:revision>58</cp:revision>
  <dc:subject/>
  <dc:title>Школа в жизни каждого из на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1</vt:r8>
  </property>
</Properties>
</file>