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94F7-E66F-427B-9138-2CEC120747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41AB-17BF-4704-AE5D-9044C97C48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E7B-B33C-4D14-83E9-5FC8DFB7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2292-52D6-431B-899C-85981BB3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1CE36-F134-4E53-939C-1F5A58B2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FAB58-67B5-42C2-8782-715C60FF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28C90-5AD3-4C17-885E-91FEC845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008FF-D0B3-489F-869E-575CB825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64430-0421-4EF2-B094-A455BB20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F3010-A002-4720-BB2B-09BCDFDB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744B8-1C31-4ECF-8A51-25282E29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DE8DB-9C99-409C-854E-671B326B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68A14-A98C-4255-9CE8-4BAB34E6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46737-CCA5-47CA-A5A5-02A01F24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EA2-915A-4558-AA85-F0583F76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A3E52-69A0-427B-A8C3-B26E7D70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7AEAE-6746-4728-B654-76D89A76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7E933-4ACB-4E42-BAB7-A6FE5AC7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66BC9-3EB0-48DD-84AD-DF617AA2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AF76D-06ED-4B78-BD65-81ACB514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11446-908D-4F65-8BAC-0675AD7F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49645-5ACE-48C6-8309-5AAB5873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073DC-2028-4353-AD48-43775307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8E27C-E646-4B9A-81FC-C9D31C63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29395-DAFF-4D59-A86C-B43131F6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F0C-2803-4551-9951-C6C6D8C0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09FF1-233B-4192-948C-E873AF93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FBBB9-BB9D-4FE8-A688-F8EFD53A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CBEFE-4993-4168-90C0-4E1E1C1C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768B2-3719-4981-B2C2-B19577FD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FA989-7C42-40F1-92F4-5F6BC5A7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B4B67-8E58-49F8-B8CB-CD3C5B06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496DB-643C-43CA-9C6E-6615F7D5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1B573-342E-4C3A-AEBC-C3FAEF88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DA1A3-D103-47B6-91AB-07E84DAD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F370F-0C76-4FFC-A220-E5703161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3CD2-3275-4400-99D3-A8CE48B4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0FD7D-D29F-464E-AD8C-ECEFECE0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DD144-E8E6-4631-A1B3-B930E306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E0EF3-86F5-46C1-92AB-CBB14E76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D0BBF-C04D-4FFB-978F-42D2EE0F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31AAD-C856-49D5-972F-61B672E0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CA913-A663-4980-AB12-23FF6485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7BDD0-B40A-47A4-A505-FB3069B0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AFFF7-7D3B-466E-913B-B558A1F8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7DAFF-3BFA-44CE-A02C-C184EB13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C350C-7652-4F54-BC65-7C28515C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0F15-A3AA-4C2B-8F50-A9C9A509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6240F-7F36-4E00-9175-9FC8CF9C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8B5AB-F242-4D57-8FEB-882700A3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9D88B-4687-4D1F-B822-F1FFCBE1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6B549-E310-47AC-A630-0096818F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A3380-4D4C-4278-AA6C-E650D0F6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6FF34-ECA1-45AD-9EA5-4B673896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1F4AB-3F1B-44B7-A085-1C9B365C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726D6-8A57-4354-B445-EE369752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DA9D9-E2C8-4D6B-B483-1CB08056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F01C6-A8FF-4D7C-A2AF-B9C29D39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3162-2065-4526-AA31-917C877A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B042E-2CCE-446D-A704-EDD7C54F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8268A-6A3A-4A92-82D7-AF59F267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0DBC8C-6648-4D2F-B69F-B772F3D0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24D21-C501-4079-9D5E-728CD49F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AF253-E671-431E-96DA-73459E88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9D0BF-5FDA-47B0-BFA3-64718ADB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FC607-62FD-4B8B-AF57-A69CFB7D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861C-3F75-4BC9-80DA-04A4640A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B4C8-0555-4E43-8102-CEBDB457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0EE2-010E-4C5E-9296-E8483C49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4AB5-3E33-4937-A14C-5FCF1ACB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CE6-91C2-45D4-A364-9B418DF6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904C-3E27-4970-ACEC-515D822D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D7E2-D11D-4422-82FF-5E21191A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3B23-2A7D-46EF-A9DF-7C00ACC8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C998-CB62-47B6-B830-A7DBBC62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16D9-0A4C-43DA-B488-5A87EB0E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251F-E069-494A-8DCB-79107888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80403-6E41-48DF-AE9E-7A467409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95B99-2056-42EE-8C49-F49DA28D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A0E43-F8CB-4952-BFB0-BBC050F3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78C4A-ED6F-4F57-8246-22554278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DF4-0F52-4F23-9136-F634C249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88583-2C84-4D60-92B0-F3011372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F4501-C895-433A-B082-95159358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41885-C9E5-4252-8990-25B8AD18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6EB30-CFAC-42A8-8699-EF78578C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7A5DE-EE64-45AB-9D25-A6D2571A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46BF4-5D3D-49FD-9D34-BC5C870B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33E40-176E-4949-9A2D-FC526A9F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2D53A-8D44-4C6C-95C8-0456FF09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F3D29-596B-492B-9C30-41D15244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D36A9-CC3F-453A-B161-32866149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996-617F-4648-BCAD-2C919868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FDE2E-B72F-4BFF-A9A4-E08C6D43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8F670-C6C6-4A38-989A-F2CE5F94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79D49-7CDA-4CB9-AC54-0E6A3BA2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3818C-00EF-4537-9043-28FB3BF3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DBCF3-173B-4F6C-9106-DA5719BA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80BF0-B5DC-4FF1-8EE4-E35B4919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1D7E-1716-454C-87C9-1EDFEF75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CDB48-343D-4C2B-B553-1C012DDC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321E7-C64B-42F5-89FF-3CEA5115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1A5F6-0BDE-4594-9578-5719E171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8FD-321E-44AB-A057-4EE057E9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2508F-9342-4262-979F-47C8E553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6008D-3503-4314-A04B-97C8063F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EFE6F-F6CF-48FC-9DFD-3D68C88D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8537E-AAB0-4CD0-8BB8-356BF27B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5E73F-F7A2-4307-88B0-6E791DE3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EBF8D-8DC9-4118-8E29-945DCBA9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F61E9-9610-4F58-A9B4-E9A8DDB5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7D5C1-86D0-4BB4-9656-E4ACE410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07B3B-F231-4314-8034-BB720EE9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2F77F-44C3-45E6-9003-796EFA33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B44-E165-4AC3-BBE2-D8CE6A09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A2956-3A34-41E1-9AAC-75C37291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6DF91-A044-4D43-B8E4-27C54531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A79AD-2D77-43B8-A571-A4C0934B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F0D79-CDDF-44C9-8891-50F861C8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4D33F-063E-4A24-840B-A07F7130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EA8DC-62CA-4A47-983C-EE7F99EB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FC9AD-CC01-4792-8851-54BA45B3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E2BD2-F3DE-458A-9EE3-29170631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D03EC-103D-4BDC-BC6C-0CBCFE93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C118C-BC07-43E7-B5D3-4824AA44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7FAC-B969-4FC9-8BDC-ECD66DA9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25371-0653-440A-97B6-EFB7F056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90822-CF20-4EFD-8365-83EE2ED5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5D37F-A576-4A63-937E-3C79E142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ECC74-DE94-4CD8-AB85-1D513600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400B3-FAC3-4ACB-947A-32C71270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D2A7C-E662-4287-99E6-D7088157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34647-C560-46D7-BC39-90D313E6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6D0B6-9FF8-421A-90FE-0AC44225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89084-1AED-4552-8919-4EEDF303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62D91-7B3F-4C4E-B17F-FF79013F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134-99A1-4535-A20C-5C70F4CD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CA936-1A83-44BB-BB3C-6AE9EC16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FF87F-D32B-46A3-B3D9-26B48851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7E0ED-E3CD-4E49-AFB7-639FDF70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6B0F5-786E-4EAD-82E8-9798AEA1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41DA3-A9A3-4189-84A2-4812DD4D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9A15F-1DFD-4B8D-B212-CD9ECFC9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56EFD-E9AF-48A8-8163-2EFA6B7C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5C7B7-2C92-42E0-A206-EBC18BA2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30BD1-B06B-46B2-B60A-5C44BE89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FF5D5-97E1-4E93-8C8A-E16D7034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37D-9D86-4BC8-8756-6A44407E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A77EE-EFC7-4993-A5CC-58307181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90D41-5FBE-460C-B1B8-8FCCD8EB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731B0-A25B-4203-89E7-FA6F8277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A2C79-A3EB-432C-A409-90C96ED1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F0F97-F43E-4097-8593-76E4197A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F1AB4-6A56-41A5-A72A-105E0945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A84AE-BB99-4377-A6D6-87DD89FE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BBAAB-CD32-4A78-A898-A9A95589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38B54-BDBC-4AD4-9E1F-D1FB871B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A68BA-10EB-4F2C-8ADE-91D113F2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4243-4BB8-4E0E-8EAF-5A211975E4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F53D-1287-4764-91F9-42146CE88BD6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6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C52D-9CA6-459A-932B-4BED52FBB32B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DE20-6E87-40BF-B598-F119B67A72F7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D363-34BF-4A15-8DF4-DA37BC98CEB4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8075-8797-4CED-907B-DEE9A31CB419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4227-797F-4570-802B-10EEF7B55BF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8A91-7E60-4D4D-B8E7-B2AC086910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1072-1CF9-4F44-9767-126B7AA83F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396E-689E-44CB-8243-9703131345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147B-33DF-4E6C-8438-B91C82B26C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C786-5B02-4C21-87FC-E2988ACB02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8C76-0482-454C-9920-1CD554A788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5" descr=""/>
          <p:cNvPicPr/>
          <p:nvPr/>
        </p:nvPicPr>
        <p:blipFill>
          <a:blip r:embed="rId1"/>
          <a:stretch/>
        </p:blipFill>
        <p:spPr>
          <a:xfrm>
            <a:off x="469800" y="895320"/>
            <a:ext cx="7991640" cy="3000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00000" y="501336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аданова И.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МКОУ «Верх-Жилинская ООШ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WordArt 4"/>
          <p:cNvSpPr txBox="1"/>
          <p:nvPr/>
        </p:nvSpPr>
        <p:spPr>
          <a:xfrm>
            <a:off x="1042920" y="549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 трапеции: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8" name="Picture 10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3821400" cy="331776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1"/>
          <p:cNvSpPr/>
          <p:nvPr/>
        </p:nvSpPr>
        <p:spPr>
          <a:xfrm>
            <a:off x="1403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826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3924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5"/>
          <p:cNvSpPr/>
          <p:nvPr/>
        </p:nvSpPr>
        <p:spPr>
          <a:xfrm>
            <a:off x="4935600" y="1916280"/>
            <a:ext cx="3236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/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паралле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826920" y="4802040"/>
            <a:ext cx="80661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4"/>
          <p:cNvSpPr txBox="1"/>
          <p:nvPr/>
        </p:nvSpPr>
        <p:spPr>
          <a:xfrm>
            <a:off x="1403280" y="54936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трапеции:</a:t>
            </a:r>
            <a:endParaRPr b="0" i="1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6"/>
          <p:cNvSpPr/>
          <p:nvPr/>
        </p:nvSpPr>
        <p:spPr>
          <a:xfrm>
            <a:off x="68436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12589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059280" y="17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3708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971640" y="42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1" descr=""/>
          <p:cNvPicPr/>
          <p:nvPr/>
        </p:nvPicPr>
        <p:blipFill>
          <a:blip r:embed="rId5"/>
          <a:stretch/>
        </p:blipFill>
        <p:spPr>
          <a:xfrm>
            <a:off x="5076720" y="1844640"/>
            <a:ext cx="2951280" cy="20160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2"/>
          <p:cNvSpPr/>
          <p:nvPr/>
        </p:nvSpPr>
        <p:spPr>
          <a:xfrm>
            <a:off x="4932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493236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658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781200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5292720" y="501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4859280" y="414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395280" y="5373720"/>
            <a:ext cx="770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1116000" y="5013360"/>
            <a:ext cx="76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бокая  трапеция                               Прямоугольная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6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4"/>
          <p:cNvSpPr txBox="1"/>
          <p:nvPr/>
        </p:nvSpPr>
        <p:spPr>
          <a:xfrm>
            <a:off x="1042920" y="476280"/>
            <a:ext cx="698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резки в трапеции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2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199960" cy="1495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162160" cy="16002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10"/>
          <p:cNvSpPr/>
          <p:nvPr/>
        </p:nvSpPr>
        <p:spPr>
          <a:xfrm>
            <a:off x="197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17928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539640" y="119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4"/>
          <p:cNvSpPr/>
          <p:nvPr/>
        </p:nvSpPr>
        <p:spPr>
          <a:xfrm>
            <a:off x="2843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5"/>
          <p:cNvSpPr/>
          <p:nvPr/>
        </p:nvSpPr>
        <p:spPr>
          <a:xfrm>
            <a:off x="31320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6"/>
          <p:cNvSpPr/>
          <p:nvPr/>
        </p:nvSpPr>
        <p:spPr>
          <a:xfrm>
            <a:off x="471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7"/>
          <p:cNvSpPr/>
          <p:nvPr/>
        </p:nvSpPr>
        <p:spPr>
          <a:xfrm>
            <a:off x="514836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6012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9"/>
          <p:cNvSpPr/>
          <p:nvPr/>
        </p:nvSpPr>
        <p:spPr>
          <a:xfrm>
            <a:off x="6443640" y="112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0"/>
          <p:cNvSpPr/>
          <p:nvPr/>
        </p:nvSpPr>
        <p:spPr>
          <a:xfrm>
            <a:off x="781200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1"/>
          <p:cNvSpPr/>
          <p:nvPr/>
        </p:nvSpPr>
        <p:spPr>
          <a:xfrm>
            <a:off x="8244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2"/>
          <p:cNvSpPr/>
          <p:nvPr/>
        </p:nvSpPr>
        <p:spPr>
          <a:xfrm>
            <a:off x="6588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3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4"/>
          <p:cNvSpPr/>
          <p:nvPr/>
        </p:nvSpPr>
        <p:spPr>
          <a:xfrm>
            <a:off x="702000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5"/>
          <p:cNvSpPr/>
          <p:nvPr/>
        </p:nvSpPr>
        <p:spPr>
          <a:xfrm>
            <a:off x="6659640" y="191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6"/>
          <p:cNvSpPr/>
          <p:nvPr/>
        </p:nvSpPr>
        <p:spPr>
          <a:xfrm>
            <a:off x="7164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7"/>
          <p:cNvSpPr/>
          <p:nvPr/>
        </p:nvSpPr>
        <p:spPr>
          <a:xfrm>
            <a:off x="395280" y="3357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8"/>
          <p:cNvSpPr/>
          <p:nvPr/>
        </p:nvSpPr>
        <p:spPr>
          <a:xfrm>
            <a:off x="2843280" y="350028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редняя л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½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В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9"/>
          <p:cNvSpPr/>
          <p:nvPr/>
        </p:nvSpPr>
        <p:spPr>
          <a:xfrm>
            <a:off x="2987640" y="17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0"/>
          <p:cNvSpPr/>
          <p:nvPr/>
        </p:nvSpPr>
        <p:spPr>
          <a:xfrm>
            <a:off x="500364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1"/>
          <p:cNvSpPr/>
          <p:nvPr/>
        </p:nvSpPr>
        <p:spPr>
          <a:xfrm>
            <a:off x="6012000" y="3573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3"/>
          <p:cNvSpPr/>
          <p:nvPr/>
        </p:nvSpPr>
        <p:spPr>
          <a:xfrm>
            <a:off x="6012000" y="3357720"/>
            <a:ext cx="252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┴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Х ┴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и УХ- выс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4"/>
          <p:cNvSpPr/>
          <p:nvPr/>
        </p:nvSpPr>
        <p:spPr>
          <a:xfrm>
            <a:off x="234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WordArt 4"/>
          <p:cNvSpPr txBox="1"/>
          <p:nvPr/>
        </p:nvSpPr>
        <p:spPr>
          <a:xfrm>
            <a:off x="324000" y="47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биение трапеции на части и нахождение площади трапеци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9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2362320" cy="15829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"/>
          <p:cNvPicPr/>
          <p:nvPr/>
        </p:nvPicPr>
        <p:blipFill>
          <a:blip r:embed="rId4"/>
          <a:stretch/>
        </p:blipFill>
        <p:spPr>
          <a:xfrm>
            <a:off x="5651640" y="1341360"/>
            <a:ext cx="2790720" cy="15811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0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448000" cy="15904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1" descr=""/>
          <p:cNvPicPr/>
          <p:nvPr/>
        </p:nvPicPr>
        <p:blipFill>
          <a:blip r:embed="rId6"/>
          <a:stretch/>
        </p:blipFill>
        <p:spPr>
          <a:xfrm>
            <a:off x="2627280" y="5013360"/>
            <a:ext cx="3168720" cy="14288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3" descr=""/>
          <p:cNvPicPr/>
          <p:nvPr/>
        </p:nvPicPr>
        <p:blipFill>
          <a:blip r:embed="rId7"/>
          <a:stretch/>
        </p:blipFill>
        <p:spPr>
          <a:xfrm>
            <a:off x="5867280" y="5084640"/>
            <a:ext cx="3095640" cy="11066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14"/>
          <p:cNvSpPr/>
          <p:nvPr/>
        </p:nvSpPr>
        <p:spPr>
          <a:xfrm>
            <a:off x="395280" y="134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5"/>
          <p:cNvSpPr/>
          <p:nvPr/>
        </p:nvSpPr>
        <p:spPr>
          <a:xfrm>
            <a:off x="395280" y="1916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108000" y="27082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7"/>
          <p:cNvSpPr/>
          <p:nvPr/>
        </p:nvSpPr>
        <p:spPr>
          <a:xfrm>
            <a:off x="900000" y="1330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539640" y="2852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176364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2124000" y="1413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2124000" y="20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2340000" y="263700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205092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4"/>
          <p:cNvSpPr/>
          <p:nvPr/>
        </p:nvSpPr>
        <p:spPr>
          <a:xfrm>
            <a:off x="2916360" y="2708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5"/>
          <p:cNvSpPr/>
          <p:nvPr/>
        </p:nvSpPr>
        <p:spPr>
          <a:xfrm>
            <a:off x="3348000" y="126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6"/>
          <p:cNvSpPr/>
          <p:nvPr/>
        </p:nvSpPr>
        <p:spPr>
          <a:xfrm>
            <a:off x="4067280" y="126828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5003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8"/>
          <p:cNvSpPr/>
          <p:nvPr/>
        </p:nvSpPr>
        <p:spPr>
          <a:xfrm flipH="1">
            <a:off x="5203800" y="134136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4643280" y="2060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3708360" y="2781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6443640" y="285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5796000" y="1341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3"/>
          <p:cNvSpPr/>
          <p:nvPr/>
        </p:nvSpPr>
        <p:spPr>
          <a:xfrm>
            <a:off x="800748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7308720" y="285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687708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5580000" y="2781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8172360" y="285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8"/>
          <p:cNvSpPr/>
          <p:nvPr/>
        </p:nvSpPr>
        <p:spPr>
          <a:xfrm>
            <a:off x="5991120" y="2122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7812000" y="2133720"/>
            <a:ext cx="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564000" y="4365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1"/>
          <p:cNvSpPr/>
          <p:nvPr/>
        </p:nvSpPr>
        <p:spPr>
          <a:xfrm>
            <a:off x="3924360" y="306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5435640" y="3141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3"/>
          <p:cNvSpPr/>
          <p:nvPr/>
        </p:nvSpPr>
        <p:spPr>
          <a:xfrm>
            <a:off x="5724360" y="429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45" descr=""/>
          <p:cNvPicPr/>
          <p:nvPr/>
        </p:nvPicPr>
        <p:blipFill>
          <a:blip r:embed="rId8"/>
          <a:stretch/>
        </p:blipFill>
        <p:spPr>
          <a:xfrm>
            <a:off x="2700360" y="3357720"/>
            <a:ext cx="3311640" cy="108108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46"/>
          <p:cNvSpPr/>
          <p:nvPr/>
        </p:nvSpPr>
        <p:spPr>
          <a:xfrm>
            <a:off x="2390760" y="422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7"/>
          <p:cNvSpPr/>
          <p:nvPr/>
        </p:nvSpPr>
        <p:spPr>
          <a:xfrm>
            <a:off x="3708360" y="371628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8"/>
          <p:cNvSpPr/>
          <p:nvPr/>
        </p:nvSpPr>
        <p:spPr>
          <a:xfrm>
            <a:off x="108000" y="630864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9"/>
          <p:cNvSpPr/>
          <p:nvPr/>
        </p:nvSpPr>
        <p:spPr>
          <a:xfrm>
            <a:off x="539640" y="486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0"/>
          <p:cNvSpPr/>
          <p:nvPr/>
        </p:nvSpPr>
        <p:spPr>
          <a:xfrm>
            <a:off x="1547640" y="47862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1"/>
          <p:cNvSpPr/>
          <p:nvPr/>
        </p:nvSpPr>
        <p:spPr>
          <a:xfrm>
            <a:off x="2268360" y="6308640"/>
            <a:ext cx="2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2"/>
          <p:cNvSpPr/>
          <p:nvPr/>
        </p:nvSpPr>
        <p:spPr>
          <a:xfrm>
            <a:off x="2340000" y="4869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3"/>
          <p:cNvSpPr/>
          <p:nvPr/>
        </p:nvSpPr>
        <p:spPr>
          <a:xfrm>
            <a:off x="68436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4"/>
          <p:cNvSpPr/>
          <p:nvPr/>
        </p:nvSpPr>
        <p:spPr>
          <a:xfrm>
            <a:off x="843120" y="579420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5"/>
          <p:cNvSpPr/>
          <p:nvPr/>
        </p:nvSpPr>
        <p:spPr>
          <a:xfrm>
            <a:off x="2340000" y="566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6"/>
          <p:cNvSpPr/>
          <p:nvPr/>
        </p:nvSpPr>
        <p:spPr>
          <a:xfrm>
            <a:off x="2700360" y="623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7"/>
          <p:cNvSpPr/>
          <p:nvPr/>
        </p:nvSpPr>
        <p:spPr>
          <a:xfrm>
            <a:off x="3059280" y="47973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8"/>
          <p:cNvSpPr/>
          <p:nvPr/>
        </p:nvSpPr>
        <p:spPr>
          <a:xfrm>
            <a:off x="4500720" y="4797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9"/>
          <p:cNvSpPr/>
          <p:nvPr/>
        </p:nvSpPr>
        <p:spPr>
          <a:xfrm>
            <a:off x="5580000" y="623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60"/>
          <p:cNvSpPr/>
          <p:nvPr/>
        </p:nvSpPr>
        <p:spPr>
          <a:xfrm>
            <a:off x="313200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61"/>
          <p:cNvSpPr/>
          <p:nvPr/>
        </p:nvSpPr>
        <p:spPr>
          <a:xfrm>
            <a:off x="4356000" y="6308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62"/>
          <p:cNvSpPr/>
          <p:nvPr/>
        </p:nvSpPr>
        <p:spPr>
          <a:xfrm>
            <a:off x="3851280" y="63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3"/>
          <p:cNvSpPr/>
          <p:nvPr/>
        </p:nvSpPr>
        <p:spPr>
          <a:xfrm>
            <a:off x="5867280" y="6021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4"/>
          <p:cNvSpPr/>
          <p:nvPr/>
        </p:nvSpPr>
        <p:spPr>
          <a:xfrm>
            <a:off x="6227640" y="49417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5"/>
          <p:cNvSpPr/>
          <p:nvPr/>
        </p:nvSpPr>
        <p:spPr>
          <a:xfrm>
            <a:off x="7596360" y="4941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6"/>
          <p:cNvSpPr/>
          <p:nvPr/>
        </p:nvSpPr>
        <p:spPr>
          <a:xfrm>
            <a:off x="8675640" y="6093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7"/>
          <p:cNvSpPr/>
          <p:nvPr/>
        </p:nvSpPr>
        <p:spPr>
          <a:xfrm>
            <a:off x="637236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8"/>
          <p:cNvSpPr/>
          <p:nvPr/>
        </p:nvSpPr>
        <p:spPr>
          <a:xfrm>
            <a:off x="7524720" y="61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934920" y="26028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апеции равна произведению полусуммы её оснований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рапе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//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, B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 AD, BH=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5"/>
          <p:cNvSpPr/>
          <p:nvPr/>
        </p:nvSpPr>
        <p:spPr>
          <a:xfrm>
            <a:off x="1050840" y="2522520"/>
            <a:ext cx="388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1050840" y="2522520"/>
            <a:ext cx="59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8"/>
          <p:cNvSpPr/>
          <p:nvPr/>
        </p:nvSpPr>
        <p:spPr>
          <a:xfrm>
            <a:off x="179280" y="5084640"/>
            <a:ext cx="2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1128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1619280" y="3274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1"/>
          <p:cNvSpPr/>
          <p:nvPr/>
        </p:nvSpPr>
        <p:spPr>
          <a:xfrm>
            <a:off x="2340000" y="5084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2411280" y="3357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755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914400" y="428292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2411280" y="41497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16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024360" cy="16128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17"/>
          <p:cNvSpPr/>
          <p:nvPr/>
        </p:nvSpPr>
        <p:spPr>
          <a:xfrm>
            <a:off x="3419640" y="33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8"/>
          <p:cNvSpPr/>
          <p:nvPr/>
        </p:nvSpPr>
        <p:spPr>
          <a:xfrm>
            <a:off x="2987640" y="5084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9"/>
          <p:cNvSpPr/>
          <p:nvPr/>
        </p:nvSpPr>
        <p:spPr>
          <a:xfrm>
            <a:off x="4932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0"/>
          <p:cNvSpPr/>
          <p:nvPr/>
        </p:nvSpPr>
        <p:spPr>
          <a:xfrm>
            <a:off x="572436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564000" y="5084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2"/>
          <p:cNvSpPr/>
          <p:nvPr/>
        </p:nvSpPr>
        <p:spPr>
          <a:xfrm>
            <a:off x="4716360" y="5157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4284720" y="5157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916360" cy="13683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5"/>
          <p:cNvSpPr/>
          <p:nvPr/>
        </p:nvSpPr>
        <p:spPr>
          <a:xfrm>
            <a:off x="6084720" y="48690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6443640" y="342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59636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8748720" y="486900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6516720" y="49417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759636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47:07Z</dcterms:created>
  <dc:creator/>
  <dc:description/>
  <dc:language>en-US</dc:language>
  <cp:lastModifiedBy>Пк</cp:lastModifiedBy>
  <dcterms:modified xsi:type="dcterms:W3CDTF">2012-10-28T08:41:41Z</dcterms:modified>
  <cp:revision>18</cp:revision>
  <dc:subject/>
  <dc:title>Презентация PowerPoint</dc:title>
</cp:coreProperties>
</file>