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23.png" ContentType="image/png"/>
  <Override PartName="/ppt/media/image12.png" ContentType="image/png"/>
  <Override PartName="/ppt/media/image9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5.jpeg" ContentType="image/jpeg"/>
  <Override PartName="/ppt/media/image14.gif" ContentType="image/gif"/>
  <Override PartName="/ppt/media/image17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4.jpeg" ContentType="image/jpeg"/>
  <Override PartName="/ppt/media/image2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436-5FCC-455C-824D-CBA196E9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1E2-F941-4F7C-B3F5-E176425E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154-B896-4B76-A358-53F766C5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0A8-A1FF-4776-B43C-C3D07454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568-52C2-4B88-A97A-34C098D4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CE6-AD0D-4D4E-BBC5-79554ABE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07ED-7021-4C51-A73A-3E773303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29F-AD35-42D9-832F-BE2A3473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C6D-5761-4A26-AE44-7A3ED14C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718-A351-4F5D-922F-9042A69A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51E-0ECB-45F0-A11D-A100CA11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B8C-4C20-424B-A91B-62892415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399F-D4F4-45DF-B3CF-91B9E6E253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ann-pages.narod.ru/cl77.gif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ann-pages.narod.ru/cl77.gif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2411280" y="83664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f9e6a1">
                      <a:alpha val="50000"/>
                    </a:srgbClr>
                  </a:outerShdw>
                </a:effectLst>
                <a:latin typeface="Impact"/>
              </a:rPr>
              <a:t>Королевство "Дробей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f9e6a1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24000" y="260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059280" y="907920"/>
            <a:ext cx="39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Сравни дроб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7956720" y="404640"/>
                <a:ext cx="53640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7"/>
              <p:cNvSpPr txBox="1"/>
              <p:nvPr/>
            </p:nvSpPr>
            <p:spPr>
              <a:xfrm>
                <a:off x="6227640" y="404640"/>
                <a:ext cx="58608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6227640" y="2133720"/>
                <a:ext cx="5860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9"/>
              <p:cNvSpPr txBox="1"/>
              <p:nvPr/>
            </p:nvSpPr>
            <p:spPr>
              <a:xfrm>
                <a:off x="7932600" y="2133720"/>
                <a:ext cx="584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Rectangle 11"/>
          <p:cNvSpPr/>
          <p:nvPr/>
        </p:nvSpPr>
        <p:spPr>
          <a:xfrm>
            <a:off x="7164360" y="98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7093080" y="2565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2916360" y="249228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6084720" y="2492280"/>
                <a:ext cx="5367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2195640" y="3933720"/>
            <a:ext cx="2212920" cy="2301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2232000" cy="217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4427640" y="2781360"/>
            <a:ext cx="64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572000" y="465300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1332000" y="620640"/>
          <a:ext cx="1522440" cy="17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620640"/>
                    <a:ext cx="1522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11"/>
          <p:cNvSpPr/>
          <p:nvPr/>
        </p:nvSpPr>
        <p:spPr>
          <a:xfrm>
            <a:off x="3348000" y="620640"/>
            <a:ext cx="44640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двух дробей с одинаковыми знаменателями меньше та, у которой меньше числитель, и больше та, у которой больше числител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3276720" y="285264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7"/>
              <p:cNvSpPr txBox="1"/>
              <p:nvPr/>
            </p:nvSpPr>
            <p:spPr>
              <a:xfrm>
                <a:off x="5940360" y="2924280"/>
                <a:ext cx="584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5292720" y="4437000"/>
            <a:ext cx="1967040" cy="201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2084400" cy="2103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4643280" y="501336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4572000" y="335772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12"/>
          <p:cNvGraphicFramePr/>
          <p:nvPr/>
        </p:nvGraphicFramePr>
        <p:xfrm>
          <a:off x="1332000" y="620640"/>
          <a:ext cx="1522440" cy="17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620640"/>
                    <a:ext cx="1522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13"/>
          <p:cNvSpPr/>
          <p:nvPr/>
        </p:nvSpPr>
        <p:spPr>
          <a:xfrm>
            <a:off x="3348000" y="1052640"/>
            <a:ext cx="446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 равные дроби обозначают одно и то же дробн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5" descr="249"/>
          <p:cNvPicPr/>
          <p:nvPr/>
        </p:nvPicPr>
        <p:blipFill>
          <a:blip r:embed="rId6"/>
          <a:stretch/>
        </p:blipFill>
        <p:spPr>
          <a:xfrm>
            <a:off x="6588000" y="2276640"/>
            <a:ext cx="21592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Картинка 13 из 253"/>
          <p:cNvPicPr/>
          <p:nvPr/>
        </p:nvPicPr>
        <p:blipFill>
          <a:blip r:embed="rId2"/>
          <a:stretch/>
        </p:blipFill>
        <p:spPr>
          <a:xfrm>
            <a:off x="2411280" y="0"/>
            <a:ext cx="3146400" cy="393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249"/>
          <p:cNvPicPr/>
          <p:nvPr/>
        </p:nvPicPr>
        <p:blipFill>
          <a:blip r:embed="rId3"/>
          <a:stretch/>
        </p:blipFill>
        <p:spPr>
          <a:xfrm rot="20655000">
            <a:off x="1835280" y="188640"/>
            <a:ext cx="2158920" cy="2095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>
            <a:off x="5364000" y="1197000"/>
            <a:ext cx="4248360" cy="3095640"/>
          </a:xfrm>
          <a:prstGeom prst="cloudCallout">
            <a:avLst>
              <a:gd name="adj1" fmla="val -72273"/>
              <a:gd name="adj2" fmla="val -65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ван - царевич проплы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/1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сего пути. До моего дворца, осталось проплы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/1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сего пути. Какая часть пути больше, та которую Иван проплыл или которую ему осталось проплы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Картинка 220 из 237"/>
          <p:cNvPicPr/>
          <p:nvPr/>
        </p:nvPicPr>
        <p:blipFill>
          <a:blip r:embed="rId2"/>
          <a:stretch/>
        </p:blipFill>
        <p:spPr>
          <a:xfrm>
            <a:off x="6877080" y="1125360"/>
            <a:ext cx="1428840" cy="2476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763640" y="620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Izhitsa"/>
              </a:rPr>
              <a:t>Задание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205640" y="1341360"/>
            <a:ext cx="568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Отметьте на координатном луч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дома, где живут мои 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1979640" y="4797360"/>
                <a:ext cx="460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2987640" y="2349360"/>
                <a:ext cx="5018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9"/>
              <p:cNvSpPr txBox="1"/>
              <p:nvPr/>
            </p:nvSpPr>
            <p:spPr>
              <a:xfrm>
                <a:off x="4932360" y="2276640"/>
                <a:ext cx="4604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5796000" y="4581360"/>
                <a:ext cx="5014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0" name="Picture 12" descr="Картинка 7 из 60"/>
          <p:cNvPicPr/>
          <p:nvPr/>
        </p:nvPicPr>
        <p:blipFill>
          <a:blip r:embed="rId3"/>
          <a:stretch/>
        </p:blipFill>
        <p:spPr>
          <a:xfrm>
            <a:off x="2484360" y="3429000"/>
            <a:ext cx="31687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4"/>
          <p:cNvGraphicFramePr/>
          <p:nvPr/>
        </p:nvGraphicFramePr>
        <p:xfrm>
          <a:off x="250920" y="1557360"/>
          <a:ext cx="32940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32940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WordArt 5"/>
          <p:cNvSpPr txBox="1"/>
          <p:nvPr/>
        </p:nvSpPr>
        <p:spPr>
          <a:xfrm>
            <a:off x="2340000" y="907920"/>
            <a:ext cx="6264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f9e6a1">
                      <a:alpha val="50000"/>
                    </a:srgbClr>
                  </a:outerShdw>
                </a:effectLst>
                <a:latin typeface="Impact"/>
              </a:rPr>
              <a:t>Конец сказ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f9e6a1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916360" y="1557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жили долго и счастл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763640" y="0"/>
            <a:ext cx="439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л да был Царевич. Прослышал он, что за тридевять земель, в некотором царстве обыкновенных дробей живет Елена Прекрасная. Чудо, как хорош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09440" y="4284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отправился он сватать Елену Прекрасну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4211640" y="2781360"/>
            <a:ext cx="41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гож гость, да умен 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йду - говорит Елена Прекрасная за тебя замуж. Только должен ты сначала как водится пройти испытания и достать со дна моря синего колечко, что я оброн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Картинка 13 из 25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0200" y="2637000"/>
            <a:ext cx="314640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4"/>
          <p:cNvGraphicFramePr/>
          <p:nvPr/>
        </p:nvGraphicFramePr>
        <p:xfrm>
          <a:off x="6084720" y="-1900080"/>
          <a:ext cx="1629000" cy="177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-1900080"/>
                    <a:ext cx="16290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Золушка"/>
          <p:cNvPicPr/>
          <p:nvPr/>
        </p:nvPicPr>
        <p:blipFill>
          <a:blip r:embed="rId2"/>
          <a:stretch/>
        </p:blipFill>
        <p:spPr>
          <a:xfrm>
            <a:off x="1619280" y="4005360"/>
            <a:ext cx="1341360" cy="2206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340000" y="620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Izhitsa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484360" y="12682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Izhitsa"/>
              </a:rPr>
              <a:t>На доске записаны дро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"/>
              <p:cNvSpPr txBox="1"/>
              <p:nvPr/>
            </p:nvSpPr>
            <p:spPr>
              <a:xfrm>
                <a:off x="2211480" y="1989000"/>
                <a:ext cx="536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2897280" y="1989000"/>
                <a:ext cx="779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3825720" y="1989000"/>
                <a:ext cx="5367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10"/>
              <p:cNvSpPr txBox="1"/>
              <p:nvPr/>
            </p:nvSpPr>
            <p:spPr>
              <a:xfrm>
                <a:off x="4511520" y="1989000"/>
                <a:ext cx="5860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5246640" y="1989000"/>
                <a:ext cx="779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2"/>
              <p:cNvSpPr txBox="1"/>
              <p:nvPr/>
            </p:nvSpPr>
            <p:spPr>
              <a:xfrm>
                <a:off x="1476360" y="198900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3"/>
              <p:cNvSpPr txBox="1"/>
              <p:nvPr/>
            </p:nvSpPr>
            <p:spPr>
              <a:xfrm>
                <a:off x="6175440" y="198900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6910560" y="1989000"/>
                <a:ext cx="536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5"/>
              <p:cNvSpPr txBox="1"/>
              <p:nvPr/>
            </p:nvSpPr>
            <p:spPr>
              <a:xfrm>
                <a:off x="7596360" y="1989000"/>
                <a:ext cx="779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Rectangle 16"/>
          <p:cNvSpPr/>
          <p:nvPr/>
        </p:nvSpPr>
        <p:spPr>
          <a:xfrm>
            <a:off x="2980800" y="3860640"/>
            <a:ext cx="44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Разбейте дроби па клас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указав признак разби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664000" y="2924280"/>
            <a:ext cx="64800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ые: 3/8, 5/12, 3/4, 7/8, 8/9, 7/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авильные: 9/8, 15/7, 4/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динаковыми знаменателями: 3/8, 9/8, 7/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зными знаменателями: 5/12, 3/4, 15/7, 4/3, 8/9, 7/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динаковыми числителями: 3/8 и 3/4; 7/8 и 7/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зными числителями: 5/12, 9/8, 15/7, 4/3, 8/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067280" y="76500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Izhitsa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8"/>
          <p:cNvGraphicFramePr/>
          <p:nvPr/>
        </p:nvGraphicFramePr>
        <p:xfrm>
          <a:off x="1258920" y="549360"/>
          <a:ext cx="2146320" cy="24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549360"/>
                    <a:ext cx="214632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9"/>
          <p:cNvGraphicFramePr/>
          <p:nvPr/>
        </p:nvGraphicFramePr>
        <p:xfrm>
          <a:off x="6084720" y="692280"/>
          <a:ext cx="1919520" cy="20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84720" y="692280"/>
                    <a:ext cx="191952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Картинка 13 из 25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0200" y="2637000"/>
            <a:ext cx="3146400" cy="3931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211640" y="278136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у что ж, Иван-царевич», - молвила Елена, - «справился ты с первым испытанием. Вот второе – привести мне «Аленький цветоч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Картинка 217 из 97850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Картинка 60 из 76"/>
          <p:cNvPicPr/>
          <p:nvPr/>
        </p:nvPicPr>
        <p:blipFill>
          <a:blip r:embed="rId3"/>
          <a:stretch/>
        </p:blipFill>
        <p:spPr>
          <a:xfrm>
            <a:off x="2411280" y="333360"/>
            <a:ext cx="4716720" cy="366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8"/>
          <p:cNvGraphicFramePr/>
          <p:nvPr/>
        </p:nvGraphicFramePr>
        <p:xfrm>
          <a:off x="3995640" y="1557360"/>
          <a:ext cx="1522440" cy="17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1557360"/>
                    <a:ext cx="1522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8:49:44Z</dcterms:created>
  <dc:creator>User</dc:creator>
  <dc:description/>
  <dc:language>en-US</dc:language>
  <cp:lastModifiedBy>Admin</cp:lastModifiedBy>
  <dcterms:modified xsi:type="dcterms:W3CDTF">2010-02-06T06:46:28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