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23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52E-F44E-4F3F-B21F-B341407D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421-DBCE-4FD5-8172-8AB6DA4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940-85C5-4798-99C6-4E4BAC9B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DE1-6DF0-403D-B82E-ADC39CAE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E69-6E63-4210-994F-0E8D8D6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46B-7984-49B9-B2D3-7F7954E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370-0C3E-48EF-9981-4E893CF0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069-5D08-46E4-9803-4EB25BC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DC2-B854-4D70-9322-4CB5BC6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BE7-5B59-46CF-9A35-6E5D066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5A4-1C47-470F-A222-625D15E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DCD-B13C-433C-94FD-21F6401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EC02-A131-4F13-8410-EE8FB14F2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83664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ролевство "Дроб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59280" y="9079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Сравни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956720" y="404640"/>
                <a:ext cx="53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6227640" y="404640"/>
                <a:ext cx="586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227640" y="213372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7932600" y="213372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716436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0930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916360" y="249228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84720" y="249228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2212920" cy="23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232000" cy="217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427640" y="2781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4653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1"/>
          <p:cNvSpPr/>
          <p:nvPr/>
        </p:nvSpPr>
        <p:spPr>
          <a:xfrm>
            <a:off x="3348000" y="620640"/>
            <a:ext cx="446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дробей с одинаковыми знаменателями меньше та, у которой меньше числитель, и больше та, у которой больше числител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276720" y="285264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5940360" y="292428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96704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84400" cy="210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643280" y="5013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572000" y="335772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2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3348000" y="1052640"/>
            <a:ext cx="44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равные дроби обозначают одно и то же дроб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49"/>
          <p:cNvPicPr/>
          <p:nvPr/>
        </p:nvPicPr>
        <p:blipFill>
          <a:blip r:embed="rId6"/>
          <a:stretch/>
        </p:blipFill>
        <p:spPr>
          <a:xfrm>
            <a:off x="6588000" y="2276640"/>
            <a:ext cx="2159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артинка 13 из 253"/>
          <p:cNvPicPr/>
          <p:nvPr/>
        </p:nvPicPr>
        <p:blipFill>
          <a:blip r:embed="rId2"/>
          <a:stretch/>
        </p:blipFill>
        <p:spPr>
          <a:xfrm>
            <a:off x="2411280" y="0"/>
            <a:ext cx="3146400" cy="39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49"/>
          <p:cNvPicPr/>
          <p:nvPr/>
        </p:nvPicPr>
        <p:blipFill>
          <a:blip r:embed="rId3"/>
          <a:stretch/>
        </p:blipFill>
        <p:spPr>
          <a:xfrm rot="20655000">
            <a:off x="1835280" y="188640"/>
            <a:ext cx="21589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364000" y="1197000"/>
            <a:ext cx="4248360" cy="3095640"/>
          </a:xfrm>
          <a:prstGeom prst="cloudCallout">
            <a:avLst>
              <a:gd name="adj1" fmla="val -72273"/>
              <a:gd name="adj2" fmla="val -6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- царевич проплы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/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До моего дворца, осталось проплы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/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Какая часть пути больше, та которую Иван проплыл или которую ему осталось пропл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220 из 237"/>
          <p:cNvPicPr/>
          <p:nvPr/>
        </p:nvPicPr>
        <p:blipFill>
          <a:blip r:embed="rId2"/>
          <a:stretch/>
        </p:blipFill>
        <p:spPr>
          <a:xfrm>
            <a:off x="6877080" y="1125360"/>
            <a:ext cx="1428840" cy="247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6364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05640" y="134136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Отметьте на координатном лу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дома, где живут мои 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979640" y="479736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987640" y="234936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932360" y="2276640"/>
                <a:ext cx="460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796000" y="4581360"/>
                <a:ext cx="501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12" descr="Картинка 7 из 60"/>
          <p:cNvPicPr/>
          <p:nvPr/>
        </p:nvPicPr>
        <p:blipFill>
          <a:blip r:embed="rId3"/>
          <a:stretch/>
        </p:blipFill>
        <p:spPr>
          <a:xfrm>
            <a:off x="2484360" y="3429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250920" y="1557360"/>
          <a:ext cx="32940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940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5"/>
          <p:cNvSpPr txBox="1"/>
          <p:nvPr/>
        </p:nvSpPr>
        <p:spPr>
          <a:xfrm>
            <a:off x="2340000" y="90792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нец сказ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жили долго 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763640" y="0"/>
            <a:ext cx="439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 да был Царевич. Прослышал он, что за тридевять земель, в некотором царстве обыкновенных дробей живет Елена Прекрасная. Чудо, как хорош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9440" y="428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тправился он сватать Елену Прекрасну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211640" y="278136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ж гость, да умен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у - говорит Елена Прекрасная за тебя замуж. Только должен ты сначала как водится пройти испытания и достать со дна моря синего колечко, что я обр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084720" y="-1900080"/>
          <a:ext cx="1629000" cy="17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-1900080"/>
                    <a:ext cx="1629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олушка"/>
          <p:cNvPicPr/>
          <p:nvPr/>
        </p:nvPicPr>
        <p:blipFill>
          <a:blip r:embed="rId2"/>
          <a:stretch/>
        </p:blipFill>
        <p:spPr>
          <a:xfrm>
            <a:off x="1619280" y="4005360"/>
            <a:ext cx="134136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26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zhitsa"/>
              </a:rPr>
              <a:t>На доске записаны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21148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289728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3825720" y="198900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511520" y="198900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24664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7636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617544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91056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9636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16"/>
          <p:cNvSpPr/>
          <p:nvPr/>
        </p:nvSpPr>
        <p:spPr>
          <a:xfrm>
            <a:off x="2980800" y="386064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Разбейте дроби па клас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указав признак разби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664000" y="2924280"/>
            <a:ext cx="6480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: 3/8, 5/12, 3/4, 7/8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ые: 9/8, 15/7, 4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знаменателями: 3/8, 9/8, 7/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знаменателями: 5/12, 3/4, 15/7, 4/3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числителями: 3/8 и 3/4; 7/8 и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числителями: 5/12, 9/8, 15/7, 4/3, 8/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728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1258920" y="549360"/>
          <a:ext cx="214632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9360"/>
                    <a:ext cx="21463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6084720" y="692280"/>
          <a:ext cx="19195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692280"/>
                    <a:ext cx="1919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11640" y="2781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, Иван-царевич», - молвила Елена, - «справился ты с первым испытанием. Вот второе – привести мне «Аленький цве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артинка 217 из 978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0 из 76"/>
          <p:cNvPicPr/>
          <p:nvPr/>
        </p:nvPicPr>
        <p:blipFill>
          <a:blip r:embed="rId3"/>
          <a:stretch/>
        </p:blipFill>
        <p:spPr>
          <a:xfrm>
            <a:off x="2411280" y="333360"/>
            <a:ext cx="4716720" cy="36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8"/>
          <p:cNvGraphicFramePr/>
          <p:nvPr/>
        </p:nvGraphicFramePr>
        <p:xfrm>
          <a:off x="3995640" y="155736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55736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9:44Z</dcterms:created>
  <dc:creator>User</dc:creator>
  <dc:description/>
  <dc:language>en-US</dc:language>
  <cp:lastModifiedBy>Admin</cp:lastModifiedBy>
  <dcterms:modified xsi:type="dcterms:W3CDTF">2010-02-06T06:46:2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