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11.png" ContentType="image/png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74E0-9540-4014-A935-6BDFE241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9509-2B43-487C-B8FD-EB604AFE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25B1-F13A-433D-89EA-9659F1C7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EA7C-54DD-4346-A187-31DD175D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02C7-80E3-414C-ABD6-4A9ABBC0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91B3-3E08-400C-ACDE-7C52660F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3446-718E-4719-8381-85815B10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F896-5B4D-4570-9F68-82905885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D9EF-FC75-477C-854C-FAF06D0A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0BB8-6DAA-4B28-86B3-C08A2BF4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DB3E-AD78-419B-80A8-FE429C0B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3833-C543-4B69-9D93-88209AAC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1DFB-9A25-42C4-AB01-283934B5C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 что способен наш мозг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отри только на крест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ез какое-то время бегущий кружок будет зелёны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360" y="1306440"/>
            <a:ext cx="5435640" cy="5435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796000" y="3810240"/>
            <a:ext cx="309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и дальше продолжать смотреть на крест, то вскоре все лиловые кружки исчезнут, останется только бегущий зелёный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торый на самом деле лиловый 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отри только на точку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вигай при этом головой вперёд-назад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8272" r="0" b="10725"/>
          <a:stretch/>
        </p:blipFill>
        <p:spPr>
          <a:xfrm>
            <a:off x="990720" y="1447920"/>
            <a:ext cx="7200720" cy="52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наилучшее как всегда в конце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о, на мой взгляд, самая прикольная PC-иллюзия!</a:t>
            </a:r>
            <a:br>
              <a:rPr sz="1600"/>
            </a:br>
            <a:br>
              <a:rPr sz="1600"/>
            </a:b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Инструкция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Смотреть в течении 40 секунд на 4 точки в центре картинки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Затем посмотреть на ровную, желательно, белую поверхность (стена, лист бумаги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Сначала у вас перед глазами появится белое пятно, которое сформируется в  портрет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у и кто на этом портрет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04180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602136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что способен наш мозг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итайте текст до конца, не обращая внимание на то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он как-то не так выглядит...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 исслднеовиай агнлйксиих унёычх селудет, что сошвнерено вёс-рнаво в ккаом пкоярде сотят бвкуы в совле, смаое гавлоне,что перавя и псоленядя бквуы длжоны соттяь на свиох мсеатх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алсьное мжеот бтыь ернуодй и ты смжоешь эот порчтиать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томоу-что мы чтаием солво цлекиом, а не бквуа за бкву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что-то крутиться - тебе нужен отпуск!!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мотри внимательно на каждый круг в отдельности –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 стоит на мест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5218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7640" y="1886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мотри внимательно на картинку..Что ты видишь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читай ниже объяснение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084560" cy="5445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95680" y="3606480"/>
            <a:ext cx="44690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сследования показали, что маленькие дети не могут различить эту пару, т.к. у них в памяти не заложена ещё эта aссоциа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ти видят девять делфинов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то тест на испорченность твоего воображения :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ли ты в течении 3 секунд так и не нашёл этих дельфинов, то читай пару строчек выше  :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ять всё крутится? А если поглядеть внимательно, то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2131920"/>
            <a:ext cx="86421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 да?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008000"/>
            <a:ext cx="80647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 нет?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379520"/>
            <a:ext cx="7272360" cy="5248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Ja, tun sie!"/>
          <p:cNvPicPr/>
          <p:nvPr/>
        </p:nvPicPr>
        <p:blipFill>
          <a:blip r:embed="rId2"/>
          <a:stretch/>
        </p:blipFill>
        <p:spPr>
          <a:xfrm>
            <a:off x="3203640" y="836640"/>
            <a:ext cx="273672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асные линии параллельны друг друг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42920" y="1285920"/>
            <a:ext cx="70581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 ты видишь - спираль или просто круги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1280" y="662040"/>
            <a:ext cx="6156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07:09:20Z</dcterms:created>
  <dc:creator>Roland</dc:creator>
  <dc:description/>
  <dc:language>en-US</dc:language>
  <cp:lastModifiedBy>ls</cp:lastModifiedBy>
  <dcterms:modified xsi:type="dcterms:W3CDTF">2006-03-22T11:03:40Z</dcterms:modified>
  <cp:revision>29</cp:revision>
  <dc:subject/>
  <dc:title>was das Hirn alles kann …</dc:title>
</cp:coreProperties>
</file>