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gif" ContentType="image/gif"/>
  <Override PartName="/ppt/media/image7.jpeg" ContentType="image/jpeg"/>
  <Override PartName="/ppt/media/image11.png" ContentType="image/png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CF68E-C06F-4D56-AC09-3D5EEB2BC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F9922-15CB-49B9-A33C-299842DF2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3C5A6-8C1B-4815-8C0E-C445A00B7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883B8-C666-47E8-9531-4E6B5E445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EB71E-256F-4887-86FC-BC6867DD4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B3006-8C9E-4E61-A2F1-7EE256D9C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CE4A6-D25A-41DF-BD67-D90CAB552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CB653-D4BF-4E1B-A58A-763BD7BC0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8BE00-28B2-4709-ACAE-2C72B2F6F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DE8D9-66F3-4874-BB46-F80F4167B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2C7CC-CD91-472F-AF97-4BE068475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AF4B1-AD89-433B-92DE-0D7EB2548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8B19C-BFBC-44B6-BA7B-B0D5143523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На что способен наш мозг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мотри только на крест.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Через какое-то время бегущий кружок будет зелёным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44360" y="1306440"/>
            <a:ext cx="5435640" cy="54356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5796000" y="3810240"/>
            <a:ext cx="3097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Если и дальше продолжать смотреть на крест, то вскоре все лиловые кружки исчезнут, останется только бегущий зелёный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торый на самом деле лиловый :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мотри только на точку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двигай при этом головой вперёд-назад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rcRect l="0" t="8272" r="0" b="10725"/>
          <a:stretch/>
        </p:blipFill>
        <p:spPr>
          <a:xfrm>
            <a:off x="990720" y="1447920"/>
            <a:ext cx="7200720" cy="52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229600" cy="26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И наилучшее как всегда в конце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50560" y="274680"/>
            <a:ext cx="8893080" cy="21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Это, на мой взгляд, самая прикольная PC-иллюзия!</a:t>
            </a:r>
            <a:br>
              <a:rPr sz="1600"/>
            </a:br>
            <a:br>
              <a:rPr sz="1600"/>
            </a:br>
            <a:r>
              <a:rPr b="0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Инструкция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 Смотреть в течении 40 секунд на 4 точки в центре картинки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 Затем посмотреть на ровную, желательно, белую поверхность (стена, лист бумаги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 Сначала у вас перед глазами появится белое пятно, которое сформируется в  портрет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Ну и кто на этом портрете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835280" y="2349360"/>
            <a:ext cx="5041800" cy="449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11280" y="6021360"/>
            <a:ext cx="82296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Коне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1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 что способен наш мозг!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Читайте текст до конца, не обращая внимание на то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что он как-то не так выглядит...</a:t>
            </a:r>
            <a:br>
              <a:rPr sz="4000"/>
            </a:b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з исслднеовиай агнлйксиих унёычх селудет, что сошвнерено вёс-рнаво в ккаом пкоярде сотят бвкуы в совле, смаое гавлоне,что перавя и псоленядя бквуы длжоны соттяь на свиох мсеатх.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талсьное мжеот бтыь ернуодй и ты смжоешь эот порчтиать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томоу-что мы чтаием солво цлекиом, а не бквуа за бкву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Если что-то крутиться - тебе нужен отпуск!!!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смотри внимательно на каждый круг в отдельности –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н стоит на месте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826920" y="1197000"/>
            <a:ext cx="7521840" cy="56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7640" y="188640"/>
            <a:ext cx="8785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смотри внимательно на картинку..Что ты видишь?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очитай ниже объяснение!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24000" y="1341360"/>
            <a:ext cx="4084560" cy="54453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4495680" y="3606480"/>
            <a:ext cx="446904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Исследования показали, что маленькие дети не могут различить эту пару, т.к. у них в памяти не заложена ещё эта aссоциац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Дети видят девять делфинов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Это тест на испорченность твоего воображения :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Если ты в течении 3 секунд так и не нашёл этих дельфинов, то читай пару строчек выше  :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пять всё крутится? А если поглядеть внимательно, то н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50920" y="2131920"/>
            <a:ext cx="8642160" cy="43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ли да?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39640" y="1008000"/>
            <a:ext cx="8064720" cy="553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ли нет?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1379520"/>
            <a:ext cx="7272360" cy="52484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Ja, tun sie!"/>
          <p:cNvPicPr/>
          <p:nvPr/>
        </p:nvPicPr>
        <p:blipFill>
          <a:blip r:embed="rId2"/>
          <a:stretch/>
        </p:blipFill>
        <p:spPr>
          <a:xfrm>
            <a:off x="3203640" y="836640"/>
            <a:ext cx="2736720" cy="33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расные линии параллельны друг другу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042920" y="1285920"/>
            <a:ext cx="7058160" cy="530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Что ты видишь - спираль или просто круги?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71280" y="662040"/>
            <a:ext cx="6156360" cy="61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5T07:09:20Z</dcterms:created>
  <dc:creator>Roland</dc:creator>
  <dc:description/>
  <dc:language>en-US</dc:language>
  <cp:lastModifiedBy>ls</cp:lastModifiedBy>
  <dcterms:modified xsi:type="dcterms:W3CDTF">2006-03-22T11:03:40Z</dcterms:modified>
  <cp:revision>29</cp:revision>
  <dc:subject/>
  <dc:title>was das Hirn alles kann …</dc:title>
</cp:coreProperties>
</file>