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20.wmf" ContentType="image/x-wmf"/>
  <Override PartName="/ppt/media/image4.png" ContentType="image/png"/>
  <Override PartName="/ppt/media/image13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7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C0F-00DD-4C47-8CDD-28DAFF41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B78-D545-4182-ABA4-E6529A35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341-FC43-43FB-B4EF-7A38A435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1CE-A0BD-4B33-B969-635FCE89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D433-75C3-44D8-8589-74AED326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FC25-C137-470F-BF23-492AF4CE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90CC-AAFD-46C9-BD94-211BB52F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1BFF-6139-4018-A223-B57D6C28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D4B9-7E95-44A1-A38E-63FDB8D2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188B-21B7-40A1-805B-1577AF37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A78D-EDB8-4D45-91CE-2292A62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070-82FC-4FF4-BF39-1441D9A4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0D8B-C00E-4B77-87C7-57DC7050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94CD-B9F0-4C61-AC14-76D49019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AC52-3E82-4869-BA62-F699F1C4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3903-80C7-4DA7-A038-4273689A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DF5A-CA45-4742-9D51-17B31BCD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407-31CE-4D43-B55B-3E39389D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155-8345-48E6-BEAA-A1D4CF7B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FC0-C38E-4476-9CAB-55171749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62D-DBF0-4AD4-99F1-338E5B62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888-2AC2-477B-AA54-7EE04EC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51A-30D8-44DE-B281-63DBF67D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215-3949-4961-AAD5-0F79F158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46A7-B590-49CC-8D77-F0B0119BDC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50000">
                  <a:srgbClr val="000066"/>
                </a:gs>
                <a:gs pos="100000">
                  <a:srgbClr val="000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0f8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2e90"/>
                </a:gs>
                <a:gs pos="100000">
                  <a:srgbClr val="0000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57D4-63B1-4258-8862-E01FE08253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ecff"/>
                </a:solidFill>
                <a:latin typeface="Raavi"/>
              </a:rPr>
              <a:t>Современные средства поражения</a:t>
            </a:r>
            <a:endParaRPr b="1" lang="en-US" sz="6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Классификация ядерных боеприпасов</a:t>
            </a: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05280" y="838080"/>
            <a:ext cx="9448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* «Атомные» — однофазные или одноступенчатые устройства, в   которых основной выход энергии происходит от ядерной реакции деления тяжелых элементов (урана-235 или плутония) с образованием более лёгких элеме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* «Водородные» — двухфазные или двухступенчатые устройства,    в которых последовательно развиваются два физических процесса, локализованных в различных областях пространства: на первой стадии основным источником энергии является реакция деления ядер, а на второй реакции деления и термоядерног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интеза используются в различны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порциях, в зависимости от типа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стройки боеприпаса. Первая стад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пускает вторую, в ходе которо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деляется наибольшая часть энерги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зрыва. Термин термоядерное  оруж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пользуется в качестве синонима дл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водородного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nuclearbomb002"/>
          <p:cNvPicPr/>
          <p:nvPr/>
        </p:nvPicPr>
        <p:blipFill>
          <a:blip r:embed="rId1"/>
          <a:stretch/>
        </p:blipFill>
        <p:spPr>
          <a:xfrm>
            <a:off x="5181480" y="3733920"/>
            <a:ext cx="36831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Взрыв однофазной ядерной бомбы мощностью 23 Кт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Полигон в Неваде (1953)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1722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Ударная волна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дарная волна распространяется с огромной скоростью, так, за первые 2 с она проходит 1 км, за 5 с — 2 км, за 8 с — 3 к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дарная волна в большинстве случаев является основным поражающим фактором и обладает большой разрушительной силой. Степень поражения  живой силы зависит от мощности и вида взрыва, расстояния от места взрыва и от использования защитных свойств местности, фортификационных сооружений и штатной техники. Ударная волна вызывает травмы различной тяже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аншеи и другие оборонительные сооружения являются хорошей защитой о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дарной волны. Так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крытая траншея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,5—2 раз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еньша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диус пораже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51246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Световое излучение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Световое излучение - поток ультрафиолетового и инфракрасного излучения, распространяющегося практически мгновенно во все стороны от места взрыва. Оно способно вызывать ожоги открытых участков кожи, поражение глаз, возгорание некоторых частей вооружения и техники и даже оплавление металла. Большую опасность для глаз человека представляет световое излучение ночью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Poragenie_103_M"/>
          <p:cNvPicPr/>
          <p:nvPr/>
        </p:nvPicPr>
        <p:blipFill>
          <a:blip r:embed="rId1"/>
          <a:stretch/>
        </p:blipFill>
        <p:spPr>
          <a:xfrm>
            <a:off x="685800" y="3733920"/>
            <a:ext cx="78613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Проникающая радиация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28960" y="1447920"/>
            <a:ext cx="9372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никающая радиация представляет собой поток гамма-лучей и нейтронов, распространяющихся с момента взрыва во все стороны в течение 10—15 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ажающее действие проникающей радиации основано на способн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амма-лучей и нейтронов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онизировать атомы, входящ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остав живых ткане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езультате этого в организм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ловека наруша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изненные процессы и п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льшой дозе вызывает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учевая болезн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2-08"/>
          <p:cNvPicPr/>
          <p:nvPr/>
        </p:nvPicPr>
        <p:blipFill>
          <a:blip r:embed="rId1"/>
          <a:stretch/>
        </p:blipFill>
        <p:spPr>
          <a:xfrm>
            <a:off x="4419720" y="3205080"/>
            <a:ext cx="472428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Радиоактивное заражение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диоактивное заражение образуется при делении ядерного заряда и радиоактивных изотопов, образующихся в результате воздействия нейтронов на материалы, из которых изготовлен ядерный боеприпас, и проникающей радиации — на некоторые элементы, входящие в состав грунта в районе взрыва. Излучения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диоактивных веществ также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зывают у человека лучевую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лезнь. Поражение определяется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личиной дозы радиации и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ременем, в течение которого он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луче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щитой от ионизирующих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лучений радиоактивного заражения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вляются различные инженерные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оружения и другие укрыт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image315"/>
          <p:cNvPicPr/>
          <p:nvPr/>
        </p:nvPicPr>
        <p:blipFill>
          <a:blip r:embed="rId1"/>
          <a:stretch/>
        </p:blipFill>
        <p:spPr>
          <a:xfrm>
            <a:off x="0" y="3352680"/>
            <a:ext cx="3733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Электромагнитный импульс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04920" y="1295280"/>
            <a:ext cx="9677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омагнитный импульс представляет собой кратковременные электрические и магнитные поля высокой напряженности, в результате чего может быть нарушена работа радиолокационных средст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громное количеств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йтронов, возникающих п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зрыве, и слабое поглощени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х броней (через слой 12 с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ходит не меньше 50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йтронов) делают указанно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ужие, по мнению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рубежных специалистов, эффективны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едством борьбы с экипажами танков по выводу их из стро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5" descr="2FDBC5EC70B61EFBCC36188319919324"/>
          <p:cNvPicPr/>
          <p:nvPr/>
        </p:nvPicPr>
        <p:blipFill>
          <a:blip r:embed="rId1"/>
          <a:stretch/>
        </p:blipFill>
        <p:spPr>
          <a:xfrm>
            <a:off x="4014720" y="2590920"/>
            <a:ext cx="51292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Берегите себя!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24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647712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Garamond"/>
              </a:rPr>
              <a:t>Чита 2010 – 2011 гг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Оружие массового поражения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ужие, предназначенное для нанесения массовых потерь или разрушений на большой площади. Поражающие факторы оружия массового поражения, как правило, продолжают наносить урон в течение длительного времени. Также ОМП деморализует как войска, так и гражданское насел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равнимые последствия могут наступить и в случае применения обычного оружия или совершения террористических актов на экологически опасных объектах, таких как АЭС, плотинах и гидроузлах, химических заводах и 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вооружении современных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сударств стоят такие виды ОМП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химическое оруж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иологическое оруж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дерное оруж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" descr="nuclear-detonation"/>
          <p:cNvPicPr/>
          <p:nvPr/>
        </p:nvPicPr>
        <p:blipFill>
          <a:blip r:embed="rId1"/>
          <a:stretch/>
        </p:blipFill>
        <p:spPr>
          <a:xfrm rot="279000">
            <a:off x="5886360" y="4160880"/>
            <a:ext cx="32576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Биологическое оружи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05280" y="13716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атогенные микроорганизмы или их споры, вирусы, бактериальные токсины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заражённые животные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а также средства их доставки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редназначенные для массового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оражения живой силы противника, сельскохозяйственных животных,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посевов сельскохозяйственных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культур, а также порчи некоторых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видов военных материалов и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300" spc="-1" strike="noStrike">
                <a:solidFill>
                  <a:srgbClr val="ffffff"/>
                </a:solidFill>
                <a:latin typeface="Garamond"/>
              </a:rPr>
              <a:t>снаряжения.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HD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6477120" y="2209680"/>
            <a:ext cx="2528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Биологическое оружи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ждународный символ биологической угроз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7" descr="351px-Biohazard_symbol"/>
          <p:cNvPicPr/>
          <p:nvPr/>
        </p:nvPicPr>
        <p:blipFill>
          <a:blip r:embed="rId1"/>
          <a:stretch/>
        </p:blipFill>
        <p:spPr>
          <a:xfrm>
            <a:off x="2900520" y="1852560"/>
            <a:ext cx="33429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Поражающий фактор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ачестве бактериальных (биологических) средств для поражения людей противник может применить болезнетворные микробы — возбудители чумы, холеры, натуральной оспы, туляремии и др. и токсины — яды, выделяемые некоторыми микроб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нешними признаками бактериологического (биологического) заражения являются образование аэрозольного облака после взрыва боеприпасов, а также появление в местах падения бомб и контейнеров большого количества насекомы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 бактериологического оружия защищают убежища, оборудованные фильтровентиляционными установками, противорадиационные укрытия, средства индивидуальной защиты органов дыхания и кожи, а также специальные средства противоэпидемической защиты: предохранительные прививки, сыворотки, антибиот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Химическое оружие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ужие массового поражения, действие которого основано на токсических свойствах отравляющих веществ, и средства их применения: снаряды, ракеты, мины, авиационные бомбы, ВАПы (вылив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иационные приборы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ряду с ядерным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иологическим оружи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носится к оружию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сового поражения (ОМП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388px-wmd-chemicalsvg"/>
          <p:cNvPicPr/>
          <p:nvPr/>
        </p:nvPicPr>
        <p:blipFill>
          <a:blip r:embed="rId1"/>
          <a:stretch/>
        </p:blipFill>
        <p:spPr>
          <a:xfrm>
            <a:off x="5448240" y="3171960"/>
            <a:ext cx="36957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Международный символ радиации</a:t>
            </a:r>
            <a:br>
              <a:rPr sz="4000"/>
            </a:b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1722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Garamond"/>
              </a:rPr>
              <a:t>Ядовитые химические вещества</a:t>
            </a:r>
            <a:endParaRPr b="1" lang="en-US" sz="4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прит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юизит                  Фосг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тор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З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Sulfur-mustard-3D-vdW"/>
          <p:cNvPicPr/>
          <p:nvPr/>
        </p:nvPicPr>
        <p:blipFill>
          <a:blip r:embed="rId1"/>
          <a:stretch/>
        </p:blipFill>
        <p:spPr>
          <a:xfrm>
            <a:off x="228600" y="1143000"/>
            <a:ext cx="2514600" cy="12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Люизит"/>
          <p:cNvPicPr/>
          <p:nvPr/>
        </p:nvPicPr>
        <p:blipFill>
          <a:blip r:embed="rId2"/>
          <a:stretch/>
        </p:blipFill>
        <p:spPr>
          <a:xfrm>
            <a:off x="3048120" y="121932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Фосген"/>
          <p:cNvPicPr/>
          <p:nvPr/>
        </p:nvPicPr>
        <p:blipFill>
          <a:blip r:embed="rId3"/>
          <a:stretch/>
        </p:blipFill>
        <p:spPr>
          <a:xfrm>
            <a:off x="5410080" y="1066680"/>
            <a:ext cx="2210040" cy="1900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lpha-fluorine-unit-cell-B-3D-balls"/>
          <p:cNvPicPr/>
          <p:nvPr/>
        </p:nvPicPr>
        <p:blipFill>
          <a:blip r:embed="rId4"/>
          <a:stretch/>
        </p:blipFill>
        <p:spPr>
          <a:xfrm>
            <a:off x="304920" y="3581280"/>
            <a:ext cx="4647960" cy="2230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Зарин"/>
          <p:cNvPicPr/>
          <p:nvPr/>
        </p:nvPicPr>
        <p:blipFill>
          <a:blip r:embed="rId5"/>
          <a:stretch/>
        </p:blipFill>
        <p:spPr>
          <a:xfrm>
            <a:off x="6095880" y="3429000"/>
            <a:ext cx="27432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Ядерное оружие</a:t>
            </a:r>
            <a:endParaRPr b="1" lang="en-US" sz="44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Совокупность ядерных боеприпасов, средст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их доставки к цели и средств управления.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Ядерный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боеприпас —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оружие взрывного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действия, основанное на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использовании ядерной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энергии,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высвобождающейся при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цепной ядерной реакции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деления тяжёлых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ядер и/или термоядерной               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реакции синтеза лёгких яде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hydrogenbomb"/>
          <p:cNvPicPr/>
          <p:nvPr/>
        </p:nvPicPr>
        <p:blipFill>
          <a:blip r:embed="rId1"/>
          <a:stretch/>
        </p:blipFill>
        <p:spPr>
          <a:xfrm>
            <a:off x="0" y="2590920"/>
            <a:ext cx="48006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1-01T02:57:0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