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354-65EC-401B-9E03-5423845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00E-4812-4F7C-A788-9DCD256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8B1-211A-4966-9F08-C8BD212D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2BD-89A3-4403-BCFB-05308D43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3A6B-06D6-4890-A1D5-87ECCDDD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608C-7B73-489B-B21D-2EE01135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EC67-3CF9-4D5C-89E9-A6F4013D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A97-2102-4425-9892-31EB985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4766-9973-4CE2-AA99-5878630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21B6-B28F-4461-AFA8-A9BAC39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DC60-F948-48EF-A00D-A57F477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613-5672-4F3A-8B5E-B485C3A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F002-4BD4-49DD-B9A5-06F8A40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8CD6-B613-4815-8627-8606985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36A3-1D6F-4493-8103-D183FDF3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845F-C051-413C-9378-3E910394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35F7-F6FA-40D9-91C3-464A2F01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AD-240D-4A41-8D59-0E52C238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76D-4F1E-430E-8EA1-41717465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564-A403-419E-BF41-3BCC5D39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3CB-C6F8-49AC-A8F7-C14F8AE9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2DC-A9FA-42F5-B467-42DF798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0F4-53E2-4305-957C-3C41C89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CB4-4BEC-4766-8194-CC513C7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0BE-7AB9-412B-8116-9CE8F2E67E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50F7-5C60-474D-9373-57FA90CC30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Raavi"/>
              </a:rPr>
              <a:t>Современные средства поражения</a:t>
            </a:r>
            <a:endParaRPr b="1" lang="en-US" sz="6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Классификация ядерных боеприпасов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9448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Атомные» — однофазные или одноступенчатые устройства, в   которых основной выход энергии происходит от ядерной реакции деления тяжелых элементов (урана-235 или плутония) с образованием более лёгких эле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Водородные» — двухфазные или двухступенчатые устройства,    в которых последовательно развиваются два физических процесса, локализованных в различных областях пространства: на первой стадии основным источником энергии является реакция деления ядер, а на второй реакции деления и термоядерног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нтеза используются в различ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орциях, в зависимости от тип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стройки боеприпаса. Первая стад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пускает вторую, в ходе котор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наибольшая часть энерг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а. Термин термоядерное  оруж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уется в качестве синонима дл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водородного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nuclearbomb002"/>
          <p:cNvPicPr/>
          <p:nvPr/>
        </p:nvPicPr>
        <p:blipFill>
          <a:blip r:embed="rId1"/>
          <a:stretch/>
        </p:blipFill>
        <p:spPr>
          <a:xfrm>
            <a:off x="5181480" y="3733920"/>
            <a:ext cx="36831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Взрыв однофазной ядерной бомбы мощностью 23 Кт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лигон в Неваде (1953)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Ударная волна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распространяется с огромной скоростью, так, за первые 2 с она проходит 1 км, за 5 с — 2 км, за 8 с — 3 к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в большинстве случаев является основным поражающим фактором и обладает большой разрушительной силой. Степень поражения  живой силы зависит от мощности и вида взрыва, расстояния от места взрыва и от использования защитных свойств местности, фортификационных сооружений и штатной техники. Ударная волна вызывает травмы различной тяже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аншеи и другие оборонительные сооружения являются хорошей защитой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ой волны. Так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тая траншея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,5—2 раз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ньша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ус пораж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5124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Световое излуч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Световое излучение - поток ультрафиолетового и инфракрасного излучения, распространяющегося практически мгновенно во все стороны от места взрыва. Оно способно вызывать ожоги открытых участков кожи, поражение глаз, возгорание некоторых частей вооружения и техники и даже оплавление металла. Большую опасность для глаз человека представляет световое излучение ночью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Poragenie_103_M"/>
          <p:cNvPicPr/>
          <p:nvPr/>
        </p:nvPicPr>
        <p:blipFill>
          <a:blip r:embed="rId1"/>
          <a:stretch/>
        </p:blipFill>
        <p:spPr>
          <a:xfrm>
            <a:off x="685800" y="3733920"/>
            <a:ext cx="78613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Проникающая радиация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28960" y="144792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икающая радиация представляет собой поток гамма-лучей и нейтронов, распространяющихся с момента взрыва во все стороны в течение 10—15 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ажающее действие проникающей радиации основано на способ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амма-лучей и нейтрон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онизировать атомы, входящ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став живых ткан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езультате этого в организм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ка наруша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зненные процессы 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ьшой дозе вызыв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чевая болезн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2-08"/>
          <p:cNvPicPr/>
          <p:nvPr/>
        </p:nvPicPr>
        <p:blipFill>
          <a:blip r:embed="rId1"/>
          <a:stretch/>
        </p:blipFill>
        <p:spPr>
          <a:xfrm>
            <a:off x="4419720" y="3205080"/>
            <a:ext cx="47242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Радиоактивное зараж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ое заражение образуется при делении ядерного заряда и радиоактивных изотопов, образующихся в результате воздействия нейтронов на материалы, из которых изготовлен ядерный боеприпас, и проникающей радиации — на некоторые элементы, входящие в состав грунта в районе взрыва. Излуч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ых веществ такж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зывают у человека лучевую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езнь. Поражение определяетс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личиной дозы радиации и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ременем, в течение которого он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уче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щитой от ионизирующих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лучений радиоактивного зараж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вляются различные инженерны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оружения и другие укрыт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image315"/>
          <p:cNvPicPr/>
          <p:nvPr/>
        </p:nvPicPr>
        <p:blipFill>
          <a:blip r:embed="rId1"/>
          <a:stretch/>
        </p:blipFill>
        <p:spPr>
          <a:xfrm>
            <a:off x="0" y="3352680"/>
            <a:ext cx="37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Электромагнитный импульс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295280"/>
            <a:ext cx="9677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омагнитный импульс представляет собой кратковременные электрические и магнитные поля высокой напряженности, в результате чего может быть нарушена работа радиолокацион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громное количеств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, возникающих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е, и слабое поглощ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х броней (через слой 12 с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ходит не меньше 50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) делают указанно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о мн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рубежных специалистов, эффективны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ством борьбы с экипажами танков по выводу их из стро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2FDBC5EC70B61EFBCC36188319919324"/>
          <p:cNvPicPr/>
          <p:nvPr/>
        </p:nvPicPr>
        <p:blipFill>
          <a:blip r:embed="rId1"/>
          <a:stretch/>
        </p:blipFill>
        <p:spPr>
          <a:xfrm>
            <a:off x="4014720" y="2590920"/>
            <a:ext cx="51292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Берегите себя!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47712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Garamond"/>
              </a:rPr>
              <a:t>Чита 2010 – 2011 г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Оружие массового поражения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анесения массовых потерь или разрушений на большой площади. Поражающие факторы оружия массового поражения, как правило, продолжают наносить урон в течение длительного времени. Также ОМП деморализует как войска, так и гражданское насе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авнимые последствия могут наступить и в случае применения обычного оружия или совершения террористических актов на экологически опасных объектах, таких как АЭС, плотинах и гидроузлах, химических заводах и 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ооружении современ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сударств стоят такие виды ОМП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им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олог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дерн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nuclear-detonation"/>
          <p:cNvPicPr/>
          <p:nvPr/>
        </p:nvPicPr>
        <p:blipFill>
          <a:blip r:embed="rId1"/>
          <a:stretch/>
        </p:blipFill>
        <p:spPr>
          <a:xfrm rot="279000">
            <a:off x="5886360" y="4160880"/>
            <a:ext cx="3257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атогенные микроорганизмы или их споры, вирусы, бактериальные токсины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заражённые животные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а также средства их доставки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редназначенные для массового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ражения живой силы противника, сельскохозяйственных животных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севов сельскохозяйственн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культур, а также порчи некотор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видов военных материалов и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снаряжения.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HD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477120" y="2209680"/>
            <a:ext cx="252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народный символ биологической угро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351px-Biohazard_symbol"/>
          <p:cNvPicPr/>
          <p:nvPr/>
        </p:nvPicPr>
        <p:blipFill>
          <a:blip r:embed="rId1"/>
          <a:stretch/>
        </p:blipFill>
        <p:spPr>
          <a:xfrm>
            <a:off x="2900520" y="1852560"/>
            <a:ext cx="33429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ражающий фактор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ачестве бактериальных (биологических) средств для поражения людей противник может применить болезнетворные микробы — возбудители чумы, холеры, натуральной оспы, туляремии и др. и токсины — яды, выделяемые некоторыми микроб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ешними признаками бактериологического (биологического) заражения являются образование аэрозольного облака после взрыва боеприпасов, а также появление в местах падения бомб и контейнеров большого количества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 бактериологического оружия защищают убежища, оборудованные фильтровентиляционными установками, противорадиационные укрытия, средства индивидуальной защиты органов дыхания и кожи, а также специальные средства противоэпидемической защиты: предохранительные прививки, сыворотки, антибио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Хим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ужие массового поражения, действие которого основано на токсических свойствах отравляющих веществ, и средства их применения: снаряды, ракеты, мины, авиационные бомбы, ВАПы (вылив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иационные приборы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яду с ядерным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ологическим оруж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носится к оружи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сового поражения (ОМП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388px-wmd-chemicalsvg"/>
          <p:cNvPicPr/>
          <p:nvPr/>
        </p:nvPicPr>
        <p:blipFill>
          <a:blip r:embed="rId1"/>
          <a:stretch/>
        </p:blipFill>
        <p:spPr>
          <a:xfrm>
            <a:off x="5448240" y="3171960"/>
            <a:ext cx="36957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Международный символ радиации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1722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Ядовитые химические вещества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прит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изит                  Фос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тор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З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Sulfur-mustard-3D-vdW"/>
          <p:cNvPicPr/>
          <p:nvPr/>
        </p:nvPicPr>
        <p:blipFill>
          <a:blip r:embed="rId1"/>
          <a:stretch/>
        </p:blipFill>
        <p:spPr>
          <a:xfrm>
            <a:off x="228600" y="1143000"/>
            <a:ext cx="2514600" cy="12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Люизит"/>
          <p:cNvPicPr/>
          <p:nvPr/>
        </p:nvPicPr>
        <p:blipFill>
          <a:blip r:embed="rId2"/>
          <a:stretch/>
        </p:blipFill>
        <p:spPr>
          <a:xfrm>
            <a:off x="3048120" y="12193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Фосген"/>
          <p:cNvPicPr/>
          <p:nvPr/>
        </p:nvPicPr>
        <p:blipFill>
          <a:blip r:embed="rId3"/>
          <a:stretch/>
        </p:blipFill>
        <p:spPr>
          <a:xfrm>
            <a:off x="5410080" y="1066680"/>
            <a:ext cx="2210040" cy="190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lpha-fluorine-unit-cell-B-3D-balls"/>
          <p:cNvPicPr/>
          <p:nvPr/>
        </p:nvPicPr>
        <p:blipFill>
          <a:blip r:embed="rId4"/>
          <a:stretch/>
        </p:blipFill>
        <p:spPr>
          <a:xfrm>
            <a:off x="304920" y="3581280"/>
            <a:ext cx="4647960" cy="223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Зарин"/>
          <p:cNvPicPr/>
          <p:nvPr/>
        </p:nvPicPr>
        <p:blipFill>
          <a:blip r:embed="rId5"/>
          <a:stretch/>
        </p:blipFill>
        <p:spPr>
          <a:xfrm>
            <a:off x="6095880" y="3429000"/>
            <a:ext cx="27432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Ядерное оруж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Совокупность ядерных боеприпасов, средст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их доставки к цели и средств управления.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Ядерны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боеприпас —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оружие взрывного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йствия, основанное на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использовании ядерно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энергии,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высвобождающейся пр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цепной ядерной реакци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ления тяжёлых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ядер и/или термоядерной              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реакции синтеза лёгких яде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hydrogenbomb"/>
          <p:cNvPicPr/>
          <p:nvPr/>
        </p:nvPicPr>
        <p:blipFill>
          <a:blip r:embed="rId1"/>
          <a:stretch/>
        </p:blipFill>
        <p:spPr>
          <a:xfrm>
            <a:off x="0" y="2590920"/>
            <a:ext cx="48006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01T02:57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