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gif" ContentType="image/gif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0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FE5-642E-4AB8-AD3D-2E0447BC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B8B-9EAA-4784-9D55-D3D983D6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735-65CF-4F7A-A804-E37A2D25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EB0-EC28-431D-99D1-856B3488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9D2-0F4D-4B58-BECA-AA1FFF0D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9D7-A9F4-4CA8-8B8C-B63EB0E2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7F8-9AC7-4322-ABE1-42FA1605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BBD-0E6E-4A09-9D1A-CCD94423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813-88E5-452A-993E-5305F94F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226-1CDD-4494-8C0B-A41E2FEA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4CF-ACF2-4E75-8189-64A884F8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8A7-E97A-447F-9F3A-07137CB0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034E-9D06-47C3-8D84-F3C8DD9A7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image" Target="../media/image3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60280" y="189000"/>
            <a:ext cx="924120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Unicode MS"/>
              </a:rPr>
              <a:t>Темы презентации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Движение. Преобразования фиг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Симметрия относительно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Симметрия относительно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Поворот. Параллельный пере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2. Векторы. Сложение, вычитание ве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Умножение вектора на число.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Материал изложен в соответствии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«Геометрия 7-9» А.В.Погоре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Arial Unicode MS"/>
              </a:rPr>
              <a:t>Слайды № 9,11, 13, 16, 17 демонстрируют творческие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 Unicode MS"/>
              </a:rPr>
              <a:t>учащихся по заданным те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Unicode MS"/>
              </a:rPr>
              <a:t>Учитель математики Поплавская Марина Борис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Unicode MS"/>
              </a:rPr>
              <a:t>МОУ «Общеобразовательная средняя школа № 9» г. Ряз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565360"/>
            <a:ext cx="2663640" cy="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5640" y="33336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Симметрия относительно прямой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1773360"/>
            <a:ext cx="0" cy="1584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6720" y="1557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2492280"/>
            <a:ext cx="14472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" y="193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492280"/>
            <a:ext cx="0" cy="2160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421000"/>
            <a:ext cx="0" cy="2872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2492280"/>
            <a:ext cx="14472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53280" y="193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4076640"/>
            <a:ext cx="423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чк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симметр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чке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тнос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ямой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– оси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27640" y="2205000"/>
            <a:ext cx="4176720" cy="2736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026200">
            <a:off x="5253120" y="1924920"/>
            <a:ext cx="1284120" cy="1260360"/>
          </a:xfrm>
          <a:prstGeom prst="rtTriangl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8204000">
            <a:off x="6575760" y="3945240"/>
            <a:ext cx="1284480" cy="126072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3068640"/>
            <a:ext cx="1440000" cy="223200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08360" y="3573360"/>
            <a:ext cx="142920" cy="1429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40360" y="4292640"/>
            <a:ext cx="21600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1700280"/>
            <a:ext cx="1871640" cy="288108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32360" y="227664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03640" y="242100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380000" y="328464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451640" y="3429000"/>
            <a:ext cx="14472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19280" y="24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651640" y="400536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651640" y="3933720"/>
            <a:ext cx="72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236000" y="2923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80360" y="2924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696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59280" y="3141720"/>
                <a:ext cx="504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867280" y="4724280"/>
                <a:ext cx="5796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516720" y="155736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8101080" y="393372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932360" y="148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524720" y="5229360"/>
                <a:ext cx="385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545440" cy="2779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79640" y="2492280"/>
            <a:ext cx="57052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277E-006 L -0.28733 -0.22345 E">
                                      <p:cBhvr>
                                        <p:cTn id="76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4166E-006 L 0.23924 0.24844 E">
                                      <p:cBhvr>
                                        <p:cTn id="78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5219640" y="4221000"/>
            <a:ext cx="3313080" cy="136872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571640" y="2133720"/>
            <a:ext cx="647640" cy="34560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628640"/>
            <a:ext cx="1009800" cy="35290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63640" y="189000"/>
            <a:ext cx="561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Поворот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155736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170028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170028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1628640"/>
            <a:ext cx="4032360" cy="144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5080" y="134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126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508640"/>
            <a:ext cx="144360" cy="142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551664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6108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 rot="10800000">
            <a:off x="899280" y="1699920"/>
            <a:ext cx="432720" cy="216720"/>
          </a:xfrm>
          <a:prstGeom prst="curvedConnector5">
            <a:avLst>
              <a:gd name="adj1" fmla="val 14987"/>
              <a:gd name="adj2" fmla="val 49916"/>
              <a:gd name="adj3" fmla="val 14987"/>
            </a:avLst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230400" y="5440320"/>
            <a:ext cx="349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– центр пово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гол АОВ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– угол пово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направление поворо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 часовой стр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2276640"/>
            <a:ext cx="1366560" cy="1296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2276640"/>
            <a:ext cx="1366560" cy="1296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28560" y="560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0360" y="337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5084640"/>
            <a:ext cx="576000" cy="289080"/>
          </a:xfrm>
          <a:prstGeom prst="line">
            <a:avLst/>
          </a:prstGeom>
          <a:ln w="1260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3320" y="5872320"/>
            <a:ext cx="342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Направление поворо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 часовой стр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1557360"/>
            <a:ext cx="0" cy="2872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187280" y="3212640"/>
            <a:ext cx="216000" cy="71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841E-006 C 0.00087 0.00371 0.00139 0.00718 0.00226 0.01088 C 0.00295 0.01412 0.00469 0.02036 0.00469 0.02059 C 0.00278 0.04072 0.00243 0.05922 0.00348 0.07981 C 0.00313 0.08929 0.00434 0.09901 0.00226 0.10803 C 0.00139 0.11173 -0.00468 0.11451 -0.00468 0.11474 C -0.00382 0.13093 -0.00225 0.14597 -0.00955 0.15985 C -0.00989 0.16147 -0.00989 0.16309 -0.01059 0.16447 C -0.01145 0.16632 -0.01371 0.16725 -0.01423 0.16933 C -0.0151 0.17257 -0.0151 0.19015 -0.01649 0.19431 C -0.01718 0.1964 -0.01909 0.19732 -0.02014 0.19894 C -0.02413 0.20542 -0.02465 0.21189 -0.03073 0.21467 C -0.03993 0.223 -0.03802 0.21722 -0.03645 0.23202 C -0.03698 0.2341 -0.04045 0.24497 -0.04132 0.24613 C -0.04323 0.24867 -0.04618 0.24983 -0.04826 0.25238 C -0.05173 0.25677 -0.05364 0.2614 -0.05764 0.26487 C -0.06093 0.27134 -0.06267 0.27736 -0.06597 0.2836 C -0.06996 0.29957 -0.07187 0.29864 -0.08472 0.30095 C -0.08437 0.30257 -0.08402 0.30396 -0.08368 0.30558 C -0.08194 0.31553 -0.0809 0.31483 -0.08593 0.31044 C -0.09114 0.31738 -0.0927 0.32316 -0.09652 0.33079 C -0.10086 0.322 -0.0993 0.32802 -0.10711 0.33079 C -0.10937 0.33264 -0.11215 0.33334 -0.11423 0.33542 C -0.12586 0.34745 -0.11649 0.34305 -0.12482 0.34629 C -0.13211 0.35647 -0.13298 0.35439 -0.146 0.35578 C -0.13802 0.36295 -0.14496 0.35763 -0.1283 0.36202 C -0.12708 0.36225 -0.12395 0.3648 -0.12482 0.36364 C -0.1283 0.35901 -0.13298 0.35578 -0.13645 0.35115 C -0.14409 0.35369 -0.14548 0.36133 -0.15069 0.36688 C -0.15746 0.37405 -0.16788 0.37081 -0.17656 0.37151 C -0.18211 0.37891 -0.17864 0.37498 -0.18715 0.38238 C -0.18854 0.38353 -0.18906 0.38654 -0.19062 0.38724 C -0.19774 0.39024 -0.20555 0.38909 -0.21302 0.39024 C -0.22031 0.39371 -0.22812 0.39487 -0.23541 0.39811 C -0.24531 0.39672 -0.24635 0.39533 -0.25538 0.39811 C -0.25781 0.3988 -0.2625 0.40135 -0.2625 0.40158 C -0.25868 0.40435 -0.25937 0.40435 -0.25538 0.40597 C -0.25382 0.40667 -0.25069 0.40759 -0.25069 0.40782 E">
                                      <p:cBhvr>
                                        <p:cTn id="853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-0.06292 C -0.03767 -0.06916 -0.04687 -0.06731 -0.0217 -0.06916 C -0.01718 -0.0872 -0.00156 -0.08397 0.01007 -0.08489 C 0.01789 -0.08836 0.02553 -0.09206 0.03368 -0.09438 C 0.05903 -0.09044 0.08473 -0.09183 0.11007 -0.08813 C 0.12014 -0.08374 0.12813 -0.0842 0.13959 -0.08327 C 0.14323 -0.07587 0.1448 -0.07587 0.15122 -0.07402 C 0.15434 -0.07309 0.16077 -0.07078 0.16077 -0.07055 C 0.16632 -0.06338 0.16424 -0.05783 0.16771 -0.05204 C 0.17032 -0.04788 0.17587 -0.0458 0.17952 -0.04418 C 0.18368 -0.03863 0.18785 -0.034 0.19358 -0.03169 C 0.1948 -0.03053 0.19618 -0.02984 0.19723 -0.02845 C 0.19827 -0.02706 0.19844 -0.02498 0.19948 -0.02382 C 0.20053 -0.02267 0.20209 -0.02313 0.20313 -0.0222 C 0.21129 -0.01619 0.21754 -0.01133 0.22657 -0.00809 C 0.22934 -0.00277 0.23004 0.00093 0.2349 0.00278 C 0.23941 0.00694 0.24237 0.00787 0.24775 0.00926 C 0.25 0.01758 0.24914 0.0229 0.25487 0.02799 C 0.25868 0.03586 0.26216 0.03979 0.26893 0.0421 C 0.2724 0.04673 0.27553 0.04789 0.27952 0.05159 C 0.28021 0.06824 0.27726 0.08305 0.29011 0.08906 C 0.2915 0.09161 0.29809 0.10687 0.29827 0.1078 C 0.29914 0.11104 0.29896 0.11497 0.3007 0.11728 C 0.30643 0.12492 0.31042 0.13324 0.31598 0.14088 C 0.31684 0.14412 0.31928 0.14666 0.31945 0.15013 C 0.32118 0.17396 0.31893 0.18922 0.32431 0.20981 C 0.32518 0.21698 0.32657 0.223 0.32657 0.23017 E">
                                      <p:cBhvr>
                                        <p:cTn id="92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7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678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9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3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16031E-007 L -0.26823 -0.2216 E">
                                      <p:cBhvr>
                                        <p:cTn id="95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0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82211E-006 L 0.27934 0.23086 E">
                                      <p:cBhvr>
                                        <p:cTn id="97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55640" y="18900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Параллельный перенос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48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еобразование фигуры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 при котором ее произвольная точка (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х; у)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переходит в точку (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х+а; у+в) называется параллельным пере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Задается формул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924360" y="2637000"/>
                <a:ext cx="197964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2520" y="141300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Параллельный перенос задается форму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79280" y="1844640"/>
                <a:ext cx="18669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194560" y="1916280"/>
            <a:ext cx="629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В какие точки при этом паралле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переносе переходят точки О(0;0), А(0;4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В(-4;1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635280" y="2705040"/>
            <a:ext cx="5981760" cy="4152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156360" y="342900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77080" y="4365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4365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537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4724280"/>
            <a:ext cx="14436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66100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11280" y="4365720"/>
                <a:ext cx="2520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020000" y="3860640"/>
                <a:ext cx="465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72360" y="2997360"/>
                <a:ext cx="398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93080" y="5589720"/>
                <a:ext cx="503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О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24360" y="4292640"/>
                <a:ext cx="403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356000" y="3933720"/>
                <a:ext cx="398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292720" y="5589720"/>
                <a:ext cx="465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39640" y="5445000"/>
                <a:ext cx="26640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3429000"/>
                <a:ext cx="25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О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227640" y="4797360"/>
            <a:ext cx="720720" cy="93672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500280"/>
            <a:ext cx="720720" cy="93672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4437000"/>
            <a:ext cx="720720" cy="100800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2781360"/>
            <a:ext cx="367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2060640"/>
            <a:ext cx="266400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2781360"/>
            <a:ext cx="266400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9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9080" y="1773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544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920" y="28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50200" y="2708280"/>
            <a:ext cx="14292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200" y="3735360"/>
            <a:ext cx="426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Направленный отрезок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3280" y="1484280"/>
            <a:ext cx="266544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539200">
            <a:off x="4777920" y="4620960"/>
            <a:ext cx="1494000" cy="1152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463000">
            <a:off x="7451280" y="2637000"/>
            <a:ext cx="1494000" cy="1152360"/>
          </a:xfrm>
          <a:prstGeom prst="triangle">
            <a:avLst>
              <a:gd name="adj" fmla="val 50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320" y="5300640"/>
            <a:ext cx="49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Лучи АВ и ОР одинаково направ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АВ = 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211640" y="5013360"/>
                <a:ext cx="2761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77080" y="2349360"/>
                <a:ext cx="325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364000" y="6093000"/>
                <a:ext cx="341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012000" y="4797360"/>
                <a:ext cx="322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8427960" y="3716280"/>
                <a:ext cx="357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604360" y="2205000"/>
                <a:ext cx="385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 flipV="1">
            <a:off x="4572000" y="3141720"/>
            <a:ext cx="266544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940360" y="2852640"/>
            <a:ext cx="259236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724360" y="4149720"/>
            <a:ext cx="266544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270828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1400" y="12600"/>
            <a:ext cx="782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Параллельный перенос определяется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преобразование, при котором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мещаются в одном и том же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на одно и то же рас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789360" cy="3692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2796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0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4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5075E-006 L -0.29375 -0.22715 E">
                                      <p:cBhvr>
                                        <p:cTn id="129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7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1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6926E-006 L 0.26962 0.18112 E">
                                      <p:cBhvr>
                                        <p:cTn id="131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535640" cy="3405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5105520" cy="3272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34000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омпозиция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1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5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2954E-006 L -0.30313 -0.14295 E">
                                      <p:cBhvr>
                                        <p:cTn id="133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2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34883E-006 L 0.27205 0.23386 E">
                                      <p:cBhvr>
                                        <p:cTn id="13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58920" y="115920"/>
            <a:ext cx="669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Вектор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11280" y="1699920"/>
            <a:ext cx="2736720" cy="7189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" y="20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413000"/>
            <a:ext cx="3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332080" y="1341360"/>
                <a:ext cx="307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916360" y="1916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61640" y="3159000"/>
            <a:ext cx="39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 –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аправ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тре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 АВ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0920" y="4292640"/>
                <a:ext cx="20174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,</m:t>
                    </m:r>
                    <m:r>
                      <m:t xml:space="preserve">А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79280" y="4869000"/>
            <a:ext cx="41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очка А – начало вект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очка В – конец в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32360" y="1484280"/>
            <a:ext cx="3672000" cy="432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32360" y="2349360"/>
            <a:ext cx="1295280" cy="64800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003640" y="2205000"/>
            <a:ext cx="2376720" cy="3888000"/>
          </a:xfrm>
          <a:prstGeom prst="line">
            <a:avLst/>
          </a:prstGeom>
          <a:ln w="572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019640" y="335772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68560" y="1432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658360" y="164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9080" y="299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780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8252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5440" y="587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60580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0000" y="337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36920" y="460044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азовите век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ачало и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0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7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 flipV="1">
            <a:off x="324000" y="476280"/>
            <a:ext cx="1655640" cy="1512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042920" y="549000"/>
            <a:ext cx="2089080" cy="1871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50920" y="242100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042920" y="476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548080" y="33336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55640" y="242100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1600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4200" y="2367000"/>
            <a:ext cx="43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одинаково напр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476280"/>
            <a:ext cx="259236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932360" y="1052640"/>
            <a:ext cx="32400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7956720" y="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003640" y="54936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788000" y="126828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292720" y="126828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5703480" y="1216080"/>
            <a:ext cx="297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противопо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апр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3500280"/>
            <a:ext cx="295092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132000" y="2997360"/>
                <a:ext cx="36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79280" y="3716280"/>
                <a:ext cx="453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11280" y="378792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бсолютная вел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или модуль) вектора –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лина отрезка, изображающего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5157720"/>
            <a:ext cx="453708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5661000"/>
            <a:ext cx="19429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716360" y="5516640"/>
            <a:ext cx="367200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6308640"/>
            <a:ext cx="230508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042560" y="6524640"/>
            <a:ext cx="3241800" cy="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740720" y="580536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87280" y="602136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00720" y="4581360"/>
                <a:ext cx="365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148360" y="501336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484360" y="537372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476360" y="3789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зовите одинаково направленные и противоположно направленн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4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159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59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5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2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0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981000"/>
            <a:ext cx="6696000" cy="1335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Arial"/>
              </a:rPr>
              <a:t>Преобразования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Arial"/>
              </a:rPr>
              <a:t>фигур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2421000"/>
            <a:ext cx="5183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Times New Roman"/>
              </a:rPr>
              <a:t>Движение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43657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Уроки геометрии в 8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879640" cy="161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558600">
            <a:off x="6877080" y="3645000"/>
            <a:ext cx="200484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1720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1619280" y="981000"/>
            <a:ext cx="2808360" cy="1224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50920" y="404640"/>
            <a:ext cx="2808360" cy="12240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9280" y="4723920"/>
            <a:ext cx="3313080" cy="730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050920" y="115920"/>
                <a:ext cx="36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924360" y="54936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796000" y="549360"/>
                <a:ext cx="487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6302160" y="62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732720" y="549360"/>
                <a:ext cx="4442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3641400" y="1557360"/>
            <a:ext cx="515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авные векторы одинак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направлены и равны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абсолютной велич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9000" y="2916360"/>
            <a:ext cx="800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ак от точки отложить вектор, р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а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6237360"/>
            <a:ext cx="14436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6308640"/>
            <a:ext cx="604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35280" y="4653000"/>
            <a:ext cx="0" cy="2160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95640" y="6165720"/>
            <a:ext cx="0" cy="2160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43280" y="6308280"/>
            <a:ext cx="3384360" cy="18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916360" y="414972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651640" y="566100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2197800" y="6041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50920" y="404640"/>
            <a:ext cx="2808360" cy="12240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788000" y="4292640"/>
                <a:ext cx="6080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724360" y="4365720"/>
                <a:ext cx="665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5366160" y="4437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7583E-006 L 0.14965 0.08397 E">
                                      <p:cBhvr>
                                        <p:cTn id="173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500"/>
                            </p:stCondLst>
                            <p:childTnLst>
                              <p:par>
                                <p:cTn id="1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97800" y="0"/>
            <a:ext cx="47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Сложение век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320" y="58896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Правило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26920" y="1197000"/>
            <a:ext cx="136872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3068640"/>
            <a:ext cx="3097080" cy="144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427640" y="1484280"/>
            <a:ext cx="136836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96000" y="1484280"/>
            <a:ext cx="3097080" cy="144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56000" y="2924280"/>
            <a:ext cx="14472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500720" y="1628640"/>
            <a:ext cx="4319280" cy="1368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258920" y="112536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1268280"/>
                <a:ext cx="365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27280" y="256536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7956720" y="98100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310440" y="2492280"/>
                <a:ext cx="4269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948360" y="2492280"/>
                <a:ext cx="390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661080" y="256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8360" y="306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06000" y="92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14360" y="171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932360" y="3213000"/>
                <a:ext cx="3281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r>
                      <m:t xml:space="preserve">А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 flipV="1">
            <a:off x="395280" y="4221000"/>
            <a:ext cx="1873080" cy="1656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8360" y="4221000"/>
            <a:ext cx="2303640" cy="7164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95280" y="4292280"/>
            <a:ext cx="4105440" cy="1584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00720" y="4292640"/>
            <a:ext cx="1439640" cy="1224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563640" y="5516640"/>
            <a:ext cx="2376360" cy="8650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95280" y="5516280"/>
            <a:ext cx="5472000" cy="36036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564000" y="4292640"/>
            <a:ext cx="936720" cy="208908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0" y="5535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04920" y="373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0288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94720" y="517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73640" y="632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64000" y="3992400"/>
                <a:ext cx="1872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М</m:t>
                        </m:r>
                      </m:e>
                    </m:acc>
                    <m:r>
                      <m:t xml:space="preserve">+</m:t>
                    </m:r>
                    <m:r>
                      <m:t xml:space="preserve">М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308720" y="4005360"/>
                <a:ext cx="639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35640" y="4508640"/>
                <a:ext cx="174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236000" y="4508640"/>
                <a:ext cx="625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580000" y="5797440"/>
                <a:ext cx="1513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7093080" y="5805360"/>
                <a:ext cx="936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5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9" dur="3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5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03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Правило параллел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0920" y="836640"/>
            <a:ext cx="136836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755640" y="692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1547640" y="1341360"/>
            <a:ext cx="3097440" cy="1447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995640" y="90792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427640" y="2349360"/>
            <a:ext cx="144360" cy="14472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6728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572000" y="981000"/>
            <a:ext cx="136836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219640" y="692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572000" y="2421000"/>
            <a:ext cx="3097080" cy="144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236000" y="263700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5940360" y="981000"/>
            <a:ext cx="32036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667640" y="907920"/>
            <a:ext cx="1368360" cy="16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572000" y="1125000"/>
            <a:ext cx="4321080" cy="129564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513640" y="42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900000" y="1916280"/>
                <a:ext cx="30387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80720" y="609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49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780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41800" y="609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940360" y="4221000"/>
                <a:ext cx="20559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8028000" y="4221000"/>
                <a:ext cx="7952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24000" y="3860640"/>
            <a:ext cx="5760720" cy="2160720"/>
          </a:xfrm>
          <a:prstGeom prst="parallelogram">
            <a:avLst>
              <a:gd name="adj" fmla="val 7707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4000" y="3860640"/>
            <a:ext cx="5760720" cy="2160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508720" y="4869000"/>
                <a:ext cx="18000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380360" y="4869000"/>
                <a:ext cx="11523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979640" y="3860640"/>
            <a:ext cx="2448000" cy="216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580000" y="5516640"/>
                <a:ext cx="17668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524720" y="5516640"/>
                <a:ext cx="7128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H="1">
            <a:off x="324000" y="3860640"/>
            <a:ext cx="5760720" cy="2160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24000" y="3860640"/>
            <a:ext cx="1655640" cy="2160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4000" y="6021360"/>
            <a:ext cx="410364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23640" y="3860640"/>
            <a:ext cx="1655640" cy="216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79640" y="3860640"/>
            <a:ext cx="410508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979280" y="3860640"/>
            <a:ext cx="410508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427280" y="3860640"/>
            <a:ext cx="1657080" cy="2160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3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7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308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9452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8980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29800" y="54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944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852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738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26000" y="207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0" y="350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05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0472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3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6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9416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89440" y="51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58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17280" y="100008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стройте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364000" y="1484280"/>
                <a:ext cx="1800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 flipV="1">
            <a:off x="468360" y="3789000"/>
            <a:ext cx="136692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3789360"/>
            <a:ext cx="136836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68360" y="3789000"/>
            <a:ext cx="2735280" cy="13683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164360" y="1484280"/>
                <a:ext cx="1079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435640" y="2205000"/>
                <a:ext cx="1800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 flipV="1">
            <a:off x="1835280" y="2420640"/>
            <a:ext cx="1368360" cy="1368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308720" y="2205000"/>
                <a:ext cx="1079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788000" y="2924280"/>
                <a:ext cx="1630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68360" y="1052640"/>
            <a:ext cx="136692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3640" y="5157720"/>
            <a:ext cx="136836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227640" y="2924280"/>
                <a:ext cx="2916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 flipV="1">
            <a:off x="468360" y="2421000"/>
            <a:ext cx="2735280" cy="2736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1052640"/>
            <a:ext cx="273528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8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319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1.41568E-006 L -0.14965 -0.59819 E">
                                      <p:cBhvr>
                                        <p:cTn id="2355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308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9452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8980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429800" y="54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944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852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738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6000" y="207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0" y="350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3744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0472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3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6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9416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89440" y="51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58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03640" y="90792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стройте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32360" y="1413000"/>
                <a:ext cx="1955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 flipH="1">
            <a:off x="468000" y="1052640"/>
            <a:ext cx="41036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68000" y="1052640"/>
            <a:ext cx="4103640" cy="410508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948360" y="1413000"/>
                <a:ext cx="1041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5076720" y="2205000"/>
                <a:ext cx="1630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877080" y="2205000"/>
                <a:ext cx="1103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 flipV="1">
            <a:off x="468360" y="3789000"/>
            <a:ext cx="1366920" cy="136836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5157720"/>
            <a:ext cx="273528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68360" y="3789000"/>
            <a:ext cx="4103640" cy="136836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076720" y="3141720"/>
                <a:ext cx="1681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F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468360" y="2421000"/>
            <a:ext cx="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8360" y="2421000"/>
            <a:ext cx="136692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948360" y="3068640"/>
                <a:ext cx="1114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468360" y="2421000"/>
            <a:ext cx="1366920" cy="1368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203640" y="3789000"/>
            <a:ext cx="1368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268360" y="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Вычитание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24000" y="765000"/>
            <a:ext cx="2016000" cy="136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133720"/>
            <a:ext cx="2879640" cy="865080"/>
          </a:xfrm>
          <a:prstGeom prst="line">
            <a:avLst/>
          </a:prstGeom>
          <a:ln w="572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755640" y="692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84720" y="907920"/>
                <a:ext cx="365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2916360" y="220500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7020000" y="357336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 flipV="1">
            <a:off x="4716360" y="1268280"/>
            <a:ext cx="2016360" cy="136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16360" y="2637000"/>
            <a:ext cx="2880000" cy="865080"/>
          </a:xfrm>
          <a:prstGeom prst="line">
            <a:avLst/>
          </a:prstGeom>
          <a:ln w="572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43280" y="2565360"/>
            <a:ext cx="14472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11640" y="2421000"/>
            <a:ext cx="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87080" y="85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577640" y="31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6732360" y="1268280"/>
            <a:ext cx="863640" cy="22320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627280" y="3213000"/>
                <a:ext cx="3429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 rot="10522800">
            <a:off x="3131640" y="3644640"/>
            <a:ext cx="1368720" cy="7189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1742" y="8849"/>
                </a:moveTo>
                <a:arcTo wR="-9266" hR="-9266" stAng="-10070765" swAng="-11235423"/>
                <a:lnTo>
                  <a:pt x="39" y="9878"/>
                </a:lnTo>
                <a:arcTo wR="10800" hR="10800" stAng="-10506188" swAng="11235423"/>
                <a:lnTo>
                  <a:pt x="23997" y="13642"/>
                </a:lnTo>
                <a:lnTo>
                  <a:pt x="19878" y="16302"/>
                </a:lnTo>
                <a:lnTo>
                  <a:pt x="17219" y="1218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1400" y="44370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ак провер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2627280" y="5229360"/>
                <a:ext cx="36003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1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54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308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9452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8980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29800" y="54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944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7852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738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26000" y="207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0" y="350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3744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1440" y="3284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3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6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9416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89440" y="51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58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220360" y="76500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стройте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219640" y="1268280"/>
                <a:ext cx="17748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 flipH="1">
            <a:off x="468000" y="1052640"/>
            <a:ext cx="1366920" cy="1368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35280" y="1052640"/>
            <a:ext cx="1368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68360" y="1052640"/>
            <a:ext cx="2735280" cy="1368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7093080" y="1268280"/>
                <a:ext cx="1028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219640" y="1916280"/>
                <a:ext cx="1800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flipH="1">
            <a:off x="468000" y="3789360"/>
            <a:ext cx="136692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35280" y="3789360"/>
            <a:ext cx="273672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68000" y="3789000"/>
            <a:ext cx="4103640" cy="1368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7093080" y="1844640"/>
                <a:ext cx="122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U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292720" y="2492280"/>
                <a:ext cx="17017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L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 flipH="1" flipV="1">
            <a:off x="3203280" y="1052280"/>
            <a:ext cx="1368360" cy="136836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203280" y="2421000"/>
            <a:ext cx="1368360" cy="136836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093080" y="2492280"/>
                <a:ext cx="11509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 flipV="1">
            <a:off x="3203640" y="1052640"/>
            <a:ext cx="0" cy="273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690200" y="189000"/>
            <a:ext cx="60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Умножение вектора на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4000" y="1484280"/>
            <a:ext cx="208908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979640" y="83664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39640" y="5013360"/>
                <a:ext cx="669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684360" y="2637000"/>
            <a:ext cx="14436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04000" y="3860640"/>
            <a:ext cx="144360" cy="14472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26920" y="2708280"/>
            <a:ext cx="777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87280" y="1341360"/>
            <a:ext cx="0" cy="28728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4836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0872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26920" y="2708280"/>
            <a:ext cx="648180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7280" y="2367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877080" y="1989000"/>
                <a:ext cx="533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635280" y="907920"/>
                <a:ext cx="533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643280" y="907920"/>
                <a:ext cx="885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700360" y="3213000"/>
                <a:ext cx="885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 flipH="1">
            <a:off x="250560" y="39337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88000" y="3789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00360" y="3789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700000" y="3933720"/>
            <a:ext cx="41036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074000" y="3592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203640" y="4292640"/>
                <a:ext cx="2487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476360" y="5084640"/>
                <a:ext cx="9064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1188720" y="5229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753280" y="517536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онаправленные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516720" y="5084640"/>
                <a:ext cx="1295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539640" y="58053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ротивоположно направленные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88000" y="5805360"/>
                <a:ext cx="1408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83664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8" dur="indefinite" restart="never" nodeType="tmRoot">
          <p:childTnLst>
            <p:seq>
              <p:cTn id="2639" dur="indefinite" nodeType="mainSeq">
                <p:childTnLst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1" dur="3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5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7" fill="hold">
                            <p:stCondLst>
                              <p:cond delay="500"/>
                            </p:stCondLst>
                            <p:childTnLst>
                              <p:par>
                                <p:cTn id="2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5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5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5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0544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35280" y="2421000"/>
            <a:ext cx="2736720" cy="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3640" y="515772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835280" y="515772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8360" y="515772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68360" y="2421000"/>
            <a:ext cx="136692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68360" y="1052280"/>
            <a:ext cx="136692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363680" y="2565360"/>
                <a:ext cx="425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971640" y="1125360"/>
                <a:ext cx="387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1908000" y="5157720"/>
            <a:ext cx="2664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39640" y="4581360"/>
                <a:ext cx="671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780000" y="4437000"/>
                <a:ext cx="685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 flipH="1">
            <a:off x="468360" y="5157720"/>
            <a:ext cx="129528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788000" y="1197000"/>
                <a:ext cx="576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042920" y="5950080"/>
                <a:ext cx="6336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457200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0" y="515772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835280" y="1052280"/>
            <a:ext cx="4105080" cy="410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68000" y="5157720"/>
            <a:ext cx="1366920" cy="13669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63640" y="5084640"/>
            <a:ext cx="144360" cy="144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50560" y="260280"/>
            <a:ext cx="33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т точки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отлож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948360" y="1341360"/>
                <a:ext cx="9018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7020000" y="2421000"/>
                <a:ext cx="1103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948360" y="3500280"/>
                <a:ext cx="9367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7093080" y="4869000"/>
                <a:ext cx="1081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76360" y="115920"/>
            <a:ext cx="6551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9933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Impact"/>
              </a:rPr>
              <a:t>Преобразования</a:t>
            </a:r>
            <a:endParaRPr b="0" lang="en-US" sz="1800" spc="1" strike="noStrike">
              <a:ln cap="rnd" w="22320">
                <a:solidFill>
                  <a:srgbClr val="9933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9933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Impact"/>
              </a:rPr>
              <a:t>фигур</a:t>
            </a:r>
            <a:endParaRPr b="0" lang="en-US" sz="1800" spc="1" strike="noStrike">
              <a:ln cap="rnd" w="22320">
                <a:solidFill>
                  <a:srgbClr val="9933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 rot="20194200">
            <a:off x="282600" y="1907640"/>
            <a:ext cx="1942920" cy="1225800"/>
          </a:xfrm>
          <a:prstGeom prst="roundRect">
            <a:avLst>
              <a:gd name="adj" fmla="val 3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5823200">
            <a:off x="3060360" y="1987560"/>
            <a:ext cx="1943280" cy="1225440"/>
          </a:xfrm>
          <a:prstGeom prst="roundRect">
            <a:avLst>
              <a:gd name="adj" fmla="val 3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667800">
            <a:off x="6792480" y="1806480"/>
            <a:ext cx="1582920" cy="1152720"/>
          </a:xfrm>
          <a:prstGeom prst="roundRect">
            <a:avLst>
              <a:gd name="adj" fmla="val 3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379000">
            <a:off x="250560" y="5084640"/>
            <a:ext cx="1574640" cy="987480"/>
          </a:xfrm>
          <a:custGeom>
            <a:avLst/>
            <a:gdLst>
              <a:gd name="textAreaLeft" fmla="*/ 294480 w 1574640"/>
              <a:gd name="textAreaRight" fmla="*/ 1280160 w 1574640"/>
              <a:gd name="textAreaTop" fmla="*/ 184680 h 987480"/>
              <a:gd name="textAreaBottom" fmla="*/ 802800 h 9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78" y="21600"/>
                </a:lnTo>
                <a:lnTo>
                  <a:pt x="4122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379000">
            <a:off x="3779640" y="5229000"/>
            <a:ext cx="1287360" cy="792000"/>
          </a:xfrm>
          <a:custGeom>
            <a:avLst/>
            <a:gdLst>
              <a:gd name="textAreaLeft" fmla="*/ 240840 w 1287360"/>
              <a:gd name="textAreaRight" fmla="*/ 1046520 w 1287360"/>
              <a:gd name="textAreaTop" fmla="*/ 147960 h 792000"/>
              <a:gd name="textAreaBottom" fmla="*/ 6440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78" y="21600"/>
                </a:lnTo>
                <a:lnTo>
                  <a:pt x="4122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379000">
            <a:off x="7020000" y="5229360"/>
            <a:ext cx="1071360" cy="576000"/>
          </a:xfrm>
          <a:custGeom>
            <a:avLst/>
            <a:gdLst>
              <a:gd name="textAreaLeft" fmla="*/ 200160 w 1071360"/>
              <a:gd name="textAreaRight" fmla="*/ 871200 w 1071360"/>
              <a:gd name="textAreaTop" fmla="*/ 107640 h 576000"/>
              <a:gd name="textAreaBottom" fmla="*/ 4683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78" y="21600"/>
                </a:lnTo>
                <a:lnTo>
                  <a:pt x="4122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421000"/>
            <a:ext cx="2664000" cy="7128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11640" y="2565000"/>
            <a:ext cx="3456000" cy="64764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5445000"/>
            <a:ext cx="3311640" cy="7164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5589360"/>
            <a:ext cx="3024360" cy="36036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38240" y="1052640"/>
                <a:ext cx="385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1341360"/>
                <a:ext cx="415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885080" y="1268280"/>
                <a:ext cx="390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242000" y="445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98000" y="4600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6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101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47640" y="33336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Движение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175680" y="1484280"/>
            <a:ext cx="88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еобразование одной фигуры в другую, при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охраняется расстояние между точками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ви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4508640"/>
            <a:ext cx="2519640" cy="208728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530800">
            <a:off x="6732720" y="4941720"/>
            <a:ext cx="2232000" cy="1727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508640"/>
            <a:ext cx="2519640" cy="208728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530800">
            <a:off x="6732720" y="4941720"/>
            <a:ext cx="2232000" cy="1727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7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2 0.04719 L 0.33472 -0.30928 E">
                                      <p:cBhvr>
                                        <p:cTn id="16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13347 L -0.00399 -0.37775 E">
                                      <p:cBhvr>
                                        <p:cTn id="18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rot="20387400">
            <a:off x="650520" y="620640"/>
            <a:ext cx="1679400" cy="1522440"/>
          </a:xfrm>
          <a:prstGeom prst="octagon">
            <a:avLst>
              <a:gd name="adj" fmla="val 27694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387400">
            <a:off x="684000" y="620280"/>
            <a:ext cx="1655640" cy="1522440"/>
          </a:xfrm>
          <a:prstGeom prst="octagon">
            <a:avLst>
              <a:gd name="adj" fmla="val 27694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-149760" y="4363200"/>
            <a:ext cx="2855880" cy="2163960"/>
            <a:chOff x="-149760" y="4363200"/>
            <a:chExt cx="2855880" cy="2163960"/>
          </a:xfrm>
        </p:grpSpPr>
        <p:sp>
          <p:nvSpPr>
            <p:cNvPr id="76" name=""/>
            <p:cNvSpPr/>
            <p:nvPr/>
          </p:nvSpPr>
          <p:spPr>
            <a:xfrm rot="20270400">
              <a:off x="0" y="4797360"/>
              <a:ext cx="2556000" cy="129564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"/>
            <p:cNvCxnSpPr>
              <a:stCxn id="76" idx="1"/>
              <a:endCxn id="76" idx="5"/>
            </p:cNvCxnSpPr>
            <p:nvPr/>
          </p:nvCxnSpPr>
          <p:spPr>
            <a:xfrm flipV="1">
              <a:off x="685440" y="5203440"/>
              <a:ext cx="1183320" cy="481680"/>
            </a:xfrm>
            <a:prstGeom prst="straightConnector1">
              <a:avLst/>
            </a:prstGeom>
            <a:ln w="28440">
              <a:solidFill>
                <a:srgbClr val="990000"/>
              </a:solidFill>
              <a:miter/>
            </a:ln>
          </p:spPr>
        </p:cxnSp>
      </p:grpSp>
      <p:grpSp>
        <p:nvGrpSpPr>
          <p:cNvPr id="78" name=""/>
          <p:cNvGrpSpPr/>
          <p:nvPr/>
        </p:nvGrpSpPr>
        <p:grpSpPr>
          <a:xfrm>
            <a:off x="-149760" y="4363200"/>
            <a:ext cx="2855880" cy="2163960"/>
            <a:chOff x="-149760" y="4363200"/>
            <a:chExt cx="2855880" cy="2163960"/>
          </a:xfrm>
        </p:grpSpPr>
        <p:sp>
          <p:nvSpPr>
            <p:cNvPr id="79" name=""/>
            <p:cNvSpPr/>
            <p:nvPr/>
          </p:nvSpPr>
          <p:spPr>
            <a:xfrm rot="20270400">
              <a:off x="0" y="4797360"/>
              <a:ext cx="2556000" cy="129564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"/>
            <p:cNvCxnSpPr>
              <a:stCxn id="79" idx="5"/>
              <a:endCxn id="79" idx="1"/>
            </p:cNvCxnSpPr>
            <p:nvPr/>
          </p:nvCxnSpPr>
          <p:spPr>
            <a:xfrm flipH="1">
              <a:off x="685080" y="5203800"/>
              <a:ext cx="1183320" cy="481680"/>
            </a:xfrm>
            <a:prstGeom prst="straightConnector1">
              <a:avLst/>
            </a:prstGeom>
            <a:ln w="28440">
              <a:solidFill>
                <a:srgbClr val="990000"/>
              </a:solidFill>
              <a:miter/>
            </a:ln>
          </p:spPr>
        </p:cxn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236000" y="6021360"/>
            <a:ext cx="1644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67453E-007 L 0.18646 0.27435 C 0.22569 0.3368 0.28437 0.37196 0.34531 0.37196 C 0.41493 0.37196 0.47066 0.3368 0.50989 0.27435 L 0.69705 8.67453E-007 E">
                                      <p:cBhvr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27412E-006 C 0.00729 0.01944 0.02604 0.03031 0.04097 0.03679 C 0.04445 0.03864 0.04809 0.03933 0.05174 0.04026 C 0.05573 0.04141 0.06389 0.04349 0.06389 0.04349 C 0.08438 0.05992 0.12031 0.06131 0.1434 0.06269 C 0.22761 0.06755 0.20972 0.0657 0.31198 0.06755 C 0.33125 0.07033 0.31702 0.06732 0.32656 0.07079 C 0.32969 0.07195 0.33611 0.07403 0.33611 0.07403 C 0.35226 0.07333 0.36823 0.07333 0.38438 0.07241 C 0.39306 0.07195 0.39931 0.06385 0.40729 0.06107 C 0.41979 0.05228 0.4342 0.0465 0.44584 0.0354 C 0.4533 0.02823 0.45972 0.01851 0.46875 0.01458 C 0.48056 0.00255 0.475 0.00787 0.48559 -0.00161 C 0.49254 -0.00786 0.48993 -0.000920000000000001 0.49757 -0.01133 C 0.50712 -0.02382 0.50278 -0.01943 0.50972 -0.02567 C 0.51198 -0.0296 0.51476 -0.03261 0.51684 -0.03677 C 0.52396 -0.05089 0.51007 -0.03099 0.5217 -0.04649 C 0.52327 -0.05436 0.52709 -0.05968 0.52899 -0.06731 C 0.53212 -0.09692 0.54149 -0.12468 0.54584 -0.15405 C 0.54618 -0.15984 0.54705 -0.16585 0.54705 -0.17163 C 0.54705 -0.24242 0.55018 -0.30649 0.52656 -0.36918 C 0.52379 -0.37682 0.52274 -0.38468 0.51927 -0.39162 C 0.51615 -0.41221 0.51129 -0.42979 0.50365 -0.44783 C 0.50122 -0.45338 0.49722 -0.45639 0.49514 -0.46217 C 0.4908 -0.47374 0.4842 -0.48646 0.47709 -0.49595 C 0.47483 -0.50474 0.46997 -0.50821 0.46511 -0.51353 C 0.46268 -0.51607 0.46146 -0.5207 0.45903 -0.52324 C 0.45799 -0.5244 0.4566 -0.52417 0.45538 -0.52486 C 0.45399 -0.52579 0.45278 -0.52694 0.45174 -0.5281 C 0.44393 -0.53689 0.43143 -0.54938 0.4217 -0.55378 C 0.41268 -0.5628 0.40018 -0.56928 0.38924 -0.57136 C 0.38681 -0.57251 0.38438 -0.5739 0.38195 -0.5746 C 0.37986 -0.57506 0.37587 -0.57622 0.37587 -0.57622 E">
                                      <p:cBhvr>
                                        <p:cTn id="2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3860640"/>
            <a:ext cx="8280360" cy="280836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341360"/>
            <a:ext cx="8569080" cy="1656000"/>
          </a:xfrm>
          <a:prstGeom prst="horizontalScrol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76360" y="115920"/>
            <a:ext cx="676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Свойства движения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-24840" y="1628640"/>
            <a:ext cx="91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очки, лежащие на прямой, при движении переход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 точки, лежащие на прямой, и сохраняется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их взаимного рас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4000" y="3212640"/>
            <a:ext cx="1800000" cy="576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308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8720" y="28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360" y="323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3141720"/>
            <a:ext cx="30974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324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5240" y="306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292640"/>
            <a:ext cx="642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ледовательно: при дви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ямые переходят в прям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лупрямые – в полупрям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резки – в отре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охраняются углы между полупря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42920" y="3213000"/>
            <a:ext cx="4824360" cy="4320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7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47640" y="1916280"/>
            <a:ext cx="432000" cy="2879640"/>
          </a:xfrm>
          <a:prstGeom prst="downArrow">
            <a:avLst>
              <a:gd name="adj1" fmla="val 49676"/>
              <a:gd name="adj2" fmla="val 1190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1916280"/>
            <a:ext cx="432000" cy="2879640"/>
          </a:xfrm>
          <a:prstGeom prst="downArrow">
            <a:avLst>
              <a:gd name="adj1" fmla="val 49676"/>
              <a:gd name="adj2" fmla="val 1190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0"/>
            <a:ext cx="6840720" cy="2151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47640" y="54936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Движение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708280"/>
            <a:ext cx="3671640" cy="1359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81360"/>
            <a:ext cx="3403440" cy="13687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во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708280"/>
            <a:ext cx="3456000" cy="1368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сева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4581360"/>
            <a:ext cx="3527640" cy="1440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аралл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1916280"/>
            <a:ext cx="431640" cy="976320"/>
          </a:xfrm>
          <a:prstGeom prst="downArrow">
            <a:avLst>
              <a:gd name="adj1" fmla="val 50000"/>
              <a:gd name="adj2" fmla="val 467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1916280"/>
            <a:ext cx="431640" cy="976320"/>
          </a:xfrm>
          <a:prstGeom prst="downArrow">
            <a:avLst>
              <a:gd name="adj1" fmla="val 50000"/>
              <a:gd name="adj2" fmla="val 467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7885080" y="2602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 rot="607800">
            <a:off x="3492360" y="5950080"/>
            <a:ext cx="2005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55640" y="33336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Симметрия относительно точки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13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8720" y="162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47280" y="2205000"/>
            <a:ext cx="30956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13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205000"/>
            <a:ext cx="33847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2133720"/>
            <a:ext cx="144360" cy="1429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80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488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2924280"/>
            <a:ext cx="1214640" cy="2305080"/>
          </a:xfrm>
          <a:prstGeom prst="diamond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0360" y="2637000"/>
            <a:ext cx="1214640" cy="2304720"/>
          </a:xfrm>
          <a:prstGeom prst="diamond">
            <a:avLst/>
          </a:prstGeom>
          <a:solidFill>
            <a:srgbClr val="00cc66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56000" y="3933360"/>
            <a:ext cx="172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56000" y="378900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2852640"/>
            <a:ext cx="2305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144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619280" y="2637000"/>
                <a:ext cx="44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4653000"/>
                <a:ext cx="507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43280" y="414972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80000" y="328464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 flipH="1">
            <a:off x="3131640" y="328464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363640" y="43657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378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3716280"/>
            <a:ext cx="712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393372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93372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2060640"/>
            <a:ext cx="71640" cy="288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2060640"/>
            <a:ext cx="144360" cy="288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3933720"/>
            <a:ext cx="23749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860640"/>
            <a:ext cx="14436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79120" y="5680080"/>
            <a:ext cx="69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чк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симметрична точке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относ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центра симметрии – точки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96000" cy="2922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54482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0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58547E-007 L -0.32292 -0.22322 E">
                                      <p:cBhvr>
                                        <p:cTn id="55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4062E-006 L 0.2849 0.23433 E">
                                      <p:cBhvr>
                                        <p:cTn id="57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4:22Z</dcterms:created>
  <dc:creator>User</dc:creator>
  <dc:description/>
  <dc:language>en-US</dc:language>
  <cp:lastModifiedBy>КарМаН</cp:lastModifiedBy>
  <dcterms:modified xsi:type="dcterms:W3CDTF">2011-04-10T08:24:17Z</dcterms:modified>
  <cp:revision>25</cp:revision>
  <dc:subject/>
  <dc:title>Слайд 1</dc:title>
</cp:coreProperties>
</file>