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550-9C44-4A95-B213-4B79FE13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539-D053-46B9-8F2D-4584886F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E9D-D837-4DC6-BEF1-1F5A144C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DD4-164C-4A55-AB00-921A9958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20E-8735-4FCF-98C3-BDE0105D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DF32-D56C-4832-8891-F7BAFB6B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420-5E9C-4AF3-A792-FADB67D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E8CE-BCA4-4AFE-989A-81DD40E4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9F1D-2BE8-4895-9589-A3ACF01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1D86-6BB3-48D9-89FF-77D73713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BEC-3B04-45CE-A909-FCB50E8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530-F2D7-48B4-ADC6-B15AF0F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905E-F855-4965-AB67-9365F99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66EB-BA19-4346-BEA1-DA9FA24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858-9F07-442F-8FDE-0E787DCE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7B3-8E0E-4179-87FD-BFA7B21E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21A-DB11-4872-894C-71926841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9DC1-A330-42C9-91B3-EE56409A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B2C0-637B-45C3-824C-ADF2EB63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B348-1119-421A-8F69-677A0913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1E85-B263-4B8C-BE85-A2AC930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E17C-7206-4F1D-B862-3DADCF8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C8D-E79B-4DE2-959B-4977716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BEB4-5210-492C-B5C8-449DC22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B50B-8D8D-4040-85DC-BA1CD93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5559-AFCA-4A3A-A15C-C38C75B9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1589-1414-4FCF-8269-7CF9757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9CD4-E475-448D-A114-B74EFFBC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7575-CF2C-4887-90B1-C3678DD0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4247-8544-4D8A-A0B2-9A2AC855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D327-68F1-44DB-81FE-94B7DF12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849B-62C5-4B04-AC5A-A6C86EB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6681-3BAE-486E-B05E-C2790F17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450-A5AD-4030-9BC4-0912A0A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4678-5BF2-4FB8-9239-CC9573D8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1647-7A06-437C-9587-E9154BA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A8B2-13CB-45BD-A6F3-BF9D5C3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4C78-EDFE-401C-8C9F-8F05189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75A8-16D8-41C7-BFEE-C175146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45A2-E580-4C5A-9591-42AF3B3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6E6D-F361-41D7-8191-0D428C22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FAAB-0462-429A-B53D-A3774285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1352-D34C-428B-BE2C-10A6A81C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5C82-0182-44DF-95B8-0960C6B2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E1F-81A6-42EA-A860-5B45B4F2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BD87E-C20A-4894-85A4-C55CF60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F88F-558B-4B39-866C-2E3F70FF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931E-13E3-405B-A2A4-C9B7266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11C1-9823-462F-8F7D-E486950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5837-8FF7-42CF-A8D3-538F15CB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BA6D-4209-4504-96C2-B83CDE7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2EBA-05AD-4077-A9E9-9F30999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234B-F86D-44E6-BADA-5763179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2008-9FC1-470D-9004-F4011EE2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6D7E-5B6A-4665-9148-CADBDC6C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9AA-271D-4258-91F5-616C054A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07A8-2647-41D3-A498-6A968C3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5AE5-0DC4-425A-971A-D90A30EF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BA7DA-CB33-4262-85AC-56BC9FE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98752-850C-4D45-8163-45B4246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00BB-4EDD-4407-92D8-3D8F551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6731B-9432-4550-B3C2-AC2866B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F45D-AD47-4689-B4B2-149E31DC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A8D96-239A-4809-90BC-E39D540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4760-6455-4E1F-9A91-DBF4FCA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C072-BBB0-46CE-956A-6F910EA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E24-0F86-4BA1-9071-2CE86B9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236C-7163-46B7-9167-9C11CDC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FB34-1A0E-4270-BE00-FBF28930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F874-2F68-47E6-BACA-D138357C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EB3D0-7A44-46D8-9E67-85537E3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5544-B528-4677-8633-6843771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3B3A9-FFBB-4E3F-AD41-7C47FCB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F083-C35F-4DA2-B16C-EC94ACAB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B69C-9782-43A5-88B1-A8F82D87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A17A-5364-4A67-BBBB-3CA538FC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EE31-98AE-43D0-BF12-4C1CA40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265-AC75-4874-A8CE-250F73E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62DF-24DC-47D3-9B20-2B37ACB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B4E0-4A7F-43BD-86DC-01FB3C1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3E74D-7CC8-4F16-A8A8-B56AD0A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47669-ABD0-4320-B911-A0763F9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564E3-E04A-4619-BB0A-896E7B35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431-6DEF-462A-B1BF-B42A5A3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0E68-07B5-4C41-97BB-1DE782EA89D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397-7D37-42A9-8FAD-D878EFADF1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549-BAB2-4E81-88DA-2EC80EE19A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5EE-AA70-45E0-8BC7-7E5DD6B848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A3F-DE89-4CB6-A909-07ADF91C7ED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AC1C-7B93-489F-B9EA-6247985202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EEF4-E756-4DC7-894A-AB8AD466EF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500040" y="85716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олитическое сознание и политическое по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2357280" y="478620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ествознание 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Прямоугольник с двумя скругленными противолежащими углами 2"/>
          <p:cNvGrpSpPr/>
          <p:nvPr/>
        </p:nvGrpSpPr>
        <p:grpSpPr>
          <a:xfrm>
            <a:off x="165240" y="1249200"/>
            <a:ext cx="8692920" cy="878040"/>
            <a:chOff x="165240" y="1249200"/>
            <a:chExt cx="8692920" cy="878040"/>
          </a:xfrm>
        </p:grpSpPr>
        <p:pic>
          <p:nvPicPr>
            <p:cNvPr id="381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65240" y="12492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09600" y="13809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Либе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Прямоугольник с двумя скругленными противолежащими углами 3"/>
          <p:cNvGrpSpPr/>
          <p:nvPr/>
        </p:nvGrpSpPr>
        <p:grpSpPr>
          <a:xfrm>
            <a:off x="165240" y="1895400"/>
            <a:ext cx="8692920" cy="871560"/>
            <a:chOff x="165240" y="1895400"/>
            <a:chExt cx="8692920" cy="871560"/>
          </a:xfrm>
        </p:grpSpPr>
        <p:pic>
          <p:nvPicPr>
            <p:cNvPr id="384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240" y="18954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09600" y="20239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нсерват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Прямоугольник с двумя скругленными противолежащими углами 4"/>
          <p:cNvGrpSpPr/>
          <p:nvPr/>
        </p:nvGrpSpPr>
        <p:grpSpPr>
          <a:xfrm>
            <a:off x="165240" y="2535120"/>
            <a:ext cx="8692920" cy="878040"/>
            <a:chOff x="165240" y="2535120"/>
            <a:chExt cx="8692920" cy="878040"/>
          </a:xfrm>
        </p:grpSpPr>
        <p:pic>
          <p:nvPicPr>
            <p:cNvPr id="387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240" y="253512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09600" y="26668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Прямоугольник с двумя скругленными противолежащими углами 5"/>
          <p:cNvGrpSpPr/>
          <p:nvPr/>
        </p:nvGrpSpPr>
        <p:grpSpPr>
          <a:xfrm>
            <a:off x="165240" y="3181320"/>
            <a:ext cx="8692920" cy="873000"/>
            <a:chOff x="165240" y="3181320"/>
            <a:chExt cx="8692920" cy="873000"/>
          </a:xfrm>
        </p:grpSpPr>
        <p:pic>
          <p:nvPicPr>
            <p:cNvPr id="390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240" y="3181320"/>
              <a:ext cx="86929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309600" y="330984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-демокра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с двумя скругленными противолежащими углами 6"/>
          <p:cNvGrpSpPr/>
          <p:nvPr/>
        </p:nvGrpSpPr>
        <p:grpSpPr>
          <a:xfrm>
            <a:off x="165240" y="3822840"/>
            <a:ext cx="8692920" cy="877680"/>
            <a:chOff x="165240" y="3822840"/>
            <a:chExt cx="8692920" cy="877680"/>
          </a:xfrm>
        </p:grpSpPr>
        <p:pic>
          <p:nvPicPr>
            <p:cNvPr id="393" name="Прямоугольник с двумя скругленными противолежащими углами 6" descr=""/>
            <p:cNvPicPr/>
            <p:nvPr/>
          </p:nvPicPr>
          <p:blipFill>
            <a:blip r:embed="rId5"/>
            <a:stretch/>
          </p:blipFill>
          <p:spPr>
            <a:xfrm>
              <a:off x="165240" y="3822840"/>
              <a:ext cx="86929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9600" y="395280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ммунизм (ленинизм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с двумя скругленными противолежащими углами 7"/>
          <p:cNvGrpSpPr/>
          <p:nvPr/>
        </p:nvGrpSpPr>
        <p:grpSpPr>
          <a:xfrm>
            <a:off x="165240" y="4468680"/>
            <a:ext cx="8692920" cy="871560"/>
            <a:chOff x="165240" y="4468680"/>
            <a:chExt cx="8692920" cy="871560"/>
          </a:xfrm>
        </p:grpSpPr>
        <p:pic>
          <p:nvPicPr>
            <p:cNvPr id="396" name="Прямоугольник с двумя скругленными противолежащими углами 7" descr=""/>
            <p:cNvPicPr/>
            <p:nvPr/>
          </p:nvPicPr>
          <p:blipFill>
            <a:blip r:embed="rId6"/>
            <a:stretch/>
          </p:blipFill>
          <p:spPr>
            <a:xfrm>
              <a:off x="165240" y="446868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09600" y="45957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Национ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с двумя скругленными противолежащими углами 8"/>
          <p:cNvGrpSpPr/>
          <p:nvPr/>
        </p:nvGrpSpPr>
        <p:grpSpPr>
          <a:xfrm>
            <a:off x="165240" y="5108400"/>
            <a:ext cx="8692920" cy="878040"/>
            <a:chOff x="165240" y="5108400"/>
            <a:chExt cx="8692920" cy="878040"/>
          </a:xfrm>
        </p:grpSpPr>
        <p:pic>
          <p:nvPicPr>
            <p:cNvPr id="399" name="Прямоугольник с двумя скругленными противолежащими углами 8" descr=""/>
            <p:cNvPicPr/>
            <p:nvPr/>
          </p:nvPicPr>
          <p:blipFill>
            <a:blip r:embed="rId7"/>
            <a:stretch/>
          </p:blipFill>
          <p:spPr>
            <a:xfrm>
              <a:off x="165240" y="51084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09600" y="52387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аш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с двумя скругленными противолежащими углами 9"/>
          <p:cNvGrpSpPr/>
          <p:nvPr/>
        </p:nvGrpSpPr>
        <p:grpSpPr>
          <a:xfrm>
            <a:off x="165240" y="5754600"/>
            <a:ext cx="8692920" cy="871560"/>
            <a:chOff x="165240" y="5754600"/>
            <a:chExt cx="8692920" cy="871560"/>
          </a:xfrm>
        </p:grpSpPr>
        <p:pic>
          <p:nvPicPr>
            <p:cNvPr id="402" name="Прямоугольник с двумя скругленными противолежащими углами 9" descr=""/>
            <p:cNvPicPr/>
            <p:nvPr/>
          </p:nvPicPr>
          <p:blipFill>
            <a:blip r:embed="rId8"/>
            <a:stretch/>
          </p:blipFill>
          <p:spPr>
            <a:xfrm>
              <a:off x="165240" y="57546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09600" y="58816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Анарх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214200" y="1428840"/>
            <a:ext cx="87156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репляет объединение людей в одной политическ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могает сделать свой выбор во время вы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помощью идеологии политические организации распространяют среди населения свои политические взгл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214200" y="142884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я становится мотивом полит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грает мобилизующую 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обо важную роль играет общенациональная ид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14200" y="92880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псих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политические чувства, эмоции, настроения, мнения и другие психологические компоненты и стороны политической жизни общества 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Прямоугольник с двумя скругленными противолежащими углами 3"/>
          <p:cNvGrpSpPr/>
          <p:nvPr/>
        </p:nvGrpSpPr>
        <p:grpSpPr>
          <a:xfrm>
            <a:off x="92160" y="3213000"/>
            <a:ext cx="8839080" cy="1408320"/>
            <a:chOff x="92160" y="3213000"/>
            <a:chExt cx="8839080" cy="1408320"/>
          </a:xfrm>
        </p:grpSpPr>
        <p:pic>
          <p:nvPicPr>
            <p:cNvPr id="41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92160" y="3213000"/>
              <a:ext cx="8839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72880" y="334476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Устойчивые части: нравы, менталитет этносов, здравый смыс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с двумя скругленными противолежащими углами 4"/>
          <p:cNvGrpSpPr/>
          <p:nvPr/>
        </p:nvGrpSpPr>
        <p:grpSpPr>
          <a:xfrm>
            <a:off x="92160" y="4784760"/>
            <a:ext cx="8839080" cy="1407960"/>
            <a:chOff x="92160" y="4784760"/>
            <a:chExt cx="8839080" cy="1407960"/>
          </a:xfrm>
        </p:grpSpPr>
        <p:pic>
          <p:nvPicPr>
            <p:cNvPr id="414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92160" y="4784760"/>
              <a:ext cx="88390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2880" y="491652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Переменные части: настроения. эмоции, переживания. ожид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ик с двумя скругленными противолежащими углами 2"/>
          <p:cNvGrpSpPr/>
          <p:nvPr/>
        </p:nvGrpSpPr>
        <p:grpSpPr>
          <a:xfrm>
            <a:off x="92160" y="927000"/>
            <a:ext cx="8839080" cy="3694320"/>
            <a:chOff x="92160" y="927000"/>
            <a:chExt cx="8839080" cy="3694320"/>
          </a:xfrm>
        </p:grpSpPr>
        <p:pic>
          <p:nvPicPr>
            <p:cNvPr id="41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92160" y="927000"/>
              <a:ext cx="883908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85920" y="1171440"/>
              <a:ext cx="83008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ая психология формируется в процессе взаимодействия граждан с институтами власти. Следовательно, она характеризуется как практический тип сознания, включающ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ир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ик с двумя скругленными противолежащими углами 2"/>
          <p:cNvGrpSpPr/>
          <p:nvPr/>
        </p:nvGrpSpPr>
        <p:grpSpPr>
          <a:xfrm>
            <a:off x="237960" y="853920"/>
            <a:ext cx="8693280" cy="1309680"/>
            <a:chOff x="237960" y="853920"/>
            <a:chExt cx="8693280" cy="1309680"/>
          </a:xfrm>
        </p:grpSpPr>
        <p:pic>
          <p:nvPicPr>
            <p:cNvPr id="422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853920"/>
              <a:ext cx="86932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06440" y="977760"/>
              <a:ext cx="8402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сихически процессы. влияющие на политическую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оугольник с двумя скругленными противолежащими углами 3" descr=""/>
          <p:cNvPicPr/>
          <p:nvPr/>
        </p:nvPicPr>
        <p:blipFill>
          <a:blip r:embed="rId2"/>
          <a:stretch/>
        </p:blipFill>
        <p:spPr>
          <a:xfrm>
            <a:off x="73080" y="2286000"/>
            <a:ext cx="8858160" cy="11764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с двумя скругленными противолежащими углами 4" descr=""/>
          <p:cNvPicPr/>
          <p:nvPr/>
        </p:nvPicPr>
        <p:blipFill>
          <a:blip r:embed="rId3"/>
          <a:stretch/>
        </p:blipFill>
        <p:spPr>
          <a:xfrm>
            <a:off x="92160" y="3359160"/>
            <a:ext cx="8839080" cy="169380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с двумя скругленными противолежащими углами 5" descr=""/>
          <p:cNvPicPr/>
          <p:nvPr/>
        </p:nvPicPr>
        <p:blipFill>
          <a:blip r:embed="rId4"/>
          <a:stretch/>
        </p:blipFill>
        <p:spPr>
          <a:xfrm>
            <a:off x="92160" y="4998960"/>
            <a:ext cx="8839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3429000" y="28584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14200" y="1357200"/>
            <a:ext cx="892980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поведение. Формы политическ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14200" y="128592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ое созн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совокупность распространенных в обществе теорий, идей, взглядов, представлений, выражающих отношение людей к политическому строю, деятельности политических институтов и лид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ик с двумя скругленными противолежащими углами 6"/>
          <p:cNvGrpSpPr/>
          <p:nvPr/>
        </p:nvGrpSpPr>
        <p:grpSpPr>
          <a:xfrm>
            <a:off x="1163520" y="4254480"/>
            <a:ext cx="6956640" cy="2584440"/>
            <a:chOff x="1163520" y="4254480"/>
            <a:chExt cx="6956640" cy="2584440"/>
          </a:xfrm>
        </p:grpSpPr>
        <p:pic>
          <p:nvPicPr>
            <p:cNvPr id="342" name="Прямоугольник с двумя скругленными противолежащими углами 6" descr=""/>
            <p:cNvPicPr/>
            <p:nvPr/>
          </p:nvPicPr>
          <p:blipFill>
            <a:blip r:embed="rId1"/>
            <a:stretch/>
          </p:blipFill>
          <p:spPr>
            <a:xfrm>
              <a:off x="1163520" y="4254480"/>
              <a:ext cx="695664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ое сознание вызывает к жизни наша оценка, наше отношение к политике и политической ситуации в стране и ми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4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Виды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оугольник с двумя скругленными противолежащими углами 4" descr=""/>
          <p:cNvPicPr/>
          <p:nvPr/>
        </p:nvPicPr>
        <p:blipFill>
          <a:blip r:embed="rId2"/>
          <a:stretch/>
        </p:blipFill>
        <p:spPr>
          <a:xfrm>
            <a:off x="92160" y="2212920"/>
            <a:ext cx="3004920" cy="38401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с двумя скругленными противолежащими углами 5" descr=""/>
          <p:cNvPicPr/>
          <p:nvPr/>
        </p:nvPicPr>
        <p:blipFill>
          <a:blip r:embed="rId3"/>
          <a:stretch/>
        </p:blipFill>
        <p:spPr>
          <a:xfrm>
            <a:off x="3090960" y="2133720"/>
            <a:ext cx="2981160" cy="334620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с двумя скругленными противолежащими углами 6" descr=""/>
          <p:cNvPicPr/>
          <p:nvPr/>
        </p:nvPicPr>
        <p:blipFill>
          <a:blip r:embed="rId4"/>
          <a:stretch/>
        </p:blipFill>
        <p:spPr>
          <a:xfrm>
            <a:off x="6022800" y="2073240"/>
            <a:ext cx="2981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53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Уровн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"/>
          <p:cNvSpPr/>
          <p:nvPr/>
        </p:nvSpPr>
        <p:spPr>
          <a:xfrm>
            <a:off x="285840" y="1928880"/>
            <a:ext cx="85010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Обыденный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ражает понимание политических событий через призму повседневной жизни. Характеризуется нечеткостью, бессистемностью, противоречивостью. Формируется на основе жизн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Теоретический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стемные представления о политике, политические концепции, идеи, воззрения, политические прогнозы, политическая ид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Прямоугольник с двумя скругленными противолежащими углами 2"/>
          <p:cNvGrpSpPr/>
          <p:nvPr/>
        </p:nvGrpSpPr>
        <p:grpSpPr>
          <a:xfrm>
            <a:off x="1163520" y="895320"/>
            <a:ext cx="6913800" cy="1298520"/>
            <a:chOff x="1163520" y="895320"/>
            <a:chExt cx="6913800" cy="1298520"/>
          </a:xfrm>
        </p:grpSpPr>
        <p:pic>
          <p:nvPicPr>
            <p:cNvPr id="35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895320"/>
              <a:ext cx="691380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3"/>
          <p:cNvSpPr/>
          <p:nvPr/>
        </p:nvSpPr>
        <p:spPr>
          <a:xfrm>
            <a:off x="714240" y="2286000"/>
            <a:ext cx="7858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зновательно-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билиз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214200" y="142884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иде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система базовых идей, отражающих политические явления и процессы, в соответствии с которыми формируются политическое сознание и жизненная позиция личности, социальных групп, общ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Прямоугольник с двумя скругленными противолежащими углами 3"/>
          <p:cNvGrpSpPr/>
          <p:nvPr/>
        </p:nvGrpSpPr>
        <p:grpSpPr>
          <a:xfrm>
            <a:off x="1163520" y="4286160"/>
            <a:ext cx="6913800" cy="2406600"/>
            <a:chOff x="1163520" y="4286160"/>
            <a:chExt cx="6913800" cy="2406600"/>
          </a:xfrm>
        </p:grpSpPr>
        <p:pic>
          <p:nvPicPr>
            <p:cNvPr id="364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1163520" y="4286160"/>
              <a:ext cx="691380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Термин «идеология» был введен в научный оборот философом и ученым Антуаном де Треси в конце </a:t>
              </a: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XVIII </a:t>
              </a: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в. и означал «наука об идеях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Прямоугольник с двумя скругленными противолежащими углами 2"/>
          <p:cNvGrpSpPr/>
          <p:nvPr/>
        </p:nvGrpSpPr>
        <p:grpSpPr>
          <a:xfrm>
            <a:off x="237960" y="927000"/>
            <a:ext cx="8693280" cy="914400"/>
            <a:chOff x="237960" y="927000"/>
            <a:chExt cx="8693280" cy="914400"/>
          </a:xfrm>
        </p:grpSpPr>
        <p:pic>
          <p:nvPicPr>
            <p:cNvPr id="36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9270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88800" y="103176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"/>
          <p:cNvSpPr/>
          <p:nvPr/>
        </p:nvSpPr>
        <p:spPr>
          <a:xfrm>
            <a:off x="2000160" y="1857240"/>
            <a:ext cx="521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ировоззрен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егитим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Прямоугольник с двумя скругленными противолежащими углами 4"/>
          <p:cNvGrpSpPr/>
          <p:nvPr/>
        </p:nvGrpSpPr>
        <p:grpSpPr>
          <a:xfrm>
            <a:off x="1163520" y="4359240"/>
            <a:ext cx="7053480" cy="2193840"/>
            <a:chOff x="1163520" y="4359240"/>
            <a:chExt cx="7053480" cy="2193840"/>
          </a:xfrm>
        </p:grpSpPr>
        <p:pic>
          <p:nvPicPr>
            <p:cNvPr id="372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163520" y="4359240"/>
              <a:ext cx="70534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382760" y="4527720"/>
              <a:ext cx="6664320" cy="18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Эти функции выполняются благодаря двум свойствам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1. претензия на тотальную знач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2. норматив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Прямоугольник с двумя скругленными противолежащими углами 2"/>
          <p:cNvGrpSpPr/>
          <p:nvPr/>
        </p:nvGrpSpPr>
        <p:grpSpPr>
          <a:xfrm>
            <a:off x="237960" y="1573200"/>
            <a:ext cx="8693280" cy="914400"/>
            <a:chOff x="237960" y="1573200"/>
            <a:chExt cx="8693280" cy="914400"/>
          </a:xfrm>
        </p:grpSpPr>
        <p:pic>
          <p:nvPicPr>
            <p:cNvPr id="37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15732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88800" y="167472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ормы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3"/>
          <p:cNvSpPr/>
          <p:nvPr/>
        </p:nvSpPr>
        <p:spPr>
          <a:xfrm>
            <a:off x="0" y="2571840"/>
            <a:ext cx="9144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циально-политические теории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дающие обоснование ценностей и иде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литически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тражающие требования социальных групп, политических элит, политиче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ыступления партийных и государствен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знание граждан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пределяющее их политическ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Учащийся</cp:lastModifiedBy>
  <dcterms:modified xsi:type="dcterms:W3CDTF">2013-03-21T06:26:26Z</dcterms:modified>
  <cp:revision>17</cp:revision>
  <dc:subject/>
  <dc:title>Слайд 1</dc:title>
</cp:coreProperties>
</file>