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643-3AC2-4206-894D-BD9EB987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1F1-6F37-4D9C-A551-839CCB3D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F67-BC30-4089-BF59-8A7C18CB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55B-5561-4399-A3CF-65C668BD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F7A3-5429-4CBC-870F-BCA7532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2350-A306-4FE5-8581-3CDD7A4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620-3262-4883-831B-ED6DAD3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B318-DB7B-4390-85ED-C3628E21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0191-2554-4C02-811B-7AF61814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683-9BB8-4B1A-8FA0-741A8403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0D6-5F15-468F-A7AB-9D8AB72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F77-9E89-4644-96D0-B72EDC2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C0DD-3D13-4EB5-A22A-FBED447E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5DE5-236B-4C7C-BE23-FE0EECA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E31F-8310-4890-8E97-AAF257EA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D481-9ED0-4E6B-A2D2-5F9ADBF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5903-8A9D-4566-A80A-DC90D031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8174-480F-439E-BE14-9305F73D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39CA-CA09-4E39-A3D3-DBE2AFD6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D5BC-6EA3-4337-A640-E9E9AB1A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110B-AE2F-4F47-AF6A-669CDEAB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423B-70E8-4CD4-BBC5-403CCB5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3A7-7C4A-49BA-8F6D-1EBD378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8BE2-70F0-494E-B226-BB1E6766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B2FF-4EE7-4E5B-A9C4-0A5AEE1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032A-F25C-40EF-8F15-AD4B411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E3C6-6A42-4C33-BF0D-112FC9CC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A829-A063-47DA-8287-FBEF44F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8269-71D7-4E6B-A3E4-F5278DAF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9C4C-1BFF-49C8-A7B3-D23F3827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D11C-7F34-4240-8C57-F82AF26B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CD47-33CD-460F-827A-0A95DB6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B71F-B2C0-4E57-97EC-B81297B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385-6F7E-4492-8683-D0F384B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5CB4-1FDF-4948-A693-65D6C0A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72D6-2E00-4BDE-8381-2D453D3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93E4-E318-4D6D-9843-B00BA311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342B-B306-44DB-B69C-C312246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AFAF-0BE7-4A39-823B-8B38E44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7674-CFEE-4656-83DB-332C6DD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1F47-3786-44C1-9ED8-62F9D6C9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DF39-2F09-452E-8214-AF09132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90C0-F53C-467E-B608-5E95E498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8625-28AD-4C30-BF30-34CBA65C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A92-6838-4468-9446-72309E7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2777-119A-4A1F-8EDB-F574D276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3E42-98A6-426A-A5C9-409A297D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4972-DBEB-48DC-9CA4-A6147A4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E9A9-8D14-47CF-850A-13C16C90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C55B2-BD72-4B93-8E8A-874D60A9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7808-949F-43DF-8B8B-1DC44D3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1602-540C-4C5B-87FD-209C43F6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2232-49B5-4352-AE91-DCF77D7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5B55-9F29-44FD-8BB2-79815D1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6D795-F318-496A-A828-1646693E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978-44F3-4316-9257-91A5E47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870B-2ADC-43AF-BFC3-A5B37E91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92AB2-C19E-493C-8D98-478FBB93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76762-545C-4770-8407-058FFA3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73B9-DBD8-4E2E-94F0-4F6EEB48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A8A6-A51C-489E-8AEC-8DBA712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CF839-EE76-404E-A120-F9F94E8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CD52-9CC0-4537-A238-01142190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5FEEB-3653-4EDA-9410-F0267BCE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4CC9-4748-4564-8BFA-4264F19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70B02-EA2F-47E6-A73A-9C4AD62F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9C5-6E1E-475C-80D6-A678725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88521-3E81-4989-86D7-C76AAD3F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B36EC-F409-4ECE-9797-41627B08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F0BF-888D-41AA-A8EB-0B0BA09E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2B7F-0787-4B50-8917-B094172F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8C25-A3B0-420D-8C49-46358BD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549A-DB8C-49D4-808B-10D6282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0418-AACE-4BB1-9C8D-E724D8E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1F772-B97B-40EF-BAC3-049D037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4A6AA-968B-477A-AF2E-8A528207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99D1-EA70-4182-A9B5-EE2C8DF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ED7-936F-4ABE-83D6-F9970AE9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B8BA6-F135-4C06-A415-AE9A75B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2DB5-469A-4AC3-81AD-FD32283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1B1BD-46F5-4120-9634-8CC5E896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3CD3A-8AEF-4945-BFCF-50419CF7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B0EA-F7FF-4E62-8CCB-97DA7A3D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934-C1E9-4EB7-B567-928C5E72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851F-B6CF-46D4-8425-4769B4FE1A2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6EE-B634-4F0C-A175-3A5097C98F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F73-3C32-443A-B671-B517C63A43A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F45-5AC0-4CFE-A33C-9B6D456DE2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22FD-0431-4EF9-86C0-C9D9A4BFA96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6AD-9A23-44D6-A533-6F053CC937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7AF-95B2-471B-9757-4D028461EB6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500040" y="85716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олитическое сознание и политическое по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2357280" y="478620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ествознание 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временные политические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Прямоугольник с двумя скругленными противолежащими углами 2"/>
          <p:cNvGrpSpPr/>
          <p:nvPr/>
        </p:nvGrpSpPr>
        <p:grpSpPr>
          <a:xfrm>
            <a:off x="165240" y="1249200"/>
            <a:ext cx="8692920" cy="878040"/>
            <a:chOff x="165240" y="1249200"/>
            <a:chExt cx="8692920" cy="878040"/>
          </a:xfrm>
        </p:grpSpPr>
        <p:pic>
          <p:nvPicPr>
            <p:cNvPr id="381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65240" y="124920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09600" y="138096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Либер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Прямоугольник с двумя скругленными противолежащими углами 3"/>
          <p:cNvGrpSpPr/>
          <p:nvPr/>
        </p:nvGrpSpPr>
        <p:grpSpPr>
          <a:xfrm>
            <a:off x="165240" y="1895400"/>
            <a:ext cx="8692920" cy="871560"/>
            <a:chOff x="165240" y="1895400"/>
            <a:chExt cx="8692920" cy="871560"/>
          </a:xfrm>
        </p:grpSpPr>
        <p:pic>
          <p:nvPicPr>
            <p:cNvPr id="384" name="Прямоугольник с двумя скругленными противолежащими углами 3" descr=""/>
            <p:cNvPicPr/>
            <p:nvPr/>
          </p:nvPicPr>
          <p:blipFill>
            <a:blip r:embed="rId2"/>
            <a:stretch/>
          </p:blipFill>
          <p:spPr>
            <a:xfrm>
              <a:off x="165240" y="189540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09600" y="202392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Консерват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Прямоугольник с двумя скругленными противолежащими углами 4"/>
          <p:cNvGrpSpPr/>
          <p:nvPr/>
        </p:nvGrpSpPr>
        <p:grpSpPr>
          <a:xfrm>
            <a:off x="165240" y="2535120"/>
            <a:ext cx="8692920" cy="878040"/>
            <a:chOff x="165240" y="2535120"/>
            <a:chExt cx="8692920" cy="878040"/>
          </a:xfrm>
        </p:grpSpPr>
        <p:pic>
          <p:nvPicPr>
            <p:cNvPr id="387" name="Прямоугольник с двумя скругле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165240" y="253512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09600" y="266688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Соци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Прямоугольник с двумя скругленными противолежащими углами 5"/>
          <p:cNvGrpSpPr/>
          <p:nvPr/>
        </p:nvGrpSpPr>
        <p:grpSpPr>
          <a:xfrm>
            <a:off x="165240" y="3181320"/>
            <a:ext cx="8692920" cy="873000"/>
            <a:chOff x="165240" y="3181320"/>
            <a:chExt cx="8692920" cy="873000"/>
          </a:xfrm>
        </p:grpSpPr>
        <p:pic>
          <p:nvPicPr>
            <p:cNvPr id="390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165240" y="3181320"/>
              <a:ext cx="86929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309600" y="330984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Социал-демокра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с двумя скругленными противолежащими углами 6"/>
          <p:cNvGrpSpPr/>
          <p:nvPr/>
        </p:nvGrpSpPr>
        <p:grpSpPr>
          <a:xfrm>
            <a:off x="165240" y="3822840"/>
            <a:ext cx="8692920" cy="877680"/>
            <a:chOff x="165240" y="3822840"/>
            <a:chExt cx="8692920" cy="877680"/>
          </a:xfrm>
        </p:grpSpPr>
        <p:pic>
          <p:nvPicPr>
            <p:cNvPr id="393" name="Прямоугольник с двумя скругленными противолежащими углами 6" descr=""/>
            <p:cNvPicPr/>
            <p:nvPr/>
          </p:nvPicPr>
          <p:blipFill>
            <a:blip r:embed="rId5"/>
            <a:stretch/>
          </p:blipFill>
          <p:spPr>
            <a:xfrm>
              <a:off x="165240" y="3822840"/>
              <a:ext cx="86929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9600" y="395280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Коммунизм (ленинизм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с двумя скругленными противолежащими углами 7"/>
          <p:cNvGrpSpPr/>
          <p:nvPr/>
        </p:nvGrpSpPr>
        <p:grpSpPr>
          <a:xfrm>
            <a:off x="165240" y="4468680"/>
            <a:ext cx="8692920" cy="871560"/>
            <a:chOff x="165240" y="4468680"/>
            <a:chExt cx="8692920" cy="871560"/>
          </a:xfrm>
        </p:grpSpPr>
        <p:pic>
          <p:nvPicPr>
            <p:cNvPr id="396" name="Прямоугольник с двумя скругленными противолежащими углами 7" descr=""/>
            <p:cNvPicPr/>
            <p:nvPr/>
          </p:nvPicPr>
          <p:blipFill>
            <a:blip r:embed="rId6"/>
            <a:stretch/>
          </p:blipFill>
          <p:spPr>
            <a:xfrm>
              <a:off x="165240" y="446868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09600" y="459576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Национал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ик с двумя скругленными противолежащими углами 8"/>
          <p:cNvGrpSpPr/>
          <p:nvPr/>
        </p:nvGrpSpPr>
        <p:grpSpPr>
          <a:xfrm>
            <a:off x="165240" y="5108400"/>
            <a:ext cx="8692920" cy="878040"/>
            <a:chOff x="165240" y="5108400"/>
            <a:chExt cx="8692920" cy="878040"/>
          </a:xfrm>
        </p:grpSpPr>
        <p:pic>
          <p:nvPicPr>
            <p:cNvPr id="399" name="Прямоугольник с двумя скругленными противолежащими углами 8" descr=""/>
            <p:cNvPicPr/>
            <p:nvPr/>
          </p:nvPicPr>
          <p:blipFill>
            <a:blip r:embed="rId7"/>
            <a:stretch/>
          </p:blipFill>
          <p:spPr>
            <a:xfrm>
              <a:off x="165240" y="5108400"/>
              <a:ext cx="8692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09600" y="523872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аш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с двумя скругленными противолежащими углами 9"/>
          <p:cNvGrpSpPr/>
          <p:nvPr/>
        </p:nvGrpSpPr>
        <p:grpSpPr>
          <a:xfrm>
            <a:off x="165240" y="5754600"/>
            <a:ext cx="8692920" cy="871560"/>
            <a:chOff x="165240" y="5754600"/>
            <a:chExt cx="8692920" cy="871560"/>
          </a:xfrm>
        </p:grpSpPr>
        <p:pic>
          <p:nvPicPr>
            <p:cNvPr id="402" name="Прямоугольник с двумя скругленными противолежащими углами 9" descr=""/>
            <p:cNvPicPr/>
            <p:nvPr/>
          </p:nvPicPr>
          <p:blipFill>
            <a:blip r:embed="rId8"/>
            <a:stretch/>
          </p:blipFill>
          <p:spPr>
            <a:xfrm>
              <a:off x="165240" y="5754600"/>
              <a:ext cx="8692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09600" y="5881680"/>
              <a:ext cx="8453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Анарх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214200" y="1428840"/>
            <a:ext cx="87156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репляет объединение людей в одной политическ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могает сделать свой выбор во время вы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помощью идеологии политические организации распространяют среди населения свои политические взгля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285840" y="1429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214200" y="142884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еология становится мотивом полит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грает мобилизующую 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обо важную роль играет общенациональная ид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214200" y="92880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ая психолог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политические чувства, эмоции, настроения, мнения и другие психологические компоненты и стороны политической жизни общества и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Прямоугольник с двумя скругленными противолежащими углами 3"/>
          <p:cNvGrpSpPr/>
          <p:nvPr/>
        </p:nvGrpSpPr>
        <p:grpSpPr>
          <a:xfrm>
            <a:off x="92160" y="3213000"/>
            <a:ext cx="8839080" cy="1408320"/>
            <a:chOff x="92160" y="3213000"/>
            <a:chExt cx="8839080" cy="1408320"/>
          </a:xfrm>
        </p:grpSpPr>
        <p:pic>
          <p:nvPicPr>
            <p:cNvPr id="41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92160" y="3213000"/>
              <a:ext cx="88390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72880" y="3344760"/>
              <a:ext cx="85266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Устойчивые части: нравы, менталитет этносов, здравый смыс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Прямоугольник с двумя скругленными противолежащими углами 4"/>
          <p:cNvGrpSpPr/>
          <p:nvPr/>
        </p:nvGrpSpPr>
        <p:grpSpPr>
          <a:xfrm>
            <a:off x="92160" y="4784760"/>
            <a:ext cx="8839080" cy="1407960"/>
            <a:chOff x="92160" y="4784760"/>
            <a:chExt cx="8839080" cy="1407960"/>
          </a:xfrm>
        </p:grpSpPr>
        <p:pic>
          <p:nvPicPr>
            <p:cNvPr id="414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92160" y="4784760"/>
              <a:ext cx="88390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2880" y="4916520"/>
              <a:ext cx="85266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Переменные части: настроения. эмоции, переживания. ожид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ик с двумя скругленными противолежащими углами 2"/>
          <p:cNvGrpSpPr/>
          <p:nvPr/>
        </p:nvGrpSpPr>
        <p:grpSpPr>
          <a:xfrm>
            <a:off x="92160" y="927000"/>
            <a:ext cx="8839080" cy="3694320"/>
            <a:chOff x="92160" y="927000"/>
            <a:chExt cx="8839080" cy="3694320"/>
          </a:xfrm>
        </p:grpSpPr>
        <p:pic>
          <p:nvPicPr>
            <p:cNvPr id="41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92160" y="927000"/>
              <a:ext cx="883908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85920" y="1171440"/>
              <a:ext cx="83008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олитическая психология формируется в процессе взаимодействия граждан с институтами власти. Следовательно, она характеризуется как практический тип сознания, включающ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рациональные эле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Georg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иррациональные эле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285840" y="142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Прямоугольник с двумя скругленными противолежащими углами 2"/>
          <p:cNvGrpSpPr/>
          <p:nvPr/>
        </p:nvGrpSpPr>
        <p:grpSpPr>
          <a:xfrm>
            <a:off x="237960" y="853920"/>
            <a:ext cx="8693280" cy="1309680"/>
            <a:chOff x="237960" y="853920"/>
            <a:chExt cx="8693280" cy="1309680"/>
          </a:xfrm>
        </p:grpSpPr>
        <p:pic>
          <p:nvPicPr>
            <p:cNvPr id="422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853920"/>
              <a:ext cx="86932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06440" y="977760"/>
              <a:ext cx="8402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сихически процессы. влияющие на политическую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Прямоугольник с двумя скругленными противолежащими углами 3" descr=""/>
          <p:cNvPicPr/>
          <p:nvPr/>
        </p:nvPicPr>
        <p:blipFill>
          <a:blip r:embed="rId2"/>
          <a:stretch/>
        </p:blipFill>
        <p:spPr>
          <a:xfrm>
            <a:off x="73080" y="2286000"/>
            <a:ext cx="8858160" cy="117648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с двумя скругленными противолежащими углами 4" descr=""/>
          <p:cNvPicPr/>
          <p:nvPr/>
        </p:nvPicPr>
        <p:blipFill>
          <a:blip r:embed="rId3"/>
          <a:stretch/>
        </p:blipFill>
        <p:spPr>
          <a:xfrm>
            <a:off x="92160" y="3359160"/>
            <a:ext cx="8839080" cy="169380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с двумя скругленными противолежащими углами 5" descr=""/>
          <p:cNvPicPr/>
          <p:nvPr/>
        </p:nvPicPr>
        <p:blipFill>
          <a:blip r:embed="rId4"/>
          <a:stretch/>
        </p:blipFill>
        <p:spPr>
          <a:xfrm>
            <a:off x="92160" y="4998960"/>
            <a:ext cx="8839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3429000" y="28584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14200" y="1357200"/>
            <a:ext cx="892980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временные политические ид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ль идеологии в политическ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ая псих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итическое поведение. Формы политическ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14200" y="128592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ое созн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совокупность распространенных в обществе теорий, идей, взглядов, представлений, выражающих отношение людей к политическому строю, деятельности политических институтов и лид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ик с двумя скругленными противолежащими углами 6"/>
          <p:cNvGrpSpPr/>
          <p:nvPr/>
        </p:nvGrpSpPr>
        <p:grpSpPr>
          <a:xfrm>
            <a:off x="1163520" y="4254480"/>
            <a:ext cx="6956640" cy="2584440"/>
            <a:chOff x="1163520" y="4254480"/>
            <a:chExt cx="6956640" cy="2584440"/>
          </a:xfrm>
        </p:grpSpPr>
        <p:pic>
          <p:nvPicPr>
            <p:cNvPr id="342" name="Прямоугольник с двумя скругленными противолежащими углами 6" descr=""/>
            <p:cNvPicPr/>
            <p:nvPr/>
          </p:nvPicPr>
          <p:blipFill>
            <a:blip r:embed="rId1"/>
            <a:stretch/>
          </p:blipFill>
          <p:spPr>
            <a:xfrm>
              <a:off x="1163520" y="4254480"/>
              <a:ext cx="695664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93920" y="4465800"/>
              <a:ext cx="649908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Политическое сознание вызывает к жизни наша оценка, наше отношение к политике и политической ситуации в стране и ми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Прямоугольник с двумя скругленными противолежащими углами 2"/>
          <p:cNvGrpSpPr/>
          <p:nvPr/>
        </p:nvGrpSpPr>
        <p:grpSpPr>
          <a:xfrm>
            <a:off x="1163520" y="927000"/>
            <a:ext cx="6913800" cy="1121040"/>
            <a:chOff x="1163520" y="927000"/>
            <a:chExt cx="6913800" cy="1121040"/>
          </a:xfrm>
        </p:grpSpPr>
        <p:pic>
          <p:nvPicPr>
            <p:cNvPr id="346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927000"/>
              <a:ext cx="69138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Виды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Прямоугольник с двумя скругленными противолежащими углами 4" descr=""/>
          <p:cNvPicPr/>
          <p:nvPr/>
        </p:nvPicPr>
        <p:blipFill>
          <a:blip r:embed="rId2"/>
          <a:stretch/>
        </p:blipFill>
        <p:spPr>
          <a:xfrm>
            <a:off x="92160" y="2212920"/>
            <a:ext cx="3004920" cy="38401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с двумя скругленными противолежащими углами 5" descr=""/>
          <p:cNvPicPr/>
          <p:nvPr/>
        </p:nvPicPr>
        <p:blipFill>
          <a:blip r:embed="rId3"/>
          <a:stretch/>
        </p:blipFill>
        <p:spPr>
          <a:xfrm>
            <a:off x="3090960" y="2133720"/>
            <a:ext cx="2981160" cy="334620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с двумя скругленными противолежащими углами 6" descr=""/>
          <p:cNvPicPr/>
          <p:nvPr/>
        </p:nvPicPr>
        <p:blipFill>
          <a:blip r:embed="rId4"/>
          <a:stretch/>
        </p:blipFill>
        <p:spPr>
          <a:xfrm>
            <a:off x="6022800" y="2073240"/>
            <a:ext cx="2981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Прямоугольник с двумя скругленными противолежащими углами 2"/>
          <p:cNvGrpSpPr/>
          <p:nvPr/>
        </p:nvGrpSpPr>
        <p:grpSpPr>
          <a:xfrm>
            <a:off x="1163520" y="927000"/>
            <a:ext cx="6913800" cy="1121040"/>
            <a:chOff x="1163520" y="927000"/>
            <a:chExt cx="6913800" cy="1121040"/>
          </a:xfrm>
        </p:grpSpPr>
        <p:pic>
          <p:nvPicPr>
            <p:cNvPr id="353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927000"/>
              <a:ext cx="69138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Уровни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4"/>
          <p:cNvSpPr/>
          <p:nvPr/>
        </p:nvSpPr>
        <p:spPr>
          <a:xfrm>
            <a:off x="285840" y="1928880"/>
            <a:ext cx="850104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Обыденный</a:t>
            </a: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ражает понимание политических событий через призму повседневной жизни. Характеризуется нечеткостью, бессистемностью, противоречивостью. Формируется на основе жизн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Теоретический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истемные представления о политике, политические концепции, идеи, воззрения, политические прогнозы, политическая ид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1500120" y="2858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литическое со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Прямоугольник с двумя скругленными противолежащими углами 2"/>
          <p:cNvGrpSpPr/>
          <p:nvPr/>
        </p:nvGrpSpPr>
        <p:grpSpPr>
          <a:xfrm>
            <a:off x="1163520" y="895320"/>
            <a:ext cx="6913800" cy="1298520"/>
            <a:chOff x="1163520" y="895320"/>
            <a:chExt cx="6913800" cy="1298520"/>
          </a:xfrm>
        </p:grpSpPr>
        <p:pic>
          <p:nvPicPr>
            <p:cNvPr id="35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1163520" y="895320"/>
              <a:ext cx="691380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332000" y="1046160"/>
              <a:ext cx="6622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ункции политического со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3"/>
          <p:cNvSpPr/>
          <p:nvPr/>
        </p:nvSpPr>
        <p:spPr>
          <a:xfrm>
            <a:off x="714240" y="2286000"/>
            <a:ext cx="7858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зновательно-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е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билиз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214200" y="142884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eorgia"/>
              </a:rPr>
              <a:t>Политическая идеолог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система базовых идей, отражающих политические явления и процессы, в соответствии с которыми формируются политическое сознание и жизненная позиция личности, социальных групп, общ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Прямоугольник с двумя скругленными противолежащими углами 3"/>
          <p:cNvGrpSpPr/>
          <p:nvPr/>
        </p:nvGrpSpPr>
        <p:grpSpPr>
          <a:xfrm>
            <a:off x="1163520" y="4286160"/>
            <a:ext cx="6913800" cy="2406600"/>
            <a:chOff x="1163520" y="4286160"/>
            <a:chExt cx="6913800" cy="2406600"/>
          </a:xfrm>
        </p:grpSpPr>
        <p:pic>
          <p:nvPicPr>
            <p:cNvPr id="364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1163520" y="4286160"/>
              <a:ext cx="691380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393920" y="4465800"/>
              <a:ext cx="649908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Термин «идеология» был введен в научный оборот философом и ученым Антуаном де Треси в конце </a:t>
              </a: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XVIII </a:t>
              </a: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в. и означал «наука об идеях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Прямоугольник с двумя скругленными противолежащими углами 2"/>
          <p:cNvGrpSpPr/>
          <p:nvPr/>
        </p:nvGrpSpPr>
        <p:grpSpPr>
          <a:xfrm>
            <a:off x="237960" y="927000"/>
            <a:ext cx="8693280" cy="914400"/>
            <a:chOff x="237960" y="927000"/>
            <a:chExt cx="8693280" cy="914400"/>
          </a:xfrm>
        </p:grpSpPr>
        <p:pic>
          <p:nvPicPr>
            <p:cNvPr id="368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927000"/>
              <a:ext cx="869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88800" y="1031760"/>
              <a:ext cx="84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ункции политической идеолог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3"/>
          <p:cNvSpPr/>
          <p:nvPr/>
        </p:nvSpPr>
        <p:spPr>
          <a:xfrm>
            <a:off x="2000160" y="1857240"/>
            <a:ext cx="521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ировоззрен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егитим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Прямоугольник с двумя скругленными противолежащими углами 4"/>
          <p:cNvGrpSpPr/>
          <p:nvPr/>
        </p:nvGrpSpPr>
        <p:grpSpPr>
          <a:xfrm>
            <a:off x="1163520" y="4359240"/>
            <a:ext cx="7053480" cy="2193840"/>
            <a:chOff x="1163520" y="4359240"/>
            <a:chExt cx="7053480" cy="2193840"/>
          </a:xfrm>
        </p:grpSpPr>
        <p:pic>
          <p:nvPicPr>
            <p:cNvPr id="372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163520" y="4359240"/>
              <a:ext cx="70534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382760" y="4527720"/>
              <a:ext cx="6664320" cy="18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Эти функции выполняются благодаря двум свойствам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1. претензия на тотальную знач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Georgia"/>
                </a:rPr>
                <a:t>2. норматив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ность политической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Прямоугольник с двумя скругленными противолежащими углами 2"/>
          <p:cNvGrpSpPr/>
          <p:nvPr/>
        </p:nvGrpSpPr>
        <p:grpSpPr>
          <a:xfrm>
            <a:off x="237960" y="1573200"/>
            <a:ext cx="8693280" cy="914400"/>
            <a:chOff x="237960" y="1573200"/>
            <a:chExt cx="8693280" cy="914400"/>
          </a:xfrm>
        </p:grpSpPr>
        <p:pic>
          <p:nvPicPr>
            <p:cNvPr id="376" name="Прямоугольник с двумя скругленными противолежащими углами 2" descr=""/>
            <p:cNvPicPr/>
            <p:nvPr/>
          </p:nvPicPr>
          <p:blipFill>
            <a:blip r:embed="rId1"/>
            <a:stretch/>
          </p:blipFill>
          <p:spPr>
            <a:xfrm>
              <a:off x="237960" y="1573200"/>
              <a:ext cx="869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88800" y="1674720"/>
              <a:ext cx="8437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Georgia"/>
                </a:rPr>
                <a:t>Формы политической идеолог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3"/>
          <p:cNvSpPr/>
          <p:nvPr/>
        </p:nvSpPr>
        <p:spPr>
          <a:xfrm>
            <a:off x="0" y="2571840"/>
            <a:ext cx="9144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циально-политические теории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дающие обоснование ценностей и иде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литически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отражающие требования социальных групп, политических элит, политиче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ыступления партийных и государствен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знание граждан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определяющее их политическо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Учащийся</cp:lastModifiedBy>
  <dcterms:modified xsi:type="dcterms:W3CDTF">2013-03-21T06:26:26Z</dcterms:modified>
  <cp:revision>17</cp:revision>
  <dc:subject/>
  <dc:title>Слайд 1</dc:title>
</cp:coreProperties>
</file>