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93D-6944-46DC-9DB3-F79E6C12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FBB-7BF1-4618-BE61-C1DB794E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F05-CEE6-468F-938B-8C5D7E06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712-92A1-4856-966B-2063DC8B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D03D-4BDD-47AA-B6F5-00920077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F5DE-610A-4D8F-802F-284B3306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AB06-AC7C-4B62-9D15-307C9325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BFE2-9B21-4C20-BB65-CE42B1DB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A1A8-109B-41A1-A06B-F0DDB44E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D966-64A3-490E-BD4B-335BE26F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A0E2-D693-4E36-9714-E1DBC927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C60-3A32-4FEA-85DC-6C8A5993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551B-3DB9-481F-A6B5-03B09891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C056-BC6D-48CB-B030-6E7AEBA9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8F08-68E3-4E16-A925-81AECB7D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D584-01A7-493A-BB7A-597AA5CD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1E49-DD2B-4E4A-9D52-4B544C54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D365E-EF43-4A07-899E-DC23E370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0144-F64F-48C7-8203-559DF68E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E8A5C-6435-4A89-A85A-DF015663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3271-2BDC-4727-BA62-700F51F1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F7E4-CF66-431D-BD90-F537E43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1E0-D3A1-43AB-824C-353D68DB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8BF9-59E0-4771-B283-42F63DE2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E93D-068A-40B3-ACA7-5A10DEAE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05AE-AB4B-4B93-9BC9-B630F12D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406B-E445-48F4-88C3-E63D0E7A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A7D5-EACD-40A3-BC79-E38B5901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13CEE-1F37-4B6D-AFBB-AB989B39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0F97-BEC7-4825-A838-00618DC5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4CC2C-E189-4496-8046-9422729C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34E83-953F-4512-AA9D-B502A08F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170A-2976-4B54-A1DB-881EA037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C05-9E14-4D92-BAC5-1FFB2FEA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4AB9C-007E-451E-A6D0-A2814929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8A3E-6682-45B2-8F75-B5C43F80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DA9B-2A77-4FEB-BD6A-8E5BA099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88833-F708-40F2-80C6-71594EF2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7F190-AC9A-47AA-86FB-EE2D63F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458BE-5F22-4BB1-A26D-5797B05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2CE91-77F6-4CA5-BB50-9B4652D3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080F-87B2-4CBF-B549-437EBF2F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DE6F6-64F3-4547-AEAC-C027E993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011A6-2C12-408C-A04D-A8B48AD6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ADB-AC80-4967-9768-E316055D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DB883-E102-42F3-9F86-0E425600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6CE29-0B6D-4DED-9DB2-BF536111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B8E5D-E012-4715-BA8A-F793610C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B903-EE69-402F-99EE-AD08C18D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86D2E-F5A6-470E-BA0A-90A282A5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377A4-1E4F-4B97-BD97-483A1A9B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C596E-34AD-406C-A0A5-68DBCA86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75BA-614B-4A4C-9D4C-D3196C0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AB329-7C5A-4B6F-80D8-385B3FCD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54875-0296-487B-8788-C7114EB0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B79-A0EA-4310-9663-C7B6110E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DE69C-7B15-4595-A182-887B33D3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BA22A-32EB-462C-9BC2-579AE5C5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7A650-312C-42B7-8D73-3ABA93AE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5B57E-EFA6-4F21-92DD-A6F489A3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FE90C-6B50-4C42-B5AD-EF96A08D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53216-1E57-4F8E-9ACD-35B1798D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61D45-C753-4C51-A8D9-CC02176B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490A8-5FDC-4206-A8D9-B5301BF2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5E2B3-900E-4494-B197-D8839232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335B5-2FE4-4749-8895-B03B5365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EB9-66C5-44F8-A96F-101834A2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01030-8F27-486F-B54B-C34CD259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5F587-5FDD-471A-ACE3-52C910E7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45249-3B9C-42FE-A4AA-99919561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6571C-AFDC-4100-9790-C62500C3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11111-5E1B-4DC1-9CD2-01B8953F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3D8E-4C57-41FF-85F0-E1ECDEEB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C7FA8-47EC-4351-A40A-E5A3EC52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F5712-9C75-4924-9783-67BB590A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4E177-136B-4413-8D50-24D525AB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929B1-4F6A-45DD-82B3-7D97F80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50B-5E64-49DE-AFBF-6D483321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C2D71-D610-49A8-AE7E-AE93A9B3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36AA2-2AEF-4A2E-8846-F6C9B982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90D27-8022-4AF5-BB16-7D859086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BE799-1FCF-4A40-B642-6B8DB994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B1D07-D12F-45D6-9EE1-C348D617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C8A-9546-497C-AE32-7833722F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E245-1B16-4BC8-A52C-737F56E904D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8C71-36FB-4770-8A45-885740FB8BC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73A8-0410-4716-849A-4A50089643E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BA05-B5BC-4F6F-87B3-D5F76849493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020B-9FC4-41E2-8B03-7739730B8FE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1485-5B42-4FA9-BF79-757CB9476B2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DDD5-0F59-4EA4-AD4D-741134E5CE7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500040" y="85716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олитическое сознание и политическое пов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2357280" y="478620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ествознание 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28584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овременные политические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Прямоугольник с двумя скругленными противолежащими углами 2"/>
          <p:cNvGrpSpPr/>
          <p:nvPr/>
        </p:nvGrpSpPr>
        <p:grpSpPr>
          <a:xfrm>
            <a:off x="165240" y="1249200"/>
            <a:ext cx="8692920" cy="878040"/>
            <a:chOff x="165240" y="1249200"/>
            <a:chExt cx="8692920" cy="878040"/>
          </a:xfrm>
        </p:grpSpPr>
        <p:pic>
          <p:nvPicPr>
            <p:cNvPr id="381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65240" y="1249200"/>
              <a:ext cx="8692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09600" y="138096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Либер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Прямоугольник с двумя скругленными противолежащими углами 3"/>
          <p:cNvGrpSpPr/>
          <p:nvPr/>
        </p:nvGrpSpPr>
        <p:grpSpPr>
          <a:xfrm>
            <a:off x="165240" y="1895400"/>
            <a:ext cx="8692920" cy="871560"/>
            <a:chOff x="165240" y="1895400"/>
            <a:chExt cx="8692920" cy="871560"/>
          </a:xfrm>
        </p:grpSpPr>
        <p:pic>
          <p:nvPicPr>
            <p:cNvPr id="384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240" y="1895400"/>
              <a:ext cx="8692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09600" y="202392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Консерват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Прямоугольник с двумя скругленными противолежащими углами 4"/>
          <p:cNvGrpSpPr/>
          <p:nvPr/>
        </p:nvGrpSpPr>
        <p:grpSpPr>
          <a:xfrm>
            <a:off x="165240" y="2535120"/>
            <a:ext cx="8692920" cy="878040"/>
            <a:chOff x="165240" y="2535120"/>
            <a:chExt cx="8692920" cy="878040"/>
          </a:xfrm>
        </p:grpSpPr>
        <p:pic>
          <p:nvPicPr>
            <p:cNvPr id="387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240" y="2535120"/>
              <a:ext cx="8692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309600" y="266688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Соци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Прямоугольник с двумя скругленными противолежащими углами 5"/>
          <p:cNvGrpSpPr/>
          <p:nvPr/>
        </p:nvGrpSpPr>
        <p:grpSpPr>
          <a:xfrm>
            <a:off x="165240" y="3181320"/>
            <a:ext cx="8692920" cy="873000"/>
            <a:chOff x="165240" y="3181320"/>
            <a:chExt cx="8692920" cy="873000"/>
          </a:xfrm>
        </p:grpSpPr>
        <p:pic>
          <p:nvPicPr>
            <p:cNvPr id="390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240" y="3181320"/>
              <a:ext cx="86929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309600" y="330984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Социал-демокра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Прямоугольник с двумя скругленными противолежащими углами 6"/>
          <p:cNvGrpSpPr/>
          <p:nvPr/>
        </p:nvGrpSpPr>
        <p:grpSpPr>
          <a:xfrm>
            <a:off x="165240" y="3822840"/>
            <a:ext cx="8692920" cy="877680"/>
            <a:chOff x="165240" y="3822840"/>
            <a:chExt cx="8692920" cy="877680"/>
          </a:xfrm>
        </p:grpSpPr>
        <p:pic>
          <p:nvPicPr>
            <p:cNvPr id="393" name="Прямоугольник с двумя скругленными противолежащими углами 6" descr=""/>
            <p:cNvPicPr/>
            <p:nvPr/>
          </p:nvPicPr>
          <p:blipFill>
            <a:blip r:embed="rId5"/>
            <a:stretch/>
          </p:blipFill>
          <p:spPr>
            <a:xfrm>
              <a:off x="165240" y="3822840"/>
              <a:ext cx="86929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9600" y="395280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Коммунизм (ленинизм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Прямоугольник с двумя скругленными противолежащими углами 7"/>
          <p:cNvGrpSpPr/>
          <p:nvPr/>
        </p:nvGrpSpPr>
        <p:grpSpPr>
          <a:xfrm>
            <a:off x="165240" y="4468680"/>
            <a:ext cx="8692920" cy="871560"/>
            <a:chOff x="165240" y="4468680"/>
            <a:chExt cx="8692920" cy="871560"/>
          </a:xfrm>
        </p:grpSpPr>
        <p:pic>
          <p:nvPicPr>
            <p:cNvPr id="396" name="Прямоугольник с двумя скругленными противолежащими углами 7" descr=""/>
            <p:cNvPicPr/>
            <p:nvPr/>
          </p:nvPicPr>
          <p:blipFill>
            <a:blip r:embed="rId6"/>
            <a:stretch/>
          </p:blipFill>
          <p:spPr>
            <a:xfrm>
              <a:off x="165240" y="4468680"/>
              <a:ext cx="8692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09600" y="459576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Национ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Прямоугольник с двумя скругленными противолежащими углами 8"/>
          <p:cNvGrpSpPr/>
          <p:nvPr/>
        </p:nvGrpSpPr>
        <p:grpSpPr>
          <a:xfrm>
            <a:off x="165240" y="5108400"/>
            <a:ext cx="8692920" cy="878040"/>
            <a:chOff x="165240" y="5108400"/>
            <a:chExt cx="8692920" cy="878040"/>
          </a:xfrm>
        </p:grpSpPr>
        <p:pic>
          <p:nvPicPr>
            <p:cNvPr id="399" name="Прямоугольник с двумя скругленными противолежащими углами 8" descr=""/>
            <p:cNvPicPr/>
            <p:nvPr/>
          </p:nvPicPr>
          <p:blipFill>
            <a:blip r:embed="rId7"/>
            <a:stretch/>
          </p:blipFill>
          <p:spPr>
            <a:xfrm>
              <a:off x="165240" y="5108400"/>
              <a:ext cx="8692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09600" y="523872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аш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Прямоугольник с двумя скругленными противолежащими углами 9"/>
          <p:cNvGrpSpPr/>
          <p:nvPr/>
        </p:nvGrpSpPr>
        <p:grpSpPr>
          <a:xfrm>
            <a:off x="165240" y="5754600"/>
            <a:ext cx="8692920" cy="871560"/>
            <a:chOff x="165240" y="5754600"/>
            <a:chExt cx="8692920" cy="871560"/>
          </a:xfrm>
        </p:grpSpPr>
        <p:pic>
          <p:nvPicPr>
            <p:cNvPr id="402" name="Прямоугольник с двумя скругленными противолежащими углами 9" descr=""/>
            <p:cNvPicPr/>
            <p:nvPr/>
          </p:nvPicPr>
          <p:blipFill>
            <a:blip r:embed="rId8"/>
            <a:stretch/>
          </p:blipFill>
          <p:spPr>
            <a:xfrm>
              <a:off x="165240" y="5754600"/>
              <a:ext cx="8692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09600" y="588168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Анарх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8584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оль идеологии в политическ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214200" y="1428840"/>
            <a:ext cx="87156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крепляет объединение людей в одной политическ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могает сделать свой выбор во время выб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помощью идеологии политические организации распространяют среди населения свои политические взгля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28584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оль идеологии в политическ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214200" y="1428840"/>
            <a:ext cx="871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деология становится мотивом полит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грает мобилизующую 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обо важную роль играет общенациональная иде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285840" y="142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214200" y="928800"/>
            <a:ext cx="871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eorgia"/>
              </a:rPr>
              <a:t>Политическая психологи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политические чувства, эмоции, настроения, мнения и другие психологические компоненты и стороны политической жизни общества и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Прямоугольник с двумя скругленными противолежащими углами 3"/>
          <p:cNvGrpSpPr/>
          <p:nvPr/>
        </p:nvGrpSpPr>
        <p:grpSpPr>
          <a:xfrm>
            <a:off x="92160" y="3213000"/>
            <a:ext cx="8839080" cy="1408320"/>
            <a:chOff x="92160" y="3213000"/>
            <a:chExt cx="8839080" cy="1408320"/>
          </a:xfrm>
        </p:grpSpPr>
        <p:pic>
          <p:nvPicPr>
            <p:cNvPr id="411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92160" y="3213000"/>
              <a:ext cx="88390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72880" y="3344760"/>
              <a:ext cx="852660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Устойчивые части: нравы, менталитет этносов, здравый смыс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Прямоугольник с двумя скругленными противолежащими углами 4"/>
          <p:cNvGrpSpPr/>
          <p:nvPr/>
        </p:nvGrpSpPr>
        <p:grpSpPr>
          <a:xfrm>
            <a:off x="92160" y="4784760"/>
            <a:ext cx="8839080" cy="1407960"/>
            <a:chOff x="92160" y="4784760"/>
            <a:chExt cx="8839080" cy="1407960"/>
          </a:xfrm>
        </p:grpSpPr>
        <p:pic>
          <p:nvPicPr>
            <p:cNvPr id="414" name="Прямоугольник с двумя скругле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92160" y="4784760"/>
              <a:ext cx="88390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72880" y="4916520"/>
              <a:ext cx="852660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Переменные части: настроения. эмоции, переживания. ожида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85840" y="142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Прямоугольник с двумя скругленными противолежащими углами 2"/>
          <p:cNvGrpSpPr/>
          <p:nvPr/>
        </p:nvGrpSpPr>
        <p:grpSpPr>
          <a:xfrm>
            <a:off x="92160" y="927000"/>
            <a:ext cx="8839080" cy="3694320"/>
            <a:chOff x="92160" y="927000"/>
            <a:chExt cx="8839080" cy="3694320"/>
          </a:xfrm>
        </p:grpSpPr>
        <p:pic>
          <p:nvPicPr>
            <p:cNvPr id="418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92160" y="927000"/>
              <a:ext cx="883908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85920" y="1171440"/>
              <a:ext cx="830088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Политическая психология формируется в процессе взаимодействия граждан с институтами власти. Следовательно, она характеризуется как практический тип сознания, включающий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Georg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рациональные эле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Georg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иррациональные эле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285840" y="142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Прямоугольник с двумя скругленными противолежащими углами 2"/>
          <p:cNvGrpSpPr/>
          <p:nvPr/>
        </p:nvGrpSpPr>
        <p:grpSpPr>
          <a:xfrm>
            <a:off x="237960" y="853920"/>
            <a:ext cx="8693280" cy="1309680"/>
            <a:chOff x="237960" y="853920"/>
            <a:chExt cx="8693280" cy="1309680"/>
          </a:xfrm>
        </p:grpSpPr>
        <p:pic>
          <p:nvPicPr>
            <p:cNvPr id="422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237960" y="853920"/>
              <a:ext cx="86932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06440" y="977760"/>
              <a:ext cx="84027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Психически процессы. влияющие на политическую деятель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Прямоугольник с двумя скругленными противолежащими углами 3" descr=""/>
          <p:cNvPicPr/>
          <p:nvPr/>
        </p:nvPicPr>
        <p:blipFill>
          <a:blip r:embed="rId2"/>
          <a:stretch/>
        </p:blipFill>
        <p:spPr>
          <a:xfrm>
            <a:off x="73080" y="2286000"/>
            <a:ext cx="8858160" cy="117648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с двумя скругленными противолежащими углами 4" descr=""/>
          <p:cNvPicPr/>
          <p:nvPr/>
        </p:nvPicPr>
        <p:blipFill>
          <a:blip r:embed="rId3"/>
          <a:stretch/>
        </p:blipFill>
        <p:spPr>
          <a:xfrm>
            <a:off x="92160" y="3359160"/>
            <a:ext cx="8839080" cy="169380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с двумя скругленными противолежащими углами 5" descr=""/>
          <p:cNvPicPr/>
          <p:nvPr/>
        </p:nvPicPr>
        <p:blipFill>
          <a:blip r:embed="rId4"/>
          <a:stretch/>
        </p:blipFill>
        <p:spPr>
          <a:xfrm>
            <a:off x="92160" y="4998960"/>
            <a:ext cx="88390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"/>
          <p:cNvSpPr/>
          <p:nvPr/>
        </p:nvSpPr>
        <p:spPr>
          <a:xfrm>
            <a:off x="3429000" y="28584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214200" y="1357200"/>
            <a:ext cx="8929800" cy="50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овременные политические иде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ль идеологии в политическ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литическое поведение. Формы политическ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214200" y="128592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eorgia"/>
              </a:rPr>
              <a:t>Политическое сознание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это совокупность распространенных в обществе теорий, идей, взглядов, представлений, выражающих отношение людей к политическому строю, деятельности политических институтов и лид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ик с двумя скругленными противолежащими углами 6"/>
          <p:cNvGrpSpPr/>
          <p:nvPr/>
        </p:nvGrpSpPr>
        <p:grpSpPr>
          <a:xfrm>
            <a:off x="1163520" y="4254480"/>
            <a:ext cx="6956640" cy="2584440"/>
            <a:chOff x="1163520" y="4254480"/>
            <a:chExt cx="6956640" cy="2584440"/>
          </a:xfrm>
        </p:grpSpPr>
        <p:pic>
          <p:nvPicPr>
            <p:cNvPr id="342" name="Прямоугольник с двумя скругленными противолежащими углами 6" descr=""/>
            <p:cNvPicPr/>
            <p:nvPr/>
          </p:nvPicPr>
          <p:blipFill>
            <a:blip r:embed="rId1"/>
            <a:stretch/>
          </p:blipFill>
          <p:spPr>
            <a:xfrm>
              <a:off x="1163520" y="4254480"/>
              <a:ext cx="695664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393920" y="4465800"/>
              <a:ext cx="6499080" cy="19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Политическое сознание вызывает к жизни наша оценка, наше отношение к политике и политической ситуации в стране и мир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Прямоугольник с двумя скругленными противолежащими углами 2"/>
          <p:cNvGrpSpPr/>
          <p:nvPr/>
        </p:nvGrpSpPr>
        <p:grpSpPr>
          <a:xfrm>
            <a:off x="1163520" y="927000"/>
            <a:ext cx="6913800" cy="1121040"/>
            <a:chOff x="1163520" y="927000"/>
            <a:chExt cx="6913800" cy="1121040"/>
          </a:xfrm>
        </p:grpSpPr>
        <p:pic>
          <p:nvPicPr>
            <p:cNvPr id="346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163520" y="927000"/>
              <a:ext cx="691380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332000" y="1046160"/>
              <a:ext cx="66229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Виды политического со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Прямоугольник с двумя скругленными противолежащими углами 4" descr=""/>
          <p:cNvPicPr/>
          <p:nvPr/>
        </p:nvPicPr>
        <p:blipFill>
          <a:blip r:embed="rId2"/>
          <a:stretch/>
        </p:blipFill>
        <p:spPr>
          <a:xfrm>
            <a:off x="92160" y="2212920"/>
            <a:ext cx="3004920" cy="384012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с двумя скругленными противолежащими углами 5" descr=""/>
          <p:cNvPicPr/>
          <p:nvPr/>
        </p:nvPicPr>
        <p:blipFill>
          <a:blip r:embed="rId3"/>
          <a:stretch/>
        </p:blipFill>
        <p:spPr>
          <a:xfrm>
            <a:off x="3090960" y="2133720"/>
            <a:ext cx="2981160" cy="334620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с двумя скругленными противолежащими углами 6" descr=""/>
          <p:cNvPicPr/>
          <p:nvPr/>
        </p:nvPicPr>
        <p:blipFill>
          <a:blip r:embed="rId4"/>
          <a:stretch/>
        </p:blipFill>
        <p:spPr>
          <a:xfrm>
            <a:off x="6022800" y="2073240"/>
            <a:ext cx="29815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Прямоугольник с двумя скругленными противолежащими углами 2"/>
          <p:cNvGrpSpPr/>
          <p:nvPr/>
        </p:nvGrpSpPr>
        <p:grpSpPr>
          <a:xfrm>
            <a:off x="1163520" y="927000"/>
            <a:ext cx="6913800" cy="1121040"/>
            <a:chOff x="1163520" y="927000"/>
            <a:chExt cx="6913800" cy="1121040"/>
          </a:xfrm>
        </p:grpSpPr>
        <p:pic>
          <p:nvPicPr>
            <p:cNvPr id="353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163520" y="927000"/>
              <a:ext cx="691380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332000" y="1046160"/>
              <a:ext cx="66229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Уровни политического со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Box 4"/>
          <p:cNvSpPr/>
          <p:nvPr/>
        </p:nvSpPr>
        <p:spPr>
          <a:xfrm>
            <a:off x="285840" y="1928880"/>
            <a:ext cx="850104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Обыденный</a:t>
            </a:r>
            <a:r>
              <a:rPr b="1" lang="ru-RU" sz="36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ражает понимание политических событий через призму повседневной жизни. Характеризуется нечеткостью, бессистемностью, противоречивостью. Формируется на основе жизн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Теоретический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истемные представления о политике, политические концепции, идеи, воззрения, политические прогнозы, политическая ид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Прямоугольник с двумя скругленными противолежащими углами 2"/>
          <p:cNvGrpSpPr/>
          <p:nvPr/>
        </p:nvGrpSpPr>
        <p:grpSpPr>
          <a:xfrm>
            <a:off x="1163520" y="895320"/>
            <a:ext cx="6913800" cy="1298520"/>
            <a:chOff x="1163520" y="895320"/>
            <a:chExt cx="6913800" cy="1298520"/>
          </a:xfrm>
        </p:grpSpPr>
        <p:pic>
          <p:nvPicPr>
            <p:cNvPr id="358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163520" y="895320"/>
              <a:ext cx="691380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332000" y="1046160"/>
              <a:ext cx="66229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ункции политического со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Box 3"/>
          <p:cNvSpPr/>
          <p:nvPr/>
        </p:nvSpPr>
        <p:spPr>
          <a:xfrm>
            <a:off x="714240" y="2286000"/>
            <a:ext cx="78584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зновательно-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де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билизацио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нтегр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428760" y="2858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214200" y="142884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eorgia"/>
              </a:rPr>
              <a:t>Политическая идеологи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система базовых идей, отражающих политические явления и процессы, в соответствии с которыми формируются политическое сознание и жизненная позиция личности, социальных групп, обществ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Прямоугольник с двумя скругленными противолежащими углами 3"/>
          <p:cNvGrpSpPr/>
          <p:nvPr/>
        </p:nvGrpSpPr>
        <p:grpSpPr>
          <a:xfrm>
            <a:off x="1163520" y="4286160"/>
            <a:ext cx="6913800" cy="2406600"/>
            <a:chOff x="1163520" y="4286160"/>
            <a:chExt cx="6913800" cy="2406600"/>
          </a:xfrm>
        </p:grpSpPr>
        <p:pic>
          <p:nvPicPr>
            <p:cNvPr id="364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1163520" y="4286160"/>
              <a:ext cx="691380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1393920" y="4465800"/>
              <a:ext cx="6499080" cy="19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Термин «идеология» был введен в научный оборот философом и ученым Антуаном де Треси в конце </a:t>
              </a: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XVIII </a:t>
              </a: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в. и означал «наука об идеях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428760" y="2858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Прямоугольник с двумя скругленными противолежащими углами 2"/>
          <p:cNvGrpSpPr/>
          <p:nvPr/>
        </p:nvGrpSpPr>
        <p:grpSpPr>
          <a:xfrm>
            <a:off x="237960" y="927000"/>
            <a:ext cx="8693280" cy="914400"/>
            <a:chOff x="237960" y="927000"/>
            <a:chExt cx="8693280" cy="914400"/>
          </a:xfrm>
        </p:grpSpPr>
        <p:pic>
          <p:nvPicPr>
            <p:cNvPr id="368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237960" y="927000"/>
              <a:ext cx="8693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88800" y="1031760"/>
              <a:ext cx="843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ункции политической идеолог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3"/>
          <p:cNvSpPr/>
          <p:nvPr/>
        </p:nvSpPr>
        <p:spPr>
          <a:xfrm>
            <a:off x="2000160" y="1857240"/>
            <a:ext cx="521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ировоззрен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егитим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нтегр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Прямоугольник с двумя скругленными противолежащими углами 4"/>
          <p:cNvGrpSpPr/>
          <p:nvPr/>
        </p:nvGrpSpPr>
        <p:grpSpPr>
          <a:xfrm>
            <a:off x="1163520" y="4359240"/>
            <a:ext cx="7053480" cy="2193840"/>
            <a:chOff x="1163520" y="4359240"/>
            <a:chExt cx="7053480" cy="2193840"/>
          </a:xfrm>
        </p:grpSpPr>
        <p:pic>
          <p:nvPicPr>
            <p:cNvPr id="372" name="Прямоугольник с двумя скругле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163520" y="4359240"/>
              <a:ext cx="705348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382760" y="4527720"/>
              <a:ext cx="6664320" cy="18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Эти функции выполняются благодаря двум свойствам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1. претензия на тотальную значим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2. норматив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428760" y="2858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Прямоугольник с двумя скругленными противолежащими углами 2"/>
          <p:cNvGrpSpPr/>
          <p:nvPr/>
        </p:nvGrpSpPr>
        <p:grpSpPr>
          <a:xfrm>
            <a:off x="237960" y="1573200"/>
            <a:ext cx="8693280" cy="914400"/>
            <a:chOff x="237960" y="1573200"/>
            <a:chExt cx="8693280" cy="914400"/>
          </a:xfrm>
        </p:grpSpPr>
        <p:pic>
          <p:nvPicPr>
            <p:cNvPr id="376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237960" y="1573200"/>
              <a:ext cx="8693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88800" y="1674720"/>
              <a:ext cx="843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ормы политической идеолог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3"/>
          <p:cNvSpPr/>
          <p:nvPr/>
        </p:nvSpPr>
        <p:spPr>
          <a:xfrm>
            <a:off x="0" y="2571840"/>
            <a:ext cx="9144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оциально-политические теории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дающие обоснование ценностей и иде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литические программы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отражающие требования социальных групп, политических элит, политическ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ыступления партийных и государствен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ознание граждан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определяющее их политическое 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Учащийся</cp:lastModifiedBy>
  <dcterms:modified xsi:type="dcterms:W3CDTF">2013-03-21T06:26:26Z</dcterms:modified>
  <cp:revision>17</cp:revision>
  <dc:subject/>
  <dc:title>Слайд 1</dc:title>
</cp:coreProperties>
</file>