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20D-73E2-4F1B-8B3C-09CA5F6C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851-F0F2-4090-AC58-BA7C286A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E36-40C5-4B66-8B2F-BF27678B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505-27AA-477C-AAA4-BCF274D4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4B60-DB1D-49FD-AD8E-7F1CB7BE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B3CA-5476-4249-B4FD-909866D8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9849-6FE5-4B41-9557-6A4C51C2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4EBD-C87C-4583-9E61-BA7B0B0C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2804-1654-4897-84E7-7CF617C8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654E-8386-4DF9-A23C-69521A8B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0393-712A-4D73-939C-77B066EB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8B0-CE65-46BA-A947-E24F2EAB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2798-0F94-4A36-A659-DE6889B6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F0B0-4352-4528-AEEB-A1CE9AF1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FEC1-BE85-40AD-8103-E504B17E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8FF7-0C69-4724-954F-108B68F4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EBA9-E641-42DD-B8B3-A4EC80C2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220-D09D-4AE0-A088-1196B0B1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96D-5142-450A-B31D-4ABEB5C5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1D87-730F-43AD-9342-849209D3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CA24-9FDF-4C4D-BB84-D838F0A3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CF4-DF02-4CC0-AF9A-9BA47E0C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EB4-7F69-43FE-96B8-E5A4302C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7D6-D08D-4102-86E1-C2F2B635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F5DD-DADE-4960-88A9-078EB9433781}" type="datetime3">
              <a:rPr b="0" lang="ru-RU" sz="1400" spc="-1" strike="noStrike">
                <a:solidFill>
                  <a:srgbClr val="000000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D50C-9981-449F-A35E-D7EA6C8CCC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327A-C6FD-459B-AE5E-6776A8154F11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5F3B-C2DA-478C-A33E-299F7F55E52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0496-D3AD-4486-8407-798AC7D9D111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ижний колонтитул 2"/>
          <p:cNvSpPr/>
          <p:nvPr/>
        </p:nvSpPr>
        <p:spPr>
          <a:xfrm>
            <a:off x="59292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489C-F0DE-4313-B033-D3907733E7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22360" y="136440"/>
            <a:ext cx="79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ганская область, Петуховский район, МОУ «Новогеоргиев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250920" y="2924280"/>
            <a:ext cx="4321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есневые грибы и дрожжи</a:t>
            </a:r>
            <a:endParaRPr b="0" lang="en-US" sz="1800" spc="1" strike="noStrike">
              <a:ln w="9360">
                <a:solidFill>
                  <a:srgbClr val="080808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927600" cy="2960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447480" y="4529160"/>
            <a:ext cx="415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о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ковлева Ларис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3571920" y="6357960"/>
            <a:ext cx="2286000" cy="500040"/>
          </a:xfrm>
          <a:prstGeom prst="rect">
            <a:avLst/>
          </a:prstGeom>
          <a:solidFill>
            <a:srgbClr val="2b877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900B-F439-4B4F-9D3D-2CDD3E2B75FC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C436-828F-430D-ABEE-20A78A1B69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огатик пестиковый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3625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36E2-4D3C-4420-BED5-06392A45A3D8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4BD5-8609-4C8F-BE8A-A2B970394A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гадк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старушка вред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не шляпка блед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ога в ботин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чулке пестрин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меня коснё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т уже не проснё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доль лесных дорож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о белых нож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шляпках разноцветны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дали заметны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ирай, не мешк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46EB-6825-4079-8238-5A05B8367B07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9216-E152-46A2-AC27-309F4D546C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гадк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арь грибов на толстой ножке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лучший для луко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головку держит смел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ому что гриб он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весёлые реб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зовут все нас…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 назвали нас не зр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на пне живём, друз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DC0D-8948-41D8-BBB9-625F2E0B850B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EDC9-39F1-4C3A-852B-DE8C4B678B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рожж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ОЖЖИ, сборная группа одноклеточных грибов из различных классов . Широко распространены в природе. Размножаются преимущественно почкованием. Многие вызывают спиртовое брожение. Богаты белком, витаминами группы В. Используются в виноделии, пивоварении, хлебопечении, сельском хозяйстве (дрожжи кормовые) и др.; пивные дрожжи — в медицине при гиповитаминозе B1, нарушениях обмена веществ, фурункулезе и др. Объект генетических исследов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2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E22D-04AA-4902-BE24-5709228DDD82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Нижний колонтитул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2ACE-0A1D-4891-BFF7-6F1CBBA60E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419720" cy="33321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рожжи пекарск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86" name="Picture 5" descr="L11p01p02"/>
          <p:cNvPicPr/>
          <p:nvPr/>
        </p:nvPicPr>
        <p:blipFill>
          <a:blip r:embed="rId2"/>
          <a:stretch/>
        </p:blipFill>
        <p:spPr>
          <a:xfrm>
            <a:off x="3780000" y="2727360"/>
            <a:ext cx="4606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F630-F047-40D2-AF92-C694DC933010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ACA0-981C-4553-98E6-0C42D72B21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есневые грибы. Мукор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216240" cy="28303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коровые грибы широко распространены в природе. Это одни из самых обычных микроскопических грибов, растущих в почве, на прошлогодних листьях и траве, на навозе, пищевых отбро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411280" y="2708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2"/>
          <a:stretch/>
        </p:blipFill>
        <p:spPr>
          <a:xfrm>
            <a:off x="2050920" y="3213000"/>
            <a:ext cx="3095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10B3-CF67-4781-87B7-530D036D4895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2CB3-0D24-4E10-8291-530D983033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Асперг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СПЕРГИЛЛ, род несовершенных грибов. Около 160 видов, главным образом в виде плесени на пищевых продуктах, в почве, на сырых стенах и т. д. Некоторые виды вызывают болезни, другие — применяют в производстве лимонной кислоты, антибиотиков, фер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3695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0289-1F6D-45E4-AA2F-8D38DC5DCFE8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CA13-A02B-4B60-8F38-B99EF60A2B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есневые грибы. Пениц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НИЦИЛЛ - род грибов, около 250 видов, в почве, в виде плесеней на пищевых продуктах (вызывают их порчу). Образуют антибиотики (например, пенициллин), используются в сыровар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4917960" y="2519280"/>
            <a:ext cx="39276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1F68-7F1F-4213-B3DA-500692B92842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B032-0762-4DD0-A164-60FAA36D43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ениц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522600" cy="3759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35118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5758-D7A1-4254-B8A3-D4075A44FDD1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BDB2-52A8-41FF-8B1D-207930F1E3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CFF1-15BA-410B-9F25-E656DEAC302E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518C-A7D5-4541-963C-43B9625727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дачи урока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зать об особенностях строения и условиях жизни плесневых грибов; раскрыть их роль в природе и в жизн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9CE3-DBF6-401B-806A-B208CAC4D1FD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EE91-F35B-458C-88CF-3C04BF671A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 №1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Шампиньоны и вёшенки научились выращивать на соломе, на навозе, на обрезках стволов (чурбаках) спиленных лиственных деревьев. Почему нельзя выращивать белые грибы или подосиновики таким же способ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56FE-4AC8-4114-B9DD-8709ED9DBC12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172F-D9CA-4B7A-B454-C2C903DDEC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 №2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из названных грибов относятся к трубчатым, а какие к пластинчатым: маслята, рыжики, белые грибы, лисички, подосиновики, сыроежки, шампиньоны, подберёзовики, грузди, опя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6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515F-1776-4C58-91F4-3222FE17C398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Нижний колонтитул 7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Номер слайда 8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39A1-149D-4E2E-A313-CD35B04892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Трубчаты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6" name="Picture 8" descr="Маслёнок"/>
          <p:cNvPicPr/>
          <p:nvPr/>
        </p:nvPicPr>
        <p:blipFill>
          <a:blip r:embed="rId1"/>
          <a:stretch/>
        </p:blipFill>
        <p:spPr>
          <a:xfrm>
            <a:off x="1476360" y="1700280"/>
            <a:ext cx="2544840" cy="2239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2824200" cy="217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Подберёзовик №2"/>
          <p:cNvPicPr/>
          <p:nvPr/>
        </p:nvPicPr>
        <p:blipFill>
          <a:blip r:embed="rId3"/>
          <a:stretch/>
        </p:blipFill>
        <p:spPr>
          <a:xfrm>
            <a:off x="1476360" y="4076640"/>
            <a:ext cx="2567160" cy="2019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Белый гриб"/>
          <p:cNvPicPr/>
          <p:nvPr/>
        </p:nvPicPr>
        <p:blipFill>
          <a:blip r:embed="rId4"/>
          <a:stretch/>
        </p:blipFill>
        <p:spPr>
          <a:xfrm>
            <a:off x="5076720" y="4005360"/>
            <a:ext cx="28018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Дата 6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3840-832E-40C1-98AC-0807F155F7A9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Нижний колонтитул 7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8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8C4B-A571-4B12-95B6-822808B00E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астинчаты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679480" cy="2019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Лисичка"/>
          <p:cNvPicPr/>
          <p:nvPr/>
        </p:nvPicPr>
        <p:blipFill>
          <a:blip r:embed="rId2"/>
          <a:stretch/>
        </p:blipFill>
        <p:spPr>
          <a:xfrm>
            <a:off x="3708360" y="1557360"/>
            <a:ext cx="1677960" cy="2019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Груздь настоящий"/>
          <p:cNvPicPr/>
          <p:nvPr/>
        </p:nvPicPr>
        <p:blipFill>
          <a:blip r:embed="rId3"/>
          <a:stretch/>
        </p:blipFill>
        <p:spPr>
          <a:xfrm>
            <a:off x="468360" y="3860640"/>
            <a:ext cx="2716200" cy="2019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Шампиньон"/>
          <p:cNvPicPr/>
          <p:nvPr/>
        </p:nvPicPr>
        <p:blipFill>
          <a:blip r:embed="rId4"/>
          <a:stretch/>
        </p:blipFill>
        <p:spPr>
          <a:xfrm>
            <a:off x="3708360" y="3860640"/>
            <a:ext cx="1673280" cy="209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136OpenkiNast"/>
          <p:cNvPicPr/>
          <p:nvPr/>
        </p:nvPicPr>
        <p:blipFill>
          <a:blip r:embed="rId5"/>
          <a:stretch/>
        </p:blipFill>
        <p:spPr>
          <a:xfrm>
            <a:off x="5867280" y="3860640"/>
            <a:ext cx="2697120" cy="2022480"/>
          </a:xfrm>
          <a:prstGeom prst="rect">
            <a:avLst/>
          </a:prstGeom>
          <a:ln w="0">
            <a:noFill/>
          </a:ln>
        </p:spPr>
      </p:pic>
      <p:sp>
        <p:nvSpPr>
          <p:cNvPr id="139" name="Line 15"/>
          <p:cNvSpPr/>
          <p:nvPr/>
        </p:nvSpPr>
        <p:spPr>
          <a:xfrm flipH="1" flipV="1">
            <a:off x="2916360" y="2349000"/>
            <a:ext cx="287280" cy="2374920"/>
          </a:xfrm>
          <a:prstGeom prst="line">
            <a:avLst/>
          </a:prstGeom>
          <a:ln w="9360">
            <a:solidFill>
              <a:srgbClr val="080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6" descr=""/>
          <p:cNvPicPr/>
          <p:nvPr/>
        </p:nvPicPr>
        <p:blipFill>
          <a:blip r:embed="rId6"/>
          <a:stretch/>
        </p:blipFill>
        <p:spPr>
          <a:xfrm>
            <a:off x="5867280" y="1557360"/>
            <a:ext cx="26416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9757-AE88-45DF-91FB-E8D51F945B23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CC0A-6CFE-4486-84D8-B72A16AB2D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ы №3,4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гриб самый ядовиты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съедобные грибы можно круглый год выращивать в теплиц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709F-8E5C-4894-9F78-7A5AF5C64372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82E3-5E42-4624-9F0A-0935F3F234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ы №5,6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лоси и другие копытные животные поедают мухомо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грибы ищут со специально выдрессированными собаками, а во Франции – с домашними свинья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427B-FB97-4810-9B21-5F7EEBC7AC28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CB6E-F678-4665-9AF1-02DADFF8CC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Грибы, занесённые в Красную Книгу Росси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4057560" cy="3530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3258720" y="56815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ЮФЕЛЬ ЛЕТ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5:35:56Z</dcterms:created>
  <dc:creator>user</dc:creator>
  <dc:description/>
  <dc:language>en-US</dc:language>
  <cp:lastModifiedBy>Admin</cp:lastModifiedBy>
  <dcterms:modified xsi:type="dcterms:W3CDTF">2012-05-28T13:51:40Z</dcterms:modified>
  <cp:revision>8</cp:revision>
  <dc:subject/>
  <dc:title>Дрожжи, плесневые грибы и грибы - паразиты</dc:title>
</cp:coreProperties>
</file>