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42C-7133-41CF-A52B-8F72387A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596-0B0D-42F1-A2F0-0513E0B8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C82-044A-4879-84C0-A21F9F6B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1DE-7527-487B-91A1-33E5AF4A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C58E-C9B4-4827-AE7B-1A2578F4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FCB7-DA2B-439F-AADF-AE62A416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E1B6-FACA-41B1-9419-ADBEA356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BEF6-9480-4825-A5D8-469DD1B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4C9E-D7AC-4CFC-BD1C-F62E2AA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F29E-C1E9-46BB-B7E5-906AD769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01E8-ED1E-4A60-B9DE-BAC8A6C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1A9-61FB-4FAE-8D43-DAEFE52D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237B-BFF8-4CB3-A946-502E64DA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FA97-970E-4300-955D-D16604E4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F643-9F9C-4493-9A56-388985D1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FFAD-EAFB-4C47-93CC-6D5CBBFF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3F64-2445-4E14-AA76-394CB013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AA5-2FF2-48AD-B8A6-CC8A6AE9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041-1D67-4290-A595-002684E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B31-9061-483E-95D6-44B35594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601-0B4C-461B-936B-2837F200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4CC-361C-413C-9218-81916FC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28B-36A6-4DAC-8AC2-8E4326F4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5E4-406C-4306-B0FB-76A93AD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8CB-61A8-44A2-9559-42BD8DAA13EF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65EE-4565-48B1-8E94-7A2F75F2E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5987-065F-41BC-ABF1-A16EB71F54CE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8DF9-8BD6-4F32-B586-433CCA9ADF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F52-DD9F-4356-BBB4-9A577267BE3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ижний колонтитул 2"/>
          <p:cNvSpPr/>
          <p:nvPr/>
        </p:nvSpPr>
        <p:spPr>
          <a:xfrm>
            <a:off x="59292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BDF1-A09B-4006-BA27-C17ECE0DFB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22360" y="136440"/>
            <a:ext cx="79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ганская область, Петуховский район, МОУ «Новогеоргиев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250920" y="2924280"/>
            <a:ext cx="432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есневые грибы и дрожжи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927600" cy="2960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447480" y="4529160"/>
            <a:ext cx="41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ковлева Ларис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3571920" y="6357960"/>
            <a:ext cx="2286000" cy="500040"/>
          </a:xfrm>
          <a:prstGeom prst="rect">
            <a:avLst/>
          </a:prstGeom>
          <a:solidFill>
            <a:srgbClr val="2b877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B958-8099-4C42-9E34-AE57E2255E7F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4635-7516-43A2-B0B4-727026B12D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гатик пестиковы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25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0112-E0C2-4EDD-86A3-B5509DB189B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2455-93FE-4F15-9976-F233451E6B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старушка вр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не шляпка бл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ога в ботин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чулке пестрин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меня коснё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т уже не проснё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доль лесных дор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 белых н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шляпках разноцв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дали зам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ирай, не мешк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5153-04EF-4151-BFA4-565FB022C39A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41AF-DB9D-4C51-B501-0E526AC329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арь грибов на толстой ножк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лучший для лук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головку держит сме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у что гриб он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весёлые реб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зовут все нас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назвали нас не зр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на пне живём, друз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1DBE-5A35-43C1-BFB8-8A76C9545D9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3B0-96BF-4A2E-94D8-3F31A18271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ОЖЖИ, сборная группа одноклеточных грибов из различных классов . Широко распространены в природе. Размножаются преимущественно почкованием. Многие вызывают спиртовое брожение. Богаты белком, витаминами группы В. Используются в виноделии, пивоварении, хлебопечении, сельском хозяйстве (дрожжи кормовые) и др.; пивные дрожжи — в медицине при гиповитаминозе B1, нарушениях обмена веществ, фурункулезе и др. Объект генетических исслед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2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069F-CFB7-49A4-B9CB-719ECF2D636D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492E-CB36-46C8-940F-9C0D9C1304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19720" cy="3332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 пекарск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6" name="Picture 5" descr="L11p01p02"/>
          <p:cNvPicPr/>
          <p:nvPr/>
        </p:nvPicPr>
        <p:blipFill>
          <a:blip r:embed="rId2"/>
          <a:stretch/>
        </p:blipFill>
        <p:spPr>
          <a:xfrm>
            <a:off x="3780000" y="2727360"/>
            <a:ext cx="4606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98D5-2BB6-42FD-A555-CCA3E78CBEEB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8BD-D0CB-497B-BB2C-BC8F0E5549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Муко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216240" cy="28303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коровые грибы широко распространены в природе. Это одни из самых обычных микроскопических грибов, растущих в почве, на прошлогодних листьях и траве, на навозе, пищевых отбро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411280" y="270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3095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890-9A3C-481F-BD29-08F9CE6E6715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CECB-2A22-4C6E-987C-344DDA1F1E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Асперг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ПЕРГИЛЛ, род несовершенных грибов. Около 160 видов, главным образом в виде плесени на пищевых продуктах, в почве, на сырых стенах и т. д. Некоторые виды вызывают болезни, другие — применяют в производстве лимонной кислоты, антибиотиков, фер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95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D970-1F49-4351-9687-BC5753A02E3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2D41-68D5-4D4D-B241-20CF36D020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НИЦИЛЛ - род грибов, около 250 видов, в почве, в виде плесеней на пищевых продуктах (вызывают их порчу). Образуют антибиотики (например, пенициллин), используются в сыровар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4917960" y="2519280"/>
            <a:ext cx="39276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43B5-D1D8-4235-ABED-D37072ABE09B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71A1-2D04-4E3A-BD64-2B63BD373C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522600" cy="3759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511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1456-F1FB-4B9D-9D97-D50BB64F3CF9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B0D7-42D5-4DF3-B717-E887076F43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D7B-EFE5-49FC-9533-39666EB8551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D530-ABCC-4438-BAC4-B6B69FF90C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 об особенностях строения и условиях жизни плесневых грибов; раскрыть их роль в природе и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4993-12DC-4ADE-98CC-4D2ED24B80AF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646B-8558-4EB0-BD33-9A60C00D0A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1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Шампиньоны и вёшенки научились выращивать на соломе, на навозе, на обрезках стволов (чурбаках) спиленных лиственных деревьев. Почему нельзя выращивать белые грибы или подосиновики таким же способ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33A3-8D8B-46EC-9DD4-9F58704569DD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5E0C-CF5B-4A8C-BD80-2E42A1FB27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2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азванных грибов относятся к трубчатым, а какие к пластинчатым: маслята, рыжики, белые грибы, лисички, подосиновики, сыроежки, шампиньоны, подберёзовики, грузди, опя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375-9E9B-47C3-B559-54D4688DFD6E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9F47-93E9-48F7-AC23-29E90C944E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руб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6" name="Picture 8" descr="Маслёнок"/>
          <p:cNvPicPr/>
          <p:nvPr/>
        </p:nvPicPr>
        <p:blipFill>
          <a:blip r:embed="rId1"/>
          <a:stretch/>
        </p:blipFill>
        <p:spPr>
          <a:xfrm>
            <a:off x="1476360" y="1700280"/>
            <a:ext cx="2544840" cy="2239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824200" cy="217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Подберёзовик №2"/>
          <p:cNvPicPr/>
          <p:nvPr/>
        </p:nvPicPr>
        <p:blipFill>
          <a:blip r:embed="rId3"/>
          <a:stretch/>
        </p:blipFill>
        <p:spPr>
          <a:xfrm>
            <a:off x="1476360" y="4076640"/>
            <a:ext cx="2567160" cy="2019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Белый гриб"/>
          <p:cNvPicPr/>
          <p:nvPr/>
        </p:nvPicPr>
        <p:blipFill>
          <a:blip r:embed="rId4"/>
          <a:stretch/>
        </p:blipFill>
        <p:spPr>
          <a:xfrm>
            <a:off x="5076720" y="4005360"/>
            <a:ext cx="28018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8C1C-5CD3-45A6-A697-64EC3D7DCC3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7434-0EA7-4BA7-8F8E-30C2483341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астин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79480" cy="201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Лисичка"/>
          <p:cNvPicPr/>
          <p:nvPr/>
        </p:nvPicPr>
        <p:blipFill>
          <a:blip r:embed="rId2"/>
          <a:stretch/>
        </p:blipFill>
        <p:spPr>
          <a:xfrm>
            <a:off x="3708360" y="1557360"/>
            <a:ext cx="1677960" cy="2019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Груздь настоящий"/>
          <p:cNvPicPr/>
          <p:nvPr/>
        </p:nvPicPr>
        <p:blipFill>
          <a:blip r:embed="rId3"/>
          <a:stretch/>
        </p:blipFill>
        <p:spPr>
          <a:xfrm>
            <a:off x="468360" y="3860640"/>
            <a:ext cx="2716200" cy="2019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Шампиньон"/>
          <p:cNvPicPr/>
          <p:nvPr/>
        </p:nvPicPr>
        <p:blipFill>
          <a:blip r:embed="rId4"/>
          <a:stretch/>
        </p:blipFill>
        <p:spPr>
          <a:xfrm>
            <a:off x="3708360" y="3860640"/>
            <a:ext cx="1673280" cy="209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136OpenkiNast"/>
          <p:cNvPicPr/>
          <p:nvPr/>
        </p:nvPicPr>
        <p:blipFill>
          <a:blip r:embed="rId5"/>
          <a:stretch/>
        </p:blipFill>
        <p:spPr>
          <a:xfrm>
            <a:off x="5867280" y="3860640"/>
            <a:ext cx="2697120" cy="2022480"/>
          </a:xfrm>
          <a:prstGeom prst="rect">
            <a:avLst/>
          </a:prstGeom>
          <a:ln w="0">
            <a:noFill/>
          </a:ln>
        </p:spPr>
      </p:pic>
      <p:sp>
        <p:nvSpPr>
          <p:cNvPr id="139" name="Line 15"/>
          <p:cNvSpPr/>
          <p:nvPr/>
        </p:nvSpPr>
        <p:spPr>
          <a:xfrm flipH="1" flipV="1">
            <a:off x="2916360" y="2349000"/>
            <a:ext cx="287280" cy="2374920"/>
          </a:xfrm>
          <a:prstGeom prst="line">
            <a:avLst/>
          </a:prstGeom>
          <a:ln w="9360">
            <a:solidFill>
              <a:srgbClr val="080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6" descr=""/>
          <p:cNvPicPr/>
          <p:nvPr/>
        </p:nvPicPr>
        <p:blipFill>
          <a:blip r:embed="rId6"/>
          <a:stretch/>
        </p:blipFill>
        <p:spPr>
          <a:xfrm>
            <a:off x="5867280" y="1557360"/>
            <a:ext cx="2641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5A04-4838-499A-9C1A-5AC98D1B09BC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F739-9D4F-4BE9-B66C-8C3F6DF4A8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3,4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гриб самый ядовиты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съедобные грибы можно круглый год выращивать в теплиц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3289-3D21-479C-BED3-3E31ADFC18F6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CAA1-A0F8-49C7-B68C-0C51656AEC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5,6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лоси и другие копытные животные поедают мухомо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грибы ищут со специально выдрессированными собаками, а во Франции – с домашними свинья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2C55-DFAF-4405-BF52-E832E917AC3E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1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587F-F768-4DDE-9D5F-F8D798B2DA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Грибы, занесённые в Красную Книгу Росси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4057560" cy="3530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258720" y="5681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ЮФЕЛЬ ЛЕТ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35:56Z</dcterms:created>
  <dc:creator>user</dc:creator>
  <dc:description/>
  <dc:language>en-US</dc:language>
  <cp:lastModifiedBy>Admin</cp:lastModifiedBy>
  <dcterms:modified xsi:type="dcterms:W3CDTF">2012-05-28T13:51:40Z</dcterms:modified>
  <cp:revision>8</cp:revision>
  <dc:subject/>
  <dc:title>Дрожжи, плесневые грибы и грибы - паразиты</dc:title>
</cp:coreProperties>
</file>