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173-0EEF-4EDC-A6D0-C012C8AE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C55-976D-4CC5-9087-32252FAF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842-A3D5-4DBE-B841-7B58C778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44E-A630-44F9-AED0-1F004140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9EDD-7AE2-4551-9E4E-21627626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B944-9916-41E1-A550-F67A76A4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1F29-E347-47DF-A63E-9817C9C5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8A4B-DB4F-4C78-99E0-0F344DF5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7C6D-FF5B-46DB-B0E7-972333FE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D507-88AE-481A-8948-53EDD30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5087-37BD-482A-BE94-43B2DD2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BC0-DEEE-4379-AA3C-F16DDE1E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4EA0-FB0F-4F5A-AC2E-85F2CCE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1BFA-35BC-4C8E-8D31-C621B0D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905C-E01C-4796-B4A3-B64DB554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3391-E393-4141-BD02-44224A79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DAAC-8219-4833-9558-7758248C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F45-5C6A-4932-AF1B-1F04759D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6C6-E1C2-45E5-89AF-5DF98FA3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678-435F-4B5A-A89E-9A11CDFD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F54-A810-4270-808F-4DFB9E05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608-2C87-40BE-AA60-65D3D9C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284-FB18-4612-976D-B2DABB3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265-C6EA-4866-A224-C779571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80A4-F69A-426F-99FD-93ADC7FAD5F1}" type="datetime3">
              <a:rPr b="0" lang="ru-RU" sz="1400" spc="-1" strike="noStrike">
                <a:solidFill>
                  <a:srgbClr val="000000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9453-DB8E-4ACB-837F-CB3C0255F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AC57-EE3B-4AAD-AE0D-FF4779002AB7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887-71AC-4018-BD11-29159E254F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5E16-9B5C-4388-816C-9440E8779F2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ижний колонтитул 2"/>
          <p:cNvSpPr/>
          <p:nvPr/>
        </p:nvSpPr>
        <p:spPr>
          <a:xfrm>
            <a:off x="59292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63A9-D789-4BAA-93D8-26D59A1724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22360" y="136440"/>
            <a:ext cx="79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ганская область, Петуховский район, МОУ «Новогеоргиев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250920" y="2924280"/>
            <a:ext cx="432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есневые грибы и дрожжи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927600" cy="2960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447480" y="4529160"/>
            <a:ext cx="41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ковлева Ларис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3571920" y="6357960"/>
            <a:ext cx="2286000" cy="500040"/>
          </a:xfrm>
          <a:prstGeom prst="rect">
            <a:avLst/>
          </a:prstGeom>
          <a:solidFill>
            <a:srgbClr val="2b877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E5D8-81DE-4F5C-ADE4-184F25462457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0FDB-864D-4D08-83C3-2E8B6ECAC5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гатик пестиковый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25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8420-03E1-4A49-B741-7BCF193BD118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2EE4-23EF-4592-A3F2-8A94D38A65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старушка вр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не шляпка бле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ога в ботин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чулке пестрин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меня коснё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т уже не проснё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доль лесных дор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 белых нож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шляпках разноцв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дали заметны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ирай, не мешк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2ED1-C5EE-48F9-A23D-08289F43F4E4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252C-1885-4473-94D4-DF4080B839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арь грибов на толстой ножке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лучший для луко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головку держит смел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у что гриб он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весёлые реб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зовут все нас…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назвали нас не зр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на пне живём, друз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D6A6-96E9-46A1-89B2-A154E064A923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E2B8-C51A-448B-A0EB-6CFC52634D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ОЖЖИ, сборная группа одноклеточных грибов из различных классов . Широко распространены в природе. Размножаются преимущественно почкованием. Многие вызывают спиртовое брожение. Богаты белком, витаминами группы В. Используются в виноделии, пивоварении, хлебопечении, сельском хозяйстве (дрожжи кормовые) и др.; пивные дрожжи — в медицине при гиповитаминозе B1, нарушениях обмена веществ, фурункулезе и др. Объект генетических исслед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2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ADF8-5E13-4A27-8014-C12548278B90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33C3-A2EE-4D5A-9505-D86E2C935A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19720" cy="33321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рожжи пекарск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6" name="Picture 5" descr="L11p01p02"/>
          <p:cNvPicPr/>
          <p:nvPr/>
        </p:nvPicPr>
        <p:blipFill>
          <a:blip r:embed="rId2"/>
          <a:stretch/>
        </p:blipFill>
        <p:spPr>
          <a:xfrm>
            <a:off x="3780000" y="2727360"/>
            <a:ext cx="4606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D6A4-009A-46E8-9C67-3B3B451F409F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757A-458C-4FB6-9968-B8BB4B9188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Муко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216240" cy="28303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коровые грибы широко распространены в природе. Это одни из самых обычных микроскопических грибов, растущих в почве, на прошлогодних листьях и траве, на навозе, пищевых отбро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411280" y="2708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2"/>
          <a:stretch/>
        </p:blipFill>
        <p:spPr>
          <a:xfrm>
            <a:off x="2050920" y="3213000"/>
            <a:ext cx="3095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34B4-EEC9-4E51-A24E-3FB2281598E4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B93F-51D6-4D21-8B55-A94078D544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Асперг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ПЕРГИЛЛ, род несовершенных грибов. Около 160 видов, главным образом в виде плесени на пищевых продуктах, в почве, на сырых стенах и т. д. Некоторые виды вызывают болезни, другие — применяют в производстве лимонной кислоты, антибиотиков, фер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695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DCF2-A599-431C-B555-A0E45F93475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8B91-1647-4EE3-A7D2-140BCDF584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есневые грибы. 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НИЦИЛЛ - род грибов, около 250 видов, в почве, в виде плесеней на пищевых продуктах (вызывают их порчу). Образуют антибиотики (например, пенициллин), используются в сыровар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4917960" y="2519280"/>
            <a:ext cx="39276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A419-B5D6-4C83-9BFE-B1A41BDD0A98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0EF7-544C-4087-AE49-E97458ED3B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еницил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522600" cy="3759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511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9350-1C10-49E2-8A93-B11CD0A6D647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6826-7B33-45AF-8E80-921334CA25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4F85-49BB-4EBD-B05D-A4C4A0E002F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BC18-4696-434B-A974-53F1FB9F22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 об особенностях строения и условиях жизни плесневых грибов; раскрыть их роль в природе и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7F82-0B13-4B8C-92EC-05FAC021E42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1D0A-BFDC-4852-8838-B35B0706A9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1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Шампиньоны и вёшенки научились выращивать на соломе, на навозе, на обрезках стволов (чурбаках) спиленных лиственных деревьев. Почему нельзя выращивать белые грибы или подосиновики таким же способ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01D8-1D35-49A4-AD05-B382BFE1CC32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F72C-AF41-49A1-83F4-0A0C3BAD62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 №2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 названных грибов относятся к трубчатым, а какие к пластинчатым: маслята, рыжики, белые грибы, лисички, подосиновики, сыроежки, шампиньоны, подберёзовики, грузди, опя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D895-8B0B-4DF7-94EB-F4CC8DBE5731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C594-4D95-48D7-8EAD-3E38E09963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руб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6" name="Picture 8" descr="Маслёнок"/>
          <p:cNvPicPr/>
          <p:nvPr/>
        </p:nvPicPr>
        <p:blipFill>
          <a:blip r:embed="rId1"/>
          <a:stretch/>
        </p:blipFill>
        <p:spPr>
          <a:xfrm>
            <a:off x="1476360" y="1700280"/>
            <a:ext cx="2544840" cy="2239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824200" cy="217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Подберёзовик №2"/>
          <p:cNvPicPr/>
          <p:nvPr/>
        </p:nvPicPr>
        <p:blipFill>
          <a:blip r:embed="rId3"/>
          <a:stretch/>
        </p:blipFill>
        <p:spPr>
          <a:xfrm>
            <a:off x="1476360" y="4076640"/>
            <a:ext cx="2567160" cy="2019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Белый гриб"/>
          <p:cNvPicPr/>
          <p:nvPr/>
        </p:nvPicPr>
        <p:blipFill>
          <a:blip r:embed="rId4"/>
          <a:stretch/>
        </p:blipFill>
        <p:spPr>
          <a:xfrm>
            <a:off x="5076720" y="4005360"/>
            <a:ext cx="28018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6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4A36-83FC-4A8A-B791-CBAF11F33CF5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8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E3D7-11F9-435E-AD83-24C872AE04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ластинчаты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679480" cy="2019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Лисичка"/>
          <p:cNvPicPr/>
          <p:nvPr/>
        </p:nvPicPr>
        <p:blipFill>
          <a:blip r:embed="rId2"/>
          <a:stretch/>
        </p:blipFill>
        <p:spPr>
          <a:xfrm>
            <a:off x="3708360" y="1557360"/>
            <a:ext cx="1677960" cy="2019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Груздь настоящий"/>
          <p:cNvPicPr/>
          <p:nvPr/>
        </p:nvPicPr>
        <p:blipFill>
          <a:blip r:embed="rId3"/>
          <a:stretch/>
        </p:blipFill>
        <p:spPr>
          <a:xfrm>
            <a:off x="468360" y="3860640"/>
            <a:ext cx="2716200" cy="2019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Шампиньон"/>
          <p:cNvPicPr/>
          <p:nvPr/>
        </p:nvPicPr>
        <p:blipFill>
          <a:blip r:embed="rId4"/>
          <a:stretch/>
        </p:blipFill>
        <p:spPr>
          <a:xfrm>
            <a:off x="3708360" y="3860640"/>
            <a:ext cx="1673280" cy="209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136OpenkiNast"/>
          <p:cNvPicPr/>
          <p:nvPr/>
        </p:nvPicPr>
        <p:blipFill>
          <a:blip r:embed="rId5"/>
          <a:stretch/>
        </p:blipFill>
        <p:spPr>
          <a:xfrm>
            <a:off x="5867280" y="3860640"/>
            <a:ext cx="2697120" cy="2022480"/>
          </a:xfrm>
          <a:prstGeom prst="rect">
            <a:avLst/>
          </a:prstGeom>
          <a:ln w="0">
            <a:noFill/>
          </a:ln>
        </p:spPr>
      </p:pic>
      <p:sp>
        <p:nvSpPr>
          <p:cNvPr id="139" name="Line 15"/>
          <p:cNvSpPr/>
          <p:nvPr/>
        </p:nvSpPr>
        <p:spPr>
          <a:xfrm flipH="1" flipV="1">
            <a:off x="2916360" y="2349000"/>
            <a:ext cx="287280" cy="2374920"/>
          </a:xfrm>
          <a:prstGeom prst="line">
            <a:avLst/>
          </a:prstGeom>
          <a:ln w="9360">
            <a:solidFill>
              <a:srgbClr val="080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6" descr=""/>
          <p:cNvPicPr/>
          <p:nvPr/>
        </p:nvPicPr>
        <p:blipFill>
          <a:blip r:embed="rId6"/>
          <a:stretch/>
        </p:blipFill>
        <p:spPr>
          <a:xfrm>
            <a:off x="5867280" y="1557360"/>
            <a:ext cx="2641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968C-26AF-4750-87F7-135DF7D883B3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B331-5640-420F-B0FE-33675891DA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3,4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гриб самый ядовиты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съедобные грибы можно круглый год выращивать в теплиц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Дата 4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8DD1-4F72-455E-AC62-832A173AAA0A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D461-1385-45CB-8AEB-7C637F2CD2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Вопросы №5,6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лоси и другие копытные животные поедают мухомо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грибы ищут со специально выдрессированными собаками, а во Франции – с домашними свинья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1755-F3E7-4CAD-A61C-B15B626DE06E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587E-C9BE-4B9F-BB5E-6F79ED4022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Грибы, занесённые в Красную Книгу Росси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4057560" cy="3530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3258720" y="5681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ЮФЕЛЬ ЛЕТ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35:56Z</dcterms:created>
  <dc:creator>user</dc:creator>
  <dc:description/>
  <dc:language>en-US</dc:language>
  <cp:lastModifiedBy>Admin</cp:lastModifiedBy>
  <dcterms:modified xsi:type="dcterms:W3CDTF">2012-05-28T13:51:40Z</dcterms:modified>
  <cp:revision>8</cp:revision>
  <dc:subject/>
  <dc:title>Дрожжи, плесневые грибы и грибы - паразиты</dc:title>
</cp:coreProperties>
</file>