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683-56E2-42C1-BE06-8A2E3D22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071-7FB5-41FC-8795-A760A7B4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043-21CB-478E-B401-68FE563C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7D2-F4D8-416E-A72F-0C026E9B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D0DE-AA74-4A25-BAEC-AFA36A48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A3DF-1AB6-4272-8611-BC8DCE60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7CD0-CBB9-4DDD-84C7-2838D3C2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9B47-6E3A-4294-BF8E-BFDC9D3D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BE7B-F33A-4395-9CB5-5D830F5C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5BF0-A885-4AD3-80A4-CA97F7D9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1C11-9AD5-4830-87D6-75150659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FBE-9464-41D2-8183-0D3A429B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4285-70FA-4792-A4A8-E84F319A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E1CC-8DB4-4B78-9F44-CF4A296B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4E8C-5672-40FF-BF54-9C8AD77B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85AD-BD8D-49C2-AA05-3E82602C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C36E-1671-4349-82FD-2ABD689C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B2F-A628-4EBB-BEED-C3A0585C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F08-0E21-44D1-8D24-94A68CA7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545-3DDB-43D1-BD4C-6F7141D9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F8F4-E207-422A-B245-EE52B948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C7F-907F-4EA7-BA23-2D5E014D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20D-1F38-4C59-B700-0BA2A345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436-A063-4CBC-8A13-F845960B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D6A8-8C2E-4EE0-93B7-F39D276DB5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1E2A-D1E6-42B5-B609-377ED09D40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sarbin.ru/ScoutSite/Site/2tourism/images/first_aid/aid_06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Тема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291520" cy="47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« ПЕРВАЯ медицинская помощ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при травм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опорно-двигательного аппарат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читель физической куль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ОУ СОШ №3 г.Николаевска-на-Ам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усаренко Еле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71640" y="549360"/>
            <a:ext cx="7129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дицинская   помощ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360" y="2576520"/>
            <a:ext cx="7991280" cy="32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шибах, растяжениях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ихах , переломах косте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0099"/>
                </a:solidFill>
                <a:latin typeface="Arial"/>
              </a:rPr>
              <a:t>Первая помощь при ушибах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540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Ушибы характеризуются повреждением мягких тканей с внутренним кровоизлиянием.</a:t>
            </a:r>
            <a:r>
              <a:rPr b="1" lang="en-US" sz="2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ложить на некоторое время холодный компресс, а затем наложить повяз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а вторые сутки после травмы применяют тепл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и ударах в голову, грудь, живот пострадавшему необходимо обеспечить полный покой, дать противошоковые средства и транспортировать в медпунк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случае если ушиб произведен в область живота, пострадавшему нельзя давать ни есть, ни пи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99"/>
                </a:solidFill>
                <a:latin typeface="Arial"/>
              </a:rPr>
              <a:t>Первая помощь при растяжениях и разрывах связок.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Признаками травмы служ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зкая боль (в первый момент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пухл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овоподтек и болезненность движений в суста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область поврежденной связки сначала накладывается холод, а затем тугая фиксирующая повязка, желательно эластичным бин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значительном растяжении связок голеностопного или коленного суставов (рекомендуется ш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нутрь дается анальгин или амидопи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99"/>
                </a:solidFill>
                <a:latin typeface="Arial"/>
              </a:rPr>
              <a:t>Первая помощь при вывихах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граничивается наложением шины и применением болеутоляющих средств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Самостоятельная вправка суставов не рекомендуется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к как вывихи, особенно голеностопных, коленных, лучезапястных и локтевых суставов часто сочетаются с переломами отростков костей. Обязательна транспортировка пострадавшего (или его сопровождение при вывихе суставов верхней конечности) в медпун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985080" cy="6869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539640" y="6093000"/>
            <a:ext cx="828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лом на рентгеновском снимке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60096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826920" y="5661000"/>
            <a:ext cx="777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елом ключиц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ПЕРЕЛОМЫ  КОСТЕЙ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Открытый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- когда нарушается целостность кожного покрова (на месте перелома имеется ран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Arial"/>
              </a:rPr>
              <a:t>Закрытый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– без повреждения кожных покров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99"/>
                </a:solidFill>
                <a:latin typeface="Arial"/>
              </a:rPr>
              <a:t>Первая помощь при переломах</a:t>
            </a:r>
            <a:r>
              <a:rPr b="1" lang="en-US" sz="3500" spc="-1" strike="noStrike">
                <a:solidFill>
                  <a:srgbClr val="ffcc00"/>
                </a:solidFill>
                <a:latin typeface="Arial"/>
              </a:rPr>
              <a:t>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Заключается 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аложении шины из подручного материала, чтобы фиксировать места перелома и области суставов, расположенных выше и ниже ег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нутрь пострадавшему дают амидопирин или анальгин и транспортируют в медпун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0224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700360" y="620640"/>
            <a:ext cx="59752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ИММОБИЛИЗА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40360" y="2565360"/>
            <a:ext cx="475272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ксаци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д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подвиж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667560" cy="4667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4360" y="458820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безлесной местности иногда может случиться, что для шины не найдется ни пучка хвороста, ни палки. Тогда поврежденную руку рекомендуется прибинтовать к туловищу, а ногу — к здоровой н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2"/>
          </p:cNvPr>
          <p:cNvSpPr/>
          <p:nvPr/>
        </p:nvSpPr>
        <p:spPr>
          <a:xfrm>
            <a:off x="-938160" y="268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55640" y="404640"/>
            <a:ext cx="7632720" cy="597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порно-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вигательный аппарат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лове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324000" y="6093000"/>
            <a:ext cx="8496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ложение повязки "Косынк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ПРАКТИЧЕСКОЕ  ЗАДАНИЕ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ложите шину из подручных средств на указательный палец ру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24000" y="2421000"/>
            <a:ext cx="8280360" cy="26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Ы !!!!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67956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 rot="511800">
            <a:off x="3995640" y="333000"/>
            <a:ext cx="28512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келе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лове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42920" y="2491920"/>
            <a:ext cx="4087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келет человека состоит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более чем из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00 кост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???  ФУНКЦИИ СКЕЛЕТА  ??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195640" y="1557360"/>
            <a:ext cx="403848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Arial"/>
              </a:rPr>
              <a:t>ОПОРА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55640" y="4508280"/>
            <a:ext cx="741672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56536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???   ФУНКЦИИ МЫШЦ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И СУСТАВОВ??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16000" y="981000"/>
            <a:ext cx="698508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ЕДИН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СТЕ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689440" cy="5649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395280" y="333360"/>
            <a:ext cx="83534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единение костей плечевого суста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267080" cy="5040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 rot="266400">
            <a:off x="320400" y="-14400"/>
            <a:ext cx="8351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единение кост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азобедренного суста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16000" y="1197000"/>
            <a:ext cx="705636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ШЦ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37512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4:08:08Z</dcterms:created>
  <dc:creator>001</dc:creator>
  <dc:description/>
  <dc:language>en-US</dc:language>
  <cp:lastModifiedBy>001</cp:lastModifiedBy>
  <dcterms:modified xsi:type="dcterms:W3CDTF">2011-04-28T03:10:31Z</dcterms:modified>
  <cp:revision>6</cp:revision>
  <dc:subject/>
  <dc:title>Слайд 1</dc:title>
</cp:coreProperties>
</file>