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BDD-3680-4C10-A542-3198E534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123-84C2-494D-8C07-16C0CE6E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ED6-AEA9-46BD-8D4F-09F958A6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2DCB-CAEF-4C34-B021-E4993E5D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2DB7-7EAC-4E30-8096-46D25044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6302-728C-46E5-BCCA-D27CE4A6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B1FE-045C-469C-9BC5-00ABC04B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4418-7D81-4A1E-81AA-53C2D7AD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B014-F19D-4F52-B9D5-82504FCC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3164-65FA-4606-AFEC-86DF70A8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04B9-333C-443C-82ED-D56D252B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4CB-3509-427E-9DB6-E25B0BAF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50F4-C20C-4B5B-ABD8-72594B69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CB37-079B-4DEB-BFF0-45C4DAB9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0E03-9619-482C-88E9-2A68EC55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B7B1-4063-4753-A2AE-6105A559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BE55-AD45-4BD5-B04D-C9E74260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620F-D3C6-40B1-9AA8-E5FA7CA4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5A47-8AB7-4931-8C74-3C1FF4F0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FAF-ABCB-4CEC-9519-3ED79122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CE4E-D7C2-40D5-86B2-0FAF4BE6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0F00-A827-4A8B-8106-BFAE4382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BFA1-8296-4326-A5CB-ED0211C2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A7F-31B8-4669-BF22-609462D5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B27A-4BC7-47DB-B195-1CA650AE38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6A65-A0DF-450B-955F-6AD835BC04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sarbin.ru/ScoutSite/Site/2tourism/images/first_aid/aid_06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ема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29152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« ПЕРВАЯ медицинская помощ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при травм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опорно-двигательного аппарат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читель физической куль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ОУ СОШ №3 г.Николаевска-на-Ам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усаренко Еле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71640" y="549360"/>
            <a:ext cx="7129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дицинская   помощ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360" y="2576520"/>
            <a:ext cx="7991280" cy="32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шибах, растяжениях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ихах , переломах косте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0099"/>
                </a:solidFill>
                <a:latin typeface="Arial"/>
              </a:rPr>
              <a:t>Первая помощь при ушибах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540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Ушибы характеризуются повреждением мягких тканей с внутренним кровоизлиянием.</a:t>
            </a:r>
            <a:r>
              <a:rPr b="1" lang="en-US" sz="2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ложить на некоторое время холодный компресс, а затем наложить повязк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 вторые сутки после травмы применяют тепл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и ударах в голову, грудь, живот пострадавшему необходимо обеспечить полный покой, дать противошоковые средства и транспортировать в медпунк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случае если ушиб произведен в область живота, пострадавшему нельзя давать ни есть, ни пи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99"/>
                </a:solidFill>
                <a:latin typeface="Arial"/>
              </a:rPr>
              <a:t>Первая помощь при растяжениях и разрывах связок.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Признаками травмы служа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зкая боль (в первый момент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пухл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овоподтек и болезненность движений в суста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область поврежденной связки сначала накладывается холод, а затем тугая фиксирующая повязка, желательно эластичным бин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 значительном растяжении связок голеностопного или коленного суставов (рекомендуется ш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нутрь дается анальгин или амидопи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99"/>
                </a:solidFill>
                <a:latin typeface="Arial"/>
              </a:rPr>
              <a:t>Первая помощь при вывихах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граничивается наложением шины и применением болеутоляющих средств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Самостоятельная вправка суставов не рекомендуется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к как вывихи, особенно голеностопных, коленных, лучезапястных и локтевых суставов часто сочетаются с переломами отростков костей. Обязательна транспортировка пострадавшего (или его сопровождение при вывихе суставов верхней конечности) в медпун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85080" cy="6869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539640" y="6093000"/>
            <a:ext cx="828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лом на рентгеновском снимке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0096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826920" y="5661000"/>
            <a:ext cx="777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елом ключиц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ПЕРЕЛОМЫ  КОСТЕЙ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Открытый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- когда нарушается целостность кожного покрова (на месте перелома имеется ран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Закрытый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– без повреждения кожных покров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99"/>
                </a:solidFill>
                <a:latin typeface="Arial"/>
              </a:rPr>
              <a:t>Первая помощь при переломах</a:t>
            </a:r>
            <a:r>
              <a:rPr b="1" lang="en-US" sz="3500" spc="-1" strike="noStrike">
                <a:solidFill>
                  <a:srgbClr val="ffcc00"/>
                </a:solidFill>
                <a:latin typeface="Arial"/>
              </a:rPr>
              <a:t>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Заключается 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аложении шины из подручного материала, чтобы фиксировать места перелома и области суставов, расположенных выше и ниже ег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нутрь пострадавшему дают амидопирин или анальгин и транспортируют в медпун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0224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2700360" y="620640"/>
            <a:ext cx="59752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ИММОБИЛИЗА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140360" y="2565360"/>
            <a:ext cx="4752720" cy="26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ксаци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д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подвиж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667560" cy="4667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4360" y="458820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безлесной местности иногда может случиться, что для шины не найдется ни пучка хвороста, ни палки. Тогда поврежденную руку рекомендуется прибинтовать к туловищу, а ногу — к здоровой н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2"/>
          </p:cNvPr>
          <p:cNvSpPr/>
          <p:nvPr/>
        </p:nvSpPr>
        <p:spPr>
          <a:xfrm>
            <a:off x="-938160" y="268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55640" y="404640"/>
            <a:ext cx="7632720" cy="597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порно-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вигательный аппарат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лове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324000" y="6093000"/>
            <a:ext cx="8496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ложение повязки "Косынк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ПРАКТИЧЕСКОЕ  ЗАДАНИЕ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960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ложите шину из подручных средств на указательный палец ру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24000" y="2421000"/>
            <a:ext cx="8280360" cy="26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Ы !!!!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67956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 rot="511800">
            <a:off x="3995640" y="333000"/>
            <a:ext cx="28512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ел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лове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42920" y="2491920"/>
            <a:ext cx="4087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келет человека состоит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более чем из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00 кос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???  ФУНКЦИИ СКЕЛЕТА  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195640" y="1557360"/>
            <a:ext cx="403848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ОПОРА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55640" y="4508280"/>
            <a:ext cx="741672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256536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???   ФУНКЦИИ МЫШЦ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И СУСТАВОВ??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16000" y="981000"/>
            <a:ext cx="698508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ЕДИН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СТЕ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689440" cy="5649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95280" y="333360"/>
            <a:ext cx="83534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единение костей плечевого суста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267080" cy="5040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 rot="266400">
            <a:off x="320400" y="-14400"/>
            <a:ext cx="83516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единение кос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азобедренного суста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16000" y="1197000"/>
            <a:ext cx="705636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ЫШЦ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37512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4:08:08Z</dcterms:created>
  <dc:creator>001</dc:creator>
  <dc:description/>
  <dc:language>en-US</dc:language>
  <cp:lastModifiedBy>001</cp:lastModifiedBy>
  <dcterms:modified xsi:type="dcterms:W3CDTF">2011-04-28T03:10:31Z</dcterms:modified>
  <cp:revision>6</cp:revision>
  <dc:subject/>
  <dc:title>Слайд 1</dc:title>
</cp:coreProperties>
</file>