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BCB-2468-4F2F-9757-B891AE9F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9A9-B1FC-4C59-A61D-086318B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264-BD79-453D-85D0-635D1296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4EA-D449-47B5-9840-B6588900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270A-D2B5-4FE2-9654-7E0A603A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858C-F3A2-4E83-9C26-CB5B2B62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6C93-3FE9-40E6-AC75-7D6FD61F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4C6E-81B4-49F9-8600-F20ED598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611E-E1E5-4496-B02D-FBCA9425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106A-CE39-437E-A6B9-C0011160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8C93-B1F2-4B9D-AA02-9E34410F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BAD-9C12-4808-93AA-496EC2BF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E100-85B4-4B9C-B576-1629F70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84B-DD87-494C-870A-047BE7EC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CEC2-6A5D-4F75-AF65-BCE90B2D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8CF6-6237-4AEB-8C6F-E821A033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29A1-270D-4E0E-8B8E-E8E6D88D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AF6-8846-4E05-81A1-3115A139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80A-ECBB-4B0A-B545-1D48835B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C6E-2948-4BD5-B30E-BE6F1EEB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DBC-E930-4BCE-9F3A-D9F0C58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E65-1F40-4107-8F88-6D972B6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4FE-0EB6-4693-8C44-57630EA1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9B9-5251-41C7-A8A8-5E7C65B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5FC0-E57D-4AB7-B680-9BA379F26E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AF34-D43C-412A-967F-AB54639D13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arbin.ru/ScoutSite/Site/2tourism/images/first_aid/aid_06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ема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9152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« ПЕРВАЯ медицин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при травм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опорно-двигательного аппара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читель физической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У СОШ №3 г.Николаевска-на-Ам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усаренко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71640" y="549360"/>
            <a:ext cx="7129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ицинская   помощ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2576520"/>
            <a:ext cx="7991280" cy="32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шибах, растяжения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ихах , переломах кост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0099"/>
                </a:solidFill>
                <a:latin typeface="Arial"/>
              </a:rPr>
              <a:t>Первая помощь при ушибах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540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Ушибы характеризуются повреждением мягких тканей с внутренним кровоизлиянием.</a:t>
            </a:r>
            <a:r>
              <a:rPr b="1" lang="en-US" sz="2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ложить на некоторое время холодный компресс, а затем наложить повяз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вторые сутки после травмы применяют тепл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и ударах в голову, грудь, живот пострадавшему необходимо обеспечить полный покой, дать противошоковые средства и транспортировать в медпунк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случае если ушиб произведен в область живота, пострадавшему нельзя давать ни есть, ни пи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Первая помощь при растяжениях и разрывах связок.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Признаками травмы служ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кая боль (в первый момент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пухл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овоподтек и болезненность движений в суст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бласть поврежденной связки сначала накладывается холод, а затем тугая фиксирующая повязка, желательно эластичным бин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значительном растяжении связок голеностопного или коленного суставов (рекомендуется ш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нутрь дается анальгин или амидопи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Первая помощь при вывихах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граничивается наложением шины и применением болеутоляющих средств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Самостоятельная вправка суставов не рекомендуетс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к как вывихи, особенно голеностопных, коленных, лучезапястных и локтевых суставов часто сочетаются с переломами отростков костей. Обязательна транспортировка пострадавшего (или его сопровождение при вывихе суставов верхней конечности) в медпун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869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539640" y="6093000"/>
            <a:ext cx="828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 на рентгеновском снимке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009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826920" y="5661000"/>
            <a:ext cx="777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елом ключ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ПЕРЕЛОМЫ  КОСТЕЙ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Открыты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- когда нарушается целостность кожного покрова (на месте перелома имеется ран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Закрытый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без повреждения кожных покров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Первая помощь при переломах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Заключается 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ложении шины из подручного материала, чтобы фиксировать места перелома и области суставов, расположенных выше и ниже е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нутрь пострадавшему дают амидопирин или анальгин и транспортируют в медпун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224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700360" y="620640"/>
            <a:ext cx="59752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ИММОБИЛИЗ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0360" y="2565360"/>
            <a:ext cx="475272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ксац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подви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67560" cy="4667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4360" y="458820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безлесной местности иногда может случиться, что для шины не найдется ни пучка хвороста, ни палки. Тогда поврежденную руку рекомендуется прибинтовать к туловищу, а ногу — к здоровой н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/>
          </p:cNvPr>
          <p:cNvSpPr/>
          <p:nvPr/>
        </p:nvSpPr>
        <p:spPr>
          <a:xfrm>
            <a:off x="-938160" y="26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55640" y="404640"/>
            <a:ext cx="763272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орно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вигательный аппара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лове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324000" y="6093000"/>
            <a:ext cx="849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ложение повязки "Косын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ПРАКТИЧЕСКОЕ  ЗАДАНИЕ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ложите шину из подручных средств на указательный палец ру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24000" y="2421000"/>
            <a:ext cx="8280360" cy="26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 !!!!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6795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511800">
            <a:off x="3995640" y="333000"/>
            <a:ext cx="28512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ел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лове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42920" y="2491920"/>
            <a:ext cx="4087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келет человека состоит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более чем из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00 кос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???  ФУНКЦИИ СКЕЛЕТА 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95640" y="1557360"/>
            <a:ext cx="403848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ОПОРА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55640" y="4508280"/>
            <a:ext cx="741672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56536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???   ФУНКЦИИ МЫШЦ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И СУСТАВОВ??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16000" y="981000"/>
            <a:ext cx="6985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ЕДИН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СТ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689440" cy="56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95280" y="333360"/>
            <a:ext cx="83534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единение костей плечевого суст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267080" cy="5040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 rot="266400">
            <a:off x="320400" y="-14400"/>
            <a:ext cx="8351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единение к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зобедренного суст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16000" y="1197000"/>
            <a:ext cx="705636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ШЦ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7512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4:08:08Z</dcterms:created>
  <dc:creator>001</dc:creator>
  <dc:description/>
  <dc:language>en-US</dc:language>
  <cp:lastModifiedBy>001</cp:lastModifiedBy>
  <dcterms:modified xsi:type="dcterms:W3CDTF">2011-04-28T03:10:31Z</dcterms:modified>
  <cp:revision>6</cp:revision>
  <dc:subject/>
  <dc:title>Слайд 1</dc:title>
</cp:coreProperties>
</file>