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43E-8773-44E9-AE93-28ACD839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6E4-7B43-43FB-AC4F-E924AD3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C10-644B-423F-ADD0-2D2EA79F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A58-847A-4A0A-ABBB-56E36012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BB5-2FB2-4E48-82FA-3B0DF791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2C5-6971-46A1-A2AA-AC354A2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48E-B537-4324-BF92-61E7C9A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EBD-D8E6-4A09-BE8F-F5E3C4D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C31-4479-4E09-AB50-9BC459BE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1E5-1684-41A3-B283-D14B767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4EE-AA02-4880-8F54-C489845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39F-B71B-43D2-9C04-BEF6CEA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e5f2b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3BC5-C1E6-4374-907B-16A463791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062.radikal.ru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рганы чувств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их значение и гиги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Татья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624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5" name="Прямоугольник 7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6600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rcRect l="0" t="0" r="4014" b="0"/>
          <a:stretch/>
        </p:blipFill>
        <p:spPr>
          <a:xfrm>
            <a:off x="380880" y="441360"/>
            <a:ext cx="84582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rcRect l="1945" t="5822" r="6797" b="5780"/>
          <a:stretch/>
        </p:blipFill>
        <p:spPr>
          <a:xfrm>
            <a:off x="1981080" y="457200"/>
            <a:ext cx="5618160" cy="594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0" t="1373" r="0" b="2766"/>
          <a:stretch/>
        </p:blipFill>
        <p:spPr>
          <a:xfrm>
            <a:off x="533520" y="187200"/>
            <a:ext cx="815328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ая/горячая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 употреблении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и мы тоже не чувствуем ее вкуса. Поэтому пища не должна быть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пробуй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знакомые/незнакомые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льно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притупляют/обостряют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кус простудные заболевания, ку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ая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е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ри употреблении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ищи мы тоже не чувствуем ее вкуса. Поэтому пища не должна быть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е пробуй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незнакомые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ильно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притупляют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кус простудные заболевания, кур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жа – орган осяз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544" t="47278" r="75457" b="10301"/>
          <a:stretch/>
        </p:blipFill>
        <p:spPr>
          <a:xfrm>
            <a:off x="914400" y="1600200"/>
            <a:ext cx="2058840" cy="32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457" t="47278" r="4544" b="11514"/>
          <a:stretch/>
        </p:blipFill>
        <p:spPr>
          <a:xfrm>
            <a:off x="6324480" y="3657600"/>
            <a:ext cx="2057400" cy="289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28186" t="47278" r="51819" b="10301"/>
          <a:stretch/>
        </p:blipFill>
        <p:spPr>
          <a:xfrm>
            <a:off x="2819520" y="3581280"/>
            <a:ext cx="1868400" cy="297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4"/>
          <a:srcRect l="51819" t="47278" r="28182" b="10301"/>
          <a:stretch/>
        </p:blipFill>
        <p:spPr>
          <a:xfrm>
            <a:off x="4495680" y="1676520"/>
            <a:ext cx="2011320" cy="320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38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40252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572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0574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581280" y="5943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952880" y="594360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781680" y="594360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17 -0.21667 L 0.6625 -0.55 E">
                                      <p:cBhvr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-0.08334 L 0.4875 -0.39445 E">
                                      <p:cBhvr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8333 L 0.32084 -0.25 E">
                                      <p:cBhvr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43889 L 0.16667 -0.70556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4 0.19444 L -0.02917 -0.11667 E">
                                      <p:cBhvr>
                                        <p:cTn id="1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6880" y="320040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062.radika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globalscie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natom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edforyou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iologi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rigins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kondrackay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happydocto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80880" y="76212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звенел для нас звон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уж начался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чень много интерес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стоит на нем у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о нашем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ем знания получ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12002" t="58546" r="56001" b="2443"/>
          <a:stretch/>
        </p:blipFill>
        <p:spPr>
          <a:xfrm>
            <a:off x="7010280" y="4876920"/>
            <a:ext cx="152424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8" name="Picture 5" descr=""/>
          <p:cNvPicPr/>
          <p:nvPr/>
        </p:nvPicPr>
        <p:blipFill>
          <a:blip r:embed="rId2"/>
          <a:srcRect l="64005" t="21955" r="3997" b="39034"/>
          <a:stretch/>
        </p:blipFill>
        <p:spPr>
          <a:xfrm>
            <a:off x="9144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3"/>
          <a:srcRect l="54007" t="60977" r="15999" b="0"/>
          <a:stretch/>
        </p:blipFill>
        <p:spPr>
          <a:xfrm>
            <a:off x="7010280" y="2819520"/>
            <a:ext cx="1500480" cy="16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4"/>
          <a:srcRect l="34001" t="0" r="36005" b="63421"/>
          <a:stretch/>
        </p:blipFill>
        <p:spPr>
          <a:xfrm>
            <a:off x="29718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3997" t="21471" r="66008" b="41466"/>
          <a:stretch/>
        </p:blipFill>
        <p:spPr>
          <a:xfrm>
            <a:off x="5029200" y="4876920"/>
            <a:ext cx="150336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10958" t="17206" r="0" b="26491"/>
          <a:stretch/>
        </p:blipFill>
        <p:spPr>
          <a:xfrm>
            <a:off x="1066680" y="162000"/>
            <a:ext cx="7543800" cy="657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62120" y="258840"/>
            <a:ext cx="7924680" cy="634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81280" y="380880"/>
            <a:ext cx="15242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рганы чувств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— органы, которыми мы чувствуем окружающи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2665" t="0" r="4001" b="5010"/>
          <a:stretch/>
        </p:blipFill>
        <p:spPr>
          <a:xfrm>
            <a:off x="1828800" y="2057400"/>
            <a:ext cx="5562720" cy="45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609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962520" cy="232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rcRect l="0" t="16769" r="0" b="11968"/>
          <a:stretch/>
        </p:blipFill>
        <p:spPr>
          <a:xfrm>
            <a:off x="304920" y="38088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4724280" cy="330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rcRect l="3846" t="0" r="3846" b="0"/>
          <a:stretch/>
        </p:blipFill>
        <p:spPr>
          <a:xfrm>
            <a:off x="5029200" y="22096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регите зре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ботали глаза напряженно 20-25 мин, посмотрите в окно, вверх на не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поморгайте 20-30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ойте глаза и посидите спокойно 1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ко зажмурьте глаза на 5 с, а потом на 5 с широко откройте их. Повторите эти упражне­ния 10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Так будут укрепля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ышцы век и мышцы гл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0" t="0" r="1757" b="1646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28600" y="144360"/>
            <a:ext cx="86104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2T19:07:0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