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B45-2134-4221-A383-14C9F784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4AC-A7FC-4894-B415-AFE1D93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A11-6600-40A3-92CB-0A10E40C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46B-BA9B-42F8-892C-9642DC49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7F52-8E36-4D20-A0DA-2304152E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D5A2-FA5A-4F86-9B54-3806E62B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8FD3-BE7F-47AD-99ED-4FBB6A93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0EB7-98BB-403C-83C6-63D83956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9551-5441-49AE-BCE0-04B518C6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7BAA-0992-4177-B38B-E4259E96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17DA-68AB-4D16-8794-523785BA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9A25-461E-4BC9-A020-9AD4B340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269F-665C-4274-9028-432124F6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4827-FF28-4913-8E7B-0F4D7F6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2492-1D32-4AC6-B8DF-23EF5B6B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DB0-AC21-4BBC-8B2A-76015367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B6C5-57CF-4242-A896-1BE5D3BA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671-DBCB-4633-9AE7-2F28EF5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520-363A-49D8-BDF6-6337B582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BE7-7794-4BAF-A572-395D72DB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C33-8169-40CA-8576-D2D59143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DB8-4470-4753-88D0-B39D9F61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296-1BF0-4E23-94CD-413D80CE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577-AAA0-4EF8-8E52-25453FC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D87A-D713-451A-9E52-D437A24206C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B15D-2272-45F8-B80C-A73A9A2B18A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езентация к уроку 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«Опора и движение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тор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петовская Ольга Иван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ОУ СОШ № 45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.Петропавловск-Камчат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011 г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Понимаем, что наше здоровье -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 в наших руках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-3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-кальций и фосфор- основные элементы прочности костей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 едим больше морепродуктов, творога, сыра, пьем больше молока!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- правильная посадка за партой и компьютером, зало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расивой осанк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 иначе тебя ждет  сколиоз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– правильно подобранная  по размеру и сезону обувь- залог красивой и свободной походк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помни о плоскостопии, кроссовки!!!???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– избыточный вес и неправильное питание ведет к болям в сустав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это называется – артроз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- спорт и физкультура, залог красивой  фигур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подумай о дряблости кожи и атрофии мышц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– гнойные инфекции и даже кариес зубов могут разрушить твои кост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 это называется- остеомиелит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0:59:10Z</dcterms:created>
  <dc:creator>Home</dc:creator>
  <dc:description/>
  <dc:language>en-US</dc:language>
  <cp:lastModifiedBy>SamLab.ws</cp:lastModifiedBy>
  <dcterms:modified xsi:type="dcterms:W3CDTF">2012-01-12T01:24:53Z</dcterms:modified>
  <cp:revision>4</cp:revision>
  <dc:subject/>
  <dc:title>Слайд 1</dc:title>
</cp:coreProperties>
</file>