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796-6321-4E40-9C45-9C788FA0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77F-5151-4730-B7CA-5FD83F79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D3D-2620-4C5D-9119-CAD0C3D9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8ED-516F-4F4E-AE0A-A9DA6643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EFC7-391E-486E-89A2-C1F52A90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24B-3F02-4F9B-9FFE-A76EFF71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7641-9A32-4209-9815-A22B7D54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CADA-59B3-4F22-8386-09D6D309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077E-30A0-45DF-ADA4-AFA143AE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3487-8509-40E2-88A8-88A4305C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DAD-2909-4270-B6E4-EF85357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9E2-7F98-49E8-B7B8-353F6584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73FC-3C3F-4E54-8873-5DC15F2D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8CD3-AB2D-43FF-AF08-7393BA58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006D-80B2-49AB-82AC-EF8B3A95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779C-AE71-48F5-B38C-D7C367A8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6F0A-727D-496D-805C-25489F5F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CD4-DCC0-47DA-B62B-23973EA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084-6FF9-4F19-A0A9-F77B55DA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A01-A339-4BB9-B996-4B544F95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4A7-CE68-4503-99E1-223DEE0F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6B4-86C8-4A51-A931-6AB64378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8A4-E514-452D-A609-3DD6CA18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FEB-8FE7-4C78-A2EE-6F78981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3795-0058-453F-BCFC-48210D68BEC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15BA-5BC8-49F7-A7A2-C25DF123CAF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езентация к уроку 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«Опора и движение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тор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петовская Ольга Иван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ОУ СОШ № 45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.Петропавловск-Камчат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011 г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Понимаем, что наше здоровье -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 в наших руках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-3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-кальций и фосфор- основные элементы прочности костей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 едим больше морепродуктов, творога, сыра, пьем больше молока!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- правильная посадка за партой и компьютером, зало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расивой осанк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 иначе тебя ждет  сколиоз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– правильно подобранная  по размеру и сезону обувь- залог красивой и свободной походк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помни о плоскостопии, кроссовки!!!???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– избыточный вес и неправильное питание ведет к болям в сустав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это называется – артроз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- спорт и физкультура, залог красивой  фигур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подумай о дряблости кожи и атрофии мышц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то – гнойные инфекции и даже кариес зубов могут разрушить твои кост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 это называется- остеомиелит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0:59:10Z</dcterms:created>
  <dc:creator>Home</dc:creator>
  <dc:description/>
  <dc:language>en-US</dc:language>
  <cp:lastModifiedBy>SamLab.ws</cp:lastModifiedBy>
  <dcterms:modified xsi:type="dcterms:W3CDTF">2012-01-12T01:24:53Z</dcterms:modified>
  <cp:revision>4</cp:revision>
  <dc:subject/>
  <dc:title>Слайд 1</dc:title>
</cp:coreProperties>
</file>