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AFB-7A8C-48A2-BDA7-10229ED7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6809-DC33-479E-B8EA-F68BCCB1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69B-133E-4F73-9B77-04362BAB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AEC-26B2-486C-BF29-F4B71D3F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1E86-0F5B-4607-8138-57E5EF41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A357-7406-42E0-B64A-438A3724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D034-C20A-477B-839F-429FCF48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C66F-FF32-4B74-A344-8F9400E3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F4A0-42E5-4AA1-8245-23301A43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9879-642A-45E0-9724-387FB4F9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6138-38DA-423D-A2EC-097D0E6D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677-2109-4FA0-998C-54E03421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39B9-A2E0-4416-B5B6-D93A95B3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D205-D8AB-48D8-A016-05A6DEFB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ABF2-52FF-4688-8573-A14BB079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3EC3-DBB7-48D8-A65F-B27D5276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2B09-5BF1-4718-A197-F48FB459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590-3769-46BB-A3A6-69367815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E1B4-25E0-434A-8820-C6E4A02E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9964-3BA3-48E6-9D3D-7DE0A2CF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F29A-B73C-4828-90F6-38B57B0C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662-731C-4BF1-9168-3179695F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6784-49F4-4029-B451-B5F2F628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C81-91D5-4513-A449-5CD1FFCD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C1EC-D54A-4EAB-8ACC-5437F6C81E2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A370-A165-4A81-A3EA-2D7DC3FAD1D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езентация к уроку 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«Опора и движение»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втор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петовская Ольга Иванов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биолог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ОУ СОШ № 45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.Петропавловск-Камчатск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011 го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Понимаем, что наше здоровье -</a:t>
            </a:r>
            <a:br>
              <a:rPr sz="5400"/>
            </a:b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 в наших руках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-3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то -кальций и фосфор- основные элементы прочности костей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 едим больше морепродуктов, творога, сыра, пьем больше молока!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то - правильная посадка за партой и компьютером, зало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расивой осанк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 иначе тебя ждет  сколиоз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то – правильно подобранная  по размеру и сезону обувь- залог красивой и свободной походк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помни о плоскостопии, кроссовки!!!???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то – избыточный вес и неправильное питание ведет к болям в суставах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это называется – артроз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то- спорт и физкультура, залог красивой  фигуры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подумай о дряблости кожи и атрофии мышц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то – гнойные инфекции и даже кариес зубов могут разрушить твои кост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 это называется- остеомиелит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00:59:10Z</dcterms:created>
  <dc:creator>Home</dc:creator>
  <dc:description/>
  <dc:language>en-US</dc:language>
  <cp:lastModifiedBy>SamLab.ws</cp:lastModifiedBy>
  <dcterms:modified xsi:type="dcterms:W3CDTF">2012-01-12T01:24:53Z</dcterms:modified>
  <cp:revision>4</cp:revision>
  <dc:subject/>
  <dc:title>Слайд 1</dc:title>
</cp:coreProperties>
</file>