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41E-8D66-447D-8ACD-C66D0CD3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839-4938-4787-86DC-2FB969AB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851-F12F-4D35-9828-4A51272C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3A9-8076-401B-97C7-7F151444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559C-6C45-4010-812A-F431FC15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AB48-0174-4ECF-8F37-92B2B193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080-E942-429A-A854-BDCFD8C8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A630-8D12-4EB0-9069-E1D3F8D7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757C-1193-44B0-8A7D-139B7714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6FE0-D282-42F8-8B7B-A287B35F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437E-E9F9-4DE6-B9AA-C2463F7B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AF4-FAEA-45DE-9548-E20A068D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32A2-3B7B-4397-85E7-BDFD4C23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A56F-352D-4F9B-B899-1A6A2574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C2FC-59F9-4577-84FE-588CE7EC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38AA-26B9-4F1E-B59F-B0DD3135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F5B1-986C-4525-8295-04C28E03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79CC-8D83-4ECC-9059-F5FF0735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F00EB-72CC-49D7-88C3-02237CE4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A8C8-DACB-47A0-A3B2-96122404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2903-76CC-4069-A566-5860A579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2613-CD11-425C-9BA4-013447CD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E1C-EEEE-4BAA-97CC-5E2C467F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A138-E360-4D3F-8F1F-109B35D4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B30A-FF18-4245-A26C-539F7084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970E-ADB4-4F34-ACB6-24F8AD4A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60CA-F174-490A-81AB-745428D3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5E50-F949-4473-AF70-B0FC7CB6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D85E-655F-4024-8986-00F0F8A0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84A6-5C1C-486F-83F2-384E6955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1158-AB34-4FCD-B531-A35CA477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7486-BF70-487C-AA3A-4F30FF7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43EB0-1A34-4287-89D3-05ABDE93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809-ADC3-4048-B173-C261B83B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DD83F-C1CC-40B7-9B2D-9F0ECE26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C057-95CC-427F-83C2-27CAD391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741B-D6EF-43B4-AB1B-21C676BA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26C9F-0B8A-49D0-A0B3-A86E5DC9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B48CC-FA51-4010-A2A1-20E1678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932A-7F84-4FD8-AA55-AC48BF14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207B-3280-45F6-AE75-B8A82D75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1E3A0-6FD9-4457-AC1F-21614855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1451-F6CC-483C-B959-8F4BDFD6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16F-D557-4E3C-B123-1F5431F4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542-88A0-4852-82E8-38976D9C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232-2C99-479B-B4C3-57980263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156-595A-4C11-8D6E-5A0ADB28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457-B2D6-4CB6-958F-ADAFD84E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C208-4B4E-45D2-B05B-51ADAAE02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7875-72F2-4D7C-8C20-B16DDF23B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42A1-ED6A-4617-BD0E-E23BE665CE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C5C7-15E9-43E8-864D-F175109780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280" y="475920"/>
            <a:ext cx="6409080" cy="1366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ползни, сели, обвалы, лави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264360" cy="44402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Сели образуются в го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ичины 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1197000"/>
          <a:ext cx="8218440" cy="546084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еправильна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вержение вулкан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вода и пепе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тественное разрушение го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10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Обвал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трыв и катастрофическое падение больших масс горных пород, их дробление  и скатывание на крутых горных скло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924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овидности обва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мнепа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Обвалы гру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Обрушение лед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чины обва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В основном антропогенные (до 80 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правильное проведение работ при строительстве и горных разработках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Природные прич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ильные дожд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977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61722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Лавина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быстрое, внезапно возникающее движение снега и (или) льда вниз по крутым склонам гор, представляющее угрозу жизни и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924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зникают в г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ход лавины сопровождается  образованием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здушной предударной волн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изводящей наибольшие разру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акторы, влияющие на возникновение л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Много сне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Склон, угол наклона которого превышает 14 градусов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если угол склона 30 – 40 градусов, то лавина неизбежна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Наличие открытого склона длиной 100 – 500 ме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6048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950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щее условие возникновения этих опасных природных явл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Начало смещения грунта, скальных пород или снега вниз по ск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рритории нашей страны, где часто происходят оползни, сели, обвалы, лавин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Северный Кавказ, Урал, Саяны, Приморье, Камчатка, Сахал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869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681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Еще в прошлом веке в Альпах людей, засыпанных снегом, помогали обнаруживать большие сильные собак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енбернары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 названные так в честь высокогорного монастыря Святого Бернара, где их разводили. Близ Парижа на специальном собачьем кладбище установлен памятник сенбернару Барри, спасшему 40 человек. Эти добродушные крупные собаки отыскали в горах более 2000 человек. Сейчас на смену сенбернарам пришл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восточноевропейские овчарк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30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Оползен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мещение масс горных пород по склону под воздействием  собственного тела и дополнительной нагрузки вследствие подмыва склона, переувлажнения, сейсмических толчков и иных проце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ичины ополз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836640"/>
          <a:ext cx="8424720" cy="5761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увлажнение почв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ожди, наводнения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Вода – «смазка» между пластами горных пор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контролируемая распашка  и полив земельных участков на склон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192720" cy="6193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6360" cy="57596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632720" cy="5724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1912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Сель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(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сайль – «бурный поток»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орный поток, состоящий из смеси воды, грязи, камней (бывают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в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19:16Z</dcterms:created>
  <dc:creator>жилин олег юрьевич</dc:creator>
  <dc:description/>
  <dc:language>en-US</dc:language>
  <cp:lastModifiedBy>жилин олег юрьевич</cp:lastModifiedBy>
  <dcterms:modified xsi:type="dcterms:W3CDTF">2010-10-17T19:51:30Z</dcterms:modified>
  <cp:revision>2</cp:revision>
  <dc:subject/>
  <dc:title>Слайд 1</dc:title>
</cp:coreProperties>
</file>