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F07-3101-428A-8C52-BFA7C6C6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C46-01D9-411A-8786-F795430B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E2F-52E6-4DE5-AD55-7834A3CD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94A-09A7-43FE-95E1-E80CCA31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829E-CC2C-4B4D-BB34-B999F728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7D3C-E872-4F70-9A08-1074E480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C5AB-2D75-4823-AA0D-C0B5A435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8001-8A53-4570-AAC7-BAC50C7B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8CAB-D2D4-4923-866C-02B16AB9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EBA0-0518-41CB-8731-173DC8CC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DF69-B894-499C-972A-52BEC77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C51-1C87-4228-AABC-5C6F4B82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76FB-8300-4D7D-BFC1-E6B1D5A2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E7FC-5593-49CA-A453-43B8D8AD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E77D-9ABF-4894-B87A-AA6B692B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965A-D470-44A3-A481-0D988B59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5CF6-FE4B-4835-A0F5-20F1F853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F2F0-23C3-4DE1-92EE-7204B26A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23922-FDBD-4B09-9F07-42C94E76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A007-09DB-47FF-ACD8-6D5E71EE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4A60-A441-48A7-ACEE-5DC7A08F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C877-1415-416E-B962-27D17049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7E2-944E-4423-9237-3BA61329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A752-3D4C-4020-8E8C-CABB9E5E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16ED2-E478-4086-9F23-46EB5B7F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5585-2756-4A1D-A774-97A65D5B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04FA2-3676-48D4-8513-DD23F8B9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B04A-FE62-4C61-9D47-301B5607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0750-6D7A-4EE9-8B51-A544A4C8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9372B-35C5-462A-A756-D4BEDF76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8C145-1D15-4496-8951-0C1AD586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A3ECF-DAB4-41A2-B041-08A5AC52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05E59-1E3C-45A7-BD5D-20912A6F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387-653F-449F-9616-E3FBBACE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FB00-66A8-46A4-BA0A-E74BD596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97CC4-5913-43A1-BA8A-D5F7129B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954E0-EE4D-402E-8E29-A27B450A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F8556-2578-4AF5-8939-1D927065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A411A-F4C0-4DD4-A356-9F55FBB2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4263A-2F76-4CDE-A26B-FADABF54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F86B0-322C-45FE-885A-7B9B001E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3D5F1-44AB-4A55-9DBE-7B82604B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1556F-7259-407E-9DFB-A1227F75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3CF-958F-46ED-9BC2-982E00DD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938-F7B0-4752-BBC1-8003FCA7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BFE-E837-4E8F-82EE-D4F69518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102-7C29-424D-9D65-F06D2D04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1BC-D948-49FD-B187-49003BFB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A1A0-59AB-48D7-A5B9-31C1B69C7B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24F4-2DAA-488C-A33E-7EF7ED514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2328-A879-4BAA-89E3-AF383E6BE3E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7BF5-ABBF-4B12-B476-37DBB3AB100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280" y="475920"/>
            <a:ext cx="6409080" cy="13669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ползни, сели, обвалы, лавин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6264360" cy="44402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4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Сели образуются в гор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ричины с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1197000"/>
          <a:ext cx="8218440" cy="546084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Природ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Антропоген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вязанные с деятельностью человека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етрясе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кладка доро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неправильна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вержение вулкан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вода и пепе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рубка лесов и кустарни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тественное разрушение го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рывные работы вблизи оползневых участ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10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Обвал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трыв и катастрофическое падение больших масс горных пород, их дробление  и скатывание на крутых горных скло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92428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овидности обва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мнепа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Обвалы гру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Обрушение лед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чины обва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В основном антропогенные (до 80 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правильное проведение работ при строительстве и горных разработках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Природные прич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ильные дожд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7800" cy="5977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61722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Лавина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быстрое, внезапно возникающее движение снега и (или) льда вниз по крутым склонам гор, представляющее угрозу жизни и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92428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озникают в го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ход лавины сопровождается  образованием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здушной предударной волн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оизводящей наибольшие разру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Факторы, влияющие на возникновение лав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Много сне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Склон, угол наклона которого превышает 14 градусов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если угол склона 30 – 40 градусов, то лавина неизбежна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Наличие открытого склона длиной 100 – 500 мет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6048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848720" cy="5950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щее условие возникновения этих опасных природных явле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Начало смещения грунта, скальных пород или снега вниз по скл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ерритории нашей страны, где часто происходят оползни, сели, обвалы, лавин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Северный Кавказ, Урал, Саяны, Приморье, Камчатка, Сахал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5869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681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Еще в прошлом веке в Альпах людей, засыпанных снегом, помогали обнаруживать большие сильные собаки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енбернары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, названные так в честь высокогорного монастыря Святого Бернара, где их разводили. Близ Парижа на специальном собачьем кладбище установлен памятник сенбернару Барри, спасшему 40 человек. Эти добродушные крупные собаки отыскали в горах более 2000 человек. Сейчас на смену сенбернарам пришли </a:t>
            </a: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восточноевропейские овчарки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30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Оползен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смещение масс горных пород по склону под воздействием  собственного тела и дополнительной нагрузки вследствие подмыва склона, переувлажнения, сейсмических толчков и иных процес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Причины оползн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836640"/>
          <a:ext cx="8424720" cy="576108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Природ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Антропогенные фактор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вязанные с деятельностью человека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етрясени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кладка доро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увлажнение почв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ожди, наводнения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Вода – «смазка» между пластами горных пор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рубка лесов и кустарни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зрывные работы вблизи оползневых участк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контролируемая распашка  и полив земельных участков на склон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192720" cy="61930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6360" cy="57596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632720" cy="5724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619128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30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Сель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(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сайль – «бурный поток»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орный поток, состоящий из смеси воды, грязи, камней (бывают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язев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аменн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грязекаменные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8:19:16Z</dcterms:created>
  <dc:creator>жилин олег юрьевич</dc:creator>
  <dc:description/>
  <dc:language>en-US</dc:language>
  <cp:lastModifiedBy>жилин олег юрьевич</cp:lastModifiedBy>
  <dcterms:modified xsi:type="dcterms:W3CDTF">2010-10-17T19:51:30Z</dcterms:modified>
  <cp:revision>2</cp:revision>
  <dc:subject/>
  <dc:title>Слайд 1</dc:title>
</cp:coreProperties>
</file>