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04F4-03F1-42C2-A4A0-2194F1B4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63B-3DF4-4A4C-8858-FB2958AD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8F4E-FD0F-49BC-86D6-C7C192F8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28E-E8A8-4A82-814F-4C069412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4117-7949-4949-83AB-E6748AE3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600A-D8AD-4C1C-AF64-FD244EC1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DA96-042C-49CD-BD57-FC4A262E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EFB3-2E43-4545-B127-BDD066E0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D293-AFBC-46DD-B61C-FD26D40A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63B4-4122-4C75-AA2E-B2D2A6DA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F836-5911-44FE-BD19-FC7F02D5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468-C682-4D28-954B-BDA2FEA9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628B-E1B7-4240-85EF-6C6CDE44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8969-1FBF-4D10-9866-F0B7B08B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3DC4-52EF-4CD9-8328-6E3442E0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A050-0DD0-46E7-B3DF-B7D35994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1524-D988-47F1-9416-A0012BC1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BFCAA-6B44-4AB2-B93E-E6329E7E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69B08-A6E3-425B-90CD-BE908409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C47F4-13DF-465B-B454-D4C48DB5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8E4B0-E25A-448F-B9DE-7AEE0F0B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BC8AC-A398-4FFF-B5D8-86A948A7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491-883F-41CC-A37F-A2231BBE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FCAC8-29F1-43DF-9C9C-E98D739F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C7990-2897-4ABB-87FA-DEA53725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F19B7-1A4B-46F0-9869-0E59D4C0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FDD66-5B58-4B8D-A290-6C60A196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5CB73-AF19-46B1-95DC-FA119FEE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5A8DA-ABAB-4C56-AA58-A6D9C683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26A64-037B-4B5C-A6CB-E6F5B706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F710F-6F23-4C92-8C2D-9101E53E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2EEEF-57CC-40AE-BD90-D5B68060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9A22B-5E0D-4A93-BDC1-BE9C1318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740-9893-49F1-8DF9-B9A7C86F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37307-3AB0-4BBC-B630-8F74A171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23545-B602-48D6-8211-DD3AA1A1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A0DE9-F842-4A92-A6E8-4D1F53CC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E2614-89A3-4D32-975F-DC4CE5C4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AD381-CAEE-42F3-A1AF-0C8B02F0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D680C-97AE-4599-BEDD-2290C23A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0A3FD-DD26-4CD1-AFF4-C199113B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8A2D1-E1EF-4339-9050-F080B040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88767-0747-49DF-B51D-C3C96588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EB1-861D-41C6-B3C6-D96AA925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ACA-51F9-476F-AF93-DC50B363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365-4784-40B8-9697-ED6AB0D1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60E-07D3-4DDA-9961-5777A541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124-A9D9-4AFD-B120-F3722F92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1DFE-9F87-45A4-92B6-1D53CB603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102D-161D-4219-86E9-F49B1172C0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C62A-29D3-49A0-8A30-2129B271F14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AE6A-57C4-40D3-B0DA-238ABA0F5EB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547280" y="475920"/>
            <a:ext cx="6409080" cy="13669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Оползни, сели, обвалы, лавин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6264360" cy="44402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4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Сели образуются в гор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Причины с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1197000"/>
          <a:ext cx="8218440" cy="546084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162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Природные фактор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Антропогенные фактор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связанные с деятельностью человека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етрясе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кладка доро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неправильна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вержение вулкан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вода и пепе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рубка лесов и кустарни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7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тественное разрушение го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зрывные работы вблизи оползневых участ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1016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230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Times New Roman"/>
              </a:rPr>
              <a:t>Обвал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отрыв и катастрофическое падение больших масс горных пород, их дробление  и скатывание на крутых горных склон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92428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новидности обвал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Камнепа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Обвалы гру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Обрушение лед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ичины обва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В основном антропогенные (до 80 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правильное проведение работ при строительстве и горных разработках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Природные прич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ильные дожд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7800" cy="59770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6985080" cy="617220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230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Times New Roman"/>
              </a:rPr>
              <a:t>Лавина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быстрое, внезапно возникающее движение снега и (или) льда вниз по крутым склонам гор, представляющее угрозу жизни и деятельности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292428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Возникают в гор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ход лавины сопровождается  образованием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оздушной предударной волн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изводящей наибольшие разру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Факторы, влияющие на возникновение л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Много сне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Склон, угол наклона которого превышает 14 градусов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если угол склона 30 – 40 градусов, то лавина неизбежна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Наличие открытого склона длиной 100 – 500 мет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201080" cy="60487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848720" cy="59500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бщее условие возникновения этих опасных природных явлен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Начало смещения грунта, скальных пород или снега вниз по скло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ерритории нашей страны, где часто происходят оползни, сели, обвалы, лавин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Северный Кавказ, Урал, Саяны, Приморье, Камчатка, Сахал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769440" cy="58690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6814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Еще в прошлом веке в Альпах людей, засыпанных снегом, помогали обнаруживать большие сильные собаки </a:t>
            </a: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сенбернары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, названные так в честь высокогорного монастыря Святого Бернара, где их разводили. Близ Парижа на специальном собачьем кладбище установлен памятник сенбернару Барри, спасшему 40 человек. Эти добродушные крупные собаки отыскали в горах более 2000 человек. Сейчас на смену сенбернарам пришли </a:t>
            </a: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восточноевропейские овчарки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3095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Оползен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смещение масс горных пород по склону под воздействием  собственного тела и дополнительной нагрузки вследствие подмыва склона, переувлажнения, сейсмических толчков и иных процес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497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Причины оползн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4000" y="836640"/>
          <a:ext cx="8424720" cy="576108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Природные фактор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Антропогенные фактор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связанные с деятельностью человека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етрясени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кладка доро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увлажнение почв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дожди, наводнения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Вода – «смазка» между пластами горных поро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рубка лесов и кустарни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зрывные работы вблизи оползневых участ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контролируемая распашка  и полив земельных участков на склон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6192720" cy="61930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6360" cy="575964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632720" cy="57247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85080" cy="61912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230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00"/>
                </a:solidFill>
                <a:uFillTx/>
                <a:latin typeface="Times New Roman"/>
              </a:rPr>
              <a:t>Сель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 (</a:t>
            </a: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сайль – «бурный поток»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орный поток, состоящий из смеси воды, грязи, камней (бывают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грязевые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аменные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грязекаменные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8:19:16Z</dcterms:created>
  <dc:creator>жилин олег юрьевич</dc:creator>
  <dc:description/>
  <dc:language>en-US</dc:language>
  <cp:lastModifiedBy>жилин олег юрьевич</cp:lastModifiedBy>
  <dcterms:modified xsi:type="dcterms:W3CDTF">2010-10-17T19:51:30Z</dcterms:modified>
  <cp:revision>2</cp:revision>
  <dc:subject/>
  <dc:title>Слайд 1</dc:title>
</cp:coreProperties>
</file>