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90C-2B09-4F8D-9498-093AB2B1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030-6655-4075-BE8A-E1CCBBA2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5E3-A798-4CEE-8FAE-07FACD07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6D0-FADE-46FA-B018-2B37E6C7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9B9E-3CB1-4A34-9F73-721CDA5F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917C-D34A-4F97-8646-F170D05B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E0D3-ECE9-4D3A-86A9-2AFFDD34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B67C-8868-410F-9DBA-02D0BAAC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2B98-2C42-40F2-8E62-D8519489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BB8D-813D-4F67-A98B-096879EA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02CA-C640-487B-882E-A8434116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ACD-4B4A-4F17-A2F2-49FD4293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30CE-85B6-4566-8429-79460BE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5FEC-110E-42B7-856B-5874050B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9E03-9796-4BF7-921F-536A0EC2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627C-BFF4-493B-9159-2173347E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AA97-C352-4424-A63B-891C8D01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2BE-01ED-41D2-8A8C-C672322E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A03-EAF8-4EC1-8985-1ACC72C4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63B-85C5-46B1-99BA-5A3F00AF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F6A-46A5-4742-96CB-648A11A8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E5A-614F-4D48-8AE4-60D644BA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104-1415-4A08-B821-BA83C158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88A-91DB-4EFB-9DD3-9CA782B9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53BC-BE94-4898-8CA6-7D5749715D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C7CD-0158-47A9-9E26-CB35D1DAF5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5 класс ОБЖ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рок   12.  Обеспечение личной безопасности на улице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496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прикасаться к бесхозным веща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пытаться самостоятельно обезвредить взрывное устрой­ств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общить о находке должностному лицу (в метро — машинисту поезда, в автобусе — водителю и т. д.) или работнику мили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бщие правила безопасного поведения в общественном мест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казавшись в месте проведения массового мероприятия, не стремитесь попасть в наиболее плотное скопление людей на ограниченном пространств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вы столкнулись с плохой организацией проведения массового мероприятия, теснотой в проходах, нарушением пра­вил пожарной безопасности и общественного порядка, лучше заранее покинуть данное мероприят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и ни при каких обстоятельствах не вступайте в перебранку в общественном месте. Если к вам пристанет подвыпивший человек, лучше уступите ему место и найдите друго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общие правила безопасного поведения в толп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сегда помните: лучшее правило безопасности — не попадать в толпу, а обойти е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заключение необходимо подчеркнуть, что правила обеспечения личной безопасности на улице должны постоянно корректироваться с учетом изменяющейся обстановки, а уметь делать это должен каждый человек са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Контрольные вопросы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кие места на улицах вашего города можно считать наиболее опасными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кой маршрут следования в школу и обратно вы счи­таете наиболее безопасным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кие меры безопасности необходимо соблюдать при посещении общественных мест (стадиона, кинотеатра, музея)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зучите § 5.3 учебни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дневнике безопасности сделайте пометки по безопасному поведению при следовании в школу, в магазин, в гости к товарищ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сле изучения темы 4 провести беседу на тему «Обеспечение личной безопасности на улицах нашего города с учетом криминогенной обстановки в нем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аиболее опасные места (пустырь, лесопарк, строительная площадка, задний двор), где встреча со злоумышленниками наиболее вероятна. Этих мест необходимо избега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пасными могут быть также места с большим скоплением людей. Это рынки, вокза­лы, стадионы, остановки транспортных средств, здесь можно встретиться с ворами и мошенникам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равила по безопасному поведению на улице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ледует избегать кратчайших маршрутов, пролегающих через глухие дворы, пустыри, стройки, лесопосадки и другие малолюдные мест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обходимо хорошо знать дорогу домой, иметь несколько вариантов движ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вы оказались в безлюдном темном квартале, идите посередине улиц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обходимо знать, где на вашем пути находится ближайшее отделение мили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вам необходимо возвращаться домой в темное время суток, позвоните домой, чтобы вас встретил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темное время лучше идти по улице в группе людей, вышедших из автобуса, метро, электрич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дти по подземному переходу лучше в группе люд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дти безопаснее по краю тротуара, навстречу движе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видев впереди группу подозрительных людей или пьяного, лучше перейти на другую сторону улицы или изменить маршру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кто-то пытается с вами заговорить, не ввязывайтесь в разговор. Сделайте вид, что спешите, и идите в направлении освещенного и многолюдного мес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автомобиль начнет медленно двигаться рядом с вами, разумнее перейти на другую сторон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Чтобы чувствовать себя уверенно, необходимо: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учиться прогнозировать собы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араться избегать опасных ситуаций, если есть возможность убежать, делать это быстро и внезапно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своить несколько приемов самообороны и в случае необходимости быть готовым защищать себя всеми доступными сред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озможность наткнуться на улице на взрывное устройство. Для того чтобы не стать жертвой взрыва, необходимо знать ряд признаков взрывных устройств. Взрывное устройство может быть в банке из-под пива, в пачке сигарет, игрушке, в ящике, в свертке и т.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этому для обеспечения личной безопасности рекомендуетс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3:07:26Z</dcterms:created>
  <dc:creator>54</dc:creator>
  <dc:description/>
  <dc:language>en-US</dc:language>
  <cp:lastModifiedBy>54</cp:lastModifiedBy>
  <dcterms:modified xsi:type="dcterms:W3CDTF">2012-01-14T13:18:24Z</dcterms:modified>
  <cp:revision>2</cp:revision>
  <dc:subject/>
  <dc:title>Урок   12.  Обеспечение личной безопасности на улице </dc:title>
</cp:coreProperties>
</file>