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654-7D00-4B0B-BF5F-A5CD557A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5B8-A030-441F-8AB4-332F3617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715-4818-43FC-9F65-A1CCEA39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0B6-FDBD-4C2A-94A8-EDD934DA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D92B-CD9A-4816-9626-B8EB10D4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D248-2188-49CB-9779-F0B6B82A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14E0-2A1B-4931-AEEE-64BB4A7F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223F-CA1C-4CB9-953A-B0DFBC4D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B4A1-98A3-4908-9FD9-EE982B3C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9902-D89A-4298-81C0-45E2C7E4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E04F-6A6F-44AA-A297-B63C0825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A2D-A8D4-49C1-84B7-4ED0A0E0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0516-DFEF-4810-A025-7A3BE8B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67DB-57FA-45A2-998F-519C942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6ACF-0787-4EE9-9C55-52931980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D424-F6D1-49DE-917E-9E6F7484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A74B-D752-44EB-8187-45CC6C21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0BA-2926-422B-817F-518820E4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7B6-6823-4002-90CC-B2C8B32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122-4333-41C2-9BA8-5611A46A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AC1-1929-4536-8CED-A9DD8328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F6C-8884-4984-B542-519560EC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1D7-EAEB-44F3-B0E5-C44DE53E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F2A-BBC4-4263-B245-A974B368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90EC-6137-438F-93B6-DB405CDA18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3E2-C0E0-44B7-AE9D-84F0FCD876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 класс ОБЖ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рок   12.  Обеспечение личной безопасности на улице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496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прикасаться к бесхозным веща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пытаться самостоятельно обезвредить взрывное устрой­ств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общить о находке должностному лицу (в метро — машинисту поезда, в автобусе — водителю и т. д.) или работнику мили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бщие правила безопасного поведения в общественном мест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казавшись в месте проведения массового мероприятия, не стремитесь попасть в наиболее плотное скопление людей на ограниченном пространств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вы столкнулись с плохой организацией проведения массового мероприятия, теснотой в проходах, нарушением пра­вил пожарной безопасности и общественного порядка, лучше заранее покинуть данное мероприят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и ни при каких обстоятельствах не вступайте в перебранку в общественном месте. Если к вам пристанет подвыпивший человек, лучше уступите ему место и найдите друго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общие правила безопасного поведения в толп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сегда помните: лучшее правило безопасности — не попадать в толпу, а обойти е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заключение необходимо подчеркнуть, что правила обеспечения личной безопасности на улице должны постоянно корректироваться с учетом изменяющейся обстановки, а уметь делать это должен каждый человек са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Контрольные вопросы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кие места на улицах вашего города можно считать наиболее опасными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кой маршрут следования в школу и обратно вы счи­таете наиболее безопасным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кие меры безопасности необходимо соблюдать при посещении общественных мест (стадиона, кинотеатра, музея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зучите § 5.3 учебни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дневнике безопасности сделайте пометки по безопасному поведению при следовании в школу, в магазин, в гости к товарищ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сле изучения темы 4 провести беседу на тему «Обеспечение личной безопасности на улицах нашего города с учетом криминогенной обстановки в нем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аиболее опасные места (пустырь, лесопарк, строительная площадка, задний двор), где встреча со злоумышленниками наиболее вероятна. Этих мест необходимо избега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пасными могут быть также места с большим скоплением людей. Это рынки, вокза­лы, стадионы, остановки транспортных средств, здесь можно встретиться с ворами и мошенникам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авила по безопасному поведению на улиц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ледует избегать кратчайших маршрутов, пролегающих через глухие дворы, пустыри, стройки, лесопосадки и другие малолюдные мес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обходимо хорошо знать дорогу домой, иметь несколько вариантов движ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вы оказались в безлюдном темном квартале, идите посередине улиц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обходимо знать, где на вашем пути находится ближайшее отделение мили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вам необходимо возвращаться домой в темное время суток, позвоните домой, чтобы вас встрети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темное время лучше идти по улице в группе людей, вышедших из автобуса, метро, электрич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дти по подземному переходу лучше в группе люд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дти безопаснее по краю тротуара, навстречу движе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видев впереди группу подозрительных людей или пьяного, лучше перейти на другую сторону улицы или изменить маршру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кто-то пытается с вами заговорить, не ввязывайтесь в разговор. Сделайте вид, что спешите, и идите в направлении освещенного и многолюдного мес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автомобиль начнет медленно двигаться рядом с вами, разумнее перейти на другую сторон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Чтобы чувствовать себя уверенно, необходимо: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учиться прогнозировать собы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араться избегать опасных ситуаций, если есть возможность убежать, делать это быстро и внезапно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своить несколько приемов самообороны и в случае необходимости быть готовым защищать себя всеми доступными сред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озможность наткнуться на улице на взрывное устройство. Для того чтобы не стать жертвой взрыва, необходимо знать ряд признаков взрывных устройств. Взрывное устройство может быть в банке из-под пива, в пачке сигарет, игрушке, в ящике, в свертке и т.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этому для обеспечения личной безопасности рекомендуетс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3:07:26Z</dcterms:created>
  <dc:creator>54</dc:creator>
  <dc:description/>
  <dc:language>en-US</dc:language>
  <cp:lastModifiedBy>54</cp:lastModifiedBy>
  <dcterms:modified xsi:type="dcterms:W3CDTF">2012-01-14T13:18:24Z</dcterms:modified>
  <cp:revision>2</cp:revision>
  <dc:subject/>
  <dc:title>Урок   12.  Обеспечение личной безопасности на улице </dc:title>
</cp:coreProperties>
</file>