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660-1872-4B30-B8DA-92935207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339-D372-468E-AACD-5627CB14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4FB-19D2-4E17-B9FA-68451D1D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571-7573-4F13-8DD1-EDB186FD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976F-1A21-470B-A090-28BA562C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107B-E447-4638-8D4D-2E89D058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D9A-F3EB-4DCA-9F65-49F1A87B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9FB-AEF8-469C-8239-22BB370B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9C22-0B5B-41B6-83E2-629410E8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FD1D-EFD7-422E-8303-02414FD5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4C64-EC69-4DD1-932E-669D945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14E-3454-4CCE-900A-138AAAB3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9488-4D47-4F0D-A2C4-042C0EA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70EF-4F64-44A4-B5FB-4AF8485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86AB-B8D8-4694-9AA8-3E40E58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9AA3-2AA2-44B1-A332-B6DDDC5D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19A7-6AC5-44AE-9DCF-87B09811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676-86A3-4D56-BB9E-4702324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D6C-5244-4029-AF6D-CEBACD71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927-6B10-4D5D-A315-63E5DD34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D78-4B31-40A0-90D2-7F6FCF3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E56-EE24-4B91-8FBF-18132021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86F-23FA-42A2-A2EC-E66CCDC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DFF-19E3-4E0E-BF5C-6BE0E2A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0FFD-0504-4C5A-983C-BB10CBCEAB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0122-2D02-4626-AC32-BB7FBCD859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 класс ОБЖ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рок   12.  Обеспечение личной безопасности на улице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496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прикасаться к бесхозным веща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пытаться самостоятельно обезвредить взрывное устрой­ств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общить о находке должностному лицу (в метро — машинисту поезда, в автобусе — водителю и т. д.) или работнику мили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бщие правила безопасного поведения в общественном мес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казавшись в месте проведения массового мероприятия, не стремитесь попасть в наиболее плотное скопление людей на ограниченном пространств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ы столкнулись с плохой организацией проведения массового мероприятия, теснотой в проходах, нарушением пра­вил пожарной безопасности и общественного порядка, лучше заранее покинуть данное мероприят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и ни при каких обстоятельствах не вступайте в перебранку в общественном месте. Если к вам пристанет подвыпивший человек, лучше уступите ему место и найдите друго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бщие правила безопасного поведения в толп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сегда помните: лучшее правило безопасности — не попадать в толпу, а обойти е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заключение необходимо подчеркнуть, что правила обеспечения личной безопасности на улице должны постоянно корректироваться с учетом изменяющейся обстановки, а уметь делать это должен каждый человек са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онтрольные вопросы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ие места на улицах вашего города можно считать наиболее опасными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ой маршрут следования в школу и обратно вы счи­таете наиболее безопасным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ие меры безопасности необходимо соблюдать при посещении общественных мест (стадиона, кинотеатра, музея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учите § 5.3 учебни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дневнике безопасности сделайте пометки по безопасному поведению при следовании в школу, в магазин, в гости к товарищ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сле изучения темы 4 провести беседу на тему «Обеспечение личной безопасности на улицах нашего города с учетом криминогенной обстановки в нем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иболее опасные места (пустырь, лесопарк, строительная площадка, задний двор), где встреча со злоумышленниками наиболее вероятна. Этих мест необходимо избега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пасными могут быть также места с большим скоплением людей. Это рынки, вокза­лы, стадионы, остановки транспортных средств, здесь можно встретиться с ворами и мошенникам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авила по безопасному поведению на улиц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ледует избегать кратчайших маршрутов, пролегающих через глухие дворы, пустыри, стройки, лесопосадки и другие малолюдные мес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обходимо хорошо знать дорогу домой, иметь несколько вариантов движ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ы оказались в безлюдном темном квартале, идите посередине улиц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обходимо знать, где на вашем пути находится ближайшее отделение мили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ам необходимо возвращаться домой в темное время суток, позвоните домой, чтобы вас встрети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темное время лучше идти по улице в группе людей, вышедших из автобуса, метро, электрич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дти по подземному переходу лучше в группе люд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дти безопаснее по краю тротуара, навстречу движе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видев впереди группу подозрительных людей или пьяного, лучше перейти на другую сторону улицы или изменить маршру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кто-то пытается с вами заговорить, не ввязывайтесь в разговор. Сделайте вид, что спешите, и идите в направлении освещенного и многолюдного мес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автомобиль начнет медленно двигаться рядом с вами, разумнее перейти на другую сторон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Чтобы чувствовать себя уверенно, необходимо: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учиться прогнозировать собы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араться избегать опасных ситуаций, если есть возможность убежать, делать это быстро и внезапно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своить несколько приемов самообороны и в случае необходимости быть готовым защищать себя всеми доступными сред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зможность наткнуться на улице на взрывное устройство. Для того чтобы не стать жертвой взрыва, необходимо знать ряд признаков взрывных устройств. Взрывное устройство может быть в банке из-под пива, в пачке сигарет, игрушке, в ящике, в свертке и т.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этому для обеспечения личной безопасности рекомендуетс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3:07:26Z</dcterms:created>
  <dc:creator>54</dc:creator>
  <dc:description/>
  <dc:language>en-US</dc:language>
  <cp:lastModifiedBy>54</cp:lastModifiedBy>
  <dcterms:modified xsi:type="dcterms:W3CDTF">2012-01-14T13:18:24Z</dcterms:modified>
  <cp:revision>2</cp:revision>
  <dc:subject/>
  <dc:title>Урок   12.  Обеспечение личной безопасности на улице </dc:title>
</cp:coreProperties>
</file>