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6.gif" ContentType="image/gif"/>
  <Override PartName="/ppt/media/image15.jpeg" ContentType="image/jpeg"/>
  <Override PartName="/ppt/media/image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43.png" ContentType="image/png"/>
  <Override PartName="/ppt/media/image44.jpeg" ContentType="image/jpeg"/>
  <Override PartName="/ppt/media/image8.gif" ContentType="image/gif"/>
  <Override PartName="/ppt/media/image18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4A7-A83F-4E1D-BB67-E7B968C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895-B860-44C8-865E-C40E4A6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B60-FA3F-4448-AC16-3A6C3D2D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D99-7990-44CC-9BDB-265E8B86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5AB-D5EE-4691-8F73-5AD694E0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4E9-F3C5-4C69-B6A8-E6F4286D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0FD-B78A-454E-8A94-8C5E16A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BC1-D11C-4199-A074-6395AF1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281-5DC2-4098-B1AC-87530CDC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05D-8E6C-4A37-B174-850841C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C8B-0BF7-46B9-9075-71802D8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2C3-8ED4-4242-B6C9-204E7E2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C95D-7ACE-4E78-9E05-99080F9E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stvie.com/text/760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Фабрика ёлочных игруш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Ёлочные игрушки на фабрике «Иней» делаются вручную. Это очень трудоёмкая и тяжёлая работа, но в то же время необычайно увлекательная. Даже в создание простенького новогоднего шарика или фигурки нужно вложить много сил. Но обо всём по поряд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80"/>
                </a:solidFill>
                <a:latin typeface="Monotype Corsiva"/>
              </a:rPr>
              <a:t>Метал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00080"/>
                </a:solidFill>
                <a:latin typeface="Monotype Corsiva"/>
              </a:rPr>
              <a:t>А мы переходим в следующий цех, где игрушки приобретают металлический блес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единственный автоматизированный процесс на всем производстве. В специальной машине игрушки покрываются алюминием, благодаря чему новогодние шарики приобретают зеркальный бле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Блестящий елочный шар"/>
          <p:cNvPicPr/>
          <p:nvPr/>
        </p:nvPicPr>
        <p:blipFill>
          <a:blip r:embed="rId2"/>
          <a:stretch/>
        </p:blipFill>
        <p:spPr>
          <a:xfrm>
            <a:off x="4879800" y="1600200"/>
            <a:ext cx="3575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еклянные заготовки вставляют «хвостиками» в специальные труб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дготовка к метализации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эти трубочки ставятся в машину для метал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как вы думаете, зачем в машине чаше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Машина для металлизации елочных игрушек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Чашечки для ёлочных игрушек"/>
          <p:cNvPicPr/>
          <p:nvPr/>
        </p:nvPicPr>
        <p:blipFill>
          <a:blip r:embed="rId2"/>
          <a:stretch/>
        </p:blipFill>
        <p:spPr>
          <a:xfrm>
            <a:off x="468360" y="26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259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и чашечки нужны для того, чтобы ёлочные шарики приобрели металлический блеск только наполовину, а с другой стороны остались прозрачными. Из таких заготовок можно сделать, например, шар-аквариум: внутри шарика – водоросли из зелёного дождика и блестящие ры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Шары-аквариумы"/>
          <p:cNvPicPr/>
          <p:nvPr/>
        </p:nvPicPr>
        <p:blipFill>
          <a:blip r:embed="rId3"/>
          <a:stretch/>
        </p:blipFill>
        <p:spPr>
          <a:xfrm>
            <a:off x="1258920" y="3357720"/>
            <a:ext cx="271296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Машина для метализации очень древняя, но её всячески оберегают, так как она на предприятии осталась одна. Вторая сломалас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А новое оборудование очень дорог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Как она работ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273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рху в машине крепятся алюминиевые пружинки. Внутри температура доходит до 700 градусов. Образуется пар. Алюминиевые пружинки плавятся и пары алюминия оседают на ёлочных игрушках. Машина закрывается на полтора часа и все полтора часа барабан вращается, чтобы игрушки равномерно покрылись зеркальным металлическим бле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Машина для металлизации"/>
          <p:cNvPicPr/>
          <p:nvPr/>
        </p:nvPicPr>
        <p:blipFill>
          <a:blip r:embed="rId2"/>
          <a:stretch/>
        </p:blipFill>
        <p:spPr>
          <a:xfrm>
            <a:off x="4788000" y="1484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о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этом цехе работники окунают уже металлизированные ёлочные игрушки в ведра с красками. И вот что получ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Покраска елочных игрушек"/>
          <p:cNvPicPr/>
          <p:nvPr/>
        </p:nvPicPr>
        <p:blipFill>
          <a:blip r:embed="rId2"/>
          <a:stretch/>
        </p:blipFill>
        <p:spPr>
          <a:xfrm>
            <a:off x="4500720" y="184464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сли шарик с одной стороны должен оставаться прозрачным, то его окунают в ведро с краской не полностью, а только с непрозрач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том какое-то время шарики сох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окраска ёлочных игрушек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360" y="260280"/>
            <a:ext cx="4390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тем берётся трафарет с рису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уда закладывается шарик и с помощью баллончика с краской трафарет переносится на ёлочную игрушку. На шарике получается не готовый рисунок, а только макет, который художники затем разрисов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259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вайте пройдём по цехам фабрики ёлочных игрушек, и понаблюдаем за тем, как обычные стеклянные труб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Стеклянные трубки для производства ёлочных игрушек"/>
          <p:cNvPicPr/>
          <p:nvPr/>
        </p:nvPicPr>
        <p:blipFill>
          <a:blip r:embed="rId2"/>
          <a:stretch/>
        </p:blipFill>
        <p:spPr>
          <a:xfrm>
            <a:off x="5021280" y="1484280"/>
            <a:ext cx="36669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Раскрас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100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Monotype Corsiva"/>
              </a:rPr>
              <a:t>Это самая интересная и творческая работа на всём производстве. В этом цехе игрушки разукрашивают. Вручную. И пусть по трафаретным рисункам, но всё равно среди похожих игрушек вы не найдёте совершенно одинаков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менно поэтому после прогулки по фабрике в магазине игрушек покупатели так долго и придирчиво выбирали свои шарики и фигурки. А один пацанёнок крикнул: «Мама, я выбрал, я хочу этого Деда мороза». «Что тут выбирать, они же все одинаковые», - сердилась мамаша. «Нет, смотри, он мне подмигивает, а другие –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Елочные шары с лисичками"/>
          <p:cNvPicPr/>
          <p:nvPr/>
        </p:nvPicPr>
        <p:blipFill>
          <a:blip r:embed="rId2"/>
          <a:stretch/>
        </p:blipFill>
        <p:spPr>
          <a:xfrm>
            <a:off x="250920" y="206064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л художников чем-то похож на современный офис. Но вместо компьютеров – коробки с игрушками, а вместо канцелярских принадлежностей – краски с кисточ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Здесь работают художники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раски для елочных игрушек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удра для елочных игрушек"/>
          <p:cNvPicPr/>
          <p:nvPr/>
        </p:nvPicPr>
        <p:blipFill>
          <a:blip r:embed="rId3"/>
          <a:stretch/>
        </p:blipFill>
        <p:spPr>
          <a:xfrm>
            <a:off x="468360" y="3525840"/>
            <a:ext cx="3465360" cy="2600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столах – гуашь, акриловые краски, мелкие бусинки, серебряная и золотистая пу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Художник разрисовывает елочную игрушку"/>
          <p:cNvPicPr/>
          <p:nvPr/>
        </p:nvPicPr>
        <p:blipFill>
          <a:blip r:embed="rId4"/>
          <a:stretch/>
        </p:blipFill>
        <p:spPr>
          <a:xfrm>
            <a:off x="5076720" y="4076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итоге получается вот такая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Шары с дедом морозом и снегурочкой"/>
          <p:cNvPicPr/>
          <p:nvPr/>
        </p:nvPicPr>
        <p:blipFill>
          <a:blip r:embed="rId2"/>
          <a:stretch/>
        </p:blipFill>
        <p:spPr>
          <a:xfrm>
            <a:off x="395280" y="306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Елочные фигурки"/>
          <p:cNvPicPr/>
          <p:nvPr/>
        </p:nvPicPr>
        <p:blipFill>
          <a:blip r:embed="rId3"/>
          <a:stretch/>
        </p:blipFill>
        <p:spPr>
          <a:xfrm>
            <a:off x="4643280" y="1773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60-ых –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Игрушки 60-ых – 70-ых годов "/>
          <p:cNvPicPr/>
          <p:nvPr/>
        </p:nvPicPr>
        <p:blipFill>
          <a:blip r:embed="rId2"/>
          <a:stretch/>
        </p:blipFill>
        <p:spPr>
          <a:xfrm>
            <a:off x="1332000" y="1501920"/>
            <a:ext cx="6553080" cy="490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7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Игрушки 70-ых годов "/>
          <p:cNvPicPr/>
          <p:nvPr/>
        </p:nvPicPr>
        <p:blipFill>
          <a:blip r:embed="rId2"/>
          <a:stretch/>
        </p:blipFill>
        <p:spPr>
          <a:xfrm>
            <a:off x="1258920" y="1263600"/>
            <a:ext cx="6769080" cy="50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Игрушки 80-ых го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Игрушки 80-ых годов "/>
          <p:cNvPicPr/>
          <p:nvPr/>
        </p:nvPicPr>
        <p:blipFill>
          <a:blip r:embed="rId2"/>
          <a:stretch/>
        </p:blipFill>
        <p:spPr>
          <a:xfrm>
            <a:off x="1332000" y="1328760"/>
            <a:ext cx="6408720" cy="5097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Современная игрушка "/>
          <p:cNvPicPr/>
          <p:nvPr/>
        </p:nvPicPr>
        <p:blipFill>
          <a:blip r:embed="rId2"/>
          <a:stretch/>
        </p:blipFill>
        <p:spPr>
          <a:xfrm>
            <a:off x="395280" y="155736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овременная игрушка "/>
          <p:cNvPicPr/>
          <p:nvPr/>
        </p:nvPicPr>
        <p:blipFill>
          <a:blip r:embed="rId3"/>
          <a:stretch/>
        </p:blipFill>
        <p:spPr>
          <a:xfrm>
            <a:off x="4716360" y="32130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80"/>
                </a:solidFill>
                <a:latin typeface="Monotype Corsiva"/>
              </a:rPr>
              <a:t>Современная игрушка с сельским пейзаж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Современная игрушка с сельским пейзажем "/>
          <p:cNvPicPr/>
          <p:nvPr/>
        </p:nvPicPr>
        <p:blipFill>
          <a:blip r:embed="rId2"/>
          <a:stretch/>
        </p:blipFill>
        <p:spPr>
          <a:xfrm>
            <a:off x="1547640" y="1916280"/>
            <a:ext cx="60566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евращается в разноцветные игрушки – непременный атрибут новогоднего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Новогодняя елка"/>
          <p:cNvPicPr/>
          <p:nvPr/>
        </p:nvPicPr>
        <p:blipFill>
          <a:blip r:embed="rId2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креты производства ёлочных игруш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Каждый год ассортимент на 80% обновляется. А под номером 5 всегда идёт игрушка с символом года. Весь этот год выпускался шар с символом следующего 2009 года – быком. Несмотря на то, что год быка только наступает, на фабрике ёлочных игрушек его царство заканчивается. Сразу после Нового года – в январе – в производство будет запущен шар с тигром, так как 2010-й – год тигра. А фабрика по изготовлению ёлочных игрушек целый год работает только ради одного праз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Ёлочные игрушки с символом года - быком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ЕКЛО – Руч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кая надпись с голограммой есть на каждой игрушке, которая произведена на Павло-Посадской фабрике ёлочных игрушек «Иней». Но и без надписи любую сделанную здесь игрушку легко можно отличить от пластмассовых китайских шаров, коими завалены все наши магазины. Странно, судя по тому, как народ с ажиотажем сметает с полок магазинов китайский ширпотреб, спрос на новогодние игрушки все же есть. Жаль только, что крупные магазины предлагают нам то, что обходится им дешевле и мало интересуются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теклянная игрушка, сделанная вручную –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руга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Она очень красивая и оригин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Стеклянная елочная игрушка сделана вручную"/>
          <p:cNvPicPr/>
          <p:nvPr/>
        </p:nvPicPr>
        <p:blipFill>
          <a:blip r:embed="rId2"/>
          <a:stretch/>
        </p:blipFill>
        <p:spPr>
          <a:xfrm>
            <a:off x="4932360" y="2004840"/>
            <a:ext cx="396072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ОУ Верей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Абаркина Е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 материалам экскур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 фабрику  ёлочных игрушек  «Иней» в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авловский  Пос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екстовый материал взят из ресурсов Интер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009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Monotype Corsiva"/>
              </a:rPr>
              <a:t>Проду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амая тяжёлая работа у стеклодувов. Они целыми днями сидят возле горелки, растапливают стеклянные трубочки, и выдувают из них шарики. В цехе очень жарко и стоит невыносимый шум от работающей вы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Стеклодув на фабрике ёлочных игрушек"/>
          <p:cNvPicPr/>
          <p:nvPr/>
        </p:nvPicPr>
        <p:blipFill>
          <a:blip r:embed="rId2"/>
          <a:stretch/>
        </p:blipFill>
        <p:spPr>
          <a:xfrm>
            <a:off x="4859280" y="1341360"/>
            <a:ext cx="3954600" cy="29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еклянную трубочку необходимо как можно лучше растопить на пламени горелки. Странно, но почему-то стеклодувы не пользуются перчаткам. Хотя стекло сильно нагре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Цех по производству ёлочных игрушек"/>
          <p:cNvPicPr/>
          <p:nvPr/>
        </p:nvPicPr>
        <p:blipFill>
          <a:blip r:embed="rId2"/>
          <a:stretch/>
        </p:blipFill>
        <p:spPr>
          <a:xfrm>
            <a:off x="5219640" y="549360"/>
            <a:ext cx="346392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ужно быстро выдуть ш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к делают елочные игрушки"/>
          <p:cNvPicPr/>
          <p:nvPr/>
        </p:nvPicPr>
        <p:blipFill>
          <a:blip r:embed="rId2"/>
          <a:stretch/>
        </p:blipFill>
        <p:spPr>
          <a:xfrm>
            <a:off x="395280" y="1628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м на глазок оценить полученный экземпляр. Если он получился кривоватым – снова в огонь, и снова дуть. Если все нормально, отложить шарик в короб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Выдувание елочного шарика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тобы получилась фигурка, горячий шарик помещается в клещи и надувается прямо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лещи для елочных фигурок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результате работы стеклодувов получаются прозрачные ёлочные фигурки, которые смешно называются – голь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Голье"/>
          <p:cNvPicPr/>
          <p:nvPr/>
        </p:nvPicPr>
        <p:blipFill>
          <a:blip r:embed="rId2"/>
          <a:stretch/>
        </p:blipFill>
        <p:spPr>
          <a:xfrm>
            <a:off x="250920" y="2924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7:29:05Z</dcterms:created>
  <dc:creator>1</dc:creator>
  <dc:description/>
  <dc:language>en-US</dc:language>
  <cp:lastModifiedBy>1</cp:lastModifiedBy>
  <dcterms:modified xsi:type="dcterms:W3CDTF">2009-10-16T16:20:04Z</dcterms:modified>
  <cp:revision>5</cp:revision>
  <dc:subject/>
  <dc:title>Фабрика ёлочных игрушек</dc:title>
</cp:coreProperties>
</file>