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6.gif" ContentType="image/gif"/>
  <Override PartName="/ppt/media/image15.jpeg" ContentType="image/jpeg"/>
  <Override PartName="/ppt/media/image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6.jpeg" ContentType="image/jpeg"/>
  <Override PartName="/ppt/media/image9.jpeg" ContentType="image/jpeg"/>
  <Override PartName="/ppt/media/image30.jpeg" ContentType="image/jpeg"/>
  <Override PartName="/ppt/media/image43.png" ContentType="image/png"/>
  <Override PartName="/ppt/media/image44.jpeg" ContentType="image/jpeg"/>
  <Override PartName="/ppt/media/image8.gif" ContentType="image/gif"/>
  <Override PartName="/ppt/media/image18.jpeg" ContentType="image/jpeg"/>
  <Override PartName="/ppt/media/image11.gif" ContentType="image/gif"/>
  <Override PartName="/ppt/media/image10.jpeg" ContentType="image/jpeg"/>
  <Override PartName="/ppt/media/image14.png" ContentType="image/pn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970-5B76-4F70-B3ED-A91B065B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82D-3244-4CAC-9F26-77EFEC38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C7D-ABBC-46F5-8400-98A0FA57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11E-1281-41CE-8B8F-D74126AA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44A-CF24-4F57-AB20-06B59536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1D6-81EC-43AD-947A-60889644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125-A370-4780-B589-49BCEBAB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53E-102E-4BBB-A1A8-B4135274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FAC-2C26-432A-934C-9070F66A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9D7-22F3-4D74-88E8-21CD7CA5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4DF-C0E5-4158-9B2C-51E5A6DF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FA4-294A-44E2-9DFE-D8911C95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1437-682D-4D92-9B45-B6AFB505F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ranstvie.com/text/760" TargetMode="External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Фабрика ёлочных игруш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Monotype Corsiva"/>
              </a:rPr>
              <a:t>Ёлочные игрушки на фабрике «Иней» делаются вручную. Это очень трудоёмкая и тяжёлая работа, но в то же время необычайно увлекательная. Даже в создание простенького новогоднего шарика или фигурки нужно вложить много сил. Но обо всём по поряд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80"/>
                </a:solidFill>
                <a:latin typeface="Monotype Corsiva"/>
              </a:rPr>
              <a:t>Метализ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00080"/>
                </a:solidFill>
                <a:latin typeface="Monotype Corsiva"/>
              </a:rPr>
              <a:t>А мы переходим в следующий цех, где игрушки приобретают металлический блес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то единственный автоматизированный процесс на всем производстве. В специальной машине игрушки покрываются алюминием, благодаря чему новогодние шарики приобретают зеркальный бле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Блестящий елочный шар"/>
          <p:cNvPicPr/>
          <p:nvPr/>
        </p:nvPicPr>
        <p:blipFill>
          <a:blip r:embed="rId2"/>
          <a:stretch/>
        </p:blipFill>
        <p:spPr>
          <a:xfrm>
            <a:off x="4879800" y="1600200"/>
            <a:ext cx="35751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теклянные заготовки вставляют «хвостиками» в специальные труб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Подготовка к метализации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ом эти трубочки ставятся в машину для метал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 как вы думаете, зачем в машине чаше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Машина для металлизации елочных игрушек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Чашечки для ёлочных игрушек"/>
          <p:cNvPicPr/>
          <p:nvPr/>
        </p:nvPicPr>
        <p:blipFill>
          <a:blip r:embed="rId2"/>
          <a:stretch/>
        </p:blipFill>
        <p:spPr>
          <a:xfrm>
            <a:off x="468360" y="26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25992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ти чашечки нужны для того, чтобы ёлочные шарики приобрели металлический блеск только наполовину, а с другой стороны остались прозрачными. Из таких заготовок можно сделать, например, шар-аквариум: внутри шарика – водоросли из зелёного дождика и блестящие ры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Шары-аквариумы"/>
          <p:cNvPicPr/>
          <p:nvPr/>
        </p:nvPicPr>
        <p:blipFill>
          <a:blip r:embed="rId3"/>
          <a:stretch/>
        </p:blipFill>
        <p:spPr>
          <a:xfrm>
            <a:off x="1258920" y="3357720"/>
            <a:ext cx="271296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Машина для метализации очень древняя, но её всячески оберегают, так как она на предприятии осталась одна. Вторая сломалас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А новое оборудование очень дорог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Как она работ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273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верху в машине крепятся алюминиевые пружинки. Внутри температура доходит до 700 градусов. Образуется пар. Алюминиевые пружинки плавятся и пары алюминия оседают на ёлочных игрушках. Машина закрывается на полтора часа и все полтора часа барабан вращается, чтобы игрушки равномерно покрылись зеркальным металлическим бле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Машина для металлизации"/>
          <p:cNvPicPr/>
          <p:nvPr/>
        </p:nvPicPr>
        <p:blipFill>
          <a:blip r:embed="rId2"/>
          <a:stretch/>
        </p:blipFill>
        <p:spPr>
          <a:xfrm>
            <a:off x="4788000" y="1484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Monotype Corsiva"/>
              </a:rPr>
              <a:t>Покрас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этом цехе работники окунают уже металлизированные ёлочные игрушки в ведра с красками. И вот что получ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Покраска елочных игрушек"/>
          <p:cNvPicPr/>
          <p:nvPr/>
        </p:nvPicPr>
        <p:blipFill>
          <a:blip r:embed="rId2"/>
          <a:stretch/>
        </p:blipFill>
        <p:spPr>
          <a:xfrm>
            <a:off x="4500720" y="1844640"/>
            <a:ext cx="4316400" cy="3237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сли шарик с одной стороны должен оставаться прозрачным, то его окунают в ведро с краской не полностью, а только с непрозрачн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том какое-то время шарики сох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Покраска ёлочных игрушек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4360" y="260280"/>
            <a:ext cx="43909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тем берётся трафарет с рису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уда закладывается шарик и с помощью баллончика с краской трафарет переносится на ёлочную игрушку. На шарике получается не готовый рисунок, а только макет, который художники затем разрисовы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2590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авайте пройдём по цехам фабрики ёлочных игрушек, и понаблюдаем за тем, как обычные стеклянные труб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Стеклянные трубки для производства ёлочных игрушек"/>
          <p:cNvPicPr/>
          <p:nvPr/>
        </p:nvPicPr>
        <p:blipFill>
          <a:blip r:embed="rId2"/>
          <a:stretch/>
        </p:blipFill>
        <p:spPr>
          <a:xfrm>
            <a:off x="5021280" y="1484280"/>
            <a:ext cx="36669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Monotype Corsiva"/>
              </a:rPr>
              <a:t>Раскрас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100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80"/>
                </a:solidFill>
                <a:latin typeface="Monotype Corsiva"/>
              </a:rPr>
              <a:t>Это самая интересная и творческая работа на всём производстве. В этом цехе игрушки разукрашивают. Вручную. И пусть по трафаретным рисункам, но всё равно среди похожих игрушек вы не найдёте совершенно одинаков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менно поэтому после прогулки по фабрике в магазине игрушек покупатели так долго и придирчиво выбирали свои шарики и фигурки. А один пацанёнок крикнул: «Мама, я выбрал, я хочу этого Деда мороза». «Что тут выбирать, они же все одинаковые», - сердилась мамаша. «Нет, смотри, он мне подмигивает, а другие – н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Елочные шары с лисичками"/>
          <p:cNvPicPr/>
          <p:nvPr/>
        </p:nvPicPr>
        <p:blipFill>
          <a:blip r:embed="rId2"/>
          <a:stretch/>
        </p:blipFill>
        <p:spPr>
          <a:xfrm>
            <a:off x="250920" y="2060640"/>
            <a:ext cx="4546440" cy="3409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л художников чем-то похож на современный офис. Но вместо компьютеров – коробки с игрушками, а вместо канцелярских принадлежностей – краски с кисточк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Здесь работают художники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Краски для елочных игрушек"/>
          <p:cNvPicPr/>
          <p:nvPr/>
        </p:nvPicPr>
        <p:blipFill>
          <a:blip r:embed="rId2"/>
          <a:stretch/>
        </p:blipFill>
        <p:spPr>
          <a:xfrm>
            <a:off x="468360" y="40464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Пудра для елочных игрушек"/>
          <p:cNvPicPr/>
          <p:nvPr/>
        </p:nvPicPr>
        <p:blipFill>
          <a:blip r:embed="rId3"/>
          <a:stretch/>
        </p:blipFill>
        <p:spPr>
          <a:xfrm>
            <a:off x="468360" y="3525840"/>
            <a:ext cx="3465360" cy="2600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столах – гуашь, акриловые краски, мелкие бусинки, серебряная и золотистая пу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Художник разрисовывает елочную игрушку"/>
          <p:cNvPicPr/>
          <p:nvPr/>
        </p:nvPicPr>
        <p:blipFill>
          <a:blip r:embed="rId4"/>
          <a:stretch/>
        </p:blipFill>
        <p:spPr>
          <a:xfrm>
            <a:off x="5076720" y="407664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итоге получается вот такая крас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Шары с дедом морозом и снегурочкой"/>
          <p:cNvPicPr/>
          <p:nvPr/>
        </p:nvPicPr>
        <p:blipFill>
          <a:blip r:embed="rId2"/>
          <a:stretch/>
        </p:blipFill>
        <p:spPr>
          <a:xfrm>
            <a:off x="395280" y="3068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Елочные фигурки"/>
          <p:cNvPicPr/>
          <p:nvPr/>
        </p:nvPicPr>
        <p:blipFill>
          <a:blip r:embed="rId3"/>
          <a:stretch/>
        </p:blipFill>
        <p:spPr>
          <a:xfrm>
            <a:off x="4643280" y="177336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Игрушки 60-ых – 70-ых год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Игрушки 60-ых – 70-ых годов "/>
          <p:cNvPicPr/>
          <p:nvPr/>
        </p:nvPicPr>
        <p:blipFill>
          <a:blip r:embed="rId2"/>
          <a:stretch/>
        </p:blipFill>
        <p:spPr>
          <a:xfrm>
            <a:off x="1332000" y="1501920"/>
            <a:ext cx="6553080" cy="4908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Игрушки 70-ых год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Игрушки 70-ых годов "/>
          <p:cNvPicPr/>
          <p:nvPr/>
        </p:nvPicPr>
        <p:blipFill>
          <a:blip r:embed="rId2"/>
          <a:stretch/>
        </p:blipFill>
        <p:spPr>
          <a:xfrm>
            <a:off x="1258920" y="1263600"/>
            <a:ext cx="6769080" cy="509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Игрушки 80-ых год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Игрушки 80-ых годов "/>
          <p:cNvPicPr/>
          <p:nvPr/>
        </p:nvPicPr>
        <p:blipFill>
          <a:blip r:embed="rId2"/>
          <a:stretch/>
        </p:blipFill>
        <p:spPr>
          <a:xfrm>
            <a:off x="1332000" y="1328760"/>
            <a:ext cx="6408720" cy="5097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Современная игруш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Современная игрушка "/>
          <p:cNvPicPr/>
          <p:nvPr/>
        </p:nvPicPr>
        <p:blipFill>
          <a:blip r:embed="rId2"/>
          <a:stretch/>
        </p:blipFill>
        <p:spPr>
          <a:xfrm>
            <a:off x="395280" y="1557360"/>
            <a:ext cx="4038480" cy="3025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Современная игрушка "/>
          <p:cNvPicPr/>
          <p:nvPr/>
        </p:nvPicPr>
        <p:blipFill>
          <a:blip r:embed="rId3"/>
          <a:stretch/>
        </p:blipFill>
        <p:spPr>
          <a:xfrm>
            <a:off x="4716360" y="32130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Современная игрушка с сельским пейзаже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Современная игрушка с сельским пейзажем "/>
          <p:cNvPicPr/>
          <p:nvPr/>
        </p:nvPicPr>
        <p:blipFill>
          <a:blip r:embed="rId2"/>
          <a:stretch/>
        </p:blipFill>
        <p:spPr>
          <a:xfrm>
            <a:off x="1547640" y="1916280"/>
            <a:ext cx="605664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евращается в разноцветные игрушки – непременный атрибут новогоднего праз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Новогодняя елка"/>
          <p:cNvPicPr/>
          <p:nvPr/>
        </p:nvPicPr>
        <p:blipFill>
          <a:blip r:embed="rId2"/>
          <a:stretch/>
        </p:blipFill>
        <p:spPr>
          <a:xfrm>
            <a:off x="965160" y="1600200"/>
            <a:ext cx="30211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креты производства ёлочных игруш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Каждый год ассортимент на 80% обновляется. А под номером 5 всегда идёт игрушка с символом года. Весь этот год выпускался шар с символом следующего 2009 года – быком. Несмотря на то, что год быка только наступает, на фабрике ёлочных игрушек его царство заканчивается. Сразу после Нового года – в январе – в производство будет запущен шар с тигром, так как 2010-й – год тигра. А фабрика по изготовлению ёлочных игрушек целый год работает только ради одного праз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Ёлочные игрушки с символом года - быком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ЕКЛО – Руч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акая надпись с голограммой есть на каждой игрушке, которая произведена на Павло-Посадской фабрике ёлочных игрушек «Иней». Но и без надписи любую сделанную здесь игрушку легко можно отличить от пластмассовых китайских шаров, коими завалены все наши магазины. Странно, судя по тому, как народ с ажиотажем сметает с полок магазинов китайский ширпотреб, спрос на новогодние игрушки все же есть. Жаль только, что крупные магазины предлагают нам то, что обходится им дешевле и мало интересуются ка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теклянная игрушка, сделанная вручную –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другая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 Она очень красивая и оригина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Стеклянная елочная игрушка сделана вручную"/>
          <p:cNvPicPr/>
          <p:nvPr/>
        </p:nvPicPr>
        <p:blipFill>
          <a:blip r:embed="rId2"/>
          <a:stretch/>
        </p:blipFill>
        <p:spPr>
          <a:xfrm>
            <a:off x="4932360" y="2004840"/>
            <a:ext cx="3960720" cy="3411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резентацию подгото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МОУ Верейская С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Абаркина Е.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о материалам экскур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на фабрику  ёлочных игрушек  «Иней» в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авловский  Поса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Текстовый материал взят из ресурсов Интерн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2009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Monotype Corsiva"/>
              </a:rPr>
              <a:t>Продув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40384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амая тяжёлая работа у стеклодувов. Они целыми днями сидят возле горелки, растапливают стеклянные трубочки, и выдувают из них шарики. В цехе очень жарко и стоит невыносимый шум от работающей вытя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Стеклодув на фабрике ёлочных игрушек"/>
          <p:cNvPicPr/>
          <p:nvPr/>
        </p:nvPicPr>
        <p:blipFill>
          <a:blip r:embed="rId2"/>
          <a:stretch/>
        </p:blipFill>
        <p:spPr>
          <a:xfrm>
            <a:off x="4859280" y="1341360"/>
            <a:ext cx="3954600" cy="29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теклянную трубочку необходимо как можно лучше растопить на пламени горелки. Странно, но почему-то стеклодувы не пользуются перчаткам. Хотя стекло сильно нагре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Цех по производству ёлочных игрушек"/>
          <p:cNvPicPr/>
          <p:nvPr/>
        </p:nvPicPr>
        <p:blipFill>
          <a:blip r:embed="rId2"/>
          <a:stretch/>
        </p:blipFill>
        <p:spPr>
          <a:xfrm>
            <a:off x="5219640" y="549360"/>
            <a:ext cx="346392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ом нужно быстро выдуть ша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к делают елочные игрушки"/>
          <p:cNvPicPr/>
          <p:nvPr/>
        </p:nvPicPr>
        <p:blipFill>
          <a:blip r:embed="rId2"/>
          <a:stretch/>
        </p:blipFill>
        <p:spPr>
          <a:xfrm>
            <a:off x="395280" y="1628640"/>
            <a:ext cx="40384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ом на глазок оценить полученный экземпляр. Если он получился кривоватым – снова в огонь, и снова дуть. Если все нормально, отложить шарик в коробоч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Выдувание елочного шарика"/>
          <p:cNvPicPr/>
          <p:nvPr/>
        </p:nvPicPr>
        <p:blipFill>
          <a:blip r:embed="rId2"/>
          <a:stretch/>
        </p:blipFill>
        <p:spPr>
          <a:xfrm>
            <a:off x="457200" y="1844640"/>
            <a:ext cx="403848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тобы получилась фигурка, горячий шарик помещается в клещи и надувается прямо в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лещи для елочных фигурок"/>
          <p:cNvPicPr/>
          <p:nvPr/>
        </p:nvPicPr>
        <p:blipFill>
          <a:blip r:embed="rId2"/>
          <a:stretch/>
        </p:blipFill>
        <p:spPr>
          <a:xfrm>
            <a:off x="4716360" y="314172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6720" y="160020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результате работы стеклодувов получаются прозрачные ёлочные фигурки, которые смешно называются – голь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Голье"/>
          <p:cNvPicPr/>
          <p:nvPr/>
        </p:nvPicPr>
        <p:blipFill>
          <a:blip r:embed="rId2"/>
          <a:stretch/>
        </p:blipFill>
        <p:spPr>
          <a:xfrm>
            <a:off x="250920" y="292428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7:29:05Z</dcterms:created>
  <dc:creator>1</dc:creator>
  <dc:description/>
  <dc:language>en-US</dc:language>
  <cp:lastModifiedBy>1</cp:lastModifiedBy>
  <dcterms:modified xsi:type="dcterms:W3CDTF">2009-10-16T16:20:04Z</dcterms:modified>
  <cp:revision>5</cp:revision>
  <dc:subject/>
  <dc:title>Фабрика ёлочных игрушек</dc:title>
</cp:coreProperties>
</file>