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D103D-B909-4423-956A-EAE85B77A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0056-62BF-4FDB-B0E6-34505816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09AAF-11D3-43DF-BCC5-242E50544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7780F-71C3-4180-805B-0E5FD1C2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B7755-87EA-4A61-80C6-96382E144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03464-B7C1-4B46-B8DF-8707A5419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34F5B-CB6B-489A-92F6-612FC6F42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1CAF5-8C3B-477D-A73A-13D88F440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224AB-3AAC-40EE-B9E0-AC663545E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6749A-4F8B-47C8-BCEA-90E66A1DD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9BD9D-47B5-42A2-9E4E-706483E82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9F0F-38D1-4B96-888B-68FA914F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CA47C-5AAE-403D-AB07-3D0907F87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D67D6-98BF-46D2-899D-353D72B38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34F93-EAD6-4406-AC02-AD7C7B606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062DA-5AFC-4BD4-8EB7-55123F4E6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42FB8-1B66-4E40-B30F-DD814DD9C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8766-1856-41A0-824F-BD2227C21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5B7AC-18D6-4812-9C10-FF7DE6520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DC160-5D1A-42B8-9C27-A35E85B95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D56A-442F-499B-97C8-0EE4E380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2947-6CEB-4DB1-ACEF-5A26A34F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F217-A3BB-4112-B59B-2D58334A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2609C-84FE-4455-8EA9-38B9C1028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0869-CAE8-477B-BDC9-553B2BF11D11}"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B806-7F41-46DF-8F26-4C5FA7B7B28D}"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Туркова Ирина Ивановна </a:t>
            </a:r>
            <a:endParaRPr b="0" lang="en-US" sz="2800" spc="-1" strike="noStrike">
              <a:solidFill>
                <a:srgbClr val="5b5249"/>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Смольянская СОШ</a:t>
            </a:r>
            <a:endParaRPr b="0" lang="en-US" sz="2800" spc="-1" strike="noStrike">
              <a:solidFill>
                <a:srgbClr val="5b5249"/>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Брянская область Брянский р-он</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Admin</cp:lastModifiedBy>
  <dcterms:modified xsi:type="dcterms:W3CDTF">2011-10-20T17:35:50Z</dcterms:modified>
  <cp:revision>9</cp:revision>
  <dc:subject/>
  <dc:title>Водоросли</dc:title>
</cp:coreProperties>
</file>