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7C4-E96C-49BC-BAF9-B6DE354B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8EA-023B-4931-AF2A-67EFC616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3D3-8970-4062-9DEC-7335E674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D93-A9AE-4436-A7BF-677E573A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5D5B-1B79-44B1-9C68-4CB3D652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B706-A7D4-495D-BADD-2A455531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047E-87DA-46A8-A92F-4203E935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02F4-E193-4596-9439-C926BAA9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2F45-23E0-4C85-8A22-33237C36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27AD-24F4-415D-8C7F-4D7259AD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1FE9-A69A-4706-8B26-539E9A0C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10C-50AD-4BAE-8EF8-74B1E9D4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F60F-4881-4D57-9A02-4B322D06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E0AD-8AE7-45E1-BD12-422159A5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1FBB-093A-4796-A83F-72E96FDB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181E-A8C2-46C6-85C8-C25EEC38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3BC4-7613-45DB-9C2E-99087311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8C620-121D-4DD3-8382-E91BEE28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FFA8A-5D14-4147-AE51-3A5AD5C2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5F939-1EEB-421B-B51A-07152FA7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E03E9-97A0-48A8-9DF4-7AEF4702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B5692-E434-4262-9A86-B9CE92E6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778-A852-41E5-BBC3-9D9B5891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0DF7E-69F3-45C2-A58F-4405CEB3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E7E12-6FEA-4EB0-A5FB-1325AA9D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AC2AA-F938-4710-9828-FBD4B279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F59AA-2044-46FB-AD47-6CBF7DAF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4AFB0-EBE3-4BD3-BEB4-432F6147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E92D8-F5F2-4AE1-BC99-590564EE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76404-F991-483C-8AED-0156ED39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FEF4F-0854-4A88-9049-756A4C83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D543B-1DD2-465E-BF0B-500FC702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FFDC8-A4B5-4CA1-971B-75FAE69F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CE4-3B6E-4A20-A139-B2C6AC5E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02C9F-DF09-49E8-B758-8CAD9C4E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8B567-F656-4C5B-9D71-264D65F4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0B653-24A2-487A-883A-E4C68D70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9C7FB-8101-4C31-8436-6D2E66B0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152CE-D961-4117-887D-C50B7BE8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E5EB6-295B-4554-A7ED-9DDEF22B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769FE-8481-49BE-81E2-0672CC3C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3C0F1-FFF9-40B2-B1F8-40A455F5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8FB9C-12D8-43B7-90A2-3B0B5652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C9B06-3B17-4B19-BE8C-2EA2CF2D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BBE-8982-4EEB-81A4-536A1292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F24EF-9F70-49CA-A0D2-D62E8B98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BF12C-389C-40C8-A3D4-EB3E3ED0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B650D-479D-47C5-8801-4F01BFFA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C0D4B-5116-4D1E-9172-CC104243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6E466-0041-4898-99C4-EACED67C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011B9-4867-49FB-8092-E0756BDA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96D61-CFF7-4E1B-AB0D-903E82AD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5BB95-2E51-41F5-8F51-F6CECA5E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BF76A-4FAF-42E4-9743-F44A3A28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9F0B4-BEE8-45A4-BE4F-92399E4C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36F-9ACA-4841-B77E-518A5CCA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165FA-372F-40E5-816B-6D58383C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E3AA3-DFBF-4AD9-AE9C-4DD11150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C589E-62B6-4020-A748-06C75CE7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A86C7-4091-46B6-ADDA-50E1E3CC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3B1FB-6E04-4067-A907-AA9789EE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C185C-390E-4CB1-B439-5ED0A0FE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25E29-C255-4262-8B65-38F84C26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4A25C-7524-4FBA-A67B-CC87EBDA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A1A2F-72E6-448C-A8DE-EC26A448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891FC-6E52-4522-BD9F-560CBC4A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7D9-1DF2-4540-B199-FAC342D7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04108-2FFC-4B88-AB15-088B7285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12841-07C5-42D8-B1C0-EB13856E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54375-956E-4DF5-B7B8-47E5767F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4519F-1B8A-4076-8937-A96C4FBC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560C8-193A-4D3C-B0FB-F4FF890B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ED56B-234B-4E2F-B5F6-E6358E52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34828-AD2E-4A1D-AB5F-31E79CFE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B929A-B682-4151-8633-227C34B9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D5D0C-55DB-462E-A855-A0460E00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8CD25-8420-452C-A85D-6A320A54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D68C-82A2-4F9D-8CFF-916CC841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F90D3-00A0-4742-8B0F-C7D9693F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DBBBC-D916-4181-93D2-6924C905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E1361-225A-4212-B22C-80FCE576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9B7A0-04CD-4C6A-A17C-453CFEB6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86D69-4269-41C3-BE75-A6484B64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1FAC-BBE4-4FFC-95EE-2D2EBDAE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5087-D4B6-42A5-90C6-9FCB3473B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D278-2316-4B7A-96E4-59B5B451E6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98FE-EC73-453F-83EE-7CABC79443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59BA-01B0-4581-A8F3-B23F5C1822A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D154-923A-4B66-A2F5-6866F5B8750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3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4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4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EA82-B38C-40B3-901F-CB021449BCD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6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4453-B38D-4769-A77E-7CA9FC90CB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69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Как выполняли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арифметические действия в Древнем Риме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ила:                              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ученица 5 класса Вязова Луи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15228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1522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О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№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6858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учно – исследовательская работа на т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2425680" cy="17924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6934320" y="2743200"/>
            <a:ext cx="190188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ба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прибор напоминающий наши русские счё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6096240" cy="4081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СLХХVI : XXVIII = ?                 1176 : 28 =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724280" y="2590920"/>
            <a:ext cx="3810240" cy="369576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1844640" cy="190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44969E-006 L -0.40833 2.44969E-006 E">
                                      <p:cBhvr>
                                        <p:cTn id="253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XXVIII на С = ММ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XXVIII на X = С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ХХ                       XXVIII на XX = СССС L L ХХХХХ'Х = D 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Здесь мы для простоты удваиваем каждую цифру предыдущего результата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1295280" y="3886200"/>
            <a:ext cx="6934320" cy="21337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1297080" y="3276360"/>
            <a:ext cx="4474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7238880" y="152280"/>
            <a:ext cx="1676520" cy="1632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1066320" y="4568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VIII на L = МСССL ХХХХХ 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С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2667240"/>
            <a:ext cx="327672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CL XX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  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6781680" y="1828800"/>
            <a:ext cx="2133720" cy="20700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657600" y="5029200"/>
            <a:ext cx="1428840" cy="1400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13 0.00902 L -0.3948 0.00902 E">
                                      <p:cBhvr>
                                        <p:cTn id="356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XXVIII на I = XXVIII                            XXVIII на II = ХХХХVVIIIIII = LV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: МСLХХVI : XXVIII = ХLI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авн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3809880" y="3276720"/>
            <a:ext cx="3276720" cy="19810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228600" y="4572000"/>
            <a:ext cx="2209680" cy="15858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7543800" y="380880"/>
            <a:ext cx="1398600" cy="1833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1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26648 E">
                                      <p:cBhvr>
                                        <p:cTn id="385" dur="2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учение старинных способов умножения и деления показало, что эти арифметические действия были трудными и сложными из-за многообразия способов и их громоздкости выпол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ременный способ умножения прост и доступен 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знакомстве с научной литературой обнаружили более быстрые и надежные способы умножения и деления. Поэтому изучение действия умножения и деления – тема перспек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зможно, что с первого раза у многих не получится быстро, с ходу выполнять эти или другие подсчеты. Пусть сначала не получится использовать прием, показанный в работе. Не беда. Нужна постоянная вычислительная тренировка. Из урока в урок, из года в год. Она поможет приобрести полезные навыки устного с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ЗАКЛЮЧ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клонимся же перед трудолюбием и настойчивостью наших далёких предков, которые шли к знанию тернистым путём и, преодолевая препятствия, создали стройную и ясную логическую науку, называемую современной математ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en-US" sz="4800" spc="-1" strike="noStrike">
                <a:solidFill>
                  <a:srgbClr val="333399"/>
                </a:solidFill>
                <a:latin typeface="Tahoma"/>
              </a:rPr>
              <a:t>узнать как выполнялись арифметические действия в Древнем Риме.</a:t>
            </a:r>
            <a:br>
              <a:rPr sz="4800"/>
            </a:br>
            <a:br>
              <a:rPr sz="54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295280" y="457200"/>
            <a:ext cx="378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333399"/>
                </a:solidFill>
                <a:uFillTx/>
                <a:latin typeface="Arial"/>
              </a:rPr>
              <a:t>Цель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5715000" y="3352680"/>
            <a:ext cx="2938320" cy="2962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Актуальность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Я считаю необходимым проведение этого исследования, так как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Я интересуюсь историей математики и хотела бы быть более просвещёнными в этой обла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Я хотела бы узнать, как древние трудились для создания науки математики, и что они для этого делал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324480" y="4648320"/>
            <a:ext cx="2019600" cy="1428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0066"/>
                </a:solidFill>
                <a:uFillTx/>
                <a:latin typeface="Arial"/>
              </a:rPr>
              <a:t>Предмет исследования: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Арифметические действия в Древнем Риме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388620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Гипоте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считаю, что в Древнем Риме выполнялись арифметические действия с помощью алгоритмов и таблиц, которые помогали римлянам не забыть порядок вычислений и что – то напомнить в данном действие. Ещё мне ,кажется, что присутствовал какой -  то специальный предмет для счёта, так как запомнить всё не 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помню римские цифры, некоторые из них встречаются редк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- единица, V - пять, X - десять,            L - пятьдесят, С - сто, D - пятьсот,               М - тысяч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3962520" y="3276720"/>
            <a:ext cx="4219560" cy="2751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исла выглядят та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I = IV - четыре; VIIII = IX - девять; ХХХХ = XL - сорок; VХХХХ =               ХС- девяносто и т.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3619800" cy="2714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7 на 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ХХVI на XXXVII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3543480" cy="32911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828800" cy="1648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458 -0.00648 L 0.51458 -0.00648 E">
                                      <p:cBhvr>
                                        <p:cTn id="213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e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56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6172200" y="228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72200" y="609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172200" y="10666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72200" y="1447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1-21T14:25:5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