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EC9-554A-49A9-A204-FC30D4CB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E73-9575-4A6F-B5CD-FA703ABF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D48-5BA7-4029-AEEB-5CC409DD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2A4-CE8C-4C1D-966D-10B824E3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A415-C13C-483C-B537-02E46055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B466-CE99-4A30-BAC7-E0FDB736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70A-C157-442F-AE5F-B9B04CC3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FC30-0A30-467D-9E8D-FA43443E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D656-0C95-4D4B-81AF-AC817BA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2086-0F65-44C5-993F-7F2D1B8D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77E3-6664-4182-A747-B3C554D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9BF-BBA7-4E95-8F87-C46A316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B2E7-7540-41C4-AAFC-74C643F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22A2-2BBA-4EE4-9BC4-42CAC316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A45B-5136-4855-9B13-FE1EDBF2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CE6E-3AE5-4351-922F-D6C202C9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45D-A3AA-4F01-A45E-D9B6D597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09A7E-F692-4320-AE7B-CABF6DBC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7EE7-FAFD-4C57-9069-D947578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F075-40A4-41E9-A920-61F7D8FE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9C69-2B48-4EA1-830F-001793CD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F860-F2B6-440B-BACF-7ACB0DD0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32A-8AD0-418B-9A0E-1DA51FB4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BA6B-BF78-4952-BFE7-559D54E7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07F8-DC32-45AE-A9BC-4EDA4323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CF53-0091-4AAD-9C52-40416C9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8091-A43C-4D05-85F0-7135B82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7EBC-1E1B-4484-BE20-80DDC5B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A57F-6DD1-49C9-B2DA-3FB236DB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CAAB-1C56-4841-8ED6-CB4DB1F2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0F4D-169D-4406-8888-8EE63496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798E-8291-476E-A7C5-9F87EF35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0725-C976-4382-AD06-285B9158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82B-836D-44AA-9867-94C2CAB9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4E9B-D69F-4EEC-BD72-66728B82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3A4E-9124-4D08-86A2-233E7000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A4F14-FE99-4AAA-AA6F-7C3591EB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15BD-A9C0-4F45-B0C6-2521685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181C-61A2-4B0A-A79C-1C0B4024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6B844-9238-4DA6-87D6-48B0358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6113-FB93-45B4-A614-CDF66EB7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37E2-E800-4143-A4BC-85A98D8A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2ECE-A3DF-45C8-BE3E-BA94EE8F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4DB4-4429-44CA-88AB-3D04F9E0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C35-C6C4-4E40-B2A2-E3420A33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1654-FD66-4235-AE80-968D39F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8F2A-5345-4504-980B-CCE21D0B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326E-9E2B-4CEB-B199-9EB674CF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B563-52E4-49DD-B2EA-A1A961F5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D2D5-6F08-4706-B880-35596A22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3CD74-4F5B-4AF6-B563-C0C026F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4686A-3C19-4E89-A230-CB78F2A8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B05C-98CA-42A4-B379-DD77FAE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B929-5E69-47EE-9B85-13BD40C2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C0B4-578A-494A-B19D-92222BF6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857-E3BB-4E4D-97CC-4EF04FE2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67F36-789D-4AD7-88C3-79BBED75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5B767-DCDB-482F-8340-46049CD8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B033-593E-4AEE-9724-0E19A679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BD53-7BF0-4110-B79A-7A97D049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5462-2444-430F-A145-859B55D7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2C672-FAB4-48FB-A12B-0D1EAADC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D57C8-88B6-4FE9-A092-2789AE05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41192-841C-40C3-BEE7-A423A7F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0D32-9A80-4982-8E31-F98C129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2D74-8546-4171-974C-6AA7A47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25E-0E8A-4F36-A784-38B4279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CD7D6-9FFD-4C12-B818-118D2DA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F2C30-D76A-47A3-A4B4-94E0F632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E92D-B12D-45B0-8AB4-EA09F35F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67A8-1216-4E21-B083-360509F0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51118-5094-4673-A8B0-F4EC64FE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E2F3C-027C-46A6-A0A5-AE9C4E7E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0EE6-28C5-49DA-BCF2-FEA31F01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40C63-2F7E-4D37-9AA8-2D1E3B8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866C-CFED-4ED8-A49D-2232424C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0307-E447-497C-A514-8BD662D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A86-935D-47F5-8977-D0FE836D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9BA87-88B5-4DAF-9952-3775AD8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F9912-DC3C-4169-B1F8-CA883ECD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5A91E-CCFD-459F-96EA-1D03DAF1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DD6A-8722-4F6D-BFC0-FA960CDC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21F8B-B420-4688-9389-0FA251F0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9DA-C058-4427-8119-23AF47F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08A-919B-407A-BE9A-F8631C91E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0176-C690-45EB-942A-8DAB8DC186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95B-0D41-45F6-B038-693193743F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A774-E538-41B6-93B4-A8F0AD5727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1641-B0F3-4D05-88B1-FF4DF9DB9A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4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54D2-5215-44D1-8146-63A7C9658E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0CC7-789F-4F96-972A-6B9DBCF56D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69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ак выполняли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рифметические действия в Древнем Рим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ла:                            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ученица 5 класса Вязова Луи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1522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522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№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85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2425680" cy="17924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6934320" y="2743200"/>
            <a:ext cx="19018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б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прибор напоминающий наши русские счё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096240" cy="408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СLХХVI : XXVIII = ?                 1176 : 28 =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36957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844640" cy="19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4969E-006 L -0.40833 2.44969E-006 E">
                                      <p:cBhvr>
                                        <p:cTn id="253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XVIII на С = ММ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XXVIII на X = С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ХХ                       XXVIII на XX = СССС L L ХХХХХ'Х = D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десь мы для простоты удваиваем каждую цифру предыдущего результата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6934320" cy="21337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297080" y="3276360"/>
            <a:ext cx="4474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676520" cy="1632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VIII на L = МСССL ХХХХХ 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С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667240"/>
            <a:ext cx="32767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CL XX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  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781680" y="1828800"/>
            <a:ext cx="2133720" cy="2070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657600" y="5029200"/>
            <a:ext cx="142884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13 0.00902 L -0.3948 0.00902 E">
                                      <p:cBhvr>
                                        <p:cTn id="356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XXVIII на I = XXVIII                            XXVIII на II = ХХХХVVIIIIII = LV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: МСLХХVI : XXVIII = ХL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3276720" cy="19810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2209680" cy="1585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7543800" y="380880"/>
            <a:ext cx="1398600" cy="1833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26648 E">
                                      <p:cBhvr>
                                        <p:cTn id="385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старинных способов умножения и деления показало, что эти арифметические действия были трудными и сложными из-за многообразия способов и их громоздкости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ый способ умножения прост и доступен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знакомстве с научной литературой обнаружили более быстрые и надежные способы умножения и деления. Поэтому изучение действия умножения и деления – тема перспек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можно, что с первого раза у многих не получится быстро, с ходу выполнять эти или другие подсчеты. Пусть сначала не получится использовать прием, показанный в работе. Не беда. Нужна постоянная вычислительная тренировка. Из урока в урок, из года в год. Она поможет приобрести полезные навыки устного 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клонимся же перед трудолюбием и настойчивостью наших далёких предков, которые шли к знанию тернистым путём и, преодолевая препятствия, создали стройную и ясную логическую науку, называемую современной математ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333399"/>
                </a:solidFill>
                <a:latin typeface="Tahoma"/>
              </a:rPr>
              <a:t>узнать как выполнялись арифметические действия в Древнем Риме.</a:t>
            </a:r>
            <a:br>
              <a:rPr sz="4800"/>
            </a:br>
            <a:br>
              <a:rPr sz="54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457200"/>
            <a:ext cx="378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Цель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93832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Актуальность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считаю необходимым проведение этого исследования, так как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интересуюсь историей математики и хотела бы быть более просвещёнными в этой обла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хотела бы узнать, как древние трудились для создания науки математики, и что они для этого дела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2019600" cy="1428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Предмет исследования: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Арифметические действия в Древнем Рим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388620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читаю, что в Древнем Риме выполнялись арифметические действия с помощью алгоритмов и таблиц, которые помогали римлянам не забыть порядок вычислений и что – то напомнить в данном действие. Ещё мне ,кажется, что присутствовал какой -  то специальный предмет для счёта, так как запомнить всё не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омню римские цифры, некоторые из них встречаются редк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единица, V - пять, X - десять,            L - пятьдесят, С - сто, D - пятьсот,               М - тыся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962520" y="3276720"/>
            <a:ext cx="421956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исла выглядя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I = IV - четыре; VIIII = IX - девять; ХХХХ = XL - сорок; VХХХХ =               ХС- девяносто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361980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7 на 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ХХVI на XXXVII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543480" cy="3291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828800" cy="1648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58 -0.00648 L 0.51458 -0.00648 E">
                                      <p:cBhvr>
                                        <p:cTn id="213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e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56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72200" y="228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72200" y="609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72200" y="1066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1447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21T14:25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