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028-52AE-4E12-8011-30B7B1E2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E79-72E7-4CC0-948C-12CB332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4C1-5268-4B9A-83D8-64DE41C2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AD5-FB6B-4A47-B1EB-CF8589B0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A974-9701-43CA-8057-2AD5CE5B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E443-E680-4AC5-9D10-C1553B7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9E24-183B-41A1-99E0-B9C3851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F8CE-A33F-4A8F-AC6B-3D1A018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39F-52B0-4CD3-8B5E-FB94127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392-D441-4FEC-96A2-6F2BAF48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AC88-288B-43C6-AD38-274795A3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AA1-52A8-40F8-B20F-234282F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ACD0-F58B-4D83-BBDF-078C63B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6085-BCA2-4A9D-82E2-13965D4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F99-826A-4BE8-865B-45592BC3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23F5-63D2-4DF9-B2D5-EA74F017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1DB0-93CE-416B-BCF6-F1E2E884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6C3F-7148-410D-AE5C-4A5469F2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C098-DA29-44EF-98A0-B664F229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091F-6427-4612-96AF-B553DF0E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24AF-9DC5-4BB5-8E56-AB06393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6C25-1C17-45A5-AA24-7E322BB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B2E-D375-4A77-9D0D-D9FDA58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4DAE-CC46-417A-9B2E-080C893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8449-2AEC-492F-B6DA-BF21C74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0237-4255-4FDF-990E-8E29918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F0EA-2D27-44A5-ACC6-227A41F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9BCC-9C51-4DDB-A328-C9C65F1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647B-1AA9-4016-B3DD-B5131ED3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3577-3FA6-4F34-A251-6D5D4AEC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75AA-06AB-4E09-9E9C-B3FE35B1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3028-DF98-4AC0-81BC-2090624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8043-9B93-4C6E-9E28-6394BDCC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CB1-2603-4E32-BAA7-C80E634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B207D-3456-4369-9E52-AC7472F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EEF8-B335-42FC-9C66-E11A010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F935-8EB0-4149-A4AF-82238C64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1824-6AD0-493B-8104-F1BE6DE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515B-F100-4987-AF3A-8EF0833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5B27-3E96-4E17-9863-7409DB9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1AD2-B25A-4FA9-A838-D1A40C2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E92D-B797-4035-9ED6-9F7C06BC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F2BC-B566-4841-BD9C-8A7DC28C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7B47-74D3-446D-A788-9AE97D2D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5E3-8AA3-4EA6-BF9D-B3F08B97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AA63-CDC6-4C5D-9A48-D24F56C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AC9D-C344-44DC-8338-772AF75F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0A37-282E-40A1-8486-544199F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D749-9C85-4F94-A162-2E8192E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1191-DEAD-46BC-898D-4252114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42AD-E8B3-43F5-9FD8-8E16115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5DFE-17AC-4958-9AF6-4D32B08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6065-8FFF-4EEE-AC22-DB4F7CC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C7E7-3D25-4291-ACD7-E543DD7C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46EE-0C76-4542-9AB7-BDEE1623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537-8CA1-43B0-A073-1DF6980B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4A90-B735-4A92-8C6C-5CD1393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6059-1A96-4E06-BF4B-B1CA62B9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4A07-C5E2-44B8-9009-418772C6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DA86-88CB-499A-BC1B-39388B6D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0194F-E558-4A49-A647-9F59775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D1B36-BAE9-4DC5-9A45-1B8A400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DC4E-AB13-429F-88CE-2F20AB1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74D4-0EFA-4655-9B9C-ACBC830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8DB6-DA2A-46B4-8530-1D6F04C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0665E-280D-4094-9A74-98D03CE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B51-E387-485C-BD51-2B2BE91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CB4A3-2C92-4601-A281-1861952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A3564-7765-44DE-A7A7-A01D8337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A741-A16A-4177-B6D5-BBCE6B61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547A-1911-4BFA-B6DF-0BD8EF05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64EA-EA5F-4384-A1C8-3136A7C8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8A85A-F72D-48CF-BC20-36FD7FC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3618-6308-406F-BAE7-FC21E54A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73F8-420D-469C-AFAE-79293FF8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322DA-2563-4B30-94B3-08CF5D2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9DE9-C7DB-4D65-BF69-5096816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1D8-7205-44A5-9F24-F8EFDDA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6129-8AAF-44FC-AF08-9ACCC9E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20607-5E53-4E6B-9F41-0046250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6F8E-AF4B-4A8A-A993-D26A98B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BA0B-B0E6-41B4-950F-FA9DA784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E705-AD5B-4572-A41E-FB98D39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5DA-1784-403A-A663-8BDFBC4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5DB-70A2-46A7-9715-C2CB8ACB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71A-0447-4476-A37A-85DD6F3103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1BFB-267A-4613-A4BD-7F0EA787E5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A52B-9AD2-4064-B29C-5E468D600A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7BE-A773-4765-84E3-2D6115CB96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2D5-8341-4208-B8EC-D5D7DB7960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0C1-D504-4684-9032-B1E4DE5D22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выполняли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рифметические действия в Древнем Рим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ла:                           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ученица 5 класса Вязова Луи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52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52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№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85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2425680" cy="1792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6934320" y="2743200"/>
            <a:ext cx="19018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б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прибор напоминающий наши русские счё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6240" cy="408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СLХХVI : XXVIII = ?                 1176 : 28 =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36957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844640" cy="19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4969E-006 L -0.40833 2.44969E-006 E">
                                      <p:cBhvr>
                                        <p:cTn id="25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XVIII на С = М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XXVIII на X = 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ХХ                       XXVIII на XX = СССС L L ХХХХХ'Х = D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десь мы для простоты удваиваем каждую цифру предыдущего результат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6934320" cy="21337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297080" y="3276360"/>
            <a:ext cx="447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76520" cy="1632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VIII на L = МСССL ХХХХХ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С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667240"/>
            <a:ext cx="32767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CL XX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  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657600" y="502920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0.00902 L -0.3948 0.00902 E">
                                      <p:cBhvr>
                                        <p:cTn id="35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XXVIII на I = XXVIII                            XXVIII на II = ХХХХVVIIIIII = L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: МСLХХVI : XXVIII = ХL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3276720" cy="1981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7543800" y="380880"/>
            <a:ext cx="1398600" cy="183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26648 E">
                                      <p:cBhvr>
                                        <p:cTn id="385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таринных способов умножения и деления показало, что эти арифметические действия были трудными и сложными из-за многообразия способов и их громоздкости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й способ умножения прост и доступен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 и деления. Поэтому изучение действия умножения и деления – тема перспе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 Не беда. Нужна постоянная вычислительная тренировка. Из урока в урок, из года в год. Она поможет приобрести полезные навыки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клонимся же перед трудолюбием и настойчивостью наших далёких предков, которые шли к знанию тернистым путём и, преодолевая препятствия, создали стройную и ясную логическую науку, называемую современной матема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333399"/>
                </a:solidFill>
                <a:latin typeface="Tahoma"/>
              </a:rPr>
              <a:t>узнать как выполнялись арифметические действия в Древнем Риме.</a:t>
            </a:r>
            <a:br>
              <a:rPr sz="4800"/>
            </a:br>
            <a:br>
              <a:rPr sz="54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457200"/>
            <a:ext cx="378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Цель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9383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Актуальность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считаю необходимым проведение этого исследования, так ка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интересуюсь историей математики и хотела бы быть более просвещёнными в эт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хотела бы узнать, как древние трудились для создания науки математики, и что они для этого дел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201960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Предмет исследования: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Арифметические действия в Древнем Рим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88620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читаю, что в Древнем Риме выполнялись арифметические действия с помощью алгоритмов и таблиц, которые помогали римлянам не забыть порядок вычислений и что – то напомнить в данном действие. Ещё мне ,кажется, что присутствовал какой -  то специальный предмет для счёта, так как запомнить всё не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омню римские цифры, некоторые из них встречаются редк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единица, V - пять, X - десять,            L - пятьдесят, С - сто, D - пятьсот,               М - тыся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21956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исла выглядя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I = IV - четыре; VIIII = IX - девять; ХХХХ = XL - сорок; VХХХХ =               ХС- девяносто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7 на 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ХХVI на XXXVII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543480" cy="3291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828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58 -0.00648 L 0.51458 -0.00648 E">
                                      <p:cBhvr>
                                        <p:cTn id="213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e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56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72200" y="228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609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1066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1447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1T14:25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