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188-D0DE-4187-B6D2-F22B7590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03F-EC0A-4F28-84C1-6C88A2ED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CB1-D9AC-4A85-91E7-09698D24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4D2-7968-4186-BD88-A84398FC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F45-C90F-42B6-92D9-035491C1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23E-6771-4A47-8370-717BF124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B4A-DD50-4742-8C33-4F9083CE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B73-6325-4FA5-B99D-0B81124D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6B8-DDA4-487A-B7F9-52386C50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987-F982-4707-9FD1-3E92D2E5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BF2-D502-4D65-9344-394D378C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9275-7FC9-4FF5-A610-7F9FAD45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B6A5-BC98-41EC-84BF-9EF9057456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3048120" y="1676520"/>
            <a:ext cx="5410080" cy="3886200"/>
          </a:xfrm>
          <a:prstGeom prst="ellipse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Ка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избежать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неприятносте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на улиц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Советы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3cd4"/>
                </a:solidFill>
                <a:latin typeface="Arial"/>
              </a:rPr>
              <a:t>Мудрого Фил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747880" cy="42670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829040" cy="3724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257800" y="1143000"/>
            <a:ext cx="3429000" cy="48488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олодная сосуль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куснее леденц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ую бы конфет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изать мн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конц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 вот леж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ангиной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мне гулять нельзя... Послушайте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д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ульки есть, друзья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5791320" y="1295280"/>
            <a:ext cx="2743200" cy="4208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до трога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т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дячих кошек и собак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них чесотку и лиша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 подхватишь невзначай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ладишь - можешь зарази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удешь вынужден лечиться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ых встретишь ты дорогой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обойди и их не трогай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314880" y="2819520"/>
            <a:ext cx="5448240" cy="3504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457200"/>
            <a:ext cx="3962160" cy="2288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люди-незнаком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 кататься позовут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им в машину не садите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ко вас увезут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 будет папы, мамы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 подружек, ни друзей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адитесь к незнакомца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бегите прочь скор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191120" cy="3276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5105520" y="2019240"/>
            <a:ext cx="3809880" cy="41173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ни, друг: на красный св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ез дорогу хода нет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удь внимателен в пу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да на светофор гляд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ь осторожен пешеход 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безопасен пешехо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23920" y="919080"/>
            <a:ext cx="4086000" cy="4533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800600" y="1752480"/>
            <a:ext cx="3505320" cy="28382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ть совсем не слож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в пут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есток осторож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переход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по диагонали, А с людьми, в толпе, Чтоб водителям сигналить Не пришлось тебе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724640" cy="3095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029200" y="2209680"/>
            <a:ext cx="3809880" cy="40579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дом с дорогой опасно игр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а нее за мячом выбега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ормозить не успеет шофер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машине сломался мото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занесло ее на тротуар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ты спокойно в машинки играл. Миг! - И случится большая беда... Ты у дорог не играй никогд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343400" cy="2743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181480" y="1295280"/>
            <a:ext cx="3733920" cy="49726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это правило учт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бус сзади обходи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спереди нельзя, мой друг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да случиться может вдруг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ины резко - все подряд!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-за тебя затормозя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нут друг друга задевать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люди могут пострада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йми к тому же, что и т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застрахован от беды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rcRect l="51289" t="0" r="2192" b="12693"/>
          <a:stretch/>
        </p:blipFill>
        <p:spPr>
          <a:xfrm>
            <a:off x="762120" y="22860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5105520" y="1447920"/>
            <a:ext cx="2895480" cy="4667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цепляйте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автобус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зади, ребят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катайтес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ним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ковать ва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надо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друг сорветесь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ож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да приключиться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соседней машин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гко очутитьс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rcRect l="0" t="371" r="52661" b="9978"/>
          <a:stretch/>
        </p:blipFill>
        <p:spPr>
          <a:xfrm>
            <a:off x="685800" y="533520"/>
            <a:ext cx="41148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105520" y="762120"/>
            <a:ext cx="3200400" cy="5645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ейтборд и самокат - веселая забава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жизнью рисков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оей не стоит, прав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зда так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проезжей части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сспорно, мож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ести к несчастью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машинами на трасс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ягайтес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на площадка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дворе катайтес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487692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0880" y="457200"/>
            <a:ext cx="3276720" cy="58874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ледяной горы кат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чется ребятам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ветерком стремглав промч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ло куда-т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ку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отрите сам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ледите строго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не вынесли вас сан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 на дорог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в пруд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лед пока чт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нок и непрочен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село с горы катать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пасно очен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905120" y="0"/>
            <a:ext cx="3429000" cy="5486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638680" y="1066680"/>
            <a:ext cx="2667240" cy="49726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торожней будьт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илые ребят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знакомым людя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верять не над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сли вас с собо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 гости позову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вам конфетку Вкусную даду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учше отбегайте Прочь от них скор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предупреждайте Всех своих друзе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4038480" cy="5334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5334120" y="60480"/>
            <a:ext cx="3200400" cy="68022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рельсам ходят поезда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ты зачем пошел туд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ь поезда стрелой летя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ругие города спешат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ашинист не сможет вдруг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тебя увидит, друг,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й состав затормози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тебя не раздави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шпалам прыгать интересно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для прогулок здесь не мест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5486400" cy="36669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28600" y="1447920"/>
            <a:ext cx="3200400" cy="466776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до ехал мальчик Пет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воем велосипед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том лихачи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л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ль рука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ржал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валился под откос, Разукрасил лоб и нос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паденья избежать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пко надо руль держа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 rot="5169600">
            <a:off x="-290520" y="1128600"/>
            <a:ext cx="5667480" cy="4324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486400" y="609480"/>
            <a:ext cx="2895480" cy="54504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оль проезже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и огражден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 необходим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сомненья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же есл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ты спешишь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леза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, малыш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619800" cy="4800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5486400" y="1523880"/>
            <a:ext cx="3048120" cy="375300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деревьям лази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чень интерес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олько это трудно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ждому извест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жно напоро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корявый сук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ли может ветка Выскользнуть из ру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адать очень боль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разбиться можно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что уж, ребята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удьте осторожны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505320" cy="5790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257800" y="365040"/>
            <a:ext cx="3200400" cy="64972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черний, час заката Наступает на двор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домам бегут ребята -Доброй ночи детворе!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один лишь заигрался, Не торопишься дом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в песочнице остался Строить замок рассыпной. Но гулять, пойми, опасно Без друзей, без пап и мам: Может напугать ужасн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бидеть хулиган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ы усвоить твердо должен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ому не надо бы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втра ты игру продолжиш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ж, пора домой спешить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360036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181480" y="685800"/>
            <a:ext cx="3581640" cy="53060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русели и качел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звлекают всех ребят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мех, и счастье, и весель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Целый день вокруг царя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о чтоб это развлечень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закончилось бедой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 мой, все без исключенья Эти правила усвой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сли заняты качели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 ним не стоит подбегать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тоб не пнули, не задели 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учше сбоку постоять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репко не забудь держатьс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летая вниз и вверх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ногах нельзя качаться 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 правила для всех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не спрыгивай с качелей 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жно ногу повреди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800520" cy="3448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1133640" cy="1190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334120" y="304920"/>
            <a:ext cx="3124080" cy="59461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пустыр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 на свалк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стоит прыгат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играть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росают банки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сти, палки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до мусор подбирать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кие стекла и желез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асны нашей детворе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стырь для игр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сем не место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уляйте лучш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 дворе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286160" cy="3324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5105520" y="762120"/>
            <a:ext cx="3352680" cy="558252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ьчик не знал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ем бы утром заняться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ал он соба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азнить - развлекаться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ает и воет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овет за собо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отбирает тарелк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едой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же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бака рычала, скулил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не сдержалась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его укусила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альчика долго придется лечить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до ли был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баку дразнить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3809880" cy="4876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019920" y="380880"/>
            <a:ext cx="2438280" cy="588744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здорово залезть на крыш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ыть домов, деревьев выше, Гулять по крыше, словно кошка, Смотреть в чердачное окошко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о миг! –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можешь ты сорваться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высоте не удержаться... Ходить по крыше вам опасно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к не рискуйте понапрасну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48320" y="152280"/>
            <a:ext cx="4114800" cy="6626880"/>
          </a:xfrm>
          <a:prstGeom prst="rect">
            <a:avLst/>
          </a:prstGeom>
          <a:solidFill>
            <a:srgbClr val="c3f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стройках работаю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 не играют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ишь глупые дет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 этом не знают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оть вам интересн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грать в жмурки-прятки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м бегать и прыгат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пасно, ребятки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 будете прята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ль убегать 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можно споткнуться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 ногу сломать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ль с лестницы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ез огражденья свалиться..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грали на стройке –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пали в больницу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3T19:53:50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