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FCA4-8869-4526-83C0-148A21B9D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D03F-8441-4D55-A7CD-FB2FEC4C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5C82-CF2C-47E9-9CA9-CECE8C24C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3450-1D01-4373-93B7-6586A4CAD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94CB-ECD5-43FC-BF9E-EB0B8391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87E7-767B-4C44-9E29-1A6243FB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F567-1E02-4C18-82A9-56CF9D01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4658-E8AC-48A5-BA81-32039FC8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D292-2776-41BA-87E9-39714A60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BFC8-C32E-4CCB-AD07-205825EC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1AAE-C433-4CD2-9746-E90F6FA7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7D6A-2441-4887-8CA6-43A64A54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4C6C-217A-42DE-A72A-410FEF52E7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4"/>
          <p:cNvSpPr/>
          <p:nvPr/>
        </p:nvSpPr>
        <p:spPr>
          <a:xfrm>
            <a:off x="3048120" y="1676520"/>
            <a:ext cx="5410080" cy="3886200"/>
          </a:xfrm>
          <a:prstGeom prst="ellipse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3cd4"/>
                </a:solidFill>
                <a:latin typeface="Arial"/>
              </a:rPr>
              <a:t>Как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3cd4"/>
                </a:solidFill>
                <a:latin typeface="Arial"/>
              </a:rPr>
              <a:t>избежать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3cd4"/>
                </a:solidFill>
                <a:latin typeface="Arial"/>
              </a:rPr>
              <a:t>неприятностей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3cd4"/>
                </a:solidFill>
                <a:latin typeface="Arial"/>
              </a:rPr>
              <a:t>на улице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3cd4"/>
                </a:solidFill>
                <a:latin typeface="Arial"/>
              </a:rPr>
              <a:t>Советы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3cd4"/>
                </a:solidFill>
                <a:latin typeface="Arial"/>
              </a:rPr>
              <a:t>Мудрого Филин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2747880" cy="426708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3714840" y="0"/>
            <a:ext cx="2286000" cy="50004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4829040" cy="37245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5257800" y="1143000"/>
            <a:ext cx="3429000" cy="484884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Холодная сосульк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куснее леденца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акую бы конфетк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изать мн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ез конца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о вот лежу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 ангиной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мне гулять нельзя... Послушайте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надо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сульки есть, друзья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0" y="1143000"/>
            <a:ext cx="5257800" cy="37339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5791320" y="1295280"/>
            <a:ext cx="2743200" cy="420876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надо трогать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то та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одячих кошек и собак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них чесотку и лиша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гко подхватишь невзначай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гладишь - можешь заразиться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будешь вынужден лечиться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отных встретишь ты дорогой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обойди и их не трогай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3314880" y="2819520"/>
            <a:ext cx="5448240" cy="35049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533520" y="457200"/>
            <a:ext cx="3962160" cy="228852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люди-незнакомц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с кататься позовут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ним в машину не садитес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леко вас увезут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не будет папы, мамы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 подружек, ни друзей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садитесь к незнакомцам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бегите прочь скорей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4191120" cy="32767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5105520" y="2019240"/>
            <a:ext cx="3809880" cy="411732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омни, друг: на красный све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ез дорогу хода нет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будь внимателен в пути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гда на светофор гляд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ль осторожен пешеход 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 безопасен пешеход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223920" y="919080"/>
            <a:ext cx="4086000" cy="45338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4800600" y="1752480"/>
            <a:ext cx="3505320" cy="283824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блюдать совсем не сложн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вила в пути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кресток осторожн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ы переход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не по диагонали, А с людьми, в толпе, Чтоб водителям сигналить Не пришлось тебе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4724640" cy="30956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5029200" y="2209680"/>
            <a:ext cx="3809880" cy="405792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ядом с дорогой опасно играт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на нее за мячом выбегать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тормозить не успеет шофер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в машине сломался мото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занесло ее на тротуар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де ты спокойно в машинки играл. Миг! - И случится большая беда... Ты у дорог не играй никогда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4343400" cy="27432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5181480" y="1295280"/>
            <a:ext cx="3733920" cy="497268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ы это правило учти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бус сзади обходи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спереди нельзя, мой друг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да случиться может вдруг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шины резко - все подряд! 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-за тебя затормозят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чнут друг друга задевать 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люди могут пострадать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йми к тому же, что и т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застрахован от беды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"/>
          <p:cNvPicPr/>
          <p:nvPr/>
        </p:nvPicPr>
        <p:blipFill>
          <a:blip r:embed="rId1"/>
          <a:srcRect l="51289" t="0" r="2192" b="12693"/>
          <a:stretch/>
        </p:blipFill>
        <p:spPr>
          <a:xfrm>
            <a:off x="762120" y="228600"/>
            <a:ext cx="4038480" cy="54100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5105520" y="1447920"/>
            <a:ext cx="2895480" cy="466776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цепляйтес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автобусу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зади, ребята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катайтес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 ним 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сковать ва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надо!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друг сорветесь –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може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да приключиться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 соседней машино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гко очутиться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rcRect l="0" t="371" r="52661" b="9978"/>
          <a:stretch/>
        </p:blipFill>
        <p:spPr>
          <a:xfrm>
            <a:off x="685800" y="533520"/>
            <a:ext cx="4114800" cy="55623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5105520" y="762120"/>
            <a:ext cx="3200400" cy="564552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ейтборд и самокат - веселая забава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 жизнью рисковат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оей не стоит, право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зда така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проезжей части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сспорно, може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вести к несчастью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машинами на трассах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тягайтесь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на площадках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 дворе катайтесь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3809880" y="1219320"/>
            <a:ext cx="4876920" cy="27432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380880" y="457200"/>
            <a:ext cx="3276720" cy="588744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ледяной горы кататьс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очется ребятам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ветерком стремглав промчатьс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село куда-то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 куда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мотрите сам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следите строго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 не вынесли вас сан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ямо на дорогу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 в пруд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де лед пока чт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нок и непрочен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село с горы кататьс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опасно очень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1905120" y="0"/>
            <a:ext cx="3429000" cy="54864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5638680" y="1066680"/>
            <a:ext cx="2667240" cy="497268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сторожней будьте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илые ребята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знакомым людя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оверять не надо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Если вас с собою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 гости позовут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ли вам конфетку Вкусную дадут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Лучше отбегайте Прочь от них скоре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предупреждайте Всех своих друзей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4038480" cy="53341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5334120" y="60480"/>
            <a:ext cx="3200400" cy="680220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рельсам ходят поезда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ты зачем пошел туда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дь поезда стрелой летят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другие города спешат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машинист не сможет вдруг 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гда тебя увидит, друг, 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кой состав затормозить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ы тебя не раздавить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шпалам прыгать интересно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 для прогулок здесь не место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3505320" y="533520"/>
            <a:ext cx="5486400" cy="36669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228600" y="1447920"/>
            <a:ext cx="3200400" cy="466776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рдо ехал мальчик Пет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своем велосипеде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потом лихачит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л 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ль рукам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держал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свалился под откос, Разукрасил лоб и нос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 паденья избежать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епко надо руль держать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 rot="5169600">
            <a:off x="-290520" y="1128600"/>
            <a:ext cx="5667480" cy="43243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5486400" y="609480"/>
            <a:ext cx="2895480" cy="545040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доль проезже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и ограждень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м необходим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з сомненья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же есл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чень ты спешишь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перелеза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го, малыш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3619800" cy="48006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5486400" y="1523880"/>
            <a:ext cx="3048120" cy="375300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 деревьям лазит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чень интересно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олько это трудно 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аждому известно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ожно напороть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а корявый сук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ли может ветка Выскользнуть из рук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адать очень больн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разбиться можно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ак что уж, ребята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Будьте осторожны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3505320" cy="57909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5257800" y="365040"/>
            <a:ext cx="3200400" cy="649728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ечерний, час заката Наступает на двор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 домам бегут ребята -Доброй ночи детворе!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ы один лишь заигрался, Не торопишься домо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в песочнице остался Строить замок рассыпной. Но гулять, пойми, опасно Без друзей, без пап и мам: Может напугать ужасн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обидеть хулиган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ы усвоить твердо должен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дному не надо быть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втра ты игру продолжишь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Что ж, пора домой спешить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3600360" cy="5257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5181480" y="685800"/>
            <a:ext cx="3581640" cy="530604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арусели и качел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звлекают всех ребят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мех, и счастье, и весель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Целый день вокруг царят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о чтоб это развлеченье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е закончилось бедой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руг мой, все без исключенья Эти правила усвой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Если заняты качели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 ним не стоит подбегать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Чтоб не пнули, не задели -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Лучше сбоку постоять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репко не забудь держаться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Улетая вниз и вверх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а ногах нельзя качаться —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Эти правила для всех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 не спрыгивай с качелей —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Можно ногу повредить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3800520" cy="3448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2"/>
          <a:stretch/>
        </p:blipFill>
        <p:spPr>
          <a:xfrm>
            <a:off x="3124080" y="380880"/>
            <a:ext cx="1133640" cy="11908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5334120" y="304920"/>
            <a:ext cx="3124080" cy="594612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 пустыр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 на свалк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стоит прыгать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играть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росают банки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сти, палки 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надо мусор подбирать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акие стекла и желез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пасны нашей детворе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устырь для игр 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всем не место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Гуляйте лучш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 дворе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4286160" cy="33242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5105520" y="762120"/>
            <a:ext cx="3352680" cy="558252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альчик не знал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чем бы утром заняться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тал он собак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разнить - развлекаться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Лает и воет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овет за собо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отбирает тарелк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 едой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Что же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обака рычала, скулил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не сдержалась –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его укусила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альчика долго придется лечить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адо ли был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обаку дразнить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3809880" cy="48765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6019920" y="380880"/>
            <a:ext cx="2438280" cy="588744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ак здорово залезть на крыш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быть домов, деревьев выше, Гулять по крыше, словно кошка, Смотреть в чердачное окошко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о миг! –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можешь ты сорваться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а высоте не удержаться... Ходить по крыше вам опасно –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ак не рискуйте понапрасну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3809880" cy="51814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4648320" y="152280"/>
            <a:ext cx="4114800" cy="662688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а стройках работают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а не играют –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Лишь глупые дети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б этом не знают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Хоть вам интересно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грать в жмурки-прятки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ам бегать и прыгать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пасно, ребятки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ы будете прятаться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ль убегать –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 можно споткнуться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 ногу сломать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ль с лестницы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без огражденья свалиться..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грали на стройке –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пали в больницу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6-23T19:53:50Z</dcterms:modified>
  <cp:revision>5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