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C35-CA8B-4CCC-ACC7-EB6FA98D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09C-E6B8-4570-BC55-470CE366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0B7-4F47-4169-A090-FB414D51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62A-BA9B-4D4C-963B-EA902EFF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54D-F9AA-4038-A270-EF8ED9FC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081-B0F6-4D59-A5DE-8E2C76B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01E-628F-497B-8905-B47D4D3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24E-E3C7-4A84-92C9-E7238F3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9A0-C791-4AA6-A680-10FFD081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454-1978-4EDA-A9F0-3A38264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28B-EB78-4E52-9523-19F275F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8EC-E165-45BC-B8AD-93ADFD1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159-FA34-4840-AF2E-94E08E4D1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Admin</cp:lastModifiedBy>
  <dcterms:modified xsi:type="dcterms:W3CDTF">2014-03-21T18:31:49Z</dcterms:modified>
  <cp:revision>12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