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0.gif" ContentType="image/gif"/>
  <Override PartName="/ppt/media/image9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11.gif" ContentType="image/gif"/>
  <Override PartName="/ppt/media/image5.jpeg" ContentType="image/jpeg"/>
  <Override PartName="/ppt/media/image13.gif" ContentType="image/gif"/>
  <Override PartName="/ppt/media/image16.png" ContentType="image/png"/>
  <Override PartName="/ppt/media/image20.gif" ContentType="image/gif"/>
  <Override PartName="/ppt/media/image19.png" ContentType="image/png"/>
  <Override PartName="/ppt/media/image15.gif" ContentType="image/gif"/>
  <Override PartName="/ppt/media/image18.png" ContentType="image/png"/>
  <Override PartName="/ppt/media/image14.gif" ContentType="image/gif"/>
  <Override PartName="/ppt/media/image17.png" ContentType="image/png"/>
  <Override PartName="/ppt/media/image24.png" ContentType="image/png"/>
  <Override PartName="/ppt/media/image1.png" ContentType="image/png"/>
  <Override PartName="/ppt/media/image21.gif" ContentType="image/gif"/>
  <Override PartName="/ppt/media/image23.gif" ContentType="image/gif"/>
  <Override PartName="/ppt/media/image3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6A66-7F31-495B-A377-51EBAFD00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7DD3-6892-4021-9340-31D4AAB0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5865-2967-4149-8671-AE77DA686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0011-7264-4108-B1BC-50C19B323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FEE5-867B-4B60-8CE8-2C398143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3662-66F1-4760-9B9D-2F6FACE0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B292-201B-4462-B8E3-9D2188E8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E383-8717-4A69-8CDE-798CCBC4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77CE-244A-4DD0-8B7B-704653CE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64F1-8F39-429C-8B39-A15C5D24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C66A-9F3D-4742-8886-F53A93F5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A407-C8E4-4B4E-91DA-25488223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d22e"/>
            </a:gs>
            <a:gs pos="100000">
              <a:srgbClr val="b434b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559A-A812-4CBB-9F87-BFB466414F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4" descr=""/>
          <p:cNvPicPr/>
          <p:nvPr/>
        </p:nvPicPr>
        <p:blipFill>
          <a:blip r:embed="rId1"/>
          <a:stretch/>
        </p:blipFill>
        <p:spPr>
          <a:xfrm>
            <a:off x="262080" y="1085760"/>
            <a:ext cx="8766000" cy="158436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6" descr=""/>
          <p:cNvPicPr/>
          <p:nvPr/>
        </p:nvPicPr>
        <p:blipFill>
          <a:blip r:embed="rId2"/>
          <a:stretch/>
        </p:blipFill>
        <p:spPr>
          <a:xfrm>
            <a:off x="2182680" y="4578480"/>
            <a:ext cx="5997600" cy="9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403848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Крутой берег может быть хорошей горкой. Но прежде чем съехать с неё, вспомни о том, что санки – это не лодка, а твои лыжи не вод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неизвестное фото 009"/>
          <p:cNvPicPr/>
          <p:nvPr/>
        </p:nvPicPr>
        <p:blipFill>
          <a:blip r:embed="rId1"/>
          <a:stretch/>
        </p:blipFill>
        <p:spPr>
          <a:xfrm>
            <a:off x="3851280" y="1197000"/>
            <a:ext cx="507852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Однажды в холодную, зимнюю по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Я из лесу вышел. Был сильный моро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Гляжу, опускается медленно в проруб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Какой-то детина…торчит только н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начала я принял его за морж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«Спасите!»- вдруг крикнул детина, дрож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68360" y="62064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Бедняга, наверно, он шёл на рыбал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И вдруг угодил в полынью с голов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И я протянул ему лыжную палк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И вскоре он выбрался, полу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у что вам ещё рассказать про детин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 реке распугал он всех раков и рыб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Зато воспаленье поймал и ангин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остуду и насморк, и кашель, и грипп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Что делать, если ты провалился под лёд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бавиться от тяжёлых, сковывающих движение вещ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ираться на лёд в местах, где произошло пад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терять времени на освобождение от одежды, т.к. в первые минуты, до полного намокания она удерживает человека на поверх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араться найти опору на льд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зать на лёд, перекатываясь со спины на живо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аляться от полыньи ползком по собственным след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Как помочь пострадавшем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ш попутчик должен лечь на лёд с раскинутыми в сторону руками и ногами и ползком продвигаться к вам на расстояние, позволяющее подать палку, шест или бросить конец шарфа, ремень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тем отползти назад и постепенно вытаскивать вас на крепкий лё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неизвестное фото 011"/>
          <p:cNvPicPr/>
          <p:nvPr/>
        </p:nvPicPr>
        <p:blipFill>
          <a:blip r:embed="rId1"/>
          <a:stretch/>
        </p:blipFill>
        <p:spPr>
          <a:xfrm>
            <a:off x="4643280" y="2462040"/>
            <a:ext cx="43214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неизвестное фото 010"/>
          <p:cNvPicPr/>
          <p:nvPr/>
        </p:nvPicPr>
        <p:blipFill>
          <a:blip r:embed="rId1"/>
          <a:stretch/>
        </p:blipFill>
        <p:spPr>
          <a:xfrm>
            <a:off x="3857760" y="1500120"/>
            <a:ext cx="4932360" cy="42102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773360"/>
            <a:ext cx="3752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Не ходи один по ль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Можешь ты попасть в беду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 лунку или в полынь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И загубишь жизнь св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ab0ba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Правила безопасного поведения при проведении новогодней ёл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Christ"/>
          <p:cNvPicPr/>
          <p:nvPr/>
        </p:nvPicPr>
        <p:blipFill>
          <a:blip r:embed="rId1"/>
          <a:stretch/>
        </p:blipFill>
        <p:spPr>
          <a:xfrm>
            <a:off x="2168640" y="1413000"/>
            <a:ext cx="471168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6c6d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о время проведения новогодней ёлки запрещается приносить с собой бенгальские огни, , петарды, хлопуш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Запрещается использовать хлопушки, бенгальские огни  вблизи ёл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014"/>
          <p:cNvPicPr/>
          <p:nvPr/>
        </p:nvPicPr>
        <p:blipFill>
          <a:blip r:embed="rId1"/>
          <a:stretch/>
        </p:blipFill>
        <p:spPr>
          <a:xfrm>
            <a:off x="4356000" y="1417680"/>
            <a:ext cx="446400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7b6c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newy41"/>
          <p:cNvPicPr/>
          <p:nvPr/>
        </p:nvPicPr>
        <p:blipFill>
          <a:blip r:embed="rId1"/>
          <a:stretch/>
        </p:blipFill>
        <p:spPr>
          <a:xfrm>
            <a:off x="5508720" y="1628640"/>
            <a:ext cx="3166920" cy="2872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395280" y="549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Любые пиротехнические изделия сами по себе представляют огромную опас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ожары от неправильного применения пиротехнических изделий уносят жизни сотен людей и уничтожают дома, кварти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c1ce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Хлопушки, бенгальские огни, фейерверки и свечи зажигайте только вдали от ёлки, занавесей, других горючих предметов и детей, одетых в новогодние костю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newy34"/>
          <p:cNvPicPr/>
          <p:nvPr/>
        </p:nvPicPr>
        <p:blipFill>
          <a:blip r:embed="rId1"/>
          <a:stretch/>
        </p:blipFill>
        <p:spPr>
          <a:xfrm>
            <a:off x="4716360" y="981000"/>
            <a:ext cx="39592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2"/>
          <p:cNvSpPr txBox="1"/>
          <p:nvPr/>
        </p:nvSpPr>
        <p:spPr>
          <a:xfrm>
            <a:off x="395280" y="2349360"/>
            <a:ext cx="8062920" cy="159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авила безопасного поведен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7c4cb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Если во время новогоднего праздника у вас на ёлке загорелась гирлянда – не панику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еобходимо обесточить гирлянду, выдернув сетевую вилку из розе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13m4"/>
          <p:cNvPicPr/>
          <p:nvPr/>
        </p:nvPicPr>
        <p:blipFill>
          <a:blip r:embed="rId1"/>
          <a:stretch/>
        </p:blipFill>
        <p:spPr>
          <a:xfrm rot="1564200">
            <a:off x="4201920" y="1800000"/>
            <a:ext cx="4599000" cy="1458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ani-lights-left-29x120"/>
          <p:cNvPicPr/>
          <p:nvPr/>
        </p:nvPicPr>
        <p:blipFill>
          <a:blip r:embed="rId2"/>
          <a:stretch/>
        </p:blipFill>
        <p:spPr>
          <a:xfrm rot="5400000">
            <a:off x="6466320" y="3695040"/>
            <a:ext cx="747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7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1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c0cb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4103640" cy="47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При горении опасен ядовитый дым, поэтому покидая помещение необходимо дышать через тка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При эвакуации из помещения не толкаться, не создавать пробки в двер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3" descr="Рисунок1"/>
          <p:cNvPicPr/>
          <p:nvPr/>
        </p:nvPicPr>
        <p:blipFill>
          <a:blip r:embed="rId1"/>
          <a:stretch/>
        </p:blipFill>
        <p:spPr>
          <a:xfrm>
            <a:off x="5364000" y="1844640"/>
            <a:ext cx="28702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c0cb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При горении элементов ёлки опасен ядовитый ды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1m5"/>
          <p:cNvPicPr/>
          <p:nvPr/>
        </p:nvPicPr>
        <p:blipFill>
          <a:blip r:embed="rId1"/>
          <a:stretch/>
        </p:blipFill>
        <p:spPr>
          <a:xfrm>
            <a:off x="4643280" y="1428840"/>
            <a:ext cx="424836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c0cb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Запомнить и взрослым необходим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Чаще в пожарах гибнут от дым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Рисунок1"/>
          <p:cNvPicPr/>
          <p:nvPr/>
        </p:nvPicPr>
        <p:blipFill>
          <a:blip r:embed="rId1"/>
          <a:stretch/>
        </p:blipFill>
        <p:spPr>
          <a:xfrm>
            <a:off x="5184720" y="549360"/>
            <a:ext cx="319572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c6d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ccff"/>
                </a:solidFill>
                <a:latin typeface="Arial"/>
              </a:rPr>
              <a:t>О возникновении    пожара немедленно сообщить в пожарную охрану по телефон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«01».</a:t>
            </a:r>
            <a:br>
              <a:rPr sz="3200"/>
            </a:br>
            <a:br>
              <a:rPr sz="32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Рисунок2О"/>
          <p:cNvPicPr/>
          <p:nvPr/>
        </p:nvPicPr>
        <p:blipFill>
          <a:blip r:embed="rId1"/>
          <a:stretch/>
        </p:blipFill>
        <p:spPr>
          <a:xfrm>
            <a:off x="4336920" y="1413000"/>
            <a:ext cx="434988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c1ce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Ни в коем случае не зажигай фейерверки, свечи или бенгальские огни до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(и вообще лучше это делать только со взрослыми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29r2"/>
          <p:cNvPicPr/>
          <p:nvPr/>
        </p:nvPicPr>
        <p:blipFill>
          <a:blip r:embed="rId1"/>
          <a:stretch/>
        </p:blipFill>
        <p:spPr>
          <a:xfrm rot="20881800">
            <a:off x="5110200" y="1356840"/>
            <a:ext cx="403380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3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7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c1ce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8" descr="Text_4"/>
          <p:cNvPicPr/>
          <p:nvPr/>
        </p:nvPicPr>
        <p:blipFill>
          <a:blip r:embed="rId1"/>
          <a:stretch/>
        </p:blipFill>
        <p:spPr>
          <a:xfrm>
            <a:off x="2119320" y="484200"/>
            <a:ext cx="4905360" cy="723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newy39"/>
          <p:cNvPicPr/>
          <p:nvPr/>
        </p:nvPicPr>
        <p:blipFill>
          <a:blip r:embed="rId2"/>
          <a:stretch/>
        </p:blipFill>
        <p:spPr>
          <a:xfrm>
            <a:off x="2335320" y="1773360"/>
            <a:ext cx="33163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6"/>
          <p:cNvSpPr txBox="1"/>
          <p:nvPr/>
        </p:nvSpPr>
        <p:spPr>
          <a:xfrm>
            <a:off x="684360" y="1557360"/>
            <a:ext cx="7993080" cy="228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к избежать опасной криминогенной ситуации.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0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оведение на улиц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39092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-  Избегайте прогулок в одиночестве в вечернее время и малолюдных мест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-  Для передвижения выбирайте оживлённые и хорошо освещённые ул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1" descr="Безымянный"/>
          <p:cNvPicPr/>
          <p:nvPr/>
        </p:nvPicPr>
        <p:blipFill>
          <a:blip r:embed="rId1"/>
          <a:stretch/>
        </p:blipFill>
        <p:spPr>
          <a:xfrm>
            <a:off x="5003640" y="1268280"/>
            <a:ext cx="373716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0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9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9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280" y="260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тарайтесь не привлекать к себе внимание дорогими украшен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е держите в руках мобильные телефоны, если в этом нет необходим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ыбирайте маршрут не короткий, а безопас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baby23"/>
          <p:cNvPicPr/>
          <p:nvPr/>
        </p:nvPicPr>
        <p:blipFill>
          <a:blip r:embed="rId1"/>
          <a:stretch/>
        </p:blipFill>
        <p:spPr>
          <a:xfrm>
            <a:off x="6086520" y="1484280"/>
            <a:ext cx="23176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0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d22e"/>
            </a:gs>
            <a:gs pos="100000">
              <a:srgbClr val="b434b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15"/>
          <p:cNvSpPr txBox="1"/>
          <p:nvPr/>
        </p:nvSpPr>
        <p:spPr>
          <a:xfrm>
            <a:off x="755640" y="189000"/>
            <a:ext cx="655308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езопасность на льд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Picture 17" descr="неизвестное фото 006"/>
          <p:cNvPicPr/>
          <p:nvPr/>
        </p:nvPicPr>
        <p:blipFill>
          <a:blip r:embed="rId1"/>
          <a:stretch/>
        </p:blipFill>
        <p:spPr>
          <a:xfrm>
            <a:off x="2700360" y="2565360"/>
            <a:ext cx="34210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икогда и ни при каких обстоятельствах не садитесь в машину к незнакомым и малознакомым людям и не заходите в чужие дома и квартиры, даже если вас об этом будут убедительно прос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дходя к подъезду или дому будь максимально внимател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Если вы столкнулись с преступнико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старайтесь запомнить его словесный портрет: во что одет, цвет глаз, шра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 первому требованию грабителя отдать деньги, ц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е вступать в пререкания, не отвечать на вызывающее повед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Говорить спокойно и медленно, уверенно в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0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Жизнь и здоровье дороже любой вещ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Цель – выпутаться из неприятностей, а не победить в схватк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0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6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ледуйте принципам безопасного повед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едвидеть опаснос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 возможности избегать её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и необходимости – действовать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Рисунок6"/>
          <p:cNvPicPr/>
          <p:nvPr/>
        </p:nvPicPr>
        <p:blipFill>
          <a:blip r:embed="rId1"/>
          <a:srcRect l="0" t="0" r="0" b="-22"/>
          <a:stretch/>
        </p:blipFill>
        <p:spPr>
          <a:xfrm>
            <a:off x="3929040" y="2000160"/>
            <a:ext cx="489744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0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9"/>
          <p:cNvSpPr txBox="1"/>
          <p:nvPr/>
        </p:nvSpPr>
        <p:spPr>
          <a:xfrm>
            <a:off x="755640" y="1341360"/>
            <a:ext cx="756144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ВСЕМ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0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Главная опасность на реке или пруду зимой – это непрочный и тонкий лёд. Поэтому избегай мест, где лёд может быть тонки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Чтобы не провалиться под лёд, следует учитыва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гда выходить на лёд с палкой в рук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льзя ходить по льду во время оттепели, в одиночку, в темноте, с большим груз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ти по льду большой группе людей можно лишь при толщине льда в 7-9 см, причём каждый человек должен идти на расстоянии 5-6 м друг от друг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льзя прыгать на льду и топать, проверяя его прочность, особенно возле берега, где движение воды истончает лё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Никогда не ходи по льду один!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14360" y="1571400"/>
            <a:ext cx="632952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66"/>
                </a:solidFill>
                <a:latin typeface="Arial"/>
              </a:rPr>
              <a:t>Человек!  Ты – не пингв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66"/>
                </a:solidFill>
                <a:latin typeface="Arial"/>
              </a:rPr>
              <a:t>Не гуляй один средь льдин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неизвестное фото 007"/>
          <p:cNvPicPr/>
          <p:nvPr/>
        </p:nvPicPr>
        <p:blipFill>
          <a:blip r:embed="rId1"/>
          <a:stretch/>
        </p:blipFill>
        <p:spPr>
          <a:xfrm>
            <a:off x="2268360" y="3284640"/>
            <a:ext cx="568980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8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8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Тонким и хрупким лёд может быть в тех местах, где впадают ручьи или бьют ключи, рядом с кустами и камышами, на середине водоём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836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 тех местах, где бьют ключи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И бегут к реке ручьи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Или где стоит завод–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най, что там непрочен лёд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неизвестное фото 008"/>
          <p:cNvPicPr/>
          <p:nvPr/>
        </p:nvPicPr>
        <p:blipFill>
          <a:blip r:embed="rId1"/>
          <a:stretch/>
        </p:blipFill>
        <p:spPr>
          <a:xfrm>
            <a:off x="3348000" y="2492280"/>
            <a:ext cx="554508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Лучше будет, если ты возьмёшь с собой крепкую палку и будешь с её помощью проверять прочность льда перед собой. Если после удара палкой о лёд появится вода, нужно сразу же возвращаться к берег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6:07:34Z</dcterms:created>
  <dc:creator>MICHAEL</dc:creator>
  <dc:description/>
  <dc:language>en-US</dc:language>
  <cp:lastModifiedBy>Admin</cp:lastModifiedBy>
  <dcterms:modified xsi:type="dcterms:W3CDTF">2014-03-21T18:31:49Z</dcterms:modified>
  <cp:revision>12</cp:revision>
  <dc:subject/>
  <dc:title>Поведение челове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619000000000001024140</vt:lpwstr>
  </property>
</Properties>
</file>