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explode.wav" ContentType="audio/x-wav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5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E7A-DA33-4380-9761-73A5CEEB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DA8-4F96-4EF2-BED2-EF94192E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79F-8307-4E33-B2BC-818253A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E3B-9356-466B-881D-559DF9B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AC9-D1CF-4912-90EF-4C31432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618-3A21-4947-8D3B-1BB3564B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029-BC73-4C2D-B53C-9AE5ADB8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28A-BD8F-4367-8EE7-73DDF8E7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14F-A994-4202-B4ED-BF5A863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BB8-B9EE-4531-BF4A-19DDE38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0CD-F40A-4798-9FB0-42FB64B0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740-5604-414A-83C3-D7CFDB1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F9E-BF93-4BA2-B5A3-D8BFCA91B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explode.wav"/><Relationship Id="rId3" Type="http://schemas.openxmlformats.org/officeDocument/2006/relationships/audio" Target="../media/applaus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5317shkid.edusite.ru/images/pozhar_ulitsa.gif" TargetMode="External"/><Relationship Id="rId2" Type="http://schemas.openxmlformats.org/officeDocument/2006/relationships/hyperlink" Target="http://gazetazp.ru/arhiv/2008/183/pic/5-1-1.jpg" TargetMode="External"/><Relationship Id="rId3" Type="http://schemas.openxmlformats.org/officeDocument/2006/relationships/hyperlink" Target="http://img-2008-04.photosight.ru/15/2636408.jpg" TargetMode="External"/><Relationship Id="rId4" Type="http://schemas.openxmlformats.org/officeDocument/2006/relationships/hyperlink" Target="http://fr0ggy.jino-net.ru/hitrovka/2.jpg" TargetMode="External"/><Relationship Id="rId5" Type="http://schemas.openxmlformats.org/officeDocument/2006/relationships/hyperlink" Target="http://school9sko.narod.ru/pam/40000001.jpg" TargetMode="External"/><Relationship Id="rId6" Type="http://schemas.openxmlformats.org/officeDocument/2006/relationships/hyperlink" Target="http://www.5317shkid.edusite.ru/images/pozhar_neznakomets.gif" TargetMode="External"/><Relationship Id="rId7" Type="http://schemas.openxmlformats.org/officeDocument/2006/relationships/hyperlink" Target="http://www.journals.ru/attach/438/43704/683271.jpg" TargetMode="External"/><Relationship Id="rId8" Type="http://schemas.openxmlformats.org/officeDocument/2006/relationships/hyperlink" Target="http://www.spas-extreme.ru/upload/iblock/978/16-12.gif" TargetMode="External"/><Relationship Id="rId9" Type="http://schemas.openxmlformats.org/officeDocument/2006/relationships/hyperlink" Target="http://i020.radikal.ru/0711/c3/dd1fae10a6e9.jpg" TargetMode="External"/><Relationship Id="rId10" Type="http://schemas.openxmlformats.org/officeDocument/2006/relationships/hyperlink" Target="http://im0-tub.yandex.net/i?id=44837714&amp;tov=0" TargetMode="External"/><Relationship Id="rId11" Type="http://schemas.openxmlformats.org/officeDocument/2006/relationships/hyperlink" Target="http://photo1.fotodia.ru/2006/12/05/46870_VsrmWIfFZU_o.jpg" TargetMode="External"/><Relationship Id="rId12" Type="http://schemas.openxmlformats.org/officeDocument/2006/relationships/hyperlink" Target="http://www.koddv.ru/images/stories/2.jpg" TargetMode="External"/><Relationship Id="rId13" Type="http://schemas.openxmlformats.org/officeDocument/2006/relationships/hyperlink" Target="http://www.5317shkid.edusite.ru/images/pozhar_chazhaya.gif" TargetMode="External"/><Relationship Id="rId14" Type="http://schemas.openxmlformats.org/officeDocument/2006/relationships/hyperlink" Target="http://schum.kiev.ua/big/hoverla-petors_2008/_DSC_1770.jpg" TargetMode="External"/><Relationship Id="rId15" Type="http://schemas.openxmlformats.org/officeDocument/2006/relationships/hyperlink" Target="http://rb7.ru/files/news_img/vor_1145257.jpg" TargetMode="External"/><Relationship Id="rId16" Type="http://schemas.openxmlformats.org/officeDocument/2006/relationships/hyperlink" Target="http://www.sb.by/images/articles/9/53/kluch.jpg" TargetMode="External"/><Relationship Id="rId17" Type="http://schemas.openxmlformats.org/officeDocument/2006/relationships/hyperlink" Target="http://www.74mail.ru/Files/news/2005_09_07/11260808139334.gif" TargetMode="External"/><Relationship Id="rId18" Type="http://schemas.openxmlformats.org/officeDocument/2006/relationships/hyperlink" Target="http://www.goal.ru/photos/killer4.jpg" TargetMode="External"/><Relationship Id="rId19" Type="http://schemas.openxmlformats.org/officeDocument/2006/relationships/hyperlink" Target="http://japandaily.ru/images/img_1271.jpg" TargetMode="External"/><Relationship Id="rId20" Type="http://schemas.openxmlformats.org/officeDocument/2006/relationships/hyperlink" Target="http://www.survive.ru/pict/32.jpg" TargetMode="External"/><Relationship Id="rId21" Type="http://schemas.openxmlformats.org/officeDocument/2006/relationships/hyperlink" Target="http://wap.fscclub.com/links/images/links08.jpg" TargetMode="External"/><Relationship Id="rId22" Type="http://schemas.openxmlformats.org/officeDocument/2006/relationships/hyperlink" Target="http://www.bel.ru/pics/news/2009/02/13/35942.jpg" TargetMode="External"/><Relationship Id="rId23" Type="http://schemas.openxmlformats.org/officeDocument/2006/relationships/hyperlink" Target="http://wap.assalam.ru/assalam2009/332/img/ulica_big.jpg" TargetMode="External"/><Relationship Id="rId24" Type="http://schemas.openxmlformats.org/officeDocument/2006/relationships/hyperlink" Target="http://vedomosti.berdyansk.biz/pubimg/2009_10/2009_10_22_3713_1.jpg" TargetMode="External"/><Relationship Id="rId25" Type="http://schemas.openxmlformats.org/officeDocument/2006/relationships/hyperlink" Target="http://grommike.narod.ru/2009/006_vasja3m/3_022.jpg" TargetMode="External"/><Relationship Id="rId26" Type="http://schemas.openxmlformats.org/officeDocument/2006/relationships/hyperlink" Target="http://www.elec.ru/files/078/1238112615/picture/11.jpg" TargetMode="External"/><Relationship Id="rId27" Type="http://schemas.openxmlformats.org/officeDocument/2006/relationships/hyperlink" Target="http://school9sko.narod.ru/pam/pam1.html" TargetMode="External"/><Relationship Id="rId28" Type="http://schemas.openxmlformats.org/officeDocument/2006/relationships/hyperlink" Target="http://school9sko.narod.ru/pam/pam3.html" TargetMode="External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io.arcticsu.ru/projects/pr1069/images/13.jpg" TargetMode="External"/><Relationship Id="rId2" Type="http://schemas.openxmlformats.org/officeDocument/2006/relationships/hyperlink" Target="http://megadoski.ru/s_images/12462114139404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1280" y="189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нструктаж по правилам поведения на ул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37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58972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4549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бери у посторонних людей предметы, которые они просят передать вашим соседям или оставить около их двери, автомобиля, гараж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24019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трогай незнакомые пакеты, сумк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риноси их домой. Сообщи о них взрослым или милиционе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Картинка 9 из 56552"/>
          <p:cNvPicPr/>
          <p:nvPr/>
        </p:nvPicPr>
        <p:blipFill>
          <a:blip r:embed="rId1"/>
          <a:stretch/>
        </p:blipFill>
        <p:spPr>
          <a:xfrm>
            <a:off x="1908000" y="112536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9280" y="51577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пускайся в подвал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однимайся на черд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17521"/>
          <a:stretch/>
        </p:blipFill>
        <p:spPr>
          <a:xfrm>
            <a:off x="1258920" y="765000"/>
            <a:ext cx="6408720" cy="396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57120" y="537228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адись в машину к незнакомым люд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85840" y="4857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збегайте садиться в пустой автобус, а если вам все-таки приходится делать это, выбирайте место ближе к води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070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14200" y="52149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ообщай незнакомым людям своего домашнего адреса и телеф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Картинка 7 из 997"/>
          <p:cNvPicPr/>
          <p:nvPr/>
        </p:nvPicPr>
        <p:blipFill>
          <a:blip r:embed="rId1"/>
          <a:stretch/>
        </p:blipFill>
        <p:spPr>
          <a:xfrm>
            <a:off x="900000" y="404640"/>
            <a:ext cx="7559640" cy="464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14200" y="51436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оставляй ключи от квартиры в "потайном" месте, не давай их поиграть, сравнить с друг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Картинка 2 из 559"/>
          <p:cNvPicPr/>
          <p:nvPr/>
        </p:nvPicPr>
        <p:blipFill>
          <a:blip r:embed="rId1"/>
          <a:stretch/>
        </p:blipFill>
        <p:spPr>
          <a:xfrm>
            <a:off x="684360" y="260280"/>
            <a:ext cx="3119400" cy="48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53 из 559"/>
          <p:cNvPicPr/>
          <p:nvPr/>
        </p:nvPicPr>
        <p:blipFill>
          <a:blip r:embed="rId2"/>
          <a:stretch/>
        </p:blipFill>
        <p:spPr>
          <a:xfrm>
            <a:off x="4140360" y="69228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24000" y="52293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тойте долго перед входной дверью - приготовьте ключи заран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32908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57120" y="54291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заходи в лифт с пьяными и незнакомыми людь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832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14200" y="3317760"/>
            <a:ext cx="857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ас остановил преступник, сохраняйте спокойствие, не ведите себя агрессивно, особенно если он вооружен и тем более, если вы не уверены, что сможете защитить себя. Лучший способ уменьшить физическое насилие по отношению к себе - не сопротивля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24829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Избегайте прогулок в одиночестве в вечернее время и малолюдных мес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1420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ля передвижения выбирайте оживленные и хорошо освещенные ул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36400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14200" y="521496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озникнет необходимость защищаться, бросайте свертки и пакеты, чтобы иметь свободу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Картинка 20 из 16603"/>
          <p:cNvPicPr/>
          <p:nvPr/>
        </p:nvPicPr>
        <p:blipFill>
          <a:blip r:embed="rId1"/>
          <a:stretch/>
        </p:blipFill>
        <p:spPr>
          <a:xfrm>
            <a:off x="1619280" y="260280"/>
            <a:ext cx="5975280" cy="491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14200" y="500076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делай ложных сообщений и вызовов специальных служб (милиция, пожарная охрана, скорая помощ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9752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260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РОВЕРЬ  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87700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ть  тес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Картинка 34 из 1741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472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333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нельзя делать, если позвонили или постучали в двер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557360"/>
            <a:ext cx="4105440" cy="934920"/>
          </a:xfrm>
          <a:custGeom>
            <a:avLst/>
            <a:gdLst>
              <a:gd name="textAreaLeft" fmla="*/ 171360 w 4105440"/>
              <a:gd name="textAreaRight" fmla="*/ 3934080 w 4105440"/>
              <a:gd name="textAreaTop" fmla="*/ 171360 h 934920"/>
              <a:gd name="textAreaBottom" fmla="*/ 763560 h 934920"/>
            </a:gdLst>
            <a:ahLst/>
            <a:rect l="textAreaLeft" t="textAreaTop" r="textAreaRight" b="textAreaBottom"/>
            <a:pathLst>
              <a:path w="94822" h="21600">
                <a:moveTo>
                  <a:pt x="0" y="0"/>
                </a:moveTo>
                <a:lnTo>
                  <a:pt x="94822" y="0"/>
                </a:lnTo>
                <a:lnTo>
                  <a:pt x="94822" y="21600"/>
                </a:lnTo>
                <a:lnTo>
                  <a:pt x="0" y="21600"/>
                </a:lnTo>
                <a:close/>
              </a:path>
              <a:path fill="lightenLess" w="94822" h="21600">
                <a:moveTo>
                  <a:pt x="0" y="0"/>
                </a:moveTo>
                <a:lnTo>
                  <a:pt x="94822" y="0"/>
                </a:lnTo>
                <a:lnTo>
                  <a:pt x="90864" y="3958"/>
                </a:lnTo>
                <a:lnTo>
                  <a:pt x="3958" y="3958"/>
                </a:lnTo>
                <a:close/>
              </a:path>
              <a:path fill="darken" w="94822" h="21600">
                <a:moveTo>
                  <a:pt x="94822" y="0"/>
                </a:moveTo>
                <a:lnTo>
                  <a:pt x="94822" y="21600"/>
                </a:lnTo>
                <a:lnTo>
                  <a:pt x="90864" y="17642"/>
                </a:lnTo>
                <a:lnTo>
                  <a:pt x="90864" y="3958"/>
                </a:lnTo>
                <a:close/>
              </a:path>
              <a:path fill="darkenLess" w="94822" h="21600">
                <a:moveTo>
                  <a:pt x="94822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0864" y="17642"/>
                </a:lnTo>
                <a:close/>
              </a:path>
              <a:path fill="lighten" w="94822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мотреть в глаз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8136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говаривать с незнакомц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ерез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407664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крывать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знакомому челове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00640"/>
            <a:ext cx="4176720" cy="936720"/>
          </a:xfrm>
          <a:custGeom>
            <a:avLst/>
            <a:gdLst>
              <a:gd name="textAreaLeft" fmla="*/ 171360 w 4176720"/>
              <a:gd name="textAreaRight" fmla="*/ 4005360 w 4176720"/>
              <a:gd name="textAreaTop" fmla="*/ 171360 h 936720"/>
              <a:gd name="textAreaBottom" fmla="*/ 765360 h 936720"/>
            </a:gdLst>
            <a:ahLst/>
            <a:rect l="textAreaLeft" t="textAreaTop" r="textAreaRight" b="textAreaBottom"/>
            <a:pathLst>
              <a:path w="96283" h="21600">
                <a:moveTo>
                  <a:pt x="0" y="0"/>
                </a:moveTo>
                <a:lnTo>
                  <a:pt x="96283" y="0"/>
                </a:lnTo>
                <a:lnTo>
                  <a:pt x="96283" y="21600"/>
                </a:lnTo>
                <a:lnTo>
                  <a:pt x="0" y="21600"/>
                </a:lnTo>
                <a:close/>
              </a:path>
              <a:path fill="lightenLess" w="96283" h="21600">
                <a:moveTo>
                  <a:pt x="0" y="0"/>
                </a:moveTo>
                <a:lnTo>
                  <a:pt x="96283" y="0"/>
                </a:lnTo>
                <a:lnTo>
                  <a:pt x="92325" y="3958"/>
                </a:lnTo>
                <a:lnTo>
                  <a:pt x="3958" y="3958"/>
                </a:lnTo>
                <a:close/>
              </a:path>
              <a:path fill="darken" w="96283" h="21600">
                <a:moveTo>
                  <a:pt x="96283" y="0"/>
                </a:moveTo>
                <a:lnTo>
                  <a:pt x="96283" y="21600"/>
                </a:lnTo>
                <a:lnTo>
                  <a:pt x="92325" y="17642"/>
                </a:lnTo>
                <a:lnTo>
                  <a:pt x="92325" y="3958"/>
                </a:lnTo>
                <a:close/>
              </a:path>
              <a:path fill="darkenLess" w="96283" h="21600">
                <a:moveTo>
                  <a:pt x="96283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2325" y="17642"/>
                </a:lnTo>
                <a:close/>
              </a:path>
              <a:path fill="lighten" w="96283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дходить к дв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Картинка 10 из 231"/>
          <p:cNvPicPr/>
          <p:nvPr/>
        </p:nvPicPr>
        <p:blipFill>
          <a:blip r:embed="rId1"/>
          <a:stretch/>
        </p:blipFill>
        <p:spPr>
          <a:xfrm>
            <a:off x="4788000" y="1268280"/>
            <a:ext cx="38098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989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гулка в гордом одиноче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14172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с друзь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29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ле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445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тихом 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опасная прогулка – 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Картинка 50 из 8621"/>
          <p:cNvPicPr/>
          <p:nvPr/>
        </p:nvPicPr>
        <p:blipFill>
          <a:blip r:embed="rId1"/>
          <a:srcRect l="21644" t="877" r="31549" b="0"/>
          <a:stretch/>
        </p:blipFill>
        <p:spPr>
          <a:xfrm>
            <a:off x="539640" y="981000"/>
            <a:ext cx="35337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пришлось идти домой поздно вечером, необходимо выбр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мную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22936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вещенную 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ймать  попут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93372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ти по дороге попутч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Картинка 80 из 7211"/>
          <p:cNvPicPr/>
          <p:nvPr/>
        </p:nvPicPr>
        <p:blipFill>
          <a:blip r:embed="rId1"/>
          <a:stretch/>
        </p:blipFill>
        <p:spPr>
          <a:xfrm>
            <a:off x="4859280" y="213372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71636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тельно пой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63700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каз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86064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звонить друзь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5156280"/>
            <a:ext cx="4248360" cy="1152360"/>
          </a:xfrm>
          <a:custGeom>
            <a:avLst/>
            <a:gdLst>
              <a:gd name="textAreaLeft" fmla="*/ 210960 w 4248360"/>
              <a:gd name="textAreaRight" fmla="*/ 4037400 w 4248360"/>
              <a:gd name="textAreaTop" fmla="*/ 210960 h 1152360"/>
              <a:gd name="textAreaBottom" fmla="*/ 941400 h 1152360"/>
            </a:gdLst>
            <a:ahLst/>
            <a:rect l="textAreaLeft" t="textAreaTop" r="textAreaRight" b="textAreaBottom"/>
            <a:pathLst>
              <a:path w="79614" h="21600">
                <a:moveTo>
                  <a:pt x="0" y="0"/>
                </a:moveTo>
                <a:lnTo>
                  <a:pt x="79614" y="0"/>
                </a:lnTo>
                <a:lnTo>
                  <a:pt x="79614" y="21600"/>
                </a:lnTo>
                <a:lnTo>
                  <a:pt x="0" y="21600"/>
                </a:lnTo>
                <a:close/>
              </a:path>
              <a:path fill="lightenLess" w="79614" h="21600">
                <a:moveTo>
                  <a:pt x="0" y="0"/>
                </a:moveTo>
                <a:lnTo>
                  <a:pt x="79614" y="0"/>
                </a:lnTo>
                <a:lnTo>
                  <a:pt x="75656" y="3958"/>
                </a:lnTo>
                <a:lnTo>
                  <a:pt x="3958" y="3958"/>
                </a:lnTo>
                <a:close/>
              </a:path>
              <a:path fill="darken" w="79614" h="21600">
                <a:moveTo>
                  <a:pt x="79614" y="0"/>
                </a:moveTo>
                <a:lnTo>
                  <a:pt x="79614" y="21600"/>
                </a:lnTo>
                <a:lnTo>
                  <a:pt x="75656" y="17642"/>
                </a:lnTo>
                <a:lnTo>
                  <a:pt x="75656" y="3958"/>
                </a:lnTo>
                <a:close/>
              </a:path>
              <a:path fill="darkenLess" w="79614" h="21600">
                <a:moveTo>
                  <a:pt x="79614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75656" y="17642"/>
                </a:lnTo>
                <a:close/>
              </a:path>
              <a:path fill="lighten" w="79614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59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незнакомец предлагает вам пройти с ним, чтобы помочь,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Картинка 13 из 465"/>
          <p:cNvPicPr/>
          <p:nvPr/>
        </p:nvPicPr>
        <p:blipFill>
          <a:blip r:embed="rId1"/>
          <a:stretch/>
        </p:blipFill>
        <p:spPr>
          <a:xfrm>
            <a:off x="324000" y="907920"/>
            <a:ext cx="3744720" cy="580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62864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усаться, царап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85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ричать, 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76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йти общ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300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дать все ценные ве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ши действия при угрозе ножом, когда пытаются вас ограб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Картинка 62 из 94"/>
          <p:cNvPicPr/>
          <p:nvPr/>
        </p:nvPicPr>
        <p:blipFill>
          <a:blip r:embed="rId1"/>
          <a:stretch/>
        </p:blipFill>
        <p:spPr>
          <a:xfrm>
            <a:off x="5219640" y="1413000"/>
            <a:ext cx="324324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0072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менить маршр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637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бежать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еслед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3860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5084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нить прие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амооб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почувствовали, что вас преследуют, вам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Картинка 124 из 575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317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260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ючи от своей квартиры вам след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ходя их дома, пря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"потайном"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37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посмотреть вс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то попрос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93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ятать во внутрен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р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229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на хранение сос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Картинка 16 из 391358"/>
          <p:cNvPicPr/>
          <p:nvPr/>
        </p:nvPicPr>
        <p:blipFill>
          <a:blip r:embed="rId1"/>
          <a:stretch/>
        </p:blipFill>
        <p:spPr>
          <a:xfrm>
            <a:off x="5580000" y="1197000"/>
            <a:ext cx="2313000" cy="459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14200" y="53578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озвращаясь поздно домой, соберите длинные волосы навер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0" y="148428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ходить в л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63700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ояться этого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78936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ходить из подъ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94172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в лифте незнакомец, вы НЕ долж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Картинка 25 из 251132"/>
          <p:cNvPicPr/>
          <p:nvPr/>
        </p:nvPicPr>
        <p:blipFill>
          <a:blip r:embed="rId1"/>
          <a:stretch/>
        </p:blipFill>
        <p:spPr>
          <a:xfrm>
            <a:off x="179280" y="1341360"/>
            <a:ext cx="425628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413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ходить в сторо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менять свой  маршр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0536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ржаться ближе к люд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30064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адиться в н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к вам подъехала незнакомая машина, вы НЕ долж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Картинка 73 из 1980498"/>
          <p:cNvPicPr/>
          <p:nvPr/>
        </p:nvPicPr>
        <p:blipFill>
          <a:blip r:embed="rId1"/>
          <a:stretch/>
        </p:blipFill>
        <p:spPr>
          <a:xfrm>
            <a:off x="4859280" y="2421000"/>
            <a:ext cx="406872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1413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дождать кого-либо, к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йдет в подъез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70828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язательно поднима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лиф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4005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готовить ключи зара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37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ключить фона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ходя в подъезд, вы дол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Картинка 107 из 11233"/>
          <p:cNvPicPr/>
          <p:nvPr/>
        </p:nvPicPr>
        <p:blipFill>
          <a:blip r:embed="rId1"/>
          <a:stretch/>
        </p:blipFill>
        <p:spPr>
          <a:xfrm>
            <a:off x="34920" y="215100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115920"/>
            <a:ext cx="8064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сли у тебя были ошибки в тесте, следует еще раз просмотреть советы по поведению на ул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воя безопасность в твоих рука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Картинка 13 из 34386"/>
          <p:cNvPicPr/>
          <p:nvPr/>
        </p:nvPicPr>
        <p:blipFill>
          <a:blip r:embed="rId1"/>
          <a:stretch/>
        </p:blipFill>
        <p:spPr>
          <a:xfrm>
            <a:off x="2556000" y="3809880"/>
            <a:ext cx="360036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71380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сылки  на используем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5317shkid.edusite.ru/images/pozhar_ulits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azetazp.ru/arhiv/2008/183/pic/5-1-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g-2008-04.photosight.ru/15/26364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r0ggy.jino-net.ru/hitrovka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school9sko.narod.ru/pam/4000000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5317shkid.edusite.ru/images/pozhar_neznakomets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journals.ru/attach/438/43704/683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spas-extreme.ru/upload/iblock/978/16-12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020.radikal.ru/0711/c3/dd1fae10a6e9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im0-tub.yandex.net/i?id=44837714&amp;tov=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photo1.fotodia.ru/2006/12/05/46870_VsrmWIfFZU_o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слайд 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koddv.ru/images/stories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5317shkid.edusite.ru/images/pozhar_chazhay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schum.kiev.ua/big/hoverla-petors_2008/_DSC_1770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rb7.ru/files/news_img/vor_1145257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www.sb.by/images/articles/9/53/kluch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www.74mail.ru/Files/news/2005_09_07/11260808139334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goal.ru/photos/killer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japandaily.ru/images/img_1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survive.ru/pict/3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ap.fscclub.com/links/images/links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bel.ru/pics/news/2009/02/13/3594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ap.assalam.ru/assalam2009/332/img/ulica_big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vedomosti.berdyansk.biz/pubimg/2009_10/2009_10_22_3713_1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http://grommike.narod.ru/2009/006_vasja3m/3_02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http://www.elec.ru/files/078/1238112615/picture/11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слайд 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http://school9sko.narod.ru/pam/pam1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http://school9sko.narod.ru/pam/pam3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89000"/>
            <a:ext cx="8785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cio.arcticsu.ru/projects/pr1069/images/13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megadoski.ru/s_images/1246211413940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lib.rus.ec/i/63/156663/p0061.png   слайд 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ngr.uconn.edu/alarm/files/emre/Images/keys.png   слайд 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edelia.ru/im/nums/2006/050/lift.jpg   слайд 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eselo.by/docs/images/Image/news/35.JPG   слайд 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omeformat.ucoz.ru/_ph/2/194673793.jpg  слайд 3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roisam.com/picture/pic-25d53254.jpg  слайд 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584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ержите определенную дистанцию с людьми, проходя мимо подъездов и подворот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удьте готовы изменить свой маршрут, если почувствуете опасность или заметите подозрительную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3098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920" y="52149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Если вас хотят похитить, создавайте как можно больше ш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4786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сегда предупреждайте родителей или друзей о своем маршруте и просите их встретить вас в вечерн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5792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00040" y="5014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ставляй в дверях записку с точной датой и временем своего возвра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567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51037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принимай подарков, сладостей, жевательных резинок от незнакомых лю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616720" cy="374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7:35:35Z</dcterms:created>
  <dc:creator>Admin</dc:creator>
  <dc:description/>
  <dc:language>en-US</dc:language>
  <cp:lastModifiedBy>Ershova</cp:lastModifiedBy>
  <dcterms:modified xsi:type="dcterms:W3CDTF">2010-01-08T17:24:55Z</dcterms:modified>
  <cp:revision>68</cp:revision>
  <dc:subject/>
  <dc:title>Слайд 1</dc:title>
</cp:coreProperties>
</file>