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explode.wav" ContentType="audio/x-wav"/>
  <Override PartName="/ppt/media/image22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10.png" ContentType="image/png"/>
  <Override PartName="/ppt/media/image33.jpeg" ContentType="image/jpeg"/>
  <Override PartName="/ppt/media/image27.jpeg" ContentType="image/jpeg"/>
  <Override PartName="/ppt/media/image6.png" ContentType="image/pn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applause.wav" ContentType="audio/x-wav"/>
  <Override PartName="/ppt/media/image5.png" ContentType="image/png"/>
  <Override PartName="/ppt/media/image2.jpeg" ContentType="image/jpeg"/>
  <Override PartName="/ppt/media/image23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05AA-55F0-4C5A-9B21-F71058F7B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F144-D84A-4CF6-88C6-CA230132B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35B5-B494-432B-BE86-723A3B8D4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B2F3-1C19-4C04-9A21-FDBDA82DB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DCC6-6506-4531-BBC4-1175D256D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BE40-A3A1-448F-AD48-F5BC0F91B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BF3E-326A-4DC5-8BA2-04DCBDEC2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0FAD-6C12-4EDC-A8DD-11370D4DF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063A-E4C0-4382-87A7-621A86B96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0AD1-B5EC-45F6-ADE1-B2F34AC5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FB7F-8B95-42A1-A72A-6E71866D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6C95-A30A-4A76-9325-1F574AEF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7A596-7BAE-4D64-B646-67C9579B7B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applaus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explode.wav"/><Relationship Id="rId3" Type="http://schemas.openxmlformats.org/officeDocument/2006/relationships/audio" Target="../media/applaus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audio" Target="../media/applaus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applause.wav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applaus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applause.wav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5317shkid.edusite.ru/images/pozhar_ulitsa.gif" TargetMode="External"/><Relationship Id="rId2" Type="http://schemas.openxmlformats.org/officeDocument/2006/relationships/hyperlink" Target="http://gazetazp.ru/arhiv/2008/183/pic/5-1-1.jpg" TargetMode="External"/><Relationship Id="rId3" Type="http://schemas.openxmlformats.org/officeDocument/2006/relationships/hyperlink" Target="http://img-2008-04.photosight.ru/15/2636408.jpg" TargetMode="External"/><Relationship Id="rId4" Type="http://schemas.openxmlformats.org/officeDocument/2006/relationships/hyperlink" Target="http://fr0ggy.jino-net.ru/hitrovka/2.jpg" TargetMode="External"/><Relationship Id="rId5" Type="http://schemas.openxmlformats.org/officeDocument/2006/relationships/hyperlink" Target="http://school9sko.narod.ru/pam/40000001.jpg" TargetMode="External"/><Relationship Id="rId6" Type="http://schemas.openxmlformats.org/officeDocument/2006/relationships/hyperlink" Target="http://www.5317shkid.edusite.ru/images/pozhar_neznakomets.gif" TargetMode="External"/><Relationship Id="rId7" Type="http://schemas.openxmlformats.org/officeDocument/2006/relationships/hyperlink" Target="http://www.journals.ru/attach/438/43704/683271.jpg" TargetMode="External"/><Relationship Id="rId8" Type="http://schemas.openxmlformats.org/officeDocument/2006/relationships/hyperlink" Target="http://www.spas-extreme.ru/upload/iblock/978/16-12.gif" TargetMode="External"/><Relationship Id="rId9" Type="http://schemas.openxmlformats.org/officeDocument/2006/relationships/hyperlink" Target="http://i020.radikal.ru/0711/c3/dd1fae10a6e9.jpg" TargetMode="External"/><Relationship Id="rId10" Type="http://schemas.openxmlformats.org/officeDocument/2006/relationships/hyperlink" Target="http://im0-tub.yandex.net/i?id=44837714&amp;tov=0" TargetMode="External"/><Relationship Id="rId11" Type="http://schemas.openxmlformats.org/officeDocument/2006/relationships/hyperlink" Target="http://photo1.fotodia.ru/2006/12/05/46870_VsrmWIfFZU_o.jpg" TargetMode="External"/><Relationship Id="rId12" Type="http://schemas.openxmlformats.org/officeDocument/2006/relationships/hyperlink" Target="http://www.koddv.ru/images/stories/2.jpg" TargetMode="External"/><Relationship Id="rId13" Type="http://schemas.openxmlformats.org/officeDocument/2006/relationships/hyperlink" Target="http://www.5317shkid.edusite.ru/images/pozhar_chazhaya.gif" TargetMode="External"/><Relationship Id="rId14" Type="http://schemas.openxmlformats.org/officeDocument/2006/relationships/hyperlink" Target="http://schum.kiev.ua/big/hoverla-petors_2008/_DSC_1770.jpg" TargetMode="External"/><Relationship Id="rId15" Type="http://schemas.openxmlformats.org/officeDocument/2006/relationships/hyperlink" Target="http://rb7.ru/files/news_img/vor_1145257.jpg" TargetMode="External"/><Relationship Id="rId16" Type="http://schemas.openxmlformats.org/officeDocument/2006/relationships/hyperlink" Target="http://www.sb.by/images/articles/9/53/kluch.jpg" TargetMode="External"/><Relationship Id="rId17" Type="http://schemas.openxmlformats.org/officeDocument/2006/relationships/hyperlink" Target="http://www.74mail.ru/Files/news/2005_09_07/11260808139334.gif" TargetMode="External"/><Relationship Id="rId18" Type="http://schemas.openxmlformats.org/officeDocument/2006/relationships/hyperlink" Target="http://www.goal.ru/photos/killer4.jpg" TargetMode="External"/><Relationship Id="rId19" Type="http://schemas.openxmlformats.org/officeDocument/2006/relationships/hyperlink" Target="http://japandaily.ru/images/img_1271.jpg" TargetMode="External"/><Relationship Id="rId20" Type="http://schemas.openxmlformats.org/officeDocument/2006/relationships/hyperlink" Target="http://www.survive.ru/pict/32.jpg" TargetMode="External"/><Relationship Id="rId21" Type="http://schemas.openxmlformats.org/officeDocument/2006/relationships/hyperlink" Target="http://wap.fscclub.com/links/images/links08.jpg" TargetMode="External"/><Relationship Id="rId22" Type="http://schemas.openxmlformats.org/officeDocument/2006/relationships/hyperlink" Target="http://www.bel.ru/pics/news/2009/02/13/35942.jpg" TargetMode="External"/><Relationship Id="rId23" Type="http://schemas.openxmlformats.org/officeDocument/2006/relationships/hyperlink" Target="http://wap.assalam.ru/assalam2009/332/img/ulica_big.jpg" TargetMode="External"/><Relationship Id="rId24" Type="http://schemas.openxmlformats.org/officeDocument/2006/relationships/hyperlink" Target="http://vedomosti.berdyansk.biz/pubimg/2009_10/2009_10_22_3713_1.jpg" TargetMode="External"/><Relationship Id="rId25" Type="http://schemas.openxmlformats.org/officeDocument/2006/relationships/hyperlink" Target="http://grommike.narod.ru/2009/006_vasja3m/3_022.jpg" TargetMode="External"/><Relationship Id="rId26" Type="http://schemas.openxmlformats.org/officeDocument/2006/relationships/hyperlink" Target="http://www.elec.ru/files/078/1238112615/picture/11.jpg" TargetMode="External"/><Relationship Id="rId27" Type="http://schemas.openxmlformats.org/officeDocument/2006/relationships/hyperlink" Target="http://school9sko.narod.ru/pam/pam1.html" TargetMode="External"/><Relationship Id="rId28" Type="http://schemas.openxmlformats.org/officeDocument/2006/relationships/hyperlink" Target="http://school9sko.narod.ru/pam/pam3.html" TargetMode="External"/><Relationship Id="rId29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cio.arcticsu.ru/projects/pr1069/images/13.jpg" TargetMode="External"/><Relationship Id="rId2" Type="http://schemas.openxmlformats.org/officeDocument/2006/relationships/hyperlink" Target="http://megadoski.ru/s_images/12462114139404.jpg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611280" y="189000"/>
            <a:ext cx="785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Инструктаж по правилам поведения на улиц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7058160" cy="37479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50920" y="5589720"/>
            <a:ext cx="85690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г. Каменск-Уральский  учитель СОШ № 3 им. П.И. Беляева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Ершова Елена Геннадьев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2010 го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357120" y="4549680"/>
            <a:ext cx="842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НЕ бери у посторонних людей предметы, которые они просят передать вашим соседям или оставить около их двери, автомобиля, гараж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285840" y="0"/>
            <a:ext cx="85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Не отвечайте и не поддавайтесь на провока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132000" y="1341360"/>
            <a:ext cx="2401920" cy="3168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285840" y="0"/>
            <a:ext cx="85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Не отвечайте и не поддавайтесь на провока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2"/>
          <p:cNvSpPr/>
          <p:nvPr/>
        </p:nvSpPr>
        <p:spPr>
          <a:xfrm>
            <a:off x="285840" y="485784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НЕ трогай незнакомые пакеты, сумки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 НЕ приноси их домой. Сообщи о них взрослым или милиционер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Картинка 9 из 56552"/>
          <p:cNvPicPr/>
          <p:nvPr/>
        </p:nvPicPr>
        <p:blipFill>
          <a:blip r:embed="rId1"/>
          <a:stretch/>
        </p:blipFill>
        <p:spPr>
          <a:xfrm>
            <a:off x="1908000" y="1125360"/>
            <a:ext cx="5077080" cy="3810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1"/>
          <p:cNvSpPr/>
          <p:nvPr/>
        </p:nvSpPr>
        <p:spPr>
          <a:xfrm>
            <a:off x="179280" y="5157720"/>
            <a:ext cx="871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НЕ спускайся в подвалы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 НЕ поднимайся на черда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0" t="0" r="0" b="17521"/>
          <a:stretch/>
        </p:blipFill>
        <p:spPr>
          <a:xfrm>
            <a:off x="1258920" y="765000"/>
            <a:ext cx="6408720" cy="39643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1"/>
          <p:cNvSpPr/>
          <p:nvPr/>
        </p:nvSpPr>
        <p:spPr>
          <a:xfrm>
            <a:off x="357120" y="5372280"/>
            <a:ext cx="842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НЕ садись в машину к незнакомым людя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00000" y="765000"/>
            <a:ext cx="7417080" cy="39387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1"/>
          <p:cNvSpPr/>
          <p:nvPr/>
        </p:nvSpPr>
        <p:spPr>
          <a:xfrm>
            <a:off x="285840" y="4857840"/>
            <a:ext cx="8572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Избегайте садиться в пустой автобус, а если вам все-таки приходится делать это, выбирайте место ближе к водител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619280" y="476280"/>
            <a:ext cx="6107040" cy="4052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1"/>
          <p:cNvSpPr/>
          <p:nvPr/>
        </p:nvSpPr>
        <p:spPr>
          <a:xfrm>
            <a:off x="214200" y="521496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НЕ сообщай незнакомым людям своего домашнего адреса и телефон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" descr="Картинка 7 из 997"/>
          <p:cNvPicPr/>
          <p:nvPr/>
        </p:nvPicPr>
        <p:blipFill>
          <a:blip r:embed="rId1"/>
          <a:stretch/>
        </p:blipFill>
        <p:spPr>
          <a:xfrm>
            <a:off x="900000" y="404640"/>
            <a:ext cx="7559640" cy="4642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1"/>
          <p:cNvSpPr/>
          <p:nvPr/>
        </p:nvSpPr>
        <p:spPr>
          <a:xfrm>
            <a:off x="214200" y="5143680"/>
            <a:ext cx="864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НЕ оставляй ключи от квартиры в "потайном" месте, не давай их поиграть, сравнить с други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" descr="Картинка 2 из 559"/>
          <p:cNvPicPr/>
          <p:nvPr/>
        </p:nvPicPr>
        <p:blipFill>
          <a:blip r:embed="rId1"/>
          <a:stretch/>
        </p:blipFill>
        <p:spPr>
          <a:xfrm>
            <a:off x="684360" y="260280"/>
            <a:ext cx="3119400" cy="4824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Картинка 53 из 559"/>
          <p:cNvPicPr/>
          <p:nvPr/>
        </p:nvPicPr>
        <p:blipFill>
          <a:blip r:embed="rId2"/>
          <a:stretch/>
        </p:blipFill>
        <p:spPr>
          <a:xfrm>
            <a:off x="4140360" y="692280"/>
            <a:ext cx="3960720" cy="3960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1"/>
          <p:cNvSpPr/>
          <p:nvPr/>
        </p:nvSpPr>
        <p:spPr>
          <a:xfrm>
            <a:off x="324000" y="5229360"/>
            <a:ext cx="84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Не стойте долго перед входной дверью - приготовьте ключи заране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692360" y="907920"/>
            <a:ext cx="5329080" cy="4005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1"/>
          <p:cNvSpPr/>
          <p:nvPr/>
        </p:nvSpPr>
        <p:spPr>
          <a:xfrm>
            <a:off x="357120" y="5429160"/>
            <a:ext cx="842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НЕ заходи в лифт с пьяными и незнакомыми людь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832360" cy="3962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1"/>
          <p:cNvSpPr/>
          <p:nvPr/>
        </p:nvSpPr>
        <p:spPr>
          <a:xfrm>
            <a:off x="214200" y="3317760"/>
            <a:ext cx="85726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Если вас остановил преступник, сохраняйте спокойствие, не ведите себя агрессивно, особенно если он вооружен и тем более, если вы не уверены, что сможете защитить себя. Лучший способ уменьшить физическое насилие по отношению к себе - не сопротивлять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203640" y="189000"/>
            <a:ext cx="2482920" cy="3240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428760" y="214200"/>
            <a:ext cx="84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Избегайте прогулок в одиночестве в вечернее время и малолюдных места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2"/>
          <p:cNvSpPr/>
          <p:nvPr/>
        </p:nvSpPr>
        <p:spPr>
          <a:xfrm>
            <a:off x="214200" y="5072040"/>
            <a:ext cx="864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Для передвижения выбирайте оживленные и хорошо освещенные улиц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35280" y="1413000"/>
            <a:ext cx="5364000" cy="3589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214200" y="5214960"/>
            <a:ext cx="864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Если возникнет необходимость защищаться, бросайте свертки и пакеты, чтобы иметь свободу движ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" descr="Картинка 20 из 16603"/>
          <p:cNvPicPr/>
          <p:nvPr/>
        </p:nvPicPr>
        <p:blipFill>
          <a:blip r:embed="rId1"/>
          <a:stretch/>
        </p:blipFill>
        <p:spPr>
          <a:xfrm>
            <a:off x="1619280" y="260280"/>
            <a:ext cx="5975280" cy="4916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1"/>
          <p:cNvSpPr/>
          <p:nvPr/>
        </p:nvSpPr>
        <p:spPr>
          <a:xfrm>
            <a:off x="214200" y="5000760"/>
            <a:ext cx="8572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НЕ делай ложных сообщений и вызовов специальных служб (милиция, пожарная охрана, скорая помощь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763640" y="333360"/>
            <a:ext cx="5975280" cy="4481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4360" y="260280"/>
            <a:ext cx="79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ПРОВЕРЬ    СЕБ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1979640" y="5877000"/>
            <a:ext cx="5473800" cy="576360"/>
          </a:xfrm>
          <a:custGeom>
            <a:avLst/>
            <a:gdLst>
              <a:gd name="textAreaLeft" fmla="*/ 37080 w 5473800"/>
              <a:gd name="textAreaRight" fmla="*/ 5436720 w 54738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05025" h="21600">
                <a:moveTo>
                  <a:pt x="0" y="0"/>
                </a:moveTo>
                <a:lnTo>
                  <a:pt x="205025" y="0"/>
                </a:lnTo>
                <a:lnTo>
                  <a:pt x="205025" y="21600"/>
                </a:lnTo>
                <a:lnTo>
                  <a:pt x="0" y="21600"/>
                </a:lnTo>
                <a:close/>
              </a:path>
              <a:path fill="lightenLess" w="205025" h="21600">
                <a:moveTo>
                  <a:pt x="0" y="0"/>
                </a:moveTo>
                <a:lnTo>
                  <a:pt x="205025" y="0"/>
                </a:lnTo>
                <a:lnTo>
                  <a:pt x="203625" y="1400"/>
                </a:lnTo>
                <a:lnTo>
                  <a:pt x="1400" y="1400"/>
                </a:lnTo>
                <a:close/>
              </a:path>
              <a:path fill="darken" w="205025" h="21600">
                <a:moveTo>
                  <a:pt x="205025" y="0"/>
                </a:moveTo>
                <a:lnTo>
                  <a:pt x="205025" y="21600"/>
                </a:lnTo>
                <a:lnTo>
                  <a:pt x="203625" y="20200"/>
                </a:lnTo>
                <a:lnTo>
                  <a:pt x="203625" y="1400"/>
                </a:lnTo>
                <a:close/>
              </a:path>
              <a:path fill="darkenLess" w="205025" h="21600">
                <a:moveTo>
                  <a:pt x="2050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625" y="20200"/>
                </a:lnTo>
                <a:close/>
              </a:path>
              <a:path fill="lighten" w="2050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Начать  тестиров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" descr="Картинка 34 из 1741"/>
          <p:cNvPicPr/>
          <p:nvPr/>
        </p:nvPicPr>
        <p:blipFill>
          <a:blip r:embed="rId1"/>
          <a:stretch/>
        </p:blipFill>
        <p:spPr>
          <a:xfrm>
            <a:off x="971640" y="1052640"/>
            <a:ext cx="7345440" cy="4727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79280" y="33336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Что нельзя делать, если позвонили или постучали в дверь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179280" y="1557360"/>
            <a:ext cx="4105440" cy="934920"/>
          </a:xfrm>
          <a:custGeom>
            <a:avLst/>
            <a:gdLst>
              <a:gd name="textAreaLeft" fmla="*/ 171360 w 4105440"/>
              <a:gd name="textAreaRight" fmla="*/ 3934080 w 4105440"/>
              <a:gd name="textAreaTop" fmla="*/ 171360 h 934920"/>
              <a:gd name="textAreaBottom" fmla="*/ 763560 h 934920"/>
            </a:gdLst>
            <a:ahLst/>
            <a:rect l="textAreaLeft" t="textAreaTop" r="textAreaRight" b="textAreaBottom"/>
            <a:pathLst>
              <a:path w="94822" h="21600">
                <a:moveTo>
                  <a:pt x="0" y="0"/>
                </a:moveTo>
                <a:lnTo>
                  <a:pt x="94822" y="0"/>
                </a:lnTo>
                <a:lnTo>
                  <a:pt x="94822" y="21600"/>
                </a:lnTo>
                <a:lnTo>
                  <a:pt x="0" y="21600"/>
                </a:lnTo>
                <a:close/>
              </a:path>
              <a:path fill="lightenLess" w="94822" h="21600">
                <a:moveTo>
                  <a:pt x="0" y="0"/>
                </a:moveTo>
                <a:lnTo>
                  <a:pt x="94822" y="0"/>
                </a:lnTo>
                <a:lnTo>
                  <a:pt x="90864" y="3958"/>
                </a:lnTo>
                <a:lnTo>
                  <a:pt x="3958" y="3958"/>
                </a:lnTo>
                <a:close/>
              </a:path>
              <a:path fill="darken" w="94822" h="21600">
                <a:moveTo>
                  <a:pt x="94822" y="0"/>
                </a:moveTo>
                <a:lnTo>
                  <a:pt x="94822" y="21600"/>
                </a:lnTo>
                <a:lnTo>
                  <a:pt x="90864" y="17642"/>
                </a:lnTo>
                <a:lnTo>
                  <a:pt x="90864" y="3958"/>
                </a:lnTo>
                <a:close/>
              </a:path>
              <a:path fill="darkenLess" w="94822" h="21600">
                <a:moveTo>
                  <a:pt x="94822" y="21600"/>
                </a:moveTo>
                <a:lnTo>
                  <a:pt x="0" y="21600"/>
                </a:lnTo>
                <a:lnTo>
                  <a:pt x="3958" y="17642"/>
                </a:lnTo>
                <a:lnTo>
                  <a:pt x="90864" y="17642"/>
                </a:lnTo>
                <a:close/>
              </a:path>
              <a:path fill="lighten" w="94822" h="21600">
                <a:moveTo>
                  <a:pt x="0" y="21600"/>
                </a:moveTo>
                <a:lnTo>
                  <a:pt x="0" y="0"/>
                </a:lnTo>
                <a:lnTo>
                  <a:pt x="3958" y="3958"/>
                </a:lnTo>
                <a:lnTo>
                  <a:pt x="3958" y="17642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Смотреть в глазо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179280" y="2781360"/>
            <a:ext cx="4248360" cy="1008000"/>
          </a:xfrm>
          <a:custGeom>
            <a:avLst/>
            <a:gdLst>
              <a:gd name="textAreaLeft" fmla="*/ 184680 w 4248360"/>
              <a:gd name="textAreaRight" fmla="*/ 4063680 w 4248360"/>
              <a:gd name="textAreaTop" fmla="*/ 184680 h 1008000"/>
              <a:gd name="textAreaBottom" fmla="*/ 823320 h 1008000"/>
            </a:gdLst>
            <a:ahLst/>
            <a:rect l="textAreaLeft" t="textAreaTop" r="textAreaRight" b="textAreaBottom"/>
            <a:pathLst>
              <a:path w="91011" h="21600">
                <a:moveTo>
                  <a:pt x="0" y="0"/>
                </a:moveTo>
                <a:lnTo>
                  <a:pt x="91011" y="0"/>
                </a:lnTo>
                <a:lnTo>
                  <a:pt x="91011" y="21600"/>
                </a:lnTo>
                <a:lnTo>
                  <a:pt x="0" y="21600"/>
                </a:lnTo>
                <a:close/>
              </a:path>
              <a:path fill="lightenLess" w="91011" h="21600">
                <a:moveTo>
                  <a:pt x="0" y="0"/>
                </a:moveTo>
                <a:lnTo>
                  <a:pt x="91011" y="0"/>
                </a:lnTo>
                <a:lnTo>
                  <a:pt x="87054" y="3958"/>
                </a:lnTo>
                <a:lnTo>
                  <a:pt x="3958" y="3958"/>
                </a:lnTo>
                <a:close/>
              </a:path>
              <a:path fill="darken" w="91011" h="21600">
                <a:moveTo>
                  <a:pt x="91011" y="0"/>
                </a:moveTo>
                <a:lnTo>
                  <a:pt x="91011" y="21600"/>
                </a:lnTo>
                <a:lnTo>
                  <a:pt x="87054" y="17642"/>
                </a:lnTo>
                <a:lnTo>
                  <a:pt x="87054" y="3958"/>
                </a:lnTo>
                <a:close/>
              </a:path>
              <a:path fill="darkenLess" w="91011" h="21600">
                <a:moveTo>
                  <a:pt x="91011" y="21600"/>
                </a:moveTo>
                <a:lnTo>
                  <a:pt x="0" y="21600"/>
                </a:lnTo>
                <a:lnTo>
                  <a:pt x="3958" y="17642"/>
                </a:lnTo>
                <a:lnTo>
                  <a:pt x="87054" y="17642"/>
                </a:lnTo>
                <a:close/>
              </a:path>
              <a:path fill="lighten" w="91011" h="21600">
                <a:moveTo>
                  <a:pt x="0" y="21600"/>
                </a:moveTo>
                <a:lnTo>
                  <a:pt x="0" y="0"/>
                </a:lnTo>
                <a:lnTo>
                  <a:pt x="3958" y="3958"/>
                </a:lnTo>
                <a:lnTo>
                  <a:pt x="3958" y="17642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Разговаривать с незнакомц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через двер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4076640"/>
            <a:ext cx="4248360" cy="1008000"/>
          </a:xfrm>
          <a:custGeom>
            <a:avLst/>
            <a:gdLst>
              <a:gd name="textAreaLeft" fmla="*/ 184680 w 4248360"/>
              <a:gd name="textAreaRight" fmla="*/ 4063680 w 4248360"/>
              <a:gd name="textAreaTop" fmla="*/ 184680 h 1008000"/>
              <a:gd name="textAreaBottom" fmla="*/ 823320 h 1008000"/>
            </a:gdLst>
            <a:ahLst/>
            <a:rect l="textAreaLeft" t="textAreaTop" r="textAreaRight" b="textAreaBottom"/>
            <a:pathLst>
              <a:path w="91011" h="21600">
                <a:moveTo>
                  <a:pt x="0" y="0"/>
                </a:moveTo>
                <a:lnTo>
                  <a:pt x="91011" y="0"/>
                </a:lnTo>
                <a:lnTo>
                  <a:pt x="91011" y="21600"/>
                </a:lnTo>
                <a:lnTo>
                  <a:pt x="0" y="21600"/>
                </a:lnTo>
                <a:close/>
              </a:path>
              <a:path fill="lightenLess" w="91011" h="21600">
                <a:moveTo>
                  <a:pt x="0" y="0"/>
                </a:moveTo>
                <a:lnTo>
                  <a:pt x="91011" y="0"/>
                </a:lnTo>
                <a:lnTo>
                  <a:pt x="87054" y="3958"/>
                </a:lnTo>
                <a:lnTo>
                  <a:pt x="3958" y="3958"/>
                </a:lnTo>
                <a:close/>
              </a:path>
              <a:path fill="darken" w="91011" h="21600">
                <a:moveTo>
                  <a:pt x="91011" y="0"/>
                </a:moveTo>
                <a:lnTo>
                  <a:pt x="91011" y="21600"/>
                </a:lnTo>
                <a:lnTo>
                  <a:pt x="87054" y="17642"/>
                </a:lnTo>
                <a:lnTo>
                  <a:pt x="87054" y="3958"/>
                </a:lnTo>
                <a:close/>
              </a:path>
              <a:path fill="darkenLess" w="91011" h="21600">
                <a:moveTo>
                  <a:pt x="91011" y="21600"/>
                </a:moveTo>
                <a:lnTo>
                  <a:pt x="0" y="21600"/>
                </a:lnTo>
                <a:lnTo>
                  <a:pt x="3958" y="17642"/>
                </a:lnTo>
                <a:lnTo>
                  <a:pt x="87054" y="17642"/>
                </a:lnTo>
                <a:close/>
              </a:path>
              <a:path fill="lighten" w="91011" h="21600">
                <a:moveTo>
                  <a:pt x="0" y="21600"/>
                </a:moveTo>
                <a:lnTo>
                  <a:pt x="0" y="0"/>
                </a:lnTo>
                <a:lnTo>
                  <a:pt x="3958" y="3958"/>
                </a:lnTo>
                <a:lnTo>
                  <a:pt x="3958" y="17642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Открывать двер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незнакомому человек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5300640"/>
            <a:ext cx="4176720" cy="936720"/>
          </a:xfrm>
          <a:custGeom>
            <a:avLst/>
            <a:gdLst>
              <a:gd name="textAreaLeft" fmla="*/ 171360 w 4176720"/>
              <a:gd name="textAreaRight" fmla="*/ 4005360 w 4176720"/>
              <a:gd name="textAreaTop" fmla="*/ 171360 h 936720"/>
              <a:gd name="textAreaBottom" fmla="*/ 765360 h 936720"/>
            </a:gdLst>
            <a:ahLst/>
            <a:rect l="textAreaLeft" t="textAreaTop" r="textAreaRight" b="textAreaBottom"/>
            <a:pathLst>
              <a:path w="96283" h="21600">
                <a:moveTo>
                  <a:pt x="0" y="0"/>
                </a:moveTo>
                <a:lnTo>
                  <a:pt x="96283" y="0"/>
                </a:lnTo>
                <a:lnTo>
                  <a:pt x="96283" y="21600"/>
                </a:lnTo>
                <a:lnTo>
                  <a:pt x="0" y="21600"/>
                </a:lnTo>
                <a:close/>
              </a:path>
              <a:path fill="lightenLess" w="96283" h="21600">
                <a:moveTo>
                  <a:pt x="0" y="0"/>
                </a:moveTo>
                <a:lnTo>
                  <a:pt x="96283" y="0"/>
                </a:lnTo>
                <a:lnTo>
                  <a:pt x="92325" y="3958"/>
                </a:lnTo>
                <a:lnTo>
                  <a:pt x="3958" y="3958"/>
                </a:lnTo>
                <a:close/>
              </a:path>
              <a:path fill="darken" w="96283" h="21600">
                <a:moveTo>
                  <a:pt x="96283" y="0"/>
                </a:moveTo>
                <a:lnTo>
                  <a:pt x="96283" y="21600"/>
                </a:lnTo>
                <a:lnTo>
                  <a:pt x="92325" y="17642"/>
                </a:lnTo>
                <a:lnTo>
                  <a:pt x="92325" y="3958"/>
                </a:lnTo>
                <a:close/>
              </a:path>
              <a:path fill="darkenLess" w="96283" h="21600">
                <a:moveTo>
                  <a:pt x="96283" y="21600"/>
                </a:moveTo>
                <a:lnTo>
                  <a:pt x="0" y="21600"/>
                </a:lnTo>
                <a:lnTo>
                  <a:pt x="3958" y="17642"/>
                </a:lnTo>
                <a:lnTo>
                  <a:pt x="92325" y="17642"/>
                </a:lnTo>
                <a:close/>
              </a:path>
              <a:path fill="lighten" w="96283" h="21600">
                <a:moveTo>
                  <a:pt x="0" y="21600"/>
                </a:moveTo>
                <a:lnTo>
                  <a:pt x="0" y="0"/>
                </a:lnTo>
                <a:lnTo>
                  <a:pt x="3958" y="3958"/>
                </a:lnTo>
                <a:lnTo>
                  <a:pt x="3958" y="17642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одходить к двер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" descr="Картинка 10 из 231"/>
          <p:cNvPicPr/>
          <p:nvPr/>
        </p:nvPicPr>
        <p:blipFill>
          <a:blip r:embed="rId1"/>
          <a:stretch/>
        </p:blipFill>
        <p:spPr>
          <a:xfrm>
            <a:off x="4788000" y="1268280"/>
            <a:ext cx="3809880" cy="5256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0" y="1989000"/>
            <a:ext cx="4392720" cy="1008360"/>
          </a:xfrm>
          <a:custGeom>
            <a:avLst/>
            <a:gdLst>
              <a:gd name="textAreaLeft" fmla="*/ 169920 w 4392720"/>
              <a:gd name="textAreaRight" fmla="*/ 4222800 w 4392720"/>
              <a:gd name="textAreaTop" fmla="*/ 169920 h 1008360"/>
              <a:gd name="textAreaBottom" fmla="*/ 838440 h 1008360"/>
            </a:gdLst>
            <a:ahLst/>
            <a:rect l="textAreaLeft" t="textAreaTop" r="textAreaRight" b="textAreaBottom"/>
            <a:pathLst>
              <a:path w="94070" h="21600">
                <a:moveTo>
                  <a:pt x="0" y="0"/>
                </a:moveTo>
                <a:lnTo>
                  <a:pt x="94070" y="0"/>
                </a:lnTo>
                <a:lnTo>
                  <a:pt x="94070" y="21600"/>
                </a:lnTo>
                <a:lnTo>
                  <a:pt x="0" y="21600"/>
                </a:lnTo>
                <a:close/>
              </a:path>
              <a:path fill="lightenLess" w="94070" h="21600">
                <a:moveTo>
                  <a:pt x="0" y="0"/>
                </a:moveTo>
                <a:lnTo>
                  <a:pt x="94070" y="0"/>
                </a:lnTo>
                <a:lnTo>
                  <a:pt x="90430" y="3640"/>
                </a:lnTo>
                <a:lnTo>
                  <a:pt x="3640" y="3640"/>
                </a:lnTo>
                <a:close/>
              </a:path>
              <a:path fill="darken" w="94070" h="21600">
                <a:moveTo>
                  <a:pt x="94070" y="0"/>
                </a:moveTo>
                <a:lnTo>
                  <a:pt x="94070" y="21600"/>
                </a:lnTo>
                <a:lnTo>
                  <a:pt x="90430" y="17960"/>
                </a:lnTo>
                <a:lnTo>
                  <a:pt x="90430" y="3640"/>
                </a:lnTo>
                <a:close/>
              </a:path>
              <a:path fill="darkenLess" w="94070" h="21600">
                <a:moveTo>
                  <a:pt x="94070" y="21600"/>
                </a:moveTo>
                <a:lnTo>
                  <a:pt x="0" y="21600"/>
                </a:lnTo>
                <a:lnTo>
                  <a:pt x="3640" y="17960"/>
                </a:lnTo>
                <a:lnTo>
                  <a:pt x="90430" y="17960"/>
                </a:lnTo>
                <a:close/>
              </a:path>
              <a:path fill="lighten" w="94070" h="21600">
                <a:moveTo>
                  <a:pt x="0" y="21600"/>
                </a:moveTo>
                <a:lnTo>
                  <a:pt x="0" y="0"/>
                </a:lnTo>
                <a:lnTo>
                  <a:pt x="3640" y="3640"/>
                </a:lnTo>
                <a:lnTo>
                  <a:pt x="3640" y="1796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рогулка в гордом одиночеств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>
            <a:off x="4572000" y="3141720"/>
            <a:ext cx="4392720" cy="1008000"/>
          </a:xfrm>
          <a:custGeom>
            <a:avLst/>
            <a:gdLst>
              <a:gd name="textAreaLeft" fmla="*/ 169560 w 4392720"/>
              <a:gd name="textAreaRight" fmla="*/ 4223160 w 4392720"/>
              <a:gd name="textAreaTop" fmla="*/ 169560 h 1008000"/>
              <a:gd name="textAreaBottom" fmla="*/ 838440 h 1008000"/>
            </a:gdLst>
            <a:ahLst/>
            <a:rect l="textAreaLeft" t="textAreaTop" r="textAreaRight" b="textAreaBottom"/>
            <a:pathLst>
              <a:path w="94104" h="21600">
                <a:moveTo>
                  <a:pt x="0" y="0"/>
                </a:moveTo>
                <a:lnTo>
                  <a:pt x="94104" y="0"/>
                </a:lnTo>
                <a:lnTo>
                  <a:pt x="94104" y="21600"/>
                </a:lnTo>
                <a:lnTo>
                  <a:pt x="0" y="21600"/>
                </a:lnTo>
                <a:close/>
              </a:path>
              <a:path fill="lightenLess" w="94104" h="21600">
                <a:moveTo>
                  <a:pt x="0" y="0"/>
                </a:moveTo>
                <a:lnTo>
                  <a:pt x="94104" y="0"/>
                </a:lnTo>
                <a:lnTo>
                  <a:pt x="90464" y="3640"/>
                </a:lnTo>
                <a:lnTo>
                  <a:pt x="3640" y="3640"/>
                </a:lnTo>
                <a:close/>
              </a:path>
              <a:path fill="darken" w="94104" h="21600">
                <a:moveTo>
                  <a:pt x="94104" y="0"/>
                </a:moveTo>
                <a:lnTo>
                  <a:pt x="94104" y="21600"/>
                </a:lnTo>
                <a:lnTo>
                  <a:pt x="90464" y="17960"/>
                </a:lnTo>
                <a:lnTo>
                  <a:pt x="90464" y="3640"/>
                </a:lnTo>
                <a:close/>
              </a:path>
              <a:path fill="darkenLess" w="94104" h="21600">
                <a:moveTo>
                  <a:pt x="94104" y="21600"/>
                </a:moveTo>
                <a:lnTo>
                  <a:pt x="0" y="21600"/>
                </a:lnTo>
                <a:lnTo>
                  <a:pt x="3640" y="17960"/>
                </a:lnTo>
                <a:lnTo>
                  <a:pt x="90464" y="17960"/>
                </a:lnTo>
                <a:close/>
              </a:path>
              <a:path fill="lighten" w="94104" h="21600">
                <a:moveTo>
                  <a:pt x="0" y="21600"/>
                </a:moveTo>
                <a:lnTo>
                  <a:pt x="0" y="0"/>
                </a:lnTo>
                <a:lnTo>
                  <a:pt x="3640" y="3640"/>
                </a:lnTo>
                <a:lnTo>
                  <a:pt x="3640" y="1796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рогулка с друзья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0" y="4292640"/>
            <a:ext cx="4392720" cy="1008000"/>
          </a:xfrm>
          <a:custGeom>
            <a:avLst/>
            <a:gdLst>
              <a:gd name="textAreaLeft" fmla="*/ 169560 w 4392720"/>
              <a:gd name="textAreaRight" fmla="*/ 4223160 w 4392720"/>
              <a:gd name="textAreaTop" fmla="*/ 169560 h 1008000"/>
              <a:gd name="textAreaBottom" fmla="*/ 838440 h 1008000"/>
            </a:gdLst>
            <a:ahLst/>
            <a:rect l="textAreaLeft" t="textAreaTop" r="textAreaRight" b="textAreaBottom"/>
            <a:pathLst>
              <a:path w="94104" h="21600">
                <a:moveTo>
                  <a:pt x="0" y="0"/>
                </a:moveTo>
                <a:lnTo>
                  <a:pt x="94104" y="0"/>
                </a:lnTo>
                <a:lnTo>
                  <a:pt x="94104" y="21600"/>
                </a:lnTo>
                <a:lnTo>
                  <a:pt x="0" y="21600"/>
                </a:lnTo>
                <a:close/>
              </a:path>
              <a:path fill="lightenLess" w="94104" h="21600">
                <a:moveTo>
                  <a:pt x="0" y="0"/>
                </a:moveTo>
                <a:lnTo>
                  <a:pt x="94104" y="0"/>
                </a:lnTo>
                <a:lnTo>
                  <a:pt x="90464" y="3640"/>
                </a:lnTo>
                <a:lnTo>
                  <a:pt x="3640" y="3640"/>
                </a:lnTo>
                <a:close/>
              </a:path>
              <a:path fill="darken" w="94104" h="21600">
                <a:moveTo>
                  <a:pt x="94104" y="0"/>
                </a:moveTo>
                <a:lnTo>
                  <a:pt x="94104" y="21600"/>
                </a:lnTo>
                <a:lnTo>
                  <a:pt x="90464" y="17960"/>
                </a:lnTo>
                <a:lnTo>
                  <a:pt x="90464" y="3640"/>
                </a:lnTo>
                <a:close/>
              </a:path>
              <a:path fill="darkenLess" w="94104" h="21600">
                <a:moveTo>
                  <a:pt x="94104" y="21600"/>
                </a:moveTo>
                <a:lnTo>
                  <a:pt x="0" y="21600"/>
                </a:lnTo>
                <a:lnTo>
                  <a:pt x="3640" y="17960"/>
                </a:lnTo>
                <a:lnTo>
                  <a:pt x="90464" y="17960"/>
                </a:lnTo>
                <a:close/>
              </a:path>
              <a:path fill="lighten" w="94104" h="21600">
                <a:moveTo>
                  <a:pt x="0" y="21600"/>
                </a:moveTo>
                <a:lnTo>
                  <a:pt x="0" y="0"/>
                </a:lnTo>
                <a:lnTo>
                  <a:pt x="3640" y="3640"/>
                </a:lnTo>
                <a:lnTo>
                  <a:pt x="3640" y="1796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рогулка в лес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5445000"/>
            <a:ext cx="4392720" cy="1008360"/>
          </a:xfrm>
          <a:custGeom>
            <a:avLst/>
            <a:gdLst>
              <a:gd name="textAreaLeft" fmla="*/ 169920 w 4392720"/>
              <a:gd name="textAreaRight" fmla="*/ 4222800 w 4392720"/>
              <a:gd name="textAreaTop" fmla="*/ 169920 h 1008360"/>
              <a:gd name="textAreaBottom" fmla="*/ 838440 h 1008360"/>
            </a:gdLst>
            <a:ahLst/>
            <a:rect l="textAreaLeft" t="textAreaTop" r="textAreaRight" b="textAreaBottom"/>
            <a:pathLst>
              <a:path w="94070" h="21600">
                <a:moveTo>
                  <a:pt x="0" y="0"/>
                </a:moveTo>
                <a:lnTo>
                  <a:pt x="94070" y="0"/>
                </a:lnTo>
                <a:lnTo>
                  <a:pt x="94070" y="21600"/>
                </a:lnTo>
                <a:lnTo>
                  <a:pt x="0" y="21600"/>
                </a:lnTo>
                <a:close/>
              </a:path>
              <a:path fill="lightenLess" w="94070" h="21600">
                <a:moveTo>
                  <a:pt x="0" y="0"/>
                </a:moveTo>
                <a:lnTo>
                  <a:pt x="94070" y="0"/>
                </a:lnTo>
                <a:lnTo>
                  <a:pt x="90430" y="3640"/>
                </a:lnTo>
                <a:lnTo>
                  <a:pt x="3640" y="3640"/>
                </a:lnTo>
                <a:close/>
              </a:path>
              <a:path fill="darken" w="94070" h="21600">
                <a:moveTo>
                  <a:pt x="94070" y="0"/>
                </a:moveTo>
                <a:lnTo>
                  <a:pt x="94070" y="21600"/>
                </a:lnTo>
                <a:lnTo>
                  <a:pt x="90430" y="17960"/>
                </a:lnTo>
                <a:lnTo>
                  <a:pt x="90430" y="3640"/>
                </a:lnTo>
                <a:close/>
              </a:path>
              <a:path fill="darkenLess" w="94070" h="21600">
                <a:moveTo>
                  <a:pt x="94070" y="21600"/>
                </a:moveTo>
                <a:lnTo>
                  <a:pt x="0" y="21600"/>
                </a:lnTo>
                <a:lnTo>
                  <a:pt x="3640" y="17960"/>
                </a:lnTo>
                <a:lnTo>
                  <a:pt x="90430" y="17960"/>
                </a:lnTo>
                <a:close/>
              </a:path>
              <a:path fill="lighten" w="94070" h="21600">
                <a:moveTo>
                  <a:pt x="0" y="21600"/>
                </a:moveTo>
                <a:lnTo>
                  <a:pt x="0" y="0"/>
                </a:lnTo>
                <a:lnTo>
                  <a:pt x="3640" y="3640"/>
                </a:lnTo>
                <a:lnTo>
                  <a:pt x="3640" y="1796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рогулка в тихом мест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/>
          <p:nvPr/>
        </p:nvSpPr>
        <p:spPr>
          <a:xfrm>
            <a:off x="1763640" y="18900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Безопасная прогулка – это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" descr="Картинка 50 из 8621"/>
          <p:cNvPicPr/>
          <p:nvPr/>
        </p:nvPicPr>
        <p:blipFill>
          <a:blip r:embed="rId1"/>
          <a:srcRect l="21644" t="877" r="31549" b="0"/>
          <a:stretch/>
        </p:blipFill>
        <p:spPr>
          <a:xfrm>
            <a:off x="539640" y="981000"/>
            <a:ext cx="3533760" cy="5616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2" dur="indefinite" restart="never" nodeType="tmRoot">
          <p:childTnLst>
            <p:seq>
              <p:cTn id="23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50920" y="18900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сли пришлось идти домой поздно вечером, необходимо выбрат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179280" y="1484280"/>
            <a:ext cx="4464000" cy="1008000"/>
          </a:xfrm>
          <a:custGeom>
            <a:avLst/>
            <a:gdLst>
              <a:gd name="textAreaLeft" fmla="*/ 169560 w 4464000"/>
              <a:gd name="textAreaRight" fmla="*/ 4294440 w 4464000"/>
              <a:gd name="textAreaTop" fmla="*/ 169560 h 1008000"/>
              <a:gd name="textAreaBottom" fmla="*/ 838440 h 1008000"/>
            </a:gdLst>
            <a:ahLst/>
            <a:rect l="textAreaLeft" t="textAreaTop" r="textAreaRight" b="textAreaBottom"/>
            <a:pathLst>
              <a:path w="95631" h="21600">
                <a:moveTo>
                  <a:pt x="0" y="0"/>
                </a:moveTo>
                <a:lnTo>
                  <a:pt x="95631" y="0"/>
                </a:lnTo>
                <a:lnTo>
                  <a:pt x="95631" y="21600"/>
                </a:lnTo>
                <a:lnTo>
                  <a:pt x="0" y="21600"/>
                </a:lnTo>
                <a:close/>
              </a:path>
              <a:path fill="lightenLess" w="95631" h="21600">
                <a:moveTo>
                  <a:pt x="0" y="0"/>
                </a:moveTo>
                <a:lnTo>
                  <a:pt x="95631" y="0"/>
                </a:lnTo>
                <a:lnTo>
                  <a:pt x="91991" y="3640"/>
                </a:lnTo>
                <a:lnTo>
                  <a:pt x="3640" y="3640"/>
                </a:lnTo>
                <a:close/>
              </a:path>
              <a:path fill="darken" w="95631" h="21600">
                <a:moveTo>
                  <a:pt x="95631" y="0"/>
                </a:moveTo>
                <a:lnTo>
                  <a:pt x="95631" y="21600"/>
                </a:lnTo>
                <a:lnTo>
                  <a:pt x="91991" y="17960"/>
                </a:lnTo>
                <a:lnTo>
                  <a:pt x="91991" y="3640"/>
                </a:lnTo>
                <a:close/>
              </a:path>
              <a:path fill="darkenLess" w="95631" h="21600">
                <a:moveTo>
                  <a:pt x="95631" y="21600"/>
                </a:moveTo>
                <a:lnTo>
                  <a:pt x="0" y="21600"/>
                </a:lnTo>
                <a:lnTo>
                  <a:pt x="3640" y="17960"/>
                </a:lnTo>
                <a:lnTo>
                  <a:pt x="91991" y="17960"/>
                </a:lnTo>
                <a:close/>
              </a:path>
              <a:path fill="lighten" w="95631" h="21600">
                <a:moveTo>
                  <a:pt x="0" y="21600"/>
                </a:moveTo>
                <a:lnTo>
                  <a:pt x="0" y="0"/>
                </a:lnTo>
                <a:lnTo>
                  <a:pt x="3640" y="3640"/>
                </a:lnTo>
                <a:lnTo>
                  <a:pt x="3640" y="1796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Темную улиц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5229360"/>
            <a:ext cx="4537080" cy="1008000"/>
          </a:xfrm>
          <a:custGeom>
            <a:avLst/>
            <a:gdLst>
              <a:gd name="textAreaLeft" fmla="*/ 169560 w 4537080"/>
              <a:gd name="textAreaRight" fmla="*/ 4367520 w 4537080"/>
              <a:gd name="textAreaTop" fmla="*/ 169560 h 1008000"/>
              <a:gd name="textAreaBottom" fmla="*/ 838440 h 1008000"/>
            </a:gdLst>
            <a:ahLst/>
            <a:rect l="textAreaLeft" t="textAreaTop" r="textAreaRight" b="textAreaBottom"/>
            <a:pathLst>
              <a:path w="97196" h="21600">
                <a:moveTo>
                  <a:pt x="0" y="0"/>
                </a:moveTo>
                <a:lnTo>
                  <a:pt x="97196" y="0"/>
                </a:lnTo>
                <a:lnTo>
                  <a:pt x="97196" y="21600"/>
                </a:lnTo>
                <a:lnTo>
                  <a:pt x="0" y="21600"/>
                </a:lnTo>
                <a:close/>
              </a:path>
              <a:path fill="lightenLess" w="97196" h="21600">
                <a:moveTo>
                  <a:pt x="0" y="0"/>
                </a:moveTo>
                <a:lnTo>
                  <a:pt x="97196" y="0"/>
                </a:lnTo>
                <a:lnTo>
                  <a:pt x="93556" y="3640"/>
                </a:lnTo>
                <a:lnTo>
                  <a:pt x="3640" y="3640"/>
                </a:lnTo>
                <a:close/>
              </a:path>
              <a:path fill="darken" w="97196" h="21600">
                <a:moveTo>
                  <a:pt x="97196" y="0"/>
                </a:moveTo>
                <a:lnTo>
                  <a:pt x="97196" y="21600"/>
                </a:lnTo>
                <a:lnTo>
                  <a:pt x="93556" y="17960"/>
                </a:lnTo>
                <a:lnTo>
                  <a:pt x="93556" y="3640"/>
                </a:lnTo>
                <a:close/>
              </a:path>
              <a:path fill="darkenLess" w="97196" h="21600">
                <a:moveTo>
                  <a:pt x="97196" y="21600"/>
                </a:moveTo>
                <a:lnTo>
                  <a:pt x="0" y="21600"/>
                </a:lnTo>
                <a:lnTo>
                  <a:pt x="3640" y="17960"/>
                </a:lnTo>
                <a:lnTo>
                  <a:pt x="93556" y="17960"/>
                </a:lnTo>
                <a:close/>
              </a:path>
              <a:path fill="lighten" w="97196" h="21600">
                <a:moveTo>
                  <a:pt x="0" y="21600"/>
                </a:moveTo>
                <a:lnTo>
                  <a:pt x="0" y="0"/>
                </a:lnTo>
                <a:lnTo>
                  <a:pt x="3640" y="3640"/>
                </a:lnTo>
                <a:lnTo>
                  <a:pt x="3640" y="1796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Освещенную  улиц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179280" y="2708280"/>
            <a:ext cx="4464000" cy="1008000"/>
          </a:xfrm>
          <a:custGeom>
            <a:avLst/>
            <a:gdLst>
              <a:gd name="textAreaLeft" fmla="*/ 169560 w 4464000"/>
              <a:gd name="textAreaRight" fmla="*/ 4294440 w 4464000"/>
              <a:gd name="textAreaTop" fmla="*/ 169560 h 1008000"/>
              <a:gd name="textAreaBottom" fmla="*/ 838440 h 1008000"/>
            </a:gdLst>
            <a:ahLst/>
            <a:rect l="textAreaLeft" t="textAreaTop" r="textAreaRight" b="textAreaBottom"/>
            <a:pathLst>
              <a:path w="95631" h="21600">
                <a:moveTo>
                  <a:pt x="0" y="0"/>
                </a:moveTo>
                <a:lnTo>
                  <a:pt x="95631" y="0"/>
                </a:lnTo>
                <a:lnTo>
                  <a:pt x="95631" y="21600"/>
                </a:lnTo>
                <a:lnTo>
                  <a:pt x="0" y="21600"/>
                </a:lnTo>
                <a:close/>
              </a:path>
              <a:path fill="lightenLess" w="95631" h="21600">
                <a:moveTo>
                  <a:pt x="0" y="0"/>
                </a:moveTo>
                <a:lnTo>
                  <a:pt x="95631" y="0"/>
                </a:lnTo>
                <a:lnTo>
                  <a:pt x="91991" y="3640"/>
                </a:lnTo>
                <a:lnTo>
                  <a:pt x="3640" y="3640"/>
                </a:lnTo>
                <a:close/>
              </a:path>
              <a:path fill="darken" w="95631" h="21600">
                <a:moveTo>
                  <a:pt x="95631" y="0"/>
                </a:moveTo>
                <a:lnTo>
                  <a:pt x="95631" y="21600"/>
                </a:lnTo>
                <a:lnTo>
                  <a:pt x="91991" y="17960"/>
                </a:lnTo>
                <a:lnTo>
                  <a:pt x="91991" y="3640"/>
                </a:lnTo>
                <a:close/>
              </a:path>
              <a:path fill="darkenLess" w="95631" h="21600">
                <a:moveTo>
                  <a:pt x="95631" y="21600"/>
                </a:moveTo>
                <a:lnTo>
                  <a:pt x="0" y="21600"/>
                </a:lnTo>
                <a:lnTo>
                  <a:pt x="3640" y="17960"/>
                </a:lnTo>
                <a:lnTo>
                  <a:pt x="91991" y="17960"/>
                </a:lnTo>
                <a:close/>
              </a:path>
              <a:path fill="lighten" w="95631" h="21600">
                <a:moveTo>
                  <a:pt x="0" y="21600"/>
                </a:moveTo>
                <a:lnTo>
                  <a:pt x="0" y="0"/>
                </a:lnTo>
                <a:lnTo>
                  <a:pt x="3640" y="3640"/>
                </a:lnTo>
                <a:lnTo>
                  <a:pt x="3640" y="1796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Поймать  попутк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3933720"/>
            <a:ext cx="4537080" cy="1008000"/>
          </a:xfrm>
          <a:custGeom>
            <a:avLst/>
            <a:gdLst>
              <a:gd name="textAreaLeft" fmla="*/ 169560 w 4537080"/>
              <a:gd name="textAreaRight" fmla="*/ 4367520 w 4537080"/>
              <a:gd name="textAreaTop" fmla="*/ 169560 h 1008000"/>
              <a:gd name="textAreaBottom" fmla="*/ 838440 h 1008000"/>
            </a:gdLst>
            <a:ahLst/>
            <a:rect l="textAreaLeft" t="textAreaTop" r="textAreaRight" b="textAreaBottom"/>
            <a:pathLst>
              <a:path w="97196" h="21600">
                <a:moveTo>
                  <a:pt x="0" y="0"/>
                </a:moveTo>
                <a:lnTo>
                  <a:pt x="97196" y="0"/>
                </a:lnTo>
                <a:lnTo>
                  <a:pt x="97196" y="21600"/>
                </a:lnTo>
                <a:lnTo>
                  <a:pt x="0" y="21600"/>
                </a:lnTo>
                <a:close/>
              </a:path>
              <a:path fill="lightenLess" w="97196" h="21600">
                <a:moveTo>
                  <a:pt x="0" y="0"/>
                </a:moveTo>
                <a:lnTo>
                  <a:pt x="97196" y="0"/>
                </a:lnTo>
                <a:lnTo>
                  <a:pt x="93556" y="3640"/>
                </a:lnTo>
                <a:lnTo>
                  <a:pt x="3640" y="3640"/>
                </a:lnTo>
                <a:close/>
              </a:path>
              <a:path fill="darken" w="97196" h="21600">
                <a:moveTo>
                  <a:pt x="97196" y="0"/>
                </a:moveTo>
                <a:lnTo>
                  <a:pt x="97196" y="21600"/>
                </a:lnTo>
                <a:lnTo>
                  <a:pt x="93556" y="17960"/>
                </a:lnTo>
                <a:lnTo>
                  <a:pt x="93556" y="3640"/>
                </a:lnTo>
                <a:close/>
              </a:path>
              <a:path fill="darkenLess" w="97196" h="21600">
                <a:moveTo>
                  <a:pt x="97196" y="21600"/>
                </a:moveTo>
                <a:lnTo>
                  <a:pt x="0" y="21600"/>
                </a:lnTo>
                <a:lnTo>
                  <a:pt x="3640" y="17960"/>
                </a:lnTo>
                <a:lnTo>
                  <a:pt x="93556" y="17960"/>
                </a:lnTo>
                <a:close/>
              </a:path>
              <a:path fill="lighten" w="97196" h="21600">
                <a:moveTo>
                  <a:pt x="0" y="21600"/>
                </a:moveTo>
                <a:lnTo>
                  <a:pt x="0" y="0"/>
                </a:lnTo>
                <a:lnTo>
                  <a:pt x="3640" y="3640"/>
                </a:lnTo>
                <a:lnTo>
                  <a:pt x="3640" y="1796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Найти по дороге попутч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" descr="Картинка 80 из 7211"/>
          <p:cNvPicPr/>
          <p:nvPr/>
        </p:nvPicPr>
        <p:blipFill>
          <a:blip r:embed="rId1"/>
          <a:stretch/>
        </p:blipFill>
        <p:spPr>
          <a:xfrm>
            <a:off x="4859280" y="2133720"/>
            <a:ext cx="4284720" cy="3216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716360" y="1341360"/>
            <a:ext cx="4249800" cy="1081080"/>
          </a:xfrm>
          <a:custGeom>
            <a:avLst/>
            <a:gdLst>
              <a:gd name="textAreaLeft" fmla="*/ 198000 w 4249800"/>
              <a:gd name="textAreaRight" fmla="*/ 4051800 w 4249800"/>
              <a:gd name="textAreaTop" fmla="*/ 198000 h 1081080"/>
              <a:gd name="textAreaBottom" fmla="*/ 883080 h 1081080"/>
            </a:gdLst>
            <a:ahLst/>
            <a:rect l="textAreaLeft" t="textAreaTop" r="textAreaRight" b="textAreaBottom"/>
            <a:pathLst>
              <a:path w="84890" h="21600">
                <a:moveTo>
                  <a:pt x="0" y="0"/>
                </a:moveTo>
                <a:lnTo>
                  <a:pt x="84890" y="0"/>
                </a:lnTo>
                <a:lnTo>
                  <a:pt x="84890" y="21600"/>
                </a:lnTo>
                <a:lnTo>
                  <a:pt x="0" y="21600"/>
                </a:lnTo>
                <a:close/>
              </a:path>
              <a:path fill="lightenLess" w="84890" h="21600">
                <a:moveTo>
                  <a:pt x="0" y="0"/>
                </a:moveTo>
                <a:lnTo>
                  <a:pt x="84890" y="0"/>
                </a:lnTo>
                <a:lnTo>
                  <a:pt x="80932" y="3958"/>
                </a:lnTo>
                <a:lnTo>
                  <a:pt x="3958" y="3958"/>
                </a:lnTo>
                <a:close/>
              </a:path>
              <a:path fill="darken" w="84890" h="21600">
                <a:moveTo>
                  <a:pt x="84890" y="0"/>
                </a:moveTo>
                <a:lnTo>
                  <a:pt x="84890" y="21600"/>
                </a:lnTo>
                <a:lnTo>
                  <a:pt x="80932" y="17642"/>
                </a:lnTo>
                <a:lnTo>
                  <a:pt x="80932" y="3958"/>
                </a:lnTo>
                <a:close/>
              </a:path>
              <a:path fill="darkenLess" w="84890" h="21600">
                <a:moveTo>
                  <a:pt x="84890" y="21600"/>
                </a:moveTo>
                <a:lnTo>
                  <a:pt x="0" y="21600"/>
                </a:lnTo>
                <a:lnTo>
                  <a:pt x="3958" y="17642"/>
                </a:lnTo>
                <a:lnTo>
                  <a:pt x="80932" y="17642"/>
                </a:lnTo>
                <a:close/>
              </a:path>
              <a:path fill="lighten" w="84890" h="21600">
                <a:moveTo>
                  <a:pt x="0" y="21600"/>
                </a:moveTo>
                <a:lnTo>
                  <a:pt x="0" y="0"/>
                </a:lnTo>
                <a:lnTo>
                  <a:pt x="3958" y="3958"/>
                </a:lnTo>
                <a:lnTo>
                  <a:pt x="3958" y="17642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Обязательно пой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2637000"/>
            <a:ext cx="4248360" cy="1081080"/>
          </a:xfrm>
          <a:custGeom>
            <a:avLst/>
            <a:gdLst>
              <a:gd name="textAreaLeft" fmla="*/ 198000 w 4248360"/>
              <a:gd name="textAreaRight" fmla="*/ 4050360 w 4248360"/>
              <a:gd name="textAreaTop" fmla="*/ 198000 h 1081080"/>
              <a:gd name="textAreaBottom" fmla="*/ 883080 h 1081080"/>
            </a:gdLst>
            <a:ahLst/>
            <a:rect l="textAreaLeft" t="textAreaTop" r="textAreaRight" b="textAreaBottom"/>
            <a:pathLst>
              <a:path w="84861" h="21600">
                <a:moveTo>
                  <a:pt x="0" y="0"/>
                </a:moveTo>
                <a:lnTo>
                  <a:pt x="84861" y="0"/>
                </a:lnTo>
                <a:lnTo>
                  <a:pt x="84861" y="21600"/>
                </a:lnTo>
                <a:lnTo>
                  <a:pt x="0" y="21600"/>
                </a:lnTo>
                <a:close/>
              </a:path>
              <a:path fill="lightenLess" w="84861" h="21600">
                <a:moveTo>
                  <a:pt x="0" y="0"/>
                </a:moveTo>
                <a:lnTo>
                  <a:pt x="84861" y="0"/>
                </a:lnTo>
                <a:lnTo>
                  <a:pt x="80903" y="3958"/>
                </a:lnTo>
                <a:lnTo>
                  <a:pt x="3958" y="3958"/>
                </a:lnTo>
                <a:close/>
              </a:path>
              <a:path fill="darken" w="84861" h="21600">
                <a:moveTo>
                  <a:pt x="84861" y="0"/>
                </a:moveTo>
                <a:lnTo>
                  <a:pt x="84861" y="21600"/>
                </a:lnTo>
                <a:lnTo>
                  <a:pt x="80903" y="17642"/>
                </a:lnTo>
                <a:lnTo>
                  <a:pt x="80903" y="3958"/>
                </a:lnTo>
                <a:close/>
              </a:path>
              <a:path fill="darkenLess" w="84861" h="21600">
                <a:moveTo>
                  <a:pt x="84861" y="21600"/>
                </a:moveTo>
                <a:lnTo>
                  <a:pt x="0" y="21600"/>
                </a:lnTo>
                <a:lnTo>
                  <a:pt x="3958" y="17642"/>
                </a:lnTo>
                <a:lnTo>
                  <a:pt x="80903" y="17642"/>
                </a:lnTo>
                <a:close/>
              </a:path>
              <a:path fill="lighten" w="84861" h="21600">
                <a:moveTo>
                  <a:pt x="0" y="21600"/>
                </a:moveTo>
                <a:lnTo>
                  <a:pt x="0" y="0"/>
                </a:lnTo>
                <a:lnTo>
                  <a:pt x="3958" y="3958"/>
                </a:lnTo>
                <a:lnTo>
                  <a:pt x="3958" y="17642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Отказать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/>
          <p:nvPr/>
        </p:nvSpPr>
        <p:spPr>
          <a:xfrm>
            <a:off x="4716360" y="3860640"/>
            <a:ext cx="4248360" cy="1081080"/>
          </a:xfrm>
          <a:custGeom>
            <a:avLst/>
            <a:gdLst>
              <a:gd name="textAreaLeft" fmla="*/ 198000 w 4248360"/>
              <a:gd name="textAreaRight" fmla="*/ 4050360 w 4248360"/>
              <a:gd name="textAreaTop" fmla="*/ 198000 h 1081080"/>
              <a:gd name="textAreaBottom" fmla="*/ 883080 h 1081080"/>
            </a:gdLst>
            <a:ahLst/>
            <a:rect l="textAreaLeft" t="textAreaTop" r="textAreaRight" b="textAreaBottom"/>
            <a:pathLst>
              <a:path w="84861" h="21600">
                <a:moveTo>
                  <a:pt x="0" y="0"/>
                </a:moveTo>
                <a:lnTo>
                  <a:pt x="84861" y="0"/>
                </a:lnTo>
                <a:lnTo>
                  <a:pt x="84861" y="21600"/>
                </a:lnTo>
                <a:lnTo>
                  <a:pt x="0" y="21600"/>
                </a:lnTo>
                <a:close/>
              </a:path>
              <a:path fill="lightenLess" w="84861" h="21600">
                <a:moveTo>
                  <a:pt x="0" y="0"/>
                </a:moveTo>
                <a:lnTo>
                  <a:pt x="84861" y="0"/>
                </a:lnTo>
                <a:lnTo>
                  <a:pt x="80903" y="3958"/>
                </a:lnTo>
                <a:lnTo>
                  <a:pt x="3958" y="3958"/>
                </a:lnTo>
                <a:close/>
              </a:path>
              <a:path fill="darken" w="84861" h="21600">
                <a:moveTo>
                  <a:pt x="84861" y="0"/>
                </a:moveTo>
                <a:lnTo>
                  <a:pt x="84861" y="21600"/>
                </a:lnTo>
                <a:lnTo>
                  <a:pt x="80903" y="17642"/>
                </a:lnTo>
                <a:lnTo>
                  <a:pt x="80903" y="3958"/>
                </a:lnTo>
                <a:close/>
              </a:path>
              <a:path fill="darkenLess" w="84861" h="21600">
                <a:moveTo>
                  <a:pt x="84861" y="21600"/>
                </a:moveTo>
                <a:lnTo>
                  <a:pt x="0" y="21600"/>
                </a:lnTo>
                <a:lnTo>
                  <a:pt x="3958" y="17642"/>
                </a:lnTo>
                <a:lnTo>
                  <a:pt x="80903" y="17642"/>
                </a:lnTo>
                <a:close/>
              </a:path>
              <a:path fill="lighten" w="84861" h="21600">
                <a:moveTo>
                  <a:pt x="0" y="21600"/>
                </a:moveTo>
                <a:lnTo>
                  <a:pt x="0" y="0"/>
                </a:lnTo>
                <a:lnTo>
                  <a:pt x="3958" y="3958"/>
                </a:lnTo>
                <a:lnTo>
                  <a:pt x="3958" y="17642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озвонить друзья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/>
          <p:nvPr/>
        </p:nvSpPr>
        <p:spPr>
          <a:xfrm>
            <a:off x="4716360" y="5156280"/>
            <a:ext cx="4248360" cy="1152360"/>
          </a:xfrm>
          <a:custGeom>
            <a:avLst/>
            <a:gdLst>
              <a:gd name="textAreaLeft" fmla="*/ 210960 w 4248360"/>
              <a:gd name="textAreaRight" fmla="*/ 4037400 w 4248360"/>
              <a:gd name="textAreaTop" fmla="*/ 210960 h 1152360"/>
              <a:gd name="textAreaBottom" fmla="*/ 941400 h 1152360"/>
            </a:gdLst>
            <a:ahLst/>
            <a:rect l="textAreaLeft" t="textAreaTop" r="textAreaRight" b="textAreaBottom"/>
            <a:pathLst>
              <a:path w="79614" h="21600">
                <a:moveTo>
                  <a:pt x="0" y="0"/>
                </a:moveTo>
                <a:lnTo>
                  <a:pt x="79614" y="0"/>
                </a:lnTo>
                <a:lnTo>
                  <a:pt x="79614" y="21600"/>
                </a:lnTo>
                <a:lnTo>
                  <a:pt x="0" y="21600"/>
                </a:lnTo>
                <a:close/>
              </a:path>
              <a:path fill="lightenLess" w="79614" h="21600">
                <a:moveTo>
                  <a:pt x="0" y="0"/>
                </a:moveTo>
                <a:lnTo>
                  <a:pt x="79614" y="0"/>
                </a:lnTo>
                <a:lnTo>
                  <a:pt x="75656" y="3958"/>
                </a:lnTo>
                <a:lnTo>
                  <a:pt x="3958" y="3958"/>
                </a:lnTo>
                <a:close/>
              </a:path>
              <a:path fill="darken" w="79614" h="21600">
                <a:moveTo>
                  <a:pt x="79614" y="0"/>
                </a:moveTo>
                <a:lnTo>
                  <a:pt x="79614" y="21600"/>
                </a:lnTo>
                <a:lnTo>
                  <a:pt x="75656" y="17642"/>
                </a:lnTo>
                <a:lnTo>
                  <a:pt x="75656" y="3958"/>
                </a:lnTo>
                <a:close/>
              </a:path>
              <a:path fill="darkenLess" w="79614" h="21600">
                <a:moveTo>
                  <a:pt x="79614" y="21600"/>
                </a:moveTo>
                <a:lnTo>
                  <a:pt x="0" y="21600"/>
                </a:lnTo>
                <a:lnTo>
                  <a:pt x="3958" y="17642"/>
                </a:lnTo>
                <a:lnTo>
                  <a:pt x="75656" y="17642"/>
                </a:lnTo>
                <a:close/>
              </a:path>
              <a:path fill="lighten" w="79614" h="21600">
                <a:moveTo>
                  <a:pt x="0" y="21600"/>
                </a:moveTo>
                <a:lnTo>
                  <a:pt x="0" y="0"/>
                </a:lnTo>
                <a:lnTo>
                  <a:pt x="3958" y="3958"/>
                </a:lnTo>
                <a:lnTo>
                  <a:pt x="3958" y="17642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звать на помощ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108000" y="115920"/>
            <a:ext cx="87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сли незнакомец предлагает вам пройти с ним, чтобы помочь, необходим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" descr="Картинка 13 из 465"/>
          <p:cNvPicPr/>
          <p:nvPr/>
        </p:nvPicPr>
        <p:blipFill>
          <a:blip r:embed="rId1"/>
          <a:stretch/>
        </p:blipFill>
        <p:spPr>
          <a:xfrm>
            <a:off x="324000" y="907920"/>
            <a:ext cx="3744720" cy="5805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64" dur="indefinite" restart="never" nodeType="tmRoot">
          <p:childTnLst>
            <p:seq>
              <p:cTn id="65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79280" y="1628640"/>
            <a:ext cx="4392720" cy="1008360"/>
          </a:xfrm>
          <a:custGeom>
            <a:avLst/>
            <a:gdLst>
              <a:gd name="textAreaLeft" fmla="*/ 169920 w 4392720"/>
              <a:gd name="textAreaRight" fmla="*/ 4222800 w 4392720"/>
              <a:gd name="textAreaTop" fmla="*/ 169920 h 1008360"/>
              <a:gd name="textAreaBottom" fmla="*/ 838440 h 1008360"/>
            </a:gdLst>
            <a:ahLst/>
            <a:rect l="textAreaLeft" t="textAreaTop" r="textAreaRight" b="textAreaBottom"/>
            <a:pathLst>
              <a:path w="94070" h="21600">
                <a:moveTo>
                  <a:pt x="0" y="0"/>
                </a:moveTo>
                <a:lnTo>
                  <a:pt x="94070" y="0"/>
                </a:lnTo>
                <a:lnTo>
                  <a:pt x="94070" y="21600"/>
                </a:lnTo>
                <a:lnTo>
                  <a:pt x="0" y="21600"/>
                </a:lnTo>
                <a:close/>
              </a:path>
              <a:path fill="lightenLess" w="94070" h="21600">
                <a:moveTo>
                  <a:pt x="0" y="0"/>
                </a:moveTo>
                <a:lnTo>
                  <a:pt x="94070" y="0"/>
                </a:lnTo>
                <a:lnTo>
                  <a:pt x="90430" y="3640"/>
                </a:lnTo>
                <a:lnTo>
                  <a:pt x="3640" y="3640"/>
                </a:lnTo>
                <a:close/>
              </a:path>
              <a:path fill="darken" w="94070" h="21600">
                <a:moveTo>
                  <a:pt x="94070" y="0"/>
                </a:moveTo>
                <a:lnTo>
                  <a:pt x="94070" y="21600"/>
                </a:lnTo>
                <a:lnTo>
                  <a:pt x="90430" y="17960"/>
                </a:lnTo>
                <a:lnTo>
                  <a:pt x="90430" y="3640"/>
                </a:lnTo>
                <a:close/>
              </a:path>
              <a:path fill="darkenLess" w="94070" h="21600">
                <a:moveTo>
                  <a:pt x="94070" y="21600"/>
                </a:moveTo>
                <a:lnTo>
                  <a:pt x="0" y="21600"/>
                </a:lnTo>
                <a:lnTo>
                  <a:pt x="3640" y="17960"/>
                </a:lnTo>
                <a:lnTo>
                  <a:pt x="90430" y="17960"/>
                </a:lnTo>
                <a:close/>
              </a:path>
              <a:path fill="lighten" w="94070" h="21600">
                <a:moveTo>
                  <a:pt x="0" y="21600"/>
                </a:moveTo>
                <a:lnTo>
                  <a:pt x="0" y="0"/>
                </a:lnTo>
                <a:lnTo>
                  <a:pt x="3640" y="3640"/>
                </a:lnTo>
                <a:lnTo>
                  <a:pt x="3640" y="1796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Кусаться, царапать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/>
          <p:nvPr/>
        </p:nvSpPr>
        <p:spPr>
          <a:xfrm>
            <a:off x="179280" y="2852640"/>
            <a:ext cx="4392720" cy="1008000"/>
          </a:xfrm>
          <a:custGeom>
            <a:avLst/>
            <a:gdLst>
              <a:gd name="textAreaLeft" fmla="*/ 169560 w 4392720"/>
              <a:gd name="textAreaRight" fmla="*/ 4223160 w 4392720"/>
              <a:gd name="textAreaTop" fmla="*/ 169560 h 1008000"/>
              <a:gd name="textAreaBottom" fmla="*/ 838440 h 1008000"/>
            </a:gdLst>
            <a:ahLst/>
            <a:rect l="textAreaLeft" t="textAreaTop" r="textAreaRight" b="textAreaBottom"/>
            <a:pathLst>
              <a:path w="94104" h="21600">
                <a:moveTo>
                  <a:pt x="0" y="0"/>
                </a:moveTo>
                <a:lnTo>
                  <a:pt x="94104" y="0"/>
                </a:lnTo>
                <a:lnTo>
                  <a:pt x="94104" y="21600"/>
                </a:lnTo>
                <a:lnTo>
                  <a:pt x="0" y="21600"/>
                </a:lnTo>
                <a:close/>
              </a:path>
              <a:path fill="lightenLess" w="94104" h="21600">
                <a:moveTo>
                  <a:pt x="0" y="0"/>
                </a:moveTo>
                <a:lnTo>
                  <a:pt x="94104" y="0"/>
                </a:lnTo>
                <a:lnTo>
                  <a:pt x="90464" y="3640"/>
                </a:lnTo>
                <a:lnTo>
                  <a:pt x="3640" y="3640"/>
                </a:lnTo>
                <a:close/>
              </a:path>
              <a:path fill="darken" w="94104" h="21600">
                <a:moveTo>
                  <a:pt x="94104" y="0"/>
                </a:moveTo>
                <a:lnTo>
                  <a:pt x="94104" y="21600"/>
                </a:lnTo>
                <a:lnTo>
                  <a:pt x="90464" y="17960"/>
                </a:lnTo>
                <a:lnTo>
                  <a:pt x="90464" y="3640"/>
                </a:lnTo>
                <a:close/>
              </a:path>
              <a:path fill="darkenLess" w="94104" h="21600">
                <a:moveTo>
                  <a:pt x="94104" y="21600"/>
                </a:moveTo>
                <a:lnTo>
                  <a:pt x="0" y="21600"/>
                </a:lnTo>
                <a:lnTo>
                  <a:pt x="3640" y="17960"/>
                </a:lnTo>
                <a:lnTo>
                  <a:pt x="90464" y="17960"/>
                </a:lnTo>
                <a:close/>
              </a:path>
              <a:path fill="lighten" w="94104" h="21600">
                <a:moveTo>
                  <a:pt x="0" y="21600"/>
                </a:moveTo>
                <a:lnTo>
                  <a:pt x="0" y="0"/>
                </a:lnTo>
                <a:lnTo>
                  <a:pt x="3640" y="3640"/>
                </a:lnTo>
                <a:lnTo>
                  <a:pt x="3640" y="1796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Кричать, звать на помощ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/>
          <p:nvPr/>
        </p:nvSpPr>
        <p:spPr>
          <a:xfrm>
            <a:off x="179280" y="4076640"/>
            <a:ext cx="4392720" cy="1008000"/>
          </a:xfrm>
          <a:custGeom>
            <a:avLst/>
            <a:gdLst>
              <a:gd name="textAreaLeft" fmla="*/ 169560 w 4392720"/>
              <a:gd name="textAreaRight" fmla="*/ 4223160 w 4392720"/>
              <a:gd name="textAreaTop" fmla="*/ 169560 h 1008000"/>
              <a:gd name="textAreaBottom" fmla="*/ 838440 h 1008000"/>
            </a:gdLst>
            <a:ahLst/>
            <a:rect l="textAreaLeft" t="textAreaTop" r="textAreaRight" b="textAreaBottom"/>
            <a:pathLst>
              <a:path w="94104" h="21600">
                <a:moveTo>
                  <a:pt x="0" y="0"/>
                </a:moveTo>
                <a:lnTo>
                  <a:pt x="94104" y="0"/>
                </a:lnTo>
                <a:lnTo>
                  <a:pt x="94104" y="21600"/>
                </a:lnTo>
                <a:lnTo>
                  <a:pt x="0" y="21600"/>
                </a:lnTo>
                <a:close/>
              </a:path>
              <a:path fill="lightenLess" w="94104" h="21600">
                <a:moveTo>
                  <a:pt x="0" y="0"/>
                </a:moveTo>
                <a:lnTo>
                  <a:pt x="94104" y="0"/>
                </a:lnTo>
                <a:lnTo>
                  <a:pt x="90464" y="3640"/>
                </a:lnTo>
                <a:lnTo>
                  <a:pt x="3640" y="3640"/>
                </a:lnTo>
                <a:close/>
              </a:path>
              <a:path fill="darken" w="94104" h="21600">
                <a:moveTo>
                  <a:pt x="94104" y="0"/>
                </a:moveTo>
                <a:lnTo>
                  <a:pt x="94104" y="21600"/>
                </a:lnTo>
                <a:lnTo>
                  <a:pt x="90464" y="17960"/>
                </a:lnTo>
                <a:lnTo>
                  <a:pt x="90464" y="3640"/>
                </a:lnTo>
                <a:close/>
              </a:path>
              <a:path fill="darkenLess" w="94104" h="21600">
                <a:moveTo>
                  <a:pt x="94104" y="21600"/>
                </a:moveTo>
                <a:lnTo>
                  <a:pt x="0" y="21600"/>
                </a:lnTo>
                <a:lnTo>
                  <a:pt x="3640" y="17960"/>
                </a:lnTo>
                <a:lnTo>
                  <a:pt x="90464" y="17960"/>
                </a:lnTo>
                <a:close/>
              </a:path>
              <a:path fill="lighten" w="94104" h="21600">
                <a:moveTo>
                  <a:pt x="0" y="21600"/>
                </a:moveTo>
                <a:lnTo>
                  <a:pt x="0" y="0"/>
                </a:lnTo>
                <a:lnTo>
                  <a:pt x="3640" y="3640"/>
                </a:lnTo>
                <a:lnTo>
                  <a:pt x="3640" y="1796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Найти общий язы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/>
          <p:nvPr/>
        </p:nvSpPr>
        <p:spPr>
          <a:xfrm>
            <a:off x="179280" y="5300640"/>
            <a:ext cx="4392720" cy="1008000"/>
          </a:xfrm>
          <a:custGeom>
            <a:avLst/>
            <a:gdLst>
              <a:gd name="textAreaLeft" fmla="*/ 169560 w 4392720"/>
              <a:gd name="textAreaRight" fmla="*/ 4223160 w 4392720"/>
              <a:gd name="textAreaTop" fmla="*/ 169560 h 1008000"/>
              <a:gd name="textAreaBottom" fmla="*/ 838440 h 1008000"/>
            </a:gdLst>
            <a:ahLst/>
            <a:rect l="textAreaLeft" t="textAreaTop" r="textAreaRight" b="textAreaBottom"/>
            <a:pathLst>
              <a:path w="94104" h="21600">
                <a:moveTo>
                  <a:pt x="0" y="0"/>
                </a:moveTo>
                <a:lnTo>
                  <a:pt x="94104" y="0"/>
                </a:lnTo>
                <a:lnTo>
                  <a:pt x="94104" y="21600"/>
                </a:lnTo>
                <a:lnTo>
                  <a:pt x="0" y="21600"/>
                </a:lnTo>
                <a:close/>
              </a:path>
              <a:path fill="lightenLess" w="94104" h="21600">
                <a:moveTo>
                  <a:pt x="0" y="0"/>
                </a:moveTo>
                <a:lnTo>
                  <a:pt x="94104" y="0"/>
                </a:lnTo>
                <a:lnTo>
                  <a:pt x="90464" y="3640"/>
                </a:lnTo>
                <a:lnTo>
                  <a:pt x="3640" y="3640"/>
                </a:lnTo>
                <a:close/>
              </a:path>
              <a:path fill="darken" w="94104" h="21600">
                <a:moveTo>
                  <a:pt x="94104" y="0"/>
                </a:moveTo>
                <a:lnTo>
                  <a:pt x="94104" y="21600"/>
                </a:lnTo>
                <a:lnTo>
                  <a:pt x="90464" y="17960"/>
                </a:lnTo>
                <a:lnTo>
                  <a:pt x="90464" y="3640"/>
                </a:lnTo>
                <a:close/>
              </a:path>
              <a:path fill="darkenLess" w="94104" h="21600">
                <a:moveTo>
                  <a:pt x="94104" y="21600"/>
                </a:moveTo>
                <a:lnTo>
                  <a:pt x="0" y="21600"/>
                </a:lnTo>
                <a:lnTo>
                  <a:pt x="3640" y="17960"/>
                </a:lnTo>
                <a:lnTo>
                  <a:pt x="90464" y="17960"/>
                </a:lnTo>
                <a:close/>
              </a:path>
              <a:path fill="lighten" w="94104" h="21600">
                <a:moveTo>
                  <a:pt x="0" y="21600"/>
                </a:moveTo>
                <a:lnTo>
                  <a:pt x="0" y="0"/>
                </a:lnTo>
                <a:lnTo>
                  <a:pt x="3640" y="3640"/>
                </a:lnTo>
                <a:lnTo>
                  <a:pt x="3640" y="1796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Отдать все ценные вещ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260280"/>
            <a:ext cx="856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аши действия при угрозе ножом, когда пытаются вас ограби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" descr="Картинка 62 из 94"/>
          <p:cNvPicPr/>
          <p:nvPr/>
        </p:nvPicPr>
        <p:blipFill>
          <a:blip r:embed="rId1"/>
          <a:stretch/>
        </p:blipFill>
        <p:spPr>
          <a:xfrm>
            <a:off x="5219640" y="1413000"/>
            <a:ext cx="3243240" cy="4895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00720" y="1484280"/>
            <a:ext cx="4464000" cy="1008000"/>
          </a:xfrm>
          <a:custGeom>
            <a:avLst/>
            <a:gdLst>
              <a:gd name="textAreaLeft" fmla="*/ 169560 w 4464000"/>
              <a:gd name="textAreaRight" fmla="*/ 4294440 w 4464000"/>
              <a:gd name="textAreaTop" fmla="*/ 169560 h 1008000"/>
              <a:gd name="textAreaBottom" fmla="*/ 838440 h 1008000"/>
            </a:gdLst>
            <a:ahLst/>
            <a:rect l="textAreaLeft" t="textAreaTop" r="textAreaRight" b="textAreaBottom"/>
            <a:pathLst>
              <a:path w="95631" h="21600">
                <a:moveTo>
                  <a:pt x="0" y="0"/>
                </a:moveTo>
                <a:lnTo>
                  <a:pt x="95631" y="0"/>
                </a:lnTo>
                <a:lnTo>
                  <a:pt x="95631" y="21600"/>
                </a:lnTo>
                <a:lnTo>
                  <a:pt x="0" y="21600"/>
                </a:lnTo>
                <a:close/>
              </a:path>
              <a:path fill="lightenLess" w="95631" h="21600">
                <a:moveTo>
                  <a:pt x="0" y="0"/>
                </a:moveTo>
                <a:lnTo>
                  <a:pt x="95631" y="0"/>
                </a:lnTo>
                <a:lnTo>
                  <a:pt x="91991" y="3640"/>
                </a:lnTo>
                <a:lnTo>
                  <a:pt x="3640" y="3640"/>
                </a:lnTo>
                <a:close/>
              </a:path>
              <a:path fill="darken" w="95631" h="21600">
                <a:moveTo>
                  <a:pt x="95631" y="0"/>
                </a:moveTo>
                <a:lnTo>
                  <a:pt x="95631" y="21600"/>
                </a:lnTo>
                <a:lnTo>
                  <a:pt x="91991" y="17960"/>
                </a:lnTo>
                <a:lnTo>
                  <a:pt x="91991" y="3640"/>
                </a:lnTo>
                <a:close/>
              </a:path>
              <a:path fill="darkenLess" w="95631" h="21600">
                <a:moveTo>
                  <a:pt x="95631" y="21600"/>
                </a:moveTo>
                <a:lnTo>
                  <a:pt x="0" y="21600"/>
                </a:lnTo>
                <a:lnTo>
                  <a:pt x="3640" y="17960"/>
                </a:lnTo>
                <a:lnTo>
                  <a:pt x="91991" y="17960"/>
                </a:lnTo>
                <a:close/>
              </a:path>
              <a:path fill="lighten" w="95631" h="21600">
                <a:moveTo>
                  <a:pt x="0" y="21600"/>
                </a:moveTo>
                <a:lnTo>
                  <a:pt x="0" y="0"/>
                </a:lnTo>
                <a:lnTo>
                  <a:pt x="3640" y="3640"/>
                </a:lnTo>
                <a:lnTo>
                  <a:pt x="3640" y="1796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Изменить маршру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4500720" y="2637000"/>
            <a:ext cx="4464000" cy="1008000"/>
          </a:xfrm>
          <a:custGeom>
            <a:avLst/>
            <a:gdLst>
              <a:gd name="textAreaLeft" fmla="*/ 169560 w 4464000"/>
              <a:gd name="textAreaRight" fmla="*/ 4294440 w 4464000"/>
              <a:gd name="textAreaTop" fmla="*/ 169560 h 1008000"/>
              <a:gd name="textAreaBottom" fmla="*/ 838440 h 1008000"/>
            </a:gdLst>
            <a:ahLst/>
            <a:rect l="textAreaLeft" t="textAreaTop" r="textAreaRight" b="textAreaBottom"/>
            <a:pathLst>
              <a:path w="95631" h="21600">
                <a:moveTo>
                  <a:pt x="0" y="0"/>
                </a:moveTo>
                <a:lnTo>
                  <a:pt x="95631" y="0"/>
                </a:lnTo>
                <a:lnTo>
                  <a:pt x="95631" y="21600"/>
                </a:lnTo>
                <a:lnTo>
                  <a:pt x="0" y="21600"/>
                </a:lnTo>
                <a:close/>
              </a:path>
              <a:path fill="lightenLess" w="95631" h="21600">
                <a:moveTo>
                  <a:pt x="0" y="0"/>
                </a:moveTo>
                <a:lnTo>
                  <a:pt x="95631" y="0"/>
                </a:lnTo>
                <a:lnTo>
                  <a:pt x="91991" y="3640"/>
                </a:lnTo>
                <a:lnTo>
                  <a:pt x="3640" y="3640"/>
                </a:lnTo>
                <a:close/>
              </a:path>
              <a:path fill="darken" w="95631" h="21600">
                <a:moveTo>
                  <a:pt x="95631" y="0"/>
                </a:moveTo>
                <a:lnTo>
                  <a:pt x="95631" y="21600"/>
                </a:lnTo>
                <a:lnTo>
                  <a:pt x="91991" y="17960"/>
                </a:lnTo>
                <a:lnTo>
                  <a:pt x="91991" y="3640"/>
                </a:lnTo>
                <a:close/>
              </a:path>
              <a:path fill="darkenLess" w="95631" h="21600">
                <a:moveTo>
                  <a:pt x="95631" y="21600"/>
                </a:moveTo>
                <a:lnTo>
                  <a:pt x="0" y="21600"/>
                </a:lnTo>
                <a:lnTo>
                  <a:pt x="3640" y="17960"/>
                </a:lnTo>
                <a:lnTo>
                  <a:pt x="91991" y="17960"/>
                </a:lnTo>
                <a:close/>
              </a:path>
              <a:path fill="lighten" w="95631" h="21600">
                <a:moveTo>
                  <a:pt x="0" y="21600"/>
                </a:moveTo>
                <a:lnTo>
                  <a:pt x="0" y="0"/>
                </a:lnTo>
                <a:lnTo>
                  <a:pt x="3640" y="3640"/>
                </a:lnTo>
                <a:lnTo>
                  <a:pt x="3640" y="1796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обежать о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реследовател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4500720" y="3860640"/>
            <a:ext cx="4464000" cy="1008360"/>
          </a:xfrm>
          <a:custGeom>
            <a:avLst/>
            <a:gdLst>
              <a:gd name="textAreaLeft" fmla="*/ 169920 w 4464000"/>
              <a:gd name="textAreaRight" fmla="*/ 4294080 w 4464000"/>
              <a:gd name="textAreaTop" fmla="*/ 169920 h 1008360"/>
              <a:gd name="textAreaBottom" fmla="*/ 838440 h 1008360"/>
            </a:gdLst>
            <a:ahLst/>
            <a:rect l="textAreaLeft" t="textAreaTop" r="textAreaRight" b="textAreaBottom"/>
            <a:pathLst>
              <a:path w="95597" h="21600">
                <a:moveTo>
                  <a:pt x="0" y="0"/>
                </a:moveTo>
                <a:lnTo>
                  <a:pt x="95597" y="0"/>
                </a:lnTo>
                <a:lnTo>
                  <a:pt x="95597" y="21600"/>
                </a:lnTo>
                <a:lnTo>
                  <a:pt x="0" y="21600"/>
                </a:lnTo>
                <a:close/>
              </a:path>
              <a:path fill="lightenLess" w="95597" h="21600">
                <a:moveTo>
                  <a:pt x="0" y="0"/>
                </a:moveTo>
                <a:lnTo>
                  <a:pt x="95597" y="0"/>
                </a:lnTo>
                <a:lnTo>
                  <a:pt x="91957" y="3640"/>
                </a:lnTo>
                <a:lnTo>
                  <a:pt x="3640" y="3640"/>
                </a:lnTo>
                <a:close/>
              </a:path>
              <a:path fill="darken" w="95597" h="21600">
                <a:moveTo>
                  <a:pt x="95597" y="0"/>
                </a:moveTo>
                <a:lnTo>
                  <a:pt x="95597" y="21600"/>
                </a:lnTo>
                <a:lnTo>
                  <a:pt x="91957" y="17960"/>
                </a:lnTo>
                <a:lnTo>
                  <a:pt x="91957" y="3640"/>
                </a:lnTo>
                <a:close/>
              </a:path>
              <a:path fill="darkenLess" w="95597" h="21600">
                <a:moveTo>
                  <a:pt x="95597" y="21600"/>
                </a:moveTo>
                <a:lnTo>
                  <a:pt x="0" y="21600"/>
                </a:lnTo>
                <a:lnTo>
                  <a:pt x="3640" y="17960"/>
                </a:lnTo>
                <a:lnTo>
                  <a:pt x="91957" y="17960"/>
                </a:lnTo>
                <a:close/>
              </a:path>
              <a:path fill="lighten" w="95597" h="21600">
                <a:moveTo>
                  <a:pt x="0" y="21600"/>
                </a:moveTo>
                <a:lnTo>
                  <a:pt x="0" y="0"/>
                </a:lnTo>
                <a:lnTo>
                  <a:pt x="3640" y="3640"/>
                </a:lnTo>
                <a:lnTo>
                  <a:pt x="3640" y="1796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Крича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4500720" y="5084640"/>
            <a:ext cx="4464000" cy="1008360"/>
          </a:xfrm>
          <a:custGeom>
            <a:avLst/>
            <a:gdLst>
              <a:gd name="textAreaLeft" fmla="*/ 169920 w 4464000"/>
              <a:gd name="textAreaRight" fmla="*/ 4294080 w 4464000"/>
              <a:gd name="textAreaTop" fmla="*/ 169920 h 1008360"/>
              <a:gd name="textAreaBottom" fmla="*/ 838440 h 1008360"/>
            </a:gdLst>
            <a:ahLst/>
            <a:rect l="textAreaLeft" t="textAreaTop" r="textAreaRight" b="textAreaBottom"/>
            <a:pathLst>
              <a:path w="95597" h="21600">
                <a:moveTo>
                  <a:pt x="0" y="0"/>
                </a:moveTo>
                <a:lnTo>
                  <a:pt x="95597" y="0"/>
                </a:lnTo>
                <a:lnTo>
                  <a:pt x="95597" y="21600"/>
                </a:lnTo>
                <a:lnTo>
                  <a:pt x="0" y="21600"/>
                </a:lnTo>
                <a:close/>
              </a:path>
              <a:path fill="lightenLess" w="95597" h="21600">
                <a:moveTo>
                  <a:pt x="0" y="0"/>
                </a:moveTo>
                <a:lnTo>
                  <a:pt x="95597" y="0"/>
                </a:lnTo>
                <a:lnTo>
                  <a:pt x="91957" y="3640"/>
                </a:lnTo>
                <a:lnTo>
                  <a:pt x="3640" y="3640"/>
                </a:lnTo>
                <a:close/>
              </a:path>
              <a:path fill="darken" w="95597" h="21600">
                <a:moveTo>
                  <a:pt x="95597" y="0"/>
                </a:moveTo>
                <a:lnTo>
                  <a:pt x="95597" y="21600"/>
                </a:lnTo>
                <a:lnTo>
                  <a:pt x="91957" y="17960"/>
                </a:lnTo>
                <a:lnTo>
                  <a:pt x="91957" y="3640"/>
                </a:lnTo>
                <a:close/>
              </a:path>
              <a:path fill="darkenLess" w="95597" h="21600">
                <a:moveTo>
                  <a:pt x="95597" y="21600"/>
                </a:moveTo>
                <a:lnTo>
                  <a:pt x="0" y="21600"/>
                </a:lnTo>
                <a:lnTo>
                  <a:pt x="3640" y="17960"/>
                </a:lnTo>
                <a:lnTo>
                  <a:pt x="91957" y="17960"/>
                </a:lnTo>
                <a:close/>
              </a:path>
              <a:path fill="lighten" w="95597" h="21600">
                <a:moveTo>
                  <a:pt x="0" y="21600"/>
                </a:moveTo>
                <a:lnTo>
                  <a:pt x="0" y="0"/>
                </a:lnTo>
                <a:lnTo>
                  <a:pt x="3640" y="3640"/>
                </a:lnTo>
                <a:lnTo>
                  <a:pt x="3640" y="1796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рименить прием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самооборо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179280" y="18900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сли вы почувствовали, что вас преследуют, вам необходим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" descr="Картинка 124 из 575"/>
          <p:cNvPicPr/>
          <p:nvPr/>
        </p:nvPicPr>
        <p:blipFill>
          <a:blip r:embed="rId1"/>
          <a:stretch/>
        </p:blipFill>
        <p:spPr>
          <a:xfrm>
            <a:off x="0" y="1844640"/>
            <a:ext cx="4427640" cy="3179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06" dur="indefinite" restart="never" nodeType="tmRoot">
          <p:childTnLst>
            <p:seq>
              <p:cTn id="107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2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2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79280" y="26028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лючи от своей квартиры вам следу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179280" y="1341360"/>
            <a:ext cx="4249800" cy="1081080"/>
          </a:xfrm>
          <a:custGeom>
            <a:avLst/>
            <a:gdLst>
              <a:gd name="textAreaLeft" fmla="*/ 198000 w 4249800"/>
              <a:gd name="textAreaRight" fmla="*/ 4051800 w 4249800"/>
              <a:gd name="textAreaTop" fmla="*/ 198000 h 1081080"/>
              <a:gd name="textAreaBottom" fmla="*/ 883080 h 1081080"/>
            </a:gdLst>
            <a:ahLst/>
            <a:rect l="textAreaLeft" t="textAreaTop" r="textAreaRight" b="textAreaBottom"/>
            <a:pathLst>
              <a:path w="84890" h="21600">
                <a:moveTo>
                  <a:pt x="0" y="0"/>
                </a:moveTo>
                <a:lnTo>
                  <a:pt x="84890" y="0"/>
                </a:lnTo>
                <a:lnTo>
                  <a:pt x="84890" y="21600"/>
                </a:lnTo>
                <a:lnTo>
                  <a:pt x="0" y="21600"/>
                </a:lnTo>
                <a:close/>
              </a:path>
              <a:path fill="lightenLess" w="84890" h="21600">
                <a:moveTo>
                  <a:pt x="0" y="0"/>
                </a:moveTo>
                <a:lnTo>
                  <a:pt x="84890" y="0"/>
                </a:lnTo>
                <a:lnTo>
                  <a:pt x="80932" y="3958"/>
                </a:lnTo>
                <a:lnTo>
                  <a:pt x="3958" y="3958"/>
                </a:lnTo>
                <a:close/>
              </a:path>
              <a:path fill="darken" w="84890" h="21600">
                <a:moveTo>
                  <a:pt x="84890" y="0"/>
                </a:moveTo>
                <a:lnTo>
                  <a:pt x="84890" y="21600"/>
                </a:lnTo>
                <a:lnTo>
                  <a:pt x="80932" y="17642"/>
                </a:lnTo>
                <a:lnTo>
                  <a:pt x="80932" y="3958"/>
                </a:lnTo>
                <a:close/>
              </a:path>
              <a:path fill="darkenLess" w="84890" h="21600">
                <a:moveTo>
                  <a:pt x="84890" y="21600"/>
                </a:moveTo>
                <a:lnTo>
                  <a:pt x="0" y="21600"/>
                </a:lnTo>
                <a:lnTo>
                  <a:pt x="3958" y="17642"/>
                </a:lnTo>
                <a:lnTo>
                  <a:pt x="80932" y="17642"/>
                </a:lnTo>
                <a:close/>
              </a:path>
              <a:path fill="lighten" w="84890" h="21600">
                <a:moveTo>
                  <a:pt x="0" y="21600"/>
                </a:moveTo>
                <a:lnTo>
                  <a:pt x="0" y="0"/>
                </a:lnTo>
                <a:lnTo>
                  <a:pt x="3958" y="3958"/>
                </a:lnTo>
                <a:lnTo>
                  <a:pt x="3958" y="17642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Уходя их дома, прята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в "потайном" мест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179280" y="2637000"/>
            <a:ext cx="4249800" cy="1081080"/>
          </a:xfrm>
          <a:custGeom>
            <a:avLst/>
            <a:gdLst>
              <a:gd name="textAreaLeft" fmla="*/ 198000 w 4249800"/>
              <a:gd name="textAreaRight" fmla="*/ 4051800 w 4249800"/>
              <a:gd name="textAreaTop" fmla="*/ 198000 h 1081080"/>
              <a:gd name="textAreaBottom" fmla="*/ 883080 h 1081080"/>
            </a:gdLst>
            <a:ahLst/>
            <a:rect l="textAreaLeft" t="textAreaTop" r="textAreaRight" b="textAreaBottom"/>
            <a:pathLst>
              <a:path w="84890" h="21600">
                <a:moveTo>
                  <a:pt x="0" y="0"/>
                </a:moveTo>
                <a:lnTo>
                  <a:pt x="84890" y="0"/>
                </a:lnTo>
                <a:lnTo>
                  <a:pt x="84890" y="21600"/>
                </a:lnTo>
                <a:lnTo>
                  <a:pt x="0" y="21600"/>
                </a:lnTo>
                <a:close/>
              </a:path>
              <a:path fill="lightenLess" w="84890" h="21600">
                <a:moveTo>
                  <a:pt x="0" y="0"/>
                </a:moveTo>
                <a:lnTo>
                  <a:pt x="84890" y="0"/>
                </a:lnTo>
                <a:lnTo>
                  <a:pt x="80932" y="3958"/>
                </a:lnTo>
                <a:lnTo>
                  <a:pt x="3958" y="3958"/>
                </a:lnTo>
                <a:close/>
              </a:path>
              <a:path fill="darken" w="84890" h="21600">
                <a:moveTo>
                  <a:pt x="84890" y="0"/>
                </a:moveTo>
                <a:lnTo>
                  <a:pt x="84890" y="21600"/>
                </a:lnTo>
                <a:lnTo>
                  <a:pt x="80932" y="17642"/>
                </a:lnTo>
                <a:lnTo>
                  <a:pt x="80932" y="3958"/>
                </a:lnTo>
                <a:close/>
              </a:path>
              <a:path fill="darkenLess" w="84890" h="21600">
                <a:moveTo>
                  <a:pt x="84890" y="21600"/>
                </a:moveTo>
                <a:lnTo>
                  <a:pt x="0" y="21600"/>
                </a:lnTo>
                <a:lnTo>
                  <a:pt x="3958" y="17642"/>
                </a:lnTo>
                <a:lnTo>
                  <a:pt x="80932" y="17642"/>
                </a:lnTo>
                <a:close/>
              </a:path>
              <a:path fill="lighten" w="84890" h="21600">
                <a:moveTo>
                  <a:pt x="0" y="21600"/>
                </a:moveTo>
                <a:lnTo>
                  <a:pt x="0" y="0"/>
                </a:lnTo>
                <a:lnTo>
                  <a:pt x="3958" y="3958"/>
                </a:lnTo>
                <a:lnTo>
                  <a:pt x="3958" y="17642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Давать посмотреть всем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кто попроси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179280" y="3933720"/>
            <a:ext cx="4249800" cy="1081080"/>
          </a:xfrm>
          <a:custGeom>
            <a:avLst/>
            <a:gdLst>
              <a:gd name="textAreaLeft" fmla="*/ 198000 w 4249800"/>
              <a:gd name="textAreaRight" fmla="*/ 4051800 w 4249800"/>
              <a:gd name="textAreaTop" fmla="*/ 198000 h 1081080"/>
              <a:gd name="textAreaBottom" fmla="*/ 883080 h 1081080"/>
            </a:gdLst>
            <a:ahLst/>
            <a:rect l="textAreaLeft" t="textAreaTop" r="textAreaRight" b="textAreaBottom"/>
            <a:pathLst>
              <a:path w="84890" h="21600">
                <a:moveTo>
                  <a:pt x="0" y="0"/>
                </a:moveTo>
                <a:lnTo>
                  <a:pt x="84890" y="0"/>
                </a:lnTo>
                <a:lnTo>
                  <a:pt x="84890" y="21600"/>
                </a:lnTo>
                <a:lnTo>
                  <a:pt x="0" y="21600"/>
                </a:lnTo>
                <a:close/>
              </a:path>
              <a:path fill="lightenLess" w="84890" h="21600">
                <a:moveTo>
                  <a:pt x="0" y="0"/>
                </a:moveTo>
                <a:lnTo>
                  <a:pt x="84890" y="0"/>
                </a:lnTo>
                <a:lnTo>
                  <a:pt x="80932" y="3958"/>
                </a:lnTo>
                <a:lnTo>
                  <a:pt x="3958" y="3958"/>
                </a:lnTo>
                <a:close/>
              </a:path>
              <a:path fill="darken" w="84890" h="21600">
                <a:moveTo>
                  <a:pt x="84890" y="0"/>
                </a:moveTo>
                <a:lnTo>
                  <a:pt x="84890" y="21600"/>
                </a:lnTo>
                <a:lnTo>
                  <a:pt x="80932" y="17642"/>
                </a:lnTo>
                <a:lnTo>
                  <a:pt x="80932" y="3958"/>
                </a:lnTo>
                <a:close/>
              </a:path>
              <a:path fill="darkenLess" w="84890" h="21600">
                <a:moveTo>
                  <a:pt x="84890" y="21600"/>
                </a:moveTo>
                <a:lnTo>
                  <a:pt x="0" y="21600"/>
                </a:lnTo>
                <a:lnTo>
                  <a:pt x="3958" y="17642"/>
                </a:lnTo>
                <a:lnTo>
                  <a:pt x="80932" y="17642"/>
                </a:lnTo>
                <a:close/>
              </a:path>
              <a:path fill="lighten" w="84890" h="21600">
                <a:moveTo>
                  <a:pt x="0" y="21600"/>
                </a:moveTo>
                <a:lnTo>
                  <a:pt x="0" y="0"/>
                </a:lnTo>
                <a:lnTo>
                  <a:pt x="3958" y="3958"/>
                </a:lnTo>
                <a:lnTo>
                  <a:pt x="3958" y="17642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рятать во внутренни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карма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/>
          <p:nvPr/>
        </p:nvSpPr>
        <p:spPr>
          <a:xfrm>
            <a:off x="179280" y="5229360"/>
            <a:ext cx="4249800" cy="1081080"/>
          </a:xfrm>
          <a:custGeom>
            <a:avLst/>
            <a:gdLst>
              <a:gd name="textAreaLeft" fmla="*/ 198000 w 4249800"/>
              <a:gd name="textAreaRight" fmla="*/ 4051800 w 4249800"/>
              <a:gd name="textAreaTop" fmla="*/ 198000 h 1081080"/>
              <a:gd name="textAreaBottom" fmla="*/ 883080 h 1081080"/>
            </a:gdLst>
            <a:ahLst/>
            <a:rect l="textAreaLeft" t="textAreaTop" r="textAreaRight" b="textAreaBottom"/>
            <a:pathLst>
              <a:path w="84890" h="21600">
                <a:moveTo>
                  <a:pt x="0" y="0"/>
                </a:moveTo>
                <a:lnTo>
                  <a:pt x="84890" y="0"/>
                </a:lnTo>
                <a:lnTo>
                  <a:pt x="84890" y="21600"/>
                </a:lnTo>
                <a:lnTo>
                  <a:pt x="0" y="21600"/>
                </a:lnTo>
                <a:close/>
              </a:path>
              <a:path fill="lightenLess" w="84890" h="21600">
                <a:moveTo>
                  <a:pt x="0" y="0"/>
                </a:moveTo>
                <a:lnTo>
                  <a:pt x="84890" y="0"/>
                </a:lnTo>
                <a:lnTo>
                  <a:pt x="80932" y="3958"/>
                </a:lnTo>
                <a:lnTo>
                  <a:pt x="3958" y="3958"/>
                </a:lnTo>
                <a:close/>
              </a:path>
              <a:path fill="darken" w="84890" h="21600">
                <a:moveTo>
                  <a:pt x="84890" y="0"/>
                </a:moveTo>
                <a:lnTo>
                  <a:pt x="84890" y="21600"/>
                </a:lnTo>
                <a:lnTo>
                  <a:pt x="80932" y="17642"/>
                </a:lnTo>
                <a:lnTo>
                  <a:pt x="80932" y="3958"/>
                </a:lnTo>
                <a:close/>
              </a:path>
              <a:path fill="darkenLess" w="84890" h="21600">
                <a:moveTo>
                  <a:pt x="84890" y="21600"/>
                </a:moveTo>
                <a:lnTo>
                  <a:pt x="0" y="21600"/>
                </a:lnTo>
                <a:lnTo>
                  <a:pt x="3958" y="17642"/>
                </a:lnTo>
                <a:lnTo>
                  <a:pt x="80932" y="17642"/>
                </a:lnTo>
                <a:close/>
              </a:path>
              <a:path fill="lighten" w="84890" h="21600">
                <a:moveTo>
                  <a:pt x="0" y="21600"/>
                </a:moveTo>
                <a:lnTo>
                  <a:pt x="0" y="0"/>
                </a:lnTo>
                <a:lnTo>
                  <a:pt x="3958" y="3958"/>
                </a:lnTo>
                <a:lnTo>
                  <a:pt x="3958" y="17642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Давать на хранение сосед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" descr="Картинка 16 из 391358"/>
          <p:cNvPicPr/>
          <p:nvPr/>
        </p:nvPicPr>
        <p:blipFill>
          <a:blip r:embed="rId1"/>
          <a:stretch/>
        </p:blipFill>
        <p:spPr>
          <a:xfrm>
            <a:off x="5580000" y="1197000"/>
            <a:ext cx="2313000" cy="4597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27" dur="indefinite" restart="never" nodeType="tmRoot">
          <p:childTnLst>
            <p:seq>
              <p:cTn id="128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3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3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4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4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214200" y="5357880"/>
            <a:ext cx="857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Возвращаясь поздно домой, соберите длинные волосы наверх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00000" y="189000"/>
            <a:ext cx="7620120" cy="4943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572000" y="1484280"/>
            <a:ext cx="4392720" cy="1008000"/>
          </a:xfrm>
          <a:custGeom>
            <a:avLst/>
            <a:gdLst>
              <a:gd name="textAreaLeft" fmla="*/ 169560 w 4392720"/>
              <a:gd name="textAreaRight" fmla="*/ 4223160 w 4392720"/>
              <a:gd name="textAreaTop" fmla="*/ 169560 h 1008000"/>
              <a:gd name="textAreaBottom" fmla="*/ 838440 h 1008000"/>
            </a:gdLst>
            <a:ahLst/>
            <a:rect l="textAreaLeft" t="textAreaTop" r="textAreaRight" b="textAreaBottom"/>
            <a:pathLst>
              <a:path w="94104" h="21600">
                <a:moveTo>
                  <a:pt x="0" y="0"/>
                </a:moveTo>
                <a:lnTo>
                  <a:pt x="94104" y="0"/>
                </a:lnTo>
                <a:lnTo>
                  <a:pt x="94104" y="21600"/>
                </a:lnTo>
                <a:lnTo>
                  <a:pt x="0" y="21600"/>
                </a:lnTo>
                <a:close/>
              </a:path>
              <a:path fill="lightenLess" w="94104" h="21600">
                <a:moveTo>
                  <a:pt x="0" y="0"/>
                </a:moveTo>
                <a:lnTo>
                  <a:pt x="94104" y="0"/>
                </a:lnTo>
                <a:lnTo>
                  <a:pt x="90464" y="3640"/>
                </a:lnTo>
                <a:lnTo>
                  <a:pt x="3640" y="3640"/>
                </a:lnTo>
                <a:close/>
              </a:path>
              <a:path fill="darken" w="94104" h="21600">
                <a:moveTo>
                  <a:pt x="94104" y="0"/>
                </a:moveTo>
                <a:lnTo>
                  <a:pt x="94104" y="21600"/>
                </a:lnTo>
                <a:lnTo>
                  <a:pt x="90464" y="17960"/>
                </a:lnTo>
                <a:lnTo>
                  <a:pt x="90464" y="3640"/>
                </a:lnTo>
                <a:close/>
              </a:path>
              <a:path fill="darkenLess" w="94104" h="21600">
                <a:moveTo>
                  <a:pt x="94104" y="21600"/>
                </a:moveTo>
                <a:lnTo>
                  <a:pt x="0" y="21600"/>
                </a:lnTo>
                <a:lnTo>
                  <a:pt x="3640" y="17960"/>
                </a:lnTo>
                <a:lnTo>
                  <a:pt x="90464" y="17960"/>
                </a:lnTo>
                <a:close/>
              </a:path>
              <a:path fill="lighten" w="94104" h="21600">
                <a:moveTo>
                  <a:pt x="0" y="21600"/>
                </a:moveTo>
                <a:lnTo>
                  <a:pt x="0" y="0"/>
                </a:lnTo>
                <a:lnTo>
                  <a:pt x="3640" y="3640"/>
                </a:lnTo>
                <a:lnTo>
                  <a:pt x="3640" y="1796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заходить в лиф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2637000"/>
            <a:ext cx="4392720" cy="1008000"/>
          </a:xfrm>
          <a:custGeom>
            <a:avLst/>
            <a:gdLst>
              <a:gd name="textAreaLeft" fmla="*/ 169560 w 4392720"/>
              <a:gd name="textAreaRight" fmla="*/ 4223160 w 4392720"/>
              <a:gd name="textAreaTop" fmla="*/ 169560 h 1008000"/>
              <a:gd name="textAreaBottom" fmla="*/ 838440 h 1008000"/>
            </a:gdLst>
            <a:ahLst/>
            <a:rect l="textAreaLeft" t="textAreaTop" r="textAreaRight" b="textAreaBottom"/>
            <a:pathLst>
              <a:path w="94104" h="21600">
                <a:moveTo>
                  <a:pt x="0" y="0"/>
                </a:moveTo>
                <a:lnTo>
                  <a:pt x="94104" y="0"/>
                </a:lnTo>
                <a:lnTo>
                  <a:pt x="94104" y="21600"/>
                </a:lnTo>
                <a:lnTo>
                  <a:pt x="0" y="21600"/>
                </a:lnTo>
                <a:close/>
              </a:path>
              <a:path fill="lightenLess" w="94104" h="21600">
                <a:moveTo>
                  <a:pt x="0" y="0"/>
                </a:moveTo>
                <a:lnTo>
                  <a:pt x="94104" y="0"/>
                </a:lnTo>
                <a:lnTo>
                  <a:pt x="90464" y="3640"/>
                </a:lnTo>
                <a:lnTo>
                  <a:pt x="3640" y="3640"/>
                </a:lnTo>
                <a:close/>
              </a:path>
              <a:path fill="darken" w="94104" h="21600">
                <a:moveTo>
                  <a:pt x="94104" y="0"/>
                </a:moveTo>
                <a:lnTo>
                  <a:pt x="94104" y="21600"/>
                </a:lnTo>
                <a:lnTo>
                  <a:pt x="90464" y="17960"/>
                </a:lnTo>
                <a:lnTo>
                  <a:pt x="90464" y="3640"/>
                </a:lnTo>
                <a:close/>
              </a:path>
              <a:path fill="darkenLess" w="94104" h="21600">
                <a:moveTo>
                  <a:pt x="94104" y="21600"/>
                </a:moveTo>
                <a:lnTo>
                  <a:pt x="0" y="21600"/>
                </a:lnTo>
                <a:lnTo>
                  <a:pt x="3640" y="17960"/>
                </a:lnTo>
                <a:lnTo>
                  <a:pt x="90464" y="17960"/>
                </a:lnTo>
                <a:close/>
              </a:path>
              <a:path fill="lighten" w="94104" h="21600">
                <a:moveTo>
                  <a:pt x="0" y="21600"/>
                </a:moveTo>
                <a:lnTo>
                  <a:pt x="0" y="0"/>
                </a:lnTo>
                <a:lnTo>
                  <a:pt x="3640" y="3640"/>
                </a:lnTo>
                <a:lnTo>
                  <a:pt x="3640" y="1796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бояться этого челове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3789360"/>
            <a:ext cx="4392720" cy="1008000"/>
          </a:xfrm>
          <a:custGeom>
            <a:avLst/>
            <a:gdLst>
              <a:gd name="textAreaLeft" fmla="*/ 169560 w 4392720"/>
              <a:gd name="textAreaRight" fmla="*/ 4223160 w 4392720"/>
              <a:gd name="textAreaTop" fmla="*/ 169560 h 1008000"/>
              <a:gd name="textAreaBottom" fmla="*/ 838440 h 1008000"/>
            </a:gdLst>
            <a:ahLst/>
            <a:rect l="textAreaLeft" t="textAreaTop" r="textAreaRight" b="textAreaBottom"/>
            <a:pathLst>
              <a:path w="94104" h="21600">
                <a:moveTo>
                  <a:pt x="0" y="0"/>
                </a:moveTo>
                <a:lnTo>
                  <a:pt x="94104" y="0"/>
                </a:lnTo>
                <a:lnTo>
                  <a:pt x="94104" y="21600"/>
                </a:lnTo>
                <a:lnTo>
                  <a:pt x="0" y="21600"/>
                </a:lnTo>
                <a:close/>
              </a:path>
              <a:path fill="lightenLess" w="94104" h="21600">
                <a:moveTo>
                  <a:pt x="0" y="0"/>
                </a:moveTo>
                <a:lnTo>
                  <a:pt x="94104" y="0"/>
                </a:lnTo>
                <a:lnTo>
                  <a:pt x="90464" y="3640"/>
                </a:lnTo>
                <a:lnTo>
                  <a:pt x="3640" y="3640"/>
                </a:lnTo>
                <a:close/>
              </a:path>
              <a:path fill="darken" w="94104" h="21600">
                <a:moveTo>
                  <a:pt x="94104" y="0"/>
                </a:moveTo>
                <a:lnTo>
                  <a:pt x="94104" y="21600"/>
                </a:lnTo>
                <a:lnTo>
                  <a:pt x="90464" y="17960"/>
                </a:lnTo>
                <a:lnTo>
                  <a:pt x="90464" y="3640"/>
                </a:lnTo>
                <a:close/>
              </a:path>
              <a:path fill="darkenLess" w="94104" h="21600">
                <a:moveTo>
                  <a:pt x="94104" y="21600"/>
                </a:moveTo>
                <a:lnTo>
                  <a:pt x="0" y="21600"/>
                </a:lnTo>
                <a:lnTo>
                  <a:pt x="3640" y="17960"/>
                </a:lnTo>
                <a:lnTo>
                  <a:pt x="90464" y="17960"/>
                </a:lnTo>
                <a:close/>
              </a:path>
              <a:path fill="lighten" w="94104" h="21600">
                <a:moveTo>
                  <a:pt x="0" y="21600"/>
                </a:moveTo>
                <a:lnTo>
                  <a:pt x="0" y="0"/>
                </a:lnTo>
                <a:lnTo>
                  <a:pt x="3640" y="3640"/>
                </a:lnTo>
                <a:lnTo>
                  <a:pt x="3640" y="1796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выходить из подъез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4941720"/>
            <a:ext cx="4392720" cy="1008360"/>
          </a:xfrm>
          <a:custGeom>
            <a:avLst/>
            <a:gdLst>
              <a:gd name="textAreaLeft" fmla="*/ 169920 w 4392720"/>
              <a:gd name="textAreaRight" fmla="*/ 4222800 w 4392720"/>
              <a:gd name="textAreaTop" fmla="*/ 169920 h 1008360"/>
              <a:gd name="textAreaBottom" fmla="*/ 838440 h 1008360"/>
            </a:gdLst>
            <a:ahLst/>
            <a:rect l="textAreaLeft" t="textAreaTop" r="textAreaRight" b="textAreaBottom"/>
            <a:pathLst>
              <a:path w="94070" h="21600">
                <a:moveTo>
                  <a:pt x="0" y="0"/>
                </a:moveTo>
                <a:lnTo>
                  <a:pt x="94070" y="0"/>
                </a:lnTo>
                <a:lnTo>
                  <a:pt x="94070" y="21600"/>
                </a:lnTo>
                <a:lnTo>
                  <a:pt x="0" y="21600"/>
                </a:lnTo>
                <a:close/>
              </a:path>
              <a:path fill="lightenLess" w="94070" h="21600">
                <a:moveTo>
                  <a:pt x="0" y="0"/>
                </a:moveTo>
                <a:lnTo>
                  <a:pt x="94070" y="0"/>
                </a:lnTo>
                <a:lnTo>
                  <a:pt x="90430" y="3640"/>
                </a:lnTo>
                <a:lnTo>
                  <a:pt x="3640" y="3640"/>
                </a:lnTo>
                <a:close/>
              </a:path>
              <a:path fill="darken" w="94070" h="21600">
                <a:moveTo>
                  <a:pt x="94070" y="0"/>
                </a:moveTo>
                <a:lnTo>
                  <a:pt x="94070" y="21600"/>
                </a:lnTo>
                <a:lnTo>
                  <a:pt x="90430" y="17960"/>
                </a:lnTo>
                <a:lnTo>
                  <a:pt x="90430" y="3640"/>
                </a:lnTo>
                <a:close/>
              </a:path>
              <a:path fill="darkenLess" w="94070" h="21600">
                <a:moveTo>
                  <a:pt x="94070" y="21600"/>
                </a:moveTo>
                <a:lnTo>
                  <a:pt x="0" y="21600"/>
                </a:lnTo>
                <a:lnTo>
                  <a:pt x="3640" y="17960"/>
                </a:lnTo>
                <a:lnTo>
                  <a:pt x="90430" y="17960"/>
                </a:lnTo>
                <a:close/>
              </a:path>
              <a:path fill="lighten" w="94070" h="21600">
                <a:moveTo>
                  <a:pt x="0" y="21600"/>
                </a:moveTo>
                <a:lnTo>
                  <a:pt x="0" y="0"/>
                </a:lnTo>
                <a:lnTo>
                  <a:pt x="3640" y="3640"/>
                </a:lnTo>
                <a:lnTo>
                  <a:pt x="3640" y="1796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молча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/>
          <p:nvPr/>
        </p:nvSpPr>
        <p:spPr>
          <a:xfrm>
            <a:off x="250920" y="18900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Если в лифте незнакомец, вы НЕ должн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" descr="Картинка 25 из 251132"/>
          <p:cNvPicPr/>
          <p:nvPr/>
        </p:nvPicPr>
        <p:blipFill>
          <a:blip r:embed="rId1"/>
          <a:stretch/>
        </p:blipFill>
        <p:spPr>
          <a:xfrm>
            <a:off x="179280" y="1341360"/>
            <a:ext cx="4256280" cy="5112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48" dur="indefinite" restart="never" nodeType="tmRoot">
          <p:childTnLst>
            <p:seq>
              <p:cTn id="149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5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5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6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6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79280" y="1413000"/>
            <a:ext cx="4464000" cy="1008000"/>
          </a:xfrm>
          <a:custGeom>
            <a:avLst/>
            <a:gdLst>
              <a:gd name="textAreaLeft" fmla="*/ 169560 w 4464000"/>
              <a:gd name="textAreaRight" fmla="*/ 4294440 w 4464000"/>
              <a:gd name="textAreaTop" fmla="*/ 169560 h 1008000"/>
              <a:gd name="textAreaBottom" fmla="*/ 838440 h 1008000"/>
            </a:gdLst>
            <a:ahLst/>
            <a:rect l="textAreaLeft" t="textAreaTop" r="textAreaRight" b="textAreaBottom"/>
            <a:pathLst>
              <a:path w="95631" h="21600">
                <a:moveTo>
                  <a:pt x="0" y="0"/>
                </a:moveTo>
                <a:lnTo>
                  <a:pt x="95631" y="0"/>
                </a:lnTo>
                <a:lnTo>
                  <a:pt x="95631" y="21600"/>
                </a:lnTo>
                <a:lnTo>
                  <a:pt x="0" y="21600"/>
                </a:lnTo>
                <a:close/>
              </a:path>
              <a:path fill="lightenLess" w="95631" h="21600">
                <a:moveTo>
                  <a:pt x="0" y="0"/>
                </a:moveTo>
                <a:lnTo>
                  <a:pt x="95631" y="0"/>
                </a:lnTo>
                <a:lnTo>
                  <a:pt x="91991" y="3640"/>
                </a:lnTo>
                <a:lnTo>
                  <a:pt x="3640" y="3640"/>
                </a:lnTo>
                <a:close/>
              </a:path>
              <a:path fill="darken" w="95631" h="21600">
                <a:moveTo>
                  <a:pt x="95631" y="0"/>
                </a:moveTo>
                <a:lnTo>
                  <a:pt x="95631" y="21600"/>
                </a:lnTo>
                <a:lnTo>
                  <a:pt x="91991" y="17960"/>
                </a:lnTo>
                <a:lnTo>
                  <a:pt x="91991" y="3640"/>
                </a:lnTo>
                <a:close/>
              </a:path>
              <a:path fill="darkenLess" w="95631" h="21600">
                <a:moveTo>
                  <a:pt x="95631" y="21600"/>
                </a:moveTo>
                <a:lnTo>
                  <a:pt x="0" y="21600"/>
                </a:lnTo>
                <a:lnTo>
                  <a:pt x="3640" y="17960"/>
                </a:lnTo>
                <a:lnTo>
                  <a:pt x="91991" y="17960"/>
                </a:lnTo>
                <a:close/>
              </a:path>
              <a:path fill="lighten" w="95631" h="21600">
                <a:moveTo>
                  <a:pt x="0" y="21600"/>
                </a:moveTo>
                <a:lnTo>
                  <a:pt x="0" y="0"/>
                </a:lnTo>
                <a:lnTo>
                  <a:pt x="3640" y="3640"/>
                </a:lnTo>
                <a:lnTo>
                  <a:pt x="3640" y="1796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Уходить в сторон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/>
          <p:nvPr/>
        </p:nvSpPr>
        <p:spPr>
          <a:xfrm>
            <a:off x="179280" y="2708280"/>
            <a:ext cx="4464000" cy="1008000"/>
          </a:xfrm>
          <a:custGeom>
            <a:avLst/>
            <a:gdLst>
              <a:gd name="textAreaLeft" fmla="*/ 169560 w 4464000"/>
              <a:gd name="textAreaRight" fmla="*/ 4294440 w 4464000"/>
              <a:gd name="textAreaTop" fmla="*/ 169560 h 1008000"/>
              <a:gd name="textAreaBottom" fmla="*/ 838440 h 1008000"/>
            </a:gdLst>
            <a:ahLst/>
            <a:rect l="textAreaLeft" t="textAreaTop" r="textAreaRight" b="textAreaBottom"/>
            <a:pathLst>
              <a:path w="95631" h="21600">
                <a:moveTo>
                  <a:pt x="0" y="0"/>
                </a:moveTo>
                <a:lnTo>
                  <a:pt x="95631" y="0"/>
                </a:lnTo>
                <a:lnTo>
                  <a:pt x="95631" y="21600"/>
                </a:lnTo>
                <a:lnTo>
                  <a:pt x="0" y="21600"/>
                </a:lnTo>
                <a:close/>
              </a:path>
              <a:path fill="lightenLess" w="95631" h="21600">
                <a:moveTo>
                  <a:pt x="0" y="0"/>
                </a:moveTo>
                <a:lnTo>
                  <a:pt x="95631" y="0"/>
                </a:lnTo>
                <a:lnTo>
                  <a:pt x="91991" y="3640"/>
                </a:lnTo>
                <a:lnTo>
                  <a:pt x="3640" y="3640"/>
                </a:lnTo>
                <a:close/>
              </a:path>
              <a:path fill="darken" w="95631" h="21600">
                <a:moveTo>
                  <a:pt x="95631" y="0"/>
                </a:moveTo>
                <a:lnTo>
                  <a:pt x="95631" y="21600"/>
                </a:lnTo>
                <a:lnTo>
                  <a:pt x="91991" y="17960"/>
                </a:lnTo>
                <a:lnTo>
                  <a:pt x="91991" y="3640"/>
                </a:lnTo>
                <a:close/>
              </a:path>
              <a:path fill="darkenLess" w="95631" h="21600">
                <a:moveTo>
                  <a:pt x="95631" y="21600"/>
                </a:moveTo>
                <a:lnTo>
                  <a:pt x="0" y="21600"/>
                </a:lnTo>
                <a:lnTo>
                  <a:pt x="3640" y="17960"/>
                </a:lnTo>
                <a:lnTo>
                  <a:pt x="91991" y="17960"/>
                </a:lnTo>
                <a:close/>
              </a:path>
              <a:path fill="lighten" w="95631" h="21600">
                <a:moveTo>
                  <a:pt x="0" y="21600"/>
                </a:moveTo>
                <a:lnTo>
                  <a:pt x="0" y="0"/>
                </a:lnTo>
                <a:lnTo>
                  <a:pt x="3640" y="3640"/>
                </a:lnTo>
                <a:lnTo>
                  <a:pt x="3640" y="1796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Изменять свой  маршру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/>
          <p:nvPr/>
        </p:nvSpPr>
        <p:spPr>
          <a:xfrm>
            <a:off x="250920" y="4005360"/>
            <a:ext cx="4464000" cy="1008000"/>
          </a:xfrm>
          <a:custGeom>
            <a:avLst/>
            <a:gdLst>
              <a:gd name="textAreaLeft" fmla="*/ 169560 w 4464000"/>
              <a:gd name="textAreaRight" fmla="*/ 4294440 w 4464000"/>
              <a:gd name="textAreaTop" fmla="*/ 169560 h 1008000"/>
              <a:gd name="textAreaBottom" fmla="*/ 838440 h 1008000"/>
            </a:gdLst>
            <a:ahLst/>
            <a:rect l="textAreaLeft" t="textAreaTop" r="textAreaRight" b="textAreaBottom"/>
            <a:pathLst>
              <a:path w="95631" h="21600">
                <a:moveTo>
                  <a:pt x="0" y="0"/>
                </a:moveTo>
                <a:lnTo>
                  <a:pt x="95631" y="0"/>
                </a:lnTo>
                <a:lnTo>
                  <a:pt x="95631" y="21600"/>
                </a:lnTo>
                <a:lnTo>
                  <a:pt x="0" y="21600"/>
                </a:lnTo>
                <a:close/>
              </a:path>
              <a:path fill="lightenLess" w="95631" h="21600">
                <a:moveTo>
                  <a:pt x="0" y="0"/>
                </a:moveTo>
                <a:lnTo>
                  <a:pt x="95631" y="0"/>
                </a:lnTo>
                <a:lnTo>
                  <a:pt x="91991" y="3640"/>
                </a:lnTo>
                <a:lnTo>
                  <a:pt x="3640" y="3640"/>
                </a:lnTo>
                <a:close/>
              </a:path>
              <a:path fill="darken" w="95631" h="21600">
                <a:moveTo>
                  <a:pt x="95631" y="0"/>
                </a:moveTo>
                <a:lnTo>
                  <a:pt x="95631" y="21600"/>
                </a:lnTo>
                <a:lnTo>
                  <a:pt x="91991" y="17960"/>
                </a:lnTo>
                <a:lnTo>
                  <a:pt x="91991" y="3640"/>
                </a:lnTo>
                <a:close/>
              </a:path>
              <a:path fill="darkenLess" w="95631" h="21600">
                <a:moveTo>
                  <a:pt x="95631" y="21600"/>
                </a:moveTo>
                <a:lnTo>
                  <a:pt x="0" y="21600"/>
                </a:lnTo>
                <a:lnTo>
                  <a:pt x="3640" y="17960"/>
                </a:lnTo>
                <a:lnTo>
                  <a:pt x="91991" y="17960"/>
                </a:lnTo>
                <a:close/>
              </a:path>
              <a:path fill="lighten" w="95631" h="21600">
                <a:moveTo>
                  <a:pt x="0" y="21600"/>
                </a:moveTo>
                <a:lnTo>
                  <a:pt x="0" y="0"/>
                </a:lnTo>
                <a:lnTo>
                  <a:pt x="3640" y="3640"/>
                </a:lnTo>
                <a:lnTo>
                  <a:pt x="3640" y="1796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Держаться ближе к людя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/>
          <p:nvPr/>
        </p:nvSpPr>
        <p:spPr>
          <a:xfrm>
            <a:off x="250920" y="5300640"/>
            <a:ext cx="4464000" cy="1008000"/>
          </a:xfrm>
          <a:custGeom>
            <a:avLst/>
            <a:gdLst>
              <a:gd name="textAreaLeft" fmla="*/ 169560 w 4464000"/>
              <a:gd name="textAreaRight" fmla="*/ 4294440 w 4464000"/>
              <a:gd name="textAreaTop" fmla="*/ 169560 h 1008000"/>
              <a:gd name="textAreaBottom" fmla="*/ 838440 h 1008000"/>
            </a:gdLst>
            <a:ahLst/>
            <a:rect l="textAreaLeft" t="textAreaTop" r="textAreaRight" b="textAreaBottom"/>
            <a:pathLst>
              <a:path w="95631" h="21600">
                <a:moveTo>
                  <a:pt x="0" y="0"/>
                </a:moveTo>
                <a:lnTo>
                  <a:pt x="95631" y="0"/>
                </a:lnTo>
                <a:lnTo>
                  <a:pt x="95631" y="21600"/>
                </a:lnTo>
                <a:lnTo>
                  <a:pt x="0" y="21600"/>
                </a:lnTo>
                <a:close/>
              </a:path>
              <a:path fill="lightenLess" w="95631" h="21600">
                <a:moveTo>
                  <a:pt x="0" y="0"/>
                </a:moveTo>
                <a:lnTo>
                  <a:pt x="95631" y="0"/>
                </a:lnTo>
                <a:lnTo>
                  <a:pt x="91991" y="3640"/>
                </a:lnTo>
                <a:lnTo>
                  <a:pt x="3640" y="3640"/>
                </a:lnTo>
                <a:close/>
              </a:path>
              <a:path fill="darken" w="95631" h="21600">
                <a:moveTo>
                  <a:pt x="95631" y="0"/>
                </a:moveTo>
                <a:lnTo>
                  <a:pt x="95631" y="21600"/>
                </a:lnTo>
                <a:lnTo>
                  <a:pt x="91991" y="17960"/>
                </a:lnTo>
                <a:lnTo>
                  <a:pt x="91991" y="3640"/>
                </a:lnTo>
                <a:close/>
              </a:path>
              <a:path fill="darkenLess" w="95631" h="21600">
                <a:moveTo>
                  <a:pt x="95631" y="21600"/>
                </a:moveTo>
                <a:lnTo>
                  <a:pt x="0" y="21600"/>
                </a:lnTo>
                <a:lnTo>
                  <a:pt x="3640" y="17960"/>
                </a:lnTo>
                <a:lnTo>
                  <a:pt x="91991" y="17960"/>
                </a:lnTo>
                <a:close/>
              </a:path>
              <a:path fill="lighten" w="95631" h="21600">
                <a:moveTo>
                  <a:pt x="0" y="21600"/>
                </a:moveTo>
                <a:lnTo>
                  <a:pt x="0" y="0"/>
                </a:lnTo>
                <a:lnTo>
                  <a:pt x="3640" y="3640"/>
                </a:lnTo>
                <a:lnTo>
                  <a:pt x="3640" y="1796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Садиться в не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26028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Если к вам подъехала незнакомая машина, вы НЕ должн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" descr="Картинка 73 из 1980498"/>
          <p:cNvPicPr/>
          <p:nvPr/>
        </p:nvPicPr>
        <p:blipFill>
          <a:blip r:embed="rId1"/>
          <a:stretch/>
        </p:blipFill>
        <p:spPr>
          <a:xfrm>
            <a:off x="4859280" y="2421000"/>
            <a:ext cx="4068720" cy="2565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69" dur="indefinite" restart="never" nodeType="tmRoot">
          <p:childTnLst>
            <p:seq>
              <p:cTn id="170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7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176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7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181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8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186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8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643280" y="1413000"/>
            <a:ext cx="4249800" cy="1081080"/>
          </a:xfrm>
          <a:custGeom>
            <a:avLst/>
            <a:gdLst>
              <a:gd name="textAreaLeft" fmla="*/ 198000 w 4249800"/>
              <a:gd name="textAreaRight" fmla="*/ 4051800 w 4249800"/>
              <a:gd name="textAreaTop" fmla="*/ 198000 h 1081080"/>
              <a:gd name="textAreaBottom" fmla="*/ 883080 h 1081080"/>
            </a:gdLst>
            <a:ahLst/>
            <a:rect l="textAreaLeft" t="textAreaTop" r="textAreaRight" b="textAreaBottom"/>
            <a:pathLst>
              <a:path w="84890" h="21600">
                <a:moveTo>
                  <a:pt x="0" y="0"/>
                </a:moveTo>
                <a:lnTo>
                  <a:pt x="84890" y="0"/>
                </a:lnTo>
                <a:lnTo>
                  <a:pt x="84890" y="21600"/>
                </a:lnTo>
                <a:lnTo>
                  <a:pt x="0" y="21600"/>
                </a:lnTo>
                <a:close/>
              </a:path>
              <a:path fill="lightenLess" w="84890" h="21600">
                <a:moveTo>
                  <a:pt x="0" y="0"/>
                </a:moveTo>
                <a:lnTo>
                  <a:pt x="84890" y="0"/>
                </a:lnTo>
                <a:lnTo>
                  <a:pt x="80932" y="3958"/>
                </a:lnTo>
                <a:lnTo>
                  <a:pt x="3958" y="3958"/>
                </a:lnTo>
                <a:close/>
              </a:path>
              <a:path fill="darken" w="84890" h="21600">
                <a:moveTo>
                  <a:pt x="84890" y="0"/>
                </a:moveTo>
                <a:lnTo>
                  <a:pt x="84890" y="21600"/>
                </a:lnTo>
                <a:lnTo>
                  <a:pt x="80932" y="17642"/>
                </a:lnTo>
                <a:lnTo>
                  <a:pt x="80932" y="3958"/>
                </a:lnTo>
                <a:close/>
              </a:path>
              <a:path fill="darkenLess" w="84890" h="21600">
                <a:moveTo>
                  <a:pt x="84890" y="21600"/>
                </a:moveTo>
                <a:lnTo>
                  <a:pt x="0" y="21600"/>
                </a:lnTo>
                <a:lnTo>
                  <a:pt x="3958" y="17642"/>
                </a:lnTo>
                <a:lnTo>
                  <a:pt x="80932" y="17642"/>
                </a:lnTo>
                <a:close/>
              </a:path>
              <a:path fill="lighten" w="84890" h="21600">
                <a:moveTo>
                  <a:pt x="0" y="21600"/>
                </a:moveTo>
                <a:lnTo>
                  <a:pt x="0" y="0"/>
                </a:lnTo>
                <a:lnTo>
                  <a:pt x="3958" y="3958"/>
                </a:lnTo>
                <a:lnTo>
                  <a:pt x="3958" y="17642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подождать кого-либо, кт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пойдет в подъез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/>
          <p:nvPr/>
        </p:nvSpPr>
        <p:spPr>
          <a:xfrm>
            <a:off x="4716360" y="2708280"/>
            <a:ext cx="4249800" cy="1081080"/>
          </a:xfrm>
          <a:custGeom>
            <a:avLst/>
            <a:gdLst>
              <a:gd name="textAreaLeft" fmla="*/ 198000 w 4249800"/>
              <a:gd name="textAreaRight" fmla="*/ 4051800 w 4249800"/>
              <a:gd name="textAreaTop" fmla="*/ 198000 h 1081080"/>
              <a:gd name="textAreaBottom" fmla="*/ 883080 h 1081080"/>
            </a:gdLst>
            <a:ahLst/>
            <a:rect l="textAreaLeft" t="textAreaTop" r="textAreaRight" b="textAreaBottom"/>
            <a:pathLst>
              <a:path w="84890" h="21600">
                <a:moveTo>
                  <a:pt x="0" y="0"/>
                </a:moveTo>
                <a:lnTo>
                  <a:pt x="84890" y="0"/>
                </a:lnTo>
                <a:lnTo>
                  <a:pt x="84890" y="21600"/>
                </a:lnTo>
                <a:lnTo>
                  <a:pt x="0" y="21600"/>
                </a:lnTo>
                <a:close/>
              </a:path>
              <a:path fill="lightenLess" w="84890" h="21600">
                <a:moveTo>
                  <a:pt x="0" y="0"/>
                </a:moveTo>
                <a:lnTo>
                  <a:pt x="84890" y="0"/>
                </a:lnTo>
                <a:lnTo>
                  <a:pt x="80932" y="3958"/>
                </a:lnTo>
                <a:lnTo>
                  <a:pt x="3958" y="3958"/>
                </a:lnTo>
                <a:close/>
              </a:path>
              <a:path fill="darken" w="84890" h="21600">
                <a:moveTo>
                  <a:pt x="84890" y="0"/>
                </a:moveTo>
                <a:lnTo>
                  <a:pt x="84890" y="21600"/>
                </a:lnTo>
                <a:lnTo>
                  <a:pt x="80932" y="17642"/>
                </a:lnTo>
                <a:lnTo>
                  <a:pt x="80932" y="3958"/>
                </a:lnTo>
                <a:close/>
              </a:path>
              <a:path fill="darkenLess" w="84890" h="21600">
                <a:moveTo>
                  <a:pt x="84890" y="21600"/>
                </a:moveTo>
                <a:lnTo>
                  <a:pt x="0" y="21600"/>
                </a:lnTo>
                <a:lnTo>
                  <a:pt x="3958" y="17642"/>
                </a:lnTo>
                <a:lnTo>
                  <a:pt x="80932" y="17642"/>
                </a:lnTo>
                <a:close/>
              </a:path>
              <a:path fill="lighten" w="84890" h="21600">
                <a:moveTo>
                  <a:pt x="0" y="21600"/>
                </a:moveTo>
                <a:lnTo>
                  <a:pt x="0" y="0"/>
                </a:lnTo>
                <a:lnTo>
                  <a:pt x="3958" y="3958"/>
                </a:lnTo>
                <a:lnTo>
                  <a:pt x="3958" y="17642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обязательно подниматьс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на лифт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/>
          <p:nvPr/>
        </p:nvSpPr>
        <p:spPr>
          <a:xfrm>
            <a:off x="4716360" y="4005360"/>
            <a:ext cx="4249800" cy="1081080"/>
          </a:xfrm>
          <a:custGeom>
            <a:avLst/>
            <a:gdLst>
              <a:gd name="textAreaLeft" fmla="*/ 198000 w 4249800"/>
              <a:gd name="textAreaRight" fmla="*/ 4051800 w 4249800"/>
              <a:gd name="textAreaTop" fmla="*/ 198000 h 1081080"/>
              <a:gd name="textAreaBottom" fmla="*/ 883080 h 1081080"/>
            </a:gdLst>
            <a:ahLst/>
            <a:rect l="textAreaLeft" t="textAreaTop" r="textAreaRight" b="textAreaBottom"/>
            <a:pathLst>
              <a:path w="84890" h="21600">
                <a:moveTo>
                  <a:pt x="0" y="0"/>
                </a:moveTo>
                <a:lnTo>
                  <a:pt x="84890" y="0"/>
                </a:lnTo>
                <a:lnTo>
                  <a:pt x="84890" y="21600"/>
                </a:lnTo>
                <a:lnTo>
                  <a:pt x="0" y="21600"/>
                </a:lnTo>
                <a:close/>
              </a:path>
              <a:path fill="lightenLess" w="84890" h="21600">
                <a:moveTo>
                  <a:pt x="0" y="0"/>
                </a:moveTo>
                <a:lnTo>
                  <a:pt x="84890" y="0"/>
                </a:lnTo>
                <a:lnTo>
                  <a:pt x="80932" y="3958"/>
                </a:lnTo>
                <a:lnTo>
                  <a:pt x="3958" y="3958"/>
                </a:lnTo>
                <a:close/>
              </a:path>
              <a:path fill="darken" w="84890" h="21600">
                <a:moveTo>
                  <a:pt x="84890" y="0"/>
                </a:moveTo>
                <a:lnTo>
                  <a:pt x="84890" y="21600"/>
                </a:lnTo>
                <a:lnTo>
                  <a:pt x="80932" y="17642"/>
                </a:lnTo>
                <a:lnTo>
                  <a:pt x="80932" y="3958"/>
                </a:lnTo>
                <a:close/>
              </a:path>
              <a:path fill="darkenLess" w="84890" h="21600">
                <a:moveTo>
                  <a:pt x="84890" y="21600"/>
                </a:moveTo>
                <a:lnTo>
                  <a:pt x="0" y="21600"/>
                </a:lnTo>
                <a:lnTo>
                  <a:pt x="3958" y="17642"/>
                </a:lnTo>
                <a:lnTo>
                  <a:pt x="80932" y="17642"/>
                </a:lnTo>
                <a:close/>
              </a:path>
              <a:path fill="lighten" w="84890" h="21600">
                <a:moveTo>
                  <a:pt x="0" y="21600"/>
                </a:moveTo>
                <a:lnTo>
                  <a:pt x="0" y="0"/>
                </a:lnTo>
                <a:lnTo>
                  <a:pt x="3958" y="3958"/>
                </a:lnTo>
                <a:lnTo>
                  <a:pt x="3958" y="17642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риготовить ключи заране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/>
          <p:nvPr/>
        </p:nvSpPr>
        <p:spPr>
          <a:xfrm>
            <a:off x="4716360" y="5373720"/>
            <a:ext cx="4249800" cy="1081080"/>
          </a:xfrm>
          <a:custGeom>
            <a:avLst/>
            <a:gdLst>
              <a:gd name="textAreaLeft" fmla="*/ 198000 w 4249800"/>
              <a:gd name="textAreaRight" fmla="*/ 4051800 w 4249800"/>
              <a:gd name="textAreaTop" fmla="*/ 198000 h 1081080"/>
              <a:gd name="textAreaBottom" fmla="*/ 883080 h 1081080"/>
            </a:gdLst>
            <a:ahLst/>
            <a:rect l="textAreaLeft" t="textAreaTop" r="textAreaRight" b="textAreaBottom"/>
            <a:pathLst>
              <a:path w="84890" h="21600">
                <a:moveTo>
                  <a:pt x="0" y="0"/>
                </a:moveTo>
                <a:lnTo>
                  <a:pt x="84890" y="0"/>
                </a:lnTo>
                <a:lnTo>
                  <a:pt x="84890" y="21600"/>
                </a:lnTo>
                <a:lnTo>
                  <a:pt x="0" y="21600"/>
                </a:lnTo>
                <a:close/>
              </a:path>
              <a:path fill="lightenLess" w="84890" h="21600">
                <a:moveTo>
                  <a:pt x="0" y="0"/>
                </a:moveTo>
                <a:lnTo>
                  <a:pt x="84890" y="0"/>
                </a:lnTo>
                <a:lnTo>
                  <a:pt x="80932" y="3958"/>
                </a:lnTo>
                <a:lnTo>
                  <a:pt x="3958" y="3958"/>
                </a:lnTo>
                <a:close/>
              </a:path>
              <a:path fill="darken" w="84890" h="21600">
                <a:moveTo>
                  <a:pt x="84890" y="0"/>
                </a:moveTo>
                <a:lnTo>
                  <a:pt x="84890" y="21600"/>
                </a:lnTo>
                <a:lnTo>
                  <a:pt x="80932" y="17642"/>
                </a:lnTo>
                <a:lnTo>
                  <a:pt x="80932" y="3958"/>
                </a:lnTo>
                <a:close/>
              </a:path>
              <a:path fill="darkenLess" w="84890" h="21600">
                <a:moveTo>
                  <a:pt x="84890" y="21600"/>
                </a:moveTo>
                <a:lnTo>
                  <a:pt x="0" y="21600"/>
                </a:lnTo>
                <a:lnTo>
                  <a:pt x="3958" y="17642"/>
                </a:lnTo>
                <a:lnTo>
                  <a:pt x="80932" y="17642"/>
                </a:lnTo>
                <a:close/>
              </a:path>
              <a:path fill="lighten" w="84890" h="21600">
                <a:moveTo>
                  <a:pt x="0" y="21600"/>
                </a:moveTo>
                <a:lnTo>
                  <a:pt x="0" y="0"/>
                </a:lnTo>
                <a:lnTo>
                  <a:pt x="3958" y="3958"/>
                </a:lnTo>
                <a:lnTo>
                  <a:pt x="3958" y="17642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включить фонари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/>
          <p:nvPr/>
        </p:nvSpPr>
        <p:spPr>
          <a:xfrm>
            <a:off x="250920" y="18900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Заходя в подъезд, вы долж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" descr="Картинка 107 из 11233"/>
          <p:cNvPicPr/>
          <p:nvPr/>
        </p:nvPicPr>
        <p:blipFill>
          <a:blip r:embed="rId1"/>
          <a:stretch/>
        </p:blipFill>
        <p:spPr>
          <a:xfrm>
            <a:off x="34920" y="2151000"/>
            <a:ext cx="4537080" cy="3405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90" dur="indefinite" restart="never" nodeType="tmRoot">
          <p:childTnLst>
            <p:seq>
              <p:cTn id="191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192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9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0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202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0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1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11280" y="115920"/>
            <a:ext cx="806436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Дорогой друг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Если у тебя были ошибки в тесте, следует еще раз просмотреть советы по поведению на улиц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ПОМНИ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Твоя безопасность в твоих руках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" descr="Картинка 13 из 34386"/>
          <p:cNvPicPr/>
          <p:nvPr/>
        </p:nvPicPr>
        <p:blipFill>
          <a:blip r:embed="rId1"/>
          <a:stretch/>
        </p:blipFill>
        <p:spPr>
          <a:xfrm>
            <a:off x="2556000" y="3809880"/>
            <a:ext cx="3600360" cy="3048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79280" y="260280"/>
            <a:ext cx="8713800" cy="63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00"/>
                </a:solidFill>
                <a:latin typeface="Arial"/>
              </a:rPr>
              <a:t>Ссылки  на используемый матери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5317shkid.edusite.ru/images/pozhar_ulitsa.gif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 слайд 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gazetazp.ru/arhiv/2008/183/pic/5-1-1.jpg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   слайд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img-2008-04.photosight.ru/15/2636408.jpg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  слайд 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fr0ggy.jino-net.ru/hitrovka/2.jpg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  слайд 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://school9sko.narod.ru/pam/40000001.jpg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  слайд 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://www.5317shkid.edusite.ru/images/pozhar_neznakomets.gif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  слайд 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http://www.journals.ru/attach/438/43704/683271.jpg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 слайд 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http://www.spas-extreme.ru/upload/iblock/978/16-12.gif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  слайд 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http://i020.radikal.ru/0711/c3/dd1fae10a6e9.jpg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   слайд 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http://im0-tub.yandex.net/i?id=44837714&amp;tov=0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  слайд 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http://photo1.fotodia.ru/2006/12/05/46870_VsrmWIfFZU_o.jpg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слайд 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12"/>
              </a:rPr>
              <a:t>http://www.koddv.ru/images/stories/2.jpg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  слайд 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13"/>
              </a:rPr>
              <a:t>http://www.5317shkid.edusite.ru/images/pozhar_chazhaya.gif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  слайд 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14"/>
              </a:rPr>
              <a:t>http://schum.kiev.ua/big/hoverla-petors_2008/_DSC_1770.jpg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 слайд 1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15"/>
              </a:rPr>
              <a:t>http://rb7.ru/files/news_img/vor_1145257.jpg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  слайд 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16"/>
              </a:rPr>
              <a:t>http://www.sb.by/images/articles/9/53/kluch.jpg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  слайд 1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17"/>
              </a:rPr>
              <a:t>http://www.74mail.ru/Files/news/2005_09_07/11260808139334.gif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  слайд 1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18"/>
              </a:rPr>
              <a:t>http://www.goal.ru/photos/killer4.jpg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   слайд 1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19"/>
              </a:rPr>
              <a:t>http://japandaily.ru/images/img_1271.jpg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   слайд 1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20"/>
              </a:rPr>
              <a:t>http://www.survive.ru/pict/32.jpg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  слайд 1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21"/>
              </a:rPr>
              <a:t>http://wap.fscclub.com/links/images/links08.jpg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   слайд 2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22"/>
              </a:rPr>
              <a:t>http://www.bel.ru/pics/news/2009/02/13/35942.jpg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   слайд 2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23"/>
              </a:rPr>
              <a:t>http://wap.assalam.ru/assalam2009/332/img/ulica_big.jpg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   слайд 2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24"/>
              </a:rPr>
              <a:t>http://vedomosti.berdyansk.biz/pubimg/2009_10/2009_10_22_3713_1.jp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лайд 2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25"/>
              </a:rPr>
              <a:t>http://grommike.narod.ru/2009/006_vasja3m/3_022.jpg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   слайд 2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6"/>
              </a:rPr>
              <a:t>http://www.elec.ru/files/078/1238112615/picture/11.jpg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слайд 2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27"/>
              </a:rPr>
              <a:t>http://school9sko.narod.ru/pam/pam1.html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   правила поведения на улиц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28"/>
              </a:rPr>
              <a:t>http://school9sko.narod.ru/pam/pam3.html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  правила поведения на улиц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79280" y="189000"/>
            <a:ext cx="878544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cio.arcticsu.ru/projects/pr1069/images/13.jpg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  слайд 2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megadoski.ru/s_images/12462114139404.jpg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   слайд 2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lib.rus.ec/i/63/156663/p0061.png   слайд 2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engr.uconn.edu/alarm/files/emre/Images/keys.png   слайд 2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nedelia.ru/im/nums/2006/050/lift.jpg   слайд 3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veselo.by/docs/images/Image/news/35.JPG   слайд 3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homeformat.ucoz.ru/_ph/2/194673793.jpg  слайд 32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stroisam.com/picture/pic-25d53254.jpg  слайд 3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285840" y="5072040"/>
            <a:ext cx="864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Держите определенную дистанцию с людьми, проходя мимо подъездов и подвороте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76360" y="476280"/>
            <a:ext cx="5905440" cy="4429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285840" y="485784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Будьте готовы изменить свой маршрут, если почувствуете опасность или заметите подозрительную личн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56000" y="333360"/>
            <a:ext cx="3309840" cy="4392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142920" y="5214960"/>
            <a:ext cx="878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Если вас хотят похитить, создавайте как можно больше шум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7921440" cy="4206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285840" y="4786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Всегда предупреждайте родителей или друзей о своем маршруте и просите их встретить вас в вечернее врем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7657920" cy="4381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500040" y="5014800"/>
            <a:ext cx="82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НЕ оставляй в дверях записку с точной датой и временем своего возвращ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00000" y="476280"/>
            <a:ext cx="7056720" cy="4129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285840" y="0"/>
            <a:ext cx="85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Не отвечайте и не поддавайтесь на провока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357120" y="510372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НЕ принимай подарков, сладостей, жевательных резинок от незнакомых люде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63640" y="1197000"/>
            <a:ext cx="5616720" cy="37400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07:35:35Z</dcterms:created>
  <dc:creator>Admin</dc:creator>
  <dc:description/>
  <dc:language>en-US</dc:language>
  <cp:lastModifiedBy>Ershova</cp:lastModifiedBy>
  <dcterms:modified xsi:type="dcterms:W3CDTF">2010-01-08T17:24:55Z</dcterms:modified>
  <cp:revision>68</cp:revision>
  <dc:subject/>
  <dc:title>Слайд 1</dc:title>
</cp:coreProperties>
</file>