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explode.wav" ContentType="audio/x-wav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33.jpeg" ContentType="image/jpeg"/>
  <Override PartName="/ppt/media/image27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applause.wav" ContentType="audio/x-wav"/>
  <Override PartName="/ppt/media/image5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EFC-20D9-4C68-A499-E02C9151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6D7-08DD-4641-B9C2-F081DD9F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B72-EB77-4225-875E-2C1F9BB8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055-051B-498F-A467-D21898D9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CA9B-5516-400F-85E8-0DD2F3AF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EB9-F837-46C3-92CB-AF1D9A0C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25D-1E4F-4033-BA46-A8435102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C8B-D42C-4CF7-B004-0304AACF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264-0707-4024-B239-29B5A5BF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7425-E2F6-4E0C-B862-87DC4202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2F56-F06C-4945-815B-9B080527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DEF-9F7A-4540-83DF-AB9C392A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D410-54EA-41D1-A408-819A123AC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explode.wav"/><Relationship Id="rId3" Type="http://schemas.openxmlformats.org/officeDocument/2006/relationships/audio" Target="../media/applaus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applaus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applaus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5317shkid.edusite.ru/images/pozhar_ulitsa.gif" TargetMode="External"/><Relationship Id="rId2" Type="http://schemas.openxmlformats.org/officeDocument/2006/relationships/hyperlink" Target="http://gazetazp.ru/arhiv/2008/183/pic/5-1-1.jpg" TargetMode="External"/><Relationship Id="rId3" Type="http://schemas.openxmlformats.org/officeDocument/2006/relationships/hyperlink" Target="http://img-2008-04.photosight.ru/15/2636408.jpg" TargetMode="External"/><Relationship Id="rId4" Type="http://schemas.openxmlformats.org/officeDocument/2006/relationships/hyperlink" Target="http://fr0ggy.jino-net.ru/hitrovka/2.jpg" TargetMode="External"/><Relationship Id="rId5" Type="http://schemas.openxmlformats.org/officeDocument/2006/relationships/hyperlink" Target="http://school9sko.narod.ru/pam/40000001.jpg" TargetMode="External"/><Relationship Id="rId6" Type="http://schemas.openxmlformats.org/officeDocument/2006/relationships/hyperlink" Target="http://www.5317shkid.edusite.ru/images/pozhar_neznakomets.gif" TargetMode="External"/><Relationship Id="rId7" Type="http://schemas.openxmlformats.org/officeDocument/2006/relationships/hyperlink" Target="http://www.journals.ru/attach/438/43704/683271.jpg" TargetMode="External"/><Relationship Id="rId8" Type="http://schemas.openxmlformats.org/officeDocument/2006/relationships/hyperlink" Target="http://www.spas-extreme.ru/upload/iblock/978/16-12.gif" TargetMode="External"/><Relationship Id="rId9" Type="http://schemas.openxmlformats.org/officeDocument/2006/relationships/hyperlink" Target="http://i020.radikal.ru/0711/c3/dd1fae10a6e9.jpg" TargetMode="External"/><Relationship Id="rId10" Type="http://schemas.openxmlformats.org/officeDocument/2006/relationships/hyperlink" Target="http://im0-tub.yandex.net/i?id=44837714&amp;tov=0" TargetMode="External"/><Relationship Id="rId11" Type="http://schemas.openxmlformats.org/officeDocument/2006/relationships/hyperlink" Target="http://photo1.fotodia.ru/2006/12/05/46870_VsrmWIfFZU_o.jpg" TargetMode="External"/><Relationship Id="rId12" Type="http://schemas.openxmlformats.org/officeDocument/2006/relationships/hyperlink" Target="http://www.koddv.ru/images/stories/2.jpg" TargetMode="External"/><Relationship Id="rId13" Type="http://schemas.openxmlformats.org/officeDocument/2006/relationships/hyperlink" Target="http://www.5317shkid.edusite.ru/images/pozhar_chazhaya.gif" TargetMode="External"/><Relationship Id="rId14" Type="http://schemas.openxmlformats.org/officeDocument/2006/relationships/hyperlink" Target="http://schum.kiev.ua/big/hoverla-petors_2008/_DSC_1770.jpg" TargetMode="External"/><Relationship Id="rId15" Type="http://schemas.openxmlformats.org/officeDocument/2006/relationships/hyperlink" Target="http://rb7.ru/files/news_img/vor_1145257.jpg" TargetMode="External"/><Relationship Id="rId16" Type="http://schemas.openxmlformats.org/officeDocument/2006/relationships/hyperlink" Target="http://www.sb.by/images/articles/9/53/kluch.jpg" TargetMode="External"/><Relationship Id="rId17" Type="http://schemas.openxmlformats.org/officeDocument/2006/relationships/hyperlink" Target="http://www.74mail.ru/Files/news/2005_09_07/11260808139334.gif" TargetMode="External"/><Relationship Id="rId18" Type="http://schemas.openxmlformats.org/officeDocument/2006/relationships/hyperlink" Target="http://www.goal.ru/photos/killer4.jpg" TargetMode="External"/><Relationship Id="rId19" Type="http://schemas.openxmlformats.org/officeDocument/2006/relationships/hyperlink" Target="http://japandaily.ru/images/img_1271.jpg" TargetMode="External"/><Relationship Id="rId20" Type="http://schemas.openxmlformats.org/officeDocument/2006/relationships/hyperlink" Target="http://www.survive.ru/pict/32.jpg" TargetMode="External"/><Relationship Id="rId21" Type="http://schemas.openxmlformats.org/officeDocument/2006/relationships/hyperlink" Target="http://wap.fscclub.com/links/images/links08.jpg" TargetMode="External"/><Relationship Id="rId22" Type="http://schemas.openxmlformats.org/officeDocument/2006/relationships/hyperlink" Target="http://www.bel.ru/pics/news/2009/02/13/35942.jpg" TargetMode="External"/><Relationship Id="rId23" Type="http://schemas.openxmlformats.org/officeDocument/2006/relationships/hyperlink" Target="http://wap.assalam.ru/assalam2009/332/img/ulica_big.jpg" TargetMode="External"/><Relationship Id="rId24" Type="http://schemas.openxmlformats.org/officeDocument/2006/relationships/hyperlink" Target="http://vedomosti.berdyansk.biz/pubimg/2009_10/2009_10_22_3713_1.jpg" TargetMode="External"/><Relationship Id="rId25" Type="http://schemas.openxmlformats.org/officeDocument/2006/relationships/hyperlink" Target="http://grommike.narod.ru/2009/006_vasja3m/3_022.jpg" TargetMode="External"/><Relationship Id="rId26" Type="http://schemas.openxmlformats.org/officeDocument/2006/relationships/hyperlink" Target="http://www.elec.ru/files/078/1238112615/picture/11.jpg" TargetMode="External"/><Relationship Id="rId27" Type="http://schemas.openxmlformats.org/officeDocument/2006/relationships/hyperlink" Target="http://school9sko.narod.ru/pam/pam1.html" TargetMode="External"/><Relationship Id="rId28" Type="http://schemas.openxmlformats.org/officeDocument/2006/relationships/hyperlink" Target="http://school9sko.narod.ru/pam/pam3.html" TargetMode="External"/><Relationship Id="rId2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io.arcticsu.ru/projects/pr1069/images/13.jpg" TargetMode="External"/><Relationship Id="rId2" Type="http://schemas.openxmlformats.org/officeDocument/2006/relationships/hyperlink" Target="http://megadoski.ru/s_images/12462114139404.jpg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11280" y="18900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Инструктаж по правилам поведения на улиц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8160" cy="3747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5589720"/>
            <a:ext cx="856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. Каменск-Уральский  учитель СОШ № 3 им. П.И. Беляева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Ершова Елена Геннад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2010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57120" y="454968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бери у посторонних людей предметы, которые они просят передать вашим соседям или оставить около их двери, автомобиля, гараж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85840" y="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отвечайте и не поддавайтесь на провок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240192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85840" y="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отвечайте и не поддавайтесь на провок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85840" y="485784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трогай незнакомые пакеты, сумк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НЕ приноси их домой. Сообщи о них взрослым или милиционер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Картинка 9 из 56552"/>
          <p:cNvPicPr/>
          <p:nvPr/>
        </p:nvPicPr>
        <p:blipFill>
          <a:blip r:embed="rId1"/>
          <a:stretch/>
        </p:blipFill>
        <p:spPr>
          <a:xfrm>
            <a:off x="1908000" y="1125360"/>
            <a:ext cx="507708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79280" y="515772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спускайся в подвал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НЕ поднимайся на черда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17521"/>
          <a:stretch/>
        </p:blipFill>
        <p:spPr>
          <a:xfrm>
            <a:off x="1258920" y="765000"/>
            <a:ext cx="6408720" cy="3964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357120" y="537228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садись в машину к незнакомым людя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3938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285840" y="485784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Избегайте садиться в пустой автобус, а если вам все-таки приходится делать это, выбирайте место ближе к водите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107040" cy="405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14200" y="52149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сообщай незнакомым людям своего домашнего адреса и телефо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Картинка 7 из 997"/>
          <p:cNvPicPr/>
          <p:nvPr/>
        </p:nvPicPr>
        <p:blipFill>
          <a:blip r:embed="rId1"/>
          <a:stretch/>
        </p:blipFill>
        <p:spPr>
          <a:xfrm>
            <a:off x="900000" y="404640"/>
            <a:ext cx="7559640" cy="464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214200" y="514368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НЕ оставляй ключи от квартиры в "потайном" месте, не давай их поиграть, сравнить с друг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Картинка 2 из 559"/>
          <p:cNvPicPr/>
          <p:nvPr/>
        </p:nvPicPr>
        <p:blipFill>
          <a:blip r:embed="rId1"/>
          <a:stretch/>
        </p:blipFill>
        <p:spPr>
          <a:xfrm>
            <a:off x="684360" y="260280"/>
            <a:ext cx="3119400" cy="4824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Картинка 53 из 559"/>
          <p:cNvPicPr/>
          <p:nvPr/>
        </p:nvPicPr>
        <p:blipFill>
          <a:blip r:embed="rId2"/>
          <a:stretch/>
        </p:blipFill>
        <p:spPr>
          <a:xfrm>
            <a:off x="4140360" y="69228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324000" y="522936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стойте долго перед входной дверью - приготовьте ключи заране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329080" cy="400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357120" y="542916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заходи в лифт с пьяными и незнакомыми людь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83236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214200" y="3317760"/>
            <a:ext cx="857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Если вас остановил преступник, сохраняйте спокойствие, не ведите себя агрессивно, особенно если он вооружен и тем более, если вы не уверены, что сможете защитить себя. Лучший способ уменьшить физическое насилие по отношению к себе - не сопротивля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24829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428760" y="21420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Избегайте прогулок в одиночестве в вечернее время и малолюдных мест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214200" y="50720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Для передвижения выбирайте оживленные и хорошо освещенные ули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364000" cy="358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214200" y="521496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Если возникнет необходимость защищаться, бросайте свертки и пакеты, чтобы иметь свободу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Картинка 20 из 16603"/>
          <p:cNvPicPr/>
          <p:nvPr/>
        </p:nvPicPr>
        <p:blipFill>
          <a:blip r:embed="rId1"/>
          <a:stretch/>
        </p:blipFill>
        <p:spPr>
          <a:xfrm>
            <a:off x="1619280" y="260280"/>
            <a:ext cx="5975280" cy="4916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14200" y="500076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НЕ делай ложных сообщений и вызовов специальных служб (милиция, пожарная охрана, скорая помощ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975280" cy="448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4360" y="26028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РОВЕРЬ   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5877000"/>
            <a:ext cx="5473800" cy="576360"/>
          </a:xfrm>
          <a:custGeom>
            <a:avLst/>
            <a:gdLst>
              <a:gd name="textAreaLeft" fmla="*/ 37080 w 5473800"/>
              <a:gd name="textAreaRight" fmla="*/ 5436720 w 5473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05025" h="21600">
                <a:moveTo>
                  <a:pt x="0" y="0"/>
                </a:moveTo>
                <a:lnTo>
                  <a:pt x="205025" y="0"/>
                </a:lnTo>
                <a:lnTo>
                  <a:pt x="205025" y="21600"/>
                </a:lnTo>
                <a:lnTo>
                  <a:pt x="0" y="21600"/>
                </a:lnTo>
                <a:close/>
              </a:path>
              <a:path fill="lightenLess" w="205025" h="21600">
                <a:moveTo>
                  <a:pt x="0" y="0"/>
                </a:moveTo>
                <a:lnTo>
                  <a:pt x="205025" y="0"/>
                </a:lnTo>
                <a:lnTo>
                  <a:pt x="203625" y="1400"/>
                </a:lnTo>
                <a:lnTo>
                  <a:pt x="1400" y="1400"/>
                </a:lnTo>
                <a:close/>
              </a:path>
              <a:path fill="darken" w="205025" h="21600">
                <a:moveTo>
                  <a:pt x="205025" y="0"/>
                </a:moveTo>
                <a:lnTo>
                  <a:pt x="205025" y="21600"/>
                </a:lnTo>
                <a:lnTo>
                  <a:pt x="203625" y="20200"/>
                </a:lnTo>
                <a:lnTo>
                  <a:pt x="203625" y="1400"/>
                </a:lnTo>
                <a:close/>
              </a:path>
              <a:path fill="darkenLess" w="205025" h="21600">
                <a:moveTo>
                  <a:pt x="205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625" y="20200"/>
                </a:lnTo>
                <a:close/>
              </a:path>
              <a:path fill="lighten" w="205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чать  тест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Картинка 34 из 1741"/>
          <p:cNvPicPr/>
          <p:nvPr/>
        </p:nvPicPr>
        <p:blipFill>
          <a:blip r:embed="rId1"/>
          <a:stretch/>
        </p:blipFill>
        <p:spPr>
          <a:xfrm>
            <a:off x="971640" y="1052640"/>
            <a:ext cx="7345440" cy="4727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33336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Что нельзя делать, если позвонили или постучали в двер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1557360"/>
            <a:ext cx="4105440" cy="934920"/>
          </a:xfrm>
          <a:custGeom>
            <a:avLst/>
            <a:gdLst>
              <a:gd name="textAreaLeft" fmla="*/ 171360 w 4105440"/>
              <a:gd name="textAreaRight" fmla="*/ 3934080 w 4105440"/>
              <a:gd name="textAreaTop" fmla="*/ 171360 h 934920"/>
              <a:gd name="textAreaBottom" fmla="*/ 763560 h 934920"/>
            </a:gdLst>
            <a:ahLst/>
            <a:rect l="textAreaLeft" t="textAreaTop" r="textAreaRight" b="textAreaBottom"/>
            <a:pathLst>
              <a:path w="94822" h="21600">
                <a:moveTo>
                  <a:pt x="0" y="0"/>
                </a:moveTo>
                <a:lnTo>
                  <a:pt x="94822" y="0"/>
                </a:lnTo>
                <a:lnTo>
                  <a:pt x="94822" y="21600"/>
                </a:lnTo>
                <a:lnTo>
                  <a:pt x="0" y="21600"/>
                </a:lnTo>
                <a:close/>
              </a:path>
              <a:path fill="lightenLess" w="94822" h="21600">
                <a:moveTo>
                  <a:pt x="0" y="0"/>
                </a:moveTo>
                <a:lnTo>
                  <a:pt x="94822" y="0"/>
                </a:lnTo>
                <a:lnTo>
                  <a:pt x="90864" y="3958"/>
                </a:lnTo>
                <a:lnTo>
                  <a:pt x="3958" y="3958"/>
                </a:lnTo>
                <a:close/>
              </a:path>
              <a:path fill="darken" w="94822" h="21600">
                <a:moveTo>
                  <a:pt x="94822" y="0"/>
                </a:moveTo>
                <a:lnTo>
                  <a:pt x="94822" y="21600"/>
                </a:lnTo>
                <a:lnTo>
                  <a:pt x="90864" y="17642"/>
                </a:lnTo>
                <a:lnTo>
                  <a:pt x="90864" y="3958"/>
                </a:lnTo>
                <a:close/>
              </a:path>
              <a:path fill="darkenLess" w="94822" h="21600">
                <a:moveTo>
                  <a:pt x="94822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90864" y="17642"/>
                </a:lnTo>
                <a:close/>
              </a:path>
              <a:path fill="lighten" w="94822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мотреть в глаз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2781360"/>
            <a:ext cx="4248360" cy="1008000"/>
          </a:xfrm>
          <a:custGeom>
            <a:avLst/>
            <a:gdLst>
              <a:gd name="textAreaLeft" fmla="*/ 184680 w 4248360"/>
              <a:gd name="textAreaRight" fmla="*/ 4063680 w 4248360"/>
              <a:gd name="textAreaTop" fmla="*/ 184680 h 1008000"/>
              <a:gd name="textAreaBottom" fmla="*/ 823320 h 1008000"/>
            </a:gdLst>
            <a:ahLst/>
            <a:rect l="textAreaLeft" t="textAreaTop" r="textAreaRight" b="textAreaBottom"/>
            <a:pathLst>
              <a:path w="91011" h="21600">
                <a:moveTo>
                  <a:pt x="0" y="0"/>
                </a:moveTo>
                <a:lnTo>
                  <a:pt x="91011" y="0"/>
                </a:lnTo>
                <a:lnTo>
                  <a:pt x="91011" y="21600"/>
                </a:lnTo>
                <a:lnTo>
                  <a:pt x="0" y="21600"/>
                </a:lnTo>
                <a:close/>
              </a:path>
              <a:path fill="lightenLess" w="91011" h="21600">
                <a:moveTo>
                  <a:pt x="0" y="0"/>
                </a:moveTo>
                <a:lnTo>
                  <a:pt x="91011" y="0"/>
                </a:lnTo>
                <a:lnTo>
                  <a:pt x="87054" y="3958"/>
                </a:lnTo>
                <a:lnTo>
                  <a:pt x="3958" y="3958"/>
                </a:lnTo>
                <a:close/>
              </a:path>
              <a:path fill="darken" w="91011" h="21600">
                <a:moveTo>
                  <a:pt x="91011" y="0"/>
                </a:moveTo>
                <a:lnTo>
                  <a:pt x="91011" y="21600"/>
                </a:lnTo>
                <a:lnTo>
                  <a:pt x="87054" y="17642"/>
                </a:lnTo>
                <a:lnTo>
                  <a:pt x="87054" y="3958"/>
                </a:lnTo>
                <a:close/>
              </a:path>
              <a:path fill="darkenLess" w="91011" h="21600">
                <a:moveTo>
                  <a:pt x="91011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7054" y="17642"/>
                </a:lnTo>
                <a:close/>
              </a:path>
              <a:path fill="lighten" w="91011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зговаривать с незнакомц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через двер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4076640"/>
            <a:ext cx="4248360" cy="1008000"/>
          </a:xfrm>
          <a:custGeom>
            <a:avLst/>
            <a:gdLst>
              <a:gd name="textAreaLeft" fmla="*/ 184680 w 4248360"/>
              <a:gd name="textAreaRight" fmla="*/ 4063680 w 4248360"/>
              <a:gd name="textAreaTop" fmla="*/ 184680 h 1008000"/>
              <a:gd name="textAreaBottom" fmla="*/ 823320 h 1008000"/>
            </a:gdLst>
            <a:ahLst/>
            <a:rect l="textAreaLeft" t="textAreaTop" r="textAreaRight" b="textAreaBottom"/>
            <a:pathLst>
              <a:path w="91011" h="21600">
                <a:moveTo>
                  <a:pt x="0" y="0"/>
                </a:moveTo>
                <a:lnTo>
                  <a:pt x="91011" y="0"/>
                </a:lnTo>
                <a:lnTo>
                  <a:pt x="91011" y="21600"/>
                </a:lnTo>
                <a:lnTo>
                  <a:pt x="0" y="21600"/>
                </a:lnTo>
                <a:close/>
              </a:path>
              <a:path fill="lightenLess" w="91011" h="21600">
                <a:moveTo>
                  <a:pt x="0" y="0"/>
                </a:moveTo>
                <a:lnTo>
                  <a:pt x="91011" y="0"/>
                </a:lnTo>
                <a:lnTo>
                  <a:pt x="87054" y="3958"/>
                </a:lnTo>
                <a:lnTo>
                  <a:pt x="3958" y="3958"/>
                </a:lnTo>
                <a:close/>
              </a:path>
              <a:path fill="darken" w="91011" h="21600">
                <a:moveTo>
                  <a:pt x="91011" y="0"/>
                </a:moveTo>
                <a:lnTo>
                  <a:pt x="91011" y="21600"/>
                </a:lnTo>
                <a:lnTo>
                  <a:pt x="87054" y="17642"/>
                </a:lnTo>
                <a:lnTo>
                  <a:pt x="87054" y="3958"/>
                </a:lnTo>
                <a:close/>
              </a:path>
              <a:path fill="darkenLess" w="91011" h="21600">
                <a:moveTo>
                  <a:pt x="91011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7054" y="17642"/>
                </a:lnTo>
                <a:close/>
              </a:path>
              <a:path fill="lighten" w="91011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крывать двер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знакомому челове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5300640"/>
            <a:ext cx="4176720" cy="936720"/>
          </a:xfrm>
          <a:custGeom>
            <a:avLst/>
            <a:gdLst>
              <a:gd name="textAreaLeft" fmla="*/ 171360 w 4176720"/>
              <a:gd name="textAreaRight" fmla="*/ 4005360 w 4176720"/>
              <a:gd name="textAreaTop" fmla="*/ 171360 h 936720"/>
              <a:gd name="textAreaBottom" fmla="*/ 765360 h 936720"/>
            </a:gdLst>
            <a:ahLst/>
            <a:rect l="textAreaLeft" t="textAreaTop" r="textAreaRight" b="textAreaBottom"/>
            <a:pathLst>
              <a:path w="96283" h="21600">
                <a:moveTo>
                  <a:pt x="0" y="0"/>
                </a:moveTo>
                <a:lnTo>
                  <a:pt x="96283" y="0"/>
                </a:lnTo>
                <a:lnTo>
                  <a:pt x="96283" y="21600"/>
                </a:lnTo>
                <a:lnTo>
                  <a:pt x="0" y="21600"/>
                </a:lnTo>
                <a:close/>
              </a:path>
              <a:path fill="lightenLess" w="96283" h="21600">
                <a:moveTo>
                  <a:pt x="0" y="0"/>
                </a:moveTo>
                <a:lnTo>
                  <a:pt x="96283" y="0"/>
                </a:lnTo>
                <a:lnTo>
                  <a:pt x="92325" y="3958"/>
                </a:lnTo>
                <a:lnTo>
                  <a:pt x="3958" y="3958"/>
                </a:lnTo>
                <a:close/>
              </a:path>
              <a:path fill="darken" w="96283" h="21600">
                <a:moveTo>
                  <a:pt x="96283" y="0"/>
                </a:moveTo>
                <a:lnTo>
                  <a:pt x="96283" y="21600"/>
                </a:lnTo>
                <a:lnTo>
                  <a:pt x="92325" y="17642"/>
                </a:lnTo>
                <a:lnTo>
                  <a:pt x="92325" y="3958"/>
                </a:lnTo>
                <a:close/>
              </a:path>
              <a:path fill="darkenLess" w="96283" h="21600">
                <a:moveTo>
                  <a:pt x="96283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92325" y="17642"/>
                </a:lnTo>
                <a:close/>
              </a:path>
              <a:path fill="lighten" w="96283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дходить к две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Картинка 10 из 231"/>
          <p:cNvPicPr/>
          <p:nvPr/>
        </p:nvPicPr>
        <p:blipFill>
          <a:blip r:embed="rId1"/>
          <a:stretch/>
        </p:blipFill>
        <p:spPr>
          <a:xfrm>
            <a:off x="4788000" y="1268280"/>
            <a:ext cx="380988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0" y="1989000"/>
            <a:ext cx="4392720" cy="1008360"/>
          </a:xfrm>
          <a:custGeom>
            <a:avLst/>
            <a:gdLst>
              <a:gd name="textAreaLeft" fmla="*/ 169920 w 4392720"/>
              <a:gd name="textAreaRight" fmla="*/ 4222800 w 439272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4070" h="21600">
                <a:moveTo>
                  <a:pt x="0" y="0"/>
                </a:moveTo>
                <a:lnTo>
                  <a:pt x="94070" y="0"/>
                </a:lnTo>
                <a:lnTo>
                  <a:pt x="94070" y="21600"/>
                </a:lnTo>
                <a:lnTo>
                  <a:pt x="0" y="21600"/>
                </a:lnTo>
                <a:close/>
              </a:path>
              <a:path fill="lightenLess" w="94070" h="21600">
                <a:moveTo>
                  <a:pt x="0" y="0"/>
                </a:moveTo>
                <a:lnTo>
                  <a:pt x="94070" y="0"/>
                </a:lnTo>
                <a:lnTo>
                  <a:pt x="90430" y="3640"/>
                </a:lnTo>
                <a:lnTo>
                  <a:pt x="3640" y="3640"/>
                </a:lnTo>
                <a:close/>
              </a:path>
              <a:path fill="darken" w="94070" h="21600">
                <a:moveTo>
                  <a:pt x="94070" y="0"/>
                </a:moveTo>
                <a:lnTo>
                  <a:pt x="94070" y="21600"/>
                </a:lnTo>
                <a:lnTo>
                  <a:pt x="90430" y="17960"/>
                </a:lnTo>
                <a:lnTo>
                  <a:pt x="90430" y="3640"/>
                </a:lnTo>
                <a:close/>
              </a:path>
              <a:path fill="darkenLess" w="94070" h="21600">
                <a:moveTo>
                  <a:pt x="94070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30" y="17960"/>
                </a:lnTo>
                <a:close/>
              </a:path>
              <a:path fill="lighten" w="94070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гулка в гордом одиночест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314172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гулка с друзь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29264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гулка в ле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445000"/>
            <a:ext cx="4392720" cy="1008360"/>
          </a:xfrm>
          <a:custGeom>
            <a:avLst/>
            <a:gdLst>
              <a:gd name="textAreaLeft" fmla="*/ 169920 w 4392720"/>
              <a:gd name="textAreaRight" fmla="*/ 4222800 w 439272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4070" h="21600">
                <a:moveTo>
                  <a:pt x="0" y="0"/>
                </a:moveTo>
                <a:lnTo>
                  <a:pt x="94070" y="0"/>
                </a:lnTo>
                <a:lnTo>
                  <a:pt x="94070" y="21600"/>
                </a:lnTo>
                <a:lnTo>
                  <a:pt x="0" y="21600"/>
                </a:lnTo>
                <a:close/>
              </a:path>
              <a:path fill="lightenLess" w="94070" h="21600">
                <a:moveTo>
                  <a:pt x="0" y="0"/>
                </a:moveTo>
                <a:lnTo>
                  <a:pt x="94070" y="0"/>
                </a:lnTo>
                <a:lnTo>
                  <a:pt x="90430" y="3640"/>
                </a:lnTo>
                <a:lnTo>
                  <a:pt x="3640" y="3640"/>
                </a:lnTo>
                <a:close/>
              </a:path>
              <a:path fill="darken" w="94070" h="21600">
                <a:moveTo>
                  <a:pt x="94070" y="0"/>
                </a:moveTo>
                <a:lnTo>
                  <a:pt x="94070" y="21600"/>
                </a:lnTo>
                <a:lnTo>
                  <a:pt x="90430" y="17960"/>
                </a:lnTo>
                <a:lnTo>
                  <a:pt x="90430" y="3640"/>
                </a:lnTo>
                <a:close/>
              </a:path>
              <a:path fill="darkenLess" w="94070" h="21600">
                <a:moveTo>
                  <a:pt x="94070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30" y="17960"/>
                </a:lnTo>
                <a:close/>
              </a:path>
              <a:path fill="lighten" w="94070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гулка в тихом мес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189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езопасная прогулка – эт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Картинка 50 из 8621"/>
          <p:cNvPicPr/>
          <p:nvPr/>
        </p:nvPicPr>
        <p:blipFill>
          <a:blip r:embed="rId1"/>
          <a:srcRect l="21644" t="877" r="31549" b="0"/>
          <a:stretch/>
        </p:blipFill>
        <p:spPr>
          <a:xfrm>
            <a:off x="539640" y="981000"/>
            <a:ext cx="353376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189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ли пришлось идти домой поздно вечером, необходимо выбра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48428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емную улиц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229360"/>
            <a:ext cx="4537080" cy="1008000"/>
          </a:xfrm>
          <a:custGeom>
            <a:avLst/>
            <a:gdLst>
              <a:gd name="textAreaLeft" fmla="*/ 169560 w 4537080"/>
              <a:gd name="textAreaRight" fmla="*/ 4367520 w 453708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7196" h="21600">
                <a:moveTo>
                  <a:pt x="0" y="0"/>
                </a:moveTo>
                <a:lnTo>
                  <a:pt x="97196" y="0"/>
                </a:lnTo>
                <a:lnTo>
                  <a:pt x="97196" y="21600"/>
                </a:lnTo>
                <a:lnTo>
                  <a:pt x="0" y="21600"/>
                </a:lnTo>
                <a:close/>
              </a:path>
              <a:path fill="lightenLess" w="97196" h="21600">
                <a:moveTo>
                  <a:pt x="0" y="0"/>
                </a:moveTo>
                <a:lnTo>
                  <a:pt x="97196" y="0"/>
                </a:lnTo>
                <a:lnTo>
                  <a:pt x="93556" y="3640"/>
                </a:lnTo>
                <a:lnTo>
                  <a:pt x="3640" y="3640"/>
                </a:lnTo>
                <a:close/>
              </a:path>
              <a:path fill="darken" w="97196" h="21600">
                <a:moveTo>
                  <a:pt x="97196" y="0"/>
                </a:moveTo>
                <a:lnTo>
                  <a:pt x="97196" y="21600"/>
                </a:lnTo>
                <a:lnTo>
                  <a:pt x="93556" y="17960"/>
                </a:lnTo>
                <a:lnTo>
                  <a:pt x="93556" y="3640"/>
                </a:lnTo>
                <a:close/>
              </a:path>
              <a:path fill="darkenLess" w="97196" h="21600">
                <a:moveTo>
                  <a:pt x="97196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3556" y="17960"/>
                </a:lnTo>
                <a:close/>
              </a:path>
              <a:path fill="lighten" w="97196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вещенную  улиц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270828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оймать  попут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3933720"/>
            <a:ext cx="4537080" cy="1008000"/>
          </a:xfrm>
          <a:custGeom>
            <a:avLst/>
            <a:gdLst>
              <a:gd name="textAreaLeft" fmla="*/ 169560 w 4537080"/>
              <a:gd name="textAreaRight" fmla="*/ 4367520 w 453708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7196" h="21600">
                <a:moveTo>
                  <a:pt x="0" y="0"/>
                </a:moveTo>
                <a:lnTo>
                  <a:pt x="97196" y="0"/>
                </a:lnTo>
                <a:lnTo>
                  <a:pt x="97196" y="21600"/>
                </a:lnTo>
                <a:lnTo>
                  <a:pt x="0" y="21600"/>
                </a:lnTo>
                <a:close/>
              </a:path>
              <a:path fill="lightenLess" w="97196" h="21600">
                <a:moveTo>
                  <a:pt x="0" y="0"/>
                </a:moveTo>
                <a:lnTo>
                  <a:pt x="97196" y="0"/>
                </a:lnTo>
                <a:lnTo>
                  <a:pt x="93556" y="3640"/>
                </a:lnTo>
                <a:lnTo>
                  <a:pt x="3640" y="3640"/>
                </a:lnTo>
                <a:close/>
              </a:path>
              <a:path fill="darken" w="97196" h="21600">
                <a:moveTo>
                  <a:pt x="97196" y="0"/>
                </a:moveTo>
                <a:lnTo>
                  <a:pt x="97196" y="21600"/>
                </a:lnTo>
                <a:lnTo>
                  <a:pt x="93556" y="17960"/>
                </a:lnTo>
                <a:lnTo>
                  <a:pt x="93556" y="3640"/>
                </a:lnTo>
                <a:close/>
              </a:path>
              <a:path fill="darkenLess" w="97196" h="21600">
                <a:moveTo>
                  <a:pt x="97196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3556" y="17960"/>
                </a:lnTo>
                <a:close/>
              </a:path>
              <a:path fill="lighten" w="97196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йти по дороге попутч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Картинка 80 из 7211"/>
          <p:cNvPicPr/>
          <p:nvPr/>
        </p:nvPicPr>
        <p:blipFill>
          <a:blip r:embed="rId1"/>
          <a:stretch/>
        </p:blipFill>
        <p:spPr>
          <a:xfrm>
            <a:off x="4859280" y="2133720"/>
            <a:ext cx="4284720" cy="321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716360" y="134136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язательно пой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2637000"/>
            <a:ext cx="4248360" cy="1081080"/>
          </a:xfrm>
          <a:custGeom>
            <a:avLst/>
            <a:gdLst>
              <a:gd name="textAreaLeft" fmla="*/ 198000 w 4248360"/>
              <a:gd name="textAreaRight" fmla="*/ 4050360 w 424836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61" h="21600">
                <a:moveTo>
                  <a:pt x="0" y="0"/>
                </a:moveTo>
                <a:lnTo>
                  <a:pt x="84861" y="0"/>
                </a:lnTo>
                <a:lnTo>
                  <a:pt x="84861" y="21600"/>
                </a:lnTo>
                <a:lnTo>
                  <a:pt x="0" y="21600"/>
                </a:lnTo>
                <a:close/>
              </a:path>
              <a:path fill="lightenLess" w="84861" h="21600">
                <a:moveTo>
                  <a:pt x="0" y="0"/>
                </a:moveTo>
                <a:lnTo>
                  <a:pt x="84861" y="0"/>
                </a:lnTo>
                <a:lnTo>
                  <a:pt x="80903" y="3958"/>
                </a:lnTo>
                <a:lnTo>
                  <a:pt x="3958" y="3958"/>
                </a:lnTo>
                <a:close/>
              </a:path>
              <a:path fill="darken" w="84861" h="21600">
                <a:moveTo>
                  <a:pt x="84861" y="0"/>
                </a:moveTo>
                <a:lnTo>
                  <a:pt x="84861" y="21600"/>
                </a:lnTo>
                <a:lnTo>
                  <a:pt x="80903" y="17642"/>
                </a:lnTo>
                <a:lnTo>
                  <a:pt x="80903" y="3958"/>
                </a:lnTo>
                <a:close/>
              </a:path>
              <a:path fill="darkenLess" w="84861" h="21600">
                <a:moveTo>
                  <a:pt x="84861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03" y="17642"/>
                </a:lnTo>
                <a:close/>
              </a:path>
              <a:path fill="lighten" w="84861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тказ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3860640"/>
            <a:ext cx="4248360" cy="1081080"/>
          </a:xfrm>
          <a:custGeom>
            <a:avLst/>
            <a:gdLst>
              <a:gd name="textAreaLeft" fmla="*/ 198000 w 4248360"/>
              <a:gd name="textAreaRight" fmla="*/ 4050360 w 424836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61" h="21600">
                <a:moveTo>
                  <a:pt x="0" y="0"/>
                </a:moveTo>
                <a:lnTo>
                  <a:pt x="84861" y="0"/>
                </a:lnTo>
                <a:lnTo>
                  <a:pt x="84861" y="21600"/>
                </a:lnTo>
                <a:lnTo>
                  <a:pt x="0" y="21600"/>
                </a:lnTo>
                <a:close/>
              </a:path>
              <a:path fill="lightenLess" w="84861" h="21600">
                <a:moveTo>
                  <a:pt x="0" y="0"/>
                </a:moveTo>
                <a:lnTo>
                  <a:pt x="84861" y="0"/>
                </a:lnTo>
                <a:lnTo>
                  <a:pt x="80903" y="3958"/>
                </a:lnTo>
                <a:lnTo>
                  <a:pt x="3958" y="3958"/>
                </a:lnTo>
                <a:close/>
              </a:path>
              <a:path fill="darken" w="84861" h="21600">
                <a:moveTo>
                  <a:pt x="84861" y="0"/>
                </a:moveTo>
                <a:lnTo>
                  <a:pt x="84861" y="21600"/>
                </a:lnTo>
                <a:lnTo>
                  <a:pt x="80903" y="17642"/>
                </a:lnTo>
                <a:lnTo>
                  <a:pt x="80903" y="3958"/>
                </a:lnTo>
                <a:close/>
              </a:path>
              <a:path fill="darkenLess" w="84861" h="21600">
                <a:moveTo>
                  <a:pt x="84861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03" y="17642"/>
                </a:lnTo>
                <a:close/>
              </a:path>
              <a:path fill="lighten" w="84861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звонить друзь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5156280"/>
            <a:ext cx="4248360" cy="1152360"/>
          </a:xfrm>
          <a:custGeom>
            <a:avLst/>
            <a:gdLst>
              <a:gd name="textAreaLeft" fmla="*/ 210960 w 4248360"/>
              <a:gd name="textAreaRight" fmla="*/ 4037400 w 4248360"/>
              <a:gd name="textAreaTop" fmla="*/ 210960 h 1152360"/>
              <a:gd name="textAreaBottom" fmla="*/ 941400 h 1152360"/>
            </a:gdLst>
            <a:ahLst/>
            <a:rect l="textAreaLeft" t="textAreaTop" r="textAreaRight" b="textAreaBottom"/>
            <a:pathLst>
              <a:path w="79614" h="21600">
                <a:moveTo>
                  <a:pt x="0" y="0"/>
                </a:moveTo>
                <a:lnTo>
                  <a:pt x="79614" y="0"/>
                </a:lnTo>
                <a:lnTo>
                  <a:pt x="79614" y="21600"/>
                </a:lnTo>
                <a:lnTo>
                  <a:pt x="0" y="21600"/>
                </a:lnTo>
                <a:close/>
              </a:path>
              <a:path fill="lightenLess" w="79614" h="21600">
                <a:moveTo>
                  <a:pt x="0" y="0"/>
                </a:moveTo>
                <a:lnTo>
                  <a:pt x="79614" y="0"/>
                </a:lnTo>
                <a:lnTo>
                  <a:pt x="75656" y="3958"/>
                </a:lnTo>
                <a:lnTo>
                  <a:pt x="3958" y="3958"/>
                </a:lnTo>
                <a:close/>
              </a:path>
              <a:path fill="darken" w="79614" h="21600">
                <a:moveTo>
                  <a:pt x="79614" y="0"/>
                </a:moveTo>
                <a:lnTo>
                  <a:pt x="79614" y="21600"/>
                </a:lnTo>
                <a:lnTo>
                  <a:pt x="75656" y="17642"/>
                </a:lnTo>
                <a:lnTo>
                  <a:pt x="75656" y="3958"/>
                </a:lnTo>
                <a:close/>
              </a:path>
              <a:path fill="darkenLess" w="79614" h="21600">
                <a:moveTo>
                  <a:pt x="79614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75656" y="17642"/>
                </a:lnTo>
                <a:close/>
              </a:path>
              <a:path fill="lighten" w="79614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звать на 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592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ли незнакомец предлагает вам пройти с ним, чтобы помочь, необходим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Картинка 13 из 465"/>
          <p:cNvPicPr/>
          <p:nvPr/>
        </p:nvPicPr>
        <p:blipFill>
          <a:blip r:embed="rId1"/>
          <a:stretch/>
        </p:blipFill>
        <p:spPr>
          <a:xfrm>
            <a:off x="324000" y="907920"/>
            <a:ext cx="3744720" cy="580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1628640"/>
            <a:ext cx="4392720" cy="1008360"/>
          </a:xfrm>
          <a:custGeom>
            <a:avLst/>
            <a:gdLst>
              <a:gd name="textAreaLeft" fmla="*/ 169920 w 4392720"/>
              <a:gd name="textAreaRight" fmla="*/ 4222800 w 439272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4070" h="21600">
                <a:moveTo>
                  <a:pt x="0" y="0"/>
                </a:moveTo>
                <a:lnTo>
                  <a:pt x="94070" y="0"/>
                </a:lnTo>
                <a:lnTo>
                  <a:pt x="94070" y="21600"/>
                </a:lnTo>
                <a:lnTo>
                  <a:pt x="0" y="21600"/>
                </a:lnTo>
                <a:close/>
              </a:path>
              <a:path fill="lightenLess" w="94070" h="21600">
                <a:moveTo>
                  <a:pt x="0" y="0"/>
                </a:moveTo>
                <a:lnTo>
                  <a:pt x="94070" y="0"/>
                </a:lnTo>
                <a:lnTo>
                  <a:pt x="90430" y="3640"/>
                </a:lnTo>
                <a:lnTo>
                  <a:pt x="3640" y="3640"/>
                </a:lnTo>
                <a:close/>
              </a:path>
              <a:path fill="darken" w="94070" h="21600">
                <a:moveTo>
                  <a:pt x="94070" y="0"/>
                </a:moveTo>
                <a:lnTo>
                  <a:pt x="94070" y="21600"/>
                </a:lnTo>
                <a:lnTo>
                  <a:pt x="90430" y="17960"/>
                </a:lnTo>
                <a:lnTo>
                  <a:pt x="90430" y="3640"/>
                </a:lnTo>
                <a:close/>
              </a:path>
              <a:path fill="darkenLess" w="94070" h="21600">
                <a:moveTo>
                  <a:pt x="94070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30" y="17960"/>
                </a:lnTo>
                <a:close/>
              </a:path>
              <a:path fill="lighten" w="94070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усаться, царапа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285264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ричать, звать на 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07664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йти общий язы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530064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тдать все ценные вещ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260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ши действия при угрозе ножом, когда пытаются вас ограб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Картинка 62 из 94"/>
          <p:cNvPicPr/>
          <p:nvPr/>
        </p:nvPicPr>
        <p:blipFill>
          <a:blip r:embed="rId1"/>
          <a:stretch/>
        </p:blipFill>
        <p:spPr>
          <a:xfrm>
            <a:off x="5219640" y="1413000"/>
            <a:ext cx="3243240" cy="489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00720" y="148428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зменить маршр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263700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бежать 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еследова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3860640"/>
            <a:ext cx="4464000" cy="1008360"/>
          </a:xfrm>
          <a:custGeom>
            <a:avLst/>
            <a:gdLst>
              <a:gd name="textAreaLeft" fmla="*/ 169920 w 4464000"/>
              <a:gd name="textAreaRight" fmla="*/ 4294080 w 446400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5597" h="21600">
                <a:moveTo>
                  <a:pt x="0" y="0"/>
                </a:moveTo>
                <a:lnTo>
                  <a:pt x="95597" y="0"/>
                </a:lnTo>
                <a:lnTo>
                  <a:pt x="95597" y="21600"/>
                </a:lnTo>
                <a:lnTo>
                  <a:pt x="0" y="21600"/>
                </a:lnTo>
                <a:close/>
              </a:path>
              <a:path fill="lightenLess" w="95597" h="21600">
                <a:moveTo>
                  <a:pt x="0" y="0"/>
                </a:moveTo>
                <a:lnTo>
                  <a:pt x="95597" y="0"/>
                </a:lnTo>
                <a:lnTo>
                  <a:pt x="91957" y="3640"/>
                </a:lnTo>
                <a:lnTo>
                  <a:pt x="3640" y="3640"/>
                </a:lnTo>
                <a:close/>
              </a:path>
              <a:path fill="darken" w="95597" h="21600">
                <a:moveTo>
                  <a:pt x="95597" y="0"/>
                </a:moveTo>
                <a:lnTo>
                  <a:pt x="95597" y="21600"/>
                </a:lnTo>
                <a:lnTo>
                  <a:pt x="91957" y="17960"/>
                </a:lnTo>
                <a:lnTo>
                  <a:pt x="91957" y="3640"/>
                </a:lnTo>
                <a:close/>
              </a:path>
              <a:path fill="darkenLess" w="95597" h="21600">
                <a:moveTo>
                  <a:pt x="95597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57" y="17960"/>
                </a:lnTo>
                <a:close/>
              </a:path>
              <a:path fill="lighten" w="95597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рич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5084640"/>
            <a:ext cx="4464000" cy="1008360"/>
          </a:xfrm>
          <a:custGeom>
            <a:avLst/>
            <a:gdLst>
              <a:gd name="textAreaLeft" fmla="*/ 169920 w 4464000"/>
              <a:gd name="textAreaRight" fmla="*/ 4294080 w 446400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5597" h="21600">
                <a:moveTo>
                  <a:pt x="0" y="0"/>
                </a:moveTo>
                <a:lnTo>
                  <a:pt x="95597" y="0"/>
                </a:lnTo>
                <a:lnTo>
                  <a:pt x="95597" y="21600"/>
                </a:lnTo>
                <a:lnTo>
                  <a:pt x="0" y="21600"/>
                </a:lnTo>
                <a:close/>
              </a:path>
              <a:path fill="lightenLess" w="95597" h="21600">
                <a:moveTo>
                  <a:pt x="0" y="0"/>
                </a:moveTo>
                <a:lnTo>
                  <a:pt x="95597" y="0"/>
                </a:lnTo>
                <a:lnTo>
                  <a:pt x="91957" y="3640"/>
                </a:lnTo>
                <a:lnTo>
                  <a:pt x="3640" y="3640"/>
                </a:lnTo>
                <a:close/>
              </a:path>
              <a:path fill="darken" w="95597" h="21600">
                <a:moveTo>
                  <a:pt x="95597" y="0"/>
                </a:moveTo>
                <a:lnTo>
                  <a:pt x="95597" y="21600"/>
                </a:lnTo>
                <a:lnTo>
                  <a:pt x="91957" y="17960"/>
                </a:lnTo>
                <a:lnTo>
                  <a:pt x="91957" y="3640"/>
                </a:lnTo>
                <a:close/>
              </a:path>
              <a:path fill="darkenLess" w="95597" h="21600">
                <a:moveTo>
                  <a:pt x="95597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57" y="17960"/>
                </a:lnTo>
                <a:close/>
              </a:path>
              <a:path fill="lighten" w="95597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именить прие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амообор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189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ли вы почувствовали, что вас преследуют, вам необходим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Картинка 124 из 575"/>
          <p:cNvPicPr/>
          <p:nvPr/>
        </p:nvPicPr>
        <p:blipFill>
          <a:blip r:embed="rId1"/>
          <a:stretch/>
        </p:blipFill>
        <p:spPr>
          <a:xfrm>
            <a:off x="0" y="1844640"/>
            <a:ext cx="4427640" cy="317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260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ючи от своей квартиры вам следу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34136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ходя их дома, прят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 "потайном" мес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63700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вать посмотреть все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то попрос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93372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ятать во внутрен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арм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522936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вать на хранение сосе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Картинка 16 из 391358"/>
          <p:cNvPicPr/>
          <p:nvPr/>
        </p:nvPicPr>
        <p:blipFill>
          <a:blip r:embed="rId1"/>
          <a:stretch/>
        </p:blipFill>
        <p:spPr>
          <a:xfrm>
            <a:off x="5580000" y="1197000"/>
            <a:ext cx="2313000" cy="459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14200" y="535788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озвращаясь поздно домой, соберите длинные волосы навер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620120" cy="4943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0" y="148428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заходить в лиф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63700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бояться этого чело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78936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ыходить из подъез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941720"/>
            <a:ext cx="4392720" cy="1008360"/>
          </a:xfrm>
          <a:custGeom>
            <a:avLst/>
            <a:gdLst>
              <a:gd name="textAreaLeft" fmla="*/ 169920 w 4392720"/>
              <a:gd name="textAreaRight" fmla="*/ 4222800 w 439272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4070" h="21600">
                <a:moveTo>
                  <a:pt x="0" y="0"/>
                </a:moveTo>
                <a:lnTo>
                  <a:pt x="94070" y="0"/>
                </a:lnTo>
                <a:lnTo>
                  <a:pt x="94070" y="21600"/>
                </a:lnTo>
                <a:lnTo>
                  <a:pt x="0" y="21600"/>
                </a:lnTo>
                <a:close/>
              </a:path>
              <a:path fill="lightenLess" w="94070" h="21600">
                <a:moveTo>
                  <a:pt x="0" y="0"/>
                </a:moveTo>
                <a:lnTo>
                  <a:pt x="94070" y="0"/>
                </a:lnTo>
                <a:lnTo>
                  <a:pt x="90430" y="3640"/>
                </a:lnTo>
                <a:lnTo>
                  <a:pt x="3640" y="3640"/>
                </a:lnTo>
                <a:close/>
              </a:path>
              <a:path fill="darken" w="94070" h="21600">
                <a:moveTo>
                  <a:pt x="94070" y="0"/>
                </a:moveTo>
                <a:lnTo>
                  <a:pt x="94070" y="21600"/>
                </a:lnTo>
                <a:lnTo>
                  <a:pt x="90430" y="17960"/>
                </a:lnTo>
                <a:lnTo>
                  <a:pt x="90430" y="3640"/>
                </a:lnTo>
                <a:close/>
              </a:path>
              <a:path fill="darkenLess" w="94070" h="21600">
                <a:moveTo>
                  <a:pt x="94070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30" y="17960"/>
                </a:lnTo>
                <a:close/>
              </a:path>
              <a:path fill="lighten" w="94070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молч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189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ли в лифте незнакомец, вы НЕ долж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Картинка 25 из 251132"/>
          <p:cNvPicPr/>
          <p:nvPr/>
        </p:nvPicPr>
        <p:blipFill>
          <a:blip r:embed="rId1"/>
          <a:stretch/>
        </p:blipFill>
        <p:spPr>
          <a:xfrm>
            <a:off x="179280" y="1341360"/>
            <a:ext cx="425628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141300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Уходить в сторо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270828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зменять свой  маршр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400536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ержаться ближе к люд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530064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адиться в не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ли к вам подъехала незнакомая машина, вы НЕ долж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Картинка 73 из 1980498"/>
          <p:cNvPicPr/>
          <p:nvPr/>
        </p:nvPicPr>
        <p:blipFill>
          <a:blip r:embed="rId1"/>
          <a:stretch/>
        </p:blipFill>
        <p:spPr>
          <a:xfrm>
            <a:off x="4859280" y="2421000"/>
            <a:ext cx="406872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43280" y="141300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дождать кого-либо, кт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йдет в подъез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4716360" y="270828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бязательно поднимать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лиф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4716360" y="400536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иготовить ключи заране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4716360" y="537372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ключить фонар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89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ходя в подъезд, вы долж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" descr="Картинка 107 из 11233"/>
          <p:cNvPicPr/>
          <p:nvPr/>
        </p:nvPicPr>
        <p:blipFill>
          <a:blip r:embed="rId1"/>
          <a:stretch/>
        </p:blipFill>
        <p:spPr>
          <a:xfrm>
            <a:off x="34920" y="2151000"/>
            <a:ext cx="4537080" cy="3405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1280" y="115920"/>
            <a:ext cx="8064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Дорогой друг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Если у тебя были ошибки в тесте, следует еще раз просмотреть советы по поведению на ули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ОМН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воя безопасность в твоих руках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Картинка 13 из 34386"/>
          <p:cNvPicPr/>
          <p:nvPr/>
        </p:nvPicPr>
        <p:blipFill>
          <a:blip r:embed="rId1"/>
          <a:stretch/>
        </p:blipFill>
        <p:spPr>
          <a:xfrm>
            <a:off x="2556000" y="3809880"/>
            <a:ext cx="360036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280" y="260280"/>
            <a:ext cx="8713800" cy="63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Ссылки  на используем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5317shkid.edusite.ru/images/pozhar_ulitsa.gif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слайд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gazetazp.ru/arhiv/2008/183/pic/5-1-1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mg-2008-04.photosight.ru/15/2636408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fr0ggy.jino-net.ru/hitrovka/2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school9sko.narod.ru/pam/40000001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5317shkid.edusite.ru/images/pozhar_neznakomets.gif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journals.ru/attach/438/43704/683271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слайд 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spas-extreme.ru/upload/iblock/978/16-12.gif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i020.radikal.ru/0711/c3/dd1fae10a6e9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im0-tub.yandex.net/i?id=44837714&amp;tov=0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photo1.fotodia.ru/2006/12/05/46870_VsrmWIfFZU_o.jp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слайд 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www.koddv.ru/images/stories/2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://www.5317shkid.edusite.ru/images/pozhar_chazhaya.gif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http://schum.kiev.ua/big/hoverla-petors_2008/_DSC_1770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слайд 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http://rb7.ru/files/news_img/vor_1145257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http://www.sb.by/images/articles/9/53/kluch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http://www.74mail.ru/Files/news/2005_09_07/11260808139334.gif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http://www.goal.ru/photos/killer4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://japandaily.ru/images/img_1271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http://www.survive.ru/pict/32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http://wap.fscclub.com/links/images/links08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http://www.bel.ru/pics/news/2009/02/13/35942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http://wap.assalam.ru/assalam2009/332/img/ulica_big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http://vedomosti.berdyansk.biz/pubimg/2009_10/2009_10_22_3713_1.jp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айд 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5"/>
              </a:rPr>
              <a:t>http://grommike.narod.ru/2009/006_vasja3m/3_022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6"/>
              </a:rPr>
              <a:t>http://www.elec.ru/files/078/1238112615/picture/11.jpg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слайд 2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7"/>
              </a:rPr>
              <a:t>http://school9sko.narod.ru/pam/pam1.htm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правила поведения на улиц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8"/>
              </a:rPr>
              <a:t>http://school9sko.narod.ru/pam/pam3.htm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правила поведения на улиц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9280" y="189000"/>
            <a:ext cx="878544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cio.arcticsu.ru/projects/pr1069/images/13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2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megadoski.ru/s_images/12462114139404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lib.rus.ec/i/63/156663/p0061.png   слайд 2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ngr.uconn.edu/alarm/files/emre/Images/keys.png   слайд 2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edelia.ru/im/nums/2006/050/lift.jpg   слайд 3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veselo.by/docs/images/Image/news/35.JPG   слайд 3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homeformat.ucoz.ru/_ph/2/194673793.jpg  слайд 32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roisam.com/picture/pic-25d53254.jpg  слайд 3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85840" y="50720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Держите определенную дистанцию с людьми, проходя мимо подъездов и подвороте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85840" y="485784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Будьте готовы изменить свой маршрут, если почувствуете опасность или заметите подозрительную ли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330984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42920" y="52149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Если вас хотят похитить, создавайте как можно больше шу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420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5840" y="4786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сегда предупреждайте родителей или друзей о своем маршруте и просите их встретить вас в вечернее врем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657920" cy="438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500040" y="50148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оставляй в дверях записку с точной датой и временем своего возвра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056720" cy="412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85840" y="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отвечайте и не поддавайтесь на провок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357120" y="510372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принимай подарков, сладостей, жевательных резинок от незнакомых люд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616720" cy="3740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7:35:35Z</dcterms:created>
  <dc:creator>Admin</dc:creator>
  <dc:description/>
  <dc:language>en-US</dc:language>
  <cp:lastModifiedBy>Ershova</cp:lastModifiedBy>
  <dcterms:modified xsi:type="dcterms:W3CDTF">2010-01-08T17:24:55Z</dcterms:modified>
  <cp:revision>68</cp:revision>
  <dc:subject/>
  <dc:title>Слайд 1</dc:title>
</cp:coreProperties>
</file>