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B84E1-07B3-4E7A-BCF2-29556335594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B5A57-4FE7-4A3B-9956-6DF8E0B79E3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70B73-9937-436B-A30A-88CF599DB28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6B6F-DEA7-45CE-8833-AEA356922CF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F5A49-9F13-4E13-801F-4F008046E23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BBEA4-BD3B-40E0-A152-B216A2B2DB4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1F9F7-BB9B-461D-B375-47E58E2EAEF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8D75C-5CB7-453F-A137-BB518DB553E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ABA5-8F15-4AA5-A31E-A535903B2B9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846E3-9D0E-4FF6-ABF5-9CD9BADAD14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5F9C-62AD-4A13-92D1-40BEC157F2F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7AF90-8798-4CF6-B0FA-2B8B4603B80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7F2-9E21-4B14-8FA5-9F82CE19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794-E524-4CC7-9D23-56A5B4C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125C-7BF8-4103-BBE8-40A2F6A6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F3CC9-CCD8-4541-86B7-45BFF84E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EAC6F-E24F-4803-9C6F-AB33485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CEC54-C332-42CC-91CC-3F38D1B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6134B-606C-4101-B40B-5B94508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BE07-E0DC-4D84-981B-75F5989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4717-EDC3-40D9-9F61-6650C41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6863E-46BE-4EB7-9390-331FD063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4E41-9F3E-4E3C-BC22-05B2C9B7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34696-E7BC-489A-AC1E-84931449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F32-69BC-4574-AA3D-F3F5181A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24FC0-1F57-428E-9480-15587D5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21895-D8B0-4DAD-B84B-FC059AE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ADFB8F-EF27-4CCD-9333-A6DFA1C3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DE8824-AE8B-4D17-92C6-C442F4E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B460A-BB66-4FB8-8287-69C6AEE0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1B8C31-36FF-4256-B7EF-4A65E52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C4B79-730F-4756-A5A9-136E008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6A145-1DCD-44FB-88DD-94C036A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95D35-F9DF-4E1B-987D-1BBE795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DE180-7C8C-4B13-A198-9ADC9AB8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C3A-C731-42DE-88D1-DAF09916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2F5E4B-10EB-45E6-98E8-C36AD4AC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09452E-0DC8-4F48-A147-6997466A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B0925-C40A-4AEB-B583-24A5084D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51792E-B459-425F-99EF-6B486B4F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CF51DB-5908-4983-8439-C3F52E7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BD3DEB-D715-4550-9283-CA2465B6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8A4BF-8EBC-4BA9-8EC1-755A961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6F53BD-0084-45E0-8A9F-4E1A502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D30058-747B-4B49-B2B6-9DDD40F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033077-AC85-4071-883B-6C32E3D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E840-9F67-4D57-A1DE-FAB2FB55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2A116-9824-427D-8573-571DD9A4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4AD2C-B858-4725-A63C-7BF79EC7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FE0AD0-B446-49E3-9909-D47BF509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75DC-6157-4950-BB8A-67B069FA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4591-D41F-4B3E-8E2C-442CC8B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D194-1733-410D-BB28-7948D8F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885A-0741-48B6-A033-D6097B02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CC9B-282A-4A67-8274-EEB6AE4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BF0E-AF55-4A3C-804D-57067DE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F3C-1134-440F-B5B8-5F608512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5CA-1429-4939-928C-D26D8E5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09AF-4A6D-426F-A32F-D3481E8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7054-B454-43BE-A422-1D948EF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B378-806B-4749-A348-7DD0F0F9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960B-5C1E-44E5-BDE1-26895D0F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97A-BE56-45E1-B6DF-B31F63A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4A298-999E-4A4B-BD0F-1CE46AFE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AB7F4-2C24-403D-B46C-4CA45061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2EEC4-726C-4F16-97BD-2F27570B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86A-7A2E-4744-AA4B-FFC73F2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D3738-A9A0-491C-8480-AA71FFEB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EC497-C86A-428C-AD06-E5FF628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9EEA4-906D-4700-B1F3-AE78F3B1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717B9-DEC7-4791-8B1E-B215E78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CB620-C2CA-4161-8085-D79ABEE5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4B307-501A-4F31-89DF-730F289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49A41-AAEF-48EF-999F-6CD273F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761F0-2033-48E1-89D4-07512034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AB4C8-FF04-4160-AE4C-BFE71192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3091-6038-4F48-BD24-5EBC0350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25D-678A-44B5-88C5-E445A531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8287-214A-4E11-AA6E-E7BE4CCC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EE69-AC8D-4EAD-9ED5-EEF023F9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8514-143B-4002-BFEF-3CEE495E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0975-A920-4A05-B9D3-5304E00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44CE-2B19-4266-A6F2-58AFECF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ED84-B4A6-4AEC-A5C1-D17B912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7674-8832-4354-A9DE-A27F5A3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6624-CB76-460B-B6C4-CC93127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BCFB-9873-45C3-8145-C364CD06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0B0A-E05F-42C8-BBBD-E7E034EB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EBE-0923-4D0D-B392-F70B7D9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3373-6FDE-4894-822E-D737B515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2CA5B-9ACC-4F5B-918E-455ACD14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7B796-3671-4553-B42C-8CB699C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6A793-A6BA-4CE5-93EE-74915F3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D2D1E-1BC6-48B1-9C21-406F6532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BECCE-CA02-4302-84E0-D7D40DA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967B1-609D-4E3F-9BE1-4769C562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CC585-3EDC-4B98-AAE9-802BC05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E1AF0-9E35-4AB4-877E-6500562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60D99-6A52-4BFE-BDC1-423836B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8CE-6977-41B3-83ED-0586C93B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588FA-93DE-4684-98C0-0BA7B2E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8B0AC-13BF-4D35-8451-F89C0781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D3E07-1268-4530-A325-12B1321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B9CC-E5DB-4412-B4D8-B3C72499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12D0-A664-4E22-8D80-53527455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8C3CA-E164-4799-98D7-79D059C2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D4BC-C6F5-4C2E-9B81-A77DD6D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3721-12E3-4BD3-969B-A9BEF453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14BE-60B7-41A9-A4F9-E9D4759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CDB6-4753-4635-A662-6444504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19D-367D-4FC6-AAB8-3D42039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AFFC-568C-4F4A-AE64-57FAFDF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3C37-513A-468C-956C-063A138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C9D09-C40E-4D11-B534-AAACC564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938A4-703C-407C-AF06-9FA0189F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97297-AD61-4972-A6DE-BDC3CBE8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12F3-4FB9-44C2-A055-381B6E90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E04BA-DE1B-460D-AAE0-420E3BF8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24A5-AE28-464C-8B9E-C9A3F4AB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F7F4-24D4-4823-9160-ABF67449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134E-15FA-4822-9571-3FAE6E3E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69F-C8A3-47FE-9650-6DD8BD70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3E335-669B-4FFD-9EAD-561BEE66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8D283-59FD-4F3A-8DE1-6DC6DB6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4D394-AA96-480E-B3A4-C5183D07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F35DE-E1D1-4D09-9B06-E3011233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7EAA-627A-4D50-AA1E-612C37A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15738-802A-4458-B25B-194D81AA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28E97-505D-4101-AF4D-7EB29807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E775-2271-451C-B140-DDC85A51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3DFB-4471-4171-BCE1-2C996FEB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6AB6D-4034-4284-ACCA-43715F91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FD92D5-3EE3-4580-A570-959F531FCA4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fld id="{4F2E3A2A-BF6D-4017-8E85-8FE446A0E67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26"/>
          </p:nvPr>
        </p:nvSpPr>
        <p:spPr>
          <a:xfrm>
            <a:off x="8638920" y="635940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1DA8F3-96A0-451E-AA32-3F50E340FFCA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6F346E7E-2E6B-474A-A2A7-44FFF8039E87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9"/>
          </p:nvPr>
        </p:nvSpPr>
        <p:spPr>
          <a:xfrm>
            <a:off x="8638920" y="635472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3C35F7-B9AF-4FBC-83A9-B623F3DFB249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A5A59A79-3F99-4F90-BB07-FECDF66602EB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474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B2C85D-4637-426F-AAEB-3185FAB14F16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EB21E325-DCFB-4639-8D0D-94575A1D95BB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152280" y="133200"/>
            <a:ext cx="8837640" cy="2529000"/>
            <a:chOff x="152280" y="133200"/>
            <a:chExt cx="8837640" cy="2529000"/>
          </a:xfrm>
        </p:grpSpPr>
        <p:pic>
          <p:nvPicPr>
            <p:cNvPr id="124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764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250920" y="233280"/>
              <a:ext cx="8640720" cy="23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8638920" y="635472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5A3366-CF12-475D-A621-8396A92599CA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7C1E9848-5F69-4418-9965-4FF5404A0240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FC74A0-1041-4B25-9B6B-67D5433E591B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822FF262-8EED-4429-8169-BC9735EE46D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8638920" y="635940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C5F75B-D7E0-4408-9AAA-CAAFB15C0FB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6B50BD19-2B46-4E18-A2D7-01940305C352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25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40720" y="6360840"/>
            <a:ext cx="46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5CA374-ABEA-44B0-B921-BDC918075313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150D5FB6-9B01-405F-B9C8-C426574FEB2D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300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Rectangle 4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40720" y="6360840"/>
            <a:ext cx="46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3A26D0-679F-4300-9536-8F5494DAABB4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3812E328-84B4-43C3-BC0E-ADCDBD692480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346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EDC2DF-133F-4A5C-A010-A6506F8E32C6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EB309CBE-8131-439C-8CD7-D541D8C96FFE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171360" y="1468440"/>
            <a:ext cx="8788320" cy="3046320"/>
            <a:chOff x="171360" y="1468440"/>
            <a:chExt cx="8788320" cy="3046320"/>
          </a:xfrm>
        </p:grpSpPr>
        <p:pic>
          <p:nvPicPr>
            <p:cNvPr id="523" name="Picture 2" descr=""/>
            <p:cNvPicPr/>
            <p:nvPr/>
          </p:nvPicPr>
          <p:blipFill>
            <a:blip r:embed="rId1"/>
            <a:stretch/>
          </p:blipFill>
          <p:spPr>
            <a:xfrm>
              <a:off x="171360" y="1468440"/>
              <a:ext cx="878832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3"/>
            <p:cNvSpPr/>
            <p:nvPr/>
          </p:nvSpPr>
          <p:spPr>
            <a:xfrm>
              <a:off x="171360" y="1468440"/>
              <a:ext cx="878832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4"/>
          <p:cNvSpPr/>
          <p:nvPr/>
        </p:nvSpPr>
        <p:spPr>
          <a:xfrm>
            <a:off x="1857240" y="5500800"/>
            <a:ext cx="5715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"/>
          <p:cNvGrpSpPr/>
          <p:nvPr/>
        </p:nvGrpSpPr>
        <p:grpSpPr>
          <a:xfrm>
            <a:off x="420840" y="-96840"/>
            <a:ext cx="8240400" cy="2100240"/>
            <a:chOff x="420840" y="-96840"/>
            <a:chExt cx="8240400" cy="2100240"/>
          </a:xfrm>
        </p:grpSpPr>
        <p:pic>
          <p:nvPicPr>
            <p:cNvPr id="592" name="Picture 3" descr=""/>
            <p:cNvPicPr/>
            <p:nvPr/>
          </p:nvPicPr>
          <p:blipFill>
            <a:blip r:embed="rId2"/>
            <a:stretch/>
          </p:blipFill>
          <p:spPr>
            <a:xfrm>
              <a:off x="420840" y="-96840"/>
              <a:ext cx="824040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4"/>
            <p:cNvSpPr/>
            <p:nvPr/>
          </p:nvSpPr>
          <p:spPr>
            <a:xfrm>
              <a:off x="420840" y="-96840"/>
              <a:ext cx="824040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"/>
          <p:cNvGrpSpPr/>
          <p:nvPr/>
        </p:nvGrpSpPr>
        <p:grpSpPr>
          <a:xfrm>
            <a:off x="450720" y="-73080"/>
            <a:ext cx="8240760" cy="1479600"/>
            <a:chOff x="450720" y="-73080"/>
            <a:chExt cx="8240760" cy="1479600"/>
          </a:xfrm>
        </p:grpSpPr>
        <p:pic>
          <p:nvPicPr>
            <p:cNvPr id="52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73080"/>
              <a:ext cx="824076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3"/>
            <p:cNvSpPr/>
            <p:nvPr/>
          </p:nvSpPr>
          <p:spPr>
            <a:xfrm>
              <a:off x="450720" y="-73080"/>
              <a:ext cx="824076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Picture 4" descr=""/>
          <p:cNvPicPr/>
          <p:nvPr/>
        </p:nvPicPr>
        <p:blipFill>
          <a:blip r:embed="rId2"/>
          <a:srcRect l="0" t="30553" r="52598" b="0"/>
          <a:stretch/>
        </p:blipFill>
        <p:spPr>
          <a:xfrm>
            <a:off x="357120" y="1643040"/>
            <a:ext cx="4929120" cy="4786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rcRect l="0" t="8552" r="71120" b="-8351"/>
          <a:stretch/>
        </p:blipFill>
        <p:spPr>
          <a:xfrm>
            <a:off x="6215040" y="178596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"/>
          <p:cNvPicPr/>
          <p:nvPr/>
        </p:nvPicPr>
        <p:blipFill>
          <a:blip r:embed="rId4"/>
          <a:srcRect l="0" t="10725" r="54735" b="24916"/>
          <a:stretch/>
        </p:blipFill>
        <p:spPr>
          <a:xfrm>
            <a:off x="5500800" y="4286160"/>
            <a:ext cx="3071880" cy="17146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6215040" y="60008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500-Ф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БО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8" descr=""/>
          <p:cNvPicPr/>
          <p:nvPr/>
        </p:nvPicPr>
        <p:blipFill>
          <a:blip r:embed="rId5"/>
          <a:srcRect l="50710" t="84471" r="38267" b="0"/>
          <a:stretch/>
        </p:blipFill>
        <p:spPr>
          <a:xfrm>
            <a:off x="3214800" y="3214800"/>
            <a:ext cx="714240" cy="6174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9"/>
          <p:cNvSpPr/>
          <p:nvPr/>
        </p:nvSpPr>
        <p:spPr>
          <a:xfrm>
            <a:off x="4000680" y="342900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М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"/>
          <p:cNvGrpSpPr/>
          <p:nvPr/>
        </p:nvGrpSpPr>
        <p:grpSpPr>
          <a:xfrm>
            <a:off x="493560" y="-23760"/>
            <a:ext cx="8240760" cy="2100240"/>
            <a:chOff x="493560" y="-23760"/>
            <a:chExt cx="8240760" cy="2100240"/>
          </a:xfrm>
        </p:grpSpPr>
        <p:pic>
          <p:nvPicPr>
            <p:cNvPr id="536" name="Picture 2" descr=""/>
            <p:cNvPicPr/>
            <p:nvPr/>
          </p:nvPicPr>
          <p:blipFill>
            <a:blip r:embed="rId1"/>
            <a:stretch/>
          </p:blipFill>
          <p:spPr>
            <a:xfrm>
              <a:off x="493560" y="-23760"/>
              <a:ext cx="824076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3"/>
            <p:cNvSpPr/>
            <p:nvPr/>
          </p:nvSpPr>
          <p:spPr>
            <a:xfrm>
              <a:off x="493560" y="-23760"/>
              <a:ext cx="824076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Text Box 4"/>
          <p:cNvSpPr/>
          <p:nvPr/>
        </p:nvSpPr>
        <p:spPr>
          <a:xfrm>
            <a:off x="457200" y="1646280"/>
            <a:ext cx="4543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парообраз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газообразно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эрозоль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дым, туман, морось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апельно-жидком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остоя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3857760" y="5214960"/>
            <a:ext cx="2066760" cy="1368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84520" cy="2220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"/>
          <p:cNvPicPr/>
          <p:nvPr/>
        </p:nvPicPr>
        <p:blipFill>
          <a:blip r:embed="rId4"/>
          <a:stretch/>
        </p:blipFill>
        <p:spPr>
          <a:xfrm>
            <a:off x="4500720" y="1571760"/>
            <a:ext cx="14284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262080" y="92160"/>
            <a:ext cx="9032760" cy="1984320"/>
            <a:chOff x="262080" y="92160"/>
            <a:chExt cx="9032760" cy="1984320"/>
          </a:xfrm>
        </p:grpSpPr>
        <p:pic>
          <p:nvPicPr>
            <p:cNvPr id="543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92160"/>
              <a:ext cx="903276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3"/>
            <p:cNvSpPr/>
            <p:nvPr/>
          </p:nvSpPr>
          <p:spPr>
            <a:xfrm>
              <a:off x="262080" y="92160"/>
              <a:ext cx="903276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Rectangle 4"/>
          <p:cNvSpPr/>
          <p:nvPr/>
        </p:nvSpPr>
        <p:spPr>
          <a:xfrm>
            <a:off x="28584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Нервно-паралити-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1468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Кожно- нары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143160" y="2286000"/>
            <a:ext cx="135756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Обще-ядови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57200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Удушаю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750096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Раздража-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6000840" y="2286000"/>
            <a:ext cx="142884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Психо-хи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357120" y="3071880"/>
            <a:ext cx="1800" cy="292896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571680" y="335772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За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571680" y="450072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Зо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571680" y="571500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V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57120" y="600084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5"/>
          <p:cNvSpPr/>
          <p:nvPr/>
        </p:nvSpPr>
        <p:spPr>
          <a:xfrm>
            <a:off x="357120" y="357192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16"/>
          <p:cNvSpPr/>
          <p:nvPr/>
        </p:nvSpPr>
        <p:spPr>
          <a:xfrm>
            <a:off x="357120" y="471492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17"/>
          <p:cNvSpPr/>
          <p:nvPr/>
        </p:nvSpPr>
        <p:spPr>
          <a:xfrm>
            <a:off x="23572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1857240" y="5715000"/>
            <a:ext cx="100044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Ип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32860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3071880" y="5715000"/>
            <a:ext cx="128592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Хлорц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1"/>
          <p:cNvSpPr/>
          <p:nvPr/>
        </p:nvSpPr>
        <p:spPr>
          <a:xfrm>
            <a:off x="5500800" y="3071880"/>
            <a:ext cx="144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714920" y="571500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Фосг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3500280" y="3929040"/>
            <a:ext cx="142884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Синильная кис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3286080" y="4214880"/>
            <a:ext cx="21420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5"/>
          <p:cNvSpPr/>
          <p:nvPr/>
        </p:nvSpPr>
        <p:spPr>
          <a:xfrm>
            <a:off x="635796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735804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7"/>
          <p:cNvSpPr/>
          <p:nvPr/>
        </p:nvSpPr>
        <p:spPr>
          <a:xfrm>
            <a:off x="821520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28"/>
          <p:cNvSpPr/>
          <p:nvPr/>
        </p:nvSpPr>
        <p:spPr>
          <a:xfrm>
            <a:off x="67150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29"/>
          <p:cNvSpPr/>
          <p:nvPr/>
        </p:nvSpPr>
        <p:spPr>
          <a:xfrm>
            <a:off x="7500960" y="3071880"/>
            <a:ext cx="144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7643880" y="4500720"/>
            <a:ext cx="12142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Адам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643880" y="3786120"/>
            <a:ext cx="12142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Хлораце-тефон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7500960" y="4071960"/>
            <a:ext cx="14292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3"/>
          <p:cNvSpPr/>
          <p:nvPr/>
        </p:nvSpPr>
        <p:spPr>
          <a:xfrm>
            <a:off x="7500960" y="4714920"/>
            <a:ext cx="14292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4"/>
          <p:cNvSpPr/>
          <p:nvPr/>
        </p:nvSpPr>
        <p:spPr>
          <a:xfrm>
            <a:off x="7500960" y="5429160"/>
            <a:ext cx="1000080" cy="180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35"/>
          <p:cNvSpPr/>
          <p:nvPr/>
        </p:nvSpPr>
        <p:spPr>
          <a:xfrm>
            <a:off x="8501040" y="5357880"/>
            <a:ext cx="1440" cy="357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2725920" y="18572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Группы отравляющих 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1"/>
          <p:cNvGrpSpPr/>
          <p:nvPr/>
        </p:nvGrpSpPr>
        <p:grpSpPr>
          <a:xfrm>
            <a:off x="450720" y="-66600"/>
            <a:ext cx="8240760" cy="1473120"/>
            <a:chOff x="450720" y="-66600"/>
            <a:chExt cx="8240760" cy="1473120"/>
          </a:xfrm>
        </p:grpSpPr>
        <p:pic>
          <p:nvPicPr>
            <p:cNvPr id="57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6600"/>
              <a:ext cx="824076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"/>
            <p:cNvSpPr/>
            <p:nvPr/>
          </p:nvSpPr>
          <p:spPr>
            <a:xfrm>
              <a:off x="450720" y="-66600"/>
              <a:ext cx="8240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Text Box 4"/>
          <p:cNvSpPr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5105520" y="1714680"/>
            <a:ext cx="40384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0520" algn="ctr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остав компл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-ручной нас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2.-насадка к насосу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3.-защитные колпа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4.-противодымные фильт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5.-корп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6.-патроны к грел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.-электрический фон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8.-грел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9.-крыш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0.-лопа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1.-кассеты с индикаторными труб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2"/>
          <a:stretch/>
        </p:blipFill>
        <p:spPr>
          <a:xfrm>
            <a:off x="428760" y="1428840"/>
            <a:ext cx="4643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4214880" cy="3146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3"/>
          <a:stretch/>
        </p:blipFill>
        <p:spPr>
          <a:xfrm>
            <a:off x="5072040" y="2643120"/>
            <a:ext cx="36432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47368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mp</dc:creator>
  <dc:description/>
  <dc:language>en-US</dc:language>
  <cp:lastModifiedBy>Zauch</cp:lastModifiedBy>
  <dcterms:modified xsi:type="dcterms:W3CDTF">2011-11-23T09:51:08Z</dcterms:modified>
  <cp:revision>23</cp:revision>
  <dc:subject/>
  <dc:title>Слайд 1</dc:title>
</cp:coreProperties>
</file>