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61B88-3C6A-4BF9-B7ED-4BD69B3932A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6A254-3C47-4279-A221-8A71383BAE6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D4324-43E6-4D35-9EDC-9FE1183C219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C906A-4F3E-4F3A-810A-10A3922437EB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88193-2DA4-46A6-A9CF-A456C5EF0EB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C48CD-12FE-4985-A217-0A15750821D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E0017-CE5A-4DB8-9B95-A45497B38FC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72F2D-C4F4-4EFD-895C-AE228A55FD8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AC25D-C449-484C-918F-7B0B6EEB87F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10AF1-EB46-4883-AD08-4CEBD20CA83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1EF4C-F7C0-4BF5-A624-34DB300F812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заголовок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FB93A-EDE1-46D4-86D3-58EF1686862B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B90-8890-40D0-BA20-7A3CDEFE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04F-B8D7-4D4D-8965-DC219454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D6EDC-0421-46FF-B996-6897A705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399BF-DDA5-45E9-B84B-49209482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56AE9-755B-4675-9AD6-E79E94F3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8767C-E8A4-42CB-B938-2F95C588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487DD-959E-4970-B618-EB1E7E21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480D1-79D4-4E22-8041-A291A73D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D843F-809A-4310-A9BF-BAD3B30E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1DC69-CA23-4ADE-A0F7-E62EDD60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DACCD-C94B-4029-BA20-10267901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53CC3D-A807-4AAC-870C-00FD830C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FEE-34A9-4099-A16D-F6BA5CD1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BB2B5D-690A-4C84-893E-98766641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175CC7-85B5-471A-924B-CC00D900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7F0A10-A122-46E0-BD47-DC9059F0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80A222-FFDB-4EA2-995E-7B7A6D23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36901B-DD9B-4A43-A255-C0CD3D26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4BD1EE-D670-4484-95F8-3590CD63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3E1987-231C-4B22-9847-89CFC943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EDF8A1-7DFD-41F7-A604-915C039F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464A64-92B4-4295-AD0A-81FACA8F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703960-4802-4B7C-9A19-19EEDDE7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22E-0975-454A-BC88-B1156785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1DA0F2-0EC8-48AE-A421-4FB0E168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48689A-0F22-41AB-B4AF-D54A5853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270D23-DBB7-4CFC-829B-4FD85E99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D42D59-8A7E-4E9C-B2DE-70517893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D18662-4FEA-4C20-A158-52871C1E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10A00F-24D1-483C-BC7D-916E4527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1F1A6B-E817-4E6E-B5C2-8BC9BBB0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AE8D75-89E4-4C0C-A60A-82C32042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5513DB-4C1C-4686-BE22-E957B2DC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7C0E1B-E2B5-4A3D-82F5-DC0FA517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56B6-5689-4B76-A54F-73C98145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1E5E41-8269-4661-BE8E-B1F3319C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FBEB01-C9BE-4719-A233-70257F66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232A38-EBB7-40AF-891D-3F080FC0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4C3E-AB53-49A3-BB4F-0209A4FE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4E34-8A0B-414D-8F6A-9B7CB255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B7D1-63EF-45FF-8599-277775F3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E3AA-1EE4-4B04-A25F-F1836D8A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951F-0290-431D-A9A1-24A113EB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9512-5B4F-4FBC-811C-484860E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CE5-A357-4529-A1FB-D4B3F84C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DD36-EDD2-4CE2-BD61-B476938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0050-2667-465D-918C-37300E72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432E-1106-4FC4-A5F8-7E74DB13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0748-2684-43BE-A5E8-C239EB2D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6A42-C941-478E-805A-1CEF498A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406-B49D-414A-968F-A96A5767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68F5B-585E-40EA-A9C5-78DCCEB0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73B5B-E0F3-49E2-AE10-5C8418E5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84824-505B-4E9D-9437-7721057F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A8A-6DCC-424E-B04B-4B1C41C0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D108E-6868-4D97-BDE0-1765F4C9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5D861-DA02-4AB0-81B5-B1A74878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78745-7B19-41B7-958D-E5F28770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307C4-743E-4705-9745-50628B8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94EFD-42C1-4A67-8D0C-5B46C502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80C19-7829-481E-8184-0DA3C73F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B1290-43C3-48AD-91E6-0DA017E7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6DC1F-0412-4551-B7EA-6FC59730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3D2C7-9032-4EA0-8FDC-3ABF4DE2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A0FB-C020-4A26-AA6B-3E316F45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62F-A295-4F7B-A006-2A3BB821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D4AE-AFDE-486E-BC2E-3853DAF2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E1EA0-E289-43F7-8EFF-5730A8E1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F3F8F-5ED4-46F2-AFD4-69917099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D0B7-6DE1-4CF7-8C93-4A5CFFE2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3977E-B3AC-463C-86B1-51C60CE6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4169C-DCC1-4719-BD5D-D4D725E8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2B81A-7F6C-4C22-8BDD-CE9E64C1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7A18-4001-4E42-A795-9B50034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3EA64-A4B8-46BD-ACF9-4CF6F190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F109C-1822-4F13-ADAF-34D0E710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AE0-945C-4770-9582-502AB57D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1BC7B-5DFD-4786-BE55-76176323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E8714-4CBE-4060-B752-108EDEA4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A036C-ACAB-4B74-8F51-06B48D39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0C027E-5CAB-4C19-A293-A6D7DEFE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58DAA-BB75-427C-B418-FEF6C1AC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EF5AC-BE8B-47AF-AC5E-C4A2D970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53AF7-CB06-413E-A803-E3694EE0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8AFDB-139D-4DFA-A792-F431FD04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C19FF-5E5D-43C8-9A91-D9F61005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19CEE-1ABB-4A74-B251-77B0303D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338-010F-4B2E-B2F1-269FA032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BE7CF-2DA9-49DB-9BE9-7BCA9D27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4D02C-9B90-42EB-9C15-F38221A5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3458EF-0FCC-447A-980B-9D4C8187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6E39C-91E1-4705-91DA-D9DB07BB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96F5D-09AF-424C-ADE4-3397FCFA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C8D9C-1D81-4E72-AF1D-967DF349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C6C80-C883-487F-B35D-9CB0B352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818E6-40C7-4F8D-B4D0-53CFA276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54E2C-4D58-48B2-8B45-FF2AA492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042B-AEE9-4633-A56A-E20564F9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691-A855-4748-B20E-9CBEFC98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50726-8CFF-44E5-8527-885EE4F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E40CE-0F98-47B0-AD63-5238CE01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8D300-B91B-40E6-9019-7BD9AC33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7CE5F-D290-4CB9-8E66-7F86F9E8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AC3AB-547D-43A2-8312-6CF104F4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CF418-9D0D-40D9-A339-20F5FC2D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74E00-480D-4089-BEAB-6A20D2B4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1A06A-590C-4FFE-B439-68800AAC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A66C6-A18C-4D6E-A32F-36BCF8C8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79483-3FA8-4DDD-9A04-291A0A89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CC0-8831-47DC-85AE-E1A01A7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-98640"/>
            <a:ext cx="8228160" cy="69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E2692-50D3-4A67-B470-1DCD6CC6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F4C8C-E5C3-4D39-9E35-7918849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F1963-66A2-45F5-A457-0B2823EE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5C2D0-FD85-457D-B674-D9AD1615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0096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AE391-BF4D-43B4-AF4E-F7F79951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646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0096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D3C15-76EA-499A-A261-68B60641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646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0096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3D4FE-77DC-4395-A0F1-6ED783BE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F1A2C-0754-4554-8298-224A710C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BF38E-939A-4C23-A58F-5EDDE5DA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2E491-E8B2-438F-9E7C-86783615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192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36315B-05F9-4570-8B40-F514152A139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fld id="{710401EC-C995-46D2-BADD-EC2770F9ABE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26"/>
          </p:nvPr>
        </p:nvSpPr>
        <p:spPr>
          <a:xfrm>
            <a:off x="8638920" y="635940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167103-775F-40EF-9D84-D709694F5604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B996E188-873B-4D04-98BC-F9858C46DD80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9"/>
          </p:nvPr>
        </p:nvSpPr>
        <p:spPr>
          <a:xfrm>
            <a:off x="8638920" y="635472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6240EC-0899-4DBE-A628-C7C019816942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BC0BA0D6-407B-4D70-8CC9-AEFE99B04424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474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42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8638920" y="6360840"/>
            <a:ext cx="4618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8A07E9-0F4E-454C-B92C-091ADCBD65EC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493AD5EB-3F2A-4118-89D2-54776EBA993F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"/>
          <p:cNvGrpSpPr/>
          <p:nvPr/>
        </p:nvGrpSpPr>
        <p:grpSpPr>
          <a:xfrm>
            <a:off x="152280" y="133200"/>
            <a:ext cx="8837640" cy="2529000"/>
            <a:chOff x="152280" y="133200"/>
            <a:chExt cx="8837640" cy="2529000"/>
          </a:xfrm>
        </p:grpSpPr>
        <p:pic>
          <p:nvPicPr>
            <p:cNvPr id="124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7640" cy="25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"/>
            <p:cNvSpPr/>
            <p:nvPr/>
          </p:nvSpPr>
          <p:spPr>
            <a:xfrm>
              <a:off x="250920" y="233280"/>
              <a:ext cx="8640720" cy="23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562720" y="6508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8"/>
          </p:nvPr>
        </p:nvSpPr>
        <p:spPr>
          <a:xfrm>
            <a:off x="8638920" y="635472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53261D-74B2-4284-B847-08264E48E5A5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2F553891-9F43-43DF-98A1-4B778E525769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9"/>
          </p:nvPr>
        </p:nvSpPr>
        <p:spPr>
          <a:xfrm>
            <a:off x="1600200" y="650844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38920" y="6360840"/>
            <a:ext cx="4618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E37D42-CD48-43AE-A5E0-C939808C545F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96D90FFF-CED4-4E26-BC46-424D3A1102C4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5562720" y="651312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8638920" y="6359400"/>
            <a:ext cx="461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0E7778-3C2C-47AD-AE7E-E235225F4E44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4DD87D26-F6AE-46A6-957F-140F4FA54F0B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5"/>
          </p:nvPr>
        </p:nvSpPr>
        <p:spPr>
          <a:xfrm>
            <a:off x="1600200" y="6513120"/>
            <a:ext cx="3905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255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640720" y="6360840"/>
            <a:ext cx="46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7CD386-550D-43FF-80B4-E2EFDC9092E1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A96303D8-5839-4DA7-AB7A-C450951BFA56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300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Rectangle 4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40720" y="6360840"/>
            <a:ext cx="4636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14DFC1-8DAD-4B78-B0B9-3D0415FA82A0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68B8C499-DF8D-4833-AD2C-D3B910858C5A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1"/>
          <p:cNvGrpSpPr/>
          <p:nvPr/>
        </p:nvGrpSpPr>
        <p:grpSpPr>
          <a:xfrm>
            <a:off x="152280" y="133200"/>
            <a:ext cx="8831520" cy="6589800"/>
            <a:chOff x="152280" y="133200"/>
            <a:chExt cx="8831520" cy="6589800"/>
          </a:xfrm>
        </p:grpSpPr>
        <p:pic>
          <p:nvPicPr>
            <p:cNvPr id="346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1520" cy="65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3"/>
            <p:cNvSpPr/>
            <p:nvPr/>
          </p:nvSpPr>
          <p:spPr>
            <a:xfrm>
              <a:off x="392040" y="374760"/>
              <a:ext cx="8355240" cy="61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98640"/>
            <a:ext cx="822816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02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дата/время&gt;21.11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0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  <a:ea typeface="DejaVu Sans"/>
              </a:rPr>
              <a:t>&lt;нижний колонтитул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8638920" y="6360840"/>
            <a:ext cx="4618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E2AFDE-9B76-46B8-A10E-6560BF994198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fld id="{2EAB319A-EDD0-4E97-BCC1-284F5FAEA1A8}" type="slidenum">
              <a:rPr b="0" lang="ru-RU" sz="1600" spc="-1" strike="noStrike">
                <a:solidFill>
                  <a:srgbClr val="dfe0d4"/>
                </a:solidFill>
                <a:latin typeface="Times New Roman"/>
                <a:ea typeface="DejaVu San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1"/>
          <p:cNvGrpSpPr/>
          <p:nvPr/>
        </p:nvGrpSpPr>
        <p:grpSpPr>
          <a:xfrm>
            <a:off x="171360" y="1468440"/>
            <a:ext cx="8788320" cy="3046320"/>
            <a:chOff x="171360" y="1468440"/>
            <a:chExt cx="8788320" cy="3046320"/>
          </a:xfrm>
        </p:grpSpPr>
        <p:pic>
          <p:nvPicPr>
            <p:cNvPr id="523" name="Picture 2" descr=""/>
            <p:cNvPicPr/>
            <p:nvPr/>
          </p:nvPicPr>
          <p:blipFill>
            <a:blip r:embed="rId1"/>
            <a:stretch/>
          </p:blipFill>
          <p:spPr>
            <a:xfrm>
              <a:off x="171360" y="1468440"/>
              <a:ext cx="8788320" cy="30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3"/>
            <p:cNvSpPr/>
            <p:nvPr/>
          </p:nvSpPr>
          <p:spPr>
            <a:xfrm>
              <a:off x="171360" y="1468440"/>
              <a:ext cx="878832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Text Box 4"/>
          <p:cNvSpPr/>
          <p:nvPr/>
        </p:nvSpPr>
        <p:spPr>
          <a:xfrm>
            <a:off x="1857240" y="5500800"/>
            <a:ext cx="5715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2"/>
          <p:cNvGrpSpPr/>
          <p:nvPr/>
        </p:nvGrpSpPr>
        <p:grpSpPr>
          <a:xfrm>
            <a:off x="420840" y="-96840"/>
            <a:ext cx="8240400" cy="2100240"/>
            <a:chOff x="420840" y="-96840"/>
            <a:chExt cx="8240400" cy="2100240"/>
          </a:xfrm>
        </p:grpSpPr>
        <p:pic>
          <p:nvPicPr>
            <p:cNvPr id="592" name="Picture 3" descr=""/>
            <p:cNvPicPr/>
            <p:nvPr/>
          </p:nvPicPr>
          <p:blipFill>
            <a:blip r:embed="rId2"/>
            <a:stretch/>
          </p:blipFill>
          <p:spPr>
            <a:xfrm>
              <a:off x="420840" y="-96840"/>
              <a:ext cx="824040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 Box 4"/>
            <p:cNvSpPr/>
            <p:nvPr/>
          </p:nvSpPr>
          <p:spPr>
            <a:xfrm>
              <a:off x="420840" y="-96840"/>
              <a:ext cx="824040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96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"/>
          <p:cNvGrpSpPr/>
          <p:nvPr/>
        </p:nvGrpSpPr>
        <p:grpSpPr>
          <a:xfrm>
            <a:off x="450720" y="-73080"/>
            <a:ext cx="8240760" cy="1479600"/>
            <a:chOff x="450720" y="-73080"/>
            <a:chExt cx="8240760" cy="1479600"/>
          </a:xfrm>
        </p:grpSpPr>
        <p:pic>
          <p:nvPicPr>
            <p:cNvPr id="527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73080"/>
              <a:ext cx="8240760" cy="14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Text Box 3"/>
            <p:cNvSpPr/>
            <p:nvPr/>
          </p:nvSpPr>
          <p:spPr>
            <a:xfrm>
              <a:off x="450720" y="-73080"/>
              <a:ext cx="8240760" cy="14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9" name="Picture 4" descr=""/>
          <p:cNvPicPr/>
          <p:nvPr/>
        </p:nvPicPr>
        <p:blipFill>
          <a:blip r:embed="rId2"/>
          <a:srcRect l="0" t="30553" r="52598" b="0"/>
          <a:stretch/>
        </p:blipFill>
        <p:spPr>
          <a:xfrm>
            <a:off x="357120" y="1643040"/>
            <a:ext cx="4929120" cy="47862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"/>
          <p:cNvPicPr/>
          <p:nvPr/>
        </p:nvPicPr>
        <p:blipFill>
          <a:blip r:embed="rId3"/>
          <a:srcRect l="0" t="8552" r="71120" b="-8351"/>
          <a:stretch/>
        </p:blipFill>
        <p:spPr>
          <a:xfrm>
            <a:off x="6215040" y="178596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"/>
          <p:cNvPicPr/>
          <p:nvPr/>
        </p:nvPicPr>
        <p:blipFill>
          <a:blip r:embed="rId4"/>
          <a:srcRect l="0" t="10725" r="54735" b="24916"/>
          <a:stretch/>
        </p:blipFill>
        <p:spPr>
          <a:xfrm>
            <a:off x="5500800" y="4286160"/>
            <a:ext cx="3071880" cy="17146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7"/>
          <p:cNvSpPr/>
          <p:nvPr/>
        </p:nvSpPr>
        <p:spPr>
          <a:xfrm>
            <a:off x="6215040" y="600084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500-Ф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БОМ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8" descr=""/>
          <p:cNvPicPr/>
          <p:nvPr/>
        </p:nvPicPr>
        <p:blipFill>
          <a:blip r:embed="rId5"/>
          <a:srcRect l="50710" t="84471" r="38267" b="0"/>
          <a:stretch/>
        </p:blipFill>
        <p:spPr>
          <a:xfrm>
            <a:off x="3214800" y="3214800"/>
            <a:ext cx="714240" cy="6174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9"/>
          <p:cNvSpPr/>
          <p:nvPr/>
        </p:nvSpPr>
        <p:spPr>
          <a:xfrm>
            <a:off x="4000680" y="342900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М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"/>
          <p:cNvGrpSpPr/>
          <p:nvPr/>
        </p:nvGrpSpPr>
        <p:grpSpPr>
          <a:xfrm>
            <a:off x="493560" y="-23760"/>
            <a:ext cx="8240760" cy="2100240"/>
            <a:chOff x="493560" y="-23760"/>
            <a:chExt cx="8240760" cy="2100240"/>
          </a:xfrm>
        </p:grpSpPr>
        <p:pic>
          <p:nvPicPr>
            <p:cNvPr id="536" name="Picture 2" descr=""/>
            <p:cNvPicPr/>
            <p:nvPr/>
          </p:nvPicPr>
          <p:blipFill>
            <a:blip r:embed="rId1"/>
            <a:stretch/>
          </p:blipFill>
          <p:spPr>
            <a:xfrm>
              <a:off x="493560" y="-23760"/>
              <a:ext cx="824076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3"/>
            <p:cNvSpPr/>
            <p:nvPr/>
          </p:nvSpPr>
          <p:spPr>
            <a:xfrm>
              <a:off x="493560" y="-23760"/>
              <a:ext cx="824076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Text Box 4"/>
          <p:cNvSpPr/>
          <p:nvPr/>
        </p:nvSpPr>
        <p:spPr>
          <a:xfrm>
            <a:off x="457200" y="1646280"/>
            <a:ext cx="4543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в парообраз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(газообразном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эрозоль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(дым, туман, морось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капельно-жидком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остоя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3857760" y="5214960"/>
            <a:ext cx="2066760" cy="1368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3"/>
          <a:stretch/>
        </p:blipFill>
        <p:spPr>
          <a:xfrm>
            <a:off x="5214960" y="2928960"/>
            <a:ext cx="3584520" cy="2220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"/>
          <p:cNvPicPr/>
          <p:nvPr/>
        </p:nvPicPr>
        <p:blipFill>
          <a:blip r:embed="rId4"/>
          <a:stretch/>
        </p:blipFill>
        <p:spPr>
          <a:xfrm>
            <a:off x="4500720" y="1571760"/>
            <a:ext cx="14284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1"/>
          <p:cNvGrpSpPr/>
          <p:nvPr/>
        </p:nvGrpSpPr>
        <p:grpSpPr>
          <a:xfrm>
            <a:off x="262080" y="92160"/>
            <a:ext cx="9032760" cy="1984320"/>
            <a:chOff x="262080" y="92160"/>
            <a:chExt cx="9032760" cy="1984320"/>
          </a:xfrm>
        </p:grpSpPr>
        <p:pic>
          <p:nvPicPr>
            <p:cNvPr id="543" name="Picture 2" descr=""/>
            <p:cNvPicPr/>
            <p:nvPr/>
          </p:nvPicPr>
          <p:blipFill>
            <a:blip r:embed="rId1"/>
            <a:stretch/>
          </p:blipFill>
          <p:spPr>
            <a:xfrm>
              <a:off x="262080" y="92160"/>
              <a:ext cx="903276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3"/>
            <p:cNvSpPr/>
            <p:nvPr/>
          </p:nvSpPr>
          <p:spPr>
            <a:xfrm>
              <a:off x="262080" y="92160"/>
              <a:ext cx="903276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Rectangle 4"/>
          <p:cNvSpPr/>
          <p:nvPr/>
        </p:nvSpPr>
        <p:spPr>
          <a:xfrm>
            <a:off x="28584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Нервно-паралити-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171468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Кожно- нары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3143160" y="2286000"/>
            <a:ext cx="135756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Обще-ядови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457200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Удушаю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7500960" y="2286000"/>
            <a:ext cx="135720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Раздража-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6000840" y="2286000"/>
            <a:ext cx="1428840" cy="7858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  <a:ea typeface="DejaVu Sans"/>
              </a:rPr>
              <a:t>Психо-хим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357120" y="3071880"/>
            <a:ext cx="1800" cy="292896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571680" y="335772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За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571680" y="450072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Зо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571680" y="571500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V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14"/>
          <p:cNvSpPr/>
          <p:nvPr/>
        </p:nvSpPr>
        <p:spPr>
          <a:xfrm>
            <a:off x="357120" y="6000840"/>
            <a:ext cx="21456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5"/>
          <p:cNvSpPr/>
          <p:nvPr/>
        </p:nvSpPr>
        <p:spPr>
          <a:xfrm>
            <a:off x="357120" y="3571920"/>
            <a:ext cx="21456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16"/>
          <p:cNvSpPr/>
          <p:nvPr/>
        </p:nvSpPr>
        <p:spPr>
          <a:xfrm>
            <a:off x="357120" y="4714920"/>
            <a:ext cx="21456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17"/>
          <p:cNvSpPr/>
          <p:nvPr/>
        </p:nvSpPr>
        <p:spPr>
          <a:xfrm>
            <a:off x="2357280" y="3071880"/>
            <a:ext cx="180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1857240" y="5715000"/>
            <a:ext cx="100044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Ипр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19"/>
          <p:cNvSpPr/>
          <p:nvPr/>
        </p:nvSpPr>
        <p:spPr>
          <a:xfrm>
            <a:off x="3286080" y="3071880"/>
            <a:ext cx="180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3071880" y="5715000"/>
            <a:ext cx="128592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Хлорци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21"/>
          <p:cNvSpPr/>
          <p:nvPr/>
        </p:nvSpPr>
        <p:spPr>
          <a:xfrm>
            <a:off x="5500800" y="3071880"/>
            <a:ext cx="144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22"/>
          <p:cNvSpPr/>
          <p:nvPr/>
        </p:nvSpPr>
        <p:spPr>
          <a:xfrm>
            <a:off x="4714920" y="5715000"/>
            <a:ext cx="10000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Фосг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3"/>
          <p:cNvSpPr/>
          <p:nvPr/>
        </p:nvSpPr>
        <p:spPr>
          <a:xfrm>
            <a:off x="3500280" y="3929040"/>
            <a:ext cx="142884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Синильная кисл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Line 24"/>
          <p:cNvSpPr/>
          <p:nvPr/>
        </p:nvSpPr>
        <p:spPr>
          <a:xfrm>
            <a:off x="3286080" y="4214880"/>
            <a:ext cx="21420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25"/>
          <p:cNvSpPr/>
          <p:nvPr/>
        </p:nvSpPr>
        <p:spPr>
          <a:xfrm>
            <a:off x="6357960" y="5715000"/>
            <a:ext cx="64296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26"/>
          <p:cNvSpPr/>
          <p:nvPr/>
        </p:nvSpPr>
        <p:spPr>
          <a:xfrm>
            <a:off x="7358040" y="5715000"/>
            <a:ext cx="64296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27"/>
          <p:cNvSpPr/>
          <p:nvPr/>
        </p:nvSpPr>
        <p:spPr>
          <a:xfrm>
            <a:off x="8215200" y="5715000"/>
            <a:ext cx="64296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"/>
                <a:ea typeface="DejaVu Sans"/>
              </a:rPr>
              <a:t>C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28"/>
          <p:cNvSpPr/>
          <p:nvPr/>
        </p:nvSpPr>
        <p:spPr>
          <a:xfrm>
            <a:off x="6715080" y="3071880"/>
            <a:ext cx="180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29"/>
          <p:cNvSpPr/>
          <p:nvPr/>
        </p:nvSpPr>
        <p:spPr>
          <a:xfrm>
            <a:off x="7500960" y="3071880"/>
            <a:ext cx="1440" cy="2643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7643880" y="4500720"/>
            <a:ext cx="12142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Адамс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31"/>
          <p:cNvSpPr/>
          <p:nvPr/>
        </p:nvSpPr>
        <p:spPr>
          <a:xfrm>
            <a:off x="7643880" y="3786120"/>
            <a:ext cx="1214280" cy="500040"/>
          </a:xfrm>
          <a:prstGeom prst="rect">
            <a:avLst/>
          </a:prstGeom>
          <a:gradFill rotWithShape="0">
            <a:gsLst>
              <a:gs pos="0">
                <a:srgbClr val="feeeee"/>
              </a:gs>
              <a:gs pos="100000">
                <a:srgbClr val="fcc4c4"/>
              </a:gs>
            </a:gsLst>
            <a:lin ang="16200000"/>
          </a:gradFill>
          <a:ln w="9360">
            <a:solidFill>
              <a:srgbClr val="d2a6a6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DejaVu Sans"/>
              </a:rPr>
              <a:t>Хлораце-тефон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32"/>
          <p:cNvSpPr/>
          <p:nvPr/>
        </p:nvSpPr>
        <p:spPr>
          <a:xfrm>
            <a:off x="7500960" y="4071960"/>
            <a:ext cx="14292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33"/>
          <p:cNvSpPr/>
          <p:nvPr/>
        </p:nvSpPr>
        <p:spPr>
          <a:xfrm>
            <a:off x="7500960" y="4714920"/>
            <a:ext cx="142920" cy="144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34"/>
          <p:cNvSpPr/>
          <p:nvPr/>
        </p:nvSpPr>
        <p:spPr>
          <a:xfrm>
            <a:off x="7500960" y="5429160"/>
            <a:ext cx="1000080" cy="180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35"/>
          <p:cNvSpPr/>
          <p:nvPr/>
        </p:nvSpPr>
        <p:spPr>
          <a:xfrm>
            <a:off x="8501040" y="5357880"/>
            <a:ext cx="1440" cy="357120"/>
          </a:xfrm>
          <a:prstGeom prst="line">
            <a:avLst/>
          </a:prstGeom>
          <a:ln w="38160">
            <a:solidFill>
              <a:srgbClr val="cec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36"/>
          <p:cNvSpPr/>
          <p:nvPr/>
        </p:nvSpPr>
        <p:spPr>
          <a:xfrm>
            <a:off x="2725920" y="18572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Группы отравляющих вещ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1"/>
          <p:cNvGrpSpPr/>
          <p:nvPr/>
        </p:nvGrpSpPr>
        <p:grpSpPr>
          <a:xfrm>
            <a:off x="450720" y="-66600"/>
            <a:ext cx="8240760" cy="1473120"/>
            <a:chOff x="450720" y="-66600"/>
            <a:chExt cx="8240760" cy="1473120"/>
          </a:xfrm>
        </p:grpSpPr>
        <p:pic>
          <p:nvPicPr>
            <p:cNvPr id="579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66600"/>
              <a:ext cx="824076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3"/>
            <p:cNvSpPr/>
            <p:nvPr/>
          </p:nvSpPr>
          <p:spPr>
            <a:xfrm>
              <a:off x="450720" y="-66600"/>
              <a:ext cx="824076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Text Box 4"/>
          <p:cNvSpPr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5105520" y="1714680"/>
            <a:ext cx="40384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0520" algn="ctr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остав компл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.-ручной насо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2.-насадка к насосу4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3.-защитные колпач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4.-противодымные фильт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5.-корп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6.-патроны к грел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7.-электрический фон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8.-грел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9.-крыш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0.-лопа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1.-кассеты с индикаторными труб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052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Picture 6" descr=""/>
          <p:cNvPicPr/>
          <p:nvPr/>
        </p:nvPicPr>
        <p:blipFill>
          <a:blip r:embed="rId2"/>
          <a:stretch/>
        </p:blipFill>
        <p:spPr>
          <a:xfrm>
            <a:off x="428760" y="1428840"/>
            <a:ext cx="46432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" descr=""/>
          <p:cNvPicPr/>
          <p:nvPr/>
        </p:nvPicPr>
        <p:blipFill>
          <a:blip r:embed="rId2"/>
          <a:stretch/>
        </p:blipFill>
        <p:spPr>
          <a:xfrm>
            <a:off x="214200" y="2857680"/>
            <a:ext cx="4214880" cy="3146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"/>
          <p:cNvPicPr/>
          <p:nvPr/>
        </p:nvPicPr>
        <p:blipFill>
          <a:blip r:embed="rId3"/>
          <a:stretch/>
        </p:blipFill>
        <p:spPr>
          <a:xfrm>
            <a:off x="5072040" y="2643120"/>
            <a:ext cx="36432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" descr=""/>
          <p:cNvPicPr/>
          <p:nvPr/>
        </p:nvPicPr>
        <p:blipFill>
          <a:blip r:embed="rId1"/>
          <a:stretch/>
        </p:blipFill>
        <p:spPr>
          <a:xfrm>
            <a:off x="1071720" y="1071720"/>
            <a:ext cx="47368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mp</dc:creator>
  <dc:description/>
  <dc:language>en-US</dc:language>
  <cp:lastModifiedBy>Zauch</cp:lastModifiedBy>
  <dcterms:modified xsi:type="dcterms:W3CDTF">2011-11-23T09:51:08Z</dcterms:modified>
  <cp:revision>23</cp:revision>
  <dc:subject/>
  <dc:title>Слайд 1</dc:title>
</cp:coreProperties>
</file>