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24504-0587-4013-941B-4D3B9AB5D68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4E63E-C46A-4F68-97DB-F7D047114A01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759AB-5AD0-403C-8565-74C141D0C6F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6C1D5-2C55-4CF1-B218-FA39BA222AFE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A38B1-0DE4-4E8B-80EB-D603D50DC5C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F2F26-2B8F-4DA0-B19E-0286495DED27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B2EEC-1604-4F2D-A6D9-2C4ECB7454C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9EECE-3F32-4710-94CE-F6A5C4D3AA0D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AEC2F-8FBB-4CBD-BC88-5276C6A88AB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5F962-67EF-42AF-A542-70B55C41A6A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AE5FD-9955-42E0-B563-7E95D2D7E98D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74CB3-0834-4269-9DB4-BA08A5B408E0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172-20F9-4AE3-A6FC-C3F676F9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869-4E52-486D-BCB4-96BF9A6A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96F6E-57B0-4D1F-9B73-558CCD88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1C570-6825-42DB-8635-8A06584C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20CBA-54DA-4858-86C9-32E7FDBF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BAB86-DFDF-433A-B370-4986D3CE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89C1E-8D21-47DB-86A6-AC22A2C2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9ADF4-84E3-4FDE-83EA-8E37CD8E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5298D-3041-4CC0-93BF-09AEA5D8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42073-AA64-44D4-A006-6587D919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53592-D50F-43C5-A48C-F0CD2A1E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61081C-9DF9-4476-8264-7482ACEF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397-33CA-4C0B-B0C5-8814B49C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04493F-E2DE-41B4-A436-522A9A02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178B2C-BD19-434F-A0FF-0B9BE8AE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0409AD-C578-4DBE-94A1-F2FD8928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B81990-2A96-4BCF-996C-DA6FA684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E5E071-B7AA-4F97-BE80-57EE1ACF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466542-C872-4BFD-881A-BFEFCF1F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4EA9CA-D09C-4B76-B962-9DB749BC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AFD57F-87FE-4166-9162-5CFB5709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A77CE8-91C7-4106-8362-B9138C02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46CD97-6B7E-4904-9C6B-083CC9D2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1F5-2C8D-4EC5-B593-376B67C1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9D5563-4C48-4646-9CF5-6D9565AB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3D6291-222D-4626-83A0-24B25C6C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397555-69B4-45A7-AE9D-B8811F16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80D1F1-FD18-4D76-AF1A-9B2EE764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170942-DE63-4CD3-AECC-E171FD5A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75BDBF-80AC-4A84-BFAC-5F1019DD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359FB4-8BB6-4358-ACF9-CBB706DC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042F2E-934F-4767-A866-81A46F72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DB3147-D6DE-486C-AE2B-04249E1A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B5BF44-828C-4BD0-B03F-05FA0B8F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5C40-D67B-4079-8B4D-80AD29A0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C13F32-DDB0-44EB-BA6D-2DCCBA81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01C527-3471-4E0F-9E20-BE08D3DB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4002C6-F02D-4C33-8DD4-E634F90D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9AA6-DC78-4E48-AC87-1CFFFFC5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BA8A-A49D-4573-9143-F6DBA463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5FC0-F57F-49EA-8D33-89EE2587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00F3-8B10-48A5-8E9A-F97BE72E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B97B-8EE0-469E-8883-2CC9E96A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21EE-7EB0-4ABF-89EE-A15A2F58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698-99F2-4834-8D08-22519E00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2DEC-DABD-4BB6-9648-300FD07A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758F-09A0-474C-A3FC-15099EC6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1B4A-F9DB-4B7D-B7F0-069AA86A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578A-A535-4DCD-857C-EC396392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8270-70C8-4A87-BF44-602D5C11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C0D-3A21-4131-B61E-D4E2F48C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37F3B-C275-4C46-9E47-A68D9989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BABA8-243D-4E50-9FBD-FEBA7AB9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5555E-7CC0-4CF7-8FE8-A21F32F3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A2F-DCBA-4818-B371-8D0F1559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FD020-E024-4ABC-A52F-3B910251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9C902-6A5A-478A-8D8C-728654DD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5F942-C89B-4D63-AD24-19483167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C5E25-52AE-4EB1-A9FD-58E27784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A2DE4-057F-44DE-B25E-6DCCE3F7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D9ED0-7AC7-4662-99DF-9802ADBA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C0A37-7256-4BA3-A430-BBBB68E0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0B5EB-A0C7-4CCC-BF6D-B2DCE3BF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56A89-F9E5-44A9-A42B-B903BA12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AC391-79FB-4FB8-9B16-DE27BA27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7DDA-8F35-44EB-829E-FEE36B75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04C7F-2FEC-4E2B-8DE3-3FDEB91A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A5A2F-706D-4C05-8127-3D7E5C85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50678-5176-4CAE-9CC6-109C8312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48E47-C0B5-4662-9136-F0D8908B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36EFC-8C20-45E7-B5E2-90343097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166A2-2465-4EB7-B3A0-5D02F02F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845C8-94FD-46B7-A8C8-A100F567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3526A-D495-4E85-A6F7-DAFC903E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7D7BC-4D10-4255-BFB0-2052A2ED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D588C-C97F-4AAB-9D08-ED9B1B36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2EF-C9DA-4C9C-A0E2-C2B5FB4F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58E14-0BEB-4555-8443-4B1355F4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F601EF-1450-43D0-BBE6-DC9BDC87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1D163-1F40-4889-AC0B-7E79451A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1002B-717C-4BDD-B9C0-62A69249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39929-D2E6-4078-BD9D-14C233E3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5DD233-66CA-41B3-9172-A5AE2F72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6DEFF-D780-48AB-87AB-F5C9396A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D9C89-E2CE-4753-9684-A476F551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B9004-EE35-4810-B3FD-9FF117BE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4EEB6-20F7-4E70-A681-D7C9DD63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D2C-9885-4D2A-8827-77A74FE6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AE3B1-385C-4F35-88CB-9642B629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947A4-23EE-4472-A744-0908AB1C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12938-0968-4737-B253-9069F8FE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E2DC6-980F-42D3-99C4-1C16815E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DF9F0-817B-4796-94B6-3A1D7782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667FA-5B8A-4A8F-B6D1-4263B70C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0FAD5-AE41-4FBE-954F-CDEB8D45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C74F4-CAF5-4695-9104-C472F041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320F5-A78C-44A7-90BB-A0BC189E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7973C-6C3D-4994-908E-38E0AC37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03F-4A79-4745-9A66-E061127C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9BF13-EB69-4492-B658-82D555BF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6323A-71C7-432B-8B96-55A2B748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241D1-0E2F-4827-B445-481E406A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38A86-BE5B-4241-B4F5-184D41A7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9FE3F-AD65-43F1-BA95-8B803941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6AECB-91AA-480C-8189-A909811E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9FFF1-9D52-4545-8E2C-7E306933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66BE5-A6D4-4C93-A067-1735C248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BB573-5ABA-4A95-9146-F2E9EA86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3C57B-B453-4FF1-AEC0-EEB1D0C6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EAE-7128-4E80-ACE6-DFEC50AD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D3297-11DB-4357-B0B3-DE5101A8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C48DC-FB5A-4885-9DAF-61F124CC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A8401-5869-41A0-9552-68335D5B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BEF4A-516E-40B9-8998-97C57A71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F69B3-B1F8-4318-B76C-C55A42FB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224AB-42A1-44C3-ACAC-CAC4467C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31F45-CCBD-4710-A8AE-B21CE5F6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FF09B-EF2B-471F-8893-E71A33B4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884E1-7D2E-416C-91F1-D64A2E97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AC64B-1D40-488C-BE5C-EA100A86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192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EEAE86-4A99-40EB-A0A6-CAE3F46AD44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fld id="{E2A8C360-1880-4305-A6B2-32F7EEE2189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26"/>
          </p:nvPr>
        </p:nvSpPr>
        <p:spPr>
          <a:xfrm>
            <a:off x="8638920" y="6359400"/>
            <a:ext cx="461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598DF21-AE09-4C76-B7E8-4F627394FD29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BA1813F5-28BB-44BE-934C-8D8C2FB67FC5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52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9"/>
          </p:nvPr>
        </p:nvSpPr>
        <p:spPr>
          <a:xfrm>
            <a:off x="8638920" y="6354720"/>
            <a:ext cx="461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8ACAC6-2EF6-43B0-91B7-97CD6D275119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DA4763EA-0F04-4314-8EE1-101A076C51E2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52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474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42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0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8638920" y="6360840"/>
            <a:ext cx="4618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298369-D5C8-42C5-94AD-2BB298E3C8CF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F9D5D054-D7D0-46B4-982B-347F7DCE840E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"/>
          <p:cNvGrpSpPr/>
          <p:nvPr/>
        </p:nvGrpSpPr>
        <p:grpSpPr>
          <a:xfrm>
            <a:off x="152280" y="133200"/>
            <a:ext cx="8837640" cy="2529000"/>
            <a:chOff x="152280" y="133200"/>
            <a:chExt cx="8837640" cy="2529000"/>
          </a:xfrm>
        </p:grpSpPr>
        <p:pic>
          <p:nvPicPr>
            <p:cNvPr id="124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7640" cy="25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3"/>
            <p:cNvSpPr/>
            <p:nvPr/>
          </p:nvSpPr>
          <p:spPr>
            <a:xfrm>
              <a:off x="250920" y="233280"/>
              <a:ext cx="8640720" cy="23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5562720" y="6508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8638920" y="6354720"/>
            <a:ext cx="461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253E89-4644-40D2-A4D6-BB69035B52A1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5B08D0F6-4E93-45AF-A75A-43AF6CBB1515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9"/>
          </p:nvPr>
        </p:nvSpPr>
        <p:spPr>
          <a:xfrm>
            <a:off x="1600200" y="6508440"/>
            <a:ext cx="39052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168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Rectangle 4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562720" y="6400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1294920" y="6400440"/>
            <a:ext cx="4210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38920" y="6360840"/>
            <a:ext cx="4618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1C8210-8570-4004-BA62-148774E0C2B4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AB26C719-A321-4972-AD36-131BD35B4E65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5562720" y="651312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4"/>
          </p:nvPr>
        </p:nvSpPr>
        <p:spPr>
          <a:xfrm>
            <a:off x="8638920" y="6359400"/>
            <a:ext cx="461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B77CC8-BCF5-4945-BFA0-13918BDA5AE6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7BAAE494-78C2-4C64-8BAF-69D7EF627E70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5"/>
          </p:nvPr>
        </p:nvSpPr>
        <p:spPr>
          <a:xfrm>
            <a:off x="1600200" y="6513120"/>
            <a:ext cx="39052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255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Rectangle 4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0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8640720" y="6360840"/>
            <a:ext cx="46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D4AE35-CCC2-4B38-8BCB-F7638E06DA6E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7FC073F4-DA73-4D96-99D5-09A0C683F68A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300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Rectangle 4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0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8640720" y="6360840"/>
            <a:ext cx="46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44CE74-5CD4-466E-B3C4-36F7CDB4A635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1A7BE534-E6D5-4536-8E5D-99D4F4F82981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346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Rectangle 4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0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8638920" y="6360840"/>
            <a:ext cx="4618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2A96F3-290C-42D2-B08F-320C3D15681E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130249F5-EF59-45FC-9E77-BC26E3A948F5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1"/>
          <p:cNvGrpSpPr/>
          <p:nvPr/>
        </p:nvGrpSpPr>
        <p:grpSpPr>
          <a:xfrm>
            <a:off x="171360" y="1468440"/>
            <a:ext cx="8788320" cy="3046320"/>
            <a:chOff x="171360" y="1468440"/>
            <a:chExt cx="8788320" cy="3046320"/>
          </a:xfrm>
        </p:grpSpPr>
        <p:pic>
          <p:nvPicPr>
            <p:cNvPr id="523" name="Picture 2" descr=""/>
            <p:cNvPicPr/>
            <p:nvPr/>
          </p:nvPicPr>
          <p:blipFill>
            <a:blip r:embed="rId1"/>
            <a:stretch/>
          </p:blipFill>
          <p:spPr>
            <a:xfrm>
              <a:off x="171360" y="1468440"/>
              <a:ext cx="8788320" cy="30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3"/>
            <p:cNvSpPr/>
            <p:nvPr/>
          </p:nvSpPr>
          <p:spPr>
            <a:xfrm>
              <a:off x="171360" y="1468440"/>
              <a:ext cx="878832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5" name="Text Box 4"/>
          <p:cNvSpPr/>
          <p:nvPr/>
        </p:nvSpPr>
        <p:spPr>
          <a:xfrm>
            <a:off x="1857240" y="5500800"/>
            <a:ext cx="5715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1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grpSp>
        <p:nvGrpSpPr>
          <p:cNvPr id="591" name="Group 2"/>
          <p:cNvGrpSpPr/>
          <p:nvPr/>
        </p:nvGrpSpPr>
        <p:grpSpPr>
          <a:xfrm>
            <a:off x="420840" y="-96840"/>
            <a:ext cx="8240400" cy="2100240"/>
            <a:chOff x="420840" y="-96840"/>
            <a:chExt cx="8240400" cy="2100240"/>
          </a:xfrm>
        </p:grpSpPr>
        <p:pic>
          <p:nvPicPr>
            <p:cNvPr id="592" name="Picture 3" descr=""/>
            <p:cNvPicPr/>
            <p:nvPr/>
          </p:nvPicPr>
          <p:blipFill>
            <a:blip r:embed="rId2"/>
            <a:stretch/>
          </p:blipFill>
          <p:spPr>
            <a:xfrm>
              <a:off x="420840" y="-96840"/>
              <a:ext cx="824040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Text Box 4"/>
            <p:cNvSpPr/>
            <p:nvPr/>
          </p:nvSpPr>
          <p:spPr>
            <a:xfrm>
              <a:off x="420840" y="-96840"/>
              <a:ext cx="824040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"/>
          <p:cNvGrpSpPr/>
          <p:nvPr/>
        </p:nvGrpSpPr>
        <p:grpSpPr>
          <a:xfrm>
            <a:off x="450720" y="-73080"/>
            <a:ext cx="8240760" cy="1479600"/>
            <a:chOff x="450720" y="-73080"/>
            <a:chExt cx="8240760" cy="1479600"/>
          </a:xfrm>
        </p:grpSpPr>
        <p:pic>
          <p:nvPicPr>
            <p:cNvPr id="527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-73080"/>
              <a:ext cx="8240760" cy="14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3"/>
            <p:cNvSpPr/>
            <p:nvPr/>
          </p:nvSpPr>
          <p:spPr>
            <a:xfrm>
              <a:off x="450720" y="-73080"/>
              <a:ext cx="8240760" cy="14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9" name="Picture 4" descr=""/>
          <p:cNvPicPr/>
          <p:nvPr/>
        </p:nvPicPr>
        <p:blipFill>
          <a:blip r:embed="rId2"/>
          <a:srcRect l="0" t="30553" r="52598" b="0"/>
          <a:stretch/>
        </p:blipFill>
        <p:spPr>
          <a:xfrm>
            <a:off x="357120" y="1643040"/>
            <a:ext cx="4929120" cy="47862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"/>
          <p:cNvPicPr/>
          <p:nvPr/>
        </p:nvPicPr>
        <p:blipFill>
          <a:blip r:embed="rId3"/>
          <a:srcRect l="0" t="8552" r="71120" b="-8351"/>
          <a:stretch/>
        </p:blipFill>
        <p:spPr>
          <a:xfrm>
            <a:off x="6215040" y="178596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"/>
          <p:cNvPicPr/>
          <p:nvPr/>
        </p:nvPicPr>
        <p:blipFill>
          <a:blip r:embed="rId4"/>
          <a:srcRect l="0" t="10725" r="54735" b="24916"/>
          <a:stretch/>
        </p:blipFill>
        <p:spPr>
          <a:xfrm>
            <a:off x="5500800" y="4286160"/>
            <a:ext cx="3071880" cy="17146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7"/>
          <p:cNvSpPr/>
          <p:nvPr/>
        </p:nvSpPr>
        <p:spPr>
          <a:xfrm>
            <a:off x="6215040" y="60008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500-Ф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БОМ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8" descr=""/>
          <p:cNvPicPr/>
          <p:nvPr/>
        </p:nvPicPr>
        <p:blipFill>
          <a:blip r:embed="rId5"/>
          <a:srcRect l="50710" t="84471" r="38267" b="0"/>
          <a:stretch/>
        </p:blipFill>
        <p:spPr>
          <a:xfrm>
            <a:off x="3214800" y="3214800"/>
            <a:ext cx="714240" cy="6174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9"/>
          <p:cNvSpPr/>
          <p:nvPr/>
        </p:nvSpPr>
        <p:spPr>
          <a:xfrm>
            <a:off x="4000680" y="3429000"/>
            <a:ext cx="7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Ми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1"/>
          <p:cNvGrpSpPr/>
          <p:nvPr/>
        </p:nvGrpSpPr>
        <p:grpSpPr>
          <a:xfrm>
            <a:off x="493560" y="-23760"/>
            <a:ext cx="8240760" cy="2100240"/>
            <a:chOff x="493560" y="-23760"/>
            <a:chExt cx="8240760" cy="2100240"/>
          </a:xfrm>
        </p:grpSpPr>
        <p:pic>
          <p:nvPicPr>
            <p:cNvPr id="536" name="Picture 2" descr=""/>
            <p:cNvPicPr/>
            <p:nvPr/>
          </p:nvPicPr>
          <p:blipFill>
            <a:blip r:embed="rId1"/>
            <a:stretch/>
          </p:blipFill>
          <p:spPr>
            <a:xfrm>
              <a:off x="493560" y="-23760"/>
              <a:ext cx="824076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3"/>
            <p:cNvSpPr/>
            <p:nvPr/>
          </p:nvSpPr>
          <p:spPr>
            <a:xfrm>
              <a:off x="493560" y="-23760"/>
              <a:ext cx="824076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Text Box 4"/>
          <p:cNvSpPr/>
          <p:nvPr/>
        </p:nvSpPr>
        <p:spPr>
          <a:xfrm>
            <a:off x="457200" y="1646280"/>
            <a:ext cx="4543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9052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в парообраз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(газообразном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аэрозоль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(дым, туман, морось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капельно-жидком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состоя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5" descr=""/>
          <p:cNvPicPr/>
          <p:nvPr/>
        </p:nvPicPr>
        <p:blipFill>
          <a:blip r:embed="rId2"/>
          <a:stretch/>
        </p:blipFill>
        <p:spPr>
          <a:xfrm>
            <a:off x="3857760" y="5214960"/>
            <a:ext cx="2066760" cy="1368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3"/>
          <a:stretch/>
        </p:blipFill>
        <p:spPr>
          <a:xfrm>
            <a:off x="5214960" y="2928960"/>
            <a:ext cx="3584520" cy="2220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" descr=""/>
          <p:cNvPicPr/>
          <p:nvPr/>
        </p:nvPicPr>
        <p:blipFill>
          <a:blip r:embed="rId4"/>
          <a:stretch/>
        </p:blipFill>
        <p:spPr>
          <a:xfrm>
            <a:off x="4500720" y="1571760"/>
            <a:ext cx="142848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1"/>
          <p:cNvGrpSpPr/>
          <p:nvPr/>
        </p:nvGrpSpPr>
        <p:grpSpPr>
          <a:xfrm>
            <a:off x="262080" y="92160"/>
            <a:ext cx="9032760" cy="1984320"/>
            <a:chOff x="262080" y="92160"/>
            <a:chExt cx="9032760" cy="1984320"/>
          </a:xfrm>
        </p:grpSpPr>
        <p:pic>
          <p:nvPicPr>
            <p:cNvPr id="543" name="Picture 2" descr=""/>
            <p:cNvPicPr/>
            <p:nvPr/>
          </p:nvPicPr>
          <p:blipFill>
            <a:blip r:embed="rId1"/>
            <a:stretch/>
          </p:blipFill>
          <p:spPr>
            <a:xfrm>
              <a:off x="262080" y="92160"/>
              <a:ext cx="9032760" cy="19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3"/>
            <p:cNvSpPr/>
            <p:nvPr/>
          </p:nvSpPr>
          <p:spPr>
            <a:xfrm>
              <a:off x="262080" y="92160"/>
              <a:ext cx="9032760" cy="19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5" name="Rectangle 4"/>
          <p:cNvSpPr/>
          <p:nvPr/>
        </p:nvSpPr>
        <p:spPr>
          <a:xfrm>
            <a:off x="285840" y="2286000"/>
            <a:ext cx="135720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Нервно-паралити-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1714680" y="2286000"/>
            <a:ext cx="135720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Кожно- нары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3143160" y="2286000"/>
            <a:ext cx="135756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Обще-ядови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4572000" y="2286000"/>
            <a:ext cx="135720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Удушаю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7500960" y="2286000"/>
            <a:ext cx="135720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Раздража-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6000840" y="2286000"/>
            <a:ext cx="142884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Психо-хим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357120" y="3071880"/>
            <a:ext cx="1800" cy="292896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1"/>
          <p:cNvSpPr/>
          <p:nvPr/>
        </p:nvSpPr>
        <p:spPr>
          <a:xfrm>
            <a:off x="571680" y="3357720"/>
            <a:ext cx="10000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За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12"/>
          <p:cNvSpPr/>
          <p:nvPr/>
        </p:nvSpPr>
        <p:spPr>
          <a:xfrm>
            <a:off x="571680" y="4500720"/>
            <a:ext cx="10000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Зом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13"/>
          <p:cNvSpPr/>
          <p:nvPr/>
        </p:nvSpPr>
        <p:spPr>
          <a:xfrm>
            <a:off x="571680" y="5715000"/>
            <a:ext cx="10000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DejaVu Sans"/>
              </a:rPr>
              <a:t>V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14"/>
          <p:cNvSpPr/>
          <p:nvPr/>
        </p:nvSpPr>
        <p:spPr>
          <a:xfrm>
            <a:off x="357120" y="6000840"/>
            <a:ext cx="21456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15"/>
          <p:cNvSpPr/>
          <p:nvPr/>
        </p:nvSpPr>
        <p:spPr>
          <a:xfrm>
            <a:off x="357120" y="3571920"/>
            <a:ext cx="21456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16"/>
          <p:cNvSpPr/>
          <p:nvPr/>
        </p:nvSpPr>
        <p:spPr>
          <a:xfrm>
            <a:off x="357120" y="4714920"/>
            <a:ext cx="21456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17"/>
          <p:cNvSpPr/>
          <p:nvPr/>
        </p:nvSpPr>
        <p:spPr>
          <a:xfrm>
            <a:off x="2357280" y="3071880"/>
            <a:ext cx="1800" cy="2643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8"/>
          <p:cNvSpPr/>
          <p:nvPr/>
        </p:nvSpPr>
        <p:spPr>
          <a:xfrm>
            <a:off x="1857240" y="5715000"/>
            <a:ext cx="100044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Ипр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19"/>
          <p:cNvSpPr/>
          <p:nvPr/>
        </p:nvSpPr>
        <p:spPr>
          <a:xfrm>
            <a:off x="3286080" y="3071880"/>
            <a:ext cx="1800" cy="2643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3071880" y="5715000"/>
            <a:ext cx="128592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Хлорци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21"/>
          <p:cNvSpPr/>
          <p:nvPr/>
        </p:nvSpPr>
        <p:spPr>
          <a:xfrm>
            <a:off x="5500800" y="3071880"/>
            <a:ext cx="1440" cy="2643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22"/>
          <p:cNvSpPr/>
          <p:nvPr/>
        </p:nvSpPr>
        <p:spPr>
          <a:xfrm>
            <a:off x="4714920" y="5715000"/>
            <a:ext cx="10000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Фосг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23"/>
          <p:cNvSpPr/>
          <p:nvPr/>
        </p:nvSpPr>
        <p:spPr>
          <a:xfrm>
            <a:off x="3500280" y="3929040"/>
            <a:ext cx="142884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Синильная кисл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Line 24"/>
          <p:cNvSpPr/>
          <p:nvPr/>
        </p:nvSpPr>
        <p:spPr>
          <a:xfrm>
            <a:off x="3286080" y="4214880"/>
            <a:ext cx="21420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25"/>
          <p:cNvSpPr/>
          <p:nvPr/>
        </p:nvSpPr>
        <p:spPr>
          <a:xfrm>
            <a:off x="6357960" y="5715000"/>
            <a:ext cx="64296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DejaVu Sans"/>
              </a:rPr>
              <a:t>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26"/>
          <p:cNvSpPr/>
          <p:nvPr/>
        </p:nvSpPr>
        <p:spPr>
          <a:xfrm>
            <a:off x="7358040" y="5715000"/>
            <a:ext cx="64296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DejaVu Sans"/>
              </a:rPr>
              <a:t>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27"/>
          <p:cNvSpPr/>
          <p:nvPr/>
        </p:nvSpPr>
        <p:spPr>
          <a:xfrm>
            <a:off x="8215200" y="5715000"/>
            <a:ext cx="64296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DejaVu Sans"/>
              </a:rPr>
              <a:t>C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28"/>
          <p:cNvSpPr/>
          <p:nvPr/>
        </p:nvSpPr>
        <p:spPr>
          <a:xfrm>
            <a:off x="6715080" y="3071880"/>
            <a:ext cx="1800" cy="2643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29"/>
          <p:cNvSpPr/>
          <p:nvPr/>
        </p:nvSpPr>
        <p:spPr>
          <a:xfrm>
            <a:off x="7500960" y="3071880"/>
            <a:ext cx="1440" cy="2643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30"/>
          <p:cNvSpPr/>
          <p:nvPr/>
        </p:nvSpPr>
        <p:spPr>
          <a:xfrm>
            <a:off x="7643880" y="4500720"/>
            <a:ext cx="12142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Адамс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31"/>
          <p:cNvSpPr/>
          <p:nvPr/>
        </p:nvSpPr>
        <p:spPr>
          <a:xfrm>
            <a:off x="7643880" y="3786120"/>
            <a:ext cx="12142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Хлораце-тефон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32"/>
          <p:cNvSpPr/>
          <p:nvPr/>
        </p:nvSpPr>
        <p:spPr>
          <a:xfrm>
            <a:off x="7500960" y="4071960"/>
            <a:ext cx="14292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33"/>
          <p:cNvSpPr/>
          <p:nvPr/>
        </p:nvSpPr>
        <p:spPr>
          <a:xfrm>
            <a:off x="7500960" y="4714920"/>
            <a:ext cx="14292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34"/>
          <p:cNvSpPr/>
          <p:nvPr/>
        </p:nvSpPr>
        <p:spPr>
          <a:xfrm>
            <a:off x="7500960" y="5429160"/>
            <a:ext cx="1000080" cy="180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35"/>
          <p:cNvSpPr/>
          <p:nvPr/>
        </p:nvSpPr>
        <p:spPr>
          <a:xfrm>
            <a:off x="8501040" y="5357880"/>
            <a:ext cx="1440" cy="357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36"/>
          <p:cNvSpPr/>
          <p:nvPr/>
        </p:nvSpPr>
        <p:spPr>
          <a:xfrm>
            <a:off x="2725920" y="185724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Группы отравляющих веще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1"/>
          <p:cNvGrpSpPr/>
          <p:nvPr/>
        </p:nvGrpSpPr>
        <p:grpSpPr>
          <a:xfrm>
            <a:off x="450720" y="-66600"/>
            <a:ext cx="8240760" cy="1473120"/>
            <a:chOff x="450720" y="-66600"/>
            <a:chExt cx="8240760" cy="1473120"/>
          </a:xfrm>
        </p:grpSpPr>
        <p:pic>
          <p:nvPicPr>
            <p:cNvPr id="579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-66600"/>
              <a:ext cx="824076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3"/>
            <p:cNvSpPr/>
            <p:nvPr/>
          </p:nvSpPr>
          <p:spPr>
            <a:xfrm>
              <a:off x="450720" y="-66600"/>
              <a:ext cx="824076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Text Box 4"/>
          <p:cNvSpPr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5105520" y="1714680"/>
            <a:ext cx="40384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0520" algn="ctr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Состав комплек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.-ручной насо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2.-насадка к насосу4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3.-защитные колпач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4.-противодымные фильт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5.-корпу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6.-патроны к грел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7.-электрический фон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8.-грел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9.-крыш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0.-лопа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1.-кассеты с индикаторными труб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Picture 6" descr=""/>
          <p:cNvPicPr/>
          <p:nvPr/>
        </p:nvPicPr>
        <p:blipFill>
          <a:blip r:embed="rId2"/>
          <a:stretch/>
        </p:blipFill>
        <p:spPr>
          <a:xfrm>
            <a:off x="428760" y="1428840"/>
            <a:ext cx="4643280" cy="52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" descr=""/>
          <p:cNvPicPr/>
          <p:nvPr/>
        </p:nvPicPr>
        <p:blipFill>
          <a:blip r:embed="rId2"/>
          <a:stretch/>
        </p:blipFill>
        <p:spPr>
          <a:xfrm>
            <a:off x="214200" y="2857680"/>
            <a:ext cx="4214880" cy="31464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" descr=""/>
          <p:cNvPicPr/>
          <p:nvPr/>
        </p:nvPicPr>
        <p:blipFill>
          <a:blip r:embed="rId3"/>
          <a:stretch/>
        </p:blipFill>
        <p:spPr>
          <a:xfrm>
            <a:off x="5072040" y="2643120"/>
            <a:ext cx="36432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" descr=""/>
          <p:cNvPicPr/>
          <p:nvPr/>
        </p:nvPicPr>
        <p:blipFill>
          <a:blip r:embed="rId1"/>
          <a:stretch/>
        </p:blipFill>
        <p:spPr>
          <a:xfrm>
            <a:off x="1071720" y="1071720"/>
            <a:ext cx="4736880" cy="435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omp</dc:creator>
  <dc:description/>
  <dc:language>en-US</dc:language>
  <cp:lastModifiedBy>Zauch</cp:lastModifiedBy>
  <dcterms:modified xsi:type="dcterms:W3CDTF">2011-11-23T09:51:08Z</dcterms:modified>
  <cp:revision>23</cp:revision>
  <dc:subject/>
  <dc:title>Слайд 1</dc:title>
</cp:coreProperties>
</file>