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2.png" ContentType="image/png"/>
  <Override PartName="/ppt/media/explode.wav" ContentType="audio/x-wav"/>
  <Override PartName="/ppt/media/image7.jpeg" ContentType="image/jpeg"/>
  <Override PartName="/ppt/media/image15.wmf" ContentType="image/x-wmf"/>
  <Override PartName="/ppt/media/image5.wmf" ContentType="image/x-wmf"/>
  <Override PartName="/ppt/media/applause.wav" ContentType="audio/x-wav"/>
  <Override PartName="/ppt/media/image14.png" ContentType="image/png"/>
  <Override PartName="/ppt/media/image1.png" ContentType="image/png"/>
  <Override PartName="/ppt/media/drumroll.wav" ContentType="audio/x-wav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B90-2584-40B9-952F-5FA41A8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13F-82A9-4266-BAE1-181F64A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4AD-8437-4164-8457-1E0C3869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56D-C0F9-4261-BC79-6F42DCF9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C70-05B0-4EC5-947D-BC19ECDE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126-1A5A-4069-81CA-C63598A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A798-145D-429E-93B1-6EF244E1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B06-2AA7-41BF-BCDF-FC4E6347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5C79-5068-4C44-884D-8EE05AE7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A6B-E9F2-412C-BB85-92AD3D24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A2C1-7D51-4D44-A3AA-CE65237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342-BA3A-4264-8C6E-E48CFC82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283D-BF0C-4F3C-8A63-AD6D7B3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BBBE-AA13-4C26-BA1D-A5000204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EEA6-54FD-4F78-81A7-D4C1CF6E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5428-1C31-46B8-9642-5389F3AD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E87B-D3DA-4EBF-996A-AED72C13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FA8-4068-4A40-B72E-AE15333E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BBD-7AF0-4A0A-A18D-1D048D6A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439-E166-483D-ABA2-BBD1DDA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A25-35AE-4538-B0F4-F1873141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4D3-EF57-459C-9DC5-B0E109E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AB8-EA6E-4D19-BDE8-7673D86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3A7-F775-4FDB-AE1E-53CA036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9D0-B92C-4AC3-8B08-263EA66192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0978-5A12-4B90-9A1E-F26864493A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1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95280" y="1357200"/>
            <a:ext cx="8248680" cy="35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Форма государств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олитическая 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обще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154" name="1.wma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4c493d"/>
          </a:solidFill>
          <a:ln w="38160">
            <a:solidFill>
              <a:srgbClr val="e6e6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151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30920" y="620640"/>
            <a:ext cx="136836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269280" y="620640"/>
            <a:ext cx="3960360" cy="2596320"/>
            <a:chOff x="269280" y="620640"/>
            <a:chExt cx="3960360" cy="2596320"/>
          </a:xfrm>
        </p:grpSpPr>
        <p:grpSp>
          <p:nvGrpSpPr>
            <p:cNvPr id="263" name="Group 8"/>
            <p:cNvGrpSpPr/>
            <p:nvPr/>
          </p:nvGrpSpPr>
          <p:grpSpPr>
            <a:xfrm>
              <a:off x="755640" y="620640"/>
              <a:ext cx="3455640" cy="1038240"/>
              <a:chOff x="755640" y="620640"/>
              <a:chExt cx="3455640" cy="1038240"/>
            </a:xfrm>
          </p:grpSpPr>
          <p:sp>
            <p:nvSpPr>
              <p:cNvPr id="264" name="WordArt 4"/>
              <p:cNvSpPr txBox="1"/>
              <p:nvPr/>
            </p:nvSpPr>
            <p:spPr>
              <a:xfrm>
                <a:off x="755640" y="1125360"/>
                <a:ext cx="294336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atin typeface="Arial"/>
                  </a:rPr>
                  <a:t>узкий смысл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65" name="Line 6"/>
              <p:cNvSpPr/>
              <p:nvPr/>
            </p:nvSpPr>
            <p:spPr>
              <a:xfrm flipH="1">
                <a:off x="2842920" y="620640"/>
                <a:ext cx="1368360" cy="504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6" name="Text Box 9"/>
            <p:cNvSpPr/>
            <p:nvPr/>
          </p:nvSpPr>
          <p:spPr>
            <a:xfrm>
              <a:off x="269280" y="2025720"/>
              <a:ext cx="39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вокупность прием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 способов государст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енного руководства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7" name="Group 12"/>
          <p:cNvGrpSpPr/>
          <p:nvPr/>
        </p:nvGrpSpPr>
        <p:grpSpPr>
          <a:xfrm>
            <a:off x="4356000" y="1125360"/>
            <a:ext cx="4716720" cy="2863440"/>
            <a:chOff x="4356000" y="1125360"/>
            <a:chExt cx="4716720" cy="2863440"/>
          </a:xfrm>
        </p:grpSpPr>
        <p:sp>
          <p:nvSpPr>
            <p:cNvPr id="268" name="WordArt 5"/>
            <p:cNvSpPr txBox="1"/>
            <p:nvPr/>
          </p:nvSpPr>
          <p:spPr>
            <a:xfrm>
              <a:off x="5369040" y="1125360"/>
              <a:ext cx="36669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4d0808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Arial"/>
                </a:rPr>
                <a:t>широкий смысл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4356000" y="1700280"/>
              <a:ext cx="471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Уровень гарантированности прав и свобод граждан,ха-рактер отношения власти к правовым основам общест-ва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Group 24"/>
          <p:cNvGrpSpPr/>
          <p:nvPr/>
        </p:nvGrpSpPr>
        <p:grpSpPr>
          <a:xfrm>
            <a:off x="250920" y="3687840"/>
            <a:ext cx="8642160" cy="533160"/>
            <a:chOff x="250920" y="3687840"/>
            <a:chExt cx="8642160" cy="533160"/>
          </a:xfrm>
        </p:grpSpPr>
        <p:sp>
          <p:nvSpPr>
            <p:cNvPr id="271" name="Line 13"/>
            <p:cNvSpPr/>
            <p:nvPr/>
          </p:nvSpPr>
          <p:spPr>
            <a:xfrm>
              <a:off x="250920" y="4149720"/>
              <a:ext cx="8642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WordArt 14"/>
            <p:cNvSpPr txBox="1"/>
            <p:nvPr/>
          </p:nvSpPr>
          <p:spPr>
            <a:xfrm>
              <a:off x="1187280" y="3687840"/>
              <a:ext cx="6658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типы политических режимов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2411280" y="4221000"/>
            <a:ext cx="4032000" cy="2521080"/>
            <a:chOff x="2411280" y="4221000"/>
            <a:chExt cx="4032000" cy="2521080"/>
          </a:xfrm>
        </p:grpSpPr>
        <p:sp>
          <p:nvSpPr>
            <p:cNvPr id="274" name="WordArt 16"/>
            <p:cNvSpPr txBox="1"/>
            <p:nvPr/>
          </p:nvSpPr>
          <p:spPr>
            <a:xfrm>
              <a:off x="2411280" y="5992920"/>
              <a:ext cx="403200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"/>
                </a:rPr>
                <a:t>автор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4427280" y="4221000"/>
              <a:ext cx="0" cy="180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22"/>
          <p:cNvGrpSpPr/>
          <p:nvPr/>
        </p:nvGrpSpPr>
        <p:grpSpPr>
          <a:xfrm>
            <a:off x="179280" y="4221000"/>
            <a:ext cx="4176360" cy="1325880"/>
            <a:chOff x="179280" y="4221000"/>
            <a:chExt cx="4176360" cy="1325880"/>
          </a:xfrm>
        </p:grpSpPr>
        <p:sp>
          <p:nvSpPr>
            <p:cNvPr id="277" name="WordArt 15"/>
            <p:cNvSpPr txBox="1"/>
            <p:nvPr/>
          </p:nvSpPr>
          <p:spPr>
            <a:xfrm>
              <a:off x="17928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H="1">
              <a:off x="2268000" y="4221000"/>
              <a:ext cx="2087640" cy="64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9" name="Group 23"/>
          <p:cNvGrpSpPr/>
          <p:nvPr/>
        </p:nvGrpSpPr>
        <p:grpSpPr>
          <a:xfrm>
            <a:off x="4500720" y="4221000"/>
            <a:ext cx="4103640" cy="1325880"/>
            <a:chOff x="4500720" y="4221000"/>
            <a:chExt cx="4103640" cy="1325880"/>
          </a:xfrm>
        </p:grpSpPr>
        <p:sp>
          <p:nvSpPr>
            <p:cNvPr id="280" name="WordArt 17"/>
            <p:cNvSpPr txBox="1"/>
            <p:nvPr/>
          </p:nvSpPr>
          <p:spPr>
            <a:xfrm>
              <a:off x="457200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4500720" y="4221000"/>
              <a:ext cx="2087280" cy="64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WordArt 16"/>
          <p:cNvSpPr txBox="1"/>
          <p:nvPr/>
        </p:nvSpPr>
        <p:spPr>
          <a:xfrm>
            <a:off x="468360" y="340056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4" name="WordArt 22"/>
          <p:cNvSpPr txBox="1"/>
          <p:nvPr/>
        </p:nvSpPr>
        <p:spPr>
          <a:xfrm>
            <a:off x="468360" y="5445000"/>
            <a:ext cx="403236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тотал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689040" y="2492280"/>
            <a:ext cx="7797600" cy="39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1.Выборный законодательный орган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2.Конституционные гарантии политических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социально-экономических прав для всех с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циальных слоев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3.Прямое участие населения в решении  госу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дарственных вопро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4.Различные формы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5.Многопартий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6.Идеологический и политический плюрализ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26"/>
          <p:cNvGrpSpPr/>
          <p:nvPr/>
        </p:nvGrpSpPr>
        <p:grpSpPr>
          <a:xfrm>
            <a:off x="2050920" y="907920"/>
            <a:ext cx="5616720" cy="1263960"/>
            <a:chOff x="2050920" y="907920"/>
            <a:chExt cx="5616720" cy="1263960"/>
          </a:xfrm>
        </p:grpSpPr>
        <p:sp>
          <p:nvSpPr>
            <p:cNvPr id="287" name="WordArt 19"/>
            <p:cNvSpPr txBox="1"/>
            <p:nvPr/>
          </p:nvSpPr>
          <p:spPr>
            <a:xfrm>
              <a:off x="3635280" y="116532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288" name="Picture 25" descr="j0297513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1440000" cy="1263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484360" y="47628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95280" y="1268280"/>
            <a:ext cx="8424720" cy="39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1.Господство одной политической партии, движе-ния,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2.Одна «официальная» идеолог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3.Одна форма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5.Резкое расслоение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6.Низкий уровень жизн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441360" y="5229360"/>
            <a:ext cx="8448480" cy="1293480"/>
            <a:chOff x="441360" y="5229360"/>
            <a:chExt cx="8448480" cy="1293480"/>
          </a:xfrm>
        </p:grpSpPr>
        <p:sp>
          <p:nvSpPr>
            <p:cNvPr id="293" name="WordArt 4"/>
            <p:cNvSpPr txBox="1"/>
            <p:nvPr/>
          </p:nvSpPr>
          <p:spPr>
            <a:xfrm>
              <a:off x="2649600" y="522936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441360" y="6002280"/>
              <a:ext cx="8448480" cy="520560"/>
            </a:xfrm>
            <a:prstGeom prst="rect">
              <a:avLst/>
            </a:prstGeom>
            <a:solidFill>
              <a:srgbClr val="2f2d2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+Тотальный контроль за жизнью общества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Политическая система обще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WordArt 3"/>
          <p:cNvSpPr txBox="1"/>
          <p:nvPr/>
        </p:nvSpPr>
        <p:spPr>
          <a:xfrm>
            <a:off x="1913040" y="1700280"/>
            <a:ext cx="555300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ческая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684360" y="2416320"/>
            <a:ext cx="3809520" cy="1966680"/>
            <a:chOff x="684360" y="2416320"/>
            <a:chExt cx="3809520" cy="1966680"/>
          </a:xfrm>
        </p:grpSpPr>
        <p:sp>
          <p:nvSpPr>
            <p:cNvPr id="298" name="WordArt 5"/>
            <p:cNvSpPr txBox="1"/>
            <p:nvPr/>
          </p:nvSpPr>
          <p:spPr>
            <a:xfrm>
              <a:off x="68436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тношения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 flipH="1">
              <a:off x="335088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0" name="Group 20"/>
          <p:cNvGrpSpPr/>
          <p:nvPr/>
        </p:nvGrpSpPr>
        <p:grpSpPr>
          <a:xfrm>
            <a:off x="4494240" y="2416320"/>
            <a:ext cx="3886200" cy="1966680"/>
            <a:chOff x="4494240" y="2416320"/>
            <a:chExt cx="3886200" cy="1966680"/>
          </a:xfrm>
        </p:grpSpPr>
        <p:sp>
          <p:nvSpPr>
            <p:cNvPr id="301" name="WordArt 8"/>
            <p:cNvSpPr txBox="1"/>
            <p:nvPr/>
          </p:nvSpPr>
          <p:spPr>
            <a:xfrm>
              <a:off x="563724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взгляды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49424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Group 18"/>
          <p:cNvGrpSpPr/>
          <p:nvPr/>
        </p:nvGrpSpPr>
        <p:grpSpPr>
          <a:xfrm>
            <a:off x="1674720" y="2416320"/>
            <a:ext cx="2819520" cy="3719520"/>
            <a:chOff x="1674720" y="2416320"/>
            <a:chExt cx="2819520" cy="3719520"/>
          </a:xfrm>
        </p:grpSpPr>
        <p:sp>
          <p:nvSpPr>
            <p:cNvPr id="304" name="WordArt 11"/>
            <p:cNvSpPr txBox="1"/>
            <p:nvPr/>
          </p:nvSpPr>
          <p:spPr>
            <a:xfrm>
              <a:off x="1674720" y="508320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рганизации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3046320" y="241632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6" name="Group 19"/>
          <p:cNvGrpSpPr/>
          <p:nvPr/>
        </p:nvGrpSpPr>
        <p:grpSpPr>
          <a:xfrm>
            <a:off x="4500720" y="2421000"/>
            <a:ext cx="2971800" cy="3719520"/>
            <a:chOff x="4500720" y="2421000"/>
            <a:chExt cx="2971800" cy="3719520"/>
          </a:xfrm>
        </p:grpSpPr>
        <p:sp>
          <p:nvSpPr>
            <p:cNvPr id="307" name="WordArt 14"/>
            <p:cNvSpPr txBox="1"/>
            <p:nvPr/>
          </p:nvSpPr>
          <p:spPr>
            <a:xfrm>
              <a:off x="4729320" y="508788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нормы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4500720" y="242100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9" name="Rectangle 22"/>
          <p:cNvSpPr/>
          <p:nvPr/>
        </p:nvSpPr>
        <p:spPr>
          <a:xfrm>
            <a:off x="308160" y="2473560"/>
            <a:ext cx="86086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Политическая </a:t>
            </a: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система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 общества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 система политических уч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реждений государств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а.В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ключает в себя партии, профсоюз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церковь и др. организации и движения, преследующие поли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тические цели, а также нормы, политические традиции и ус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тановки, 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связывающие политические организации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 в систе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му и обеспечивающие её функционирова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Проверка знаний. Тес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Text Box 6">
            <a:hlinkClick r:id="rId1" action="ppaction://hlinksldjump"/>
          </p:cNvPr>
          <p:cNvSpPr/>
          <p:nvPr/>
        </p:nvSpPr>
        <p:spPr>
          <a:xfrm>
            <a:off x="900000" y="141300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7">
            <a:hlinkClick r:id="rId3" action="ppaction://hlinksldjump"/>
          </p:cNvPr>
          <p:cNvSpPr/>
          <p:nvPr/>
        </p:nvSpPr>
        <p:spPr>
          <a:xfrm>
            <a:off x="900000" y="304308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900000" y="479736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5" action="ppaction://hlinksldjump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187280" y="1341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олько форм правления существуют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6">
            <a:hlinkClick r:id="rId1" action="ppaction://hlinksldjump"/>
          </p:cNvPr>
          <p:cNvSpPr/>
          <p:nvPr/>
        </p:nvSpPr>
        <p:spPr>
          <a:xfrm>
            <a:off x="89856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>
            <a:hlinkClick r:id="rId2" action="ppaction://hlinksldjump"/>
          </p:cNvPr>
          <p:cNvSpPr/>
          <p:nvPr/>
        </p:nvSpPr>
        <p:spPr>
          <a:xfrm>
            <a:off x="269892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>
            <a:hlinkClick r:id="rId3" action="ppaction://hlinksldjump"/>
          </p:cNvPr>
          <p:cNvSpPr/>
          <p:nvPr/>
        </p:nvSpPr>
        <p:spPr>
          <a:xfrm>
            <a:off x="4425840" y="3429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9">
            <a:hlinkClick r:id="rId4" action="ppaction://hlinksldjump"/>
          </p:cNvPr>
          <p:cNvSpPr/>
          <p:nvPr/>
        </p:nvSpPr>
        <p:spPr>
          <a:xfrm>
            <a:off x="6154560" y="3429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верно…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Верно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6">
            <a:hlinkClick r:id="rId1" action="ppaction://hlinksldjump"/>
          </p:cNvPr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50920" y="112536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ыбери правильную форму государственного устр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ударственно-правовые объединения суверенн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еют свои Конституции, бюдж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остоятельно выступ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международной ар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6">
            <a:hlinkClick r:id="rId1" action="ppaction://hlinksldjump"/>
          </p:cNvPr>
          <p:cNvSpPr/>
          <p:nvPr/>
        </p:nvSpPr>
        <p:spPr>
          <a:xfrm>
            <a:off x="1619280" y="4524480"/>
            <a:ext cx="64087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Унитар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Федерати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Конфедерати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187280" y="134136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кой это политический режи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ямое участие населения в решении  государственных вопр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личные формы соб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ногопартий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ологический и политический плюрал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0">
            <a:hlinkClick r:id="rId1" action="ppaction://hlinksldjump"/>
          </p:cNvPr>
          <p:cNvSpPr/>
          <p:nvPr/>
        </p:nvSpPr>
        <p:spPr>
          <a:xfrm>
            <a:off x="1619280" y="5011560"/>
            <a:ext cx="640872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Демокра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Тоталит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Авторит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.Формы правл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.Форма государственного устрой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.Политический реж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4.Политическая система обще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. Проверка знаний. Тес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Проверка знаний. Тес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Text Box 5">
            <a:hlinkClick r:id="rId1" action="ppaction://hlinksldjump"/>
          </p:cNvPr>
          <p:cNvSpPr/>
          <p:nvPr/>
        </p:nvSpPr>
        <p:spPr>
          <a:xfrm>
            <a:off x="900000" y="141300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900000" y="304308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900000" y="479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1187280" y="981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Извините, но вы уже ответили на этот вопрос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Проверка знаний. Тес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00000" y="141300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304308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900000" y="479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Верно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5174" y="3794"/>
                </a:moveTo>
                <a:lnTo>
                  <a:pt x="19187" y="10800"/>
                </a:lnTo>
                <a:lnTo>
                  <a:pt x="5174" y="17806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верно…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5174" y="3794"/>
                </a:moveTo>
                <a:lnTo>
                  <a:pt x="19187" y="10800"/>
                </a:lnTo>
                <a:lnTo>
                  <a:pt x="5174" y="17806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1187280" y="449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Вы уверены, что хотите завершить тест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24000" y="4292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35640" y="4292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1187280" y="281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Поздравляем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64000" y="6093000"/>
            <a:ext cx="3457800" cy="649080"/>
          </a:xfrm>
          <a:prstGeom prst="rect">
            <a:avLst/>
          </a:prstGeom>
          <a:solidFill>
            <a:srgbClr val="8181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611280" y="84240"/>
            <a:ext cx="79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Извините, но вы ответили уже на все вопросы! Ваш тест завершен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364000" y="6093000"/>
            <a:ext cx="3457800" cy="649080"/>
          </a:xfrm>
          <a:prstGeom prst="rect">
            <a:avLst/>
          </a:prstGeom>
          <a:solidFill>
            <a:srgbClr val="8181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042920" y="2276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WordArt 24"/>
          <p:cNvSpPr txBox="1"/>
          <p:nvPr/>
        </p:nvSpPr>
        <p:spPr>
          <a:xfrm>
            <a:off x="2360520" y="765000"/>
            <a:ext cx="4476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Форма государств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60" name="Group 27"/>
          <p:cNvGrpSpPr/>
          <p:nvPr/>
        </p:nvGrpSpPr>
        <p:grpSpPr>
          <a:xfrm>
            <a:off x="1567440" y="1268280"/>
            <a:ext cx="6061680" cy="1727280"/>
            <a:chOff x="1567440" y="1268280"/>
            <a:chExt cx="6061680" cy="1727280"/>
          </a:xfrm>
        </p:grpSpPr>
        <p:sp>
          <p:nvSpPr>
            <p:cNvPr id="161" name="Text Box 25"/>
            <p:cNvSpPr/>
            <p:nvPr/>
          </p:nvSpPr>
          <p:spPr>
            <a:xfrm>
              <a:off x="1567440" y="2170080"/>
              <a:ext cx="606168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Показывает особенности устроения 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функционирования государства 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AutoShape 26"/>
            <p:cNvSpPr/>
            <p:nvPr/>
          </p:nvSpPr>
          <p:spPr>
            <a:xfrm>
              <a:off x="4381200" y="1268280"/>
              <a:ext cx="431640" cy="792360"/>
            </a:xfrm>
            <a:prstGeom prst="down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3" name="Text Box 32"/>
          <p:cNvSpPr/>
          <p:nvPr/>
        </p:nvSpPr>
        <p:spPr>
          <a:xfrm>
            <a:off x="53964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39"/>
          <p:cNvGrpSpPr/>
          <p:nvPr/>
        </p:nvGrpSpPr>
        <p:grpSpPr>
          <a:xfrm>
            <a:off x="3059280" y="3343320"/>
            <a:ext cx="3073320" cy="3325680"/>
            <a:chOff x="3059280" y="3343320"/>
            <a:chExt cx="3073320" cy="3325680"/>
          </a:xfrm>
        </p:grpSpPr>
        <p:grpSp>
          <p:nvGrpSpPr>
            <p:cNvPr id="165" name="Group 37"/>
            <p:cNvGrpSpPr/>
            <p:nvPr/>
          </p:nvGrpSpPr>
          <p:grpSpPr>
            <a:xfrm>
              <a:off x="3059280" y="4608360"/>
              <a:ext cx="3073320" cy="2060640"/>
              <a:chOff x="3059280" y="4608360"/>
              <a:chExt cx="3073320" cy="2060640"/>
            </a:xfrm>
          </p:grpSpPr>
          <p:sp>
            <p:nvSpPr>
              <p:cNvPr id="166" name="WordArt 29"/>
              <p:cNvSpPr txBox="1"/>
              <p:nvPr/>
            </p:nvSpPr>
            <p:spPr>
              <a:xfrm>
                <a:off x="3059280" y="5502240"/>
                <a:ext cx="3073320" cy="1166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ого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устройств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67" name="Picture 36" descr="j0240665"/>
              <p:cNvPicPr/>
              <p:nvPr/>
            </p:nvPicPr>
            <p:blipFill>
              <a:blip r:embed="rId2"/>
              <a:stretch/>
            </p:blipFill>
            <p:spPr>
              <a:xfrm>
                <a:off x="4067280" y="4608360"/>
                <a:ext cx="1081080" cy="96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Line 38"/>
            <p:cNvSpPr/>
            <p:nvPr/>
          </p:nvSpPr>
          <p:spPr>
            <a:xfrm>
              <a:off x="4595760" y="3343320"/>
              <a:ext cx="0" cy="122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9" name="Group 43"/>
          <p:cNvGrpSpPr/>
          <p:nvPr/>
        </p:nvGrpSpPr>
        <p:grpSpPr>
          <a:xfrm>
            <a:off x="4861080" y="3213000"/>
            <a:ext cx="4174920" cy="1800360"/>
            <a:chOff x="4861080" y="3213000"/>
            <a:chExt cx="4174920" cy="1800360"/>
          </a:xfrm>
        </p:grpSpPr>
        <p:grpSp>
          <p:nvGrpSpPr>
            <p:cNvPr id="170" name="Group 35"/>
            <p:cNvGrpSpPr/>
            <p:nvPr/>
          </p:nvGrpSpPr>
          <p:grpSpPr>
            <a:xfrm>
              <a:off x="6012000" y="3284640"/>
              <a:ext cx="3024000" cy="1728720"/>
              <a:chOff x="6012000" y="3284640"/>
              <a:chExt cx="3024000" cy="1728720"/>
            </a:xfrm>
          </p:grpSpPr>
          <p:sp>
            <p:nvSpPr>
              <p:cNvPr id="171" name="WordArt 30"/>
              <p:cNvSpPr txBox="1"/>
              <p:nvPr/>
            </p:nvSpPr>
            <p:spPr>
              <a:xfrm>
                <a:off x="6012000" y="4235760"/>
                <a:ext cx="3024000" cy="77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ый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режим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72" name="Picture 34" descr="j0344115"/>
              <p:cNvPicPr/>
              <p:nvPr/>
            </p:nvPicPr>
            <p:blipFill>
              <a:blip r:embed="rId3"/>
              <a:stretch/>
            </p:blipFill>
            <p:spPr>
              <a:xfrm>
                <a:off x="6737400" y="3284640"/>
                <a:ext cx="1571400" cy="97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Line 40"/>
            <p:cNvSpPr/>
            <p:nvPr/>
          </p:nvSpPr>
          <p:spPr>
            <a:xfrm>
              <a:off x="486108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42"/>
          <p:cNvGrpSpPr/>
          <p:nvPr/>
        </p:nvGrpSpPr>
        <p:grpSpPr>
          <a:xfrm>
            <a:off x="324000" y="3213000"/>
            <a:ext cx="3960360" cy="1737000"/>
            <a:chOff x="324000" y="3213000"/>
            <a:chExt cx="3960360" cy="1737000"/>
          </a:xfrm>
        </p:grpSpPr>
        <p:grpSp>
          <p:nvGrpSpPr>
            <p:cNvPr id="175" name="Group 33"/>
            <p:cNvGrpSpPr/>
            <p:nvPr/>
          </p:nvGrpSpPr>
          <p:grpSpPr>
            <a:xfrm>
              <a:off x="324000" y="3357720"/>
              <a:ext cx="1849320" cy="1592280"/>
              <a:chOff x="324000" y="3357720"/>
              <a:chExt cx="1849320" cy="1592280"/>
            </a:xfrm>
          </p:grpSpPr>
          <p:sp>
            <p:nvSpPr>
              <p:cNvPr id="176" name="WordArt 28"/>
              <p:cNvSpPr txBox="1"/>
              <p:nvPr/>
            </p:nvSpPr>
            <p:spPr>
              <a:xfrm>
                <a:off x="324000" y="4172040"/>
                <a:ext cx="1849320" cy="77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равления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77" name="Picture 31" descr="j0237940"/>
              <p:cNvPicPr/>
              <p:nvPr/>
            </p:nvPicPr>
            <p:blipFill>
              <a:blip r:embed="rId4"/>
              <a:stretch/>
            </p:blipFill>
            <p:spPr>
              <a:xfrm>
                <a:off x="684360" y="3357720"/>
                <a:ext cx="115092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Line 41"/>
            <p:cNvSpPr/>
            <p:nvPr/>
          </p:nvSpPr>
          <p:spPr>
            <a:xfrm flipH="1">
              <a:off x="241272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WordArt 20"/>
          <p:cNvSpPr txBox="1"/>
          <p:nvPr/>
        </p:nvSpPr>
        <p:spPr>
          <a:xfrm>
            <a:off x="127080" y="1427040"/>
            <a:ext cx="29509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л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337920" y="1003320"/>
            <a:ext cx="55846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Характеризует состав высши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осударственной власти, порядок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разования, организацию и поряд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заимодействия между собой 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асе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32"/>
          <p:cNvGrpSpPr/>
          <p:nvPr/>
        </p:nvGrpSpPr>
        <p:grpSpPr>
          <a:xfrm>
            <a:off x="218160" y="3079800"/>
            <a:ext cx="4098960" cy="3508200"/>
            <a:chOff x="218160" y="3079800"/>
            <a:chExt cx="4098960" cy="3508200"/>
          </a:xfrm>
        </p:grpSpPr>
        <p:sp>
          <p:nvSpPr>
            <p:cNvPr id="183" name="WordArt 28"/>
            <p:cNvSpPr txBox="1"/>
            <p:nvPr/>
          </p:nvSpPr>
          <p:spPr>
            <a:xfrm>
              <a:off x="826920" y="3079800"/>
              <a:ext cx="288144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sp>
          <p:nvSpPr>
            <p:cNvPr id="184" name="Text Box 29"/>
            <p:cNvSpPr/>
            <p:nvPr/>
          </p:nvSpPr>
          <p:spPr>
            <a:xfrm>
              <a:off x="218160" y="3933720"/>
              <a:ext cx="409896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где верхо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принадлежи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одному лицу,пользующе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муся ей по своему усмот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нию, по праву, которо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е делегировано ей, н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акой другой властью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31"/>
          <p:cNvGrpSpPr/>
          <p:nvPr/>
        </p:nvGrpSpPr>
        <p:grpSpPr>
          <a:xfrm>
            <a:off x="4538880" y="3068640"/>
            <a:ext cx="4481280" cy="3519360"/>
            <a:chOff x="4538880" y="3068640"/>
            <a:chExt cx="4481280" cy="3519360"/>
          </a:xfrm>
        </p:grpSpPr>
        <p:sp>
          <p:nvSpPr>
            <p:cNvPr id="186" name="WordArt 27"/>
            <p:cNvSpPr txBox="1"/>
            <p:nvPr/>
          </p:nvSpPr>
          <p:spPr>
            <a:xfrm>
              <a:off x="5267160" y="3068640"/>
              <a:ext cx="3024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87" name="Text Box 30"/>
            <p:cNvSpPr/>
            <p:nvPr/>
          </p:nvSpPr>
          <p:spPr>
            <a:xfrm>
              <a:off x="4538880" y="3933720"/>
              <a:ext cx="4481280" cy="2654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 где источни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ом власти является народ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ое большинство. Верхо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осуществляет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ся представительными ор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анами, избранными на оп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деленный срок народом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3203640" y="919080"/>
            <a:ext cx="2881080" cy="1789200"/>
            <a:chOff x="3203640" y="919080"/>
            <a:chExt cx="2881080" cy="1789200"/>
          </a:xfrm>
        </p:grpSpPr>
        <p:sp>
          <p:nvSpPr>
            <p:cNvPr id="190" name="WordArt 6"/>
            <p:cNvSpPr txBox="1"/>
            <p:nvPr/>
          </p:nvSpPr>
          <p:spPr>
            <a:xfrm>
              <a:off x="3203640" y="1936800"/>
              <a:ext cx="288108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191" name="Picture 11" descr="j0237940"/>
            <p:cNvPicPr/>
            <p:nvPr/>
          </p:nvPicPr>
          <p:blipFill>
            <a:blip r:embed="rId1"/>
            <a:stretch/>
          </p:blipFill>
          <p:spPr>
            <a:xfrm>
              <a:off x="3973320" y="919080"/>
              <a:ext cx="134100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13"/>
          <p:cNvSpPr/>
          <p:nvPr/>
        </p:nvSpPr>
        <p:spPr>
          <a:xfrm>
            <a:off x="826920" y="3030480"/>
            <a:ext cx="7488360" cy="3141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1.Во главе Монар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2.Власть передается по насле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3.Не несет ответственности за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4.Отсутствует разделение вл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5.Единолично представляет свое государ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6.Пользуется Титу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7.Получает значительное содержание из каз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492360" y="620640"/>
            <a:ext cx="2160720" cy="1582560"/>
            <a:chOff x="3492360" y="620640"/>
            <a:chExt cx="2160720" cy="1582560"/>
          </a:xfrm>
        </p:grpSpPr>
        <p:sp>
          <p:nvSpPr>
            <p:cNvPr id="195" name="WordArt 4"/>
            <p:cNvSpPr txBox="1"/>
            <p:nvPr/>
          </p:nvSpPr>
          <p:spPr>
            <a:xfrm>
              <a:off x="3492360" y="1521000"/>
              <a:ext cx="2160720" cy="68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196" name="Picture 5" descr="j0237940"/>
            <p:cNvPicPr/>
            <p:nvPr/>
          </p:nvPicPr>
          <p:blipFill>
            <a:blip r:embed="rId1"/>
            <a:stretch/>
          </p:blipFill>
          <p:spPr>
            <a:xfrm>
              <a:off x="4069800" y="620640"/>
              <a:ext cx="1005840" cy="83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9"/>
          <p:cNvGrpSpPr/>
          <p:nvPr/>
        </p:nvGrpSpPr>
        <p:grpSpPr>
          <a:xfrm>
            <a:off x="140760" y="836280"/>
            <a:ext cx="3711600" cy="3237840"/>
            <a:chOff x="140760" y="836280"/>
            <a:chExt cx="3711600" cy="3237840"/>
          </a:xfrm>
        </p:grpSpPr>
        <p:grpSp>
          <p:nvGrpSpPr>
            <p:cNvPr id="198" name="Group 14"/>
            <p:cNvGrpSpPr/>
            <p:nvPr/>
          </p:nvGrpSpPr>
          <p:grpSpPr>
            <a:xfrm>
              <a:off x="140760" y="1785960"/>
              <a:ext cx="3193560" cy="2288160"/>
              <a:chOff x="140760" y="1785960"/>
              <a:chExt cx="3193560" cy="2288160"/>
            </a:xfrm>
          </p:grpSpPr>
          <p:sp>
            <p:nvSpPr>
              <p:cNvPr id="199" name="WordArt 7"/>
              <p:cNvSpPr txBox="1"/>
              <p:nvPr/>
            </p:nvSpPr>
            <p:spPr>
              <a:xfrm>
                <a:off x="299880" y="1785960"/>
                <a:ext cx="2873520" cy="74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неограниченная,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абсолют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0" name="Text Box 11"/>
              <p:cNvSpPr/>
              <p:nvPr/>
            </p:nvSpPr>
            <p:spPr>
              <a:xfrm>
                <a:off x="140760" y="2882880"/>
                <a:ext cx="3193560" cy="119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Монарх пользуется всей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полнотой власти, не за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исит от других органов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ласти.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AutoShape 16"/>
            <p:cNvSpPr/>
            <p:nvPr/>
          </p:nvSpPr>
          <p:spPr>
            <a:xfrm flipH="1" flipV="1">
              <a:off x="2267640" y="83592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4490280" y="836280"/>
            <a:ext cx="4408200" cy="3237840"/>
            <a:chOff x="4490280" y="836280"/>
            <a:chExt cx="4408200" cy="3237840"/>
          </a:xfrm>
        </p:grpSpPr>
        <p:grpSp>
          <p:nvGrpSpPr>
            <p:cNvPr id="203" name="Group 15"/>
            <p:cNvGrpSpPr/>
            <p:nvPr/>
          </p:nvGrpSpPr>
          <p:grpSpPr>
            <a:xfrm>
              <a:off x="4490280" y="1844640"/>
              <a:ext cx="4408200" cy="2229480"/>
              <a:chOff x="4490280" y="1844640"/>
              <a:chExt cx="4408200" cy="2229480"/>
            </a:xfrm>
          </p:grpSpPr>
          <p:sp>
            <p:nvSpPr>
              <p:cNvPr id="204" name="WordArt 9"/>
              <p:cNvSpPr txBox="1"/>
              <p:nvPr/>
            </p:nvSpPr>
            <p:spPr>
              <a:xfrm>
                <a:off x="5940360" y="1844640"/>
                <a:ext cx="295272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конституцион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5" name="Text Box 13"/>
              <p:cNvSpPr/>
              <p:nvPr/>
            </p:nvSpPr>
            <p:spPr>
              <a:xfrm>
                <a:off x="4490280" y="2882880"/>
                <a:ext cx="440820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Монарх правит посредством, или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при обязательном содействии ор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ганов, или властей существующих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независимо от монарха.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6" name="AutoShape 17"/>
            <p:cNvSpPr/>
            <p:nvPr/>
          </p:nvSpPr>
          <p:spPr>
            <a:xfrm flipV="1">
              <a:off x="5292720" y="83556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Group 28"/>
          <p:cNvGrpSpPr/>
          <p:nvPr/>
        </p:nvGrpSpPr>
        <p:grpSpPr>
          <a:xfrm>
            <a:off x="4573440" y="4221000"/>
            <a:ext cx="4573800" cy="2484720"/>
            <a:chOff x="4573440" y="4221000"/>
            <a:chExt cx="4573800" cy="2484720"/>
          </a:xfrm>
        </p:grpSpPr>
        <p:grpSp>
          <p:nvGrpSpPr>
            <p:cNvPr id="208" name="Group 22"/>
            <p:cNvGrpSpPr/>
            <p:nvPr/>
          </p:nvGrpSpPr>
          <p:grpSpPr>
            <a:xfrm>
              <a:off x="4787640" y="4437000"/>
              <a:ext cx="4359600" cy="2268720"/>
              <a:chOff x="4787640" y="4437000"/>
              <a:chExt cx="4359600" cy="2268720"/>
            </a:xfrm>
          </p:grpSpPr>
          <p:sp>
            <p:nvSpPr>
              <p:cNvPr id="209" name="WordArt 8"/>
              <p:cNvSpPr txBox="1"/>
              <p:nvPr/>
            </p:nvSpPr>
            <p:spPr>
              <a:xfrm>
                <a:off x="5508720" y="4437000"/>
                <a:ext cx="276372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дуалистическ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0" name="Text Box 20"/>
              <p:cNvSpPr/>
              <p:nvPr/>
            </p:nvSpPr>
            <p:spPr>
              <a:xfrm>
                <a:off x="4787640" y="4782960"/>
                <a:ext cx="4359600" cy="19227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Пруссия, Италия (в прошлом)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У монарха исполнитель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власть, формирует правите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льство, право Вето и роспус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ка парламента.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1" name="Line 25"/>
            <p:cNvSpPr/>
            <p:nvPr/>
          </p:nvSpPr>
          <p:spPr>
            <a:xfrm>
              <a:off x="4573440" y="4221000"/>
              <a:ext cx="935280" cy="28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Group 27"/>
          <p:cNvGrpSpPr/>
          <p:nvPr/>
        </p:nvGrpSpPr>
        <p:grpSpPr>
          <a:xfrm>
            <a:off x="109800" y="4221000"/>
            <a:ext cx="4533120" cy="2484720"/>
            <a:chOff x="109800" y="4221000"/>
            <a:chExt cx="4533120" cy="2484720"/>
          </a:xfrm>
        </p:grpSpPr>
        <p:grpSp>
          <p:nvGrpSpPr>
            <p:cNvPr id="213" name="Group 23"/>
            <p:cNvGrpSpPr/>
            <p:nvPr/>
          </p:nvGrpSpPr>
          <p:grpSpPr>
            <a:xfrm>
              <a:off x="109800" y="4365720"/>
              <a:ext cx="4457160" cy="2340000"/>
              <a:chOff x="109800" y="4365720"/>
              <a:chExt cx="4457160" cy="2340000"/>
            </a:xfrm>
          </p:grpSpPr>
          <p:sp>
            <p:nvSpPr>
              <p:cNvPr id="214" name="WordArt 10"/>
              <p:cNvSpPr txBox="1"/>
              <p:nvPr/>
            </p:nvSpPr>
            <p:spPr>
              <a:xfrm>
                <a:off x="984240" y="4365720"/>
                <a:ext cx="2706840" cy="30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арламентар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109800" y="4782960"/>
                <a:ext cx="4457160" cy="19227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Англия, Бельгия, Швеци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Монарх–«Царствует, но не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правит», символ государства,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имеет отлагательное Вето,ми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нистры зависят от парламента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6" name="Line 26"/>
            <p:cNvSpPr/>
            <p:nvPr/>
          </p:nvSpPr>
          <p:spPr>
            <a:xfrm flipH="1">
              <a:off x="3708000" y="4221000"/>
              <a:ext cx="934920" cy="28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3348000" y="620640"/>
            <a:ext cx="2376360" cy="1513080"/>
            <a:chOff x="3348000" y="620640"/>
            <a:chExt cx="2376360" cy="1513080"/>
          </a:xfrm>
        </p:grpSpPr>
        <p:sp>
          <p:nvSpPr>
            <p:cNvPr id="219" name="WordArt 26"/>
            <p:cNvSpPr txBox="1"/>
            <p:nvPr/>
          </p:nvSpPr>
          <p:spPr>
            <a:xfrm>
              <a:off x="3348000" y="1630440"/>
              <a:ext cx="237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pic>
          <p:nvPicPr>
            <p:cNvPr id="220" name="Picture 27" descr="j0346765"/>
            <p:cNvPicPr/>
            <p:nvPr/>
          </p:nvPicPr>
          <p:blipFill>
            <a:blip r:embed="rId1"/>
            <a:stretch/>
          </p:blipFill>
          <p:spPr>
            <a:xfrm>
              <a:off x="4046400" y="620640"/>
              <a:ext cx="97812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33"/>
          <p:cNvGrpSpPr/>
          <p:nvPr/>
        </p:nvGrpSpPr>
        <p:grpSpPr>
          <a:xfrm>
            <a:off x="108000" y="836280"/>
            <a:ext cx="4248000" cy="4526280"/>
            <a:chOff x="108000" y="836280"/>
            <a:chExt cx="4248000" cy="4526280"/>
          </a:xfrm>
        </p:grpSpPr>
        <p:sp>
          <p:nvSpPr>
            <p:cNvPr id="222" name="Text Box 9"/>
            <p:cNvSpPr/>
            <p:nvPr/>
          </p:nvSpPr>
          <p:spPr>
            <a:xfrm>
              <a:off x="108000" y="2708280"/>
              <a:ext cx="424800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Единство законодательной и исполнительной властей (назначается и контролиру-ется парламентом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С потерей парламентского большинства правительство уходит в отставку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AutoShape 10"/>
            <p:cNvSpPr/>
            <p:nvPr/>
          </p:nvSpPr>
          <p:spPr>
            <a:xfrm flipH="1" flipV="1">
              <a:off x="2267640" y="83592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WordArt 29"/>
            <p:cNvSpPr txBox="1"/>
            <p:nvPr/>
          </p:nvSpPr>
          <p:spPr>
            <a:xfrm>
              <a:off x="539640" y="2133720"/>
              <a:ext cx="3781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арламентарн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4494240" y="858600"/>
            <a:ext cx="4614840" cy="3772440"/>
            <a:chOff x="4494240" y="858600"/>
            <a:chExt cx="4614840" cy="3772440"/>
          </a:xfrm>
        </p:grpSpPr>
        <p:sp>
          <p:nvSpPr>
            <p:cNvPr id="226" name="Text Box 14"/>
            <p:cNvSpPr/>
            <p:nvPr/>
          </p:nvSpPr>
          <p:spPr>
            <a:xfrm>
              <a:off x="4494240" y="2708280"/>
              <a:ext cx="4614840" cy="192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Глава государства-глава пра-вительства, назначаемого с согласия парламента, может его распускать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Президент-символ нации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V="1">
              <a:off x="5292720" y="85788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WordArt 30"/>
            <p:cNvSpPr txBox="1"/>
            <p:nvPr/>
          </p:nvSpPr>
          <p:spPr>
            <a:xfrm>
              <a:off x="4871880" y="2155680"/>
              <a:ext cx="3372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резидентск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Text Box 31"/>
          <p:cNvSpPr/>
          <p:nvPr/>
        </p:nvSpPr>
        <p:spPr>
          <a:xfrm>
            <a:off x="-7920" y="5337000"/>
            <a:ext cx="46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устойчивость правитель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роза тирании большин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4864680" y="5332320"/>
            <a:ext cx="40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нфликты между ветв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Group 39"/>
          <p:cNvGrpSpPr/>
          <p:nvPr/>
        </p:nvGrpSpPr>
        <p:grpSpPr>
          <a:xfrm>
            <a:off x="4498920" y="4869000"/>
            <a:ext cx="4249800" cy="1007640"/>
            <a:chOff x="4498920" y="4869000"/>
            <a:chExt cx="4249800" cy="1007640"/>
          </a:xfrm>
        </p:grpSpPr>
        <p:sp>
          <p:nvSpPr>
            <p:cNvPr id="232" name="WordArt 36"/>
            <p:cNvSpPr txBox="1"/>
            <p:nvPr/>
          </p:nvSpPr>
          <p:spPr>
            <a:xfrm>
              <a:off x="5148360" y="4869000"/>
              <a:ext cx="280836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2700000"/>
                  </a:gradFill>
                  <a:latin typeface="Arial"/>
                </a:rPr>
                <a:t>смешан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 flipV="1">
              <a:off x="4498920" y="5300280"/>
              <a:ext cx="93672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38"/>
            <p:cNvSpPr/>
            <p:nvPr/>
          </p:nvSpPr>
          <p:spPr>
            <a:xfrm flipH="1" flipV="1">
              <a:off x="7812000" y="5300280"/>
              <a:ext cx="93672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Форма государственного устрой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640" y="765000"/>
            <a:ext cx="8799120" cy="2226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административно-территориальная организация г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дарственной власти, характер взаимо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государством и составляющими его частя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отдельными частями государства, межд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тральными и местными орган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3492360" y="3573360"/>
            <a:ext cx="2016360" cy="1290600"/>
            <a:chOff x="3492360" y="3573360"/>
            <a:chExt cx="2016360" cy="1290600"/>
          </a:xfrm>
        </p:grpSpPr>
        <p:sp>
          <p:nvSpPr>
            <p:cNvPr id="238" name="WordArt 12"/>
            <p:cNvSpPr txBox="1"/>
            <p:nvPr/>
          </p:nvSpPr>
          <p:spPr>
            <a:xfrm>
              <a:off x="3635280" y="4292640"/>
              <a:ext cx="1704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latin typeface="Impact"/>
                </a:rPr>
                <a:t>зависит</a:t>
              </a:r>
              <a:endPara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239" name="AutoShape 13"/>
            <p:cNvSpPr/>
            <p:nvPr/>
          </p:nvSpPr>
          <p:spPr>
            <a:xfrm>
              <a:off x="3492360" y="3573360"/>
              <a:ext cx="2016360" cy="576360"/>
            </a:xfrm>
            <a:prstGeom prst="upArrowCallout">
              <a:avLst>
                <a:gd name="adj1" fmla="val 61163"/>
                <a:gd name="adj2" fmla="val 60882"/>
                <a:gd name="adj3" fmla="val 33333"/>
                <a:gd name="adj4" fmla="val 106335"/>
              </a:avLst>
            </a:pr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" name="Group 17"/>
          <p:cNvGrpSpPr/>
          <p:nvPr/>
        </p:nvGrpSpPr>
        <p:grpSpPr>
          <a:xfrm>
            <a:off x="532440" y="3975120"/>
            <a:ext cx="3968280" cy="2406600"/>
            <a:chOff x="532440" y="3975120"/>
            <a:chExt cx="3968280" cy="2406600"/>
          </a:xfrm>
        </p:grpSpPr>
        <p:grpSp>
          <p:nvGrpSpPr>
            <p:cNvPr id="241" name="Group 6"/>
            <p:cNvGrpSpPr/>
            <p:nvPr/>
          </p:nvGrpSpPr>
          <p:grpSpPr>
            <a:xfrm>
              <a:off x="532440" y="3975120"/>
              <a:ext cx="1953000" cy="2336760"/>
              <a:chOff x="532440" y="3975120"/>
              <a:chExt cx="1953000" cy="2336760"/>
            </a:xfrm>
          </p:grpSpPr>
          <p:pic>
            <p:nvPicPr>
              <p:cNvPr id="242" name="Picture 4" descr="j0231137"/>
              <p:cNvPicPr/>
              <p:nvPr/>
            </p:nvPicPr>
            <p:blipFill>
              <a:blip r:embed="rId4"/>
              <a:stretch/>
            </p:blipFill>
            <p:spPr>
              <a:xfrm>
                <a:off x="709560" y="3975120"/>
                <a:ext cx="15984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5"/>
              <p:cNvSpPr/>
              <p:nvPr/>
            </p:nvSpPr>
            <p:spPr>
              <a:xfrm>
                <a:off x="532440" y="5486400"/>
                <a:ext cx="195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ублич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Власть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4" name="AutoShape 15"/>
            <p:cNvSpPr/>
            <p:nvPr/>
          </p:nvSpPr>
          <p:spPr>
            <a:xfrm>
              <a:off x="2484360" y="5084640"/>
              <a:ext cx="2016360" cy="1297080"/>
            </a:xfrm>
            <a:custGeom>
              <a:avLst/>
              <a:gdLst>
                <a:gd name="textAreaLeft" fmla="*/ 0 w 2016360"/>
                <a:gd name="textAreaRight" fmla="*/ 1729080 w 2016360"/>
                <a:gd name="textAreaTop" fmla="*/ 86544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4427640" y="4005360"/>
            <a:ext cx="4708080" cy="2376360"/>
            <a:chOff x="4427640" y="4005360"/>
            <a:chExt cx="4708080" cy="2376360"/>
          </a:xfrm>
        </p:grpSpPr>
        <p:grpSp>
          <p:nvGrpSpPr>
            <p:cNvPr id="246" name="Group 11"/>
            <p:cNvGrpSpPr/>
            <p:nvPr/>
          </p:nvGrpSpPr>
          <p:grpSpPr>
            <a:xfrm>
              <a:off x="6085440" y="4005360"/>
              <a:ext cx="3050280" cy="2275920"/>
              <a:chOff x="6085440" y="4005360"/>
              <a:chExt cx="3050280" cy="2275920"/>
            </a:xfrm>
          </p:grpSpPr>
          <p:pic>
            <p:nvPicPr>
              <p:cNvPr id="247" name="Picture 9" descr="j0309398"/>
              <p:cNvPicPr/>
              <p:nvPr/>
            </p:nvPicPr>
            <p:blipFill>
              <a:blip r:embed="rId5"/>
              <a:srcRect l="0" t="8868" r="0" b="20089"/>
              <a:stretch/>
            </p:blipFill>
            <p:spPr>
              <a:xfrm>
                <a:off x="6908760" y="4005360"/>
                <a:ext cx="1404720" cy="15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0"/>
              <p:cNvSpPr/>
              <p:nvPr/>
            </p:nvSpPr>
            <p:spPr>
              <a:xfrm>
                <a:off x="6085440" y="5455800"/>
                <a:ext cx="3050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Территориаль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организация.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9" name="AutoShape 16"/>
            <p:cNvSpPr/>
            <p:nvPr/>
          </p:nvSpPr>
          <p:spPr>
            <a:xfrm flipH="1">
              <a:off x="4427640" y="5084640"/>
              <a:ext cx="2016000" cy="1297080"/>
            </a:xfrm>
            <a:custGeom>
              <a:avLst/>
              <a:gdLst>
                <a:gd name="textAreaLeft" fmla="*/ 0 w 2016000"/>
                <a:gd name="textAreaRight" fmla="*/ 1728720 w 2016000"/>
                <a:gd name="textAreaTop" fmla="*/ 86544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Форма государственного устрой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1" name="Group 26"/>
          <p:cNvGrpSpPr/>
          <p:nvPr/>
        </p:nvGrpSpPr>
        <p:grpSpPr>
          <a:xfrm>
            <a:off x="878040" y="790560"/>
            <a:ext cx="8086320" cy="1922760"/>
            <a:chOff x="878040" y="790560"/>
            <a:chExt cx="8086320" cy="1922760"/>
          </a:xfrm>
        </p:grpSpPr>
        <p:sp>
          <p:nvSpPr>
            <p:cNvPr id="252" name="WordArt 18"/>
            <p:cNvSpPr txBox="1"/>
            <p:nvPr/>
          </p:nvSpPr>
          <p:spPr>
            <a:xfrm>
              <a:off x="878040" y="1546200"/>
              <a:ext cx="240984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1.Унитар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4280040" y="790560"/>
              <a:ext cx="4684320" cy="192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ное политическое единство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ные части государства н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обственного законода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ства, обладают равным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а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Group 25"/>
          <p:cNvGrpSpPr/>
          <p:nvPr/>
        </p:nvGrpSpPr>
        <p:grpSpPr>
          <a:xfrm>
            <a:off x="425520" y="2940120"/>
            <a:ext cx="8610480" cy="1557000"/>
            <a:chOff x="425520" y="2940120"/>
            <a:chExt cx="8610480" cy="1557000"/>
          </a:xfrm>
        </p:grpSpPr>
        <p:sp>
          <p:nvSpPr>
            <p:cNvPr id="255" name="WordArt 19"/>
            <p:cNvSpPr txBox="1"/>
            <p:nvPr/>
          </p:nvSpPr>
          <p:spPr>
            <a:xfrm>
              <a:off x="425520" y="3487680"/>
              <a:ext cx="33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2.Федератив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4210200" y="2940120"/>
              <a:ext cx="482580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юз ряда государств.Они сох-   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няют высшие органы власти,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ое законодательство, налог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ую систему и т.д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Group 24"/>
          <p:cNvGrpSpPr/>
          <p:nvPr/>
        </p:nvGrpSpPr>
        <p:grpSpPr>
          <a:xfrm>
            <a:off x="34920" y="4724280"/>
            <a:ext cx="8980560" cy="1922760"/>
            <a:chOff x="34920" y="4724280"/>
            <a:chExt cx="8980560" cy="1922760"/>
          </a:xfrm>
        </p:grpSpPr>
        <p:sp>
          <p:nvSpPr>
            <p:cNvPr id="258" name="WordArt 20"/>
            <p:cNvSpPr txBox="1"/>
            <p:nvPr/>
          </p:nvSpPr>
          <p:spPr>
            <a:xfrm>
              <a:off x="34920" y="5454720"/>
              <a:ext cx="4095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3.Конфедератив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4271760" y="4724280"/>
              <a:ext cx="4743720" cy="192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ударственно-правовые объе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нения суверенных государств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вои Конституции, бюд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жет. Самостоятельно выступаю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 международной арене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Руслан Комяков</dc:creator>
  <dc:description/>
  <dc:language>en-US</dc:language>
  <cp:lastModifiedBy>Admin</cp:lastModifiedBy>
  <dcterms:modified xsi:type="dcterms:W3CDTF">2012-06-19T16:48:52Z</dcterms:modified>
  <cp:revision>4</cp:revision>
  <dc:subject/>
  <dc:title>Форма государства. Политическая система обще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