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8.jpeg" ContentType="image/jpeg"/>
  <Override PartName="/ppt/media/image9.jpeg" ContentType="image/jpeg"/>
  <Override PartName="/ppt/media/image12.png" ContentType="image/png"/>
  <Override PartName="/ppt/media/explode.wav" ContentType="audio/x-wav"/>
  <Override PartName="/ppt/media/image7.jpeg" ContentType="image/jpeg"/>
  <Override PartName="/ppt/media/image15.wmf" ContentType="image/x-wmf"/>
  <Override PartName="/ppt/media/image5.wmf" ContentType="image/x-wmf"/>
  <Override PartName="/ppt/media/applause.wav" ContentType="audio/x-wav"/>
  <Override PartName="/ppt/media/image14.png" ContentType="image/png"/>
  <Override PartName="/ppt/media/image1.png" ContentType="image/png"/>
  <Override PartName="/ppt/media/drumroll.wav" ContentType="audio/x-wav"/>
  <Override PartName="/ppt/media/image3.jpeg" ContentType="image/jpeg"/>
  <Override PartName="/ppt/media/image2.jpeg" ContentType="image/jpeg"/>
  <Override PartName="/ppt/media/image4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1954-D89A-49E6-B8F8-547F4086A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4DF5-DA6C-4D00-B14C-52BAC4148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C9F7-0FB3-419D-A82D-946C1B68C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1F64-DD4E-489D-A101-B111B8B81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842AF-0512-462C-BF4C-C278099D1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FFAA1-2B3F-408A-860F-7185A3304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C92C9-2A42-462F-9262-DAB22E2CB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AA4B3-A624-4EFC-B357-B24B2F821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5655F-6304-4E2F-A70E-E97A96200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1C56C-275F-452B-BB80-EA34B9120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C2382-308D-4266-B043-5FF2C2A6A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5C73-E51A-44D5-AFCA-532FB328A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B9E41-004E-4397-8236-04546E92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F4C13-ABFC-4C9A-A115-5117517F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1F943-6853-44A9-8424-8C645AEE3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7E40C-ED6E-4B91-9FC4-268AB3F52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3C654-8E4E-47BB-81F0-2943AE811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477A-5242-4158-B84B-BB7806093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A90C-6F69-489F-A0B5-560EFF813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8FCF-15CF-459B-B33E-FDBF2C39E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D597-0C5C-4979-AC4C-A0D03C965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258F-6C6D-4138-83B6-A3F279D4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F0F9-176E-42EB-970F-CB4B368A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709E-7378-4F9F-90DB-96AB6DA6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2c86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9ea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b7b6a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DF505-A162-4D75-B0B9-01DDB3382B2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2c86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9ea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b7b6a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D6DB6-2D26-427D-82E1-8C3E0861F45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5.xml"/><Relationship Id="rId3" Type="http://schemas.openxmlformats.org/officeDocument/2006/relationships/slide" Target="slide18.xml"/><Relationship Id="rId4" Type="http://schemas.openxmlformats.org/officeDocument/2006/relationships/slide" Target="slide18.xml"/><Relationship Id="rId5" Type="http://schemas.openxmlformats.org/officeDocument/2006/relationships/slide" Target="slide19.xml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7.xml"/><Relationship Id="rId3" Type="http://schemas.openxmlformats.org/officeDocument/2006/relationships/slide" Target="slide16.xml"/><Relationship Id="rId4" Type="http://schemas.openxmlformats.org/officeDocument/2006/relationships/slide" Target="slide16.xml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6.xml"/><Relationship Id="rId3" Type="http://schemas.openxmlformats.org/officeDocument/2006/relationships/slide" Target="slide16.xml"/><Relationship Id="rId4" Type="http://schemas.openxmlformats.org/officeDocument/2006/relationships/slide" Target="slide17.xml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23.xml"/><Relationship Id="rId3" Type="http://schemas.openxmlformats.org/officeDocument/2006/relationships/slide" Target="slide24.xml"/><Relationship Id="rId4" Type="http://schemas.openxmlformats.org/officeDocument/2006/relationships/slide" Target="slide24.xm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21.xml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wmf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177480" y="189000"/>
            <a:ext cx="164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Основ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государств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и прав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WordArt 7"/>
          <p:cNvSpPr txBox="1"/>
          <p:nvPr/>
        </p:nvSpPr>
        <p:spPr>
          <a:xfrm>
            <a:off x="395280" y="1357200"/>
            <a:ext cx="8248680" cy="358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10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Форма государства.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Политическая систем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общест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pic>
        <p:nvPicPr>
          <p:cNvPr id="154" name="1.wma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5" name="Прямоугольник 4"/>
          <p:cNvSpPr/>
          <p:nvPr/>
        </p:nvSpPr>
        <p:spPr>
          <a:xfrm>
            <a:off x="3714840" y="0"/>
            <a:ext cx="2286000" cy="500040"/>
          </a:xfrm>
          <a:prstGeom prst="rect">
            <a:avLst/>
          </a:prstGeom>
          <a:solidFill>
            <a:srgbClr val="4c493d"/>
          </a:solidFill>
          <a:ln w="38160">
            <a:solidFill>
              <a:srgbClr val="e6e6e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56151"/>
                </a:solidFill>
                <a:latin typeface="Times New Roman"/>
              </a:rPr>
              <a:t>Prezentacii.c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3800" y="61920"/>
            <a:ext cx="863892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Политический режим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1" name="Line 7"/>
          <p:cNvSpPr/>
          <p:nvPr/>
        </p:nvSpPr>
        <p:spPr>
          <a:xfrm>
            <a:off x="4930920" y="620640"/>
            <a:ext cx="1368360" cy="5047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62" name="Group 11"/>
          <p:cNvGrpSpPr/>
          <p:nvPr/>
        </p:nvGrpSpPr>
        <p:grpSpPr>
          <a:xfrm>
            <a:off x="269280" y="620640"/>
            <a:ext cx="3960360" cy="2596320"/>
            <a:chOff x="269280" y="620640"/>
            <a:chExt cx="3960360" cy="2596320"/>
          </a:xfrm>
        </p:grpSpPr>
        <p:grpSp>
          <p:nvGrpSpPr>
            <p:cNvPr id="263" name="Group 8"/>
            <p:cNvGrpSpPr/>
            <p:nvPr/>
          </p:nvGrpSpPr>
          <p:grpSpPr>
            <a:xfrm>
              <a:off x="755640" y="620640"/>
              <a:ext cx="3455640" cy="1038240"/>
              <a:chOff x="755640" y="620640"/>
              <a:chExt cx="3455640" cy="1038240"/>
            </a:xfrm>
          </p:grpSpPr>
          <p:sp>
            <p:nvSpPr>
              <p:cNvPr id="264" name="WordArt 4"/>
              <p:cNvSpPr txBox="1"/>
              <p:nvPr/>
            </p:nvSpPr>
            <p:spPr>
              <a:xfrm>
                <a:off x="755640" y="1125360"/>
                <a:ext cx="2943360" cy="533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28440">
                      <a:solidFill>
                        <a:srgbClr val="ffffff"/>
                      </a:solidFill>
                      <a:miter/>
                    </a:ln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atin typeface="Arial"/>
                  </a:rPr>
                  <a:t>узкий смысл</a:t>
                </a:r>
                <a:endParaRPr b="1" lang="en-US" sz="1800" spc="1" strike="noStrike">
                  <a:ln w="2844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atin typeface="Arial"/>
                  <a:ea typeface="Arial"/>
                </a:endParaRPr>
              </a:p>
            </p:txBody>
          </p:sp>
          <p:sp>
            <p:nvSpPr>
              <p:cNvPr id="265" name="Line 6"/>
              <p:cNvSpPr/>
              <p:nvPr/>
            </p:nvSpPr>
            <p:spPr>
              <a:xfrm flipH="1">
                <a:off x="2842920" y="620640"/>
                <a:ext cx="1368360" cy="50472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266" name="Text Box 9"/>
            <p:cNvSpPr/>
            <p:nvPr/>
          </p:nvSpPr>
          <p:spPr>
            <a:xfrm>
              <a:off x="269280" y="2025720"/>
              <a:ext cx="396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Совокупность приемов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и способов государств-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енного руководства.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67" name="Group 12"/>
          <p:cNvGrpSpPr/>
          <p:nvPr/>
        </p:nvGrpSpPr>
        <p:grpSpPr>
          <a:xfrm>
            <a:off x="4356000" y="1125360"/>
            <a:ext cx="4716720" cy="2863440"/>
            <a:chOff x="4356000" y="1125360"/>
            <a:chExt cx="4716720" cy="2863440"/>
          </a:xfrm>
        </p:grpSpPr>
        <p:sp>
          <p:nvSpPr>
            <p:cNvPr id="268" name="WordArt 5"/>
            <p:cNvSpPr txBox="1"/>
            <p:nvPr/>
          </p:nvSpPr>
          <p:spPr>
            <a:xfrm>
              <a:off x="5369040" y="1125360"/>
              <a:ext cx="366696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4d0808"/>
                      </a:gs>
                      <a:gs pos="100000">
                        <a:srgbClr val="4d0808"/>
                      </a:gs>
                    </a:gsLst>
                    <a:lin ang="5400000"/>
                  </a:gradFill>
                  <a:latin typeface="Arial"/>
                </a:rPr>
                <a:t>широкий смысл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269" name="Text Box 10"/>
            <p:cNvSpPr/>
            <p:nvPr/>
          </p:nvSpPr>
          <p:spPr>
            <a:xfrm>
              <a:off x="4356000" y="1700280"/>
              <a:ext cx="47167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Уровень гарантированности прав и свобод граждан,ха-рактер отношения власти к правовым основам общест-ва.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70" name="Group 24"/>
          <p:cNvGrpSpPr/>
          <p:nvPr/>
        </p:nvGrpSpPr>
        <p:grpSpPr>
          <a:xfrm>
            <a:off x="250920" y="3687840"/>
            <a:ext cx="8642160" cy="533160"/>
            <a:chOff x="250920" y="3687840"/>
            <a:chExt cx="8642160" cy="533160"/>
          </a:xfrm>
        </p:grpSpPr>
        <p:sp>
          <p:nvSpPr>
            <p:cNvPr id="271" name="Line 13"/>
            <p:cNvSpPr/>
            <p:nvPr/>
          </p:nvSpPr>
          <p:spPr>
            <a:xfrm>
              <a:off x="250920" y="4149720"/>
              <a:ext cx="864216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2" name="WordArt 14"/>
            <p:cNvSpPr txBox="1"/>
            <p:nvPr/>
          </p:nvSpPr>
          <p:spPr>
            <a:xfrm>
              <a:off x="1187280" y="3687840"/>
              <a:ext cx="665820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ffffff"/>
                    </a:solidFill>
                    <a:miter/>
                  </a:ln>
                  <a:solidFill>
                    <a:srgbClr val="006600"/>
                  </a:solidFill>
                  <a:latin typeface="Arial"/>
                </a:rPr>
                <a:t>типы политических режимов</a:t>
              </a:r>
              <a:endPara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0066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73" name="Group 19"/>
          <p:cNvGrpSpPr/>
          <p:nvPr/>
        </p:nvGrpSpPr>
        <p:grpSpPr>
          <a:xfrm>
            <a:off x="2411280" y="4221000"/>
            <a:ext cx="4032000" cy="2521080"/>
            <a:chOff x="2411280" y="4221000"/>
            <a:chExt cx="4032000" cy="2521080"/>
          </a:xfrm>
        </p:grpSpPr>
        <p:sp>
          <p:nvSpPr>
            <p:cNvPr id="274" name="WordArt 16"/>
            <p:cNvSpPr txBox="1"/>
            <p:nvPr/>
          </p:nvSpPr>
          <p:spPr>
            <a:xfrm>
              <a:off x="2411280" y="5992920"/>
              <a:ext cx="4032000" cy="749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"/>
                </a:rPr>
                <a:t>авторитарный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275" name="Line 18"/>
            <p:cNvSpPr/>
            <p:nvPr/>
          </p:nvSpPr>
          <p:spPr>
            <a:xfrm>
              <a:off x="4427280" y="4221000"/>
              <a:ext cx="0" cy="18003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76" name="Group 22"/>
          <p:cNvGrpSpPr/>
          <p:nvPr/>
        </p:nvGrpSpPr>
        <p:grpSpPr>
          <a:xfrm>
            <a:off x="179280" y="4221000"/>
            <a:ext cx="4176360" cy="1325880"/>
            <a:chOff x="179280" y="4221000"/>
            <a:chExt cx="4176360" cy="1325880"/>
          </a:xfrm>
        </p:grpSpPr>
        <p:sp>
          <p:nvSpPr>
            <p:cNvPr id="277" name="WordArt 15"/>
            <p:cNvSpPr txBox="1"/>
            <p:nvPr/>
          </p:nvSpPr>
          <p:spPr>
            <a:xfrm>
              <a:off x="179280" y="4797360"/>
              <a:ext cx="4032360" cy="74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5400000"/>
                  </a:gradFill>
                  <a:latin typeface="Arial"/>
                </a:rPr>
                <a:t>демократический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278" name="Line 20"/>
            <p:cNvSpPr/>
            <p:nvPr/>
          </p:nvSpPr>
          <p:spPr>
            <a:xfrm flipH="1">
              <a:off x="2268000" y="4221000"/>
              <a:ext cx="2087640" cy="6480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79" name="Group 23"/>
          <p:cNvGrpSpPr/>
          <p:nvPr/>
        </p:nvGrpSpPr>
        <p:grpSpPr>
          <a:xfrm>
            <a:off x="4500720" y="4221000"/>
            <a:ext cx="4103640" cy="1325880"/>
            <a:chOff x="4500720" y="4221000"/>
            <a:chExt cx="4103640" cy="1325880"/>
          </a:xfrm>
        </p:grpSpPr>
        <p:sp>
          <p:nvSpPr>
            <p:cNvPr id="280" name="WordArt 17"/>
            <p:cNvSpPr txBox="1"/>
            <p:nvPr/>
          </p:nvSpPr>
          <p:spPr>
            <a:xfrm>
              <a:off x="4572000" y="4797360"/>
              <a:ext cx="4032360" cy="74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atin typeface="Arial"/>
                </a:rPr>
                <a:t>тоталитарный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281" name="Line 21"/>
            <p:cNvSpPr/>
            <p:nvPr/>
          </p:nvSpPr>
          <p:spPr>
            <a:xfrm>
              <a:off x="4500720" y="4221000"/>
              <a:ext cx="2087280" cy="6480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53800" y="61920"/>
            <a:ext cx="863892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Политический режим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3" name="WordArt 16"/>
          <p:cNvSpPr txBox="1"/>
          <p:nvPr/>
        </p:nvSpPr>
        <p:spPr>
          <a:xfrm>
            <a:off x="468360" y="3400560"/>
            <a:ext cx="4032360" cy="74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авторитарный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84" name="WordArt 22"/>
          <p:cNvSpPr txBox="1"/>
          <p:nvPr/>
        </p:nvSpPr>
        <p:spPr>
          <a:xfrm>
            <a:off x="468360" y="5445000"/>
            <a:ext cx="4032360" cy="74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тоталитарный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85" name="Text Box 24"/>
          <p:cNvSpPr/>
          <p:nvPr/>
        </p:nvSpPr>
        <p:spPr>
          <a:xfrm>
            <a:off x="689040" y="2492280"/>
            <a:ext cx="7797600" cy="3933360"/>
          </a:xfrm>
          <a:prstGeom prst="rect">
            <a:avLst/>
          </a:prstGeom>
          <a:solidFill>
            <a:srgbClr val="ffffff"/>
          </a:solidFill>
          <a:ln w="763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2d25"/>
                </a:solidFill>
                <a:latin typeface="Times New Roman"/>
              </a:rPr>
              <a:t>1.Выборный законодательный орган вла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2d25"/>
                </a:solidFill>
                <a:latin typeface="Times New Roman"/>
              </a:rPr>
              <a:t>2.Конституционные гарантии политических 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2d25"/>
                </a:solidFill>
                <a:latin typeface="Times New Roman"/>
              </a:rPr>
              <a:t>социально-экономических прав для всех со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2d25"/>
                </a:solidFill>
                <a:latin typeface="Times New Roman"/>
              </a:rPr>
              <a:t>циальных слоев общест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2d25"/>
                </a:solidFill>
                <a:latin typeface="Times New Roman"/>
              </a:rPr>
              <a:t>3.Прямое участие населения в решении  госу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2d25"/>
                </a:solidFill>
                <a:latin typeface="Times New Roman"/>
              </a:rPr>
              <a:t>дарственных вопрос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2d25"/>
                </a:solidFill>
                <a:latin typeface="Times New Roman"/>
              </a:rPr>
              <a:t>4.Различные формы собствен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2d25"/>
                </a:solidFill>
                <a:latin typeface="Times New Roman"/>
              </a:rPr>
              <a:t>5.Многопартийнос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2d25"/>
                </a:solidFill>
                <a:latin typeface="Times New Roman"/>
              </a:rPr>
              <a:t>6.Идеологический и политический плюрализ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86" name="Group 26"/>
          <p:cNvGrpSpPr/>
          <p:nvPr/>
        </p:nvGrpSpPr>
        <p:grpSpPr>
          <a:xfrm>
            <a:off x="2050920" y="907920"/>
            <a:ext cx="5616720" cy="1263960"/>
            <a:chOff x="2050920" y="907920"/>
            <a:chExt cx="5616720" cy="1263960"/>
          </a:xfrm>
        </p:grpSpPr>
        <p:sp>
          <p:nvSpPr>
            <p:cNvPr id="287" name="WordArt 19"/>
            <p:cNvSpPr txBox="1"/>
            <p:nvPr/>
          </p:nvSpPr>
          <p:spPr>
            <a:xfrm>
              <a:off x="3635280" y="1165320"/>
              <a:ext cx="4032360" cy="749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5400000"/>
                  </a:gradFill>
                  <a:latin typeface="Arial"/>
                </a:rPr>
                <a:t>демократический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pic>
          <p:nvPicPr>
            <p:cNvPr id="288" name="Picture 25" descr="j0297513"/>
            <p:cNvPicPr/>
            <p:nvPr/>
          </p:nvPicPr>
          <p:blipFill>
            <a:blip r:embed="rId1"/>
            <a:stretch/>
          </p:blipFill>
          <p:spPr>
            <a:xfrm>
              <a:off x="2050920" y="907920"/>
              <a:ext cx="1440000" cy="126396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53800" y="61920"/>
            <a:ext cx="863892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Политический режим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0" name="WordArt 3"/>
          <p:cNvSpPr txBox="1"/>
          <p:nvPr/>
        </p:nvSpPr>
        <p:spPr>
          <a:xfrm>
            <a:off x="2484360" y="476280"/>
            <a:ext cx="4032360" cy="74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авторитарный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91" name="Text Box 5"/>
          <p:cNvSpPr/>
          <p:nvPr/>
        </p:nvSpPr>
        <p:spPr>
          <a:xfrm>
            <a:off x="395280" y="1268280"/>
            <a:ext cx="8424720" cy="3933360"/>
          </a:xfrm>
          <a:prstGeom prst="rect">
            <a:avLst/>
          </a:prstGeom>
          <a:solidFill>
            <a:srgbClr val="ffffff"/>
          </a:solidFill>
          <a:ln w="763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2d25"/>
                </a:solidFill>
                <a:latin typeface="Times New Roman"/>
              </a:rPr>
              <a:t>1.Господство одной политической партии, движе-ния, групп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2d25"/>
                </a:solidFill>
                <a:latin typeface="Times New Roman"/>
              </a:rPr>
              <a:t>2.Одна «официальная» идеолог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2d25"/>
                </a:solidFill>
                <a:latin typeface="Times New Roman"/>
              </a:rPr>
              <a:t>3.Одна форма собствен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2d25"/>
                </a:solidFill>
                <a:latin typeface="Times New Roman"/>
              </a:rPr>
              <a:t>4.Сведение к минимуму прав и свобод гражда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2d25"/>
                </a:solidFill>
                <a:latin typeface="Times New Roman"/>
              </a:rPr>
              <a:t>5.Резкое расслоение насел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2d25"/>
                </a:solidFill>
                <a:latin typeface="Times New Roman"/>
              </a:rPr>
              <a:t>6.Низкий уровень жизни насел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2d25"/>
                </a:solidFill>
                <a:latin typeface="Times New Roman"/>
              </a:rPr>
              <a:t>7.Акцент на карательные меры и принужде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2d25"/>
                </a:solidFill>
                <a:latin typeface="Times New Roman"/>
              </a:rPr>
              <a:t>8.Агрессивность во внешней политик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92" name="Group 11"/>
          <p:cNvGrpSpPr/>
          <p:nvPr/>
        </p:nvGrpSpPr>
        <p:grpSpPr>
          <a:xfrm>
            <a:off x="441360" y="5229360"/>
            <a:ext cx="8448480" cy="1293480"/>
            <a:chOff x="441360" y="5229360"/>
            <a:chExt cx="8448480" cy="1293480"/>
          </a:xfrm>
        </p:grpSpPr>
        <p:sp>
          <p:nvSpPr>
            <p:cNvPr id="293" name="WordArt 4"/>
            <p:cNvSpPr txBox="1"/>
            <p:nvPr/>
          </p:nvSpPr>
          <p:spPr>
            <a:xfrm>
              <a:off x="2649600" y="5229360"/>
              <a:ext cx="4032360" cy="749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atin typeface="Arial"/>
                </a:rPr>
                <a:t>тоталитарный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294" name="Text Box 10"/>
            <p:cNvSpPr/>
            <p:nvPr/>
          </p:nvSpPr>
          <p:spPr>
            <a:xfrm>
              <a:off x="441360" y="6002280"/>
              <a:ext cx="8448480" cy="520560"/>
            </a:xfrm>
            <a:prstGeom prst="rect">
              <a:avLst/>
            </a:prstGeom>
            <a:solidFill>
              <a:srgbClr val="2f2d25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Tahoma"/>
                </a:rPr>
                <a:t>+Тотальный контроль за жизнью общества.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53800" y="61920"/>
            <a:ext cx="863892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.Политическая система общества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6" name="WordArt 3"/>
          <p:cNvSpPr txBox="1"/>
          <p:nvPr/>
        </p:nvSpPr>
        <p:spPr>
          <a:xfrm>
            <a:off x="1913040" y="1700280"/>
            <a:ext cx="5553000" cy="1020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2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литическая 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истема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grpSp>
        <p:nvGrpSpPr>
          <p:cNvPr id="297" name="Group 17"/>
          <p:cNvGrpSpPr/>
          <p:nvPr/>
        </p:nvGrpSpPr>
        <p:grpSpPr>
          <a:xfrm>
            <a:off x="684360" y="2416320"/>
            <a:ext cx="3809520" cy="1966680"/>
            <a:chOff x="684360" y="2416320"/>
            <a:chExt cx="3809520" cy="1966680"/>
          </a:xfrm>
        </p:grpSpPr>
        <p:sp>
          <p:nvSpPr>
            <p:cNvPr id="298" name="WordArt 5"/>
            <p:cNvSpPr txBox="1"/>
            <p:nvPr/>
          </p:nvSpPr>
          <p:spPr>
            <a:xfrm>
              <a:off x="684360" y="3330720"/>
              <a:ext cx="2743200" cy="1052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ffffcc"/>
                    </a:solidFill>
                    <a:miter/>
                  </a:ln>
                  <a:solidFill>
                    <a:srgbClr val="000099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"/>
                </a:rPr>
                <a:t>политические</a:t>
              </a:r>
              <a:endParaRPr b="1" i="1" lang="en-US" sz="1800" spc="1" strike="noStrike">
                <a:ln w="19080">
                  <a:solidFill>
                    <a:srgbClr val="ffffcc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ffffcc"/>
                    </a:solidFill>
                    <a:miter/>
                  </a:ln>
                  <a:solidFill>
                    <a:srgbClr val="000099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"/>
                </a:rPr>
                <a:t>отношения</a:t>
              </a:r>
              <a:endParaRPr b="1" i="1" lang="en-US" sz="1800" spc="1" strike="noStrike">
                <a:ln w="19080">
                  <a:solidFill>
                    <a:srgbClr val="ffffcc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299" name="Line 6"/>
            <p:cNvSpPr/>
            <p:nvPr/>
          </p:nvSpPr>
          <p:spPr>
            <a:xfrm flipH="1">
              <a:off x="3350880" y="2416320"/>
              <a:ext cx="1143000" cy="9144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00" name="Group 20"/>
          <p:cNvGrpSpPr/>
          <p:nvPr/>
        </p:nvGrpSpPr>
        <p:grpSpPr>
          <a:xfrm>
            <a:off x="4494240" y="2416320"/>
            <a:ext cx="3886200" cy="1966680"/>
            <a:chOff x="4494240" y="2416320"/>
            <a:chExt cx="3886200" cy="1966680"/>
          </a:xfrm>
        </p:grpSpPr>
        <p:sp>
          <p:nvSpPr>
            <p:cNvPr id="301" name="WordArt 8"/>
            <p:cNvSpPr txBox="1"/>
            <p:nvPr/>
          </p:nvSpPr>
          <p:spPr>
            <a:xfrm>
              <a:off x="5637240" y="3330720"/>
              <a:ext cx="2743200" cy="1052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ffffcc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"/>
                </a:rPr>
                <a:t>политические</a:t>
              </a:r>
              <a:endParaRPr b="1" i="1" lang="en-US" sz="1800" spc="1" strike="noStrike">
                <a:ln w="19080">
                  <a:solidFill>
                    <a:srgbClr val="ffffcc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ffffcc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"/>
                </a:rPr>
                <a:t>взгляды</a:t>
              </a:r>
              <a:endParaRPr b="1" i="1" lang="en-US" sz="1800" spc="1" strike="noStrike">
                <a:ln w="19080">
                  <a:solidFill>
                    <a:srgbClr val="ffffcc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302" name="Line 9"/>
            <p:cNvSpPr/>
            <p:nvPr/>
          </p:nvSpPr>
          <p:spPr>
            <a:xfrm>
              <a:off x="4494240" y="2416320"/>
              <a:ext cx="1143000" cy="9144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03" name="Group 18"/>
          <p:cNvGrpSpPr/>
          <p:nvPr/>
        </p:nvGrpSpPr>
        <p:grpSpPr>
          <a:xfrm>
            <a:off x="1674720" y="2416320"/>
            <a:ext cx="2819520" cy="3719520"/>
            <a:chOff x="1674720" y="2416320"/>
            <a:chExt cx="2819520" cy="3719520"/>
          </a:xfrm>
        </p:grpSpPr>
        <p:sp>
          <p:nvSpPr>
            <p:cNvPr id="304" name="WordArt 11"/>
            <p:cNvSpPr txBox="1"/>
            <p:nvPr/>
          </p:nvSpPr>
          <p:spPr>
            <a:xfrm>
              <a:off x="1674720" y="5083200"/>
              <a:ext cx="2743200" cy="1052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ffffcc"/>
                    </a:solidFill>
                    <a:miter/>
                  </a:ln>
                  <a:solidFill>
                    <a:srgbClr val="ffcc00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"/>
                </a:rPr>
                <a:t>политические</a:t>
              </a:r>
              <a:endParaRPr b="1" i="1" lang="en-US" sz="1800" spc="1" strike="noStrike">
                <a:ln w="19080">
                  <a:solidFill>
                    <a:srgbClr val="ffffcc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ffffcc"/>
                    </a:solidFill>
                    <a:miter/>
                  </a:ln>
                  <a:solidFill>
                    <a:srgbClr val="ffcc00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"/>
                </a:rPr>
                <a:t>организации</a:t>
              </a:r>
              <a:endParaRPr b="1" i="1" lang="en-US" sz="1800" spc="1" strike="noStrike">
                <a:ln w="19080">
                  <a:solidFill>
                    <a:srgbClr val="ffffcc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305" name="Line 12"/>
            <p:cNvSpPr/>
            <p:nvPr/>
          </p:nvSpPr>
          <p:spPr>
            <a:xfrm flipH="1">
              <a:off x="3046320" y="2416320"/>
              <a:ext cx="1447920" cy="2590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06" name="Group 19"/>
          <p:cNvGrpSpPr/>
          <p:nvPr/>
        </p:nvGrpSpPr>
        <p:grpSpPr>
          <a:xfrm>
            <a:off x="4500720" y="2421000"/>
            <a:ext cx="2971800" cy="3719520"/>
            <a:chOff x="4500720" y="2421000"/>
            <a:chExt cx="2971800" cy="3719520"/>
          </a:xfrm>
        </p:grpSpPr>
        <p:sp>
          <p:nvSpPr>
            <p:cNvPr id="307" name="WordArt 14"/>
            <p:cNvSpPr txBox="1"/>
            <p:nvPr/>
          </p:nvSpPr>
          <p:spPr>
            <a:xfrm>
              <a:off x="4729320" y="5087880"/>
              <a:ext cx="2743200" cy="1052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ffffcc"/>
                    </a:solidFill>
                    <a:miter/>
                  </a:ln>
                  <a:solidFill>
                    <a:srgbClr val="33cc33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"/>
                </a:rPr>
                <a:t>политические</a:t>
              </a:r>
              <a:endParaRPr b="1" i="1" lang="en-US" sz="1800" spc="1" strike="noStrike">
                <a:ln w="19080">
                  <a:solidFill>
                    <a:srgbClr val="ffffcc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ffffcc"/>
                    </a:solidFill>
                    <a:miter/>
                  </a:ln>
                  <a:solidFill>
                    <a:srgbClr val="33cc33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"/>
                </a:rPr>
                <a:t>нормы</a:t>
              </a:r>
              <a:endParaRPr b="1" i="1" lang="en-US" sz="1800" spc="1" strike="noStrike">
                <a:ln w="19080">
                  <a:solidFill>
                    <a:srgbClr val="ffffcc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308" name="Line 15"/>
            <p:cNvSpPr/>
            <p:nvPr/>
          </p:nvSpPr>
          <p:spPr>
            <a:xfrm>
              <a:off x="4500720" y="2421000"/>
              <a:ext cx="1447920" cy="2590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09" name="Rectangle 22"/>
          <p:cNvSpPr/>
          <p:nvPr/>
        </p:nvSpPr>
        <p:spPr>
          <a:xfrm>
            <a:off x="308160" y="2473560"/>
            <a:ext cx="8608680" cy="228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3366"/>
                </a:solidFill>
                <a:uFillTx/>
                <a:latin typeface="Times New Roman"/>
              </a:rPr>
              <a:t>Политическая </a:t>
            </a:r>
            <a:r>
              <a:rPr b="1" lang="ru-RU" sz="2400" spc="-1" strike="noStrike" u="sng">
                <a:solidFill>
                  <a:srgbClr val="993366"/>
                </a:solidFill>
                <a:uFillTx/>
                <a:latin typeface="Times New Roman"/>
              </a:rPr>
              <a:t>система</a:t>
            </a:r>
            <a:r>
              <a:rPr b="1" lang="en-US" sz="2400" spc="-1" strike="noStrike" u="sng">
                <a:solidFill>
                  <a:srgbClr val="993366"/>
                </a:solidFill>
                <a:uFillTx/>
                <a:latin typeface="Times New Roman"/>
              </a:rPr>
              <a:t> общества</a:t>
            </a:r>
            <a:r>
              <a:rPr b="1" lang="ru-RU" sz="2400" spc="-1" strike="noStrike">
                <a:solidFill>
                  <a:srgbClr val="2f2d25"/>
                </a:solidFill>
                <a:latin typeface="Times New Roman"/>
              </a:rPr>
              <a:t> -</a:t>
            </a:r>
            <a:r>
              <a:rPr b="1" lang="en-US" sz="2400" spc="-1" strike="noStrike">
                <a:solidFill>
                  <a:srgbClr val="2f2d25"/>
                </a:solidFill>
                <a:latin typeface="Times New Roman"/>
              </a:rPr>
              <a:t> система политических уч</a:t>
            </a:r>
            <a:r>
              <a:rPr b="1" lang="ru-RU" sz="2400" spc="-1" strike="noStrike">
                <a:solidFill>
                  <a:srgbClr val="2f2d25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d25"/>
                </a:solidFill>
                <a:latin typeface="Times New Roman"/>
              </a:rPr>
              <a:t>реждений государств</a:t>
            </a:r>
            <a:r>
              <a:rPr b="1" lang="ru-RU" sz="2400" spc="-1" strike="noStrike">
                <a:solidFill>
                  <a:srgbClr val="2f2d25"/>
                </a:solidFill>
                <a:latin typeface="Times New Roman"/>
              </a:rPr>
              <a:t>а.В</a:t>
            </a:r>
            <a:r>
              <a:rPr b="1" lang="en-US" sz="2400" spc="-1" strike="noStrike">
                <a:solidFill>
                  <a:srgbClr val="2f2d25"/>
                </a:solidFill>
                <a:latin typeface="Times New Roman"/>
              </a:rPr>
              <a:t>ключает в себя партии, профсоюзы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d25"/>
                </a:solidFill>
                <a:latin typeface="Times New Roman"/>
              </a:rPr>
              <a:t>церковь и др. организации и движения, преследующие поли</a:t>
            </a:r>
            <a:r>
              <a:rPr b="1" lang="ru-RU" sz="2400" spc="-1" strike="noStrike">
                <a:solidFill>
                  <a:srgbClr val="2f2d25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d25"/>
                </a:solidFill>
                <a:latin typeface="Times New Roman"/>
              </a:rPr>
              <a:t>тические цели, а также нормы, политические традиции и ус</a:t>
            </a:r>
            <a:r>
              <a:rPr b="1" lang="ru-RU" sz="2400" spc="-1" strike="noStrike">
                <a:solidFill>
                  <a:srgbClr val="2f2d25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d25"/>
                </a:solidFill>
                <a:latin typeface="Times New Roman"/>
              </a:rPr>
              <a:t>тановки, </a:t>
            </a:r>
            <a:r>
              <a:rPr b="1" lang="ru-RU" sz="2400" spc="-1" strike="noStrike">
                <a:solidFill>
                  <a:srgbClr val="2f2d25"/>
                </a:solidFill>
                <a:latin typeface="Times New Roman"/>
              </a:rPr>
              <a:t>связывающие политические организации</a:t>
            </a:r>
            <a:r>
              <a:rPr b="1" lang="en-US" sz="2400" spc="-1" strike="noStrike">
                <a:solidFill>
                  <a:srgbClr val="2f2d25"/>
                </a:solidFill>
                <a:latin typeface="Times New Roman"/>
              </a:rPr>
              <a:t> в систе</a:t>
            </a:r>
            <a:r>
              <a:rPr b="1" lang="ru-RU" sz="2400" spc="-1" strike="noStrike">
                <a:solidFill>
                  <a:srgbClr val="2f2d25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d25"/>
                </a:solidFill>
                <a:latin typeface="Times New Roman"/>
              </a:rPr>
              <a:t>му и обеспечивающие её функционировани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53800" y="61920"/>
            <a:ext cx="863892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.Проверка знаний. Тест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1" name="Text Box 6">
            <a:hlinkClick r:id="rId1" action="ppaction://hlinksldjump"/>
          </p:cNvPr>
          <p:cNvSpPr/>
          <p:nvPr/>
        </p:nvSpPr>
        <p:spPr>
          <a:xfrm>
            <a:off x="900000" y="1413000"/>
            <a:ext cx="734400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e2c86a"/>
                </a:solidFill>
                <a:uFillTx/>
                <a:latin typeface="Tahoma"/>
                <a:hlinkClick r:id="rId2" action="ppaction://hlinksldjump"/>
              </a:rPr>
              <a:t>Вопрос № 1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Text Box 7">
            <a:hlinkClick r:id="rId3" action="ppaction://hlinksldjump"/>
          </p:cNvPr>
          <p:cNvSpPr/>
          <p:nvPr/>
        </p:nvSpPr>
        <p:spPr>
          <a:xfrm>
            <a:off x="900000" y="3043080"/>
            <a:ext cx="734400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e2c86a"/>
                </a:solidFill>
                <a:uFillTx/>
                <a:latin typeface="Tahoma"/>
                <a:hlinkClick r:id="rId4" action="ppaction://hlinksldjump"/>
              </a:rPr>
              <a:t>Вопрос № 2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900000" y="4797360"/>
            <a:ext cx="734400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e2c86a"/>
                </a:solidFill>
                <a:uFillTx/>
                <a:latin typeface="Tahoma"/>
                <a:hlinkClick r:id="rId5" action="ppaction://hlinksldjump"/>
              </a:rPr>
              <a:t>Вопрос № 3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4"/>
          <p:cNvSpPr/>
          <p:nvPr/>
        </p:nvSpPr>
        <p:spPr>
          <a:xfrm>
            <a:off x="900000" y="115920"/>
            <a:ext cx="73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Вопрос № 1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1187280" y="134136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Сколько форм правления существуют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Text Box 6">
            <a:hlinkClick r:id="rId1" action="ppaction://hlinksldjump"/>
          </p:cNvPr>
          <p:cNvSpPr/>
          <p:nvPr/>
        </p:nvSpPr>
        <p:spPr>
          <a:xfrm>
            <a:off x="898560" y="3429000"/>
            <a:ext cx="208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Text Box 7">
            <a:hlinkClick r:id="rId2" action="ppaction://hlinksldjump"/>
          </p:cNvPr>
          <p:cNvSpPr/>
          <p:nvPr/>
        </p:nvSpPr>
        <p:spPr>
          <a:xfrm>
            <a:off x="2698920" y="3429000"/>
            <a:ext cx="208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Text Box 8">
            <a:hlinkClick r:id="rId3" action="ppaction://hlinksldjump"/>
          </p:cNvPr>
          <p:cNvSpPr/>
          <p:nvPr/>
        </p:nvSpPr>
        <p:spPr>
          <a:xfrm>
            <a:off x="4425840" y="3429000"/>
            <a:ext cx="208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Text Box 9">
            <a:hlinkClick r:id="rId4" action="ppaction://hlinksldjump"/>
          </p:cNvPr>
          <p:cNvSpPr/>
          <p:nvPr/>
        </p:nvSpPr>
        <p:spPr>
          <a:xfrm>
            <a:off x="6154560" y="3429000"/>
            <a:ext cx="208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4"/>
          <p:cNvSpPr/>
          <p:nvPr/>
        </p:nvSpPr>
        <p:spPr>
          <a:xfrm>
            <a:off x="1187280" y="2349360"/>
            <a:ext cx="720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Tahoma"/>
              </a:rPr>
              <a:t>Неверно…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AutoShape 5">
            <a:hlinkClick r:id="rId1" action="ppaction://hlinksldjump"/>
          </p:cNvPr>
          <p:cNvSpPr/>
          <p:nvPr/>
        </p:nvSpPr>
        <p:spPr>
          <a:xfrm>
            <a:off x="7956720" y="5734080"/>
            <a:ext cx="1187280" cy="1123920"/>
          </a:xfrm>
          <a:custGeom>
            <a:avLst/>
            <a:gdLst>
              <a:gd name="textAreaLeft" fmla="*/ 72720 w 1187280"/>
              <a:gd name="textAreaRight" fmla="*/ 1114560 w 1187280"/>
              <a:gd name="textAreaTop" fmla="*/ 72720 h 1123920"/>
              <a:gd name="textAreaBottom" fmla="*/ 1051200 h 1123920"/>
            </a:gdLst>
            <a:ahLst/>
            <a:rect l="textAreaLeft" t="textAreaTop" r="textAreaRight" b="textAreaBottom"/>
            <a:pathLst>
              <a:path w="22817" h="21600">
                <a:moveTo>
                  <a:pt x="0" y="0"/>
                </a:moveTo>
                <a:lnTo>
                  <a:pt x="22817" y="0"/>
                </a:lnTo>
                <a:lnTo>
                  <a:pt x="22817" y="21600"/>
                </a:lnTo>
                <a:lnTo>
                  <a:pt x="0" y="21600"/>
                </a:lnTo>
                <a:close/>
              </a:path>
              <a:path fill="lightenLess" w="22817" h="21600">
                <a:moveTo>
                  <a:pt x="0" y="0"/>
                </a:moveTo>
                <a:lnTo>
                  <a:pt x="22817" y="0"/>
                </a:lnTo>
                <a:lnTo>
                  <a:pt x="21417" y="1400"/>
                </a:lnTo>
                <a:lnTo>
                  <a:pt x="1400" y="1400"/>
                </a:lnTo>
                <a:close/>
              </a:path>
              <a:path fill="darken" w="22817" h="21600">
                <a:moveTo>
                  <a:pt x="22817" y="0"/>
                </a:moveTo>
                <a:lnTo>
                  <a:pt x="22817" y="21600"/>
                </a:lnTo>
                <a:lnTo>
                  <a:pt x="21417" y="20200"/>
                </a:lnTo>
                <a:lnTo>
                  <a:pt x="21417" y="1400"/>
                </a:lnTo>
                <a:close/>
              </a:path>
              <a:path fill="darkenLess" w="22817" h="21600">
                <a:moveTo>
                  <a:pt x="228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17" y="20200"/>
                </a:lnTo>
                <a:close/>
              </a:path>
              <a:path fill="lighten" w="228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17" h="21600">
                <a:moveTo>
                  <a:pt x="11409" y="3837"/>
                </a:moveTo>
                <a:lnTo>
                  <a:pt x="13985" y="6448"/>
                </a:lnTo>
                <a:lnTo>
                  <a:pt x="13985" y="4707"/>
                </a:lnTo>
                <a:lnTo>
                  <a:pt x="15760" y="4707"/>
                </a:lnTo>
                <a:lnTo>
                  <a:pt x="15760" y="8224"/>
                </a:lnTo>
                <a:lnTo>
                  <a:pt x="18372" y="10800"/>
                </a:lnTo>
                <a:lnTo>
                  <a:pt x="16718" y="10800"/>
                </a:lnTo>
                <a:lnTo>
                  <a:pt x="16718" y="17989"/>
                </a:lnTo>
                <a:lnTo>
                  <a:pt x="6099" y="17989"/>
                </a:lnTo>
                <a:lnTo>
                  <a:pt x="6099" y="10800"/>
                </a:lnTo>
                <a:lnTo>
                  <a:pt x="4446" y="10800"/>
                </a:lnTo>
                <a:close/>
              </a:path>
              <a:path fill="darkenLess" w="22817" h="21600">
                <a:moveTo>
                  <a:pt x="13985" y="6448"/>
                </a:moveTo>
                <a:lnTo>
                  <a:pt x="13985" y="4707"/>
                </a:lnTo>
                <a:lnTo>
                  <a:pt x="15760" y="4707"/>
                </a:lnTo>
                <a:lnTo>
                  <a:pt x="15760" y="8224"/>
                </a:lnTo>
                <a:close/>
              </a:path>
              <a:path fill="darkenLess" w="22817" h="21600">
                <a:moveTo>
                  <a:pt x="10486" y="14299"/>
                </a:moveTo>
                <a:lnTo>
                  <a:pt x="12331" y="14299"/>
                </a:lnTo>
                <a:lnTo>
                  <a:pt x="12331" y="17989"/>
                </a:lnTo>
                <a:lnTo>
                  <a:pt x="16718" y="17989"/>
                </a:lnTo>
                <a:lnTo>
                  <a:pt x="16718" y="10800"/>
                </a:lnTo>
                <a:lnTo>
                  <a:pt x="6099" y="10800"/>
                </a:lnTo>
                <a:lnTo>
                  <a:pt x="6099" y="17989"/>
                </a:lnTo>
                <a:lnTo>
                  <a:pt x="10486" y="17989"/>
                </a:lnTo>
                <a:close/>
              </a:path>
            </a:pathLst>
          </a:custGeom>
          <a:solidFill>
            <a:srgbClr val="8181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3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 Box 4"/>
          <p:cNvSpPr/>
          <p:nvPr/>
        </p:nvSpPr>
        <p:spPr>
          <a:xfrm>
            <a:off x="1187280" y="2349360"/>
            <a:ext cx="720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Tahoma"/>
              </a:rPr>
              <a:t>Верно!!!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AutoShape 6">
            <a:hlinkClick r:id="rId1" action="ppaction://hlinksldjump"/>
          </p:cNvPr>
          <p:cNvSpPr/>
          <p:nvPr/>
        </p:nvSpPr>
        <p:spPr>
          <a:xfrm>
            <a:off x="7956720" y="5734080"/>
            <a:ext cx="1187280" cy="1123920"/>
          </a:xfrm>
          <a:custGeom>
            <a:avLst/>
            <a:gdLst>
              <a:gd name="textAreaLeft" fmla="*/ 72720 w 1187280"/>
              <a:gd name="textAreaRight" fmla="*/ 1114560 w 1187280"/>
              <a:gd name="textAreaTop" fmla="*/ 72720 h 1123920"/>
              <a:gd name="textAreaBottom" fmla="*/ 1051200 h 1123920"/>
            </a:gdLst>
            <a:ahLst/>
            <a:rect l="textAreaLeft" t="textAreaTop" r="textAreaRight" b="textAreaBottom"/>
            <a:pathLst>
              <a:path w="22817" h="21600">
                <a:moveTo>
                  <a:pt x="0" y="0"/>
                </a:moveTo>
                <a:lnTo>
                  <a:pt x="22817" y="0"/>
                </a:lnTo>
                <a:lnTo>
                  <a:pt x="22817" y="21600"/>
                </a:lnTo>
                <a:lnTo>
                  <a:pt x="0" y="21600"/>
                </a:lnTo>
                <a:close/>
              </a:path>
              <a:path fill="lightenLess" w="22817" h="21600">
                <a:moveTo>
                  <a:pt x="0" y="0"/>
                </a:moveTo>
                <a:lnTo>
                  <a:pt x="22817" y="0"/>
                </a:lnTo>
                <a:lnTo>
                  <a:pt x="21417" y="1400"/>
                </a:lnTo>
                <a:lnTo>
                  <a:pt x="1400" y="1400"/>
                </a:lnTo>
                <a:close/>
              </a:path>
              <a:path fill="darken" w="22817" h="21600">
                <a:moveTo>
                  <a:pt x="22817" y="0"/>
                </a:moveTo>
                <a:lnTo>
                  <a:pt x="22817" y="21600"/>
                </a:lnTo>
                <a:lnTo>
                  <a:pt x="21417" y="20200"/>
                </a:lnTo>
                <a:lnTo>
                  <a:pt x="21417" y="1400"/>
                </a:lnTo>
                <a:close/>
              </a:path>
              <a:path fill="darkenLess" w="22817" h="21600">
                <a:moveTo>
                  <a:pt x="228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17" y="20200"/>
                </a:lnTo>
                <a:close/>
              </a:path>
              <a:path fill="lighten" w="228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17" h="21600">
                <a:moveTo>
                  <a:pt x="11409" y="3837"/>
                </a:moveTo>
                <a:lnTo>
                  <a:pt x="13985" y="6448"/>
                </a:lnTo>
                <a:lnTo>
                  <a:pt x="13985" y="4707"/>
                </a:lnTo>
                <a:lnTo>
                  <a:pt x="15760" y="4707"/>
                </a:lnTo>
                <a:lnTo>
                  <a:pt x="15760" y="8224"/>
                </a:lnTo>
                <a:lnTo>
                  <a:pt x="18372" y="10800"/>
                </a:lnTo>
                <a:lnTo>
                  <a:pt x="16718" y="10800"/>
                </a:lnTo>
                <a:lnTo>
                  <a:pt x="16718" y="17989"/>
                </a:lnTo>
                <a:lnTo>
                  <a:pt x="6099" y="17989"/>
                </a:lnTo>
                <a:lnTo>
                  <a:pt x="6099" y="10800"/>
                </a:lnTo>
                <a:lnTo>
                  <a:pt x="4446" y="10800"/>
                </a:lnTo>
                <a:close/>
              </a:path>
              <a:path fill="darkenLess" w="22817" h="21600">
                <a:moveTo>
                  <a:pt x="13985" y="6448"/>
                </a:moveTo>
                <a:lnTo>
                  <a:pt x="13985" y="4707"/>
                </a:lnTo>
                <a:lnTo>
                  <a:pt x="15760" y="4707"/>
                </a:lnTo>
                <a:lnTo>
                  <a:pt x="15760" y="8224"/>
                </a:lnTo>
                <a:close/>
              </a:path>
              <a:path fill="darkenLess" w="22817" h="21600">
                <a:moveTo>
                  <a:pt x="10486" y="14299"/>
                </a:moveTo>
                <a:lnTo>
                  <a:pt x="12331" y="14299"/>
                </a:lnTo>
                <a:lnTo>
                  <a:pt x="12331" y="17989"/>
                </a:lnTo>
                <a:lnTo>
                  <a:pt x="16718" y="17989"/>
                </a:lnTo>
                <a:lnTo>
                  <a:pt x="16718" y="10800"/>
                </a:lnTo>
                <a:lnTo>
                  <a:pt x="6099" y="10800"/>
                </a:lnTo>
                <a:lnTo>
                  <a:pt x="6099" y="17989"/>
                </a:lnTo>
                <a:lnTo>
                  <a:pt x="10486" y="17989"/>
                </a:lnTo>
                <a:close/>
              </a:path>
            </a:pathLst>
          </a:custGeom>
          <a:solidFill>
            <a:srgbClr val="8181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4"/>
          <p:cNvSpPr/>
          <p:nvPr/>
        </p:nvSpPr>
        <p:spPr>
          <a:xfrm>
            <a:off x="900000" y="115920"/>
            <a:ext cx="73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Вопрос № 2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Text Box 5"/>
          <p:cNvSpPr/>
          <p:nvPr/>
        </p:nvSpPr>
        <p:spPr>
          <a:xfrm>
            <a:off x="250920" y="1125360"/>
            <a:ext cx="8893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Выбери правильную форму государственного устройст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Государственно-правовые объединения суверенных государст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Имеют свои Конституции, бюдже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амостоятельно выступаю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а международной арен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Text Box 6">
            <a:hlinkClick r:id="rId1" action="ppaction://hlinksldjump"/>
          </p:cNvPr>
          <p:cNvSpPr/>
          <p:nvPr/>
        </p:nvSpPr>
        <p:spPr>
          <a:xfrm>
            <a:off x="1619280" y="4524480"/>
            <a:ext cx="6408720" cy="25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e2c86a"/>
                </a:solidFill>
                <a:uFillTx/>
                <a:latin typeface="Tahoma"/>
                <a:hlinkClick r:id="rId2" action="ppaction://hlinksldjump"/>
              </a:rPr>
              <a:t>Унитарна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e2c86a"/>
                </a:solidFill>
                <a:uFillTx/>
                <a:latin typeface="Tahoma"/>
                <a:hlinkClick r:id="rId3" action="ppaction://hlinksldjump"/>
              </a:rPr>
              <a:t>Федеративна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e2c86a"/>
                </a:solidFill>
                <a:uFillTx/>
                <a:latin typeface="Tahoma"/>
                <a:hlinkClick r:id="rId4" action="ppaction://hlinksldjump"/>
              </a:rPr>
              <a:t>Конфедеративна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4"/>
          <p:cNvSpPr/>
          <p:nvPr/>
        </p:nvSpPr>
        <p:spPr>
          <a:xfrm>
            <a:off x="900000" y="115920"/>
            <a:ext cx="73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Вопрос № 3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Text Box 5"/>
          <p:cNvSpPr/>
          <p:nvPr/>
        </p:nvSpPr>
        <p:spPr>
          <a:xfrm>
            <a:off x="1187280" y="1341360"/>
            <a:ext cx="720108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Какой это политический режим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ямое участие населения в решении  государственных вопрос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азличные формы собственн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Многопартийнос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Идеологический и политический плюрализ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Text Box 10">
            <a:hlinkClick r:id="rId1" action="ppaction://hlinksldjump"/>
          </p:cNvPr>
          <p:cNvSpPr/>
          <p:nvPr/>
        </p:nvSpPr>
        <p:spPr>
          <a:xfrm>
            <a:off x="1619280" y="5011560"/>
            <a:ext cx="6408720" cy="19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e2c86a"/>
                </a:solidFill>
                <a:uFillTx/>
                <a:latin typeface="Tahoma"/>
                <a:hlinkClick r:id="rId2" action="ppaction://hlinksldjump"/>
              </a:rPr>
              <a:t>Демократическ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e2c86a"/>
                </a:solidFill>
                <a:uFillTx/>
                <a:latin typeface="Tahoma"/>
                <a:hlinkClick r:id="rId3" action="ppaction://hlinksldjump"/>
              </a:rPr>
              <a:t>Тоталитарн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e2c86a"/>
                </a:solidFill>
                <a:uFillTx/>
                <a:latin typeface="Tahoma"/>
                <a:hlinkClick r:id="rId4" action="ppaction://hlinksldjump"/>
              </a:rPr>
              <a:t>Авторитарн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2f2d25"/>
              </a:gs>
              <a:gs pos="100000">
                <a:srgbClr val="eaeaea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лан урока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eaeaea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ahoma"/>
              </a:rPr>
              <a:t>1.Формы правлени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ahoma"/>
              </a:rPr>
              <a:t>2.Форма государственного устройств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ahoma"/>
              </a:rPr>
              <a:t>3.Политический режим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ahoma"/>
              </a:rPr>
              <a:t>4.Политическая система обществ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ahoma"/>
              </a:rPr>
              <a:t>5. Проверка знаний. Тест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53800" y="61920"/>
            <a:ext cx="863892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5.Проверка знаний. Тест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1" name="Text Box 5">
            <a:hlinkClick r:id="rId1" action="ppaction://hlinksldjump"/>
          </p:cNvPr>
          <p:cNvSpPr/>
          <p:nvPr/>
        </p:nvSpPr>
        <p:spPr>
          <a:xfrm>
            <a:off x="900000" y="1413000"/>
            <a:ext cx="734400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e2c86a"/>
                </a:solidFill>
                <a:uFillTx/>
                <a:latin typeface="Tahoma"/>
                <a:hlinkClick r:id="rId2" action="ppaction://hlinksldjump"/>
              </a:rPr>
              <a:t>Вопрос № 1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Text Box 6"/>
          <p:cNvSpPr/>
          <p:nvPr/>
        </p:nvSpPr>
        <p:spPr>
          <a:xfrm>
            <a:off x="900000" y="3043080"/>
            <a:ext cx="734400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e2c86a"/>
                </a:solidFill>
                <a:uFillTx/>
                <a:latin typeface="Tahoma"/>
                <a:hlinkClick r:id="rId3" action="ppaction://hlinksldjump"/>
              </a:rPr>
              <a:t>Вопрос № 2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Text Box 7"/>
          <p:cNvSpPr/>
          <p:nvPr/>
        </p:nvSpPr>
        <p:spPr>
          <a:xfrm>
            <a:off x="900000" y="4797360"/>
            <a:ext cx="73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Вопрос № 3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4"/>
          <p:cNvSpPr/>
          <p:nvPr/>
        </p:nvSpPr>
        <p:spPr>
          <a:xfrm>
            <a:off x="1187280" y="981000"/>
            <a:ext cx="7201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Tahoma"/>
              </a:rPr>
              <a:t>Извините, но вы уже ответили на этот вопрос…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AutoShape 5"/>
          <p:cNvSpPr/>
          <p:nvPr/>
        </p:nvSpPr>
        <p:spPr>
          <a:xfrm>
            <a:off x="7956720" y="5734080"/>
            <a:ext cx="1187280" cy="1123920"/>
          </a:xfrm>
          <a:custGeom>
            <a:avLst/>
            <a:gdLst>
              <a:gd name="textAreaLeft" fmla="*/ 72720 w 1187280"/>
              <a:gd name="textAreaRight" fmla="*/ 1114560 w 1187280"/>
              <a:gd name="textAreaTop" fmla="*/ 72720 h 1123920"/>
              <a:gd name="textAreaBottom" fmla="*/ 1051200 h 1123920"/>
            </a:gdLst>
            <a:ahLst/>
            <a:rect l="textAreaLeft" t="textAreaTop" r="textAreaRight" b="textAreaBottom"/>
            <a:pathLst>
              <a:path w="22817" h="21600">
                <a:moveTo>
                  <a:pt x="0" y="0"/>
                </a:moveTo>
                <a:lnTo>
                  <a:pt x="22817" y="0"/>
                </a:lnTo>
                <a:lnTo>
                  <a:pt x="22817" y="21600"/>
                </a:lnTo>
                <a:lnTo>
                  <a:pt x="0" y="21600"/>
                </a:lnTo>
                <a:close/>
              </a:path>
              <a:path fill="lightenLess" w="22817" h="21600">
                <a:moveTo>
                  <a:pt x="0" y="0"/>
                </a:moveTo>
                <a:lnTo>
                  <a:pt x="22817" y="0"/>
                </a:lnTo>
                <a:lnTo>
                  <a:pt x="21417" y="1400"/>
                </a:lnTo>
                <a:lnTo>
                  <a:pt x="1400" y="1400"/>
                </a:lnTo>
                <a:close/>
              </a:path>
              <a:path fill="darken" w="22817" h="21600">
                <a:moveTo>
                  <a:pt x="22817" y="0"/>
                </a:moveTo>
                <a:lnTo>
                  <a:pt x="22817" y="21600"/>
                </a:lnTo>
                <a:lnTo>
                  <a:pt x="21417" y="20200"/>
                </a:lnTo>
                <a:lnTo>
                  <a:pt x="21417" y="1400"/>
                </a:lnTo>
                <a:close/>
              </a:path>
              <a:path fill="darkenLess" w="22817" h="21600">
                <a:moveTo>
                  <a:pt x="228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17" y="20200"/>
                </a:lnTo>
                <a:close/>
              </a:path>
              <a:path fill="lighten" w="228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17" h="21600">
                <a:moveTo>
                  <a:pt x="11409" y="3837"/>
                </a:moveTo>
                <a:lnTo>
                  <a:pt x="13985" y="6448"/>
                </a:lnTo>
                <a:lnTo>
                  <a:pt x="13985" y="4707"/>
                </a:lnTo>
                <a:lnTo>
                  <a:pt x="15760" y="4707"/>
                </a:lnTo>
                <a:lnTo>
                  <a:pt x="15760" y="8224"/>
                </a:lnTo>
                <a:lnTo>
                  <a:pt x="18372" y="10800"/>
                </a:lnTo>
                <a:lnTo>
                  <a:pt x="16718" y="10800"/>
                </a:lnTo>
                <a:lnTo>
                  <a:pt x="16718" y="17989"/>
                </a:lnTo>
                <a:lnTo>
                  <a:pt x="6099" y="17989"/>
                </a:lnTo>
                <a:lnTo>
                  <a:pt x="6099" y="10800"/>
                </a:lnTo>
                <a:lnTo>
                  <a:pt x="4446" y="10800"/>
                </a:lnTo>
                <a:close/>
              </a:path>
              <a:path fill="darkenLess" w="22817" h="21600">
                <a:moveTo>
                  <a:pt x="13985" y="6448"/>
                </a:moveTo>
                <a:lnTo>
                  <a:pt x="13985" y="4707"/>
                </a:lnTo>
                <a:lnTo>
                  <a:pt x="15760" y="4707"/>
                </a:lnTo>
                <a:lnTo>
                  <a:pt x="15760" y="8224"/>
                </a:lnTo>
                <a:close/>
              </a:path>
              <a:path fill="darkenLess" w="22817" h="21600">
                <a:moveTo>
                  <a:pt x="10486" y="14299"/>
                </a:moveTo>
                <a:lnTo>
                  <a:pt x="12331" y="14299"/>
                </a:lnTo>
                <a:lnTo>
                  <a:pt x="12331" y="17989"/>
                </a:lnTo>
                <a:lnTo>
                  <a:pt x="16718" y="17989"/>
                </a:lnTo>
                <a:lnTo>
                  <a:pt x="16718" y="10800"/>
                </a:lnTo>
                <a:lnTo>
                  <a:pt x="6099" y="10800"/>
                </a:lnTo>
                <a:lnTo>
                  <a:pt x="6099" y="17989"/>
                </a:lnTo>
                <a:lnTo>
                  <a:pt x="10486" y="17989"/>
                </a:lnTo>
                <a:close/>
              </a:path>
            </a:pathLst>
          </a:custGeom>
          <a:solidFill>
            <a:srgbClr val="8181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3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53800" y="61920"/>
            <a:ext cx="863892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5.Проверка знаний. Тест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7" name="Text Box 5"/>
          <p:cNvSpPr/>
          <p:nvPr/>
        </p:nvSpPr>
        <p:spPr>
          <a:xfrm>
            <a:off x="900000" y="1413000"/>
            <a:ext cx="73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ff"/>
                </a:solidFill>
                <a:uFillTx/>
                <a:latin typeface="Tahoma"/>
              </a:rPr>
              <a:t>Вопрос № 1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Text Box 6"/>
          <p:cNvSpPr/>
          <p:nvPr/>
        </p:nvSpPr>
        <p:spPr>
          <a:xfrm>
            <a:off x="900000" y="3043080"/>
            <a:ext cx="73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Вопрос № 2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Text Box 7"/>
          <p:cNvSpPr/>
          <p:nvPr/>
        </p:nvSpPr>
        <p:spPr>
          <a:xfrm>
            <a:off x="900000" y="4797360"/>
            <a:ext cx="73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Вопрос № 3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4"/>
          <p:cNvSpPr/>
          <p:nvPr/>
        </p:nvSpPr>
        <p:spPr>
          <a:xfrm>
            <a:off x="1187280" y="2349360"/>
            <a:ext cx="720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Tahoma"/>
              </a:rPr>
              <a:t>Верно!!!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AutoShape 6"/>
          <p:cNvSpPr/>
          <p:nvPr/>
        </p:nvSpPr>
        <p:spPr>
          <a:xfrm>
            <a:off x="7956720" y="5805360"/>
            <a:ext cx="1187280" cy="1052640"/>
          </a:xfrm>
          <a:custGeom>
            <a:avLst/>
            <a:gdLst>
              <a:gd name="textAreaLeft" fmla="*/ 68040 w 1187280"/>
              <a:gd name="textAreaRight" fmla="*/ 1119240 w 118728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24362" h="21600">
                <a:moveTo>
                  <a:pt x="0" y="0"/>
                </a:moveTo>
                <a:lnTo>
                  <a:pt x="24362" y="0"/>
                </a:lnTo>
                <a:lnTo>
                  <a:pt x="24362" y="21600"/>
                </a:lnTo>
                <a:lnTo>
                  <a:pt x="0" y="21600"/>
                </a:lnTo>
                <a:close/>
              </a:path>
              <a:path fill="lightenLess" w="24362" h="21600">
                <a:moveTo>
                  <a:pt x="0" y="0"/>
                </a:moveTo>
                <a:lnTo>
                  <a:pt x="24362" y="0"/>
                </a:lnTo>
                <a:lnTo>
                  <a:pt x="22962" y="1400"/>
                </a:lnTo>
                <a:lnTo>
                  <a:pt x="1400" y="1400"/>
                </a:lnTo>
                <a:close/>
              </a:path>
              <a:path fill="darken" w="24362" h="21600">
                <a:moveTo>
                  <a:pt x="24362" y="0"/>
                </a:moveTo>
                <a:lnTo>
                  <a:pt x="24362" y="21600"/>
                </a:lnTo>
                <a:lnTo>
                  <a:pt x="22962" y="20200"/>
                </a:lnTo>
                <a:lnTo>
                  <a:pt x="22962" y="1400"/>
                </a:lnTo>
                <a:close/>
              </a:path>
              <a:path fill="darkenLess" w="24362" h="21600">
                <a:moveTo>
                  <a:pt x="243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62" y="20200"/>
                </a:lnTo>
                <a:close/>
              </a:path>
              <a:path fill="lighten" w="243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62" h="21600">
                <a:moveTo>
                  <a:pt x="5174" y="3794"/>
                </a:moveTo>
                <a:lnTo>
                  <a:pt x="19187" y="10800"/>
                </a:lnTo>
                <a:lnTo>
                  <a:pt x="5174" y="17806"/>
                </a:lnTo>
                <a:close/>
              </a:path>
            </a:pathLst>
          </a:custGeom>
          <a:solidFill>
            <a:srgbClr val="8181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2"/>
          <p:cNvSpPr/>
          <p:nvPr/>
        </p:nvSpPr>
        <p:spPr>
          <a:xfrm>
            <a:off x="1187280" y="2349360"/>
            <a:ext cx="720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Tahoma"/>
              </a:rPr>
              <a:t>Неверно…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AutoShape 4"/>
          <p:cNvSpPr/>
          <p:nvPr/>
        </p:nvSpPr>
        <p:spPr>
          <a:xfrm>
            <a:off x="7956720" y="5805360"/>
            <a:ext cx="1187280" cy="1052640"/>
          </a:xfrm>
          <a:custGeom>
            <a:avLst/>
            <a:gdLst>
              <a:gd name="textAreaLeft" fmla="*/ 68040 w 1187280"/>
              <a:gd name="textAreaRight" fmla="*/ 1119240 w 118728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24362" h="21600">
                <a:moveTo>
                  <a:pt x="0" y="0"/>
                </a:moveTo>
                <a:lnTo>
                  <a:pt x="24362" y="0"/>
                </a:lnTo>
                <a:lnTo>
                  <a:pt x="24362" y="21600"/>
                </a:lnTo>
                <a:lnTo>
                  <a:pt x="0" y="21600"/>
                </a:lnTo>
                <a:close/>
              </a:path>
              <a:path fill="lightenLess" w="24362" h="21600">
                <a:moveTo>
                  <a:pt x="0" y="0"/>
                </a:moveTo>
                <a:lnTo>
                  <a:pt x="24362" y="0"/>
                </a:lnTo>
                <a:lnTo>
                  <a:pt x="22962" y="1400"/>
                </a:lnTo>
                <a:lnTo>
                  <a:pt x="1400" y="1400"/>
                </a:lnTo>
                <a:close/>
              </a:path>
              <a:path fill="darken" w="24362" h="21600">
                <a:moveTo>
                  <a:pt x="24362" y="0"/>
                </a:moveTo>
                <a:lnTo>
                  <a:pt x="24362" y="21600"/>
                </a:lnTo>
                <a:lnTo>
                  <a:pt x="22962" y="20200"/>
                </a:lnTo>
                <a:lnTo>
                  <a:pt x="22962" y="1400"/>
                </a:lnTo>
                <a:close/>
              </a:path>
              <a:path fill="darkenLess" w="24362" h="21600">
                <a:moveTo>
                  <a:pt x="243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62" y="20200"/>
                </a:lnTo>
                <a:close/>
              </a:path>
              <a:path fill="lighten" w="243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62" h="21600">
                <a:moveTo>
                  <a:pt x="5174" y="3794"/>
                </a:moveTo>
                <a:lnTo>
                  <a:pt x="19187" y="10800"/>
                </a:lnTo>
                <a:lnTo>
                  <a:pt x="5174" y="17806"/>
                </a:lnTo>
                <a:close/>
              </a:path>
            </a:pathLst>
          </a:custGeom>
          <a:solidFill>
            <a:srgbClr val="8181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3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4"/>
          <p:cNvSpPr/>
          <p:nvPr/>
        </p:nvSpPr>
        <p:spPr>
          <a:xfrm>
            <a:off x="1187280" y="449280"/>
            <a:ext cx="7201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ahoma"/>
              </a:rPr>
              <a:t>Вы уверены, что хотите завершить тест?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Text Box 5"/>
          <p:cNvSpPr/>
          <p:nvPr/>
        </p:nvSpPr>
        <p:spPr>
          <a:xfrm>
            <a:off x="324000" y="4292640"/>
            <a:ext cx="324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Tahoma"/>
              </a:rPr>
              <a:t>ДА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Text Box 6"/>
          <p:cNvSpPr/>
          <p:nvPr/>
        </p:nvSpPr>
        <p:spPr>
          <a:xfrm>
            <a:off x="5435640" y="4292640"/>
            <a:ext cx="324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Tahoma"/>
              </a:rPr>
              <a:t>НЕТ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3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000"/>
                            </p:stCondLst>
                            <p:childTnLst>
                              <p:par>
                                <p:cTn id="3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4"/>
          <p:cNvSpPr/>
          <p:nvPr/>
        </p:nvSpPr>
        <p:spPr>
          <a:xfrm>
            <a:off x="1187280" y="281628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Tahoma"/>
              </a:rPr>
              <a:t>Поздравляем!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Rectangle 5"/>
          <p:cNvSpPr/>
          <p:nvPr/>
        </p:nvSpPr>
        <p:spPr>
          <a:xfrm>
            <a:off x="5364000" y="6093000"/>
            <a:ext cx="3457800" cy="649080"/>
          </a:xfrm>
          <a:prstGeom prst="rect">
            <a:avLst/>
          </a:prstGeom>
          <a:solidFill>
            <a:srgbClr val="81817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Дале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3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3000"/>
                            </p:stCondLst>
                            <p:childTnLst>
                              <p:par>
                                <p:cTn id="3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4"/>
          <p:cNvSpPr/>
          <p:nvPr/>
        </p:nvSpPr>
        <p:spPr>
          <a:xfrm>
            <a:off x="611280" y="84240"/>
            <a:ext cx="7956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Tahoma"/>
              </a:rPr>
              <a:t>Извините, но вы ответили уже на все вопросы! Ваш тест завершен!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Rectangle 6"/>
          <p:cNvSpPr/>
          <p:nvPr/>
        </p:nvSpPr>
        <p:spPr>
          <a:xfrm>
            <a:off x="5364000" y="6093000"/>
            <a:ext cx="3457800" cy="649080"/>
          </a:xfrm>
          <a:prstGeom prst="rect">
            <a:avLst/>
          </a:prstGeom>
          <a:solidFill>
            <a:srgbClr val="81817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Дале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3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3000"/>
                            </p:stCondLst>
                            <p:childTnLst>
                              <p:par>
                                <p:cTn id="3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4"/>
          <p:cNvSpPr/>
          <p:nvPr/>
        </p:nvSpPr>
        <p:spPr>
          <a:xfrm>
            <a:off x="1042920" y="2276640"/>
            <a:ext cx="720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Tahoma"/>
              </a:rPr>
              <a:t>Спасибо за внимание!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3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53800" y="61920"/>
            <a:ext cx="863892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.Формы правления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WordArt 24"/>
          <p:cNvSpPr txBox="1"/>
          <p:nvPr/>
        </p:nvSpPr>
        <p:spPr>
          <a:xfrm>
            <a:off x="2360520" y="765000"/>
            <a:ext cx="44769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Форма государства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160" name="Group 27"/>
          <p:cNvGrpSpPr/>
          <p:nvPr/>
        </p:nvGrpSpPr>
        <p:grpSpPr>
          <a:xfrm>
            <a:off x="1567440" y="1268280"/>
            <a:ext cx="6061680" cy="1727280"/>
            <a:chOff x="1567440" y="1268280"/>
            <a:chExt cx="6061680" cy="1727280"/>
          </a:xfrm>
        </p:grpSpPr>
        <p:sp>
          <p:nvSpPr>
            <p:cNvPr id="161" name="Text Box 25"/>
            <p:cNvSpPr/>
            <p:nvPr/>
          </p:nvSpPr>
          <p:spPr>
            <a:xfrm>
              <a:off x="1567440" y="2170080"/>
              <a:ext cx="6061680" cy="8254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c00"/>
                  </a:solidFill>
                  <a:latin typeface="Arial"/>
                </a:rPr>
                <a:t>Показывает особенности устроения и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c00"/>
                  </a:solidFill>
                  <a:latin typeface="Arial"/>
                </a:rPr>
                <a:t>функционирования государства .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" name="AutoShape 26"/>
            <p:cNvSpPr/>
            <p:nvPr/>
          </p:nvSpPr>
          <p:spPr>
            <a:xfrm>
              <a:off x="4381200" y="1268280"/>
              <a:ext cx="431640" cy="792360"/>
            </a:xfrm>
            <a:prstGeom prst="downArrow">
              <a:avLst>
                <a:gd name="adj1" fmla="val 50000"/>
                <a:gd name="adj2" fmla="val 45892"/>
              </a:avLst>
            </a:prstGeom>
            <a:solidFill>
              <a:srgbClr val="333399"/>
            </a:soli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63" name="Text Box 32"/>
          <p:cNvSpPr/>
          <p:nvPr/>
        </p:nvSpPr>
        <p:spPr>
          <a:xfrm>
            <a:off x="539640" y="4941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64" name="Group 39"/>
          <p:cNvGrpSpPr/>
          <p:nvPr/>
        </p:nvGrpSpPr>
        <p:grpSpPr>
          <a:xfrm>
            <a:off x="3059280" y="3343320"/>
            <a:ext cx="3073320" cy="3325680"/>
            <a:chOff x="3059280" y="3343320"/>
            <a:chExt cx="3073320" cy="3325680"/>
          </a:xfrm>
        </p:grpSpPr>
        <p:grpSp>
          <p:nvGrpSpPr>
            <p:cNvPr id="165" name="Group 37"/>
            <p:cNvGrpSpPr/>
            <p:nvPr/>
          </p:nvGrpSpPr>
          <p:grpSpPr>
            <a:xfrm>
              <a:off x="3059280" y="4608360"/>
              <a:ext cx="3073320" cy="2060640"/>
              <a:chOff x="3059280" y="4608360"/>
              <a:chExt cx="3073320" cy="2060640"/>
            </a:xfrm>
          </p:grpSpPr>
          <p:sp>
            <p:nvSpPr>
              <p:cNvPr id="166" name="WordArt 29"/>
              <p:cNvSpPr txBox="1"/>
              <p:nvPr/>
            </p:nvSpPr>
            <p:spPr>
              <a:xfrm>
                <a:off x="3059280" y="5502240"/>
                <a:ext cx="3073320" cy="1166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ff0000"/>
                      </a:solidFill>
                      <a:miter/>
                    </a:ln>
                    <a:solidFill>
                      <a:srgbClr val="ffffff"/>
                    </a:solidFill>
                    <a:latin typeface="Arial"/>
                  </a:rPr>
                  <a:t>Форма</a:t>
                </a:r>
                <a:endParaRPr b="1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ff0000"/>
                      </a:solidFill>
                      <a:miter/>
                    </a:ln>
                    <a:solidFill>
                      <a:srgbClr val="ffffff"/>
                    </a:solidFill>
                    <a:latin typeface="Arial"/>
                  </a:rPr>
                  <a:t>государственного</a:t>
                </a:r>
                <a:endParaRPr b="1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ff0000"/>
                      </a:solidFill>
                      <a:miter/>
                    </a:ln>
                    <a:solidFill>
                      <a:srgbClr val="ffffff"/>
                    </a:solidFill>
                    <a:latin typeface="Arial"/>
                  </a:rPr>
                  <a:t>устройства</a:t>
                </a:r>
                <a:endParaRPr b="1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  <p:pic>
            <p:nvPicPr>
              <p:cNvPr id="167" name="Picture 36" descr="j0240665"/>
              <p:cNvPicPr/>
              <p:nvPr/>
            </p:nvPicPr>
            <p:blipFill>
              <a:blip r:embed="rId2"/>
              <a:stretch/>
            </p:blipFill>
            <p:spPr>
              <a:xfrm>
                <a:off x="4067280" y="4608360"/>
                <a:ext cx="1081080" cy="966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8" name="Line 38"/>
            <p:cNvSpPr/>
            <p:nvPr/>
          </p:nvSpPr>
          <p:spPr>
            <a:xfrm>
              <a:off x="4595760" y="3343320"/>
              <a:ext cx="0" cy="1224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69" name="Group 43"/>
          <p:cNvGrpSpPr/>
          <p:nvPr/>
        </p:nvGrpSpPr>
        <p:grpSpPr>
          <a:xfrm>
            <a:off x="4861080" y="3213000"/>
            <a:ext cx="4174920" cy="1800360"/>
            <a:chOff x="4861080" y="3213000"/>
            <a:chExt cx="4174920" cy="1800360"/>
          </a:xfrm>
        </p:grpSpPr>
        <p:grpSp>
          <p:nvGrpSpPr>
            <p:cNvPr id="170" name="Group 35"/>
            <p:cNvGrpSpPr/>
            <p:nvPr/>
          </p:nvGrpSpPr>
          <p:grpSpPr>
            <a:xfrm>
              <a:off x="6012000" y="3284640"/>
              <a:ext cx="3024000" cy="1728720"/>
              <a:chOff x="6012000" y="3284640"/>
              <a:chExt cx="3024000" cy="1728720"/>
            </a:xfrm>
          </p:grpSpPr>
          <p:sp>
            <p:nvSpPr>
              <p:cNvPr id="171" name="WordArt 30"/>
              <p:cNvSpPr txBox="1"/>
              <p:nvPr/>
            </p:nvSpPr>
            <p:spPr>
              <a:xfrm>
                <a:off x="6012000" y="4235760"/>
                <a:ext cx="3024000" cy="7776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ff0000"/>
                      </a:solidFill>
                      <a:miter/>
                    </a:ln>
                    <a:solidFill>
                      <a:srgbClr val="ffffff"/>
                    </a:solidFill>
                    <a:latin typeface="Arial"/>
                  </a:rPr>
                  <a:t>государственный</a:t>
                </a:r>
                <a:endParaRPr b="1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ff0000"/>
                      </a:solidFill>
                      <a:miter/>
                    </a:ln>
                    <a:solidFill>
                      <a:srgbClr val="ffffff"/>
                    </a:solidFill>
                    <a:latin typeface="Arial"/>
                  </a:rPr>
                  <a:t>режим</a:t>
                </a:r>
                <a:endParaRPr b="1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  <p:pic>
            <p:nvPicPr>
              <p:cNvPr id="172" name="Picture 34" descr="j0344115"/>
              <p:cNvPicPr/>
              <p:nvPr/>
            </p:nvPicPr>
            <p:blipFill>
              <a:blip r:embed="rId3"/>
              <a:stretch/>
            </p:blipFill>
            <p:spPr>
              <a:xfrm>
                <a:off x="6737400" y="3284640"/>
                <a:ext cx="1571400" cy="970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3" name="Line 40"/>
            <p:cNvSpPr/>
            <p:nvPr/>
          </p:nvSpPr>
          <p:spPr>
            <a:xfrm>
              <a:off x="4861080" y="3213000"/>
              <a:ext cx="1871640" cy="863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74" name="Group 42"/>
          <p:cNvGrpSpPr/>
          <p:nvPr/>
        </p:nvGrpSpPr>
        <p:grpSpPr>
          <a:xfrm>
            <a:off x="324000" y="3213000"/>
            <a:ext cx="3960360" cy="1737000"/>
            <a:chOff x="324000" y="3213000"/>
            <a:chExt cx="3960360" cy="1737000"/>
          </a:xfrm>
        </p:grpSpPr>
        <p:grpSp>
          <p:nvGrpSpPr>
            <p:cNvPr id="175" name="Group 33"/>
            <p:cNvGrpSpPr/>
            <p:nvPr/>
          </p:nvGrpSpPr>
          <p:grpSpPr>
            <a:xfrm>
              <a:off x="324000" y="3357720"/>
              <a:ext cx="1849320" cy="1592280"/>
              <a:chOff x="324000" y="3357720"/>
              <a:chExt cx="1849320" cy="1592280"/>
            </a:xfrm>
          </p:grpSpPr>
          <p:sp>
            <p:nvSpPr>
              <p:cNvPr id="176" name="WordArt 28"/>
              <p:cNvSpPr txBox="1"/>
              <p:nvPr/>
            </p:nvSpPr>
            <p:spPr>
              <a:xfrm>
                <a:off x="324000" y="4172040"/>
                <a:ext cx="1849320" cy="7779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ff0000"/>
                      </a:solidFill>
                      <a:miter/>
                    </a:ln>
                    <a:solidFill>
                      <a:srgbClr val="ffffff"/>
                    </a:solidFill>
                    <a:latin typeface="Arial"/>
                  </a:rPr>
                  <a:t>форма</a:t>
                </a:r>
                <a:endParaRPr b="1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ff0000"/>
                      </a:solidFill>
                      <a:miter/>
                    </a:ln>
                    <a:solidFill>
                      <a:srgbClr val="ffffff"/>
                    </a:solidFill>
                    <a:latin typeface="Arial"/>
                  </a:rPr>
                  <a:t>правления</a:t>
                </a:r>
                <a:endParaRPr b="1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  <p:pic>
            <p:nvPicPr>
              <p:cNvPr id="177" name="Picture 31" descr="j0237940"/>
              <p:cNvPicPr/>
              <p:nvPr/>
            </p:nvPicPr>
            <p:blipFill>
              <a:blip r:embed="rId4"/>
              <a:stretch/>
            </p:blipFill>
            <p:spPr>
              <a:xfrm>
                <a:off x="684360" y="3357720"/>
                <a:ext cx="1150920" cy="814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8" name="Line 41"/>
            <p:cNvSpPr/>
            <p:nvPr/>
          </p:nvSpPr>
          <p:spPr>
            <a:xfrm flipH="1">
              <a:off x="2412720" y="3213000"/>
              <a:ext cx="1871640" cy="863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3800" y="61920"/>
            <a:ext cx="863892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.Формы правления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" name="WordArt 20"/>
          <p:cNvSpPr txBox="1"/>
          <p:nvPr/>
        </p:nvSpPr>
        <p:spPr>
          <a:xfrm>
            <a:off x="127080" y="1427040"/>
            <a:ext cx="2950920" cy="120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форма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авления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1" name="Text Box 23"/>
          <p:cNvSpPr/>
          <p:nvPr/>
        </p:nvSpPr>
        <p:spPr>
          <a:xfrm>
            <a:off x="3337920" y="1003320"/>
            <a:ext cx="5584680" cy="1922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Характеризует состав высших орган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государственной власти, порядок их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образования, организацию и порядо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взаимодействия между собой  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население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82" name="Group 32"/>
          <p:cNvGrpSpPr/>
          <p:nvPr/>
        </p:nvGrpSpPr>
        <p:grpSpPr>
          <a:xfrm>
            <a:off x="218160" y="3079800"/>
            <a:ext cx="4098960" cy="3508200"/>
            <a:chOff x="218160" y="3079800"/>
            <a:chExt cx="4098960" cy="3508200"/>
          </a:xfrm>
        </p:grpSpPr>
        <p:sp>
          <p:nvSpPr>
            <p:cNvPr id="183" name="WordArt 28"/>
            <p:cNvSpPr txBox="1"/>
            <p:nvPr/>
          </p:nvSpPr>
          <p:spPr>
            <a:xfrm>
              <a:off x="826920" y="3079800"/>
              <a:ext cx="2881440" cy="771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ffffff"/>
                    </a:solidFill>
                    <a:miter/>
                  </a:ln>
                  <a:solidFill>
                    <a:srgbClr val="6699ff"/>
                  </a:solidFill>
                  <a:latin typeface="Arial"/>
                </a:rPr>
                <a:t>Монархия</a:t>
              </a:r>
              <a:endPara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6699ff"/>
                </a:solidFill>
                <a:latin typeface="Arial"/>
                <a:ea typeface="Arial"/>
              </a:endParaRPr>
            </a:p>
          </p:txBody>
        </p:sp>
        <p:sp>
          <p:nvSpPr>
            <p:cNvPr id="184" name="Text Box 29"/>
            <p:cNvSpPr/>
            <p:nvPr/>
          </p:nvSpPr>
          <p:spPr>
            <a:xfrm>
              <a:off x="218160" y="3933720"/>
              <a:ext cx="4098960" cy="2654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33"/>
                  </a:solidFill>
                  <a:latin typeface="Arial"/>
                </a:rPr>
                <a:t>Государство, где верхов-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33"/>
                  </a:solidFill>
                  <a:latin typeface="Arial"/>
                </a:rPr>
                <a:t>ная власть принадлежит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33"/>
                  </a:solidFill>
                  <a:latin typeface="Arial"/>
                </a:rPr>
                <a:t>одному лицу,пользующе-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33"/>
                  </a:solidFill>
                  <a:latin typeface="Arial"/>
                </a:rPr>
                <a:t>муся ей по своему усмот-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33"/>
                  </a:solidFill>
                  <a:latin typeface="Arial"/>
                </a:rPr>
                <a:t>рению, по праву, которое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33"/>
                  </a:solidFill>
                  <a:latin typeface="Arial"/>
                </a:rPr>
                <a:t>не делегировано ей, ни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33"/>
                  </a:solidFill>
                  <a:latin typeface="Arial"/>
                </a:rPr>
                <a:t>какой другой властью.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85" name="Group 31"/>
          <p:cNvGrpSpPr/>
          <p:nvPr/>
        </p:nvGrpSpPr>
        <p:grpSpPr>
          <a:xfrm>
            <a:off x="4538880" y="3068640"/>
            <a:ext cx="4481280" cy="3519360"/>
            <a:chOff x="4538880" y="3068640"/>
            <a:chExt cx="4481280" cy="3519360"/>
          </a:xfrm>
        </p:grpSpPr>
        <p:sp>
          <p:nvSpPr>
            <p:cNvPr id="186" name="WordArt 27"/>
            <p:cNvSpPr txBox="1"/>
            <p:nvPr/>
          </p:nvSpPr>
          <p:spPr>
            <a:xfrm>
              <a:off x="5267160" y="3068640"/>
              <a:ext cx="3024360" cy="749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ffffff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Республика</a:t>
              </a:r>
              <a:endPara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187" name="Text Box 30"/>
            <p:cNvSpPr/>
            <p:nvPr/>
          </p:nvSpPr>
          <p:spPr>
            <a:xfrm>
              <a:off x="4538880" y="3933720"/>
              <a:ext cx="4481280" cy="26542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33"/>
                  </a:solidFill>
                  <a:latin typeface="Arial"/>
                </a:rPr>
                <a:t>Государство,  где источни-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33"/>
                  </a:solidFill>
                  <a:latin typeface="Arial"/>
                </a:rPr>
                <a:t>ком власти является народ-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33"/>
                  </a:solidFill>
                  <a:latin typeface="Arial"/>
                </a:rPr>
                <a:t>ное большинство. Верхов-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33"/>
                  </a:solidFill>
                  <a:latin typeface="Arial"/>
                </a:rPr>
                <a:t>ная власть осуществляет-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33"/>
                  </a:solidFill>
                  <a:latin typeface="Arial"/>
                </a:rPr>
                <a:t>ся представительными ор-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33"/>
                  </a:solidFill>
                  <a:latin typeface="Arial"/>
                </a:rPr>
                <a:t>анами, избранными на оп-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33"/>
                  </a:solidFill>
                  <a:latin typeface="Arial"/>
                </a:rPr>
                <a:t>ределенный срок народом.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53800" y="61920"/>
            <a:ext cx="863892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.Формы правления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89" name="Group 12"/>
          <p:cNvGrpSpPr/>
          <p:nvPr/>
        </p:nvGrpSpPr>
        <p:grpSpPr>
          <a:xfrm>
            <a:off x="3203640" y="919080"/>
            <a:ext cx="2881080" cy="1789200"/>
            <a:chOff x="3203640" y="919080"/>
            <a:chExt cx="2881080" cy="1789200"/>
          </a:xfrm>
        </p:grpSpPr>
        <p:sp>
          <p:nvSpPr>
            <p:cNvPr id="190" name="WordArt 6"/>
            <p:cNvSpPr txBox="1"/>
            <p:nvPr/>
          </p:nvSpPr>
          <p:spPr>
            <a:xfrm>
              <a:off x="3203640" y="1936800"/>
              <a:ext cx="2881080" cy="771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ffffff"/>
                    </a:solidFill>
                    <a:miter/>
                  </a:ln>
                  <a:solidFill>
                    <a:srgbClr val="6699ff"/>
                  </a:solidFill>
                  <a:latin typeface="Arial"/>
                </a:rPr>
                <a:t>Монархия</a:t>
              </a:r>
              <a:endPara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6699ff"/>
                </a:solidFill>
                <a:latin typeface="Arial"/>
                <a:ea typeface="Arial"/>
              </a:endParaRPr>
            </a:p>
          </p:txBody>
        </p:sp>
        <p:pic>
          <p:nvPicPr>
            <p:cNvPr id="191" name="Picture 11" descr="j0237940"/>
            <p:cNvPicPr/>
            <p:nvPr/>
          </p:nvPicPr>
          <p:blipFill>
            <a:blip r:embed="rId1"/>
            <a:stretch/>
          </p:blipFill>
          <p:spPr>
            <a:xfrm>
              <a:off x="3973320" y="919080"/>
              <a:ext cx="1341000" cy="94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2" name="Text Box 13"/>
          <p:cNvSpPr/>
          <p:nvPr/>
        </p:nvSpPr>
        <p:spPr>
          <a:xfrm>
            <a:off x="826920" y="3030480"/>
            <a:ext cx="7488360" cy="3141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3399"/>
                </a:solidFill>
                <a:uFillTx/>
                <a:latin typeface="Arial"/>
              </a:rPr>
              <a:t>Признак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33"/>
                </a:solidFill>
                <a:uFillTx/>
                <a:latin typeface="Arial"/>
              </a:rPr>
              <a:t>1.Во главе Монар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33"/>
                </a:solidFill>
                <a:uFillTx/>
                <a:latin typeface="Arial"/>
              </a:rPr>
              <a:t>2.Власть передается по наследств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33"/>
                </a:solidFill>
                <a:uFillTx/>
                <a:latin typeface="Arial"/>
              </a:rPr>
              <a:t>3.Не несет ответственности за свои действ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33"/>
                </a:solidFill>
                <a:uFillTx/>
                <a:latin typeface="Arial"/>
              </a:rPr>
              <a:t>4.Отсутствует разделение власт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33"/>
                </a:solidFill>
                <a:uFillTx/>
                <a:latin typeface="Arial"/>
              </a:rPr>
              <a:t>5.Единолично представляет свое государств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33"/>
                </a:solidFill>
                <a:uFillTx/>
                <a:latin typeface="Arial"/>
              </a:rPr>
              <a:t>6.Пользуется Титул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33"/>
                </a:solidFill>
                <a:uFillTx/>
                <a:latin typeface="Arial"/>
              </a:rPr>
              <a:t>7.Получает значительное содержание из казн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53800" y="61920"/>
            <a:ext cx="863892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.Формы правления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94" name="Group 3"/>
          <p:cNvGrpSpPr/>
          <p:nvPr/>
        </p:nvGrpSpPr>
        <p:grpSpPr>
          <a:xfrm>
            <a:off x="3492360" y="620640"/>
            <a:ext cx="2160720" cy="1582560"/>
            <a:chOff x="3492360" y="620640"/>
            <a:chExt cx="2160720" cy="1582560"/>
          </a:xfrm>
        </p:grpSpPr>
        <p:sp>
          <p:nvSpPr>
            <p:cNvPr id="195" name="WordArt 4"/>
            <p:cNvSpPr txBox="1"/>
            <p:nvPr/>
          </p:nvSpPr>
          <p:spPr>
            <a:xfrm>
              <a:off x="3492360" y="1521000"/>
              <a:ext cx="2160720" cy="682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ffffff"/>
                    </a:solidFill>
                    <a:miter/>
                  </a:ln>
                  <a:solidFill>
                    <a:srgbClr val="6699ff"/>
                  </a:solidFill>
                  <a:latin typeface="Arial"/>
                </a:rPr>
                <a:t>Монархия</a:t>
              </a:r>
              <a:endPara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6699ff"/>
                </a:solidFill>
                <a:latin typeface="Arial"/>
                <a:ea typeface="Arial"/>
              </a:endParaRPr>
            </a:p>
          </p:txBody>
        </p:sp>
        <p:pic>
          <p:nvPicPr>
            <p:cNvPr id="196" name="Picture 5" descr="j0237940"/>
            <p:cNvPicPr/>
            <p:nvPr/>
          </p:nvPicPr>
          <p:blipFill>
            <a:blip r:embed="rId1"/>
            <a:stretch/>
          </p:blipFill>
          <p:spPr>
            <a:xfrm>
              <a:off x="4069800" y="620640"/>
              <a:ext cx="1005840" cy="839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7" name="Group 19"/>
          <p:cNvGrpSpPr/>
          <p:nvPr/>
        </p:nvGrpSpPr>
        <p:grpSpPr>
          <a:xfrm>
            <a:off x="140760" y="836280"/>
            <a:ext cx="3711600" cy="3237840"/>
            <a:chOff x="140760" y="836280"/>
            <a:chExt cx="3711600" cy="3237840"/>
          </a:xfrm>
        </p:grpSpPr>
        <p:grpSp>
          <p:nvGrpSpPr>
            <p:cNvPr id="198" name="Group 14"/>
            <p:cNvGrpSpPr/>
            <p:nvPr/>
          </p:nvGrpSpPr>
          <p:grpSpPr>
            <a:xfrm>
              <a:off x="140760" y="1785960"/>
              <a:ext cx="3193560" cy="2288160"/>
              <a:chOff x="140760" y="1785960"/>
              <a:chExt cx="3193560" cy="2288160"/>
            </a:xfrm>
          </p:grpSpPr>
          <p:sp>
            <p:nvSpPr>
              <p:cNvPr id="199" name="WordArt 7"/>
              <p:cNvSpPr txBox="1"/>
              <p:nvPr/>
            </p:nvSpPr>
            <p:spPr>
              <a:xfrm>
                <a:off x="299880" y="1785960"/>
                <a:ext cx="2873520" cy="7491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333399"/>
                    </a:solidFill>
                    <a:latin typeface="Arial"/>
                  </a:rPr>
                  <a:t>неограниченная,</a:t>
                </a:r>
                <a:endPara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333399"/>
                  </a:solidFill>
                  <a:latin typeface="Arial"/>
                  <a:ea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333399"/>
                    </a:solidFill>
                    <a:latin typeface="Arial"/>
                  </a:rPr>
                  <a:t>абсолютная</a:t>
                </a:r>
                <a:endPara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333399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200" name="Text Box 11"/>
              <p:cNvSpPr/>
              <p:nvPr/>
            </p:nvSpPr>
            <p:spPr>
              <a:xfrm>
                <a:off x="140760" y="2882880"/>
                <a:ext cx="3193560" cy="119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7632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333399"/>
                    </a:solidFill>
                    <a:latin typeface="Tahoma"/>
                  </a:rPr>
                  <a:t>Монарх пользуется всей 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333399"/>
                    </a:solidFill>
                    <a:latin typeface="Tahoma"/>
                  </a:rPr>
                  <a:t>полнотой власти, не за-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333399"/>
                    </a:solidFill>
                    <a:latin typeface="Tahoma"/>
                  </a:rPr>
                  <a:t>висит от других органов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333399"/>
                    </a:solidFill>
                    <a:latin typeface="Tahoma"/>
                  </a:rPr>
                  <a:t>власти.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201" name="AutoShape 16"/>
            <p:cNvSpPr/>
            <p:nvPr/>
          </p:nvSpPr>
          <p:spPr>
            <a:xfrm flipH="1" flipV="1">
              <a:off x="2267640" y="835920"/>
              <a:ext cx="1584360" cy="863640"/>
            </a:xfrm>
            <a:custGeom>
              <a:avLst/>
              <a:gdLst>
                <a:gd name="textAreaLeft" fmla="*/ 0 w 1584360"/>
                <a:gd name="textAreaRight" fmla="*/ 1357560 w 1584360"/>
                <a:gd name="textAreaTop" fmla="*/ 742680 h 863640"/>
                <a:gd name="textAreaBottom" fmla="*/ 86364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226" y="0"/>
                  </a:moveTo>
                  <a:lnTo>
                    <a:pt x="12852" y="7200"/>
                  </a:lnTo>
                  <a:lnTo>
                    <a:pt x="15938" y="7200"/>
                  </a:lnTo>
                  <a:lnTo>
                    <a:pt x="15938" y="18595"/>
                  </a:lnTo>
                  <a:lnTo>
                    <a:pt x="0" y="18595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02" name="Group 18"/>
          <p:cNvGrpSpPr/>
          <p:nvPr/>
        </p:nvGrpSpPr>
        <p:grpSpPr>
          <a:xfrm>
            <a:off x="4490280" y="836280"/>
            <a:ext cx="4408200" cy="3237840"/>
            <a:chOff x="4490280" y="836280"/>
            <a:chExt cx="4408200" cy="3237840"/>
          </a:xfrm>
        </p:grpSpPr>
        <p:grpSp>
          <p:nvGrpSpPr>
            <p:cNvPr id="203" name="Group 15"/>
            <p:cNvGrpSpPr/>
            <p:nvPr/>
          </p:nvGrpSpPr>
          <p:grpSpPr>
            <a:xfrm>
              <a:off x="4490280" y="1844640"/>
              <a:ext cx="4408200" cy="2229480"/>
              <a:chOff x="4490280" y="1844640"/>
              <a:chExt cx="4408200" cy="2229480"/>
            </a:xfrm>
          </p:grpSpPr>
          <p:sp>
            <p:nvSpPr>
              <p:cNvPr id="204" name="WordArt 9"/>
              <p:cNvSpPr txBox="1"/>
              <p:nvPr/>
            </p:nvSpPr>
            <p:spPr>
              <a:xfrm>
                <a:off x="5940360" y="1844640"/>
                <a:ext cx="2952720" cy="432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333399"/>
                    </a:solidFill>
                    <a:latin typeface="Arial"/>
                  </a:rPr>
                  <a:t>конституционная</a:t>
                </a:r>
                <a:endPara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333399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205" name="Text Box 13"/>
              <p:cNvSpPr/>
              <p:nvPr/>
            </p:nvSpPr>
            <p:spPr>
              <a:xfrm>
                <a:off x="4490280" y="2882880"/>
                <a:ext cx="4408200" cy="119124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7632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660033"/>
                    </a:solidFill>
                    <a:latin typeface="Tahoma"/>
                  </a:rPr>
                  <a:t>Монарх правит посредством, или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660033"/>
                    </a:solidFill>
                    <a:latin typeface="Tahoma"/>
                  </a:rPr>
                  <a:t>при обязательном содействии ор-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660033"/>
                    </a:solidFill>
                    <a:latin typeface="Tahoma"/>
                  </a:rPr>
                  <a:t>ганов, или властей существующих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660033"/>
                    </a:solidFill>
                    <a:latin typeface="Tahoma"/>
                  </a:rPr>
                  <a:t>независимо от монарха.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206" name="AutoShape 17"/>
            <p:cNvSpPr/>
            <p:nvPr/>
          </p:nvSpPr>
          <p:spPr>
            <a:xfrm flipV="1">
              <a:off x="5292720" y="835560"/>
              <a:ext cx="1584360" cy="863640"/>
            </a:xfrm>
            <a:custGeom>
              <a:avLst/>
              <a:gdLst>
                <a:gd name="textAreaLeft" fmla="*/ 0 w 1584360"/>
                <a:gd name="textAreaRight" fmla="*/ 1357560 w 1584360"/>
                <a:gd name="textAreaTop" fmla="*/ 742680 h 863640"/>
                <a:gd name="textAreaBottom" fmla="*/ 86364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226" y="0"/>
                  </a:moveTo>
                  <a:lnTo>
                    <a:pt x="12852" y="7200"/>
                  </a:lnTo>
                  <a:lnTo>
                    <a:pt x="15938" y="7200"/>
                  </a:lnTo>
                  <a:lnTo>
                    <a:pt x="15938" y="18595"/>
                  </a:lnTo>
                  <a:lnTo>
                    <a:pt x="0" y="18595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07" name="Group 28"/>
          <p:cNvGrpSpPr/>
          <p:nvPr/>
        </p:nvGrpSpPr>
        <p:grpSpPr>
          <a:xfrm>
            <a:off x="4573440" y="4221000"/>
            <a:ext cx="4573800" cy="2484720"/>
            <a:chOff x="4573440" y="4221000"/>
            <a:chExt cx="4573800" cy="2484720"/>
          </a:xfrm>
        </p:grpSpPr>
        <p:grpSp>
          <p:nvGrpSpPr>
            <p:cNvPr id="208" name="Group 22"/>
            <p:cNvGrpSpPr/>
            <p:nvPr/>
          </p:nvGrpSpPr>
          <p:grpSpPr>
            <a:xfrm>
              <a:off x="4787640" y="4437000"/>
              <a:ext cx="4359600" cy="2268720"/>
              <a:chOff x="4787640" y="4437000"/>
              <a:chExt cx="4359600" cy="2268720"/>
            </a:xfrm>
          </p:grpSpPr>
          <p:sp>
            <p:nvSpPr>
              <p:cNvPr id="209" name="WordArt 8"/>
              <p:cNvSpPr txBox="1"/>
              <p:nvPr/>
            </p:nvSpPr>
            <p:spPr>
              <a:xfrm>
                <a:off x="5508720" y="4437000"/>
                <a:ext cx="2763720" cy="314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"/>
                  </a:rPr>
                  <a:t>дуалистическая</a:t>
                </a:r>
                <a:endPara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210" name="Text Box 20"/>
              <p:cNvSpPr/>
              <p:nvPr/>
            </p:nvSpPr>
            <p:spPr>
              <a:xfrm>
                <a:off x="4787640" y="4782960"/>
                <a:ext cx="4359600" cy="1922760"/>
              </a:xfrm>
              <a:prstGeom prst="rect">
                <a:avLst/>
              </a:prstGeom>
              <a:solidFill>
                <a:srgbClr val="ffffff"/>
              </a:solidFill>
              <a:ln w="7632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 u="sng">
                    <a:solidFill>
                      <a:srgbClr val="006600"/>
                    </a:solidFill>
                    <a:uFillTx/>
                    <a:latin typeface="Times New Roman"/>
                  </a:rPr>
                  <a:t>Пруссия, Италия (в прошлом)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660033"/>
                    </a:solidFill>
                    <a:latin typeface="Times New Roman"/>
                  </a:rPr>
                  <a:t>-У монарха исполнительная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660033"/>
                    </a:solidFill>
                    <a:latin typeface="Times New Roman"/>
                  </a:rPr>
                  <a:t>власть, формирует правите-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660033"/>
                    </a:solidFill>
                    <a:latin typeface="Times New Roman"/>
                  </a:rPr>
                  <a:t>льство, право Вето и роспус-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660033"/>
                    </a:solidFill>
                    <a:latin typeface="Times New Roman"/>
                  </a:rPr>
                  <a:t>ка парламента.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211" name="Line 25"/>
            <p:cNvSpPr/>
            <p:nvPr/>
          </p:nvSpPr>
          <p:spPr>
            <a:xfrm>
              <a:off x="4573440" y="4221000"/>
              <a:ext cx="935280" cy="287640"/>
            </a:xfrm>
            <a:prstGeom prst="line">
              <a:avLst/>
            </a:prstGeom>
            <a:ln w="7632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12" name="Group 27"/>
          <p:cNvGrpSpPr/>
          <p:nvPr/>
        </p:nvGrpSpPr>
        <p:grpSpPr>
          <a:xfrm>
            <a:off x="109800" y="4221000"/>
            <a:ext cx="4533120" cy="2484720"/>
            <a:chOff x="109800" y="4221000"/>
            <a:chExt cx="4533120" cy="2484720"/>
          </a:xfrm>
        </p:grpSpPr>
        <p:grpSp>
          <p:nvGrpSpPr>
            <p:cNvPr id="213" name="Group 23"/>
            <p:cNvGrpSpPr/>
            <p:nvPr/>
          </p:nvGrpSpPr>
          <p:grpSpPr>
            <a:xfrm>
              <a:off x="109800" y="4365720"/>
              <a:ext cx="4457160" cy="2340000"/>
              <a:chOff x="109800" y="4365720"/>
              <a:chExt cx="4457160" cy="2340000"/>
            </a:xfrm>
          </p:grpSpPr>
          <p:sp>
            <p:nvSpPr>
              <p:cNvPr id="214" name="WordArt 10"/>
              <p:cNvSpPr txBox="1"/>
              <p:nvPr/>
            </p:nvSpPr>
            <p:spPr>
              <a:xfrm>
                <a:off x="984240" y="4365720"/>
                <a:ext cx="2706840" cy="307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"/>
                  </a:rPr>
                  <a:t>парламентарная</a:t>
                </a:r>
                <a:endPara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215" name="Text Box 21"/>
              <p:cNvSpPr/>
              <p:nvPr/>
            </p:nvSpPr>
            <p:spPr>
              <a:xfrm>
                <a:off x="109800" y="4782960"/>
                <a:ext cx="4457160" cy="1922760"/>
              </a:xfrm>
              <a:prstGeom prst="rect">
                <a:avLst/>
              </a:prstGeom>
              <a:solidFill>
                <a:srgbClr val="ffffff"/>
              </a:solidFill>
              <a:ln w="7632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 u="sng">
                    <a:solidFill>
                      <a:srgbClr val="006600"/>
                    </a:solidFill>
                    <a:uFillTx/>
                    <a:latin typeface="Times New Roman"/>
                  </a:rPr>
                  <a:t>Англия, Бельгия, Швеция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660033"/>
                    </a:solidFill>
                    <a:latin typeface="Times New Roman"/>
                  </a:rPr>
                  <a:t>-Монарх–«Царствует, но не 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660033"/>
                    </a:solidFill>
                    <a:latin typeface="Times New Roman"/>
                  </a:rPr>
                  <a:t>правит», символ государства,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660033"/>
                    </a:solidFill>
                    <a:latin typeface="Times New Roman"/>
                  </a:rPr>
                  <a:t>имеет отлагательное Вето,ми-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660033"/>
                    </a:solidFill>
                    <a:latin typeface="Times New Roman"/>
                  </a:rPr>
                  <a:t>нистры зависят от парламента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216" name="Line 26"/>
            <p:cNvSpPr/>
            <p:nvPr/>
          </p:nvSpPr>
          <p:spPr>
            <a:xfrm flipH="1">
              <a:off x="3708000" y="4221000"/>
              <a:ext cx="934920" cy="287640"/>
            </a:xfrm>
            <a:prstGeom prst="line">
              <a:avLst/>
            </a:prstGeom>
            <a:ln w="7632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53800" y="61920"/>
            <a:ext cx="863892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.Формы правления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18" name="Group 28"/>
          <p:cNvGrpSpPr/>
          <p:nvPr/>
        </p:nvGrpSpPr>
        <p:grpSpPr>
          <a:xfrm>
            <a:off x="3348000" y="620640"/>
            <a:ext cx="2376360" cy="1513080"/>
            <a:chOff x="3348000" y="620640"/>
            <a:chExt cx="2376360" cy="1513080"/>
          </a:xfrm>
        </p:grpSpPr>
        <p:sp>
          <p:nvSpPr>
            <p:cNvPr id="219" name="WordArt 26"/>
            <p:cNvSpPr txBox="1"/>
            <p:nvPr/>
          </p:nvSpPr>
          <p:spPr>
            <a:xfrm>
              <a:off x="3348000" y="1630440"/>
              <a:ext cx="237636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ffffff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Республика</a:t>
              </a:r>
              <a:endPara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pic>
          <p:nvPicPr>
            <p:cNvPr id="220" name="Picture 27" descr="j0346765"/>
            <p:cNvPicPr/>
            <p:nvPr/>
          </p:nvPicPr>
          <p:blipFill>
            <a:blip r:embed="rId1"/>
            <a:stretch/>
          </p:blipFill>
          <p:spPr>
            <a:xfrm>
              <a:off x="4046400" y="620640"/>
              <a:ext cx="978120" cy="98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1" name="Group 33"/>
          <p:cNvGrpSpPr/>
          <p:nvPr/>
        </p:nvGrpSpPr>
        <p:grpSpPr>
          <a:xfrm>
            <a:off x="108000" y="836280"/>
            <a:ext cx="4248000" cy="4526280"/>
            <a:chOff x="108000" y="836280"/>
            <a:chExt cx="4248000" cy="4526280"/>
          </a:xfrm>
        </p:grpSpPr>
        <p:sp>
          <p:nvSpPr>
            <p:cNvPr id="222" name="Text Box 9"/>
            <p:cNvSpPr/>
            <p:nvPr/>
          </p:nvSpPr>
          <p:spPr>
            <a:xfrm>
              <a:off x="108000" y="2708280"/>
              <a:ext cx="4248000" cy="2654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99"/>
                  </a:solidFill>
                  <a:latin typeface="Times New Roman"/>
                </a:rPr>
                <a:t>-Единство законодательной и исполнительной властей (назначается и контролиру-ется парламентом.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99"/>
                  </a:solidFill>
                  <a:latin typeface="Times New Roman"/>
                </a:rPr>
                <a:t>-С потерей парламентского большинства правительство уходит в отставку.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3" name="AutoShape 10"/>
            <p:cNvSpPr/>
            <p:nvPr/>
          </p:nvSpPr>
          <p:spPr>
            <a:xfrm flipH="1" flipV="1">
              <a:off x="2267640" y="835920"/>
              <a:ext cx="1584360" cy="863640"/>
            </a:xfrm>
            <a:custGeom>
              <a:avLst/>
              <a:gdLst>
                <a:gd name="textAreaLeft" fmla="*/ 0 w 1584360"/>
                <a:gd name="textAreaRight" fmla="*/ 1357560 w 1584360"/>
                <a:gd name="textAreaTop" fmla="*/ 742680 h 863640"/>
                <a:gd name="textAreaBottom" fmla="*/ 86364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226" y="0"/>
                  </a:moveTo>
                  <a:lnTo>
                    <a:pt x="12852" y="7200"/>
                  </a:lnTo>
                  <a:lnTo>
                    <a:pt x="15938" y="7200"/>
                  </a:lnTo>
                  <a:lnTo>
                    <a:pt x="15938" y="18595"/>
                  </a:lnTo>
                  <a:lnTo>
                    <a:pt x="0" y="18595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4" name="WordArt 29"/>
            <p:cNvSpPr txBox="1"/>
            <p:nvPr/>
          </p:nvSpPr>
          <p:spPr>
            <a:xfrm>
              <a:off x="539640" y="2133720"/>
              <a:ext cx="378144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парламентарная</a:t>
              </a:r>
              <a:endPara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25" name="Group 35"/>
          <p:cNvGrpSpPr/>
          <p:nvPr/>
        </p:nvGrpSpPr>
        <p:grpSpPr>
          <a:xfrm>
            <a:off x="4494240" y="858600"/>
            <a:ext cx="4614840" cy="3772440"/>
            <a:chOff x="4494240" y="858600"/>
            <a:chExt cx="4614840" cy="3772440"/>
          </a:xfrm>
        </p:grpSpPr>
        <p:sp>
          <p:nvSpPr>
            <p:cNvPr id="226" name="Text Box 14"/>
            <p:cNvSpPr/>
            <p:nvPr/>
          </p:nvSpPr>
          <p:spPr>
            <a:xfrm>
              <a:off x="4494240" y="2708280"/>
              <a:ext cx="4614840" cy="19227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76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33"/>
                  </a:solidFill>
                  <a:latin typeface="Times New Roman"/>
                </a:rPr>
                <a:t>Глава государства-глава пра-вительства, назначаемого с согласия парламента, может его распускать.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33"/>
                  </a:solidFill>
                  <a:latin typeface="Times New Roman"/>
                </a:rPr>
                <a:t>Президент-символ нации.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7" name="AutoShape 15"/>
            <p:cNvSpPr/>
            <p:nvPr/>
          </p:nvSpPr>
          <p:spPr>
            <a:xfrm flipV="1">
              <a:off x="5292720" y="857880"/>
              <a:ext cx="1584360" cy="863640"/>
            </a:xfrm>
            <a:custGeom>
              <a:avLst/>
              <a:gdLst>
                <a:gd name="textAreaLeft" fmla="*/ 0 w 1584360"/>
                <a:gd name="textAreaRight" fmla="*/ 1357560 w 1584360"/>
                <a:gd name="textAreaTop" fmla="*/ 742680 h 863640"/>
                <a:gd name="textAreaBottom" fmla="*/ 86364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226" y="0"/>
                  </a:moveTo>
                  <a:lnTo>
                    <a:pt x="12852" y="7200"/>
                  </a:lnTo>
                  <a:lnTo>
                    <a:pt x="15938" y="7200"/>
                  </a:lnTo>
                  <a:lnTo>
                    <a:pt x="15938" y="18595"/>
                  </a:lnTo>
                  <a:lnTo>
                    <a:pt x="0" y="18595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8" name="WordArt 30"/>
            <p:cNvSpPr txBox="1"/>
            <p:nvPr/>
          </p:nvSpPr>
          <p:spPr>
            <a:xfrm>
              <a:off x="4871880" y="2155680"/>
              <a:ext cx="337212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президентская</a:t>
              </a:r>
              <a:endPara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29" name="Text Box 31"/>
          <p:cNvSpPr/>
          <p:nvPr/>
        </p:nvSpPr>
        <p:spPr>
          <a:xfrm>
            <a:off x="-7920" y="5337000"/>
            <a:ext cx="467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ccff"/>
                </a:solidFill>
                <a:uFillTx/>
                <a:latin typeface="Times New Roman"/>
              </a:rPr>
              <a:t>Недостатк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неустойчивость правительства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угроза тирании большинст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Text Box 32"/>
          <p:cNvSpPr/>
          <p:nvPr/>
        </p:nvSpPr>
        <p:spPr>
          <a:xfrm>
            <a:off x="4864680" y="5332320"/>
            <a:ext cx="408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ccff"/>
                </a:solidFill>
                <a:uFillTx/>
                <a:latin typeface="Times New Roman"/>
              </a:rPr>
              <a:t>Недостатк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конфликты между ветвя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ла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31" name="Group 39"/>
          <p:cNvGrpSpPr/>
          <p:nvPr/>
        </p:nvGrpSpPr>
        <p:grpSpPr>
          <a:xfrm>
            <a:off x="4498920" y="4869000"/>
            <a:ext cx="4249800" cy="1007640"/>
            <a:chOff x="4498920" y="4869000"/>
            <a:chExt cx="4249800" cy="1007640"/>
          </a:xfrm>
        </p:grpSpPr>
        <p:sp>
          <p:nvSpPr>
            <p:cNvPr id="232" name="WordArt 36"/>
            <p:cNvSpPr txBox="1"/>
            <p:nvPr/>
          </p:nvSpPr>
          <p:spPr>
            <a:xfrm>
              <a:off x="5148360" y="4869000"/>
              <a:ext cx="2808360" cy="363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3366ff"/>
                      </a:gs>
                      <a:gs pos="100000">
                        <a:srgbClr val="3366ff"/>
                      </a:gs>
                    </a:gsLst>
                    <a:lin ang="2700000"/>
                  </a:gradFill>
                  <a:latin typeface="Arial"/>
                </a:rPr>
                <a:t>смешанная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3366ff"/>
                    </a:gs>
                  </a:gsLst>
                  <a:lin ang="2700000"/>
                </a:gradFill>
                <a:latin typeface="Arial"/>
                <a:ea typeface="Arial"/>
              </a:endParaRPr>
            </a:p>
          </p:txBody>
        </p:sp>
        <p:sp>
          <p:nvSpPr>
            <p:cNvPr id="233" name="Line 37"/>
            <p:cNvSpPr/>
            <p:nvPr/>
          </p:nvSpPr>
          <p:spPr>
            <a:xfrm flipV="1">
              <a:off x="4498920" y="5300280"/>
              <a:ext cx="936720" cy="5763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4" name="Line 38"/>
            <p:cNvSpPr/>
            <p:nvPr/>
          </p:nvSpPr>
          <p:spPr>
            <a:xfrm flipH="1" flipV="1">
              <a:off x="7812000" y="5300280"/>
              <a:ext cx="936720" cy="5763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53800" y="61920"/>
            <a:ext cx="863892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.Форма государственного устройства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152640" y="765000"/>
            <a:ext cx="8799120" cy="2226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административно-территориальная организация го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ударственной власти, характер взаимоотношен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ежду государством и составляющими его частями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ежду отдельными частями государства, между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центральными и местными органа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37" name="Group 14"/>
          <p:cNvGrpSpPr/>
          <p:nvPr/>
        </p:nvGrpSpPr>
        <p:grpSpPr>
          <a:xfrm>
            <a:off x="3492360" y="3573360"/>
            <a:ext cx="2016360" cy="1290600"/>
            <a:chOff x="3492360" y="3573360"/>
            <a:chExt cx="2016360" cy="1290600"/>
          </a:xfrm>
        </p:grpSpPr>
        <p:sp>
          <p:nvSpPr>
            <p:cNvPr id="238" name="WordArt 12"/>
            <p:cNvSpPr txBox="1"/>
            <p:nvPr/>
          </p:nvSpPr>
          <p:spPr>
            <a:xfrm>
              <a:off x="3635280" y="4292640"/>
              <a:ext cx="170496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blipFill rotWithShape="0">
                    <a:blip r:embed="rId2"/>
                    <a:srcRect/>
                    <a:stretch/>
                  </a:blipFill>
                  <a:latin typeface="Impact"/>
                </a:rPr>
                <a:t>зависит</a:t>
              </a:r>
              <a:endParaRPr b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Impact"/>
                <a:ea typeface="Impact"/>
              </a:endParaRPr>
            </a:p>
          </p:txBody>
        </p:sp>
        <p:sp>
          <p:nvSpPr>
            <p:cNvPr id="239" name="AutoShape 13"/>
            <p:cNvSpPr/>
            <p:nvPr/>
          </p:nvSpPr>
          <p:spPr>
            <a:xfrm>
              <a:off x="3492360" y="3573360"/>
              <a:ext cx="2016360" cy="576360"/>
            </a:xfrm>
            <a:prstGeom prst="upArrowCallout">
              <a:avLst>
                <a:gd name="adj1" fmla="val 61163"/>
                <a:gd name="adj2" fmla="val 60882"/>
                <a:gd name="adj3" fmla="val 33333"/>
                <a:gd name="adj4" fmla="val 106335"/>
              </a:avLst>
            </a:prstGeom>
            <a:solidFill>
              <a:srgbClr val="ff0000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40" name="Group 17"/>
          <p:cNvGrpSpPr/>
          <p:nvPr/>
        </p:nvGrpSpPr>
        <p:grpSpPr>
          <a:xfrm>
            <a:off x="532440" y="3975120"/>
            <a:ext cx="3968280" cy="2406600"/>
            <a:chOff x="532440" y="3975120"/>
            <a:chExt cx="3968280" cy="2406600"/>
          </a:xfrm>
        </p:grpSpPr>
        <p:grpSp>
          <p:nvGrpSpPr>
            <p:cNvPr id="241" name="Group 6"/>
            <p:cNvGrpSpPr/>
            <p:nvPr/>
          </p:nvGrpSpPr>
          <p:grpSpPr>
            <a:xfrm>
              <a:off x="532440" y="3975120"/>
              <a:ext cx="1953000" cy="2336760"/>
              <a:chOff x="532440" y="3975120"/>
              <a:chExt cx="1953000" cy="2336760"/>
            </a:xfrm>
          </p:grpSpPr>
          <p:pic>
            <p:nvPicPr>
              <p:cNvPr id="242" name="Picture 4" descr="j0231137"/>
              <p:cNvPicPr/>
              <p:nvPr/>
            </p:nvPicPr>
            <p:blipFill>
              <a:blip r:embed="rId4"/>
              <a:stretch/>
            </p:blipFill>
            <p:spPr>
              <a:xfrm>
                <a:off x="709560" y="3975120"/>
                <a:ext cx="1598400" cy="165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3" name="Text Box 5"/>
              <p:cNvSpPr/>
              <p:nvPr/>
            </p:nvSpPr>
            <p:spPr>
              <a:xfrm>
                <a:off x="532440" y="5486400"/>
                <a:ext cx="19530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ahoma"/>
                  </a:rPr>
                  <a:t>Публичная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ahoma"/>
                  </a:rPr>
                  <a:t>Власть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244" name="AutoShape 15"/>
            <p:cNvSpPr/>
            <p:nvPr/>
          </p:nvSpPr>
          <p:spPr>
            <a:xfrm>
              <a:off x="2484360" y="5084640"/>
              <a:ext cx="2016360" cy="1297080"/>
            </a:xfrm>
            <a:custGeom>
              <a:avLst/>
              <a:gdLst>
                <a:gd name="textAreaLeft" fmla="*/ 0 w 2016360"/>
                <a:gd name="textAreaRight" fmla="*/ 1729080 w 2016360"/>
                <a:gd name="textAreaTop" fmla="*/ 865440 h 1297080"/>
                <a:gd name="textAreaBottom" fmla="*/ 1297440 h 129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429" y="0"/>
                  </a:moveTo>
                  <a:lnTo>
                    <a:pt x="9257" y="7200"/>
                  </a:lnTo>
                  <a:lnTo>
                    <a:pt x="12343" y="7200"/>
                  </a:lnTo>
                  <a:lnTo>
                    <a:pt x="12343" y="14400"/>
                  </a:lnTo>
                  <a:lnTo>
                    <a:pt x="0" y="14400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close/>
                </a:path>
              </a:pathLst>
            </a:custGeom>
            <a:solidFill>
              <a:srgbClr val="ff0000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45" name="Group 18"/>
          <p:cNvGrpSpPr/>
          <p:nvPr/>
        </p:nvGrpSpPr>
        <p:grpSpPr>
          <a:xfrm>
            <a:off x="4427640" y="4005360"/>
            <a:ext cx="4708080" cy="2376360"/>
            <a:chOff x="4427640" y="4005360"/>
            <a:chExt cx="4708080" cy="2376360"/>
          </a:xfrm>
        </p:grpSpPr>
        <p:grpSp>
          <p:nvGrpSpPr>
            <p:cNvPr id="246" name="Group 11"/>
            <p:cNvGrpSpPr/>
            <p:nvPr/>
          </p:nvGrpSpPr>
          <p:grpSpPr>
            <a:xfrm>
              <a:off x="6085440" y="4005360"/>
              <a:ext cx="3050280" cy="2275920"/>
              <a:chOff x="6085440" y="4005360"/>
              <a:chExt cx="3050280" cy="2275920"/>
            </a:xfrm>
          </p:grpSpPr>
          <p:pic>
            <p:nvPicPr>
              <p:cNvPr id="247" name="Picture 9" descr="j0309398"/>
              <p:cNvPicPr/>
              <p:nvPr/>
            </p:nvPicPr>
            <p:blipFill>
              <a:blip r:embed="rId5"/>
              <a:srcRect l="0" t="8868" r="0" b="20089"/>
              <a:stretch/>
            </p:blipFill>
            <p:spPr>
              <a:xfrm>
                <a:off x="6908760" y="4005360"/>
                <a:ext cx="1404720" cy="15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8" name="Text Box 10"/>
              <p:cNvSpPr/>
              <p:nvPr/>
            </p:nvSpPr>
            <p:spPr>
              <a:xfrm>
                <a:off x="6085440" y="5455800"/>
                <a:ext cx="30502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ahoma"/>
                  </a:rPr>
                  <a:t>Территориальная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ahoma"/>
                  </a:rPr>
                  <a:t>организация.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249" name="AutoShape 16"/>
            <p:cNvSpPr/>
            <p:nvPr/>
          </p:nvSpPr>
          <p:spPr>
            <a:xfrm flipH="1">
              <a:off x="4427640" y="5084640"/>
              <a:ext cx="2016000" cy="1297080"/>
            </a:xfrm>
            <a:custGeom>
              <a:avLst/>
              <a:gdLst>
                <a:gd name="textAreaLeft" fmla="*/ 0 w 2016000"/>
                <a:gd name="textAreaRight" fmla="*/ 1728720 w 2016000"/>
                <a:gd name="textAreaTop" fmla="*/ 865440 h 1297080"/>
                <a:gd name="textAreaBottom" fmla="*/ 1297440 h 129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429" y="0"/>
                  </a:moveTo>
                  <a:lnTo>
                    <a:pt x="9257" y="7200"/>
                  </a:lnTo>
                  <a:lnTo>
                    <a:pt x="12343" y="7200"/>
                  </a:lnTo>
                  <a:lnTo>
                    <a:pt x="12343" y="14400"/>
                  </a:lnTo>
                  <a:lnTo>
                    <a:pt x="0" y="14400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close/>
                </a:path>
              </a:pathLst>
            </a:custGeom>
            <a:solidFill>
              <a:srgbClr val="ff0000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53800" y="61920"/>
            <a:ext cx="863892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.Форма государственного устройства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51" name="Group 26"/>
          <p:cNvGrpSpPr/>
          <p:nvPr/>
        </p:nvGrpSpPr>
        <p:grpSpPr>
          <a:xfrm>
            <a:off x="878040" y="790560"/>
            <a:ext cx="8086320" cy="1922760"/>
            <a:chOff x="878040" y="790560"/>
            <a:chExt cx="8086320" cy="1922760"/>
          </a:xfrm>
        </p:grpSpPr>
        <p:sp>
          <p:nvSpPr>
            <p:cNvPr id="252" name="WordArt 18"/>
            <p:cNvSpPr txBox="1"/>
            <p:nvPr/>
          </p:nvSpPr>
          <p:spPr>
            <a:xfrm>
              <a:off x="878040" y="1546200"/>
              <a:ext cx="240984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000082"/>
                      </a:gs>
                      <a:gs pos="100000">
                        <a:srgbClr val="000082"/>
                      </a:gs>
                    </a:gsLst>
                    <a:lin ang="5400000"/>
                  </a:gradFill>
                  <a:latin typeface="Arial"/>
                </a:rPr>
                <a:t>1.Унитарная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253" name="Text Box 21"/>
            <p:cNvSpPr/>
            <p:nvPr/>
          </p:nvSpPr>
          <p:spPr>
            <a:xfrm>
              <a:off x="4280040" y="790560"/>
              <a:ext cx="4684320" cy="19227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76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олное политическое единство.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оставные части государства не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имеют собственного законода-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тельства, обладают равными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авами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54" name="Group 25"/>
          <p:cNvGrpSpPr/>
          <p:nvPr/>
        </p:nvGrpSpPr>
        <p:grpSpPr>
          <a:xfrm>
            <a:off x="425520" y="2940120"/>
            <a:ext cx="8610480" cy="1557000"/>
            <a:chOff x="425520" y="2940120"/>
            <a:chExt cx="8610480" cy="1557000"/>
          </a:xfrm>
        </p:grpSpPr>
        <p:sp>
          <p:nvSpPr>
            <p:cNvPr id="255" name="WordArt 19"/>
            <p:cNvSpPr txBox="1"/>
            <p:nvPr/>
          </p:nvSpPr>
          <p:spPr>
            <a:xfrm>
              <a:off x="425520" y="3487680"/>
              <a:ext cx="331452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000082"/>
                      </a:gs>
                      <a:gs pos="100000">
                        <a:srgbClr val="000082"/>
                      </a:gs>
                    </a:gsLst>
                    <a:lin ang="5400000"/>
                  </a:gradFill>
                  <a:latin typeface="Arial"/>
                </a:rPr>
                <a:t>2.Федеративная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256" name="Text Box 22"/>
            <p:cNvSpPr/>
            <p:nvPr/>
          </p:nvSpPr>
          <p:spPr>
            <a:xfrm>
              <a:off x="4210200" y="2940120"/>
              <a:ext cx="4825800" cy="155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76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оюз ряда государств.Они сох-    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аняют высшие органы власти,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вое законодательство, налого-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ую систему и т.д.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57" name="Group 24"/>
          <p:cNvGrpSpPr/>
          <p:nvPr/>
        </p:nvGrpSpPr>
        <p:grpSpPr>
          <a:xfrm>
            <a:off x="34920" y="4724280"/>
            <a:ext cx="8980560" cy="1922760"/>
            <a:chOff x="34920" y="4724280"/>
            <a:chExt cx="8980560" cy="1922760"/>
          </a:xfrm>
        </p:grpSpPr>
        <p:sp>
          <p:nvSpPr>
            <p:cNvPr id="258" name="WordArt 20"/>
            <p:cNvSpPr txBox="1"/>
            <p:nvPr/>
          </p:nvSpPr>
          <p:spPr>
            <a:xfrm>
              <a:off x="34920" y="5454720"/>
              <a:ext cx="409572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000082"/>
                      </a:gs>
                      <a:gs pos="100000">
                        <a:srgbClr val="000082"/>
                      </a:gs>
                    </a:gsLst>
                    <a:lin ang="5400000"/>
                  </a:gradFill>
                  <a:latin typeface="Arial"/>
                </a:rPr>
                <a:t>3.Конфедеративная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259" name="Text Box 23"/>
            <p:cNvSpPr/>
            <p:nvPr/>
          </p:nvSpPr>
          <p:spPr>
            <a:xfrm>
              <a:off x="4271760" y="4724280"/>
              <a:ext cx="4743720" cy="19227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76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Государственно-правовые объе-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динения суверенных государств.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Имеют свои Конституции, бюд-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жет. Самостоятельно выступают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а международной арене.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3T15:29:31Z</dcterms:created>
  <dc:creator>Руслан Комяков</dc:creator>
  <dc:description/>
  <dc:language>en-US</dc:language>
  <cp:lastModifiedBy>Admin</cp:lastModifiedBy>
  <dcterms:modified xsi:type="dcterms:W3CDTF">2012-06-19T16:48:52Z</dcterms:modified>
  <cp:revision>4</cp:revision>
  <dc:subject/>
  <dc:title>Форма государства. Политическая система общества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