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48E-674A-4D9B-80FF-4BDA639E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DD2-E9AA-41F5-87BF-CA97EBB8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81B-D42E-475D-82FE-46763E94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C50-0A7D-4D95-AAFC-EBD81883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2C27-7312-4B62-BEEF-5AB4F27B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ADAC-8EDC-4C11-A0CE-9D619A8B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D93F-9103-4250-AE07-B5683282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8C96-51DE-41D8-ACE2-D25B1C36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16F0-9244-4BF0-8AB8-5B77264E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FF69-B8E3-4CD2-97D3-B333EE7F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8B4E-A3D2-467A-B78D-C7F34B7C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D16-D84F-4361-A6AF-CDB27D0E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2F53-085C-48EB-BE65-536C6934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E851-EFAB-4359-BDC4-4CA1302C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7622-4036-4229-9878-3E7FE579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11ED-6F82-4062-B8A2-C85FCFD9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869D-3B98-4752-8AB2-3EE8FB6E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030-CDB9-48F9-8E27-FA785ADD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7DB9-094A-44AA-ADAB-631EAE42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3F0-C21E-438A-8FC5-28E83512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B74-EFAA-4CD9-B601-97701C74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FE02-2B40-440E-9FAD-08DC3A09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8AC-2C46-4725-AD37-2B23D138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3C5-9CF2-402E-93E8-976A3D4D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C032-CB55-490A-AEB9-85C33F5DA4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67F0-F5A3-4BBE-88ED-11E190864A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file:///&#1055;&#1072;&#1084;&#1103;&#1090;&#1082;&#1072;.pub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11280" y="88380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Начинается урок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Он пойдет ребятам впрок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остарайтесь все понять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Учитесь тайны открывать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Ответы полные давайт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И на уроке не зевайт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179280" y="1844640"/>
          <a:ext cx="8580600" cy="604800"/>
        </p:xfrm>
        <a:graphic>
          <a:graphicData uri="http://schemas.openxmlformats.org/drawingml/2006/table">
            <a:tbl>
              <a:tblPr/>
              <a:tblGrid>
                <a:gridCol w="857520"/>
                <a:gridCol w="857160"/>
                <a:gridCol w="858600"/>
                <a:gridCol w="857520"/>
                <a:gridCol w="861840"/>
                <a:gridCol w="857160"/>
                <a:gridCol w="857520"/>
                <a:gridCol w="858600"/>
                <a:gridCol w="857520"/>
                <a:gridCol w="8571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д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 rot="16200000">
            <a:off x="4356000" y="-1466640"/>
            <a:ext cx="504720" cy="8569080"/>
          </a:xfrm>
          <a:custGeom>
            <a:avLst/>
            <a:gdLst>
              <a:gd name="textAreaLeft" fmla="*/ 322560 w 504720"/>
              <a:gd name="textAreaRight" fmla="*/ 505080 w 504720"/>
              <a:gd name="textAreaTop" fmla="*/ 223200 h 8569080"/>
              <a:gd name="textAreaBottom" fmla="*/ 8345880 h 85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789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1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1600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7964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1268280"/>
            <a:ext cx="792360" cy="505080"/>
          </a:xfrm>
          <a:custGeom>
            <a:avLst/>
            <a:gdLst>
              <a:gd name="textAreaLeft" fmla="*/ 138600 w 792360"/>
              <a:gd name="textAreaRight" fmla="*/ 574560 w 79236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3564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00720" y="1268280"/>
            <a:ext cx="792360" cy="505080"/>
          </a:xfrm>
          <a:custGeom>
            <a:avLst/>
            <a:gdLst>
              <a:gd name="textAreaLeft" fmla="*/ 138600 w 792360"/>
              <a:gd name="textAreaRight" fmla="*/ 574560 w 79236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308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56720" y="1268280"/>
            <a:ext cx="792000" cy="505080"/>
          </a:xfrm>
          <a:custGeom>
            <a:avLst/>
            <a:gdLst>
              <a:gd name="textAreaLeft" fmla="*/ 138600 w 792000"/>
              <a:gd name="textAreaRight" fmla="*/ 574200 w 7920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4246920" y="-3087000"/>
            <a:ext cx="721080" cy="8424720"/>
          </a:xfrm>
          <a:custGeom>
            <a:avLst/>
            <a:gdLst>
              <a:gd name="textAreaLeft" fmla="*/ 0 w 721080"/>
              <a:gd name="textAreaRight" fmla="*/ 260280 w 721080"/>
              <a:gd name="textAreaTop" fmla="*/ 219600 h 8424720"/>
              <a:gd name="textAreaBottom" fmla="*/ 8205120 h 842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64000" y="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10 ра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03280" y="522936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1м = 10дм = 100 с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Arial"/>
              </a:rPr>
              <a:t>Модели метр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042920" y="3573360"/>
            <a:ext cx="3743280" cy="3479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859280" y="134136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Картинка 39 из 2205"/>
          <p:cNvPicPr/>
          <p:nvPr/>
        </p:nvPicPr>
        <p:blipFill>
          <a:blip r:embed="rId3"/>
          <a:stretch/>
        </p:blipFill>
        <p:spPr>
          <a:xfrm>
            <a:off x="0" y="1268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378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9200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Arial"/>
              </a:rPr>
              <a:t>Самостоятельная рабо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8 м =… см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3 м = …д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5 м 3 дм = ….дм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4 м 2 дм 1 см =….с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Arial"/>
              </a:rPr>
              <a:t>Самопроверка</a:t>
            </a: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8 м =800см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3 м = 30д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5 м 3 дм = 53 дм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4 м 2 дм 1 см =421с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80808"/>
                </a:solidFill>
                <a:latin typeface="Arial"/>
              </a:rPr>
              <a:t>Наш девиз:</a:t>
            </a:r>
            <a:br>
              <a:rPr sz="8000"/>
            </a:br>
            <a:r>
              <a:rPr b="1" lang="en-US" sz="8000" spc="-1" strike="noStrike">
                <a:solidFill>
                  <a:srgbClr val="080808"/>
                </a:solidFill>
                <a:latin typeface="Arial"/>
              </a:rPr>
              <a:t> « Учитесь тайны открывать!»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476360" y="189000"/>
            <a:ext cx="54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Запомни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 flipH="1">
            <a:off x="7451280" y="404640"/>
            <a:ext cx="838440" cy="5112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71640" y="1341360"/>
            <a:ext cx="48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Times New Roman"/>
              </a:rPr>
              <a:t>1м    =  10 д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2708280"/>
            <a:ext cx="48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Times New Roman"/>
              </a:rPr>
              <a:t>1м    =  100 с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71640" y="4149720"/>
            <a:ext cx="48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Times New Roman"/>
              </a:rPr>
              <a:t>1дм  =  10 с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71640" y="5661000"/>
            <a:ext cx="48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Times New Roman"/>
              </a:rPr>
              <a:t>1см  =  10 м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19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Памя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-10800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Наш девиз: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« Учитесь …….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открывать!»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80808"/>
                </a:solidFill>
                <a:latin typeface="Arial"/>
              </a:rPr>
              <a:t>Наш девиз:</a:t>
            </a:r>
            <a:br>
              <a:rPr sz="8000"/>
            </a:br>
            <a:r>
              <a:rPr b="1" lang="en-US" sz="8000" spc="-1" strike="noStrike">
                <a:solidFill>
                  <a:srgbClr val="080808"/>
                </a:solidFill>
                <a:latin typeface="Arial"/>
              </a:rPr>
              <a:t> « Учитесь тайны открывать!»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_Stamper"/>
              </a:rPr>
              <a:t>Математическая разминка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Составьте трехзначное число, называя сотни, десятки и едини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Представить ……. в виде суммы разрядных слагаем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Уменьшить на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Увеличить на 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Назвать соседей числ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Arial"/>
              </a:rPr>
              <a:t>Соотношение См. и Д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89308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1 дм =…см.              3дм 6см = …с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2 дм =…см               8 дм 2 см =…с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60 см = … дм           … дм … см = 73 с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50 см = …дм            … дм … см = 44 с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етр – самая главная единица измерения. Это родоначальник большого семейства единиц, которое носит его имя (Метрическая система мер) Метр появился на свет в конце XVIII века во Франции. Раньше существовали разные единицы измерения: дюйм, фут, миля и др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2508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Косая сажень-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расстояние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от подошвы левой ноги до конца большого пальца вытянутой вверх правой руки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ховая сажень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расстояние между кончиками пальцев раскинутых ру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1447920" cy="3419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771640" y="3068640"/>
            <a:ext cx="60674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Тема урока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80808"/>
                </a:solidFill>
                <a:latin typeface="Arial"/>
              </a:rPr>
              <a:t>Единицы длины.</a:t>
            </a:r>
            <a:r>
              <a:rPr b="1" lang="en-US" sz="96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80808"/>
                </a:solidFill>
                <a:latin typeface="Arial"/>
              </a:rPr>
              <a:t>Метр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05:04:48Z</dcterms:created>
  <dc:creator>Customer</dc:creator>
  <dc:description/>
  <dc:language>en-US</dc:language>
  <cp:lastModifiedBy>Admin</cp:lastModifiedBy>
  <dcterms:modified xsi:type="dcterms:W3CDTF">2012-08-26T12:09:50Z</dcterms:modified>
  <cp:revision>17</cp:revision>
  <dc:subject/>
  <dc:title>Наш девиз:  « Учитесь тайны открывать!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