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A7A-CB2E-4C63-881C-AF079D9D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E6-0034-41BD-B902-EF5C3C4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9B7-3D7E-45F3-9892-B614BCFE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E7E-9C10-43F9-B073-8B8712BE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CC47-F296-49C5-A4AE-A07DD27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AB8D-7B23-4E62-9B4B-EB7F8F58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900-1230-4F8B-94CA-FDEBFFE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722-86A2-4E65-BC2B-15C44B5F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64EE-7372-44D2-9645-263383DD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5B1-484C-4661-820B-60FB1A8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4C02-806F-4E24-8819-B667570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5B4-F45E-4EBF-B02B-A3D3D68B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1F29-643C-4662-A98C-D0B180D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F3A-225E-4332-A4F8-5C15505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923C-F08B-4ED5-98B5-1C043030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B73A-8B5C-4F89-BA95-63B47EA5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04D-03DB-468D-9460-75983263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483-E8D7-412E-BC5B-47547DF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F84-111B-445A-91EB-48FE256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EE4-0E03-4CBA-A1D3-28DEFB1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0D7-62C7-4C7D-AF70-C8141FC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AF6-5AB9-445B-A6A7-78D77D0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18C-F71B-49FA-8298-F32FF39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3D1-6638-49D9-AE65-D15A099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B75-B5BC-4F44-A116-D9318D358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AE1B-9CB1-464B-AE67-0FA32F2E5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55;&#1072;&#1084;&#1103;&#1090;&#1082;&#1072;.pub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11280" y="88380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ачинается у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н пойдет ребятам вп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старайтесь все поня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читесь тайны открыва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тветы полные давай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 на уроке не зевайт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79280" y="1844640"/>
          <a:ext cx="8580600" cy="6048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8600"/>
                <a:gridCol w="857520"/>
                <a:gridCol w="861840"/>
                <a:gridCol w="857160"/>
                <a:gridCol w="857520"/>
                <a:gridCol w="858600"/>
                <a:gridCol w="857520"/>
                <a:gridCol w="857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 rot="16200000">
            <a:off x="4356000" y="-1466640"/>
            <a:ext cx="504720" cy="856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7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246920" y="-3087000"/>
            <a:ext cx="721080" cy="8424720"/>
          </a:xfrm>
          <a:custGeom>
            <a:avLst/>
            <a:gdLst>
              <a:gd name="textAreaLeft" fmla="*/ 0 w 721080"/>
              <a:gd name="textAreaRight" fmla="*/ 260280 w 72108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0 р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5229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 = 10дм = 100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Модели мет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3743280" cy="347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Картинка 39 из 2205"/>
          <p:cNvPicPr/>
          <p:nvPr/>
        </p:nvPicPr>
        <p:blipFill>
          <a:blip r:embed="rId3"/>
          <a:stretch/>
        </p:blipFill>
        <p:spPr>
          <a:xfrm>
            <a:off x="0" y="126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78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… 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…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….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….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Самопроверка</a:t>
            </a: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800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30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53 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421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76360" y="189000"/>
            <a:ext cx="54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Запомн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flipH="1">
            <a:off x="7451280" y="404640"/>
            <a:ext cx="838440" cy="511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134136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 д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0828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414972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дм  =  1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566100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см  =  10 м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Памя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« Учитесь ……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ткрывать!»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_Stamper"/>
              </a:rPr>
              <a:t>Математическая разминк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Составьте трехзначное число, называя сотни, десятки и еди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Представить ……. в виде суммы разрядных слагае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меньшить на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величить на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Назвать соседей чис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оотношение См. и Д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893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1 дм =…см.              3дм 6см = 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2 дм =…см               8 дм 2 см =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60 см = … дм           … дм … см = 73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50 см = …дм            … дм … см = 4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р – самая главная единица измерения. Это родоначальник большого семейства единиц, которое носит его имя (Метрическая система мер) Метр появился на свет в конце XVIII века во Франции. Раньше существовали разные единицы измерения: дюйм, фут, миля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Косая сажень-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расстояние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от подошвы левой ноги до конца большого пальца вытянутой вверх правой рук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ховая сажень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асстояние между кончиками пальцев раскинутых р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447920" cy="341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60674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Тема урока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0808"/>
                </a:solidFill>
                <a:latin typeface="Arial"/>
              </a:rPr>
              <a:t>Единицы длины.</a:t>
            </a: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Метр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04:48Z</dcterms:created>
  <dc:creator>Customer</dc:creator>
  <dc:description/>
  <dc:language>en-US</dc:language>
  <cp:lastModifiedBy>Admin</cp:lastModifiedBy>
  <dcterms:modified xsi:type="dcterms:W3CDTF">2012-08-26T12:09:50Z</dcterms:modified>
  <cp:revision>17</cp:revision>
  <dc:subject/>
  <dc:title>Наш девиз:  « Учитесь тайны открывать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