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B4B-5A57-4FE4-A797-94BD8581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94D-3524-455E-BE58-CAFA5074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AE9-00A0-42B3-B439-18EEAA80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97F-5B22-45A2-A4CF-9F3EEA0A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E8EF-9E78-4E38-977B-5EB68524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F8A6-95FE-4A25-B964-03428C1E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7559-C99A-458A-9E90-3BC1365C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7A39-763E-4E4E-9AFF-1303E5EC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61B1-D7A2-4B0B-97DE-C79EE5F7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B30E-E0BB-4264-BCA4-137E3AF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3016-C2C7-41A3-9501-FF53C063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9D0-FFB6-497A-BBAF-D8A8276E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5054-9AC5-41EF-BBDF-4CD5A34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6535-61BD-4F56-AD7A-747056B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CD00-B9C1-4CC2-A3E7-F7B79BF2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A0DE-25AF-4A1E-B7F9-FFCE4D7C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2F7E-33E8-42D6-BA63-267ACDC3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F4F-DFE8-4845-9CDF-E09931E0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C84-A53A-4582-A6C8-823A209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C97-43CA-43B4-BFDD-874785F9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945-7165-4C66-8833-74E4A1BE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BDF-760F-4CB8-9DD7-8B4E14E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E1A-CBC0-4FDB-AA5B-8D4D7F7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6DE-4EA7-4325-ACC5-1516769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B1C6-40A1-4F85-802F-D4CCF26AEB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E7C0-02E2-4D9D-A6AC-173E47B87E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&#1055;&#1072;&#1084;&#1103;&#1090;&#1082;&#1072;.pub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11280" y="88380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Начинается урок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Он пойдет ребятам впрок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старайтесь все понять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Учитесь тайны открывать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Ответы полные давай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И на уроке не зевайт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79280" y="1844640"/>
          <a:ext cx="8580600" cy="6048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8600"/>
                <a:gridCol w="857520"/>
                <a:gridCol w="861840"/>
                <a:gridCol w="857160"/>
                <a:gridCol w="857520"/>
                <a:gridCol w="858600"/>
                <a:gridCol w="857520"/>
                <a:gridCol w="857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 rot="16200000">
            <a:off x="4356000" y="-1466640"/>
            <a:ext cx="504720" cy="8569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223200 h 8569080"/>
              <a:gd name="textAreaBottom" fmla="*/ 8345880 h 85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78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1268280"/>
            <a:ext cx="792360" cy="505080"/>
          </a:xfrm>
          <a:custGeom>
            <a:avLst/>
            <a:gdLst>
              <a:gd name="textAreaLeft" fmla="*/ 138600 w 792360"/>
              <a:gd name="textAreaRight" fmla="*/ 574560 w 792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1268280"/>
            <a:ext cx="792360" cy="505080"/>
          </a:xfrm>
          <a:custGeom>
            <a:avLst/>
            <a:gdLst>
              <a:gd name="textAreaLeft" fmla="*/ 138600 w 792360"/>
              <a:gd name="textAreaRight" fmla="*/ 574560 w 792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246920" y="-3087000"/>
            <a:ext cx="721080" cy="8424720"/>
          </a:xfrm>
          <a:custGeom>
            <a:avLst/>
            <a:gdLst>
              <a:gd name="textAreaLeft" fmla="*/ 0 w 721080"/>
              <a:gd name="textAreaRight" fmla="*/ 260280 w 721080"/>
              <a:gd name="textAreaTop" fmla="*/ 219600 h 8424720"/>
              <a:gd name="textAreaBottom" fmla="*/ 8205120 h 84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0 р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5229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м = 10дм = 100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Модели мет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3743280" cy="3479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Картинка 39 из 2205"/>
          <p:cNvPicPr/>
          <p:nvPr/>
        </p:nvPicPr>
        <p:blipFill>
          <a:blip r:embed="rId3"/>
          <a:stretch/>
        </p:blipFill>
        <p:spPr>
          <a:xfrm>
            <a:off x="0" y="1268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78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Самостоятель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8 м =… см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3 м = …д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5 м 3 дм = ….дм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4 м 2 дм 1 см =….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Самопроверка</a:t>
            </a: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8 м =800см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3 м = 30д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5 м 3 дм = 53 дм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4 м 2 дм 1 см =421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Наш девиз:</a:t>
            </a:r>
            <a:br>
              <a:rPr sz="8000"/>
            </a:b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 « Учитесь тайны открывать!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76360" y="189000"/>
            <a:ext cx="54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Запомн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 flipH="1">
            <a:off x="7451280" y="404640"/>
            <a:ext cx="838440" cy="511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134136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м    =  10 д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70828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м    =  100 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414972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дм  =  10 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566100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см  =  10 м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Памя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« Учитесь …….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открывать!»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Наш девиз:</a:t>
            </a:r>
            <a:br>
              <a:rPr sz="8000"/>
            </a:b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 « Учитесь тайны открывать!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_Stamper"/>
              </a:rPr>
              <a:t>Математическая разминк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Составьте трехзначное число, называя сотни, десятки и един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Представить ……. в виде суммы разрядных слагаем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Уменьшить на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Увеличить на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Назвать соседей чис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Соотношение См. и Д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893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1 дм =…см.              3дм 6см = …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2 дм =…см               8 дм 2 см =…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60 см = … дм           … дм … см = 73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50 см = …дм            … дм … см = 44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р – самая главная единица измерения. Это родоначальник большого семейства единиц, которое носит его имя (Метрическая система мер) Метр появился на свет в конце XVIII века во Франции. Раньше существовали разные единицы измерения: дюйм, фут, миля и д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250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Косая сажень-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расстояние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от подошвы левой ноги до конца большого пальца вытянутой вверх правой рук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ховая сажень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асстояние между кончиками пальцев раскинутых р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1447920" cy="3419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771640" y="3068640"/>
            <a:ext cx="60674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Тема урока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80808"/>
                </a:solidFill>
                <a:latin typeface="Arial"/>
              </a:rPr>
              <a:t>Единицы длины.</a:t>
            </a:r>
            <a:r>
              <a:rPr b="1" lang="en-US" sz="9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80808"/>
                </a:solidFill>
                <a:latin typeface="Arial"/>
              </a:rPr>
              <a:t>Метр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5:04:48Z</dcterms:created>
  <dc:creator>Customer</dc:creator>
  <dc:description/>
  <dc:language>en-US</dc:language>
  <cp:lastModifiedBy>Admin</cp:lastModifiedBy>
  <dcterms:modified xsi:type="dcterms:W3CDTF">2012-08-26T12:09:50Z</dcterms:modified>
  <cp:revision>17</cp:revision>
  <dc:subject/>
  <dc:title>Наш девиз:  « Учитесь тайны открывать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