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>
    <p:sldRg st="1" end="8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FDC55-389E-4619-B686-78842AD01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00000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B4D28-A637-4424-BCB0-0BF27DD80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000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07373-01BE-4418-8056-A50B022F2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000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F0DA0-56AC-4A4D-A0E7-75431735B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77A26-CAE7-4E5B-B43B-AF875B01A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00000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CEAB3-41B6-4910-AC98-2B4A3323F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00000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03904-D0FE-4CDD-834C-8C5240321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0000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7570A-9819-41F4-A7B9-55E65A02D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9CB93-6960-43F6-8CF4-268CC6C6A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8211B-4219-4EB2-B329-8896CD1BE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0000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24673-6390-4B4F-B4EA-BA93F585F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000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37F19-8E00-459B-8317-D16FECA0D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00000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05F54-1BB8-47E9-B1A3-FF9D6B542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00000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455A8-98DF-43CA-BB3A-6A6FC97D1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000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EEA2D-ABC9-4FAE-85AD-A16CC5CFC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00000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EB858-1401-4341-BCA2-10A1CB2AB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000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764F3-AAEF-4E2D-A392-4FAEF6B89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0AEB3B-5E13-489C-8945-5E04948A2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00000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E83DB5-A10B-4A25-9ADB-9809BB12A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00000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BA87A5-B390-4E5A-A7A4-54B5F17E2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00000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76F0A7-3E54-420C-9DE8-A4A943676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66CABD-9EAC-44C3-8E71-5279095D7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000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B425A-5FFA-4DC2-BCD2-586439595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66C5ED-6E4B-43AD-A894-4A0D2CB0A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00000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6D356B-CBCE-4931-85E7-4A152E91B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00000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B51D54-D708-44E7-9D51-C84783B0C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000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86B909-57EC-478A-A4CE-E5380B42F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000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AAAE31-BBAE-445E-96B4-0C0FE30F2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000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2E183A-362E-4075-A264-75FE4F95C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000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4B2E1A-FC9D-4FC0-87C8-E4BCD8EE7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0889F4-F39F-4CE1-9660-78AA70863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000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EEC983-69B4-4400-B602-03D2B9DB0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00000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6F57A1-D064-402A-9E3E-CE611404F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000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88D58-3448-4FFF-B575-D518243EA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00000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33B897-DF29-45B3-B650-FBE53148A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489A0F-B543-41F8-A0F4-4606F6739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8856AB-7240-4D71-BE9F-37C1FC578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00000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2323B5-9D1D-4EE7-824C-DCDB9127B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00000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4444D9-E6A3-4D97-A78F-8E53972C2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00000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6B6755-7DB9-4E63-8ADF-20E8C0924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000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A9CC3B-BC6C-4A99-BC3B-1FA5736F6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0000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8EABE4-CD99-4944-B8EA-64FAFF050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00000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43BE32-369B-495E-A243-2ED5E1CF4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C2C1BA-D928-45C1-ACB6-7A50A6480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C3789-880F-4AC8-9666-7FAA52BD1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00000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F03E45-EA4B-48A4-B06E-830197EB6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0000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D8ADCB-4A55-4166-8DCB-C2781C331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00000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7411AF-B7FA-46B7-9DED-B4E549C0E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0FC988-A860-4C79-9197-10B175E7B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6E478B-5DE3-47D2-B44F-5D043F7F3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00000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942A9B-F06A-4133-8726-B2F08A5D2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00000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EC38C0-23D7-4E38-93C3-EE6A73CC7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00000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EB40D2-46BE-41C3-BFF7-FA4A1568F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00000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417476-BDB9-46E0-B6F7-58C182AED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00000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021CC2-0276-4651-AE97-B8642CF1B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BCD36-A1CB-46B5-9F2B-4BC81B1DB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000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54F668-1DE6-4A25-8F73-5F2595053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AE20B4-E684-4E33-B02F-01BC0C45B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00000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AB563F-18B9-4485-9822-C57FAE517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00000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8FD237-DA72-45C1-9313-7BDBAB404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000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8E7EEF-4644-44D6-A25C-44920D96B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2BD211-76CA-45DE-83DF-9A6BD96DC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0CFF4A-04E6-480D-8681-F1403C9C5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00000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37BB68-322D-48B6-AF67-4198B2855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000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D90DC8-2247-492A-AA9A-3444FA56E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00000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961925-CFF7-4F08-BF36-D885ECAD4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000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2B6DD-F5A0-4AF1-AA11-65B4E5C55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00000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355493-0DDE-4419-80C0-32BB7FA79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000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51C2BF-2151-4DCD-8948-5F817781E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0000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4A95EF-3EAF-442B-9D97-BFD9E11E9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0DAF40-8031-46AC-8FE0-9343D51AF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00000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B925E7-146A-46EF-94BB-648177744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00000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89BF8E-AE83-41B8-B0AC-41EE6975E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00000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E5F9EF-9FEB-4141-998C-0FFECCE5E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7BBA58-FE28-4BAB-BA64-4EDA6601B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07E1D6-9A6F-4F76-BB1E-BA83470E2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00000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6197B8-2873-4A29-BE65-2D4BA3F4D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000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48C84-7FAA-4681-BF20-B17D028B1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00000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339EF5-81F9-47AF-9D01-3648D67DA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00000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95E2C9-FA9F-42C4-8327-CBCE80AFF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00000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AEE5FF-7717-423C-9F6E-B815A6BEB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00000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978D92-C1B2-4220-9806-27D2E0E23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00000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4BD36C-82AA-4E01-8198-513F4F0EB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0000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ED53C-F26F-4E9E-AB42-6E993C09B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Прямоугольник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000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c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c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c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c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c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0EBB4-103F-4DB2-92DA-AAEA2E657971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8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Прямоугольник 10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000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00000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c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  <a:p>
            <a:pPr lvl="1" marL="730080" indent="-272880">
              <a:buClr>
                <a:srgbClr val="c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  <a:p>
            <a:pPr lvl="2" marL="995400" indent="-228600">
              <a:buClr>
                <a:srgbClr val="c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  <a:p>
            <a:pPr lvl="3" marL="1216080" indent="-182520">
              <a:buClr>
                <a:srgbClr val="c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  <a:p>
            <a:pPr lvl="4" marL="1425600" indent="-182520">
              <a:buClr>
                <a:srgbClr val="c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  <a:p>
            <a:pPr lvl="5" marL="1425600" indent="-182520">
              <a:buClr>
                <a:srgbClr val="c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  <a:p>
            <a:pPr lvl="6" marL="1425600" indent="-182520">
              <a:buClr>
                <a:srgbClr val="c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43f3f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4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43f3f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9D904-8D20-4075-9FAF-B65E42837438}" type="slidenum">
              <a:rPr b="0" lang="en-US" sz="1200" spc="-1" strike="noStrike">
                <a:solidFill>
                  <a:srgbClr val="c4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рямоугольник 8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Прямоугольник 10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000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00000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c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  <a:p>
            <a:pPr lvl="1" marL="730080" indent="-272880">
              <a:buClr>
                <a:srgbClr val="c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  <a:p>
            <a:pPr lvl="2" marL="995400" indent="-228600">
              <a:buClr>
                <a:srgbClr val="c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  <a:p>
            <a:pPr lvl="3" marL="1216080" indent="-182520">
              <a:buClr>
                <a:srgbClr val="c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  <a:p>
            <a:pPr lvl="4" marL="1425600" indent="-182520">
              <a:buClr>
                <a:srgbClr val="c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  <a:p>
            <a:pPr lvl="5" marL="1425600" indent="-182520">
              <a:buClr>
                <a:srgbClr val="c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  <a:p>
            <a:pPr lvl="6" marL="1425600" indent="-182520">
              <a:buClr>
                <a:srgbClr val="c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43f3f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4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43f3f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B933E-B6BB-4D98-BA4E-5C8E27FBD670}" type="slidenum">
              <a:rPr b="0" lang="en-US" sz="1200" spc="-1" strike="noStrike">
                <a:solidFill>
                  <a:srgbClr val="c4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000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000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c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c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c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c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c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79CEA-543F-4F1C-AE5F-C702D1FD4300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Прямоугольник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Прямоугольник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Прямоугольник 8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3" name="Прямоугольник 10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000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00000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c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c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c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c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c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BABED-1F8B-40AA-B077-2730F5500E12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Прямоугольник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6" name="Прямоугольник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7" name="Прямоугольник 8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Прямоугольник 10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000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000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c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c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c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c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c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EE54D-9B0A-4F2B-904F-BD3A78EC0C53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Прямоугольник 8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1" name="Прямоугольник 10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000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00000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c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c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c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c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c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F1D63-89A9-402E-9EA5-A1D7B9C1BCEE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00000"/>
              </a:solidFill>
              <a:latin typeface="Corbel"/>
            </a:endParaRPr>
          </a:p>
        </p:txBody>
      </p:sp>
      <p:pic>
        <p:nvPicPr>
          <p:cNvPr id="304" name="Текст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Заголовок 1" descr=""/>
          <p:cNvPicPr/>
          <p:nvPr/>
        </p:nvPicPr>
        <p:blipFill>
          <a:blip r:embed="rId2"/>
          <a:stretch/>
        </p:blipFill>
        <p:spPr>
          <a:xfrm>
            <a:off x="-176040" y="365040"/>
            <a:ext cx="9326520" cy="3646440"/>
          </a:xfrm>
          <a:prstGeom prst="rect">
            <a:avLst/>
          </a:prstGeom>
          <a:ln w="0">
            <a:noFill/>
          </a:ln>
        </p:spPr>
      </p:pic>
      <p:sp>
        <p:nvSpPr>
          <p:cNvPr id="306" name="PlaceHolder 1"/>
          <p:cNvSpPr>
            <a:spLocks noGrp="1"/>
          </p:cNvSpPr>
          <p:nvPr>
            <p:ph type="subTitle"/>
          </p:nvPr>
        </p:nvSpPr>
        <p:spPr>
          <a:xfrm>
            <a:off x="539280" y="3644640"/>
            <a:ext cx="8077320" cy="1500120"/>
          </a:xfrm>
          <a:prstGeom prst="rect">
            <a:avLst/>
          </a:prstGeom>
          <a:noFill/>
          <a:ln w="0">
            <a:noFill/>
          </a:ln>
        </p:spPr>
        <p:txBody>
          <a:bodyPr lIns="118800" rIns="4572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Corbel"/>
              </a:rPr>
              <a:t>Статистика аварийности в Российской Федерации за январь – ноябрь 2010 года.</a:t>
            </a:r>
            <a:endParaRPr b="0" lang="en-US" sz="2800" spc="-1" strike="noStrike">
              <a:solidFill>
                <a:srgbClr val="c00000"/>
              </a:solidFill>
              <a:latin typeface="Corbel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3"/>
          <a:stretch/>
        </p:blipFill>
        <p:spPr>
          <a:xfrm>
            <a:off x="8244000" y="623736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3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15516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00000"/>
              </a:solidFill>
              <a:latin typeface="Corbe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0" y="1483920"/>
            <a:ext cx="9144000" cy="53737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rbel"/>
              </a:rPr>
              <a:t>  </a:t>
            </a:r>
            <a:r>
              <a:rPr b="1" i="1" lang="ru-RU" sz="4000" spc="-1" strike="noStrike">
                <a:solidFill>
                  <a:srgbClr val="000000"/>
                </a:solidFill>
                <a:latin typeface="Corbel"/>
              </a:rPr>
              <a:t>  </a:t>
            </a:r>
            <a:r>
              <a:rPr b="1" i="1" lang="ru-RU" sz="4000" spc="-1" strike="noStrike" u="sng">
                <a:solidFill>
                  <a:srgbClr val="000000"/>
                </a:solidFill>
                <a:uFillTx/>
                <a:latin typeface="Corbel"/>
              </a:rPr>
              <a:t>143 608 (-2,5%) </a:t>
            </a:r>
            <a:r>
              <a:rPr b="1" i="1" lang="ru-RU" sz="4000" spc="-1" strike="noStrike">
                <a:solidFill>
                  <a:srgbClr val="000000"/>
                </a:solidFill>
                <a:latin typeface="Corbel"/>
              </a:rPr>
              <a:t>дорожнотранспортных происшествий.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orbel"/>
              </a:rPr>
              <a:t>   </a:t>
            </a:r>
            <a:r>
              <a:rPr b="1" i="1" lang="ru-RU" sz="4000" spc="-1" strike="noStrike">
                <a:solidFill>
                  <a:srgbClr val="000000"/>
                </a:solidFill>
                <a:latin typeface="Corbel"/>
              </a:rPr>
              <a:t>В результате которых погибло </a:t>
            </a:r>
            <a:r>
              <a:rPr b="1" i="1" lang="ru-RU" sz="4000" spc="-1" strike="noStrike" u="sng">
                <a:solidFill>
                  <a:srgbClr val="000000"/>
                </a:solidFill>
                <a:uFillTx/>
                <a:latin typeface="Corbel"/>
              </a:rPr>
              <a:t>18 333 (-7,2%)</a:t>
            </a:r>
            <a:r>
              <a:rPr b="1" i="1" lang="ru-RU" sz="4000" spc="-1" strike="noStrike">
                <a:solidFill>
                  <a:srgbClr val="000000"/>
                </a:solidFill>
                <a:latin typeface="Corbel"/>
              </a:rPr>
              <a:t>человека, а </a:t>
            </a:r>
            <a:r>
              <a:rPr b="1" i="1" lang="ru-RU" sz="4000" spc="-1" strike="noStrike" u="sng">
                <a:solidFill>
                  <a:srgbClr val="000000"/>
                </a:solidFill>
                <a:uFillTx/>
                <a:latin typeface="Corbel"/>
              </a:rPr>
              <a:t>181 779 (2,2%) </a:t>
            </a:r>
            <a:r>
              <a:rPr b="1" i="1" lang="ru-RU" sz="4000" spc="-1" strike="noStrike">
                <a:solidFill>
                  <a:srgbClr val="000000"/>
                </a:solidFill>
                <a:latin typeface="Corbel"/>
              </a:rPr>
              <a:t>человек получили ранения.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c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med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15516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00000"/>
              </a:solidFill>
              <a:latin typeface="Corbe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0" y="1483920"/>
            <a:ext cx="9144000" cy="53737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c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Corbel"/>
              </a:rPr>
              <a:t>8 930 (-6,3%) </a:t>
            </a:r>
            <a:r>
              <a:rPr b="1" lang="en-US" sz="3600" spc="-1" strike="noStrike">
                <a:solidFill>
                  <a:srgbClr val="000000"/>
                </a:solidFill>
                <a:latin typeface="Corbel"/>
              </a:rPr>
              <a:t>ДТП произошло по вине водителей.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c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rbel"/>
              </a:rPr>
              <a:t>В результате этих ДТП </a:t>
            </a: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Corbel"/>
              </a:rPr>
              <a:t>1 397 (-22,9%) </a:t>
            </a:r>
            <a:r>
              <a:rPr b="1" lang="en-US" sz="3600" spc="-1" strike="noStrike">
                <a:solidFill>
                  <a:srgbClr val="000000"/>
                </a:solidFill>
                <a:latin typeface="Corbel"/>
              </a:rPr>
              <a:t>человек погибло, а </a:t>
            </a: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Corbel"/>
              </a:rPr>
              <a:t>13 069 (-6,8%) </a:t>
            </a:r>
            <a:r>
              <a:rPr b="1" lang="en-US" sz="3600" spc="-1" strike="noStrike">
                <a:solidFill>
                  <a:srgbClr val="000000"/>
                </a:solidFill>
                <a:latin typeface="Corbel"/>
              </a:rPr>
              <a:t>человек получили ранения.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med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Заголовок 1" descr=""/>
          <p:cNvPicPr/>
          <p:nvPr/>
        </p:nvPicPr>
        <p:blipFill>
          <a:blip r:embed="rId1"/>
          <a:stretch/>
        </p:blipFill>
        <p:spPr>
          <a:xfrm>
            <a:off x="128520" y="152280"/>
            <a:ext cx="8564760" cy="155412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c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i="1" lang="en-US" sz="6000" spc="-1" strike="noStrike" u="sng">
                <a:solidFill>
                  <a:srgbClr val="000000"/>
                </a:solidFill>
                <a:uFillTx/>
                <a:latin typeface="Corbel"/>
              </a:rPr>
              <a:t>ДТП с участием детей.</a:t>
            </a: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med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15516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00000"/>
              </a:solidFill>
              <a:latin typeface="Corbe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0" y="1483920"/>
            <a:ext cx="9144000" cy="53737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c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000000"/>
                </a:solidFill>
                <a:uFillTx/>
                <a:latin typeface="Corbel"/>
              </a:rPr>
              <a:t>15 548 (+0.1%) </a:t>
            </a:r>
            <a:r>
              <a:rPr b="0" lang="ru-RU" sz="4400" spc="-1" strike="noStrike">
                <a:solidFill>
                  <a:srgbClr val="000000"/>
                </a:solidFill>
                <a:latin typeface="Corbel"/>
              </a:rPr>
              <a:t>дтп с участием детей, в которых </a:t>
            </a:r>
            <a:r>
              <a:rPr b="1" i="1" lang="ru-RU" sz="4400" spc="-1" strike="noStrike" u="sng">
                <a:solidFill>
                  <a:srgbClr val="000000"/>
                </a:solidFill>
                <a:uFillTx/>
                <a:latin typeface="Corbel"/>
              </a:rPr>
              <a:t>696 (-3,2%) </a:t>
            </a:r>
            <a:r>
              <a:rPr b="0" lang="ru-RU" sz="4400" spc="-1" strike="noStrike">
                <a:solidFill>
                  <a:srgbClr val="000000"/>
                </a:solidFill>
                <a:latin typeface="Corbel"/>
              </a:rPr>
              <a:t>детей погибло, а </a:t>
            </a:r>
            <a:r>
              <a:rPr b="1" i="1" lang="ru-RU" sz="4400" spc="-1" strike="noStrike" u="sng">
                <a:solidFill>
                  <a:srgbClr val="000000"/>
                </a:solidFill>
                <a:uFillTx/>
                <a:latin typeface="Corbel"/>
              </a:rPr>
              <a:t>16 240 (+0,3%) </a:t>
            </a:r>
            <a:r>
              <a:rPr b="0" lang="ru-RU" sz="4400" spc="-1" strike="noStrike">
                <a:solidFill>
                  <a:srgbClr val="000000"/>
                </a:solidFill>
                <a:latin typeface="Corbel"/>
              </a:rPr>
              <a:t>детей получили ранения. 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med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516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00000"/>
              </a:solidFill>
              <a:latin typeface="Corbe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0" y="1412640"/>
            <a:ext cx="8686800" cy="49878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c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 u="sng">
                <a:solidFill>
                  <a:srgbClr val="000000"/>
                </a:solidFill>
                <a:uFillTx/>
                <a:latin typeface="Corbel"/>
              </a:rPr>
              <a:t>По данным официального сайта ГИБДД.</a:t>
            </a:r>
            <a:endParaRPr b="0" lang="en-US" sz="8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med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516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00000"/>
              </a:solidFill>
              <a:latin typeface="Corbe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lnSpc>
                <a:spcPct val="90000"/>
              </a:lnSpc>
              <a:buClr>
                <a:srgbClr val="c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 u="sng">
                <a:solidFill>
                  <a:srgbClr val="000000"/>
                </a:solidFill>
                <a:uFillTx/>
                <a:latin typeface="Corbel"/>
              </a:rPr>
              <a:t>Количество ДТП уменьшается</a:t>
            </a:r>
            <a:r>
              <a:rPr b="1" i="1" lang="en-US" sz="8000" spc="-1" strike="noStrike" u="sng">
                <a:solidFill>
                  <a:srgbClr val="000000"/>
                </a:solidFill>
                <a:uFillTx/>
                <a:latin typeface="Arial"/>
              </a:rPr>
              <a:t>, </a:t>
            </a:r>
            <a:r>
              <a:rPr b="1" i="1" lang="en-US" sz="8000" spc="-1" strike="noStrike" u="sng">
                <a:solidFill>
                  <a:srgbClr val="000000"/>
                </a:solidFill>
                <a:uFillTx/>
                <a:latin typeface="Corbel"/>
              </a:rPr>
              <a:t>и это хорошо.</a:t>
            </a:r>
            <a:endParaRPr b="0" lang="en-US" sz="8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4T21:28:59Z</dcterms:created>
  <dc:creator>дима</dc:creator>
  <dc:description/>
  <dc:language>en-US</dc:language>
  <cp:lastModifiedBy>Эльдорадо</cp:lastModifiedBy>
  <dcterms:modified xsi:type="dcterms:W3CDTF">2010-11-16T12:16:45Z</dcterms:modified>
  <cp:revision>9</cp:revision>
  <dc:subject/>
  <dc:title>Жертвы ДТП.</dc:title>
</cp:coreProperties>
</file>