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F4B-DA43-4995-88AE-190E7890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40F-FC3C-4AEF-8BB7-3BEFF3B2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864-0CE3-45AC-9281-236356A8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405-382E-41D0-A518-A6EF8E98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2A85-41CB-4B8D-AD1C-9DB1B56F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BA8B-04CF-4591-BF3D-AA41A155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D47D-12B6-481C-9436-A44E8BCF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2183-7CF5-4610-BF40-3D150084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5B9F-C7DD-4D2F-B9B9-CC22CE9E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3C70-3737-43BB-A56B-94A683DB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654E-BDCA-434F-A5D1-D4F30ED4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CE3-396A-43B6-8D15-16EC3AD6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3D61-F71F-4BAF-B210-6EFED7CF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350E-5036-4B36-BDE1-2EB8B58C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F394-1E25-4672-930E-CFD2CC4E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8394-73B9-491F-8CCA-E7F7191E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DB1D-5F20-44B0-9B0F-43A9404A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E296-1AC6-4ADF-A54E-D50ECF06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218C-3426-4A86-82AF-33EA9DD0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C325-6CF3-47A2-BEF9-F9689A13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3D6C-B887-4816-813E-F1529B8B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314E-10BF-4A00-8EAC-0C683300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2BE-04C6-443D-BEDE-EBFD3660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D2B7-6459-46EA-8C82-94B3DCDC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F074-E087-48D9-8A45-416E3B46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6D06-AC50-4D77-9648-4A16DF9B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87AE-1015-4FCF-9896-C7AFA85D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D302-D410-45E1-8D3C-7093C873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702F-4CF1-492A-B29C-9E876703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9093-D40C-4DD7-A7F6-564C372F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BE8A1-6D96-4F3B-A6FC-A63574CB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F723-02FD-4CC4-94EC-B9AB3CED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6FD6-661E-403B-99F7-D50E9BA8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427-ED2C-47E6-9456-C29A6376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1FBB-67F0-49E0-93D9-87F792CB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0F02F-738C-4AEB-8753-AF534187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05541-AC09-4DEE-8364-3D2B3776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15F4-4D8C-4B6C-8C18-DC68B166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E83C8-BC89-444F-9D3B-2AEE5707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3FD2-CD56-4B16-A88F-3EA8E713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B3C3-8051-401F-B312-B78270FF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DA58D-01B3-4D0B-8C86-B743E5E8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C5CCF-F0E1-4157-8C2E-17BBF5F9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3EB82-027C-4DE6-8506-841A9F85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961-176C-4DC4-82C2-3E07EEAD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DE7F2-07BF-402D-B8D6-9AD87A9B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E1304-32DE-4D94-9682-BEEC46E2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30318-B8F4-4787-9E26-CBF8D42F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1412-5D7D-4AF7-95EE-0AC35E28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5B62E-CD4C-4CC5-BF09-610ECFFE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EC0A2-5C27-489A-A053-102FCA97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31908-9DA2-4EBA-BE1A-3BCC5189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C103-8D0A-40FC-A60A-8CF5DEDB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5297B-9E14-43AD-985E-6E5230E2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4AAFC-616A-478A-90D3-B39BA6EE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3B8-6C32-4455-9BD2-38F0D2FF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53365-29B0-4A28-A67A-AF8DA732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56B44-71AE-46CC-B1D8-2AAD21F6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69D14-83AE-469C-BE16-52E16ACD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9E38-9F2C-40B1-93AA-4206C356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77AA1-4822-4E74-B077-1024EFE9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4E3E9-9F13-4C91-8B65-1C702151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2EDF6-DD4B-47E5-9E0F-67613DEE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0854-34B4-4BB1-B3C9-BF98DD7E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6EDD6-A235-42F0-8BC5-ABE7C47D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1D07C-EF92-4BFA-BDB7-FF661988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F40-F1C7-4302-AA35-4E6BD31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928C-4CF6-4343-B989-D155C9B5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D5C30-1034-49B4-BA3D-F7B0FE44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6B6A1-98E3-4E60-9B65-7360F54D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78760-2EC6-4001-A2F1-2A15C98C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0F673-766F-4152-B7D4-2290CC3E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6AD03-A5CE-4D7A-9F43-F4626778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A035D-2047-4E58-B86C-EA67748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C92FB-F19F-4400-8E60-D1471C99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C2B62-3033-42EF-9F50-0E19D6D5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6FEBE-8FF3-4FEF-A8FA-32C66E94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DAD-AC0E-4BCA-8FD8-5E0995FF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B2AA0-23F6-43B4-B7D6-88850ED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85BB2-D430-42CB-9F3E-31BE5FCA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0ADCC-C305-4E56-8DD4-A1552FE3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944B6-7B3A-4E1C-9DF5-E5CDA40E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0C31B-CAF5-4A29-B5A7-E4F611E7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B27-A26F-4761-8F87-53C05E7A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EDD8-46DC-4FDB-B48B-1A6FCCEC51B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C1ED-A0D6-46CA-A613-E3C32756A5B2}" type="slidenum">
              <a:rPr b="0" lang="en-US" sz="1200" spc="-1" strike="noStrike">
                <a:solidFill>
                  <a:srgbClr val="c4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FA78-8B89-44CB-9C86-EF5170BA9BBD}" type="slidenum">
              <a:rPr b="0" lang="en-US" sz="1200" spc="-1" strike="noStrike">
                <a:solidFill>
                  <a:srgbClr val="c4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11FA-1D58-46E5-AB37-DCA38D068D3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AF33-42D6-4143-B61F-3ABCD51C097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57D2-0F1A-4A9C-8FEF-7D9A1864BF3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3BF5-F05F-4870-B7F0-C0EE9802A6D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pic>
        <p:nvPicPr>
          <p:cNvPr id="304" name="Текс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2"/>
          <a:stretch/>
        </p:blipFill>
        <p:spPr>
          <a:xfrm>
            <a:off x="-176040" y="365040"/>
            <a:ext cx="9326520" cy="36464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39280" y="36446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rbel"/>
              </a:rPr>
              <a:t>Статистика аварийности в Российской Федерации за январь – ноябрь 2010 года.</a:t>
            </a:r>
            <a:endParaRPr b="0" lang="en-US" sz="2800" spc="-1" strike="noStrike">
              <a:solidFill>
                <a:srgbClr val="c00000"/>
              </a:solidFill>
              <a:latin typeface="Corbe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143 608 (-2,5%)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дорожнотранспортных происшествий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 результате которых погибло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18 333 (-7,2%)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человека, а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181 779 (2,2%)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человек получили ранен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8 930 (-6,3%)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ДТП произошло по вине водителе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В результате этих ДТП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1 397 (-22,9%)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человек погибло, а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13 069 (-6,8%)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человек получили ране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8564760" cy="1554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Corbel"/>
              </a:rPr>
              <a:t>ДТП с участием детей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rbel"/>
              </a:rPr>
              <a:t>15 548 (+0.1%)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дтп с участием детей, в которых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rbel"/>
              </a:rPr>
              <a:t>696 (-3,2%)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детей погибло, а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rbel"/>
              </a:rPr>
              <a:t>16 240 (+0,3%)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детей получили ранения.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126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Corbel"/>
              </a:rPr>
              <a:t>По данным официального сайта ГИБДД.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Corbel"/>
              </a:rPr>
              <a:t>Количество ДТП уменьшается</a:t>
            </a: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Corbel"/>
              </a:rPr>
              <a:t>и это хорошо.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1:28:59Z</dcterms:created>
  <dc:creator>дима</dc:creator>
  <dc:description/>
  <dc:language>en-US</dc:language>
  <cp:lastModifiedBy>Эльдорадо</cp:lastModifiedBy>
  <dcterms:modified xsi:type="dcterms:W3CDTF">2010-11-16T12:16:45Z</dcterms:modified>
  <cp:revision>9</cp:revision>
  <dc:subject/>
  <dc:title>Жертвы ДТП.</dc:title>
</cp:coreProperties>
</file>