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205-D312-4148-85F4-8AA71008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298-C027-42A5-9AC5-5B61D0F4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109-F914-4294-9C93-5BC64AFC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362-4826-41B4-AE47-D27C8FF1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FF10-AFD1-43FA-9B11-7FFDA3E3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FE63-ECD7-427D-A0BA-2B98BD6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0F00-C384-4456-9C9E-5BF06104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B3A-31EE-4EFC-B7E9-E0C52F4E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5A42-FE76-4356-ACF3-202803C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F91B-12BA-4270-93AB-0114FA48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112A-151F-4778-B826-667BB6A6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4DF-D43D-4A09-88C0-D790995B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3E8E-5F69-494D-B7A2-C5895AAB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3D78-CCF6-44B4-91E8-FBA908C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7A53-7144-4EF3-A586-1D11E106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AB77-5F1A-4A40-8651-430B91E8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1520-43E7-446A-A164-EA6F219B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6474-F283-4BDC-9CCE-12C31A3A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00067-BD1F-48AA-9A1D-DB298240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19EB-62C7-4B49-9748-6F2FCACD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8A09-A41B-4803-959F-4DACECBB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75CF-5D1D-439A-A818-629F9B8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2A6-4696-4DCD-B1D7-7D131B4A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9B71-F789-4CBF-BA4F-551483F1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AC03-25E3-4F77-B523-5BAD9840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0ED6-2E53-485F-AB0D-95ABB93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44C2-2EEE-429B-AC70-4F75B89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0105-3AC4-4739-9A9B-465927E0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5A30-DA62-4FBE-8539-E172D992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80D9-D403-4A5D-9C6D-0AD3C3F2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EB1F-B4AD-4BEC-B085-AB020FCF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4AD5D-A5AD-40FD-BA1D-492EF1DA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305E-56F5-4EDC-8B30-86D98128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01C-0037-422E-931B-03225020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4648-0790-4DB4-9507-5B4BBB21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A435-BAFE-4812-BF12-6AFB5F8C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118C-109B-4489-83C5-26BE60D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EADA-93E6-405F-BA5B-D3B31B7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845CD-F6E7-4BFD-B45D-E05B9F6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735F-5819-42DF-8E4A-E013288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14D1-9E58-4767-B8EC-BCDBCDB4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42E6-C901-4F17-90E1-85DE4538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67FB-D766-4A39-A519-2261499F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A340A-764D-4613-BDDD-CA01AD90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717-2E0D-4A25-8218-068C069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9669-CF45-443B-9B4B-96D676B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FAAD0-4D84-451B-BA3E-A595008C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9C71-D79A-4A2B-8446-C5435B3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19B2-3845-4FDD-8D1F-E6BD5EEA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B394F-E0D3-451B-81F8-666718F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07DD-9E00-4C25-BA19-498F2B0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D3F38-7718-4AFD-856E-C864B63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777C4-40C1-4BC8-94D5-3311F48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BA333-4190-4A7F-BE5B-8357CB28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DD0E-FE49-4F62-BD57-51842D4D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E3C-34DB-4668-A6A0-FF21607D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6F3FD-7116-4B2D-A71C-1F959475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9E195-E55F-4844-B1E3-C9A93523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82F8-EDC1-44BC-8C40-C8875BB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EF6D5-EB7C-4CDA-9905-0DBC0B68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1F6E-889A-45A4-AAC5-2F97DFC0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038D7-B3A0-415F-8428-00830F5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41145-ADB4-42F0-BFD6-07A0F5C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32E9-A129-4CD8-88EC-01BB5A4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A6E54-788C-45E9-A7D3-C3792E5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9DF34-AB9A-440C-8039-BA4DA08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7DC-9776-4C34-8FCD-5A47A639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CC76C-F90C-4F65-B05F-DAD0253B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1B4D-C070-44F1-B0DD-4DBE2FBD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749A-B402-424E-8213-4089495A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1274-F2DD-4A42-B458-D255C6A2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4858-CA33-4FA8-B8EE-C5A06334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428A-26F6-4311-B4A7-5A3C0D1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783DF-296A-4E91-A7FB-3794A0F0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2E35A-6BF3-42CD-836C-BFC93EE7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D229B-32F0-4E13-AAEA-9BDEDD2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07C50-76D8-46BA-AA34-4288C4E2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CCA-2ADC-4A68-9424-9EF86F4B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85C5E-525D-42E0-8BCE-9E5BF1F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47DB-1427-4E0D-AA6D-EC4FAA2A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FCE7-5AD1-4FA3-B2E6-25C70B8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84FB3-852A-4576-8006-A652FCC3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1E63-8ABB-4CAA-BA8D-DEA57EC5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6CE-1E50-48D5-9831-34F38E96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CB3-0AEB-496D-A0DD-86402EBA4A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912-B995-4BE0-97FF-D2A750726F6C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5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  <a:p>
            <a:pPr lvl="6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064-44E3-4637-B9D0-08EF809F307D}" type="slidenum">
              <a:rPr b="0" lang="en-US" sz="1200" spc="-1" strike="noStrike">
                <a:solidFill>
                  <a:srgbClr val="c4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DB69-28E2-4B90-BAB0-D7C2A0BF10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BBE-FAEA-49ED-9D5F-5E356DD211A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FD7-2F8C-404E-A0FD-4FB16C7FE3D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000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c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758-4694-48B6-8D60-49DD1560C4D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pic>
        <p:nvPicPr>
          <p:cNvPr id="304" name="Текс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2"/>
          <a:stretch/>
        </p:blipFill>
        <p:spPr>
          <a:xfrm>
            <a:off x="-176040" y="365040"/>
            <a:ext cx="9326520" cy="36464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280" y="36446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orbel"/>
              </a:rPr>
              <a:t>Статистика аварийности в Российской Федерации за январь – ноябрь 2010 года.</a:t>
            </a:r>
            <a:endParaRPr b="0" lang="en-US" sz="2800" spc="-1" strike="noStrike">
              <a:solidFill>
                <a:srgbClr val="c00000"/>
              </a:solidFill>
              <a:latin typeface="Corbe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43 608 (-2,5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дорожнотранспортных происшествий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 результате которых погибло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 333 (-7,2%)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а, а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181 779 (2,2%)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8 930 (-6,3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ДТП произошло по вине водителе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В результате этих ДТП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 397 (-22,9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гибло, а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rbel"/>
              </a:rPr>
              <a:t>13 069 (-6,8%)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человек получили ране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28520" y="152280"/>
            <a:ext cx="8564760" cy="1554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ДТП с участием детей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5 548 (+0.1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тп с участием детей, в которых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696 (-3,2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гибло, а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orbel"/>
              </a:rPr>
              <a:t>16 240 (+0,3%)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етей получили ранения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14126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По данным официального сайта ГИБДД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000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c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Количество ДТП уменьшается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Corbel"/>
              </a:rPr>
              <a:t>и это хорошо.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1:28:59Z</dcterms:created>
  <dc:creator>дима</dc:creator>
  <dc:description/>
  <dc:language>en-US</dc:language>
  <cp:lastModifiedBy>Эльдорадо</cp:lastModifiedBy>
  <dcterms:modified xsi:type="dcterms:W3CDTF">2010-11-16T12:16:45Z</dcterms:modified>
  <cp:revision>9</cp:revision>
  <dc:subject/>
  <dc:title>Жертвы ДТП.</dc:title>
</cp:coreProperties>
</file>