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.jpeg" ContentType="image/jpeg"/>
  <Override PartName="/ppt/media/image4.png" ContentType="image/png"/>
  <Override PartName="/ppt/media/image12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30.png" ContentType="image/png"/>
  <Override PartName="/ppt/media/image3.jpeg" ContentType="image/jpeg"/>
  <Override PartName="/ppt/media/image8.gif" ContentType="image/gif"/>
  <Override PartName="/ppt/media/image13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14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6.gif" ContentType="image/gif"/>
  <Override PartName="/ppt/media/image19.png" ContentType="image/png"/>
  <Override PartName="/ppt/media/image21.png" ContentType="image/png"/>
  <Override PartName="/ppt/media/image27.jpeg" ContentType="image/jpeg"/>
  <Override PartName="/ppt/media/image17.gif" ContentType="image/gi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77E-007B-4BF6-8A94-017E278C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6F1-3F33-4147-85DE-A19A4132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5D8-C1C0-4D63-B187-C81358D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746A-8B0E-4337-B16F-4D2B68F7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C3EBA-695E-4678-AC49-94AD0CFC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E1A3-ABE9-4980-A07D-EA7A8AD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26B2E-2096-48B4-9A00-1D2B462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37EFE-1DCE-459F-B057-DFF4A7F9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8C6F3-CB0F-41A8-B92F-19B1E3B8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0440-A7EA-4789-BD78-0A2E8060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4810C-03A4-4E98-BEDE-711CACB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069-11F7-413D-80F0-E8D88340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8C709-57DF-444E-8C31-98371B4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63DA6-235A-4162-9AE9-7C22947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B65D-BB41-47E8-A4F4-8BAFE2A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76384-0CFA-4FA3-BF29-B6EBA0BA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66C77-E094-44FB-BC53-B49CB40C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20-F950-47CF-90E4-BFECFAE8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EDA-388B-4DC6-BDF8-A2FAC13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381-1960-4603-928C-733D71A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B30-D10A-4D37-84B9-39170E2C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FEB-55D0-4132-A8E8-6B97F1C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3B9-DF2E-40C5-B173-D3C8328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9D6-6DCA-4187-91C0-5CB0E1E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7E40-5DF4-4485-B560-7F2677C802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333E-EFBF-439B-9962-6DC7F34425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«Чтобы выжить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лассный час – игра  для учащихся 7 класса по теме: «Безопасность и защита человека в опасных и чрезвычайных ситуаци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ставила Жидилёва Е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рвая медицинская помощ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50920" y="1557360"/>
            <a:ext cx="475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медицинская помощь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остейшие срочные и необходимые меры для спасения жизни человека и предупреждения осложнений до прибытия скорой помощ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кстремальных условиях может возникнуть ситуация, когда только ты сможешь оказать первую медицинскую помощь себе или пострадавшему товар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9" descr="j0182792"/>
          <p:cNvPicPr/>
          <p:nvPr/>
        </p:nvPicPr>
        <p:blipFill>
          <a:blip r:embed="rId1"/>
          <a:stretch/>
        </p:blipFill>
        <p:spPr>
          <a:xfrm>
            <a:off x="324000" y="2205000"/>
            <a:ext cx="2957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3. «Помоги пострадавшему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о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спасателей необходимо оказать медицинскую помощь при ссадинах или порез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оманде спасателей – при пищевом отравл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еть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анде – оказать первую помощь при ож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8" descr="j0182812"/>
          <p:cNvPicPr/>
          <p:nvPr/>
        </p:nvPicPr>
        <p:blipFill>
          <a:blip r:embed="rId1"/>
          <a:stretch/>
        </p:blipFill>
        <p:spPr>
          <a:xfrm>
            <a:off x="4788000" y="162864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0337259"/>
          <p:cNvPicPr/>
          <p:nvPr/>
        </p:nvPicPr>
        <p:blipFill>
          <a:blip r:embed="rId2"/>
          <a:stretch/>
        </p:blipFill>
        <p:spPr>
          <a:xfrm>
            <a:off x="5975280" y="3925800"/>
            <a:ext cx="316872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ыберите для каждого случая нужные медикаменты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Picture 6" descr="PICT0003"/>
          <p:cNvPicPr/>
          <p:nvPr/>
        </p:nvPicPr>
        <p:blipFill>
          <a:blip r:embed="rId1"/>
          <a:stretch/>
        </p:blipFill>
        <p:spPr>
          <a:xfrm>
            <a:off x="0" y="1557360"/>
            <a:ext cx="5796000" cy="4967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риллиантовый зелё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зел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ый перевязочный па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манганат к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ись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лфетки стерильные медицин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оль активир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</a:rPr>
              <a:t>Чрезвычайные ситуации на железной дороге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человек в среднем один-два раза в год едет куда-нибудь на поезде. Поезда -достаточно безопасный вид транспорта, но всё же нужно быть готовым к возможным опасным ситуациям, чтобы не растеряться в трудную минуту и действовать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6" descr="j0336325"/>
          <p:cNvPicPr/>
          <p:nvPr/>
        </p:nvPicPr>
        <p:blipFill>
          <a:blip r:embed="rId1"/>
          <a:stretch/>
        </p:blipFill>
        <p:spPr>
          <a:xfrm>
            <a:off x="1979640" y="3645000"/>
            <a:ext cx="6480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равочная информац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 из крупных мировых катастроф на железных дорогах случилась 6 июня 1981 года в Индии. В ней погибло 8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j0201797"/>
          <p:cNvPicPr/>
          <p:nvPr/>
        </p:nvPicPr>
        <p:blipFill>
          <a:blip r:embed="rId1"/>
          <a:stretch/>
        </p:blipFill>
        <p:spPr>
          <a:xfrm>
            <a:off x="4838760" y="263844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4. «Осторожно, поезд!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340000" y="1268280"/>
            <a:ext cx="680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ставим ситуацию пожара в вагоне поезда. Командам спасателей необходимо расположить приведённые ниже действия в нужной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ходи от пожара в передние вагоны, если это не возможно, иди в конец поезда, плотно закрывая за собой все двер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рой окна, чтобы ветер не раздувал пла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существует угроза твоей жизни, не пытайся спасать баг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медленно сообщи проводнику о пожаре, извести пассажиров о случившемся, разбуди спящ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2" descr="j0296919"/>
          <p:cNvPicPr/>
          <p:nvPr/>
        </p:nvPicPr>
        <p:blipFill>
          <a:blip r:embed="rId1"/>
          <a:stretch/>
        </p:blipFill>
        <p:spPr>
          <a:xfrm>
            <a:off x="0" y="1268280"/>
            <a:ext cx="23893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8324 E">
                                      <p:cBhvr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8798 E">
                                      <p:cBhvr>
                                        <p:cTn id="130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6786 E">
                                      <p:cBhvr>
                                        <p:cTn id="13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еспечение безопасности дорожного дви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51116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cc"/>
                </a:solidFill>
                <a:latin typeface="Arial"/>
              </a:rPr>
              <a:t>Справочная информ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Современный транспорт – зона повышенной опасности. Под колёсами машин ежегодно в дорожно-транспортных происшествиях погибает в нашей стране около 40000 человек, из них каждый десятый – ребёнок, причём мальчиков погибает больш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этому нужно знать и соблюдать правила дорожного движе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5" descr="j0295169"/>
          <p:cNvPicPr/>
          <p:nvPr/>
        </p:nvPicPr>
        <p:blipFill>
          <a:blip r:embed="rId1"/>
          <a:stretch/>
        </p:blipFill>
        <p:spPr>
          <a:xfrm>
            <a:off x="684360" y="1557360"/>
            <a:ext cx="2192040" cy="213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BD13659_"/>
          <p:cNvPicPr/>
          <p:nvPr/>
        </p:nvPicPr>
        <p:blipFill>
          <a:blip r:embed="rId2"/>
          <a:stretch/>
        </p:blipFill>
        <p:spPr>
          <a:xfrm>
            <a:off x="324000" y="4149720"/>
            <a:ext cx="3168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5. « Мои друзья – дорожные знак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11" descr="Дети"/>
          <p:cNvPicPr/>
          <p:nvPr/>
        </p:nvPicPr>
        <p:blipFill>
          <a:blip r:embed="rId1"/>
          <a:stretch/>
        </p:blipFill>
        <p:spPr>
          <a:xfrm>
            <a:off x="1042920" y="1628640"/>
            <a:ext cx="2160720" cy="1839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Переход"/>
          <p:cNvPicPr/>
          <p:nvPr/>
        </p:nvPicPr>
        <p:blipFill>
          <a:blip r:embed="rId2"/>
          <a:stretch/>
        </p:blipFill>
        <p:spPr>
          <a:xfrm>
            <a:off x="6012000" y="1628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пути из школы домой вам встречается много дорожных знаков. Знаете ли вы, что они обознач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е командам спасателей: у вас имеются названия знаков, правильно сопоставьте их с изображением. Но помните, что на листе имеются и лишние наз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826920" y="364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435640" y="35002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для первой команды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1" name="Picture 10" descr="Зачёркнутый пешеход"/>
          <p:cNvPicPr/>
          <p:nvPr/>
        </p:nvPicPr>
        <p:blipFill>
          <a:blip r:embed="rId1"/>
          <a:stretch/>
        </p:blipFill>
        <p:spPr>
          <a:xfrm>
            <a:off x="755640" y="213372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иний трамвай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2"/>
          <p:cNvSpPr/>
          <p:nvPr/>
        </p:nvSpPr>
        <p:spPr>
          <a:xfrm>
            <a:off x="1042920" y="53211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24000" y="551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пешеход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5435640" y="57340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о остановки трам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второ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7" name="Picture 7" descr="Велосипед"/>
          <p:cNvPicPr/>
          <p:nvPr/>
        </p:nvPicPr>
        <p:blipFill>
          <a:blip r:embed="rId1"/>
          <a:stretch/>
        </p:blipFill>
        <p:spPr>
          <a:xfrm>
            <a:off x="900000" y="1795320"/>
            <a:ext cx="3167280" cy="2928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ешеход спускается"/>
          <p:cNvPicPr/>
          <p:nvPr/>
        </p:nvPicPr>
        <p:blipFill>
          <a:blip r:embed="rId2"/>
          <a:stretch/>
        </p:blipFill>
        <p:spPr>
          <a:xfrm>
            <a:off x="5219640" y="1844640"/>
            <a:ext cx="2952720" cy="2879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1042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ижение на велосипедах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508720" y="5373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шеходный пере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пасной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зывается ситуация, которая угрожает жизни, здоровью, имуществу человека или природной сред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третьей команде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2" name="Picture 8" descr="Паровозик"/>
          <p:cNvPicPr/>
          <p:nvPr/>
        </p:nvPicPr>
        <p:blipFill>
          <a:blip r:embed="rId1"/>
          <a:stretch/>
        </p:blipFill>
        <p:spPr>
          <a:xfrm>
            <a:off x="5003640" y="1708200"/>
            <a:ext cx="3600720" cy="323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Трамвай"/>
          <p:cNvPicPr/>
          <p:nvPr/>
        </p:nvPicPr>
        <p:blipFill>
          <a:blip r:embed="rId2"/>
          <a:stretch/>
        </p:blipFill>
        <p:spPr>
          <a:xfrm>
            <a:off x="611280" y="1709640"/>
            <a:ext cx="3529080" cy="3232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826920" y="51768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сечение с трамвайной лин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92720" y="54658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435640" y="53211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елезнодорожный переезд без шлагбау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аратов – промышленный город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51134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 все промышленные города, в определённой степени является объектом потенциальной опасности для людей и окружающе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шем районе расположены завод технического стекла, хладокомбинат и жиркомбинат, завод по производству железобетонных конструкций и другие предприятия, на которых при аварии возможно заражение воздуха парами хлора, аммиака и других отравля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3" descr="j0185096"/>
          <p:cNvPicPr/>
          <p:nvPr/>
        </p:nvPicPr>
        <p:blipFill>
          <a:blip r:embed="rId1"/>
          <a:stretch/>
        </p:blipFill>
        <p:spPr>
          <a:xfrm>
            <a:off x="5508720" y="1557360"/>
            <a:ext cx="345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редства индивидуальной защи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508720" y="1628640"/>
            <a:ext cx="363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 школ должны знать о составе и назначении средств индивидуальной защиты, уметь изготавливать простейшие из них. Это может пригодиться вам в дальнейше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j0182789"/>
          <p:cNvPicPr/>
          <p:nvPr/>
        </p:nvPicPr>
        <p:blipFill>
          <a:blip r:embed="rId1"/>
          <a:stretch/>
        </p:blipFill>
        <p:spPr>
          <a:xfrm>
            <a:off x="250920" y="2492280"/>
            <a:ext cx="547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cc"/>
                </a:solidFill>
                <a:latin typeface="Arial"/>
              </a:rPr>
              <a:t>Вопросы командам спасателе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ВМП, из чего её изготавливаю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Для чего предназначе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При выбросе хлора чем можно пропитать ВМ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более надёжной защиты органов дых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Чем пропитывают ВМП при выбросе аммиа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Как надевается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ак должна быть упакована ВМП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j0321071"/>
          <p:cNvPicPr/>
          <p:nvPr/>
        </p:nvPicPr>
        <p:blipFill>
          <a:blip r:embed="rId1"/>
          <a:stretch/>
        </p:blipFill>
        <p:spPr>
          <a:xfrm>
            <a:off x="4714920" y="1989000"/>
            <a:ext cx="42339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6. «Применение средств индивидуальной защиты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7" name="Picture 7" descr="j0177900"/>
          <p:cNvPicPr/>
          <p:nvPr/>
        </p:nvPicPr>
        <p:blipFill>
          <a:blip r:embed="rId1"/>
          <a:stretch/>
        </p:blipFill>
        <p:spPr>
          <a:xfrm>
            <a:off x="900000" y="3213000"/>
            <a:ext cx="3257640" cy="217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анда класс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«Ватно-марлевую повязку надеть! Газы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trevoga.mp3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61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ы заканчиваем  классный час, и желаем нашим спасателям действовать в жизни так же дружно и обдуманно, как в игре. Запомните: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ша безопасность в ваших руках!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1" name="Picture 9" descr="j0178941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е проходит и дня, чтобы газеты, радио, телевидение не принесли сообщ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384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 очередной аварии, катастрофе, стихийном бедствии, преступлении в том или ином городе, либо стран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ористы захватывают заложников, терпят бедствие пароходы и поезда, пешеходы попадают под колёса ма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3" descr="j0185099"/>
          <p:cNvPicPr/>
          <p:nvPr/>
        </p:nvPicPr>
        <p:blipFill>
          <a:blip r:embed="rId1"/>
          <a:stretch/>
        </p:blipFill>
        <p:spPr>
          <a:xfrm>
            <a:off x="4500720" y="285264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аждый из нас может оказаться в такой непредвиденной ситу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же поможет человеку , оказавшемуся в опасности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жде всего – ОН СА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в нашем кабинете находятся три команды спасателей, которые попробуют найти выход из предложенных  в игре опасных ситуаци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j0202218"/>
          <p:cNvPicPr/>
          <p:nvPr/>
        </p:nvPicPr>
        <p:blipFill>
          <a:blip r:embed="rId1"/>
          <a:stretch/>
        </p:blipFill>
        <p:spPr>
          <a:xfrm>
            <a:off x="863640" y="1600200"/>
            <a:ext cx="3225600" cy="217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j0175432"/>
          <p:cNvPicPr/>
          <p:nvPr/>
        </p:nvPicPr>
        <p:blipFill>
          <a:blip r:embed="rId2"/>
          <a:stretch/>
        </p:blipFill>
        <p:spPr>
          <a:xfrm>
            <a:off x="900000" y="3933720"/>
            <a:ext cx="2232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Единая дежурно-диспетчерская служб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ждом городе страны по инициативе МЧС России создаётся Единая дежурно- диспетчерская служба, которая является составной частью городского управления Единой системы предупреждения  и ликвидации чрезвычайных ситу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картинка2"/>
          <p:cNvPicPr/>
          <p:nvPr/>
        </p:nvPicPr>
        <p:blipFill>
          <a:blip r:embed="rId1"/>
          <a:stretch/>
        </p:blipFill>
        <p:spPr>
          <a:xfrm>
            <a:off x="4648320" y="1773360"/>
            <a:ext cx="4495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ужбы экстренной помощ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 номера телефонов экстренных служб нужно всем, и взрослым, и детя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ы номера телефонов 01, 02,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 ещё можно позвонить в Единую городскую службу спасения по стационарному  и мобильному телефо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j0289863"/>
          <p:cNvPicPr/>
          <p:nvPr/>
        </p:nvPicPr>
        <p:blipFill>
          <a:blip r:embed="rId1"/>
          <a:stretch/>
        </p:blipFill>
        <p:spPr>
          <a:xfrm>
            <a:off x="468360" y="1413000"/>
            <a:ext cx="3836880" cy="280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11280" y="522936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5280" y="501336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63640" y="4292640"/>
            <a:ext cx="162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95280" y="429264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061, 068        1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ние 1. «Просьба о помощи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51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м задании вы получаете карточку с номером телефона экстренной службы. Командам спасателей необходимо назвать экстренную службу по номеру телефона, позвонить туда и правильно провести разговор с диспетчером служ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j0285096"/>
          <p:cNvPicPr/>
          <p:nvPr/>
        </p:nvPicPr>
        <p:blipFill>
          <a:blip r:embed="rId1"/>
          <a:stretch/>
        </p:blipFill>
        <p:spPr>
          <a:xfrm>
            <a:off x="5940360" y="1989000"/>
            <a:ext cx="240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дание 2. «Тушим сами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правильно вызвать пожарную службу, мы знаем. Но бездействовать сами не можем! Что же делать?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J0076146"/>
          <p:cNvPicPr/>
          <p:nvPr/>
        </p:nvPicPr>
        <p:blipFill>
          <a:blip r:embed="rId1"/>
          <a:stretch/>
        </p:blipFill>
        <p:spPr>
          <a:xfrm>
            <a:off x="468360" y="4292640"/>
            <a:ext cx="8424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опрос каждой команде спасателе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3280" y="1557000"/>
            <a:ext cx="5940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Чем можно затушить горящие бензин, керосин и другие органические мас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Если на вас загорелась одежда, ваши действ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Что делать, если комната в которой вы находитесь стала заполняться густым едким дым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3" descr="AG00355_"/>
          <p:cNvPicPr/>
          <p:nvPr/>
        </p:nvPicPr>
        <p:blipFill>
          <a:blip r:embed="rId1"/>
          <a:stretch/>
        </p:blipFill>
        <p:spPr>
          <a:xfrm>
            <a:off x="468360" y="1557360"/>
            <a:ext cx="234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5:41:30Z</dcterms:created>
  <dc:creator>Олег и Лена</dc:creator>
  <dc:description/>
  <dc:language>en-US</dc:language>
  <cp:lastModifiedBy>Николай</cp:lastModifiedBy>
  <dcterms:modified xsi:type="dcterms:W3CDTF">2013-07-01T11:58:51Z</dcterms:modified>
  <cp:revision>27</cp:revision>
  <dc:subject/>
  <dc:title>«Чтобы выжить»</dc:title>
</cp:coreProperties>
</file>