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.jpeg" ContentType="image/jpeg"/>
  <Override PartName="/ppt/media/image4.png" ContentType="image/png"/>
  <Override PartName="/ppt/media/image12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0.png" ContentType="image/png"/>
  <Override PartName="/ppt/media/image3.jpeg" ContentType="image/jpeg"/>
  <Override PartName="/ppt/media/image8.gif" ContentType="image/gif"/>
  <Override PartName="/ppt/media/image13.gif" ContentType="image/gif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14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7.jpeg" ContentType="image/jpeg"/>
  <Override PartName="/ppt/media/image17.gif" ContentType="image/gi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6F2-8CD5-49B3-AC56-AC698F1B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CE9-5B07-40D8-A5FA-CACA7EB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97B-672A-4189-B264-82B9C5D1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E68-32C6-4E0E-95DD-B26282DC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DCB06-28BA-497C-A581-2F670BE9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F7DC-679A-4146-A085-8D792249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71B1F-29E1-4409-8F9E-AB4F4CFA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914B-B6AF-4D94-8BF4-EC9ECBEE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417F5-65EE-4799-BD90-34D73366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941D-BF34-4B0B-8C7B-4494B9E8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C76F-6297-4DEB-9E3A-9E74AEC2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25F-C682-43E2-AD47-A9ECB372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354DD-7901-4A11-BE2F-FC190E99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A6B63-E55F-42EF-95AB-8D2AB76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2D794-6C13-4C69-9CB6-B37FA718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39213-B21E-4A73-9321-421C5187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E7E42-8014-4697-BE87-7EFA7C15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3B8-0D3D-4C32-A986-EA1F29F4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907-D069-4C69-8B4D-9183AFA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619-BF02-497F-A531-52F0E9E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F7E-7005-4A69-B650-1B76AF3E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BA-83C6-4323-A296-D879D72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497-0EC6-4B2B-8086-B9F51AA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85E-65F6-461B-9868-D7A059E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690E-7D7A-4512-9E97-B3A54B792B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96FD-D3FC-4090-89B6-32CFC06E9A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«Чтобы выжить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лассный час – игра  для учащихся 7 класса по теме: «Безопасность и защита человека в опасных и чрезвычайных ситуация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ставила Жидилёва Е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ая медицинская помощ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7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медицинская помощь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остейшие срочные и необходимые меры для спасения жизни человека и предупреждения осложнений до прибытия скорой помощ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кстремальных условиях может возникнуть ситуация, когда только ты сможешь оказать первую медицинскую помощь себе или пострадавшему товар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j0182792"/>
          <p:cNvPicPr/>
          <p:nvPr/>
        </p:nvPicPr>
        <p:blipFill>
          <a:blip r:embed="rId1"/>
          <a:stretch/>
        </p:blipFill>
        <p:spPr>
          <a:xfrm>
            <a:off x="324000" y="2205000"/>
            <a:ext cx="29574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3. «Помоги пострадавшему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спасателей необходимо оказать медицинскую помощь при ссадинах или порез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анде спасателей – при пищевом отравл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еть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– оказать первую помощь при ож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8" descr="j0182812"/>
          <p:cNvPicPr/>
          <p:nvPr/>
        </p:nvPicPr>
        <p:blipFill>
          <a:blip r:embed="rId1"/>
          <a:stretch/>
        </p:blipFill>
        <p:spPr>
          <a:xfrm>
            <a:off x="4788000" y="1628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j0337259"/>
          <p:cNvPicPr/>
          <p:nvPr/>
        </p:nvPicPr>
        <p:blipFill>
          <a:blip r:embed="rId2"/>
          <a:stretch/>
        </p:blipFill>
        <p:spPr>
          <a:xfrm>
            <a:off x="5975280" y="3925800"/>
            <a:ext cx="3168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берите для каждого случая нужные медикаменты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6" descr="PICT0003"/>
          <p:cNvPicPr/>
          <p:nvPr/>
        </p:nvPicPr>
        <p:blipFill>
          <a:blip r:embed="rId1"/>
          <a:stretch/>
        </p:blipFill>
        <p:spPr>
          <a:xfrm>
            <a:off x="0" y="1557360"/>
            <a:ext cx="579600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41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иллиантовый зелё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ый перевязочный па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манганат к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ись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лфетки стерильные медицин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оль активир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</a:rPr>
              <a:t>Чрезвычайные ситуации на железной дороге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человек в среднем один-два раза в год едет куда-нибудь на поезде. Поезда -достаточно безопасный вид транспорта, но всё же нужно быть готовым к возможным опасным ситуациям, чтобы не растеряться в трудную минуту и действовать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6" descr="j0336325"/>
          <p:cNvPicPr/>
          <p:nvPr/>
        </p:nvPicPr>
        <p:blipFill>
          <a:blip r:embed="rId1"/>
          <a:stretch/>
        </p:blipFill>
        <p:spPr>
          <a:xfrm>
            <a:off x="1979640" y="3645000"/>
            <a:ext cx="648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равочная информ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крупных мировых катастроф на железных дорогах случилась 6 июня 1981 года в Индии. В ней погибло 8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j0201797"/>
          <p:cNvPicPr/>
          <p:nvPr/>
        </p:nvPicPr>
        <p:blipFill>
          <a:blip r:embed="rId1"/>
          <a:stretch/>
        </p:blipFill>
        <p:spPr>
          <a:xfrm>
            <a:off x="4838760" y="263844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4. «Осторожно, поезд!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40000" y="1268280"/>
            <a:ext cx="680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ставим ситуацию пожара в вагоне поезда. Командам спасателей необходимо расположить приведённые ниже действия в нужной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ходи от пожара в передние вагоны, если это не возможно, иди в конец поезда, плотно закрывая за собой все двер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ой окна, чтобы ветер не раздувал пла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существует угроза твоей жизни, не пытайся спасать баг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сообщи проводнику о пожаре, извести пассажиров о случившемся, разбуди спящ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2" descr="j0296919"/>
          <p:cNvPicPr/>
          <p:nvPr/>
        </p:nvPicPr>
        <p:blipFill>
          <a:blip r:embed="rId1"/>
          <a:stretch/>
        </p:blipFill>
        <p:spPr>
          <a:xfrm>
            <a:off x="0" y="1268280"/>
            <a:ext cx="23893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8324 E">
                                      <p:cBhvr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8798 E">
                                      <p:cBhvr>
                                        <p:cTn id="130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6786 E">
                                      <p:cBhvr>
                                        <p:cTn id="134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еспечение безопасности дорожного дви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1116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cc"/>
                </a:solidFill>
                <a:latin typeface="Arial"/>
              </a:rPr>
              <a:t>Справоч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временный транспорт – зона повышенной опасности. Под колёсами машин ежегодно в дорожно-транспортных происшествиях погибает в нашей стране около 40000 человек, из них каждый десятый – ребёнок, причём мальчиков погибает боль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этому нужно знать и соблюдать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5" descr="j0295169"/>
          <p:cNvPicPr/>
          <p:nvPr/>
        </p:nvPicPr>
        <p:blipFill>
          <a:blip r:embed="rId1"/>
          <a:stretch/>
        </p:blipFill>
        <p:spPr>
          <a:xfrm>
            <a:off x="684360" y="1557360"/>
            <a:ext cx="2192040" cy="213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BD13659_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5. « Мои друзья – дорожные знак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11" descr="Дети"/>
          <p:cNvPicPr/>
          <p:nvPr/>
        </p:nvPicPr>
        <p:blipFill>
          <a:blip r:embed="rId1"/>
          <a:stretch/>
        </p:blipFill>
        <p:spPr>
          <a:xfrm>
            <a:off x="1042920" y="162864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Переход"/>
          <p:cNvPicPr/>
          <p:nvPr/>
        </p:nvPicPr>
        <p:blipFill>
          <a:blip r:embed="rId2"/>
          <a:stretch/>
        </p:blipFill>
        <p:spPr>
          <a:xfrm>
            <a:off x="6012000" y="1628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ути из школы домой вам встречается много дорожных знаков. Знаете ли вы, что они обознач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командам спасателей: у вас имеются названия знаков, правильно сопоставьте их с изображением. Но помните, что на листе имеются и лишние наз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826920" y="3645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435640" y="3500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для первой команды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1" name="Picture 10" descr="Зачёркнутый пешеход"/>
          <p:cNvPicPr/>
          <p:nvPr/>
        </p:nvPicPr>
        <p:blipFill>
          <a:blip r:embed="rId1"/>
          <a:stretch/>
        </p:blipFill>
        <p:spPr>
          <a:xfrm>
            <a:off x="755640" y="213372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иний трамвай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1042920" y="53211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24000" y="551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ешеход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5435640" y="57340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о остановки трам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второ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7" descr="Велосипед"/>
          <p:cNvPicPr/>
          <p:nvPr/>
        </p:nvPicPr>
        <p:blipFill>
          <a:blip r:embed="rId1"/>
          <a:stretch/>
        </p:blipFill>
        <p:spPr>
          <a:xfrm>
            <a:off x="900000" y="1795320"/>
            <a:ext cx="316728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Пешеход спускается"/>
          <p:cNvPicPr/>
          <p:nvPr/>
        </p:nvPicPr>
        <p:blipFill>
          <a:blip r:embed="rId2"/>
          <a:stretch/>
        </p:blipFill>
        <p:spPr>
          <a:xfrm>
            <a:off x="5219640" y="1844640"/>
            <a:ext cx="2952720" cy="2879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042920" y="522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на велосипедах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508720" y="5373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емный 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пасной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зывается ситуация, которая угрожает жизни, здоровью, имуществу человека или природной сред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третье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2" name="Picture 8" descr="Паровозик"/>
          <p:cNvPicPr/>
          <p:nvPr/>
        </p:nvPicPr>
        <p:blipFill>
          <a:blip r:embed="rId1"/>
          <a:stretch/>
        </p:blipFill>
        <p:spPr>
          <a:xfrm>
            <a:off x="5003640" y="1708200"/>
            <a:ext cx="3600720" cy="323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Трамвай"/>
          <p:cNvPicPr/>
          <p:nvPr/>
        </p:nvPicPr>
        <p:blipFill>
          <a:blip r:embed="rId2"/>
          <a:stretch/>
        </p:blipFill>
        <p:spPr>
          <a:xfrm>
            <a:off x="611280" y="1709640"/>
            <a:ext cx="3529080" cy="3232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826920" y="51768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ечение с трамвайной лин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292720" y="54658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435640" y="53211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нодорожный переезд без шлагба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аратов – промышленный город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511344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 все промышленные города, в определённой степени является объектом потенциальной опасности для людей и окружающе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районе расположены завод технического стекла, хладокомбинат и жиркомбинат, завод по производству железобетонных конструкций и другие предприятия, на которых при аварии возможно заражение воздуха парами хлора, аммиака и других отравля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3" descr="j0185096"/>
          <p:cNvPicPr/>
          <p:nvPr/>
        </p:nvPicPr>
        <p:blipFill>
          <a:blip r:embed="rId1"/>
          <a:stretch/>
        </p:blipFill>
        <p:spPr>
          <a:xfrm>
            <a:off x="5508720" y="1557360"/>
            <a:ext cx="345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редства индивидуальной защи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508720" y="1628640"/>
            <a:ext cx="363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школ должны знать о составе и назначении средств индивидуальной защиты, уметь изготавливать простейшие из них. Это может пригодиться вам в дальнейш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j0182789"/>
          <p:cNvPicPr/>
          <p:nvPr/>
        </p:nvPicPr>
        <p:blipFill>
          <a:blip r:embed="rId1"/>
          <a:stretch/>
        </p:blipFill>
        <p:spPr>
          <a:xfrm>
            <a:off x="250920" y="2492280"/>
            <a:ext cx="547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cc"/>
                </a:solidFill>
                <a:latin typeface="Arial"/>
              </a:rPr>
              <a:t>Вопросы командам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ВМП, из чего её изготавлив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Для чего предназначена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При выбросе хлора чем можно пропитать ВМ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более надёжной защиты органов дых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Чем пропитывают ВМП при выбросе аммиа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Как надевается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ак должна быть упакована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j0321071"/>
          <p:cNvPicPr/>
          <p:nvPr/>
        </p:nvPicPr>
        <p:blipFill>
          <a:blip r:embed="rId1"/>
          <a:stretch/>
        </p:blipFill>
        <p:spPr>
          <a:xfrm>
            <a:off x="4714920" y="1989000"/>
            <a:ext cx="42339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6. «Применение средств индивидуальной защиты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Picture 7" descr="j0177900"/>
          <p:cNvPicPr/>
          <p:nvPr/>
        </p:nvPicPr>
        <p:blipFill>
          <a:blip r:embed="rId1"/>
          <a:stretch/>
        </p:blipFill>
        <p:spPr>
          <a:xfrm>
            <a:off x="900000" y="3213000"/>
            <a:ext cx="3257640" cy="217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нда клас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«Ватно-марлевую повязку надеть! Газы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trevoga.mp3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61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ы заканчиваем  классный час, и желаем нашим спасателям действовать в жизни так же дружно и обдуманно, как в игре. Запомните: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ша безопасность в ваших руках!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1" name="Picture 9" descr="j0178941"/>
          <p:cNvPicPr/>
          <p:nvPr/>
        </p:nvPicPr>
        <p:blipFill>
          <a:blip r:embed="rId1"/>
          <a:stretch/>
        </p:blipFill>
        <p:spPr>
          <a:xfrm>
            <a:off x="2268360" y="3357720"/>
            <a:ext cx="4967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проходит и дня, чтобы газеты, радио, телевидение не принесли сообщ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очередной аварии, катастрофе, стихийном бедствии, преступлении в том или ином городе, либо стра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ористы захватывают заложников, терпят бедствие пароходы и поезда, пешеходы попадают под колёса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3" descr="j0185099"/>
          <p:cNvPicPr/>
          <p:nvPr/>
        </p:nvPicPr>
        <p:blipFill>
          <a:blip r:embed="rId1"/>
          <a:stretch/>
        </p:blipFill>
        <p:spPr>
          <a:xfrm>
            <a:off x="4500720" y="2852640"/>
            <a:ext cx="431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ждый из нас может оказаться в такой непредвиденной ситу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поможет человеку , оказавшемуся в опасности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жде всего – ОН С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в нашем кабинете находятся три команды спасателей, которые попробуют найти выход из предложенных  в игре опасных ситуаци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j0202218"/>
          <p:cNvPicPr/>
          <p:nvPr/>
        </p:nvPicPr>
        <p:blipFill>
          <a:blip r:embed="rId1"/>
          <a:stretch/>
        </p:blipFill>
        <p:spPr>
          <a:xfrm>
            <a:off x="863640" y="1600200"/>
            <a:ext cx="3225600" cy="2171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j0175432"/>
          <p:cNvPicPr/>
          <p:nvPr/>
        </p:nvPicPr>
        <p:blipFill>
          <a:blip r:embed="rId2"/>
          <a:stretch/>
        </p:blipFill>
        <p:spPr>
          <a:xfrm>
            <a:off x="900000" y="3933720"/>
            <a:ext cx="223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Единая дежурно-диспетчерская служб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городе страны по инициативе МЧС России создаётся Единая дежурно- диспетчерская служба, которая является составной частью городского управления Единой системы предупреждения  и ликвидации чрезвычайных ситу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картинка2"/>
          <p:cNvPicPr/>
          <p:nvPr/>
        </p:nvPicPr>
        <p:blipFill>
          <a:blip r:embed="rId1"/>
          <a:stretch/>
        </p:blipFill>
        <p:spPr>
          <a:xfrm>
            <a:off x="4648320" y="1773360"/>
            <a:ext cx="4495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ужбы экстренной помощ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номера телефонов экстренных служб нужно всем, и взрослым, и детя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ы номера телефонов 01, 02,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 ещё можно позвонить в Единую городскую службу спасения по стационарному  и мобильному телефо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j0289863"/>
          <p:cNvPicPr/>
          <p:nvPr/>
        </p:nvPicPr>
        <p:blipFill>
          <a:blip r:embed="rId1"/>
          <a:stretch/>
        </p:blipFill>
        <p:spPr>
          <a:xfrm>
            <a:off x="468360" y="1413000"/>
            <a:ext cx="3836880" cy="280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611280" y="522936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5280" y="5013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63640" y="429264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95280" y="429264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061, 068        1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1. «Просьба о помощ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задании вы получаете карточку с номером телефона экстренной службы. Командам спасателей необходимо назвать экстренную службу по номеру телефона, позвонить туда и правильно провести разговор с диспетчером служ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j0285096"/>
          <p:cNvPicPr/>
          <p:nvPr/>
        </p:nvPicPr>
        <p:blipFill>
          <a:blip r:embed="rId1"/>
          <a:stretch/>
        </p:blipFill>
        <p:spPr>
          <a:xfrm>
            <a:off x="5940360" y="19890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е 2. «Тушим са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правильно вызвать пожарную службу, мы знаем. Но бездействовать сами не можем! Что же делать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J0076146"/>
          <p:cNvPicPr/>
          <p:nvPr/>
        </p:nvPicPr>
        <p:blipFill>
          <a:blip r:embed="rId1"/>
          <a:stretch/>
        </p:blipFill>
        <p:spPr>
          <a:xfrm>
            <a:off x="468360" y="4292640"/>
            <a:ext cx="842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опрос каждой команде спасателей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3280" y="1557000"/>
            <a:ext cx="59403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Чем можно затушить горящие бензин, керосин и другие органические мас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Если на вас загорелась одежда, ваши действ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Что делать, если комната в которой вы находитесь стала заполняться густым едким ды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3" descr="AG00355_"/>
          <p:cNvPicPr/>
          <p:nvPr/>
        </p:nvPicPr>
        <p:blipFill>
          <a:blip r:embed="rId1"/>
          <a:stretch/>
        </p:blipFill>
        <p:spPr>
          <a:xfrm>
            <a:off x="468360" y="1557360"/>
            <a:ext cx="234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5:41:30Z</dcterms:created>
  <dc:creator>Олег и Лена</dc:creator>
  <dc:description/>
  <dc:language>en-US</dc:language>
  <cp:lastModifiedBy>Николай</cp:lastModifiedBy>
  <dcterms:modified xsi:type="dcterms:W3CDTF">2013-07-01T11:58:51Z</dcterms:modified>
  <cp:revision>27</cp:revision>
  <dc:subject/>
  <dc:title>«Чтобы выжить»</dc:title>
</cp:coreProperties>
</file>